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1FD-662D-4719-BD16-564A4009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6D7-2750-4CA3-92A1-F768BFEF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644-E5A5-4DDB-8289-0F382C9C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B62-F55B-4C5B-91E8-EBAD9A1C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232-2846-4838-A566-BC858C93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A08-6A75-49AA-9017-CDC88932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5D0-B738-4373-815A-87DDA084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F56-B9B4-4C0B-9271-EFDC3C6B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CA9-104B-4F3A-84F1-68803B87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9D1-E97B-4199-9EFD-FA86081C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523-D34C-4B78-BB56-37E523C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CB1-0203-42E8-8290-97679520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1CF4-0748-4732-BE48-CA5B63172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2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89640" y="4946760"/>
            <a:ext cx="428400" cy="206280"/>
          </a:xfrm>
          <a:custGeom>
            <a:avLst/>
            <a:gdLst/>
            <a:ahLst/>
            <a:rect l="l" t="t" r="r" b="b"/>
            <a:pathLst>
              <a:path w="1191" h="571">
                <a:moveTo>
                  <a:pt x="12774" y="13866"/>
                </a:moveTo>
                <a:cubicBezTo>
                  <a:pt x="12768" y="13886"/>
                  <a:pt x="12750" y="13933"/>
                  <a:pt x="12750" y="13891"/>
                </a:cubicBezTo>
                <a:cubicBezTo>
                  <a:pt x="12750" y="13852"/>
                  <a:pt x="12836" y="13806"/>
                  <a:pt x="12874" y="13791"/>
                </a:cubicBezTo>
                <a:cubicBezTo>
                  <a:pt x="12932" y="13768"/>
                  <a:pt x="13031" y="13716"/>
                  <a:pt x="13097" y="13742"/>
                </a:cubicBezTo>
                <a:cubicBezTo>
                  <a:pt x="13130" y="13755"/>
                  <a:pt x="13134" y="13862"/>
                  <a:pt x="13122" y="13891"/>
                </a:cubicBezTo>
                <a:cubicBezTo>
                  <a:pt x="13103" y="13935"/>
                  <a:pt x="13025" y="13971"/>
                  <a:pt x="12998" y="13990"/>
                </a:cubicBezTo>
                <a:cubicBezTo>
                  <a:pt x="12966" y="14013"/>
                  <a:pt x="12956" y="14031"/>
                  <a:pt x="12948" y="14064"/>
                </a:cubicBezTo>
                <a:cubicBezTo>
                  <a:pt x="13002" y="14075"/>
                  <a:pt x="13073" y="14084"/>
                  <a:pt x="13122" y="14114"/>
                </a:cubicBezTo>
                <a:cubicBezTo>
                  <a:pt x="13172" y="14145"/>
                  <a:pt x="13192" y="14184"/>
                  <a:pt x="13196" y="14238"/>
                </a:cubicBezTo>
                <a:cubicBezTo>
                  <a:pt x="13202" y="14308"/>
                  <a:pt x="13138" y="14279"/>
                  <a:pt x="13097" y="14288"/>
                </a:cubicBezTo>
                <a:cubicBezTo>
                  <a:pt x="13003" y="14309"/>
                  <a:pt x="12979" y="14312"/>
                  <a:pt x="12898" y="14288"/>
                </a:cubicBezTo>
                <a:cubicBezTo>
                  <a:pt x="12890" y="14288"/>
                  <a:pt x="12882" y="14288"/>
                  <a:pt x="12874" y="14288"/>
                </a:cubicBezTo>
              </a:path>
              <a:path w="1191" h="571">
                <a:moveTo>
                  <a:pt x="13643" y="13990"/>
                </a:moveTo>
                <a:cubicBezTo>
                  <a:pt x="13618" y="13957"/>
                  <a:pt x="13597" y="13923"/>
                  <a:pt x="13643" y="13891"/>
                </a:cubicBezTo>
                <a:cubicBezTo>
                  <a:pt x="13716" y="13841"/>
                  <a:pt x="13763" y="13831"/>
                  <a:pt x="13841" y="13866"/>
                </a:cubicBezTo>
                <a:cubicBezTo>
                  <a:pt x="13926" y="13904"/>
                  <a:pt x="13937" y="14005"/>
                  <a:pt x="13940" y="14089"/>
                </a:cubicBezTo>
                <a:cubicBezTo>
                  <a:pt x="13943" y="14173"/>
                  <a:pt x="13912" y="14267"/>
                  <a:pt x="13816" y="14288"/>
                </a:cubicBezTo>
                <a:cubicBezTo>
                  <a:pt x="13748" y="14303"/>
                  <a:pt x="13619" y="14289"/>
                  <a:pt x="13568" y="14238"/>
                </a:cubicBezTo>
                <a:cubicBezTo>
                  <a:pt x="13532" y="14202"/>
                  <a:pt x="13530" y="14085"/>
                  <a:pt x="13543" y="14039"/>
                </a:cubicBezTo>
                <a:cubicBezTo>
                  <a:pt x="13565" y="13996"/>
                  <a:pt x="13569" y="13984"/>
                  <a:pt x="13593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0000" y="5313240"/>
            <a:ext cx="401760" cy="214560"/>
          </a:xfrm>
          <a:custGeom>
            <a:avLst/>
            <a:gdLst/>
            <a:ahLst/>
            <a:rect l="l" t="t" r="r" b="b"/>
            <a:pathLst>
              <a:path w="1117" h="596">
                <a:moveTo>
                  <a:pt x="13047" y="14858"/>
                </a:moveTo>
                <a:cubicBezTo>
                  <a:pt x="13070" y="14835"/>
                  <a:pt x="13078" y="14831"/>
                  <a:pt x="13072" y="14808"/>
                </a:cubicBezTo>
                <a:cubicBezTo>
                  <a:pt x="13045" y="14845"/>
                  <a:pt x="13008" y="14909"/>
                  <a:pt x="12998" y="14957"/>
                </a:cubicBezTo>
                <a:cubicBezTo>
                  <a:pt x="12985" y="15019"/>
                  <a:pt x="13006" y="15066"/>
                  <a:pt x="13072" y="15081"/>
                </a:cubicBezTo>
                <a:cubicBezTo>
                  <a:pt x="13144" y="15098"/>
                  <a:pt x="13254" y="15071"/>
                  <a:pt x="13320" y="15106"/>
                </a:cubicBezTo>
                <a:cubicBezTo>
                  <a:pt x="13370" y="15133"/>
                  <a:pt x="13437" y="15219"/>
                  <a:pt x="13419" y="15280"/>
                </a:cubicBezTo>
                <a:cubicBezTo>
                  <a:pt x="13402" y="15336"/>
                  <a:pt x="13316" y="15352"/>
                  <a:pt x="13271" y="15354"/>
                </a:cubicBezTo>
                <a:cubicBezTo>
                  <a:pt x="13181" y="15358"/>
                  <a:pt x="13108" y="15343"/>
                  <a:pt x="13022" y="15329"/>
                </a:cubicBezTo>
              </a:path>
              <a:path w="1117" h="596">
                <a:moveTo>
                  <a:pt x="13444" y="14784"/>
                </a:moveTo>
                <a:cubicBezTo>
                  <a:pt x="13404" y="14722"/>
                  <a:pt x="13384" y="14793"/>
                  <a:pt x="13320" y="14808"/>
                </a:cubicBezTo>
                <a:cubicBezTo>
                  <a:pt x="13261" y="14822"/>
                  <a:pt x="13205" y="14846"/>
                  <a:pt x="13146" y="14858"/>
                </a:cubicBezTo>
              </a:path>
              <a:path w="1117" h="596">
                <a:moveTo>
                  <a:pt x="13717" y="15032"/>
                </a:moveTo>
                <a:cubicBezTo>
                  <a:pt x="13717" y="14996"/>
                  <a:pt x="13722" y="14945"/>
                  <a:pt x="13767" y="14932"/>
                </a:cubicBezTo>
                <a:cubicBezTo>
                  <a:pt x="13834" y="14912"/>
                  <a:pt x="13922" y="14890"/>
                  <a:pt x="13990" y="14932"/>
                </a:cubicBezTo>
                <a:cubicBezTo>
                  <a:pt x="14072" y="14983"/>
                  <a:pt x="14131" y="15111"/>
                  <a:pt x="14114" y="15205"/>
                </a:cubicBezTo>
                <a:cubicBezTo>
                  <a:pt x="14099" y="15288"/>
                  <a:pt x="13989" y="15343"/>
                  <a:pt x="13915" y="15354"/>
                </a:cubicBezTo>
                <a:cubicBezTo>
                  <a:pt x="13853" y="15364"/>
                  <a:pt x="13732" y="15331"/>
                  <a:pt x="13692" y="15280"/>
                </a:cubicBezTo>
                <a:cubicBezTo>
                  <a:pt x="13643" y="15219"/>
                  <a:pt x="13659" y="15097"/>
                  <a:pt x="13692" y="15032"/>
                </a:cubicBezTo>
                <a:cubicBezTo>
                  <a:pt x="13700" y="15024"/>
                  <a:pt x="13709" y="15015"/>
                  <a:pt x="13717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53000" y="5742000"/>
            <a:ext cx="482400" cy="608040"/>
          </a:xfrm>
          <a:custGeom>
            <a:avLst/>
            <a:gdLst/>
            <a:ahLst/>
            <a:rect l="l" t="t" r="r" b="b"/>
            <a:pathLst>
              <a:path w="1341" h="1688">
                <a:moveTo>
                  <a:pt x="12948" y="15949"/>
                </a:moveTo>
                <a:cubicBezTo>
                  <a:pt x="12925" y="15972"/>
                  <a:pt x="12917" y="15976"/>
                  <a:pt x="12923" y="15999"/>
                </a:cubicBezTo>
                <a:cubicBezTo>
                  <a:pt x="13010" y="15999"/>
                  <a:pt x="13290" y="15954"/>
                  <a:pt x="13345" y="16024"/>
                </a:cubicBezTo>
                <a:cubicBezTo>
                  <a:pt x="13406" y="16103"/>
                  <a:pt x="13335" y="16200"/>
                  <a:pt x="13295" y="16272"/>
                </a:cubicBezTo>
                <a:cubicBezTo>
                  <a:pt x="13256" y="16342"/>
                  <a:pt x="13200" y="16423"/>
                  <a:pt x="13171" y="16495"/>
                </a:cubicBezTo>
                <a:cubicBezTo>
                  <a:pt x="13171" y="16503"/>
                  <a:pt x="13171" y="16512"/>
                  <a:pt x="13171" y="16520"/>
                </a:cubicBezTo>
              </a:path>
              <a:path w="1341" h="1688">
                <a:moveTo>
                  <a:pt x="13643" y="16321"/>
                </a:moveTo>
                <a:cubicBezTo>
                  <a:pt x="13643" y="16274"/>
                  <a:pt x="13627" y="16184"/>
                  <a:pt x="13667" y="16148"/>
                </a:cubicBezTo>
                <a:cubicBezTo>
                  <a:pt x="13704" y="16114"/>
                  <a:pt x="13819" y="16047"/>
                  <a:pt x="13866" y="16049"/>
                </a:cubicBezTo>
                <a:cubicBezTo>
                  <a:pt x="14005" y="16054"/>
                  <a:pt x="14027" y="16183"/>
                  <a:pt x="14039" y="16297"/>
                </a:cubicBezTo>
                <a:cubicBezTo>
                  <a:pt x="14053" y="16423"/>
                  <a:pt x="14018" y="16565"/>
                  <a:pt x="13891" y="16619"/>
                </a:cubicBezTo>
                <a:cubicBezTo>
                  <a:pt x="13785" y="16664"/>
                  <a:pt x="13672" y="16582"/>
                  <a:pt x="13618" y="16495"/>
                </a:cubicBezTo>
                <a:cubicBezTo>
                  <a:pt x="13554" y="16392"/>
                  <a:pt x="13582" y="16328"/>
                  <a:pt x="13618" y="16222"/>
                </a:cubicBezTo>
              </a:path>
              <a:path w="1341" h="1688">
                <a:moveTo>
                  <a:pt x="13221" y="17041"/>
                </a:moveTo>
                <a:cubicBezTo>
                  <a:pt x="13257" y="17041"/>
                  <a:pt x="13287" y="17082"/>
                  <a:pt x="13320" y="17066"/>
                </a:cubicBezTo>
                <a:cubicBezTo>
                  <a:pt x="13320" y="17058"/>
                  <a:pt x="13320" y="17049"/>
                  <a:pt x="13320" y="17041"/>
                </a:cubicBezTo>
                <a:cubicBezTo>
                  <a:pt x="13282" y="17018"/>
                  <a:pt x="13196" y="16994"/>
                  <a:pt x="13146" y="17016"/>
                </a:cubicBezTo>
                <a:cubicBezTo>
                  <a:pt x="13056" y="17056"/>
                  <a:pt x="13003" y="17094"/>
                  <a:pt x="12998" y="17190"/>
                </a:cubicBezTo>
                <a:cubicBezTo>
                  <a:pt x="12998" y="17234"/>
                  <a:pt x="12995" y="17247"/>
                  <a:pt x="13022" y="17264"/>
                </a:cubicBezTo>
                <a:cubicBezTo>
                  <a:pt x="13116" y="17252"/>
                  <a:pt x="13144" y="17216"/>
                  <a:pt x="13221" y="17165"/>
                </a:cubicBezTo>
                <a:cubicBezTo>
                  <a:pt x="13255" y="17142"/>
                  <a:pt x="13285" y="17124"/>
                  <a:pt x="13320" y="17115"/>
                </a:cubicBezTo>
                <a:cubicBezTo>
                  <a:pt x="13350" y="17206"/>
                  <a:pt x="13345" y="17290"/>
                  <a:pt x="13345" y="17388"/>
                </a:cubicBezTo>
                <a:cubicBezTo>
                  <a:pt x="13345" y="17460"/>
                  <a:pt x="13370" y="17517"/>
                  <a:pt x="13370" y="17587"/>
                </a:cubicBezTo>
              </a:path>
              <a:path w="1341" h="1688">
                <a:moveTo>
                  <a:pt x="13866" y="17264"/>
                </a:moveTo>
                <a:cubicBezTo>
                  <a:pt x="13856" y="17225"/>
                  <a:pt x="13841" y="17209"/>
                  <a:pt x="13841" y="17165"/>
                </a:cubicBezTo>
                <a:cubicBezTo>
                  <a:pt x="13841" y="17099"/>
                  <a:pt x="13877" y="17044"/>
                  <a:pt x="13940" y="17016"/>
                </a:cubicBezTo>
                <a:cubicBezTo>
                  <a:pt x="14013" y="16983"/>
                  <a:pt x="14159" y="16959"/>
                  <a:pt x="14213" y="17041"/>
                </a:cubicBezTo>
                <a:cubicBezTo>
                  <a:pt x="14291" y="17161"/>
                  <a:pt x="14264" y="17359"/>
                  <a:pt x="14238" y="17487"/>
                </a:cubicBezTo>
                <a:cubicBezTo>
                  <a:pt x="14211" y="17618"/>
                  <a:pt x="14129" y="17694"/>
                  <a:pt x="13990" y="17611"/>
                </a:cubicBezTo>
                <a:cubicBezTo>
                  <a:pt x="13877" y="17544"/>
                  <a:pt x="13809" y="17414"/>
                  <a:pt x="13791" y="17289"/>
                </a:cubicBezTo>
                <a:cubicBezTo>
                  <a:pt x="13791" y="17209"/>
                  <a:pt x="13794" y="17180"/>
                  <a:pt x="13841" y="1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9040" y="4660920"/>
            <a:ext cx="187200" cy="142920"/>
          </a:xfrm>
          <a:custGeom>
            <a:avLst/>
            <a:gdLst/>
            <a:ahLst/>
            <a:rect l="l" t="t" r="r" b="b"/>
            <a:pathLst>
              <a:path w="522" h="398">
                <a:moveTo>
                  <a:pt x="11385" y="13022"/>
                </a:moveTo>
                <a:cubicBezTo>
                  <a:pt x="11418" y="12973"/>
                  <a:pt x="11423" y="12984"/>
                  <a:pt x="11435" y="12948"/>
                </a:cubicBezTo>
                <a:cubicBezTo>
                  <a:pt x="11375" y="12948"/>
                  <a:pt x="11351" y="12970"/>
                  <a:pt x="11311" y="13022"/>
                </a:cubicBezTo>
                <a:cubicBezTo>
                  <a:pt x="11256" y="13093"/>
                  <a:pt x="11200" y="13212"/>
                  <a:pt x="11137" y="13271"/>
                </a:cubicBezTo>
                <a:cubicBezTo>
                  <a:pt x="11112" y="13294"/>
                  <a:pt x="11056" y="13339"/>
                  <a:pt x="11038" y="13345"/>
                </a:cubicBezTo>
              </a:path>
              <a:path w="522" h="398">
                <a:moveTo>
                  <a:pt x="11336" y="13345"/>
                </a:moveTo>
                <a:cubicBezTo>
                  <a:pt x="11352" y="13345"/>
                  <a:pt x="11369" y="13345"/>
                  <a:pt x="11385" y="13345"/>
                </a:cubicBezTo>
                <a:cubicBezTo>
                  <a:pt x="11369" y="13280"/>
                  <a:pt x="11315" y="13216"/>
                  <a:pt x="11261" y="13171"/>
                </a:cubicBezTo>
                <a:cubicBezTo>
                  <a:pt x="11181" y="13104"/>
                  <a:pt x="11080" y="13046"/>
                  <a:pt x="10988" y="12998"/>
                </a:cubicBezTo>
                <a:cubicBezTo>
                  <a:pt x="10945" y="12976"/>
                  <a:pt x="10933" y="12972"/>
                  <a:pt x="10914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3960" y="5010120"/>
            <a:ext cx="152280" cy="125280"/>
          </a:xfrm>
          <a:custGeom>
            <a:avLst/>
            <a:gdLst/>
            <a:ahLst/>
            <a:rect l="l" t="t" r="r" b="b"/>
            <a:pathLst>
              <a:path w="423" h="349">
                <a:moveTo>
                  <a:pt x="11410" y="13940"/>
                </a:moveTo>
                <a:cubicBezTo>
                  <a:pt x="11418" y="13932"/>
                  <a:pt x="11427" y="13923"/>
                  <a:pt x="11435" y="13915"/>
                </a:cubicBezTo>
                <a:cubicBezTo>
                  <a:pt x="11375" y="13964"/>
                  <a:pt x="11317" y="14007"/>
                  <a:pt x="11261" y="14064"/>
                </a:cubicBezTo>
                <a:cubicBezTo>
                  <a:pt x="11208" y="14117"/>
                  <a:pt x="11145" y="14160"/>
                  <a:pt x="11137" y="14238"/>
                </a:cubicBezTo>
                <a:cubicBezTo>
                  <a:pt x="11137" y="14246"/>
                  <a:pt x="11137" y="14255"/>
                  <a:pt x="11137" y="14263"/>
                </a:cubicBezTo>
              </a:path>
              <a:path w="423" h="349">
                <a:moveTo>
                  <a:pt x="11410" y="14213"/>
                </a:moveTo>
                <a:cubicBezTo>
                  <a:pt x="11383" y="14159"/>
                  <a:pt x="11295" y="14104"/>
                  <a:pt x="11237" y="14064"/>
                </a:cubicBezTo>
                <a:cubicBezTo>
                  <a:pt x="11183" y="14027"/>
                  <a:pt x="11098" y="13964"/>
                  <a:pt x="11038" y="13940"/>
                </a:cubicBezTo>
                <a:cubicBezTo>
                  <a:pt x="11030" y="13940"/>
                  <a:pt x="11021" y="13940"/>
                  <a:pt x="11013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00680" y="5411880"/>
            <a:ext cx="169560" cy="115920"/>
          </a:xfrm>
          <a:custGeom>
            <a:avLst/>
            <a:gdLst/>
            <a:ahLst/>
            <a:rect l="l" t="t" r="r" b="b"/>
            <a:pathLst>
              <a:path w="473" h="323">
                <a:moveTo>
                  <a:pt x="11534" y="15081"/>
                </a:moveTo>
                <a:cubicBezTo>
                  <a:pt x="11571" y="15026"/>
                  <a:pt x="11576" y="14995"/>
                  <a:pt x="11534" y="15056"/>
                </a:cubicBezTo>
                <a:cubicBezTo>
                  <a:pt x="11474" y="15141"/>
                  <a:pt x="11391" y="15187"/>
                  <a:pt x="11311" y="15255"/>
                </a:cubicBezTo>
                <a:cubicBezTo>
                  <a:pt x="11276" y="15285"/>
                  <a:pt x="11244" y="15321"/>
                  <a:pt x="11212" y="15354"/>
                </a:cubicBezTo>
              </a:path>
              <a:path w="473" h="323">
                <a:moveTo>
                  <a:pt x="11534" y="15304"/>
                </a:moveTo>
                <a:cubicBezTo>
                  <a:pt x="11534" y="15245"/>
                  <a:pt x="11520" y="15230"/>
                  <a:pt x="11460" y="15205"/>
                </a:cubicBezTo>
                <a:cubicBezTo>
                  <a:pt x="11361" y="15164"/>
                  <a:pt x="11262" y="15088"/>
                  <a:pt x="11162" y="15056"/>
                </a:cubicBezTo>
                <a:cubicBezTo>
                  <a:pt x="11145" y="15056"/>
                  <a:pt x="11129" y="15056"/>
                  <a:pt x="11112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0960" y="5769000"/>
            <a:ext cx="14436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1435" y="16123"/>
                </a:moveTo>
                <a:cubicBezTo>
                  <a:pt x="11459" y="16066"/>
                  <a:pt x="11473" y="16061"/>
                  <a:pt x="11485" y="16024"/>
                </a:cubicBezTo>
                <a:cubicBezTo>
                  <a:pt x="11442" y="16045"/>
                  <a:pt x="11377" y="16132"/>
                  <a:pt x="11336" y="16173"/>
                </a:cubicBezTo>
                <a:cubicBezTo>
                  <a:pt x="11292" y="16216"/>
                  <a:pt x="11190" y="16272"/>
                  <a:pt x="11162" y="16321"/>
                </a:cubicBezTo>
                <a:cubicBezTo>
                  <a:pt x="11162" y="16329"/>
                  <a:pt x="11162" y="16338"/>
                  <a:pt x="11162" y="16346"/>
                </a:cubicBezTo>
              </a:path>
              <a:path w="398" h="398">
                <a:moveTo>
                  <a:pt x="11435" y="16421"/>
                </a:moveTo>
                <a:cubicBezTo>
                  <a:pt x="11435" y="16332"/>
                  <a:pt x="11446" y="16351"/>
                  <a:pt x="11385" y="16297"/>
                </a:cubicBezTo>
                <a:cubicBezTo>
                  <a:pt x="11307" y="16229"/>
                  <a:pt x="11218" y="16193"/>
                  <a:pt x="11137" y="16123"/>
                </a:cubicBezTo>
                <a:cubicBezTo>
                  <a:pt x="11121" y="16106"/>
                  <a:pt x="11104" y="16090"/>
                  <a:pt x="11088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6240" y="6143760"/>
            <a:ext cx="115920" cy="142920"/>
          </a:xfrm>
          <a:custGeom>
            <a:avLst/>
            <a:gdLst/>
            <a:ahLst/>
            <a:rect l="l" t="t" r="r" b="b"/>
            <a:pathLst>
              <a:path w="323" h="397">
                <a:moveTo>
                  <a:pt x="11683" y="17165"/>
                </a:moveTo>
                <a:cubicBezTo>
                  <a:pt x="11708" y="17161"/>
                  <a:pt x="11782" y="17140"/>
                  <a:pt x="11733" y="17140"/>
                </a:cubicBezTo>
                <a:cubicBezTo>
                  <a:pt x="11685" y="17140"/>
                  <a:pt x="11594" y="17234"/>
                  <a:pt x="11559" y="17264"/>
                </a:cubicBezTo>
                <a:cubicBezTo>
                  <a:pt x="11504" y="17311"/>
                  <a:pt x="11470" y="17376"/>
                  <a:pt x="11435" y="17438"/>
                </a:cubicBezTo>
              </a:path>
              <a:path w="323" h="397">
                <a:moveTo>
                  <a:pt x="11708" y="17462"/>
                </a:moveTo>
                <a:cubicBezTo>
                  <a:pt x="11757" y="17430"/>
                  <a:pt x="11781" y="17415"/>
                  <a:pt x="11733" y="17363"/>
                </a:cubicBezTo>
                <a:cubicBezTo>
                  <a:pt x="11638" y="17261"/>
                  <a:pt x="11534" y="17165"/>
                  <a:pt x="11435" y="17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62160" y="4964040"/>
            <a:ext cx="625680" cy="1386000"/>
          </a:xfrm>
          <a:custGeom>
            <a:avLst/>
            <a:gdLst/>
            <a:ahLst/>
            <a:rect l="l" t="t" r="r" b="b"/>
            <a:pathLst>
              <a:path w="1737" h="3846">
                <a:moveTo>
                  <a:pt x="8706" y="13841"/>
                </a:moveTo>
                <a:cubicBezTo>
                  <a:pt x="8682" y="13841"/>
                  <a:pt x="8673" y="13841"/>
                  <a:pt x="8657" y="13841"/>
                </a:cubicBezTo>
                <a:cubicBezTo>
                  <a:pt x="8722" y="13841"/>
                  <a:pt x="8770" y="13826"/>
                  <a:pt x="8830" y="13816"/>
                </a:cubicBezTo>
                <a:cubicBezTo>
                  <a:pt x="8895" y="13805"/>
                  <a:pt x="8965" y="13795"/>
                  <a:pt x="9029" y="13791"/>
                </a:cubicBezTo>
                <a:cubicBezTo>
                  <a:pt x="9106" y="13787"/>
                  <a:pt x="9122" y="13788"/>
                  <a:pt x="9128" y="13866"/>
                </a:cubicBezTo>
                <a:cubicBezTo>
                  <a:pt x="9136" y="13962"/>
                  <a:pt x="9094" y="14006"/>
                  <a:pt x="9054" y="14089"/>
                </a:cubicBezTo>
                <a:cubicBezTo>
                  <a:pt x="9023" y="14154"/>
                  <a:pt x="8970" y="14242"/>
                  <a:pt x="8954" y="14312"/>
                </a:cubicBezTo>
                <a:cubicBezTo>
                  <a:pt x="8946" y="14347"/>
                  <a:pt x="8954" y="14399"/>
                  <a:pt x="8954" y="14436"/>
                </a:cubicBezTo>
              </a:path>
              <a:path w="1737" h="3846">
                <a:moveTo>
                  <a:pt x="9500" y="14089"/>
                </a:moveTo>
                <a:cubicBezTo>
                  <a:pt x="9500" y="14033"/>
                  <a:pt x="9513" y="14015"/>
                  <a:pt x="9525" y="13990"/>
                </a:cubicBezTo>
                <a:cubicBezTo>
                  <a:pt x="9553" y="13934"/>
                  <a:pt x="9570" y="13932"/>
                  <a:pt x="9624" y="13891"/>
                </a:cubicBezTo>
                <a:cubicBezTo>
                  <a:pt x="9670" y="13856"/>
                  <a:pt x="9714" y="13866"/>
                  <a:pt x="9773" y="13866"/>
                </a:cubicBezTo>
                <a:cubicBezTo>
                  <a:pt x="9847" y="13866"/>
                  <a:pt x="9904" y="13903"/>
                  <a:pt x="9947" y="13965"/>
                </a:cubicBezTo>
                <a:cubicBezTo>
                  <a:pt x="9989" y="14026"/>
                  <a:pt x="9984" y="14167"/>
                  <a:pt x="9971" y="14238"/>
                </a:cubicBezTo>
                <a:cubicBezTo>
                  <a:pt x="9955" y="14328"/>
                  <a:pt x="9896" y="14408"/>
                  <a:pt x="9823" y="14461"/>
                </a:cubicBezTo>
                <a:cubicBezTo>
                  <a:pt x="9749" y="14515"/>
                  <a:pt x="9678" y="14521"/>
                  <a:pt x="9599" y="14486"/>
                </a:cubicBezTo>
                <a:cubicBezTo>
                  <a:pt x="9516" y="14449"/>
                  <a:pt x="9479" y="14431"/>
                  <a:pt x="9475" y="14337"/>
                </a:cubicBezTo>
                <a:cubicBezTo>
                  <a:pt x="9472" y="14259"/>
                  <a:pt x="9503" y="14154"/>
                  <a:pt x="9550" y="14089"/>
                </a:cubicBezTo>
                <a:cubicBezTo>
                  <a:pt x="9566" y="14072"/>
                  <a:pt x="9583" y="14056"/>
                  <a:pt x="9599" y="14039"/>
                </a:cubicBezTo>
              </a:path>
              <a:path w="1737" h="3846">
                <a:moveTo>
                  <a:pt x="8508" y="14982"/>
                </a:moveTo>
                <a:cubicBezTo>
                  <a:pt x="8528" y="14941"/>
                  <a:pt x="8526" y="14925"/>
                  <a:pt x="8558" y="14932"/>
                </a:cubicBezTo>
                <a:cubicBezTo>
                  <a:pt x="8558" y="15035"/>
                  <a:pt x="8542" y="15132"/>
                  <a:pt x="8533" y="15230"/>
                </a:cubicBezTo>
                <a:cubicBezTo>
                  <a:pt x="8523" y="15344"/>
                  <a:pt x="8550" y="15444"/>
                  <a:pt x="8558" y="15553"/>
                </a:cubicBezTo>
                <a:cubicBezTo>
                  <a:pt x="8558" y="15561"/>
                  <a:pt x="8558" y="15569"/>
                  <a:pt x="8558" y="15577"/>
                </a:cubicBezTo>
              </a:path>
              <a:path w="1737" h="3846">
                <a:moveTo>
                  <a:pt x="8954" y="15280"/>
                </a:moveTo>
                <a:cubicBezTo>
                  <a:pt x="8927" y="15242"/>
                  <a:pt x="8930" y="15228"/>
                  <a:pt x="8930" y="15180"/>
                </a:cubicBezTo>
                <a:cubicBezTo>
                  <a:pt x="8930" y="15107"/>
                  <a:pt x="8966" y="15088"/>
                  <a:pt x="9029" y="15056"/>
                </a:cubicBezTo>
                <a:cubicBezTo>
                  <a:pt x="9108" y="15015"/>
                  <a:pt x="9202" y="15021"/>
                  <a:pt x="9252" y="15106"/>
                </a:cubicBezTo>
                <a:cubicBezTo>
                  <a:pt x="9309" y="15203"/>
                  <a:pt x="9309" y="15304"/>
                  <a:pt x="9277" y="15404"/>
                </a:cubicBezTo>
                <a:cubicBezTo>
                  <a:pt x="9242" y="15512"/>
                  <a:pt x="9205" y="15503"/>
                  <a:pt x="9103" y="15503"/>
                </a:cubicBezTo>
                <a:cubicBezTo>
                  <a:pt x="9006" y="15503"/>
                  <a:pt x="8954" y="15489"/>
                  <a:pt x="8930" y="15404"/>
                </a:cubicBezTo>
              </a:path>
              <a:path w="1737" h="3846">
                <a:moveTo>
                  <a:pt x="9699" y="15205"/>
                </a:moveTo>
                <a:cubicBezTo>
                  <a:pt x="9699" y="15150"/>
                  <a:pt x="9708" y="15126"/>
                  <a:pt x="9723" y="15081"/>
                </a:cubicBezTo>
                <a:cubicBezTo>
                  <a:pt x="9738" y="15035"/>
                  <a:pt x="9778" y="14988"/>
                  <a:pt x="9823" y="14957"/>
                </a:cubicBezTo>
                <a:cubicBezTo>
                  <a:pt x="9902" y="14904"/>
                  <a:pt x="9954" y="14883"/>
                  <a:pt x="10046" y="14883"/>
                </a:cubicBezTo>
                <a:cubicBezTo>
                  <a:pt x="10149" y="14883"/>
                  <a:pt x="10149" y="14889"/>
                  <a:pt x="10195" y="14982"/>
                </a:cubicBezTo>
                <a:cubicBezTo>
                  <a:pt x="10248" y="15087"/>
                  <a:pt x="10257" y="15165"/>
                  <a:pt x="10220" y="15280"/>
                </a:cubicBezTo>
                <a:cubicBezTo>
                  <a:pt x="10188" y="15380"/>
                  <a:pt x="10145" y="15421"/>
                  <a:pt x="10046" y="15429"/>
                </a:cubicBezTo>
                <a:cubicBezTo>
                  <a:pt x="9955" y="15436"/>
                  <a:pt x="9850" y="15436"/>
                  <a:pt x="9773" y="15379"/>
                </a:cubicBezTo>
                <a:cubicBezTo>
                  <a:pt x="9683" y="15312"/>
                  <a:pt x="9699" y="15231"/>
                  <a:pt x="9699" y="15131"/>
                </a:cubicBezTo>
                <a:cubicBezTo>
                  <a:pt x="9699" y="15106"/>
                  <a:pt x="9699" y="15081"/>
                  <a:pt x="9699" y="15056"/>
                </a:cubicBezTo>
              </a:path>
              <a:path w="1737" h="3846">
                <a:moveTo>
                  <a:pt x="8830" y="15974"/>
                </a:moveTo>
                <a:cubicBezTo>
                  <a:pt x="8835" y="15959"/>
                  <a:pt x="8873" y="15906"/>
                  <a:pt x="8855" y="15949"/>
                </a:cubicBezTo>
                <a:cubicBezTo>
                  <a:pt x="8828" y="16013"/>
                  <a:pt x="8785" y="16045"/>
                  <a:pt x="8806" y="16123"/>
                </a:cubicBezTo>
                <a:cubicBezTo>
                  <a:pt x="8828" y="16207"/>
                  <a:pt x="8936" y="16218"/>
                  <a:pt x="9004" y="16247"/>
                </a:cubicBezTo>
                <a:cubicBezTo>
                  <a:pt x="9063" y="16273"/>
                  <a:pt x="9136" y="16300"/>
                  <a:pt x="9153" y="16371"/>
                </a:cubicBezTo>
                <a:cubicBezTo>
                  <a:pt x="9169" y="16440"/>
                  <a:pt x="9104" y="16468"/>
                  <a:pt x="9054" y="16495"/>
                </a:cubicBezTo>
                <a:cubicBezTo>
                  <a:pt x="8993" y="16527"/>
                  <a:pt x="8876" y="16537"/>
                  <a:pt x="8806" y="16520"/>
                </a:cubicBezTo>
                <a:cubicBezTo>
                  <a:pt x="8762" y="16498"/>
                  <a:pt x="8750" y="16495"/>
                  <a:pt x="8731" y="16470"/>
                </a:cubicBezTo>
              </a:path>
              <a:path w="1737" h="3846">
                <a:moveTo>
                  <a:pt x="9277" y="15850"/>
                </a:moveTo>
                <a:cubicBezTo>
                  <a:pt x="9212" y="15850"/>
                  <a:pt x="9164" y="15865"/>
                  <a:pt x="9103" y="15875"/>
                </a:cubicBezTo>
                <a:cubicBezTo>
                  <a:pt x="9042" y="15885"/>
                  <a:pt x="8994" y="15900"/>
                  <a:pt x="8930" y="15900"/>
                </a:cubicBezTo>
              </a:path>
              <a:path w="1737" h="3846">
                <a:moveTo>
                  <a:pt x="9550" y="16098"/>
                </a:moveTo>
                <a:cubicBezTo>
                  <a:pt x="9550" y="16062"/>
                  <a:pt x="9557" y="16026"/>
                  <a:pt x="9575" y="15999"/>
                </a:cubicBezTo>
                <a:cubicBezTo>
                  <a:pt x="9597" y="15966"/>
                  <a:pt x="9665" y="15909"/>
                  <a:pt x="9699" y="15900"/>
                </a:cubicBezTo>
                <a:cubicBezTo>
                  <a:pt x="9761" y="15884"/>
                  <a:pt x="9892" y="15891"/>
                  <a:pt x="9947" y="15925"/>
                </a:cubicBezTo>
                <a:cubicBezTo>
                  <a:pt x="10023" y="15972"/>
                  <a:pt x="10062" y="16140"/>
                  <a:pt x="10071" y="16222"/>
                </a:cubicBezTo>
                <a:cubicBezTo>
                  <a:pt x="10081" y="16313"/>
                  <a:pt x="10053" y="16421"/>
                  <a:pt x="9996" y="16495"/>
                </a:cubicBezTo>
                <a:cubicBezTo>
                  <a:pt x="9921" y="16592"/>
                  <a:pt x="9826" y="16576"/>
                  <a:pt x="9723" y="16545"/>
                </a:cubicBezTo>
                <a:cubicBezTo>
                  <a:pt x="9604" y="16509"/>
                  <a:pt x="9576" y="16479"/>
                  <a:pt x="9525" y="16371"/>
                </a:cubicBezTo>
                <a:cubicBezTo>
                  <a:pt x="9491" y="16300"/>
                  <a:pt x="9477" y="16193"/>
                  <a:pt x="9525" y="16123"/>
                </a:cubicBezTo>
                <a:cubicBezTo>
                  <a:pt x="9542" y="16106"/>
                  <a:pt x="9558" y="16090"/>
                  <a:pt x="9575" y="16073"/>
                </a:cubicBezTo>
              </a:path>
              <a:path w="1737" h="3846">
                <a:moveTo>
                  <a:pt x="8806" y="17041"/>
                </a:moveTo>
                <a:cubicBezTo>
                  <a:pt x="8806" y="17008"/>
                  <a:pt x="8816" y="16936"/>
                  <a:pt x="8830" y="16966"/>
                </a:cubicBezTo>
                <a:cubicBezTo>
                  <a:pt x="8856" y="17021"/>
                  <a:pt x="8808" y="17131"/>
                  <a:pt x="8806" y="17190"/>
                </a:cubicBezTo>
                <a:cubicBezTo>
                  <a:pt x="8802" y="17314"/>
                  <a:pt x="8806" y="17438"/>
                  <a:pt x="8806" y="17562"/>
                </a:cubicBezTo>
              </a:path>
              <a:path w="1737" h="3846">
                <a:moveTo>
                  <a:pt x="9227" y="17264"/>
                </a:moveTo>
                <a:cubicBezTo>
                  <a:pt x="9227" y="17196"/>
                  <a:pt x="9234" y="17170"/>
                  <a:pt x="9252" y="17115"/>
                </a:cubicBezTo>
                <a:cubicBezTo>
                  <a:pt x="9271" y="17058"/>
                  <a:pt x="9296" y="17063"/>
                  <a:pt x="9351" y="17041"/>
                </a:cubicBezTo>
                <a:cubicBezTo>
                  <a:pt x="9436" y="17007"/>
                  <a:pt x="9480" y="16991"/>
                  <a:pt x="9575" y="16991"/>
                </a:cubicBezTo>
                <a:cubicBezTo>
                  <a:pt x="9696" y="16991"/>
                  <a:pt x="9731" y="17030"/>
                  <a:pt x="9773" y="17140"/>
                </a:cubicBezTo>
                <a:cubicBezTo>
                  <a:pt x="9806" y="17224"/>
                  <a:pt x="9822" y="17355"/>
                  <a:pt x="9773" y="17438"/>
                </a:cubicBezTo>
                <a:cubicBezTo>
                  <a:pt x="9720" y="17527"/>
                  <a:pt x="9631" y="17616"/>
                  <a:pt x="9525" y="17636"/>
                </a:cubicBezTo>
                <a:cubicBezTo>
                  <a:pt x="9427" y="17654"/>
                  <a:pt x="9319" y="17640"/>
                  <a:pt x="9252" y="17562"/>
                </a:cubicBezTo>
                <a:cubicBezTo>
                  <a:pt x="9176" y="17473"/>
                  <a:pt x="9169" y="17417"/>
                  <a:pt x="9203" y="17314"/>
                </a:cubicBezTo>
                <a:cubicBezTo>
                  <a:pt x="9226" y="17242"/>
                  <a:pt x="9232" y="17219"/>
                  <a:pt x="9277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00840" y="4081320"/>
            <a:ext cx="384120" cy="293760"/>
          </a:xfrm>
          <a:custGeom>
            <a:avLst/>
            <a:gdLst/>
            <a:ahLst/>
            <a:rect l="l" t="t" r="r" b="b"/>
            <a:pathLst>
              <a:path w="1067" h="819">
                <a:moveTo>
                  <a:pt x="16768" y="11584"/>
                </a:moveTo>
                <a:cubicBezTo>
                  <a:pt x="16819" y="11597"/>
                  <a:pt x="16833" y="11633"/>
                  <a:pt x="16892" y="11633"/>
                </a:cubicBezTo>
                <a:cubicBezTo>
                  <a:pt x="16919" y="11590"/>
                  <a:pt x="16933" y="11517"/>
                  <a:pt x="16917" y="11460"/>
                </a:cubicBezTo>
                <a:cubicBezTo>
                  <a:pt x="16904" y="11413"/>
                  <a:pt x="16871" y="11372"/>
                  <a:pt x="16842" y="11336"/>
                </a:cubicBezTo>
                <a:cubicBezTo>
                  <a:pt x="16788" y="11350"/>
                  <a:pt x="16761" y="11404"/>
                  <a:pt x="16743" y="11460"/>
                </a:cubicBezTo>
                <a:cubicBezTo>
                  <a:pt x="16702" y="11585"/>
                  <a:pt x="16676" y="11725"/>
                  <a:pt x="16694" y="11857"/>
                </a:cubicBezTo>
                <a:cubicBezTo>
                  <a:pt x="16707" y="11953"/>
                  <a:pt x="16718" y="12031"/>
                  <a:pt x="16718" y="12129"/>
                </a:cubicBezTo>
                <a:cubicBezTo>
                  <a:pt x="16718" y="12154"/>
                  <a:pt x="16718" y="12162"/>
                  <a:pt x="16743" y="12154"/>
                </a:cubicBezTo>
              </a:path>
              <a:path w="1067" h="819">
                <a:moveTo>
                  <a:pt x="16818" y="11931"/>
                </a:moveTo>
                <a:cubicBezTo>
                  <a:pt x="16856" y="11892"/>
                  <a:pt x="16888" y="11875"/>
                  <a:pt x="16842" y="11881"/>
                </a:cubicBezTo>
                <a:cubicBezTo>
                  <a:pt x="16807" y="11908"/>
                  <a:pt x="16757" y="11919"/>
                  <a:pt x="16718" y="11931"/>
                </a:cubicBezTo>
                <a:cubicBezTo>
                  <a:pt x="16694" y="11931"/>
                  <a:pt x="16685" y="11931"/>
                  <a:pt x="16669" y="11931"/>
                </a:cubicBezTo>
              </a:path>
              <a:path w="1067" h="819">
                <a:moveTo>
                  <a:pt x="17165" y="11857"/>
                </a:moveTo>
                <a:cubicBezTo>
                  <a:pt x="17157" y="11857"/>
                  <a:pt x="17148" y="11857"/>
                  <a:pt x="17140" y="11857"/>
                </a:cubicBezTo>
                <a:cubicBezTo>
                  <a:pt x="17150" y="11818"/>
                  <a:pt x="17168" y="11785"/>
                  <a:pt x="17214" y="11782"/>
                </a:cubicBezTo>
                <a:cubicBezTo>
                  <a:pt x="17279" y="11777"/>
                  <a:pt x="17327" y="11867"/>
                  <a:pt x="17338" y="11931"/>
                </a:cubicBezTo>
                <a:cubicBezTo>
                  <a:pt x="17351" y="12005"/>
                  <a:pt x="17350" y="12085"/>
                  <a:pt x="17264" y="12105"/>
                </a:cubicBezTo>
                <a:cubicBezTo>
                  <a:pt x="17215" y="12117"/>
                  <a:pt x="17180" y="12078"/>
                  <a:pt x="17140" y="12055"/>
                </a:cubicBezTo>
              </a:path>
              <a:path w="1067" h="819">
                <a:moveTo>
                  <a:pt x="17537" y="11807"/>
                </a:moveTo>
                <a:cubicBezTo>
                  <a:pt x="17545" y="11799"/>
                  <a:pt x="17554" y="11790"/>
                  <a:pt x="17562" y="11782"/>
                </a:cubicBezTo>
                <a:cubicBezTo>
                  <a:pt x="17504" y="11782"/>
                  <a:pt x="17483" y="11794"/>
                  <a:pt x="17462" y="11857"/>
                </a:cubicBezTo>
                <a:cubicBezTo>
                  <a:pt x="17446" y="11904"/>
                  <a:pt x="17526" y="12009"/>
                  <a:pt x="17562" y="12030"/>
                </a:cubicBezTo>
                <a:cubicBezTo>
                  <a:pt x="17634" y="12072"/>
                  <a:pt x="17669" y="12055"/>
                  <a:pt x="17735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02200" y="4697280"/>
            <a:ext cx="500040" cy="214560"/>
          </a:xfrm>
          <a:custGeom>
            <a:avLst/>
            <a:gdLst/>
            <a:ahLst/>
            <a:rect l="l" t="t" r="r" b="b"/>
            <a:pathLst>
              <a:path w="1390" h="597">
                <a:moveTo>
                  <a:pt x="16495" y="13171"/>
                </a:moveTo>
                <a:cubicBezTo>
                  <a:pt x="16457" y="13158"/>
                  <a:pt x="16470" y="13142"/>
                  <a:pt x="16470" y="13097"/>
                </a:cubicBezTo>
                <a:cubicBezTo>
                  <a:pt x="16470" y="13089"/>
                  <a:pt x="16470" y="13080"/>
                  <a:pt x="16470" y="13072"/>
                </a:cubicBezTo>
                <a:cubicBezTo>
                  <a:pt x="16470" y="13023"/>
                  <a:pt x="16432" y="13191"/>
                  <a:pt x="16421" y="13221"/>
                </a:cubicBezTo>
                <a:cubicBezTo>
                  <a:pt x="16400" y="13282"/>
                  <a:pt x="16371" y="13403"/>
                  <a:pt x="16396" y="13469"/>
                </a:cubicBezTo>
                <a:cubicBezTo>
                  <a:pt x="16419" y="13529"/>
                  <a:pt x="16539" y="13481"/>
                  <a:pt x="16570" y="13469"/>
                </a:cubicBezTo>
                <a:cubicBezTo>
                  <a:pt x="16635" y="13444"/>
                  <a:pt x="16698" y="13424"/>
                  <a:pt x="16768" y="13419"/>
                </a:cubicBezTo>
                <a:cubicBezTo>
                  <a:pt x="16813" y="13416"/>
                  <a:pt x="16829" y="13434"/>
                  <a:pt x="16867" y="13444"/>
                </a:cubicBezTo>
              </a:path>
              <a:path w="1390" h="597">
                <a:moveTo>
                  <a:pt x="16669" y="13320"/>
                </a:moveTo>
                <a:cubicBezTo>
                  <a:pt x="16669" y="13428"/>
                  <a:pt x="16669" y="13535"/>
                  <a:pt x="16669" y="13643"/>
                </a:cubicBezTo>
              </a:path>
              <a:path w="1390" h="597">
                <a:moveTo>
                  <a:pt x="17066" y="13370"/>
                </a:moveTo>
                <a:cubicBezTo>
                  <a:pt x="17025" y="13329"/>
                  <a:pt x="16998" y="13319"/>
                  <a:pt x="17041" y="13271"/>
                </a:cubicBezTo>
                <a:cubicBezTo>
                  <a:pt x="17088" y="13219"/>
                  <a:pt x="17149" y="13244"/>
                  <a:pt x="17190" y="13295"/>
                </a:cubicBezTo>
                <a:cubicBezTo>
                  <a:pt x="17227" y="13342"/>
                  <a:pt x="17262" y="13459"/>
                  <a:pt x="17239" y="13519"/>
                </a:cubicBezTo>
                <a:cubicBezTo>
                  <a:pt x="17216" y="13579"/>
                  <a:pt x="17101" y="13534"/>
                  <a:pt x="17066" y="13519"/>
                </a:cubicBezTo>
                <a:cubicBezTo>
                  <a:pt x="17019" y="13498"/>
                  <a:pt x="16981" y="13476"/>
                  <a:pt x="16942" y="13444"/>
                </a:cubicBezTo>
              </a:path>
              <a:path w="1390" h="597">
                <a:moveTo>
                  <a:pt x="17512" y="13395"/>
                </a:moveTo>
                <a:cubicBezTo>
                  <a:pt x="17469" y="13363"/>
                  <a:pt x="17462" y="13376"/>
                  <a:pt x="17462" y="13320"/>
                </a:cubicBezTo>
                <a:cubicBezTo>
                  <a:pt x="17498" y="13277"/>
                  <a:pt x="17563" y="13230"/>
                  <a:pt x="17636" y="13246"/>
                </a:cubicBezTo>
                <a:cubicBezTo>
                  <a:pt x="17730" y="13267"/>
                  <a:pt x="17773" y="13386"/>
                  <a:pt x="17785" y="13469"/>
                </a:cubicBezTo>
                <a:cubicBezTo>
                  <a:pt x="17785" y="13537"/>
                  <a:pt x="17788" y="13556"/>
                  <a:pt x="17760" y="13593"/>
                </a:cubicBezTo>
                <a:cubicBezTo>
                  <a:pt x="17662" y="13593"/>
                  <a:pt x="17613" y="13586"/>
                  <a:pt x="17537" y="13519"/>
                </a:cubicBezTo>
                <a:cubicBezTo>
                  <a:pt x="17489" y="13477"/>
                  <a:pt x="17474" y="13453"/>
                  <a:pt x="17462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13280" y="5081760"/>
            <a:ext cx="731880" cy="196560"/>
          </a:xfrm>
          <a:custGeom>
            <a:avLst/>
            <a:gdLst/>
            <a:ahLst/>
            <a:rect l="l" t="t" r="r" b="b"/>
            <a:pathLst>
              <a:path w="2035" h="547">
                <a:moveTo>
                  <a:pt x="16222" y="14213"/>
                </a:moveTo>
                <a:cubicBezTo>
                  <a:pt x="16199" y="14244"/>
                  <a:pt x="16196" y="14256"/>
                  <a:pt x="16173" y="14288"/>
                </a:cubicBezTo>
                <a:cubicBezTo>
                  <a:pt x="16135" y="14237"/>
                  <a:pt x="16153" y="14232"/>
                  <a:pt x="16197" y="14188"/>
                </a:cubicBezTo>
                <a:cubicBezTo>
                  <a:pt x="16266" y="14119"/>
                  <a:pt x="16275" y="14114"/>
                  <a:pt x="16371" y="14114"/>
                </a:cubicBezTo>
                <a:cubicBezTo>
                  <a:pt x="16427" y="14114"/>
                  <a:pt x="16440" y="14220"/>
                  <a:pt x="16421" y="14263"/>
                </a:cubicBezTo>
                <a:cubicBezTo>
                  <a:pt x="16392" y="14329"/>
                  <a:pt x="16323" y="14395"/>
                  <a:pt x="16297" y="14461"/>
                </a:cubicBezTo>
                <a:cubicBezTo>
                  <a:pt x="16297" y="14486"/>
                  <a:pt x="16297" y="14494"/>
                  <a:pt x="16297" y="14511"/>
                </a:cubicBezTo>
                <a:cubicBezTo>
                  <a:pt x="16404" y="14511"/>
                  <a:pt x="16512" y="14511"/>
                  <a:pt x="16619" y="14511"/>
                </a:cubicBezTo>
              </a:path>
              <a:path w="2035" h="547">
                <a:moveTo>
                  <a:pt x="16793" y="14213"/>
                </a:moveTo>
                <a:cubicBezTo>
                  <a:pt x="16793" y="14196"/>
                  <a:pt x="16793" y="14180"/>
                  <a:pt x="16793" y="14163"/>
                </a:cubicBezTo>
                <a:cubicBezTo>
                  <a:pt x="16793" y="14251"/>
                  <a:pt x="16772" y="14325"/>
                  <a:pt x="16768" y="14412"/>
                </a:cubicBezTo>
                <a:cubicBezTo>
                  <a:pt x="16768" y="14461"/>
                  <a:pt x="16768" y="14478"/>
                  <a:pt x="16768" y="14511"/>
                </a:cubicBezTo>
              </a:path>
              <a:path w="2035" h="547">
                <a:moveTo>
                  <a:pt x="17165" y="14288"/>
                </a:moveTo>
                <a:cubicBezTo>
                  <a:pt x="17148" y="14288"/>
                  <a:pt x="17132" y="14288"/>
                  <a:pt x="17115" y="14288"/>
                </a:cubicBezTo>
                <a:cubicBezTo>
                  <a:pt x="17115" y="14235"/>
                  <a:pt x="17128" y="14233"/>
                  <a:pt x="17165" y="14188"/>
                </a:cubicBezTo>
                <a:cubicBezTo>
                  <a:pt x="17206" y="14138"/>
                  <a:pt x="17303" y="14114"/>
                  <a:pt x="17363" y="14139"/>
                </a:cubicBezTo>
                <a:cubicBezTo>
                  <a:pt x="17462" y="14180"/>
                  <a:pt x="17541" y="14331"/>
                  <a:pt x="17537" y="14436"/>
                </a:cubicBezTo>
                <a:cubicBezTo>
                  <a:pt x="17533" y="14534"/>
                  <a:pt x="17460" y="14601"/>
                  <a:pt x="17363" y="14585"/>
                </a:cubicBezTo>
                <a:cubicBezTo>
                  <a:pt x="17297" y="14574"/>
                  <a:pt x="17185" y="14503"/>
                  <a:pt x="17165" y="14436"/>
                </a:cubicBezTo>
                <a:cubicBezTo>
                  <a:pt x="17165" y="14385"/>
                  <a:pt x="17166" y="14366"/>
                  <a:pt x="17190" y="14337"/>
                </a:cubicBezTo>
              </a:path>
              <a:path w="2035" h="547">
                <a:moveTo>
                  <a:pt x="17835" y="14312"/>
                </a:moveTo>
                <a:cubicBezTo>
                  <a:pt x="17772" y="14292"/>
                  <a:pt x="17842" y="14277"/>
                  <a:pt x="17859" y="14238"/>
                </a:cubicBezTo>
                <a:cubicBezTo>
                  <a:pt x="17881" y="14188"/>
                  <a:pt x="17925" y="14166"/>
                  <a:pt x="17983" y="14163"/>
                </a:cubicBezTo>
                <a:cubicBezTo>
                  <a:pt x="18080" y="14157"/>
                  <a:pt x="18127" y="14259"/>
                  <a:pt x="18157" y="14337"/>
                </a:cubicBezTo>
                <a:cubicBezTo>
                  <a:pt x="18186" y="14411"/>
                  <a:pt x="18212" y="14575"/>
                  <a:pt x="18132" y="14635"/>
                </a:cubicBezTo>
                <a:cubicBezTo>
                  <a:pt x="18056" y="14691"/>
                  <a:pt x="17907" y="14656"/>
                  <a:pt x="17835" y="14610"/>
                </a:cubicBezTo>
                <a:cubicBezTo>
                  <a:pt x="17792" y="14583"/>
                  <a:pt x="17717" y="14467"/>
                  <a:pt x="17760" y="14412"/>
                </a:cubicBezTo>
                <a:cubicBezTo>
                  <a:pt x="17810" y="14387"/>
                  <a:pt x="17826" y="14379"/>
                  <a:pt x="17859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32640" y="5411880"/>
            <a:ext cx="696600" cy="160200"/>
          </a:xfrm>
          <a:custGeom>
            <a:avLst/>
            <a:gdLst/>
            <a:ahLst/>
            <a:rect l="l" t="t" r="r" b="b"/>
            <a:pathLst>
              <a:path w="1935" h="447">
                <a:moveTo>
                  <a:pt x="15925" y="15106"/>
                </a:moveTo>
                <a:cubicBezTo>
                  <a:pt x="15960" y="15097"/>
                  <a:pt x="15983" y="15023"/>
                  <a:pt x="15999" y="15056"/>
                </a:cubicBezTo>
                <a:cubicBezTo>
                  <a:pt x="16009" y="15076"/>
                  <a:pt x="15974" y="15194"/>
                  <a:pt x="15974" y="15230"/>
                </a:cubicBezTo>
                <a:cubicBezTo>
                  <a:pt x="15974" y="15308"/>
                  <a:pt x="16048" y="15269"/>
                  <a:pt x="16098" y="15280"/>
                </a:cubicBezTo>
                <a:cubicBezTo>
                  <a:pt x="16172" y="15295"/>
                  <a:pt x="16241" y="15302"/>
                  <a:pt x="16297" y="15354"/>
                </a:cubicBezTo>
                <a:cubicBezTo>
                  <a:pt x="16345" y="15398"/>
                  <a:pt x="16308" y="15417"/>
                  <a:pt x="16272" y="15453"/>
                </a:cubicBezTo>
                <a:cubicBezTo>
                  <a:pt x="16234" y="15491"/>
                  <a:pt x="16104" y="15491"/>
                  <a:pt x="16049" y="15478"/>
                </a:cubicBezTo>
                <a:cubicBezTo>
                  <a:pt x="16005" y="15456"/>
                  <a:pt x="15994" y="15453"/>
                  <a:pt x="15974" y="15429"/>
                </a:cubicBezTo>
              </a:path>
              <a:path w="1935" h="447">
                <a:moveTo>
                  <a:pt x="16346" y="15131"/>
                </a:moveTo>
                <a:cubicBezTo>
                  <a:pt x="16366" y="15090"/>
                  <a:pt x="16375" y="15084"/>
                  <a:pt x="16371" y="15056"/>
                </a:cubicBezTo>
                <a:cubicBezTo>
                  <a:pt x="16264" y="15056"/>
                  <a:pt x="16156" y="15056"/>
                  <a:pt x="16049" y="15056"/>
                </a:cubicBezTo>
              </a:path>
              <a:path w="1935" h="447">
                <a:moveTo>
                  <a:pt x="16520" y="15255"/>
                </a:moveTo>
                <a:cubicBezTo>
                  <a:pt x="16492" y="15255"/>
                  <a:pt x="16481" y="15253"/>
                  <a:pt x="16470" y="15230"/>
                </a:cubicBezTo>
                <a:cubicBezTo>
                  <a:pt x="16476" y="15204"/>
                  <a:pt x="16511" y="15138"/>
                  <a:pt x="16545" y="15131"/>
                </a:cubicBezTo>
                <a:cubicBezTo>
                  <a:pt x="16638" y="15112"/>
                  <a:pt x="16720" y="15146"/>
                  <a:pt x="16768" y="15230"/>
                </a:cubicBezTo>
                <a:cubicBezTo>
                  <a:pt x="16795" y="15277"/>
                  <a:pt x="16821" y="15429"/>
                  <a:pt x="16743" y="15453"/>
                </a:cubicBezTo>
                <a:cubicBezTo>
                  <a:pt x="16648" y="15483"/>
                  <a:pt x="16561" y="15436"/>
                  <a:pt x="16495" y="15379"/>
                </a:cubicBezTo>
                <a:cubicBezTo>
                  <a:pt x="16445" y="15336"/>
                  <a:pt x="16476" y="15305"/>
                  <a:pt x="16495" y="15255"/>
                </a:cubicBezTo>
              </a:path>
              <a:path w="1935" h="447">
                <a:moveTo>
                  <a:pt x="17115" y="15280"/>
                </a:moveTo>
                <a:cubicBezTo>
                  <a:pt x="17041" y="15269"/>
                  <a:pt x="17023" y="15258"/>
                  <a:pt x="17016" y="15180"/>
                </a:cubicBezTo>
                <a:cubicBezTo>
                  <a:pt x="17011" y="15123"/>
                  <a:pt x="17093" y="15095"/>
                  <a:pt x="17140" y="15106"/>
                </a:cubicBezTo>
                <a:cubicBezTo>
                  <a:pt x="17235" y="15127"/>
                  <a:pt x="17295" y="15214"/>
                  <a:pt x="17314" y="15304"/>
                </a:cubicBezTo>
                <a:cubicBezTo>
                  <a:pt x="17333" y="15392"/>
                  <a:pt x="17233" y="15414"/>
                  <a:pt x="17165" y="15404"/>
                </a:cubicBezTo>
                <a:cubicBezTo>
                  <a:pt x="17079" y="15391"/>
                  <a:pt x="16994" y="15343"/>
                  <a:pt x="16917" y="15304"/>
                </a:cubicBezTo>
              </a:path>
              <a:path w="1935" h="447">
                <a:moveTo>
                  <a:pt x="17661" y="15304"/>
                </a:moveTo>
                <a:cubicBezTo>
                  <a:pt x="17619" y="15263"/>
                  <a:pt x="17579" y="15221"/>
                  <a:pt x="17537" y="15180"/>
                </a:cubicBezTo>
                <a:cubicBezTo>
                  <a:pt x="17474" y="15118"/>
                  <a:pt x="17530" y="15086"/>
                  <a:pt x="17587" y="15056"/>
                </a:cubicBezTo>
                <a:cubicBezTo>
                  <a:pt x="17690" y="15002"/>
                  <a:pt x="17754" y="15078"/>
                  <a:pt x="17810" y="15156"/>
                </a:cubicBezTo>
                <a:cubicBezTo>
                  <a:pt x="17861" y="15228"/>
                  <a:pt x="17896" y="15336"/>
                  <a:pt x="17810" y="15404"/>
                </a:cubicBezTo>
                <a:cubicBezTo>
                  <a:pt x="17733" y="15464"/>
                  <a:pt x="17623" y="15390"/>
                  <a:pt x="17562" y="15354"/>
                </a:cubicBezTo>
                <a:cubicBezTo>
                  <a:pt x="17500" y="15318"/>
                  <a:pt x="17512" y="15323"/>
                  <a:pt x="17512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86280" y="5786280"/>
            <a:ext cx="777960" cy="214560"/>
          </a:xfrm>
          <a:custGeom>
            <a:avLst/>
            <a:gdLst/>
            <a:ahLst/>
            <a:rect l="l" t="t" r="r" b="b"/>
            <a:pathLst>
              <a:path w="2159" h="597">
                <a:moveTo>
                  <a:pt x="16098" y="16297"/>
                </a:moveTo>
                <a:cubicBezTo>
                  <a:pt x="16070" y="16242"/>
                  <a:pt x="16123" y="16201"/>
                  <a:pt x="16173" y="16148"/>
                </a:cubicBezTo>
                <a:cubicBezTo>
                  <a:pt x="16207" y="16112"/>
                  <a:pt x="16310" y="16026"/>
                  <a:pt x="16371" y="16073"/>
                </a:cubicBezTo>
                <a:cubicBezTo>
                  <a:pt x="16414" y="16107"/>
                  <a:pt x="16435" y="16196"/>
                  <a:pt x="16421" y="16247"/>
                </a:cubicBezTo>
                <a:cubicBezTo>
                  <a:pt x="16406" y="16303"/>
                  <a:pt x="16352" y="16318"/>
                  <a:pt x="16346" y="16371"/>
                </a:cubicBezTo>
                <a:cubicBezTo>
                  <a:pt x="16341" y="16420"/>
                  <a:pt x="16392" y="16421"/>
                  <a:pt x="16421" y="16446"/>
                </a:cubicBezTo>
                <a:cubicBezTo>
                  <a:pt x="16447" y="16469"/>
                  <a:pt x="16507" y="16532"/>
                  <a:pt x="16470" y="16570"/>
                </a:cubicBezTo>
                <a:cubicBezTo>
                  <a:pt x="16446" y="16595"/>
                  <a:pt x="16382" y="16594"/>
                  <a:pt x="16346" y="16594"/>
                </a:cubicBezTo>
                <a:cubicBezTo>
                  <a:pt x="16305" y="16594"/>
                  <a:pt x="16297" y="16594"/>
                  <a:pt x="16272" y="16594"/>
                </a:cubicBezTo>
              </a:path>
              <a:path w="2159" h="597">
                <a:moveTo>
                  <a:pt x="16718" y="16247"/>
                </a:moveTo>
                <a:cubicBezTo>
                  <a:pt x="16775" y="16181"/>
                  <a:pt x="16768" y="16184"/>
                  <a:pt x="16768" y="16098"/>
                </a:cubicBezTo>
                <a:cubicBezTo>
                  <a:pt x="16768" y="16090"/>
                  <a:pt x="16768" y="16081"/>
                  <a:pt x="16768" y="16073"/>
                </a:cubicBezTo>
                <a:cubicBezTo>
                  <a:pt x="16729" y="16083"/>
                  <a:pt x="16675" y="16104"/>
                  <a:pt x="16669" y="16148"/>
                </a:cubicBezTo>
                <a:cubicBezTo>
                  <a:pt x="16662" y="16201"/>
                  <a:pt x="16661" y="16270"/>
                  <a:pt x="16718" y="16297"/>
                </a:cubicBezTo>
                <a:cubicBezTo>
                  <a:pt x="16789" y="16330"/>
                  <a:pt x="16851" y="16356"/>
                  <a:pt x="16917" y="16396"/>
                </a:cubicBezTo>
                <a:cubicBezTo>
                  <a:pt x="16974" y="16431"/>
                  <a:pt x="16966" y="16413"/>
                  <a:pt x="16966" y="16470"/>
                </a:cubicBezTo>
                <a:cubicBezTo>
                  <a:pt x="16863" y="16470"/>
                  <a:pt x="16766" y="16477"/>
                  <a:pt x="16669" y="16446"/>
                </a:cubicBezTo>
              </a:path>
              <a:path w="2159" h="597">
                <a:moveTo>
                  <a:pt x="17016" y="16173"/>
                </a:moveTo>
                <a:cubicBezTo>
                  <a:pt x="17041" y="16148"/>
                  <a:pt x="17065" y="16123"/>
                  <a:pt x="17090" y="16098"/>
                </a:cubicBezTo>
                <a:cubicBezTo>
                  <a:pt x="16991" y="16098"/>
                  <a:pt x="16892" y="16098"/>
                  <a:pt x="16793" y="16098"/>
                </a:cubicBezTo>
              </a:path>
              <a:path w="2159" h="597">
                <a:moveTo>
                  <a:pt x="17289" y="16297"/>
                </a:moveTo>
                <a:cubicBezTo>
                  <a:pt x="17256" y="16297"/>
                  <a:pt x="17223" y="16297"/>
                  <a:pt x="17190" y="16297"/>
                </a:cubicBezTo>
                <a:cubicBezTo>
                  <a:pt x="17190" y="16260"/>
                  <a:pt x="17178" y="16221"/>
                  <a:pt x="17214" y="16197"/>
                </a:cubicBezTo>
                <a:cubicBezTo>
                  <a:pt x="17293" y="16143"/>
                  <a:pt x="17369" y="16120"/>
                  <a:pt x="17438" y="16197"/>
                </a:cubicBezTo>
                <a:cubicBezTo>
                  <a:pt x="17512" y="16280"/>
                  <a:pt x="17544" y="16394"/>
                  <a:pt x="17512" y="16495"/>
                </a:cubicBezTo>
                <a:cubicBezTo>
                  <a:pt x="17479" y="16599"/>
                  <a:pt x="17393" y="16569"/>
                  <a:pt x="17314" y="16545"/>
                </a:cubicBezTo>
                <a:cubicBezTo>
                  <a:pt x="17241" y="16522"/>
                  <a:pt x="17203" y="16485"/>
                  <a:pt x="17140" y="16446"/>
                </a:cubicBezTo>
              </a:path>
              <a:path w="2159" h="597">
                <a:moveTo>
                  <a:pt x="17884" y="16396"/>
                </a:moveTo>
                <a:cubicBezTo>
                  <a:pt x="17861" y="16373"/>
                  <a:pt x="17784" y="16319"/>
                  <a:pt x="17810" y="16272"/>
                </a:cubicBezTo>
                <a:cubicBezTo>
                  <a:pt x="17844" y="16211"/>
                  <a:pt x="17918" y="16187"/>
                  <a:pt x="17983" y="16197"/>
                </a:cubicBezTo>
                <a:cubicBezTo>
                  <a:pt x="18106" y="16216"/>
                  <a:pt x="18200" y="16330"/>
                  <a:pt x="18231" y="16446"/>
                </a:cubicBezTo>
                <a:cubicBezTo>
                  <a:pt x="18254" y="16534"/>
                  <a:pt x="18234" y="16646"/>
                  <a:pt x="18132" y="16669"/>
                </a:cubicBezTo>
                <a:cubicBezTo>
                  <a:pt x="18012" y="16695"/>
                  <a:pt x="17918" y="16610"/>
                  <a:pt x="17859" y="16520"/>
                </a:cubicBezTo>
                <a:cubicBezTo>
                  <a:pt x="17832" y="16464"/>
                  <a:pt x="17824" y="16442"/>
                  <a:pt x="17835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48200" y="6197760"/>
            <a:ext cx="598680" cy="204480"/>
          </a:xfrm>
          <a:custGeom>
            <a:avLst/>
            <a:gdLst/>
            <a:ahLst/>
            <a:rect l="l" t="t" r="r" b="b"/>
            <a:pathLst>
              <a:path w="1663" h="572">
                <a:moveTo>
                  <a:pt x="16495" y="17264"/>
                </a:moveTo>
                <a:cubicBezTo>
                  <a:pt x="16579" y="17278"/>
                  <a:pt x="16514" y="17270"/>
                  <a:pt x="16570" y="17289"/>
                </a:cubicBezTo>
                <a:cubicBezTo>
                  <a:pt x="16555" y="17230"/>
                  <a:pt x="16531" y="17218"/>
                  <a:pt x="16470" y="17214"/>
                </a:cubicBezTo>
                <a:cubicBezTo>
                  <a:pt x="16402" y="17210"/>
                  <a:pt x="16308" y="17253"/>
                  <a:pt x="16272" y="17314"/>
                </a:cubicBezTo>
                <a:cubicBezTo>
                  <a:pt x="16254" y="17345"/>
                  <a:pt x="16248" y="17492"/>
                  <a:pt x="16321" y="17487"/>
                </a:cubicBezTo>
                <a:cubicBezTo>
                  <a:pt x="16414" y="17480"/>
                  <a:pt x="16428" y="17398"/>
                  <a:pt x="16470" y="17338"/>
                </a:cubicBezTo>
                <a:cubicBezTo>
                  <a:pt x="16478" y="17330"/>
                  <a:pt x="16487" y="17322"/>
                  <a:pt x="16495" y="17314"/>
                </a:cubicBezTo>
                <a:cubicBezTo>
                  <a:pt x="16568" y="17368"/>
                  <a:pt x="16531" y="17471"/>
                  <a:pt x="16570" y="17562"/>
                </a:cubicBezTo>
                <a:cubicBezTo>
                  <a:pt x="16603" y="17639"/>
                  <a:pt x="16652" y="17702"/>
                  <a:pt x="16669" y="17785"/>
                </a:cubicBezTo>
              </a:path>
              <a:path w="1663" h="572">
                <a:moveTo>
                  <a:pt x="16991" y="17438"/>
                </a:moveTo>
                <a:cubicBezTo>
                  <a:pt x="16969" y="17386"/>
                  <a:pt x="16966" y="17368"/>
                  <a:pt x="16966" y="17314"/>
                </a:cubicBezTo>
                <a:cubicBezTo>
                  <a:pt x="16966" y="17258"/>
                  <a:pt x="17057" y="17191"/>
                  <a:pt x="17115" y="17214"/>
                </a:cubicBezTo>
                <a:cubicBezTo>
                  <a:pt x="17240" y="17263"/>
                  <a:pt x="17274" y="17419"/>
                  <a:pt x="17289" y="17537"/>
                </a:cubicBezTo>
                <a:cubicBezTo>
                  <a:pt x="17300" y="17621"/>
                  <a:pt x="17275" y="17736"/>
                  <a:pt x="17165" y="17711"/>
                </a:cubicBezTo>
                <a:cubicBezTo>
                  <a:pt x="17081" y="17692"/>
                  <a:pt x="17004" y="17579"/>
                  <a:pt x="16966" y="17512"/>
                </a:cubicBezTo>
                <a:cubicBezTo>
                  <a:pt x="16958" y="17495"/>
                  <a:pt x="16950" y="17479"/>
                  <a:pt x="16942" y="17462"/>
                </a:cubicBezTo>
              </a:path>
              <a:path w="1663" h="572">
                <a:moveTo>
                  <a:pt x="17611" y="17438"/>
                </a:moveTo>
                <a:cubicBezTo>
                  <a:pt x="17575" y="17425"/>
                  <a:pt x="17587" y="17407"/>
                  <a:pt x="17587" y="17363"/>
                </a:cubicBezTo>
                <a:cubicBezTo>
                  <a:pt x="17587" y="17325"/>
                  <a:pt x="17612" y="17268"/>
                  <a:pt x="17636" y="17239"/>
                </a:cubicBezTo>
                <a:cubicBezTo>
                  <a:pt x="17656" y="17214"/>
                  <a:pt x="17753" y="17195"/>
                  <a:pt x="17785" y="17214"/>
                </a:cubicBezTo>
                <a:cubicBezTo>
                  <a:pt x="17854" y="17254"/>
                  <a:pt x="17900" y="17389"/>
                  <a:pt x="17909" y="17462"/>
                </a:cubicBezTo>
                <a:cubicBezTo>
                  <a:pt x="17919" y="17540"/>
                  <a:pt x="17899" y="17660"/>
                  <a:pt x="17810" y="17686"/>
                </a:cubicBezTo>
                <a:cubicBezTo>
                  <a:pt x="17750" y="17704"/>
                  <a:pt x="17645" y="17626"/>
                  <a:pt x="17611" y="17587"/>
                </a:cubicBezTo>
                <a:cubicBezTo>
                  <a:pt x="17565" y="17533"/>
                  <a:pt x="17591" y="17492"/>
                  <a:pt x="17611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30920" y="1251000"/>
            <a:ext cx="777960" cy="303120"/>
          </a:xfrm>
          <a:custGeom>
            <a:avLst/>
            <a:gdLst/>
            <a:ahLst/>
            <a:rect l="l" t="t" r="r" b="b"/>
            <a:pathLst>
              <a:path w="2159" h="844">
                <a:moveTo>
                  <a:pt x="16669" y="3572"/>
                </a:moveTo>
                <a:cubicBezTo>
                  <a:pt x="16685" y="3560"/>
                  <a:pt x="16764" y="3552"/>
                  <a:pt x="16768" y="3547"/>
                </a:cubicBezTo>
                <a:cubicBezTo>
                  <a:pt x="16787" y="3523"/>
                  <a:pt x="16779" y="3502"/>
                  <a:pt x="16818" y="3497"/>
                </a:cubicBezTo>
                <a:cubicBezTo>
                  <a:pt x="16842" y="3497"/>
                  <a:pt x="16851" y="3497"/>
                  <a:pt x="16867" y="3497"/>
                </a:cubicBezTo>
                <a:cubicBezTo>
                  <a:pt x="16823" y="3465"/>
                  <a:pt x="16800" y="3473"/>
                  <a:pt x="16743" y="3473"/>
                </a:cubicBezTo>
                <a:cubicBezTo>
                  <a:pt x="16650" y="3473"/>
                  <a:pt x="16558" y="3495"/>
                  <a:pt x="16470" y="3522"/>
                </a:cubicBezTo>
                <a:cubicBezTo>
                  <a:pt x="16392" y="3546"/>
                  <a:pt x="16299" y="3578"/>
                  <a:pt x="16247" y="3646"/>
                </a:cubicBezTo>
                <a:cubicBezTo>
                  <a:pt x="16211" y="3693"/>
                  <a:pt x="16205" y="3717"/>
                  <a:pt x="16197" y="3770"/>
                </a:cubicBezTo>
                <a:cubicBezTo>
                  <a:pt x="16223" y="3810"/>
                  <a:pt x="16306" y="3817"/>
                  <a:pt x="16371" y="3820"/>
                </a:cubicBezTo>
                <a:cubicBezTo>
                  <a:pt x="16460" y="3823"/>
                  <a:pt x="16535" y="3838"/>
                  <a:pt x="16619" y="3845"/>
                </a:cubicBezTo>
                <a:cubicBezTo>
                  <a:pt x="16627" y="3845"/>
                  <a:pt x="16636" y="3845"/>
                  <a:pt x="16644" y="3845"/>
                </a:cubicBezTo>
                <a:cubicBezTo>
                  <a:pt x="16630" y="3902"/>
                  <a:pt x="16595" y="3912"/>
                  <a:pt x="16545" y="3944"/>
                </a:cubicBezTo>
                <a:cubicBezTo>
                  <a:pt x="16471" y="3991"/>
                  <a:pt x="16389" y="4045"/>
                  <a:pt x="16346" y="4118"/>
                </a:cubicBezTo>
                <a:cubicBezTo>
                  <a:pt x="16314" y="4172"/>
                  <a:pt x="16305" y="4221"/>
                  <a:pt x="16346" y="4266"/>
                </a:cubicBezTo>
                <a:cubicBezTo>
                  <a:pt x="16403" y="4329"/>
                  <a:pt x="16467" y="4316"/>
                  <a:pt x="16545" y="4316"/>
                </a:cubicBezTo>
                <a:cubicBezTo>
                  <a:pt x="16601" y="4316"/>
                  <a:pt x="16717" y="4309"/>
                  <a:pt x="16768" y="4291"/>
                </a:cubicBezTo>
                <a:cubicBezTo>
                  <a:pt x="16814" y="4274"/>
                  <a:pt x="16863" y="4252"/>
                  <a:pt x="16917" y="4242"/>
                </a:cubicBezTo>
              </a:path>
              <a:path w="2159" h="844">
                <a:moveTo>
                  <a:pt x="17611" y="3646"/>
                </a:moveTo>
                <a:cubicBezTo>
                  <a:pt x="17637" y="3637"/>
                  <a:pt x="17657" y="3628"/>
                  <a:pt x="17661" y="3597"/>
                </a:cubicBezTo>
                <a:cubicBezTo>
                  <a:pt x="17664" y="3572"/>
                  <a:pt x="17652" y="3507"/>
                  <a:pt x="17636" y="3497"/>
                </a:cubicBezTo>
                <a:cubicBezTo>
                  <a:pt x="17620" y="3487"/>
                  <a:pt x="17562" y="3460"/>
                  <a:pt x="17537" y="3473"/>
                </a:cubicBezTo>
                <a:cubicBezTo>
                  <a:pt x="17492" y="3497"/>
                  <a:pt x="17460" y="3555"/>
                  <a:pt x="17438" y="3597"/>
                </a:cubicBezTo>
                <a:cubicBezTo>
                  <a:pt x="17399" y="3671"/>
                  <a:pt x="17388" y="3712"/>
                  <a:pt x="17388" y="3795"/>
                </a:cubicBezTo>
                <a:cubicBezTo>
                  <a:pt x="17388" y="3911"/>
                  <a:pt x="17388" y="4026"/>
                  <a:pt x="17388" y="4142"/>
                </a:cubicBezTo>
              </a:path>
              <a:path w="2159" h="844">
                <a:moveTo>
                  <a:pt x="17512" y="3944"/>
                </a:moveTo>
                <a:cubicBezTo>
                  <a:pt x="17512" y="3903"/>
                  <a:pt x="17512" y="3895"/>
                  <a:pt x="17512" y="3870"/>
                </a:cubicBezTo>
                <a:cubicBezTo>
                  <a:pt x="17463" y="3870"/>
                  <a:pt x="17426" y="3887"/>
                  <a:pt x="17388" y="3894"/>
                </a:cubicBezTo>
                <a:cubicBezTo>
                  <a:pt x="17371" y="3894"/>
                  <a:pt x="17355" y="3894"/>
                  <a:pt x="17338" y="3894"/>
                </a:cubicBezTo>
              </a:path>
              <a:path w="2159" h="844">
                <a:moveTo>
                  <a:pt x="17785" y="3894"/>
                </a:moveTo>
                <a:cubicBezTo>
                  <a:pt x="17777" y="3894"/>
                  <a:pt x="17768" y="3894"/>
                  <a:pt x="17760" y="3894"/>
                </a:cubicBezTo>
                <a:cubicBezTo>
                  <a:pt x="17790" y="3872"/>
                  <a:pt x="17842" y="3853"/>
                  <a:pt x="17884" y="3870"/>
                </a:cubicBezTo>
                <a:cubicBezTo>
                  <a:pt x="17946" y="3895"/>
                  <a:pt x="17998" y="4007"/>
                  <a:pt x="18008" y="4068"/>
                </a:cubicBezTo>
                <a:cubicBezTo>
                  <a:pt x="18018" y="4128"/>
                  <a:pt x="17998" y="4187"/>
                  <a:pt x="17934" y="4192"/>
                </a:cubicBezTo>
                <a:cubicBezTo>
                  <a:pt x="17864" y="4197"/>
                  <a:pt x="17832" y="4163"/>
                  <a:pt x="17785" y="4118"/>
                </a:cubicBezTo>
              </a:path>
              <a:path w="2159" h="844">
                <a:moveTo>
                  <a:pt x="18083" y="3894"/>
                </a:moveTo>
                <a:cubicBezTo>
                  <a:pt x="18190" y="3830"/>
                  <a:pt x="18191" y="3817"/>
                  <a:pt x="18107" y="3894"/>
                </a:cubicBezTo>
                <a:cubicBezTo>
                  <a:pt x="18054" y="3943"/>
                  <a:pt x="18083" y="4036"/>
                  <a:pt x="18107" y="4093"/>
                </a:cubicBezTo>
                <a:cubicBezTo>
                  <a:pt x="18147" y="4189"/>
                  <a:pt x="18224" y="4176"/>
                  <a:pt x="18306" y="4142"/>
                </a:cubicBezTo>
                <a:cubicBezTo>
                  <a:pt x="18322" y="4134"/>
                  <a:pt x="18339" y="4126"/>
                  <a:pt x="18355" y="4118"/>
                </a:cubicBezTo>
              </a:path>
              <a:path w="2159" h="844">
                <a:moveTo>
                  <a:pt x="16966" y="4217"/>
                </a:moveTo>
                <a:cubicBezTo>
                  <a:pt x="16966" y="4225"/>
                  <a:pt x="16966" y="4234"/>
                  <a:pt x="16966" y="4242"/>
                </a:cubicBezTo>
                <a:cubicBezTo>
                  <a:pt x="16935" y="4198"/>
                  <a:pt x="16942" y="4175"/>
                  <a:pt x="16942" y="4118"/>
                </a:cubicBezTo>
                <a:cubicBezTo>
                  <a:pt x="16942" y="4093"/>
                  <a:pt x="16942" y="4085"/>
                  <a:pt x="16942" y="4068"/>
                </a:cubicBezTo>
              </a:path>
              <a:path w="2159" h="844">
                <a:moveTo>
                  <a:pt x="16966" y="3473"/>
                </a:moveTo>
                <a:cubicBezTo>
                  <a:pt x="16966" y="3531"/>
                  <a:pt x="16966" y="3588"/>
                  <a:pt x="16966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19920" y="1295280"/>
            <a:ext cx="135000" cy="7164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19472" y="3646"/>
                </a:moveTo>
                <a:cubicBezTo>
                  <a:pt x="19567" y="3646"/>
                  <a:pt x="19533" y="3667"/>
                  <a:pt x="19496" y="3646"/>
                </a:cubicBezTo>
                <a:cubicBezTo>
                  <a:pt x="19437" y="3613"/>
                  <a:pt x="19385" y="3644"/>
                  <a:pt x="19323" y="3621"/>
                </a:cubicBezTo>
                <a:cubicBezTo>
                  <a:pt x="19282" y="3606"/>
                  <a:pt x="19274" y="3597"/>
                  <a:pt x="19224" y="3597"/>
                </a:cubicBezTo>
              </a:path>
              <a:path w="373" h="199">
                <a:moveTo>
                  <a:pt x="19596" y="3770"/>
                </a:moveTo>
                <a:cubicBezTo>
                  <a:pt x="19543" y="3781"/>
                  <a:pt x="19504" y="3795"/>
                  <a:pt x="19447" y="3795"/>
                </a:cubicBezTo>
                <a:cubicBezTo>
                  <a:pt x="19405" y="3795"/>
                  <a:pt x="19397" y="3795"/>
                  <a:pt x="19372" y="3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91240" y="1081080"/>
            <a:ext cx="144720" cy="2412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20836" y="3051"/>
                </a:moveTo>
                <a:cubicBezTo>
                  <a:pt x="20859" y="3028"/>
                  <a:pt x="20867" y="3024"/>
                  <a:pt x="20861" y="3001"/>
                </a:cubicBezTo>
                <a:cubicBezTo>
                  <a:pt x="20845" y="3083"/>
                  <a:pt x="20850" y="3164"/>
                  <a:pt x="20836" y="3249"/>
                </a:cubicBezTo>
                <a:cubicBezTo>
                  <a:pt x="20819" y="3350"/>
                  <a:pt x="20811" y="3442"/>
                  <a:pt x="20811" y="3547"/>
                </a:cubicBezTo>
                <a:cubicBezTo>
                  <a:pt x="20811" y="3555"/>
                  <a:pt x="20811" y="3564"/>
                  <a:pt x="20811" y="3572"/>
                </a:cubicBezTo>
              </a:path>
              <a:path w="398" h="671">
                <a:moveTo>
                  <a:pt x="21109" y="3200"/>
                </a:moveTo>
                <a:cubicBezTo>
                  <a:pt x="21164" y="3144"/>
                  <a:pt x="21162" y="3119"/>
                  <a:pt x="21208" y="3125"/>
                </a:cubicBezTo>
                <a:cubicBezTo>
                  <a:pt x="21208" y="3225"/>
                  <a:pt x="21169" y="3300"/>
                  <a:pt x="21158" y="3398"/>
                </a:cubicBezTo>
                <a:cubicBezTo>
                  <a:pt x="21148" y="3484"/>
                  <a:pt x="21141" y="3601"/>
                  <a:pt x="21183" y="36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02720" y="1133640"/>
            <a:ext cx="509400" cy="179280"/>
          </a:xfrm>
          <a:custGeom>
            <a:avLst/>
            <a:gdLst/>
            <a:ahLst/>
            <a:rect l="l" t="t" r="r" b="b"/>
            <a:pathLst>
              <a:path w="1415" h="497">
                <a:moveTo>
                  <a:pt x="22101" y="3274"/>
                </a:moveTo>
                <a:cubicBezTo>
                  <a:pt x="22140" y="3274"/>
                  <a:pt x="22170" y="3290"/>
                  <a:pt x="22175" y="3249"/>
                </a:cubicBezTo>
                <a:cubicBezTo>
                  <a:pt x="22179" y="3218"/>
                  <a:pt x="22211" y="3175"/>
                  <a:pt x="22175" y="3150"/>
                </a:cubicBezTo>
                <a:cubicBezTo>
                  <a:pt x="22139" y="3125"/>
                  <a:pt x="22058" y="3160"/>
                  <a:pt x="22027" y="3175"/>
                </a:cubicBezTo>
                <a:cubicBezTo>
                  <a:pt x="21964" y="3205"/>
                  <a:pt x="21923" y="3275"/>
                  <a:pt x="21952" y="3349"/>
                </a:cubicBezTo>
                <a:cubicBezTo>
                  <a:pt x="21983" y="3428"/>
                  <a:pt x="22059" y="3354"/>
                  <a:pt x="22076" y="3324"/>
                </a:cubicBezTo>
                <a:cubicBezTo>
                  <a:pt x="22101" y="3279"/>
                  <a:pt x="22115" y="3260"/>
                  <a:pt x="22151" y="3225"/>
                </a:cubicBezTo>
                <a:cubicBezTo>
                  <a:pt x="22194" y="3313"/>
                  <a:pt x="22215" y="3401"/>
                  <a:pt x="22225" y="3497"/>
                </a:cubicBezTo>
                <a:cubicBezTo>
                  <a:pt x="22234" y="3580"/>
                  <a:pt x="22209" y="3568"/>
                  <a:pt x="22250" y="3621"/>
                </a:cubicBezTo>
              </a:path>
              <a:path w="1415" h="497">
                <a:moveTo>
                  <a:pt x="22671" y="3423"/>
                </a:moveTo>
                <a:cubicBezTo>
                  <a:pt x="22642" y="3401"/>
                  <a:pt x="22589" y="3387"/>
                  <a:pt x="22572" y="3349"/>
                </a:cubicBezTo>
                <a:cubicBezTo>
                  <a:pt x="22545" y="3290"/>
                  <a:pt x="22591" y="3238"/>
                  <a:pt x="22647" y="3225"/>
                </a:cubicBezTo>
                <a:cubicBezTo>
                  <a:pt x="22747" y="3202"/>
                  <a:pt x="22807" y="3316"/>
                  <a:pt x="22820" y="3398"/>
                </a:cubicBezTo>
                <a:cubicBezTo>
                  <a:pt x="22832" y="3475"/>
                  <a:pt x="22817" y="3624"/>
                  <a:pt x="22721" y="3646"/>
                </a:cubicBezTo>
                <a:cubicBezTo>
                  <a:pt x="22623" y="3668"/>
                  <a:pt x="22548" y="3564"/>
                  <a:pt x="22498" y="3497"/>
                </a:cubicBezTo>
              </a:path>
              <a:path w="1415" h="497">
                <a:moveTo>
                  <a:pt x="23168" y="3423"/>
                </a:moveTo>
                <a:cubicBezTo>
                  <a:pt x="23137" y="3392"/>
                  <a:pt x="23096" y="3367"/>
                  <a:pt x="23093" y="3324"/>
                </a:cubicBezTo>
                <a:cubicBezTo>
                  <a:pt x="23089" y="3266"/>
                  <a:pt x="23152" y="3196"/>
                  <a:pt x="23217" y="3200"/>
                </a:cubicBezTo>
                <a:cubicBezTo>
                  <a:pt x="23322" y="3206"/>
                  <a:pt x="23356" y="3373"/>
                  <a:pt x="23366" y="3448"/>
                </a:cubicBezTo>
                <a:cubicBezTo>
                  <a:pt x="23376" y="3521"/>
                  <a:pt x="23389" y="3636"/>
                  <a:pt x="23292" y="3646"/>
                </a:cubicBezTo>
                <a:cubicBezTo>
                  <a:pt x="23173" y="3658"/>
                  <a:pt x="23135" y="3565"/>
                  <a:pt x="23093" y="3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29200" y="1795320"/>
            <a:ext cx="447840" cy="285840"/>
          </a:xfrm>
          <a:custGeom>
            <a:avLst/>
            <a:gdLst/>
            <a:ahLst/>
            <a:rect l="l" t="t" r="r" b="b"/>
            <a:pathLst>
              <a:path w="1242" h="794">
                <a:moveTo>
                  <a:pt x="16991" y="5110"/>
                </a:moveTo>
                <a:cubicBezTo>
                  <a:pt x="17053" y="5110"/>
                  <a:pt x="16907" y="5087"/>
                  <a:pt x="16892" y="5085"/>
                </a:cubicBezTo>
                <a:cubicBezTo>
                  <a:pt x="16811" y="5072"/>
                  <a:pt x="16745" y="5099"/>
                  <a:pt x="16669" y="5110"/>
                </a:cubicBezTo>
                <a:cubicBezTo>
                  <a:pt x="16600" y="5120"/>
                  <a:pt x="16549" y="5135"/>
                  <a:pt x="16495" y="5184"/>
                </a:cubicBezTo>
                <a:cubicBezTo>
                  <a:pt x="16487" y="5192"/>
                  <a:pt x="16478" y="5201"/>
                  <a:pt x="16470" y="5209"/>
                </a:cubicBezTo>
                <a:cubicBezTo>
                  <a:pt x="16522" y="5248"/>
                  <a:pt x="16576" y="5234"/>
                  <a:pt x="16644" y="5234"/>
                </a:cubicBezTo>
                <a:cubicBezTo>
                  <a:pt x="16681" y="5234"/>
                  <a:pt x="16771" y="5228"/>
                  <a:pt x="16793" y="5259"/>
                </a:cubicBezTo>
                <a:cubicBezTo>
                  <a:pt x="16833" y="5316"/>
                  <a:pt x="16748" y="5377"/>
                  <a:pt x="16718" y="5407"/>
                </a:cubicBezTo>
                <a:cubicBezTo>
                  <a:pt x="16672" y="5453"/>
                  <a:pt x="16578" y="5518"/>
                  <a:pt x="16570" y="5581"/>
                </a:cubicBezTo>
                <a:cubicBezTo>
                  <a:pt x="16560" y="5658"/>
                  <a:pt x="16576" y="5711"/>
                  <a:pt x="16644" y="5755"/>
                </a:cubicBezTo>
                <a:cubicBezTo>
                  <a:pt x="16698" y="5791"/>
                  <a:pt x="16828" y="5794"/>
                  <a:pt x="16892" y="5779"/>
                </a:cubicBezTo>
                <a:cubicBezTo>
                  <a:pt x="16940" y="5768"/>
                  <a:pt x="17032" y="5733"/>
                  <a:pt x="17066" y="5705"/>
                </a:cubicBezTo>
                <a:cubicBezTo>
                  <a:pt x="17098" y="5679"/>
                  <a:pt x="17095" y="5635"/>
                  <a:pt x="17115" y="5606"/>
                </a:cubicBezTo>
                <a:cubicBezTo>
                  <a:pt x="17123" y="5598"/>
                  <a:pt x="17132" y="5589"/>
                  <a:pt x="17140" y="5581"/>
                </a:cubicBezTo>
              </a:path>
              <a:path w="1242" h="794">
                <a:moveTo>
                  <a:pt x="17066" y="5085"/>
                </a:moveTo>
                <a:cubicBezTo>
                  <a:pt x="17041" y="5085"/>
                  <a:pt x="17033" y="5085"/>
                  <a:pt x="17041" y="5060"/>
                </a:cubicBezTo>
                <a:cubicBezTo>
                  <a:pt x="17041" y="5114"/>
                  <a:pt x="17050" y="5161"/>
                  <a:pt x="17066" y="5209"/>
                </a:cubicBezTo>
                <a:cubicBezTo>
                  <a:pt x="17074" y="5226"/>
                  <a:pt x="17082" y="5242"/>
                  <a:pt x="17090" y="5259"/>
                </a:cubicBezTo>
              </a:path>
              <a:path w="1242" h="794">
                <a:moveTo>
                  <a:pt x="17587" y="5259"/>
                </a:moveTo>
                <a:cubicBezTo>
                  <a:pt x="17624" y="5249"/>
                  <a:pt x="17656" y="5236"/>
                  <a:pt x="17686" y="5209"/>
                </a:cubicBezTo>
                <a:cubicBezTo>
                  <a:pt x="17744" y="5157"/>
                  <a:pt x="17689" y="5112"/>
                  <a:pt x="17661" y="5060"/>
                </a:cubicBezTo>
                <a:cubicBezTo>
                  <a:pt x="17654" y="5046"/>
                  <a:pt x="17602" y="4942"/>
                  <a:pt x="17562" y="4986"/>
                </a:cubicBezTo>
                <a:cubicBezTo>
                  <a:pt x="17510" y="5043"/>
                  <a:pt x="17494" y="5187"/>
                  <a:pt x="17487" y="5259"/>
                </a:cubicBezTo>
                <a:cubicBezTo>
                  <a:pt x="17476" y="5381"/>
                  <a:pt x="17507" y="5488"/>
                  <a:pt x="17512" y="5606"/>
                </a:cubicBezTo>
                <a:cubicBezTo>
                  <a:pt x="17514" y="5647"/>
                  <a:pt x="17512" y="5689"/>
                  <a:pt x="17512" y="5730"/>
                </a:cubicBezTo>
              </a:path>
              <a:path w="1242" h="794">
                <a:moveTo>
                  <a:pt x="17611" y="5507"/>
                </a:moveTo>
                <a:cubicBezTo>
                  <a:pt x="17611" y="5490"/>
                  <a:pt x="17611" y="5474"/>
                  <a:pt x="17611" y="5457"/>
                </a:cubicBezTo>
                <a:cubicBezTo>
                  <a:pt x="17572" y="5487"/>
                  <a:pt x="17534" y="5505"/>
                  <a:pt x="17487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88080" y="1901880"/>
            <a:ext cx="9864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18728" y="5308"/>
                </a:moveTo>
                <a:cubicBezTo>
                  <a:pt x="18789" y="5308"/>
                  <a:pt x="18805" y="5317"/>
                  <a:pt x="18827" y="5283"/>
                </a:cubicBezTo>
                <a:cubicBezTo>
                  <a:pt x="18744" y="5283"/>
                  <a:pt x="18662" y="5283"/>
                  <a:pt x="18579" y="5283"/>
                </a:cubicBezTo>
              </a:path>
              <a:path w="274" h="225">
                <a:moveTo>
                  <a:pt x="18802" y="5383"/>
                </a:moveTo>
                <a:cubicBezTo>
                  <a:pt x="18841" y="5421"/>
                  <a:pt x="18858" y="5423"/>
                  <a:pt x="18852" y="5457"/>
                </a:cubicBezTo>
                <a:cubicBezTo>
                  <a:pt x="18799" y="5470"/>
                  <a:pt x="18764" y="5499"/>
                  <a:pt x="18703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1920" y="1731960"/>
            <a:ext cx="660240" cy="223920"/>
          </a:xfrm>
          <a:custGeom>
            <a:avLst/>
            <a:gdLst/>
            <a:ahLst/>
            <a:rect l="l" t="t" r="r" b="b"/>
            <a:pathLst>
              <a:path w="1837" h="621">
                <a:moveTo>
                  <a:pt x="19720" y="5035"/>
                </a:moveTo>
                <a:cubicBezTo>
                  <a:pt x="19695" y="5035"/>
                  <a:pt x="19687" y="5035"/>
                  <a:pt x="19670" y="5035"/>
                </a:cubicBezTo>
                <a:cubicBezTo>
                  <a:pt x="19685" y="4975"/>
                  <a:pt x="19738" y="4942"/>
                  <a:pt x="19794" y="4911"/>
                </a:cubicBezTo>
                <a:cubicBezTo>
                  <a:pt x="19875" y="4867"/>
                  <a:pt x="19942" y="4828"/>
                  <a:pt x="19993" y="4911"/>
                </a:cubicBezTo>
                <a:cubicBezTo>
                  <a:pt x="20042" y="4991"/>
                  <a:pt x="20068" y="5098"/>
                  <a:pt x="20017" y="5184"/>
                </a:cubicBezTo>
                <a:cubicBezTo>
                  <a:pt x="19975" y="5255"/>
                  <a:pt x="19925" y="5300"/>
                  <a:pt x="19918" y="5383"/>
                </a:cubicBezTo>
                <a:cubicBezTo>
                  <a:pt x="19912" y="5459"/>
                  <a:pt x="20009" y="5428"/>
                  <a:pt x="20042" y="5407"/>
                </a:cubicBezTo>
                <a:cubicBezTo>
                  <a:pt x="20100" y="5369"/>
                  <a:pt x="20132" y="5354"/>
                  <a:pt x="20191" y="5333"/>
                </a:cubicBezTo>
                <a:cubicBezTo>
                  <a:pt x="20208" y="5325"/>
                  <a:pt x="20224" y="5316"/>
                  <a:pt x="20241" y="5308"/>
                </a:cubicBezTo>
              </a:path>
              <a:path w="1837" h="621">
                <a:moveTo>
                  <a:pt x="20389" y="4887"/>
                </a:moveTo>
                <a:cubicBezTo>
                  <a:pt x="20427" y="4858"/>
                  <a:pt x="20440" y="4862"/>
                  <a:pt x="20489" y="4862"/>
                </a:cubicBezTo>
                <a:cubicBezTo>
                  <a:pt x="20548" y="4862"/>
                  <a:pt x="20605" y="4819"/>
                  <a:pt x="20662" y="4812"/>
                </a:cubicBezTo>
                <a:cubicBezTo>
                  <a:pt x="20759" y="4799"/>
                  <a:pt x="20785" y="4800"/>
                  <a:pt x="20836" y="4862"/>
                </a:cubicBezTo>
                <a:cubicBezTo>
                  <a:pt x="20886" y="4924"/>
                  <a:pt x="20849" y="4995"/>
                  <a:pt x="20811" y="5060"/>
                </a:cubicBezTo>
                <a:cubicBezTo>
                  <a:pt x="20778" y="5117"/>
                  <a:pt x="20699" y="5200"/>
                  <a:pt x="20687" y="5259"/>
                </a:cubicBezTo>
                <a:cubicBezTo>
                  <a:pt x="20687" y="5267"/>
                  <a:pt x="20687" y="5275"/>
                  <a:pt x="20687" y="5283"/>
                </a:cubicBezTo>
              </a:path>
              <a:path w="1837" h="621">
                <a:moveTo>
                  <a:pt x="21183" y="5011"/>
                </a:moveTo>
                <a:cubicBezTo>
                  <a:pt x="21183" y="4960"/>
                  <a:pt x="21192" y="4970"/>
                  <a:pt x="21208" y="4936"/>
                </a:cubicBezTo>
                <a:cubicBezTo>
                  <a:pt x="21234" y="4881"/>
                  <a:pt x="21235" y="4829"/>
                  <a:pt x="21307" y="4812"/>
                </a:cubicBezTo>
                <a:cubicBezTo>
                  <a:pt x="21406" y="4789"/>
                  <a:pt x="21442" y="4852"/>
                  <a:pt x="21481" y="4936"/>
                </a:cubicBezTo>
                <a:cubicBezTo>
                  <a:pt x="21523" y="5026"/>
                  <a:pt x="21510" y="5149"/>
                  <a:pt x="21456" y="5234"/>
                </a:cubicBezTo>
                <a:cubicBezTo>
                  <a:pt x="21397" y="5325"/>
                  <a:pt x="21271" y="5325"/>
                  <a:pt x="21183" y="5283"/>
                </a:cubicBezTo>
                <a:cubicBezTo>
                  <a:pt x="21101" y="5244"/>
                  <a:pt x="21012" y="5162"/>
                  <a:pt x="21034" y="5060"/>
                </a:cubicBezTo>
                <a:cubicBezTo>
                  <a:pt x="21059" y="5011"/>
                  <a:pt x="21068" y="4994"/>
                  <a:pt x="21109" y="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30960" y="2500200"/>
            <a:ext cx="554040" cy="295560"/>
          </a:xfrm>
          <a:custGeom>
            <a:avLst/>
            <a:gdLst/>
            <a:ahLst/>
            <a:rect l="l" t="t" r="r" b="b"/>
            <a:pathLst>
              <a:path w="1538" h="820">
                <a:moveTo>
                  <a:pt x="17884" y="7243"/>
                </a:moveTo>
                <a:cubicBezTo>
                  <a:pt x="17936" y="7221"/>
                  <a:pt x="17947" y="7229"/>
                  <a:pt x="17959" y="7193"/>
                </a:cubicBezTo>
                <a:cubicBezTo>
                  <a:pt x="17933" y="7155"/>
                  <a:pt x="17873" y="7147"/>
                  <a:pt x="17810" y="7144"/>
                </a:cubicBezTo>
                <a:cubicBezTo>
                  <a:pt x="17747" y="7141"/>
                  <a:pt x="17650" y="7162"/>
                  <a:pt x="17611" y="7218"/>
                </a:cubicBezTo>
                <a:cubicBezTo>
                  <a:pt x="17570" y="7277"/>
                  <a:pt x="17622" y="7327"/>
                  <a:pt x="17686" y="7342"/>
                </a:cubicBezTo>
                <a:cubicBezTo>
                  <a:pt x="17742" y="7355"/>
                  <a:pt x="17761" y="7338"/>
                  <a:pt x="17810" y="7367"/>
                </a:cubicBezTo>
                <a:cubicBezTo>
                  <a:pt x="17810" y="7443"/>
                  <a:pt x="17776" y="7455"/>
                  <a:pt x="17735" y="7516"/>
                </a:cubicBezTo>
                <a:cubicBezTo>
                  <a:pt x="17713" y="7549"/>
                  <a:pt x="17650" y="7649"/>
                  <a:pt x="17661" y="7689"/>
                </a:cubicBezTo>
                <a:cubicBezTo>
                  <a:pt x="17676" y="7743"/>
                  <a:pt x="17753" y="7777"/>
                  <a:pt x="17810" y="7764"/>
                </a:cubicBezTo>
                <a:cubicBezTo>
                  <a:pt x="17879" y="7748"/>
                  <a:pt x="17942" y="7721"/>
                  <a:pt x="18008" y="7689"/>
                </a:cubicBezTo>
                <a:cubicBezTo>
                  <a:pt x="18052" y="7668"/>
                  <a:pt x="18064" y="7665"/>
                  <a:pt x="18083" y="7640"/>
                </a:cubicBezTo>
              </a:path>
              <a:path w="1538" h="820">
                <a:moveTo>
                  <a:pt x="18430" y="7169"/>
                </a:moveTo>
                <a:cubicBezTo>
                  <a:pt x="18448" y="7163"/>
                  <a:pt x="18592" y="7134"/>
                  <a:pt x="18604" y="7094"/>
                </a:cubicBezTo>
                <a:cubicBezTo>
                  <a:pt x="18625" y="7025"/>
                  <a:pt x="18562" y="6964"/>
                  <a:pt x="18504" y="6945"/>
                </a:cubicBezTo>
                <a:cubicBezTo>
                  <a:pt x="18407" y="6913"/>
                  <a:pt x="18391" y="7096"/>
                  <a:pt x="18380" y="7144"/>
                </a:cubicBezTo>
                <a:cubicBezTo>
                  <a:pt x="18349" y="7280"/>
                  <a:pt x="18341" y="7407"/>
                  <a:pt x="18380" y="7541"/>
                </a:cubicBezTo>
                <a:cubicBezTo>
                  <a:pt x="18399" y="7598"/>
                  <a:pt x="18408" y="7605"/>
                  <a:pt x="18405" y="7640"/>
                </a:cubicBezTo>
              </a:path>
              <a:path w="1538" h="820">
                <a:moveTo>
                  <a:pt x="18504" y="7516"/>
                </a:moveTo>
                <a:cubicBezTo>
                  <a:pt x="18504" y="7499"/>
                  <a:pt x="18504" y="7483"/>
                  <a:pt x="18504" y="7466"/>
                </a:cubicBezTo>
                <a:cubicBezTo>
                  <a:pt x="18451" y="7466"/>
                  <a:pt x="18431" y="7482"/>
                  <a:pt x="18380" y="7491"/>
                </a:cubicBezTo>
                <a:cubicBezTo>
                  <a:pt x="18336" y="7491"/>
                  <a:pt x="18322" y="7488"/>
                  <a:pt x="18306" y="7516"/>
                </a:cubicBezTo>
              </a:path>
              <a:path w="1538" h="820">
                <a:moveTo>
                  <a:pt x="18579" y="7491"/>
                </a:moveTo>
                <a:cubicBezTo>
                  <a:pt x="18629" y="7462"/>
                  <a:pt x="18648" y="7441"/>
                  <a:pt x="18703" y="7441"/>
                </a:cubicBezTo>
                <a:cubicBezTo>
                  <a:pt x="18737" y="7441"/>
                  <a:pt x="18783" y="7428"/>
                  <a:pt x="18802" y="7466"/>
                </a:cubicBezTo>
                <a:cubicBezTo>
                  <a:pt x="18819" y="7501"/>
                  <a:pt x="18786" y="7578"/>
                  <a:pt x="18752" y="7590"/>
                </a:cubicBezTo>
                <a:cubicBezTo>
                  <a:pt x="18711" y="7590"/>
                  <a:pt x="18703" y="7590"/>
                  <a:pt x="18678" y="7590"/>
                </a:cubicBezTo>
              </a:path>
              <a:path w="1538" h="820">
                <a:moveTo>
                  <a:pt x="18926" y="7441"/>
                </a:moveTo>
                <a:cubicBezTo>
                  <a:pt x="18934" y="7425"/>
                  <a:pt x="18943" y="7408"/>
                  <a:pt x="18951" y="7392"/>
                </a:cubicBezTo>
                <a:cubicBezTo>
                  <a:pt x="18939" y="7439"/>
                  <a:pt x="18909" y="7482"/>
                  <a:pt x="18926" y="7541"/>
                </a:cubicBezTo>
                <a:cubicBezTo>
                  <a:pt x="18940" y="7591"/>
                  <a:pt x="19022" y="7651"/>
                  <a:pt x="19075" y="7615"/>
                </a:cubicBezTo>
                <a:cubicBezTo>
                  <a:pt x="19091" y="7598"/>
                  <a:pt x="19108" y="7582"/>
                  <a:pt x="19124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0240" y="2830680"/>
            <a:ext cx="731880" cy="285480"/>
          </a:xfrm>
          <a:custGeom>
            <a:avLst/>
            <a:gdLst/>
            <a:ahLst/>
            <a:rect l="l" t="t" r="r" b="b"/>
            <a:pathLst>
              <a:path w="2035" h="795">
                <a:moveTo>
                  <a:pt x="19273" y="7888"/>
                </a:moveTo>
                <a:cubicBezTo>
                  <a:pt x="19311" y="7831"/>
                  <a:pt x="19180" y="7863"/>
                  <a:pt x="19124" y="7863"/>
                </a:cubicBezTo>
                <a:cubicBezTo>
                  <a:pt x="18827" y="7863"/>
                  <a:pt x="18438" y="7794"/>
                  <a:pt x="18157" y="7888"/>
                </a:cubicBezTo>
                <a:cubicBezTo>
                  <a:pt x="18117" y="7908"/>
                  <a:pt x="18110" y="7917"/>
                  <a:pt x="18083" y="7913"/>
                </a:cubicBezTo>
              </a:path>
              <a:path w="2035" h="795">
                <a:moveTo>
                  <a:pt x="18529" y="8111"/>
                </a:moveTo>
                <a:cubicBezTo>
                  <a:pt x="18554" y="8111"/>
                  <a:pt x="18579" y="8111"/>
                  <a:pt x="18604" y="8111"/>
                </a:cubicBezTo>
                <a:cubicBezTo>
                  <a:pt x="18511" y="8111"/>
                  <a:pt x="18444" y="8131"/>
                  <a:pt x="18355" y="8161"/>
                </a:cubicBezTo>
                <a:cubicBezTo>
                  <a:pt x="18300" y="8180"/>
                  <a:pt x="18212" y="8191"/>
                  <a:pt x="18207" y="8260"/>
                </a:cubicBezTo>
                <a:cubicBezTo>
                  <a:pt x="18200" y="8363"/>
                  <a:pt x="18269" y="8316"/>
                  <a:pt x="18331" y="8334"/>
                </a:cubicBezTo>
                <a:cubicBezTo>
                  <a:pt x="18379" y="8348"/>
                  <a:pt x="18413" y="8359"/>
                  <a:pt x="18430" y="8384"/>
                </a:cubicBezTo>
                <a:cubicBezTo>
                  <a:pt x="18384" y="8430"/>
                  <a:pt x="18346" y="8460"/>
                  <a:pt x="18306" y="8508"/>
                </a:cubicBezTo>
                <a:cubicBezTo>
                  <a:pt x="18286" y="8532"/>
                  <a:pt x="18251" y="8615"/>
                  <a:pt x="18306" y="8632"/>
                </a:cubicBezTo>
                <a:cubicBezTo>
                  <a:pt x="18375" y="8654"/>
                  <a:pt x="18492" y="8635"/>
                  <a:pt x="18554" y="8607"/>
                </a:cubicBezTo>
                <a:cubicBezTo>
                  <a:pt x="18604" y="8582"/>
                  <a:pt x="18620" y="8574"/>
                  <a:pt x="18653" y="8558"/>
                </a:cubicBezTo>
              </a:path>
              <a:path w="2035" h="795">
                <a:moveTo>
                  <a:pt x="18951" y="8235"/>
                </a:moveTo>
                <a:cubicBezTo>
                  <a:pt x="18987" y="8199"/>
                  <a:pt x="19044" y="8161"/>
                  <a:pt x="19050" y="8111"/>
                </a:cubicBezTo>
                <a:cubicBezTo>
                  <a:pt x="19054" y="8074"/>
                  <a:pt x="18989" y="8015"/>
                  <a:pt x="18951" y="8037"/>
                </a:cubicBezTo>
                <a:cubicBezTo>
                  <a:pt x="18856" y="8093"/>
                  <a:pt x="18854" y="8216"/>
                  <a:pt x="18852" y="8310"/>
                </a:cubicBezTo>
                <a:cubicBezTo>
                  <a:pt x="18849" y="8432"/>
                  <a:pt x="18863" y="8539"/>
                  <a:pt x="18876" y="8657"/>
                </a:cubicBezTo>
              </a:path>
              <a:path w="2035" h="795">
                <a:moveTo>
                  <a:pt x="19050" y="8533"/>
                </a:moveTo>
                <a:cubicBezTo>
                  <a:pt x="19050" y="8508"/>
                  <a:pt x="19050" y="8483"/>
                  <a:pt x="19050" y="8458"/>
                </a:cubicBezTo>
                <a:cubicBezTo>
                  <a:pt x="19000" y="8458"/>
                  <a:pt x="18951" y="8458"/>
                  <a:pt x="18901" y="8458"/>
                </a:cubicBezTo>
              </a:path>
              <a:path w="2035" h="795">
                <a:moveTo>
                  <a:pt x="20092" y="7888"/>
                </a:moveTo>
                <a:cubicBezTo>
                  <a:pt x="20034" y="7888"/>
                  <a:pt x="19976" y="7888"/>
                  <a:pt x="19918" y="7888"/>
                </a:cubicBezTo>
              </a:path>
              <a:path w="2035" h="795">
                <a:moveTo>
                  <a:pt x="20042" y="7987"/>
                </a:moveTo>
                <a:cubicBezTo>
                  <a:pt x="20084" y="7987"/>
                  <a:pt x="20092" y="7987"/>
                  <a:pt x="20117" y="7987"/>
                </a:cubicBezTo>
                <a:cubicBezTo>
                  <a:pt x="20105" y="8023"/>
                  <a:pt x="20094" y="8015"/>
                  <a:pt x="20042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35880" y="2625840"/>
            <a:ext cx="671400" cy="438120"/>
          </a:xfrm>
          <a:custGeom>
            <a:avLst/>
            <a:gdLst/>
            <a:ahLst/>
            <a:rect l="l" t="t" r="r" b="b"/>
            <a:pathLst>
              <a:path w="1862" h="1216">
                <a:moveTo>
                  <a:pt x="20935" y="7367"/>
                </a:moveTo>
                <a:cubicBezTo>
                  <a:pt x="20955" y="7341"/>
                  <a:pt x="20960" y="7274"/>
                  <a:pt x="20960" y="7317"/>
                </a:cubicBezTo>
                <a:cubicBezTo>
                  <a:pt x="20960" y="7412"/>
                  <a:pt x="20945" y="7499"/>
                  <a:pt x="20935" y="7590"/>
                </a:cubicBezTo>
                <a:cubicBezTo>
                  <a:pt x="20928" y="7651"/>
                  <a:pt x="20923" y="7740"/>
                  <a:pt x="20960" y="7764"/>
                </a:cubicBezTo>
              </a:path>
              <a:path w="1862" h="1216">
                <a:moveTo>
                  <a:pt x="21208" y="7342"/>
                </a:moveTo>
                <a:cubicBezTo>
                  <a:pt x="21247" y="7304"/>
                  <a:pt x="21248" y="7287"/>
                  <a:pt x="21282" y="7293"/>
                </a:cubicBezTo>
                <a:cubicBezTo>
                  <a:pt x="21282" y="7404"/>
                  <a:pt x="21269" y="7508"/>
                  <a:pt x="21258" y="7615"/>
                </a:cubicBezTo>
                <a:cubicBezTo>
                  <a:pt x="21258" y="7681"/>
                  <a:pt x="21258" y="7698"/>
                  <a:pt x="21258" y="7739"/>
                </a:cubicBezTo>
              </a:path>
              <a:path w="1862" h="1216">
                <a:moveTo>
                  <a:pt x="21605" y="7342"/>
                </a:moveTo>
                <a:cubicBezTo>
                  <a:pt x="21646" y="7342"/>
                  <a:pt x="21662" y="7350"/>
                  <a:pt x="21654" y="7317"/>
                </a:cubicBezTo>
                <a:cubicBezTo>
                  <a:pt x="21624" y="7273"/>
                  <a:pt x="21563" y="7292"/>
                  <a:pt x="21506" y="7317"/>
                </a:cubicBezTo>
                <a:cubicBezTo>
                  <a:pt x="21450" y="7342"/>
                  <a:pt x="21385" y="7449"/>
                  <a:pt x="21406" y="7516"/>
                </a:cubicBezTo>
                <a:cubicBezTo>
                  <a:pt x="21426" y="7582"/>
                  <a:pt x="21533" y="7517"/>
                  <a:pt x="21555" y="7491"/>
                </a:cubicBezTo>
                <a:cubicBezTo>
                  <a:pt x="21565" y="7479"/>
                  <a:pt x="21629" y="7384"/>
                  <a:pt x="21654" y="7466"/>
                </a:cubicBezTo>
                <a:cubicBezTo>
                  <a:pt x="21675" y="7537"/>
                  <a:pt x="21708" y="7615"/>
                  <a:pt x="21729" y="7689"/>
                </a:cubicBezTo>
                <a:cubicBezTo>
                  <a:pt x="21729" y="7697"/>
                  <a:pt x="21729" y="7706"/>
                  <a:pt x="21729" y="7714"/>
                </a:cubicBezTo>
              </a:path>
              <a:path w="1862" h="1216">
                <a:moveTo>
                  <a:pt x="21927" y="7466"/>
                </a:moveTo>
                <a:cubicBezTo>
                  <a:pt x="21895" y="7455"/>
                  <a:pt x="21887" y="7420"/>
                  <a:pt x="21927" y="7392"/>
                </a:cubicBezTo>
                <a:cubicBezTo>
                  <a:pt x="22012" y="7333"/>
                  <a:pt x="22061" y="7383"/>
                  <a:pt x="22101" y="7466"/>
                </a:cubicBezTo>
                <a:cubicBezTo>
                  <a:pt x="22148" y="7563"/>
                  <a:pt x="22139" y="7640"/>
                  <a:pt x="22076" y="7714"/>
                </a:cubicBezTo>
                <a:cubicBezTo>
                  <a:pt x="22037" y="7759"/>
                  <a:pt x="21997" y="7711"/>
                  <a:pt x="21952" y="7689"/>
                </a:cubicBezTo>
              </a:path>
              <a:path w="1862" h="1216">
                <a:moveTo>
                  <a:pt x="22349" y="7565"/>
                </a:moveTo>
                <a:cubicBezTo>
                  <a:pt x="22349" y="7606"/>
                  <a:pt x="22349" y="7532"/>
                  <a:pt x="22349" y="7491"/>
                </a:cubicBezTo>
                <a:cubicBezTo>
                  <a:pt x="22349" y="7428"/>
                  <a:pt x="22443" y="7313"/>
                  <a:pt x="22523" y="7367"/>
                </a:cubicBezTo>
                <a:cubicBezTo>
                  <a:pt x="22601" y="7419"/>
                  <a:pt x="22682" y="7574"/>
                  <a:pt x="22671" y="7665"/>
                </a:cubicBezTo>
                <a:cubicBezTo>
                  <a:pt x="22659" y="7760"/>
                  <a:pt x="22524" y="7799"/>
                  <a:pt x="22448" y="7764"/>
                </a:cubicBezTo>
                <a:cubicBezTo>
                  <a:pt x="22432" y="7747"/>
                  <a:pt x="22415" y="7731"/>
                  <a:pt x="22399" y="7714"/>
                </a:cubicBezTo>
              </a:path>
              <a:path w="1862" h="1216">
                <a:moveTo>
                  <a:pt x="22796" y="7962"/>
                </a:moveTo>
                <a:cubicBezTo>
                  <a:pt x="22771" y="7914"/>
                  <a:pt x="22685" y="7893"/>
                  <a:pt x="22622" y="7888"/>
                </a:cubicBezTo>
                <a:cubicBezTo>
                  <a:pt x="22419" y="7871"/>
                  <a:pt x="22202" y="7883"/>
                  <a:pt x="22002" y="7838"/>
                </a:cubicBezTo>
                <a:cubicBezTo>
                  <a:pt x="21836" y="7800"/>
                  <a:pt x="21702" y="7764"/>
                  <a:pt x="21530" y="7764"/>
                </a:cubicBezTo>
                <a:cubicBezTo>
                  <a:pt x="21499" y="7764"/>
                  <a:pt x="21486" y="7782"/>
                  <a:pt x="21456" y="7789"/>
                </a:cubicBezTo>
              </a:path>
              <a:path w="1862" h="1216">
                <a:moveTo>
                  <a:pt x="21258" y="8086"/>
                </a:moveTo>
                <a:cubicBezTo>
                  <a:pt x="21217" y="8103"/>
                  <a:pt x="21174" y="8132"/>
                  <a:pt x="21134" y="8136"/>
                </a:cubicBezTo>
                <a:cubicBezTo>
                  <a:pt x="21067" y="8144"/>
                  <a:pt x="21201" y="8113"/>
                  <a:pt x="21208" y="8111"/>
                </a:cubicBezTo>
                <a:cubicBezTo>
                  <a:pt x="21293" y="8087"/>
                  <a:pt x="21346" y="8034"/>
                  <a:pt x="21431" y="8086"/>
                </a:cubicBezTo>
                <a:cubicBezTo>
                  <a:pt x="21510" y="8134"/>
                  <a:pt x="21431" y="8219"/>
                  <a:pt x="21406" y="8260"/>
                </a:cubicBezTo>
                <a:cubicBezTo>
                  <a:pt x="21377" y="8309"/>
                  <a:pt x="21313" y="8355"/>
                  <a:pt x="21307" y="8409"/>
                </a:cubicBezTo>
                <a:cubicBezTo>
                  <a:pt x="21307" y="8434"/>
                  <a:pt x="21307" y="8442"/>
                  <a:pt x="21307" y="8458"/>
                </a:cubicBezTo>
                <a:cubicBezTo>
                  <a:pt x="21372" y="8458"/>
                  <a:pt x="21422" y="8437"/>
                  <a:pt x="21481" y="8409"/>
                </a:cubicBezTo>
                <a:cubicBezTo>
                  <a:pt x="21497" y="8401"/>
                  <a:pt x="21514" y="8392"/>
                  <a:pt x="21530" y="8384"/>
                </a:cubicBezTo>
              </a:path>
              <a:path w="1862" h="1216">
                <a:moveTo>
                  <a:pt x="21704" y="8136"/>
                </a:moveTo>
                <a:cubicBezTo>
                  <a:pt x="21748" y="8103"/>
                  <a:pt x="21770" y="8111"/>
                  <a:pt x="21828" y="8111"/>
                </a:cubicBezTo>
                <a:cubicBezTo>
                  <a:pt x="21878" y="8111"/>
                  <a:pt x="21927" y="8111"/>
                  <a:pt x="21977" y="8111"/>
                </a:cubicBezTo>
                <a:cubicBezTo>
                  <a:pt x="21977" y="8185"/>
                  <a:pt x="21966" y="8244"/>
                  <a:pt x="21927" y="8310"/>
                </a:cubicBezTo>
                <a:cubicBezTo>
                  <a:pt x="21888" y="8377"/>
                  <a:pt x="21843" y="8433"/>
                  <a:pt x="21828" y="8508"/>
                </a:cubicBezTo>
              </a:path>
              <a:path w="1862" h="1216">
                <a:moveTo>
                  <a:pt x="22200" y="8285"/>
                </a:moveTo>
                <a:cubicBezTo>
                  <a:pt x="22249" y="8236"/>
                  <a:pt x="22256" y="8194"/>
                  <a:pt x="22324" y="8186"/>
                </a:cubicBezTo>
                <a:cubicBezTo>
                  <a:pt x="22433" y="8173"/>
                  <a:pt x="22462" y="8264"/>
                  <a:pt x="22448" y="8359"/>
                </a:cubicBezTo>
                <a:cubicBezTo>
                  <a:pt x="22438" y="8424"/>
                  <a:pt x="22390" y="8544"/>
                  <a:pt x="22299" y="8508"/>
                </a:cubicBezTo>
                <a:cubicBezTo>
                  <a:pt x="22225" y="8458"/>
                  <a:pt x="22200" y="8441"/>
                  <a:pt x="22175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69120" y="3348000"/>
            <a:ext cx="81000" cy="730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20389" y="9327"/>
                </a:moveTo>
                <a:cubicBezTo>
                  <a:pt x="20397" y="9319"/>
                  <a:pt x="20406" y="9310"/>
                  <a:pt x="20414" y="9302"/>
                </a:cubicBezTo>
                <a:cubicBezTo>
                  <a:pt x="20367" y="9337"/>
                  <a:pt x="20327" y="9327"/>
                  <a:pt x="20265" y="9327"/>
                </a:cubicBezTo>
                <a:cubicBezTo>
                  <a:pt x="20232" y="9327"/>
                  <a:pt x="20216" y="9327"/>
                  <a:pt x="20191" y="9327"/>
                </a:cubicBezTo>
              </a:path>
              <a:path w="224" h="199">
                <a:moveTo>
                  <a:pt x="20340" y="9451"/>
                </a:moveTo>
                <a:cubicBezTo>
                  <a:pt x="20356" y="9451"/>
                  <a:pt x="20373" y="9451"/>
                  <a:pt x="20389" y="9451"/>
                </a:cubicBezTo>
                <a:cubicBezTo>
                  <a:pt x="20372" y="9518"/>
                  <a:pt x="20329" y="9500"/>
                  <a:pt x="20265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32800" y="3276720"/>
            <a:ext cx="447480" cy="206280"/>
          </a:xfrm>
          <a:custGeom>
            <a:avLst/>
            <a:gdLst/>
            <a:ahLst/>
            <a:rect l="l" t="t" r="r" b="b"/>
            <a:pathLst>
              <a:path w="1241" h="572">
                <a:moveTo>
                  <a:pt x="21481" y="9227"/>
                </a:moveTo>
                <a:cubicBezTo>
                  <a:pt x="21504" y="9175"/>
                  <a:pt x="21506" y="9157"/>
                  <a:pt x="21506" y="9103"/>
                </a:cubicBezTo>
                <a:cubicBezTo>
                  <a:pt x="21514" y="9112"/>
                  <a:pt x="21517" y="9203"/>
                  <a:pt x="21506" y="9252"/>
                </a:cubicBezTo>
                <a:cubicBezTo>
                  <a:pt x="21490" y="9326"/>
                  <a:pt x="21481" y="9375"/>
                  <a:pt x="21481" y="9451"/>
                </a:cubicBezTo>
                <a:cubicBezTo>
                  <a:pt x="21481" y="9540"/>
                  <a:pt x="21562" y="9482"/>
                  <a:pt x="21605" y="9475"/>
                </a:cubicBezTo>
                <a:cubicBezTo>
                  <a:pt x="21665" y="9465"/>
                  <a:pt x="21766" y="9428"/>
                  <a:pt x="21828" y="9451"/>
                </a:cubicBezTo>
                <a:cubicBezTo>
                  <a:pt x="21875" y="9469"/>
                  <a:pt x="21906" y="9505"/>
                  <a:pt x="21952" y="9525"/>
                </a:cubicBezTo>
                <a:cubicBezTo>
                  <a:pt x="21977" y="9525"/>
                  <a:pt x="21985" y="9525"/>
                  <a:pt x="21977" y="9550"/>
                </a:cubicBezTo>
              </a:path>
              <a:path w="1241" h="572">
                <a:moveTo>
                  <a:pt x="21803" y="9451"/>
                </a:moveTo>
                <a:cubicBezTo>
                  <a:pt x="21783" y="9410"/>
                  <a:pt x="21786" y="9393"/>
                  <a:pt x="21754" y="9401"/>
                </a:cubicBezTo>
                <a:cubicBezTo>
                  <a:pt x="21745" y="9445"/>
                  <a:pt x="21742" y="9507"/>
                  <a:pt x="21729" y="9550"/>
                </a:cubicBezTo>
                <a:cubicBezTo>
                  <a:pt x="21708" y="9620"/>
                  <a:pt x="21688" y="9595"/>
                  <a:pt x="21729" y="9649"/>
                </a:cubicBezTo>
              </a:path>
              <a:path w="1241" h="572">
                <a:moveTo>
                  <a:pt x="22027" y="9227"/>
                </a:moveTo>
                <a:cubicBezTo>
                  <a:pt x="22061" y="9274"/>
                  <a:pt x="22051" y="9315"/>
                  <a:pt x="22051" y="9376"/>
                </a:cubicBezTo>
                <a:cubicBezTo>
                  <a:pt x="22051" y="9436"/>
                  <a:pt x="22044" y="9472"/>
                  <a:pt x="22076" y="9500"/>
                </a:cubicBezTo>
                <a:cubicBezTo>
                  <a:pt x="22129" y="9547"/>
                  <a:pt x="22147" y="9511"/>
                  <a:pt x="22200" y="9500"/>
                </a:cubicBezTo>
                <a:cubicBezTo>
                  <a:pt x="22260" y="9488"/>
                  <a:pt x="22294" y="9520"/>
                  <a:pt x="22349" y="9525"/>
                </a:cubicBezTo>
                <a:cubicBezTo>
                  <a:pt x="22375" y="9528"/>
                  <a:pt x="22435" y="9531"/>
                  <a:pt x="22448" y="9550"/>
                </a:cubicBezTo>
                <a:cubicBezTo>
                  <a:pt x="22483" y="9603"/>
                  <a:pt x="22381" y="9507"/>
                  <a:pt x="22374" y="9500"/>
                </a:cubicBezTo>
              </a:path>
              <a:path w="1241" h="572">
                <a:moveTo>
                  <a:pt x="22275" y="9426"/>
                </a:moveTo>
                <a:cubicBezTo>
                  <a:pt x="22267" y="9426"/>
                  <a:pt x="22258" y="9426"/>
                  <a:pt x="22250" y="9426"/>
                </a:cubicBezTo>
                <a:cubicBezTo>
                  <a:pt x="22250" y="9479"/>
                  <a:pt x="22234" y="9499"/>
                  <a:pt x="22225" y="9550"/>
                </a:cubicBezTo>
                <a:cubicBezTo>
                  <a:pt x="22220" y="9579"/>
                  <a:pt x="22225" y="9619"/>
                  <a:pt x="22225" y="9649"/>
                </a:cubicBezTo>
              </a:path>
              <a:path w="1241" h="572">
                <a:moveTo>
                  <a:pt x="22671" y="9674"/>
                </a:moveTo>
                <a:cubicBezTo>
                  <a:pt x="22696" y="9674"/>
                  <a:pt x="22704" y="9674"/>
                  <a:pt x="22721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13840" y="3313080"/>
            <a:ext cx="17280" cy="152280"/>
          </a:xfrm>
          <a:custGeom>
            <a:avLst/>
            <a:gdLst/>
            <a:ahLst/>
            <a:rect l="l" t="t" r="r" b="b"/>
            <a:pathLst>
              <a:path w="51" h="422">
                <a:moveTo>
                  <a:pt x="23118" y="9277"/>
                </a:moveTo>
                <a:cubicBezTo>
                  <a:pt x="23118" y="9232"/>
                  <a:pt x="23114" y="9219"/>
                  <a:pt x="23143" y="9203"/>
                </a:cubicBezTo>
                <a:cubicBezTo>
                  <a:pt x="23143" y="9266"/>
                  <a:pt x="23121" y="9310"/>
                  <a:pt x="23118" y="9376"/>
                </a:cubicBezTo>
                <a:cubicBezTo>
                  <a:pt x="23115" y="9463"/>
                  <a:pt x="23093" y="9537"/>
                  <a:pt x="23093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3080" y="3813120"/>
            <a:ext cx="98280" cy="268200"/>
          </a:xfrm>
          <a:custGeom>
            <a:avLst/>
            <a:gdLst/>
            <a:ahLst/>
            <a:rect l="l" t="t" r="r" b="b"/>
            <a:pathLst>
              <a:path w="273" h="745">
                <a:moveTo>
                  <a:pt x="9376" y="10815"/>
                </a:moveTo>
                <a:cubicBezTo>
                  <a:pt x="9424" y="10839"/>
                  <a:pt x="9438" y="10847"/>
                  <a:pt x="9475" y="10840"/>
                </a:cubicBezTo>
                <a:cubicBezTo>
                  <a:pt x="9475" y="10779"/>
                  <a:pt x="9477" y="10741"/>
                  <a:pt x="9451" y="10691"/>
                </a:cubicBezTo>
                <a:cubicBezTo>
                  <a:pt x="9442" y="10673"/>
                  <a:pt x="9392" y="10566"/>
                  <a:pt x="9351" y="10592"/>
                </a:cubicBezTo>
                <a:cubicBezTo>
                  <a:pt x="9258" y="10651"/>
                  <a:pt x="9277" y="10746"/>
                  <a:pt x="9277" y="10840"/>
                </a:cubicBezTo>
                <a:cubicBezTo>
                  <a:pt x="9277" y="10978"/>
                  <a:pt x="9304" y="11080"/>
                  <a:pt x="9327" y="11212"/>
                </a:cubicBezTo>
                <a:cubicBezTo>
                  <a:pt x="9337" y="11268"/>
                  <a:pt x="9323" y="11288"/>
                  <a:pt x="9351" y="11336"/>
                </a:cubicBezTo>
              </a:path>
              <a:path w="273" h="745">
                <a:moveTo>
                  <a:pt x="9401" y="11088"/>
                </a:moveTo>
                <a:cubicBezTo>
                  <a:pt x="9409" y="11080"/>
                  <a:pt x="9418" y="11071"/>
                  <a:pt x="9426" y="11063"/>
                </a:cubicBezTo>
                <a:cubicBezTo>
                  <a:pt x="9382" y="11063"/>
                  <a:pt x="9341" y="11074"/>
                  <a:pt x="9302" y="11088"/>
                </a:cubicBezTo>
                <a:cubicBezTo>
                  <a:pt x="9254" y="11111"/>
                  <a:pt x="9239" y="11119"/>
                  <a:pt x="9203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4920" y="3848040"/>
            <a:ext cx="250920" cy="169920"/>
          </a:xfrm>
          <a:custGeom>
            <a:avLst/>
            <a:gdLst/>
            <a:ahLst/>
            <a:rect l="l" t="t" r="r" b="b"/>
            <a:pathLst>
              <a:path w="695" h="472">
                <a:moveTo>
                  <a:pt x="13146" y="10840"/>
                </a:moveTo>
                <a:cubicBezTo>
                  <a:pt x="13122" y="10840"/>
                  <a:pt x="13113" y="10840"/>
                  <a:pt x="13097" y="10840"/>
                </a:cubicBezTo>
                <a:cubicBezTo>
                  <a:pt x="13108" y="10795"/>
                  <a:pt x="13144" y="10774"/>
                  <a:pt x="13196" y="10765"/>
                </a:cubicBezTo>
                <a:cubicBezTo>
                  <a:pt x="13285" y="10749"/>
                  <a:pt x="13317" y="10819"/>
                  <a:pt x="13345" y="10889"/>
                </a:cubicBezTo>
                <a:cubicBezTo>
                  <a:pt x="13375" y="10966"/>
                  <a:pt x="13389" y="11072"/>
                  <a:pt x="13320" y="11137"/>
                </a:cubicBezTo>
                <a:cubicBezTo>
                  <a:pt x="13273" y="11181"/>
                  <a:pt x="13189" y="11172"/>
                  <a:pt x="13146" y="11137"/>
                </a:cubicBezTo>
                <a:cubicBezTo>
                  <a:pt x="13138" y="11129"/>
                  <a:pt x="13130" y="11120"/>
                  <a:pt x="13122" y="11112"/>
                </a:cubicBezTo>
              </a:path>
              <a:path w="695" h="472">
                <a:moveTo>
                  <a:pt x="13519" y="10790"/>
                </a:moveTo>
                <a:cubicBezTo>
                  <a:pt x="13556" y="10734"/>
                  <a:pt x="13573" y="10730"/>
                  <a:pt x="13568" y="10691"/>
                </a:cubicBezTo>
                <a:cubicBezTo>
                  <a:pt x="13491" y="10747"/>
                  <a:pt x="13452" y="10791"/>
                  <a:pt x="13444" y="10889"/>
                </a:cubicBezTo>
                <a:cubicBezTo>
                  <a:pt x="13436" y="10996"/>
                  <a:pt x="13477" y="11088"/>
                  <a:pt x="13593" y="11112"/>
                </a:cubicBezTo>
                <a:cubicBezTo>
                  <a:pt x="13687" y="11131"/>
                  <a:pt x="13729" y="11068"/>
                  <a:pt x="13791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70320" y="2803680"/>
            <a:ext cx="223920" cy="250560"/>
          </a:xfrm>
          <a:custGeom>
            <a:avLst/>
            <a:gdLst/>
            <a:ahLst/>
            <a:rect l="l" t="t" r="r" b="b"/>
            <a:pathLst>
              <a:path w="621" h="695">
                <a:moveTo>
                  <a:pt x="14387" y="8186"/>
                </a:moveTo>
                <a:cubicBezTo>
                  <a:pt x="14348" y="8134"/>
                  <a:pt x="14367" y="8131"/>
                  <a:pt x="14412" y="8086"/>
                </a:cubicBezTo>
                <a:cubicBezTo>
                  <a:pt x="14439" y="8059"/>
                  <a:pt x="14547" y="8041"/>
                  <a:pt x="14585" y="8062"/>
                </a:cubicBezTo>
                <a:cubicBezTo>
                  <a:pt x="14688" y="8118"/>
                  <a:pt x="14706" y="8256"/>
                  <a:pt x="14684" y="8359"/>
                </a:cubicBezTo>
                <a:cubicBezTo>
                  <a:pt x="14664" y="8456"/>
                  <a:pt x="14569" y="8480"/>
                  <a:pt x="14486" y="8483"/>
                </a:cubicBezTo>
                <a:cubicBezTo>
                  <a:pt x="14418" y="8483"/>
                  <a:pt x="14399" y="8486"/>
                  <a:pt x="14362" y="8458"/>
                </a:cubicBezTo>
              </a:path>
              <a:path w="621" h="695">
                <a:moveTo>
                  <a:pt x="14709" y="8111"/>
                </a:moveTo>
                <a:cubicBezTo>
                  <a:pt x="14781" y="8040"/>
                  <a:pt x="14820" y="7967"/>
                  <a:pt x="14759" y="8062"/>
                </a:cubicBezTo>
                <a:cubicBezTo>
                  <a:pt x="14708" y="8141"/>
                  <a:pt x="14685" y="8227"/>
                  <a:pt x="14709" y="8310"/>
                </a:cubicBezTo>
                <a:cubicBezTo>
                  <a:pt x="14741" y="8417"/>
                  <a:pt x="14806" y="8443"/>
                  <a:pt x="14908" y="8409"/>
                </a:cubicBezTo>
                <a:cubicBezTo>
                  <a:pt x="14957" y="8384"/>
                  <a:pt x="14974" y="8375"/>
                  <a:pt x="14982" y="8334"/>
                </a:cubicBezTo>
              </a:path>
              <a:path w="621" h="695">
                <a:moveTo>
                  <a:pt x="14908" y="7863"/>
                </a:moveTo>
                <a:cubicBezTo>
                  <a:pt x="14930" y="7840"/>
                  <a:pt x="14938" y="7835"/>
                  <a:pt x="14932" y="7813"/>
                </a:cubicBezTo>
                <a:cubicBezTo>
                  <a:pt x="14892" y="7783"/>
                  <a:pt x="14838" y="7778"/>
                  <a:pt x="14784" y="7789"/>
                </a:cubicBezTo>
                <a:cubicBezTo>
                  <a:pt x="14685" y="7810"/>
                  <a:pt x="14610" y="7854"/>
                  <a:pt x="14511" y="78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05640" y="2911320"/>
            <a:ext cx="125280" cy="6192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16197" y="8111"/>
                </a:moveTo>
                <a:cubicBezTo>
                  <a:pt x="16184" y="8070"/>
                  <a:pt x="16149" y="8086"/>
                  <a:pt x="16098" y="8086"/>
                </a:cubicBezTo>
                <a:cubicBezTo>
                  <a:pt x="16015" y="8086"/>
                  <a:pt x="15933" y="8086"/>
                  <a:pt x="15850" y="8086"/>
                </a:cubicBezTo>
              </a:path>
              <a:path w="348" h="175">
                <a:moveTo>
                  <a:pt x="16173" y="8210"/>
                </a:moveTo>
                <a:cubicBezTo>
                  <a:pt x="16181" y="8210"/>
                  <a:pt x="16189" y="8210"/>
                  <a:pt x="16197" y="8210"/>
                </a:cubicBezTo>
                <a:cubicBezTo>
                  <a:pt x="16183" y="8255"/>
                  <a:pt x="16127" y="8253"/>
                  <a:pt x="16073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040" y="276120"/>
            <a:ext cx="7920" cy="367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1612" y="794"/>
                </a:moveTo>
                <a:cubicBezTo>
                  <a:pt x="1671" y="735"/>
                  <a:pt x="1626" y="844"/>
                  <a:pt x="1612" y="8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2320" y="446040"/>
            <a:ext cx="312840" cy="268200"/>
          </a:xfrm>
          <a:custGeom>
            <a:avLst/>
            <a:gdLst/>
            <a:ahLst/>
            <a:rect l="l" t="t" r="r" b="b"/>
            <a:pathLst>
              <a:path w="869" h="745">
                <a:moveTo>
                  <a:pt x="1836" y="1290"/>
                </a:moveTo>
                <a:cubicBezTo>
                  <a:pt x="1792" y="1275"/>
                  <a:pt x="1798" y="1369"/>
                  <a:pt x="1811" y="1439"/>
                </a:cubicBezTo>
                <a:cubicBezTo>
                  <a:pt x="1827" y="1523"/>
                  <a:pt x="1849" y="1544"/>
                  <a:pt x="1910" y="1588"/>
                </a:cubicBezTo>
                <a:cubicBezTo>
                  <a:pt x="1981" y="1527"/>
                  <a:pt x="1994" y="1455"/>
                  <a:pt x="2034" y="1364"/>
                </a:cubicBezTo>
                <a:cubicBezTo>
                  <a:pt x="2124" y="1387"/>
                  <a:pt x="2151" y="1534"/>
                  <a:pt x="2183" y="1612"/>
                </a:cubicBezTo>
                <a:cubicBezTo>
                  <a:pt x="2216" y="1694"/>
                  <a:pt x="2313" y="1873"/>
                  <a:pt x="2232" y="1960"/>
                </a:cubicBezTo>
                <a:cubicBezTo>
                  <a:pt x="2167" y="2030"/>
                  <a:pt x="2050" y="1964"/>
                  <a:pt x="1984" y="1935"/>
                </a:cubicBezTo>
              </a:path>
              <a:path w="869" h="745">
                <a:moveTo>
                  <a:pt x="2629" y="1265"/>
                </a:moveTo>
                <a:cubicBezTo>
                  <a:pt x="2670" y="1245"/>
                  <a:pt x="2697" y="1236"/>
                  <a:pt x="2654" y="1240"/>
                </a:cubicBezTo>
                <a:cubicBezTo>
                  <a:pt x="2596" y="1252"/>
                  <a:pt x="2538" y="1280"/>
                  <a:pt x="2480" y="1290"/>
                </a:cubicBezTo>
                <a:cubicBezTo>
                  <a:pt x="2464" y="1290"/>
                  <a:pt x="2447" y="1290"/>
                  <a:pt x="2431" y="1290"/>
                </a:cubicBezTo>
              </a:path>
              <a:path w="869" h="745">
                <a:moveTo>
                  <a:pt x="2530" y="1339"/>
                </a:moveTo>
                <a:cubicBezTo>
                  <a:pt x="2588" y="1339"/>
                  <a:pt x="2596" y="1339"/>
                  <a:pt x="2629" y="1339"/>
                </a:cubicBezTo>
                <a:cubicBezTo>
                  <a:pt x="2620" y="1375"/>
                  <a:pt x="2608" y="1385"/>
                  <a:pt x="2580" y="1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93920" y="223920"/>
            <a:ext cx="544320" cy="463320"/>
          </a:xfrm>
          <a:custGeom>
            <a:avLst/>
            <a:gdLst/>
            <a:ahLst/>
            <a:rect l="l" t="t" r="r" b="b"/>
            <a:pathLst>
              <a:path w="1514" h="1291">
                <a:moveTo>
                  <a:pt x="3870" y="992"/>
                </a:moveTo>
                <a:cubicBezTo>
                  <a:pt x="3870" y="1042"/>
                  <a:pt x="3870" y="1091"/>
                  <a:pt x="3870" y="1141"/>
                </a:cubicBezTo>
                <a:cubicBezTo>
                  <a:pt x="3932" y="1141"/>
                  <a:pt x="3956" y="1094"/>
                  <a:pt x="3994" y="1042"/>
                </a:cubicBezTo>
                <a:cubicBezTo>
                  <a:pt x="4060" y="952"/>
                  <a:pt x="4122" y="856"/>
                  <a:pt x="4142" y="744"/>
                </a:cubicBezTo>
                <a:cubicBezTo>
                  <a:pt x="4151" y="691"/>
                  <a:pt x="4141" y="660"/>
                  <a:pt x="4118" y="620"/>
                </a:cubicBezTo>
                <a:cubicBezTo>
                  <a:pt x="4061" y="620"/>
                  <a:pt x="4022" y="665"/>
                  <a:pt x="3994" y="719"/>
                </a:cubicBezTo>
                <a:cubicBezTo>
                  <a:pt x="3946" y="812"/>
                  <a:pt x="3966" y="923"/>
                  <a:pt x="3994" y="1017"/>
                </a:cubicBezTo>
                <a:cubicBezTo>
                  <a:pt x="4012" y="1080"/>
                  <a:pt x="4039" y="1133"/>
                  <a:pt x="4068" y="1191"/>
                </a:cubicBezTo>
                <a:cubicBezTo>
                  <a:pt x="4141" y="1191"/>
                  <a:pt x="4157" y="1153"/>
                  <a:pt x="4192" y="1091"/>
                </a:cubicBezTo>
                <a:cubicBezTo>
                  <a:pt x="4212" y="1056"/>
                  <a:pt x="4262" y="952"/>
                  <a:pt x="4316" y="967"/>
                </a:cubicBezTo>
                <a:cubicBezTo>
                  <a:pt x="4395" y="989"/>
                  <a:pt x="4380" y="1058"/>
                  <a:pt x="4440" y="1091"/>
                </a:cubicBezTo>
                <a:cubicBezTo>
                  <a:pt x="4448" y="1091"/>
                  <a:pt x="4457" y="1091"/>
                  <a:pt x="4465" y="1091"/>
                </a:cubicBezTo>
                <a:cubicBezTo>
                  <a:pt x="4468" y="1079"/>
                  <a:pt x="4489" y="964"/>
                  <a:pt x="4514" y="967"/>
                </a:cubicBezTo>
                <a:cubicBezTo>
                  <a:pt x="4551" y="972"/>
                  <a:pt x="4617" y="1093"/>
                  <a:pt x="4638" y="1116"/>
                </a:cubicBezTo>
                <a:cubicBezTo>
                  <a:pt x="4646" y="1124"/>
                  <a:pt x="4655" y="1133"/>
                  <a:pt x="4663" y="1141"/>
                </a:cubicBezTo>
              </a:path>
              <a:path w="1514" h="1291">
                <a:moveTo>
                  <a:pt x="4887" y="918"/>
                </a:moveTo>
                <a:cubicBezTo>
                  <a:pt x="4887" y="893"/>
                  <a:pt x="4887" y="885"/>
                  <a:pt x="4887" y="868"/>
                </a:cubicBezTo>
                <a:cubicBezTo>
                  <a:pt x="4959" y="868"/>
                  <a:pt x="4940" y="861"/>
                  <a:pt x="4986" y="918"/>
                </a:cubicBezTo>
                <a:cubicBezTo>
                  <a:pt x="5016" y="955"/>
                  <a:pt x="5061" y="1013"/>
                  <a:pt x="5035" y="1067"/>
                </a:cubicBezTo>
                <a:cubicBezTo>
                  <a:pt x="5014" y="1109"/>
                  <a:pt x="4948" y="1091"/>
                  <a:pt x="4911" y="1091"/>
                </a:cubicBezTo>
                <a:cubicBezTo>
                  <a:pt x="4895" y="1091"/>
                  <a:pt x="4878" y="1091"/>
                  <a:pt x="4862" y="1091"/>
                </a:cubicBezTo>
              </a:path>
              <a:path w="1514" h="1291">
                <a:moveTo>
                  <a:pt x="5060" y="918"/>
                </a:moveTo>
                <a:cubicBezTo>
                  <a:pt x="5079" y="844"/>
                  <a:pt x="5087" y="837"/>
                  <a:pt x="5085" y="794"/>
                </a:cubicBezTo>
                <a:cubicBezTo>
                  <a:pt x="5046" y="842"/>
                  <a:pt x="5003" y="925"/>
                  <a:pt x="5035" y="992"/>
                </a:cubicBezTo>
                <a:cubicBezTo>
                  <a:pt x="5078" y="1081"/>
                  <a:pt x="5138" y="1069"/>
                  <a:pt x="5209" y="1042"/>
                </a:cubicBezTo>
              </a:path>
              <a:path w="1514" h="1291">
                <a:moveTo>
                  <a:pt x="5358" y="1315"/>
                </a:moveTo>
                <a:cubicBezTo>
                  <a:pt x="5400" y="1315"/>
                  <a:pt x="5325" y="1315"/>
                  <a:pt x="5283" y="1315"/>
                </a:cubicBezTo>
                <a:cubicBezTo>
                  <a:pt x="5151" y="1315"/>
                  <a:pt x="5022" y="1290"/>
                  <a:pt x="4887" y="1290"/>
                </a:cubicBezTo>
                <a:cubicBezTo>
                  <a:pt x="4731" y="1290"/>
                  <a:pt x="4567" y="1287"/>
                  <a:pt x="4415" y="1315"/>
                </a:cubicBezTo>
                <a:cubicBezTo>
                  <a:pt x="4337" y="1329"/>
                  <a:pt x="4239" y="1365"/>
                  <a:pt x="4167" y="1389"/>
                </a:cubicBezTo>
                <a:cubicBezTo>
                  <a:pt x="4116" y="1406"/>
                  <a:pt x="4117" y="1414"/>
                  <a:pt x="4068" y="1414"/>
                </a:cubicBezTo>
              </a:path>
              <a:path w="1514" h="1291">
                <a:moveTo>
                  <a:pt x="4465" y="1712"/>
                </a:moveTo>
                <a:cubicBezTo>
                  <a:pt x="4424" y="1731"/>
                  <a:pt x="4408" y="1750"/>
                  <a:pt x="4415" y="1712"/>
                </a:cubicBezTo>
                <a:cubicBezTo>
                  <a:pt x="4461" y="1675"/>
                  <a:pt x="4525" y="1637"/>
                  <a:pt x="4589" y="1662"/>
                </a:cubicBezTo>
                <a:cubicBezTo>
                  <a:pt x="4640" y="1682"/>
                  <a:pt x="4654" y="1793"/>
                  <a:pt x="4638" y="1836"/>
                </a:cubicBezTo>
                <a:cubicBezTo>
                  <a:pt x="4614" y="1899"/>
                  <a:pt x="4514" y="1885"/>
                  <a:pt x="4465" y="1885"/>
                </a:cubicBezTo>
                <a:cubicBezTo>
                  <a:pt x="4457" y="1885"/>
                  <a:pt x="4448" y="1885"/>
                  <a:pt x="4440" y="1885"/>
                </a:cubicBezTo>
              </a:path>
              <a:path w="1514" h="1291">
                <a:moveTo>
                  <a:pt x="4688" y="1662"/>
                </a:moveTo>
                <a:cubicBezTo>
                  <a:pt x="4705" y="1645"/>
                  <a:pt x="4721" y="1629"/>
                  <a:pt x="4738" y="1612"/>
                </a:cubicBezTo>
                <a:cubicBezTo>
                  <a:pt x="4693" y="1635"/>
                  <a:pt x="4673" y="1703"/>
                  <a:pt x="4663" y="1761"/>
                </a:cubicBezTo>
                <a:cubicBezTo>
                  <a:pt x="4651" y="1835"/>
                  <a:pt x="4728" y="1903"/>
                  <a:pt x="4787" y="1910"/>
                </a:cubicBezTo>
                <a:cubicBezTo>
                  <a:pt x="4804" y="1910"/>
                  <a:pt x="4820" y="1910"/>
                  <a:pt x="4837" y="19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1160" y="938160"/>
            <a:ext cx="534960" cy="312840"/>
          </a:xfrm>
          <a:custGeom>
            <a:avLst/>
            <a:gdLst/>
            <a:ahLst/>
            <a:rect l="l" t="t" r="r" b="b"/>
            <a:pathLst>
              <a:path w="1489" h="870">
                <a:moveTo>
                  <a:pt x="2704" y="2778"/>
                </a:moveTo>
                <a:cubicBezTo>
                  <a:pt x="2704" y="2843"/>
                  <a:pt x="2697" y="2849"/>
                  <a:pt x="2629" y="2853"/>
                </a:cubicBezTo>
                <a:cubicBezTo>
                  <a:pt x="2580" y="2853"/>
                  <a:pt x="2563" y="2853"/>
                  <a:pt x="2530" y="2853"/>
                </a:cubicBezTo>
              </a:path>
              <a:path w="1489" h="870">
                <a:moveTo>
                  <a:pt x="2654" y="2952"/>
                </a:moveTo>
                <a:cubicBezTo>
                  <a:pt x="2675" y="3000"/>
                  <a:pt x="2703" y="3046"/>
                  <a:pt x="2629" y="3051"/>
                </a:cubicBezTo>
                <a:cubicBezTo>
                  <a:pt x="2613" y="3051"/>
                  <a:pt x="2596" y="3051"/>
                  <a:pt x="2580" y="3051"/>
                </a:cubicBezTo>
              </a:path>
              <a:path w="1489" h="870">
                <a:moveTo>
                  <a:pt x="3621" y="2629"/>
                </a:moveTo>
                <a:cubicBezTo>
                  <a:pt x="3621" y="2604"/>
                  <a:pt x="3621" y="2596"/>
                  <a:pt x="3597" y="2604"/>
                </a:cubicBezTo>
                <a:cubicBezTo>
                  <a:pt x="3597" y="2698"/>
                  <a:pt x="3588" y="2787"/>
                  <a:pt x="3621" y="2877"/>
                </a:cubicBezTo>
                <a:cubicBezTo>
                  <a:pt x="3629" y="2894"/>
                  <a:pt x="3638" y="2910"/>
                  <a:pt x="3646" y="2927"/>
                </a:cubicBezTo>
                <a:cubicBezTo>
                  <a:pt x="3729" y="2910"/>
                  <a:pt x="3733" y="2865"/>
                  <a:pt x="3746" y="2778"/>
                </a:cubicBezTo>
                <a:cubicBezTo>
                  <a:pt x="3746" y="2734"/>
                  <a:pt x="3743" y="2721"/>
                  <a:pt x="3770" y="2704"/>
                </a:cubicBezTo>
                <a:cubicBezTo>
                  <a:pt x="3805" y="2747"/>
                  <a:pt x="3833" y="2786"/>
                  <a:pt x="3870" y="2828"/>
                </a:cubicBezTo>
              </a:path>
              <a:path w="1489" h="870">
                <a:moveTo>
                  <a:pt x="4018" y="3051"/>
                </a:moveTo>
                <a:cubicBezTo>
                  <a:pt x="3914" y="3051"/>
                  <a:pt x="3823" y="3064"/>
                  <a:pt x="3721" y="3076"/>
                </a:cubicBezTo>
                <a:cubicBezTo>
                  <a:pt x="3653" y="3084"/>
                  <a:pt x="3601" y="3060"/>
                  <a:pt x="3547" y="3101"/>
                </a:cubicBezTo>
              </a:path>
              <a:path w="1489" h="870">
                <a:moveTo>
                  <a:pt x="3572" y="3299"/>
                </a:moveTo>
                <a:cubicBezTo>
                  <a:pt x="3572" y="3241"/>
                  <a:pt x="3587" y="3333"/>
                  <a:pt x="3597" y="3349"/>
                </a:cubicBezTo>
                <a:cubicBezTo>
                  <a:pt x="3616" y="3378"/>
                  <a:pt x="3657" y="3462"/>
                  <a:pt x="3696" y="3473"/>
                </a:cubicBezTo>
                <a:cubicBezTo>
                  <a:pt x="3781" y="3497"/>
                  <a:pt x="3812" y="3328"/>
                  <a:pt x="3820" y="3274"/>
                </a:cubicBezTo>
                <a:cubicBezTo>
                  <a:pt x="3830" y="3203"/>
                  <a:pt x="3814" y="3161"/>
                  <a:pt x="3845" y="31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4200" y="2000160"/>
            <a:ext cx="231840" cy="420840"/>
          </a:xfrm>
          <a:custGeom>
            <a:avLst/>
            <a:gdLst/>
            <a:ahLst/>
            <a:rect l="l" t="t" r="r" b="b"/>
            <a:pathLst>
              <a:path w="646" h="1167">
                <a:moveTo>
                  <a:pt x="645" y="5779"/>
                </a:moveTo>
                <a:cubicBezTo>
                  <a:pt x="597" y="5827"/>
                  <a:pt x="572" y="5894"/>
                  <a:pt x="595" y="5978"/>
                </a:cubicBezTo>
                <a:cubicBezTo>
                  <a:pt x="617" y="6022"/>
                  <a:pt x="620" y="6033"/>
                  <a:pt x="645" y="6052"/>
                </a:cubicBezTo>
                <a:cubicBezTo>
                  <a:pt x="722" y="6014"/>
                  <a:pt x="695" y="5913"/>
                  <a:pt x="695" y="5829"/>
                </a:cubicBezTo>
                <a:cubicBezTo>
                  <a:pt x="695" y="5737"/>
                  <a:pt x="683" y="5632"/>
                  <a:pt x="645" y="5556"/>
                </a:cubicBezTo>
                <a:cubicBezTo>
                  <a:pt x="645" y="5649"/>
                  <a:pt x="666" y="5715"/>
                  <a:pt x="695" y="5804"/>
                </a:cubicBezTo>
                <a:cubicBezTo>
                  <a:pt x="709" y="5848"/>
                  <a:pt x="736" y="6001"/>
                  <a:pt x="769" y="6028"/>
                </a:cubicBezTo>
                <a:cubicBezTo>
                  <a:pt x="777" y="6028"/>
                  <a:pt x="786" y="6028"/>
                  <a:pt x="794" y="6028"/>
                </a:cubicBezTo>
              </a:path>
              <a:path w="646" h="1167">
                <a:moveTo>
                  <a:pt x="843" y="5854"/>
                </a:moveTo>
                <a:cubicBezTo>
                  <a:pt x="843" y="5829"/>
                  <a:pt x="843" y="5821"/>
                  <a:pt x="843" y="5804"/>
                </a:cubicBezTo>
                <a:cubicBezTo>
                  <a:pt x="884" y="5845"/>
                  <a:pt x="909" y="5882"/>
                  <a:pt x="943" y="5928"/>
                </a:cubicBezTo>
                <a:cubicBezTo>
                  <a:pt x="970" y="5964"/>
                  <a:pt x="1002" y="5953"/>
                  <a:pt x="1042" y="5953"/>
                </a:cubicBezTo>
                <a:cubicBezTo>
                  <a:pt x="1050" y="5953"/>
                  <a:pt x="1059" y="5953"/>
                  <a:pt x="1067" y="5953"/>
                </a:cubicBezTo>
                <a:cubicBezTo>
                  <a:pt x="1057" y="6026"/>
                  <a:pt x="1046" y="6047"/>
                  <a:pt x="967" y="6052"/>
                </a:cubicBezTo>
                <a:cubicBezTo>
                  <a:pt x="951" y="6052"/>
                  <a:pt x="934" y="6052"/>
                  <a:pt x="918" y="6052"/>
                </a:cubicBezTo>
              </a:path>
              <a:path w="646" h="1167">
                <a:moveTo>
                  <a:pt x="1166" y="6152"/>
                </a:moveTo>
                <a:cubicBezTo>
                  <a:pt x="1191" y="6160"/>
                  <a:pt x="1215" y="6168"/>
                  <a:pt x="1240" y="6176"/>
                </a:cubicBezTo>
                <a:cubicBezTo>
                  <a:pt x="1163" y="6176"/>
                  <a:pt x="1097" y="6199"/>
                  <a:pt x="1017" y="6201"/>
                </a:cubicBezTo>
                <a:cubicBezTo>
                  <a:pt x="926" y="6201"/>
                  <a:pt x="901" y="6201"/>
                  <a:pt x="843" y="6201"/>
                </a:cubicBezTo>
              </a:path>
              <a:path w="646" h="1167">
                <a:moveTo>
                  <a:pt x="719" y="6474"/>
                </a:moveTo>
                <a:cubicBezTo>
                  <a:pt x="666" y="6433"/>
                  <a:pt x="657" y="6467"/>
                  <a:pt x="645" y="6524"/>
                </a:cubicBezTo>
                <a:cubicBezTo>
                  <a:pt x="629" y="6603"/>
                  <a:pt x="647" y="6662"/>
                  <a:pt x="695" y="6722"/>
                </a:cubicBezTo>
                <a:cubicBezTo>
                  <a:pt x="695" y="6610"/>
                  <a:pt x="701" y="6507"/>
                  <a:pt x="670" y="6400"/>
                </a:cubicBezTo>
                <a:cubicBezTo>
                  <a:pt x="651" y="6342"/>
                  <a:pt x="642" y="6335"/>
                  <a:pt x="645" y="6300"/>
                </a:cubicBezTo>
                <a:cubicBezTo>
                  <a:pt x="655" y="6382"/>
                  <a:pt x="677" y="6473"/>
                  <a:pt x="719" y="6548"/>
                </a:cubicBezTo>
                <a:cubicBezTo>
                  <a:pt x="759" y="6608"/>
                  <a:pt x="763" y="6620"/>
                  <a:pt x="794" y="6648"/>
                </a:cubicBezTo>
              </a:path>
              <a:path w="646" h="1167">
                <a:moveTo>
                  <a:pt x="819" y="6623"/>
                </a:moveTo>
                <a:cubicBezTo>
                  <a:pt x="836" y="6563"/>
                  <a:pt x="843" y="6552"/>
                  <a:pt x="843" y="6499"/>
                </a:cubicBezTo>
                <a:cubicBezTo>
                  <a:pt x="871" y="6508"/>
                  <a:pt x="886" y="6555"/>
                  <a:pt x="868" y="6598"/>
                </a:cubicBezTo>
                <a:cubicBezTo>
                  <a:pt x="840" y="6626"/>
                  <a:pt x="831" y="6639"/>
                  <a:pt x="843" y="6672"/>
                </a:cubicBezTo>
              </a:path>
              <a:path w="646" h="1167">
                <a:moveTo>
                  <a:pt x="819" y="6623"/>
                </a:moveTo>
                <a:cubicBezTo>
                  <a:pt x="933" y="6562"/>
                  <a:pt x="965" y="6551"/>
                  <a:pt x="1042" y="6474"/>
                </a:cubicBezTo>
                <a:cubicBezTo>
                  <a:pt x="1042" y="6525"/>
                  <a:pt x="1044" y="6531"/>
                  <a:pt x="1067" y="6573"/>
                </a:cubicBezTo>
                <a:cubicBezTo>
                  <a:pt x="1087" y="6614"/>
                  <a:pt x="1084" y="6631"/>
                  <a:pt x="1116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1960" y="1990800"/>
            <a:ext cx="206280" cy="250920"/>
          </a:xfrm>
          <a:custGeom>
            <a:avLst/>
            <a:gdLst/>
            <a:ahLst/>
            <a:rect l="l" t="t" r="r" b="b"/>
            <a:pathLst>
              <a:path w="571" h="696">
                <a:moveTo>
                  <a:pt x="1860" y="5581"/>
                </a:moveTo>
                <a:cubicBezTo>
                  <a:pt x="1852" y="5564"/>
                  <a:pt x="1844" y="5548"/>
                  <a:pt x="1836" y="5531"/>
                </a:cubicBezTo>
                <a:cubicBezTo>
                  <a:pt x="1846" y="5612"/>
                  <a:pt x="1883" y="5676"/>
                  <a:pt x="1910" y="5755"/>
                </a:cubicBezTo>
                <a:cubicBezTo>
                  <a:pt x="1930" y="5813"/>
                  <a:pt x="1986" y="5908"/>
                  <a:pt x="2059" y="5829"/>
                </a:cubicBezTo>
                <a:cubicBezTo>
                  <a:pt x="2126" y="5757"/>
                  <a:pt x="2107" y="5617"/>
                  <a:pt x="2133" y="5531"/>
                </a:cubicBezTo>
              </a:path>
              <a:path w="571" h="696">
                <a:moveTo>
                  <a:pt x="1662" y="6052"/>
                </a:moveTo>
                <a:cubicBezTo>
                  <a:pt x="1670" y="6052"/>
                  <a:pt x="1679" y="6052"/>
                  <a:pt x="1687" y="6052"/>
                </a:cubicBezTo>
                <a:cubicBezTo>
                  <a:pt x="1640" y="6052"/>
                  <a:pt x="1607" y="6068"/>
                  <a:pt x="1563" y="6077"/>
                </a:cubicBezTo>
              </a:path>
              <a:path w="571" h="696">
                <a:moveTo>
                  <a:pt x="1662" y="6152"/>
                </a:moveTo>
                <a:cubicBezTo>
                  <a:pt x="1735" y="6152"/>
                  <a:pt x="1722" y="6180"/>
                  <a:pt x="1687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65160" y="1847880"/>
            <a:ext cx="293760" cy="403200"/>
          </a:xfrm>
          <a:custGeom>
            <a:avLst/>
            <a:gdLst/>
            <a:ahLst/>
            <a:rect l="l" t="t" r="r" b="b"/>
            <a:pathLst>
              <a:path w="819" h="1117">
                <a:moveTo>
                  <a:pt x="2679" y="5507"/>
                </a:moveTo>
                <a:cubicBezTo>
                  <a:pt x="2740" y="5498"/>
                  <a:pt x="2752" y="5474"/>
                  <a:pt x="2803" y="5457"/>
                </a:cubicBezTo>
                <a:cubicBezTo>
                  <a:pt x="2841" y="5444"/>
                  <a:pt x="2828" y="5428"/>
                  <a:pt x="2828" y="5383"/>
                </a:cubicBezTo>
                <a:cubicBezTo>
                  <a:pt x="2780" y="5407"/>
                  <a:pt x="2741" y="5468"/>
                  <a:pt x="2729" y="5531"/>
                </a:cubicBezTo>
                <a:cubicBezTo>
                  <a:pt x="2718" y="5588"/>
                  <a:pt x="2746" y="5616"/>
                  <a:pt x="2778" y="5655"/>
                </a:cubicBezTo>
                <a:cubicBezTo>
                  <a:pt x="2868" y="5630"/>
                  <a:pt x="2890" y="5536"/>
                  <a:pt x="2902" y="5432"/>
                </a:cubicBezTo>
                <a:cubicBezTo>
                  <a:pt x="2913" y="5336"/>
                  <a:pt x="2902" y="5232"/>
                  <a:pt x="2902" y="5135"/>
                </a:cubicBezTo>
                <a:cubicBezTo>
                  <a:pt x="2867" y="5191"/>
                  <a:pt x="2864" y="5287"/>
                  <a:pt x="2877" y="5358"/>
                </a:cubicBezTo>
                <a:cubicBezTo>
                  <a:pt x="2891" y="5436"/>
                  <a:pt x="2925" y="5522"/>
                  <a:pt x="2977" y="5581"/>
                </a:cubicBezTo>
                <a:cubicBezTo>
                  <a:pt x="2985" y="5589"/>
                  <a:pt x="2993" y="5598"/>
                  <a:pt x="3001" y="5606"/>
                </a:cubicBezTo>
              </a:path>
              <a:path w="819" h="1117">
                <a:moveTo>
                  <a:pt x="3101" y="5432"/>
                </a:moveTo>
                <a:cubicBezTo>
                  <a:pt x="3101" y="5380"/>
                  <a:pt x="3131" y="5482"/>
                  <a:pt x="3150" y="5507"/>
                </a:cubicBezTo>
                <a:cubicBezTo>
                  <a:pt x="3178" y="5544"/>
                  <a:pt x="3214" y="5582"/>
                  <a:pt x="3249" y="5531"/>
                </a:cubicBezTo>
                <a:cubicBezTo>
                  <a:pt x="3284" y="5480"/>
                  <a:pt x="3290" y="5428"/>
                  <a:pt x="3349" y="5482"/>
                </a:cubicBezTo>
                <a:cubicBezTo>
                  <a:pt x="3386" y="5515"/>
                  <a:pt x="3403" y="5531"/>
                  <a:pt x="3448" y="5556"/>
                </a:cubicBezTo>
              </a:path>
              <a:path w="819" h="1117">
                <a:moveTo>
                  <a:pt x="3497" y="5631"/>
                </a:moveTo>
                <a:cubicBezTo>
                  <a:pt x="3481" y="5679"/>
                  <a:pt x="3434" y="5678"/>
                  <a:pt x="3373" y="5680"/>
                </a:cubicBezTo>
                <a:cubicBezTo>
                  <a:pt x="3244" y="5684"/>
                  <a:pt x="3128" y="5690"/>
                  <a:pt x="3001" y="5705"/>
                </a:cubicBezTo>
                <a:cubicBezTo>
                  <a:pt x="2935" y="5713"/>
                  <a:pt x="2885" y="5713"/>
                  <a:pt x="2828" y="5730"/>
                </a:cubicBezTo>
                <a:cubicBezTo>
                  <a:pt x="2795" y="5730"/>
                  <a:pt x="2778" y="5730"/>
                  <a:pt x="2753" y="5730"/>
                </a:cubicBezTo>
              </a:path>
              <a:path w="819" h="1117">
                <a:moveTo>
                  <a:pt x="2853" y="6028"/>
                </a:moveTo>
                <a:cubicBezTo>
                  <a:pt x="2829" y="6069"/>
                  <a:pt x="2751" y="6148"/>
                  <a:pt x="2778" y="6201"/>
                </a:cubicBezTo>
                <a:cubicBezTo>
                  <a:pt x="2818" y="6280"/>
                  <a:pt x="2952" y="6260"/>
                  <a:pt x="2977" y="6176"/>
                </a:cubicBezTo>
                <a:cubicBezTo>
                  <a:pt x="3004" y="6084"/>
                  <a:pt x="2985" y="5918"/>
                  <a:pt x="2952" y="5829"/>
                </a:cubicBezTo>
                <a:cubicBezTo>
                  <a:pt x="2944" y="5812"/>
                  <a:pt x="2935" y="5796"/>
                  <a:pt x="2927" y="5779"/>
                </a:cubicBezTo>
                <a:cubicBezTo>
                  <a:pt x="2927" y="5882"/>
                  <a:pt x="2945" y="5954"/>
                  <a:pt x="2977" y="6052"/>
                </a:cubicBezTo>
                <a:cubicBezTo>
                  <a:pt x="2997" y="6113"/>
                  <a:pt x="2994" y="6128"/>
                  <a:pt x="3026" y="6152"/>
                </a:cubicBezTo>
              </a:path>
              <a:path w="819" h="1117">
                <a:moveTo>
                  <a:pt x="3125" y="6077"/>
                </a:moveTo>
                <a:cubicBezTo>
                  <a:pt x="3187" y="6025"/>
                  <a:pt x="3178" y="6028"/>
                  <a:pt x="3249" y="6028"/>
                </a:cubicBezTo>
                <a:cubicBezTo>
                  <a:pt x="3249" y="6073"/>
                  <a:pt x="3255" y="6092"/>
                  <a:pt x="3225" y="6127"/>
                </a:cubicBezTo>
                <a:cubicBezTo>
                  <a:pt x="3198" y="6157"/>
                  <a:pt x="3186" y="6167"/>
                  <a:pt x="3150" y="6176"/>
                </a:cubicBezTo>
              </a:path>
              <a:path w="819" h="1117">
                <a:moveTo>
                  <a:pt x="3324" y="6028"/>
                </a:moveTo>
                <a:cubicBezTo>
                  <a:pt x="3324" y="6011"/>
                  <a:pt x="3324" y="5995"/>
                  <a:pt x="3324" y="5978"/>
                </a:cubicBezTo>
                <a:cubicBezTo>
                  <a:pt x="3274" y="6028"/>
                  <a:pt x="3229" y="6072"/>
                  <a:pt x="3249" y="6152"/>
                </a:cubicBezTo>
                <a:cubicBezTo>
                  <a:pt x="3270" y="6235"/>
                  <a:pt x="3379" y="6188"/>
                  <a:pt x="3423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6120" y="2089080"/>
            <a:ext cx="63720" cy="19080"/>
          </a:xfrm>
          <a:custGeom>
            <a:avLst/>
            <a:gdLst/>
            <a:ahLst/>
            <a:rect l="l" t="t" r="r" b="b"/>
            <a:pathLst>
              <a:path w="175" h="51">
                <a:moveTo>
                  <a:pt x="4018" y="5854"/>
                </a:moveTo>
                <a:cubicBezTo>
                  <a:pt x="4070" y="5815"/>
                  <a:pt x="4081" y="5847"/>
                  <a:pt x="4142" y="5829"/>
                </a:cubicBezTo>
                <a:cubicBezTo>
                  <a:pt x="4159" y="5821"/>
                  <a:pt x="4175" y="5812"/>
                  <a:pt x="4192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58960" y="2009880"/>
            <a:ext cx="125280" cy="1062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4936" y="5705"/>
                </a:moveTo>
                <a:cubicBezTo>
                  <a:pt x="4936" y="5654"/>
                  <a:pt x="4925" y="5647"/>
                  <a:pt x="4911" y="5606"/>
                </a:cubicBezTo>
                <a:cubicBezTo>
                  <a:pt x="4911" y="5581"/>
                  <a:pt x="4911" y="5573"/>
                  <a:pt x="4887" y="5581"/>
                </a:cubicBezTo>
                <a:cubicBezTo>
                  <a:pt x="4887" y="5660"/>
                  <a:pt x="4880" y="5730"/>
                  <a:pt x="4911" y="5804"/>
                </a:cubicBezTo>
                <a:cubicBezTo>
                  <a:pt x="4943" y="5880"/>
                  <a:pt x="5003" y="5896"/>
                  <a:pt x="5060" y="5829"/>
                </a:cubicBezTo>
                <a:cubicBezTo>
                  <a:pt x="5104" y="5777"/>
                  <a:pt x="5085" y="5694"/>
                  <a:pt x="5085" y="5631"/>
                </a:cubicBezTo>
                <a:cubicBezTo>
                  <a:pt x="5126" y="5651"/>
                  <a:pt x="5168" y="5715"/>
                  <a:pt x="5209" y="5755"/>
                </a:cubicBezTo>
                <a:cubicBezTo>
                  <a:pt x="5217" y="5763"/>
                  <a:pt x="5226" y="5771"/>
                  <a:pt x="5234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17800" y="1820880"/>
            <a:ext cx="295200" cy="385920"/>
          </a:xfrm>
          <a:custGeom>
            <a:avLst/>
            <a:gdLst/>
            <a:ahLst/>
            <a:rect l="l" t="t" r="r" b="b"/>
            <a:pathLst>
              <a:path w="819" h="1068">
                <a:moveTo>
                  <a:pt x="5730" y="5432"/>
                </a:moveTo>
                <a:cubicBezTo>
                  <a:pt x="5713" y="5332"/>
                  <a:pt x="5674" y="5405"/>
                  <a:pt x="5631" y="5457"/>
                </a:cubicBezTo>
                <a:cubicBezTo>
                  <a:pt x="5593" y="5503"/>
                  <a:pt x="5622" y="5514"/>
                  <a:pt x="5655" y="5556"/>
                </a:cubicBezTo>
                <a:cubicBezTo>
                  <a:pt x="5758" y="5531"/>
                  <a:pt x="5788" y="5473"/>
                  <a:pt x="5804" y="5358"/>
                </a:cubicBezTo>
                <a:cubicBezTo>
                  <a:pt x="5817" y="5262"/>
                  <a:pt x="5804" y="5157"/>
                  <a:pt x="5804" y="5060"/>
                </a:cubicBezTo>
                <a:cubicBezTo>
                  <a:pt x="5804" y="5141"/>
                  <a:pt x="5806" y="5204"/>
                  <a:pt x="5829" y="5283"/>
                </a:cubicBezTo>
                <a:cubicBezTo>
                  <a:pt x="5857" y="5375"/>
                  <a:pt x="5883" y="5448"/>
                  <a:pt x="5904" y="5531"/>
                </a:cubicBezTo>
              </a:path>
              <a:path w="819" h="1068">
                <a:moveTo>
                  <a:pt x="6003" y="5482"/>
                </a:moveTo>
                <a:cubicBezTo>
                  <a:pt x="6030" y="5502"/>
                  <a:pt x="6071" y="5542"/>
                  <a:pt x="6102" y="5556"/>
                </a:cubicBezTo>
                <a:cubicBezTo>
                  <a:pt x="6110" y="5556"/>
                  <a:pt x="6119" y="5556"/>
                  <a:pt x="6127" y="5556"/>
                </a:cubicBezTo>
                <a:cubicBezTo>
                  <a:pt x="6167" y="5487"/>
                  <a:pt x="6197" y="5441"/>
                  <a:pt x="6201" y="5358"/>
                </a:cubicBezTo>
                <a:cubicBezTo>
                  <a:pt x="6201" y="5341"/>
                  <a:pt x="6201" y="5325"/>
                  <a:pt x="6201" y="5308"/>
                </a:cubicBezTo>
              </a:path>
              <a:path w="819" h="1068">
                <a:moveTo>
                  <a:pt x="6300" y="5680"/>
                </a:moveTo>
                <a:cubicBezTo>
                  <a:pt x="6300" y="5655"/>
                  <a:pt x="6300" y="5647"/>
                  <a:pt x="6300" y="5631"/>
                </a:cubicBezTo>
                <a:cubicBezTo>
                  <a:pt x="6223" y="5646"/>
                  <a:pt x="6160" y="5655"/>
                  <a:pt x="6077" y="5655"/>
                </a:cubicBezTo>
                <a:cubicBezTo>
                  <a:pt x="5982" y="5655"/>
                  <a:pt x="5805" y="5620"/>
                  <a:pt x="5730" y="5680"/>
                </a:cubicBezTo>
                <a:cubicBezTo>
                  <a:pt x="5707" y="5703"/>
                  <a:pt x="5703" y="5711"/>
                  <a:pt x="5680" y="5705"/>
                </a:cubicBezTo>
              </a:path>
              <a:path w="819" h="1068">
                <a:moveTo>
                  <a:pt x="5879" y="5854"/>
                </a:moveTo>
                <a:cubicBezTo>
                  <a:pt x="5815" y="5854"/>
                  <a:pt x="5810" y="5869"/>
                  <a:pt x="5779" y="5928"/>
                </a:cubicBezTo>
                <a:cubicBezTo>
                  <a:pt x="5741" y="6001"/>
                  <a:pt x="5753" y="6054"/>
                  <a:pt x="5779" y="6127"/>
                </a:cubicBezTo>
                <a:cubicBezTo>
                  <a:pt x="5874" y="6108"/>
                  <a:pt x="5876" y="6071"/>
                  <a:pt x="5879" y="5978"/>
                </a:cubicBezTo>
                <a:cubicBezTo>
                  <a:pt x="5883" y="5854"/>
                  <a:pt x="5863" y="5790"/>
                  <a:pt x="5829" y="5680"/>
                </a:cubicBezTo>
                <a:cubicBezTo>
                  <a:pt x="5829" y="5672"/>
                  <a:pt x="5829" y="5663"/>
                  <a:pt x="5829" y="5655"/>
                </a:cubicBezTo>
                <a:cubicBezTo>
                  <a:pt x="5829" y="5743"/>
                  <a:pt x="5832" y="5845"/>
                  <a:pt x="5854" y="5928"/>
                </a:cubicBezTo>
                <a:cubicBezTo>
                  <a:pt x="5879" y="5978"/>
                  <a:pt x="5887" y="5995"/>
                  <a:pt x="5904" y="6028"/>
                </a:cubicBezTo>
              </a:path>
              <a:path w="819" h="1068">
                <a:moveTo>
                  <a:pt x="5978" y="6028"/>
                </a:moveTo>
                <a:cubicBezTo>
                  <a:pt x="6007" y="5984"/>
                  <a:pt x="6048" y="5950"/>
                  <a:pt x="6102" y="5928"/>
                </a:cubicBezTo>
                <a:cubicBezTo>
                  <a:pt x="6110" y="5928"/>
                  <a:pt x="6119" y="5928"/>
                  <a:pt x="6127" y="5928"/>
                </a:cubicBezTo>
                <a:cubicBezTo>
                  <a:pt x="6127" y="5979"/>
                  <a:pt x="6135" y="6012"/>
                  <a:pt x="6102" y="6052"/>
                </a:cubicBezTo>
                <a:cubicBezTo>
                  <a:pt x="6080" y="6079"/>
                  <a:pt x="6052" y="6102"/>
                  <a:pt x="6028" y="6127"/>
                </a:cubicBezTo>
              </a:path>
              <a:path w="819" h="1068">
                <a:moveTo>
                  <a:pt x="6176" y="6003"/>
                </a:moveTo>
                <a:cubicBezTo>
                  <a:pt x="6201" y="5978"/>
                  <a:pt x="6226" y="5953"/>
                  <a:pt x="6251" y="5928"/>
                </a:cubicBezTo>
                <a:cubicBezTo>
                  <a:pt x="6251" y="5986"/>
                  <a:pt x="6243" y="6027"/>
                  <a:pt x="6276" y="6077"/>
                </a:cubicBezTo>
                <a:cubicBezTo>
                  <a:pt x="6312" y="6131"/>
                  <a:pt x="6368" y="6127"/>
                  <a:pt x="6424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85880" y="2259000"/>
            <a:ext cx="1544400" cy="357120"/>
          </a:xfrm>
          <a:custGeom>
            <a:avLst/>
            <a:gdLst/>
            <a:ahLst/>
            <a:rect l="l" t="t" r="r" b="b"/>
            <a:pathLst>
              <a:path w="4292" h="993">
                <a:moveTo>
                  <a:pt x="6474" y="6300"/>
                </a:moveTo>
                <a:cubicBezTo>
                  <a:pt x="6402" y="6284"/>
                  <a:pt x="6351" y="6267"/>
                  <a:pt x="6276" y="6276"/>
                </a:cubicBezTo>
                <a:cubicBezTo>
                  <a:pt x="6203" y="6284"/>
                  <a:pt x="6132" y="6298"/>
                  <a:pt x="6052" y="6300"/>
                </a:cubicBezTo>
                <a:cubicBezTo>
                  <a:pt x="5942" y="6303"/>
                  <a:pt x="5841" y="6325"/>
                  <a:pt x="5730" y="6325"/>
                </a:cubicBezTo>
                <a:cubicBezTo>
                  <a:pt x="5621" y="6325"/>
                  <a:pt x="5519" y="6350"/>
                  <a:pt x="5407" y="6350"/>
                </a:cubicBezTo>
                <a:cubicBezTo>
                  <a:pt x="5308" y="6350"/>
                  <a:pt x="5227" y="6356"/>
                  <a:pt x="5135" y="6375"/>
                </a:cubicBezTo>
                <a:cubicBezTo>
                  <a:pt x="5068" y="6389"/>
                  <a:pt x="5004" y="6389"/>
                  <a:pt x="4936" y="6400"/>
                </a:cubicBezTo>
                <a:cubicBezTo>
                  <a:pt x="4884" y="6408"/>
                  <a:pt x="4797" y="6444"/>
                  <a:pt x="4738" y="6449"/>
                </a:cubicBezTo>
                <a:cubicBezTo>
                  <a:pt x="4667" y="6455"/>
                  <a:pt x="4608" y="6468"/>
                  <a:pt x="4539" y="6474"/>
                </a:cubicBezTo>
                <a:cubicBezTo>
                  <a:pt x="4286" y="6495"/>
                  <a:pt x="4017" y="6481"/>
                  <a:pt x="3770" y="6499"/>
                </a:cubicBezTo>
                <a:cubicBezTo>
                  <a:pt x="3687" y="6505"/>
                  <a:pt x="3602" y="6518"/>
                  <a:pt x="3522" y="6524"/>
                </a:cubicBezTo>
                <a:cubicBezTo>
                  <a:pt x="3437" y="6531"/>
                  <a:pt x="3356" y="6540"/>
                  <a:pt x="3274" y="6548"/>
                </a:cubicBezTo>
                <a:cubicBezTo>
                  <a:pt x="2989" y="6577"/>
                  <a:pt x="2685" y="6549"/>
                  <a:pt x="2406" y="6573"/>
                </a:cubicBezTo>
                <a:cubicBezTo>
                  <a:pt x="2340" y="6579"/>
                  <a:pt x="2290" y="6578"/>
                  <a:pt x="2232" y="6598"/>
                </a:cubicBezTo>
                <a:cubicBezTo>
                  <a:pt x="2210" y="6621"/>
                  <a:pt x="2205" y="6629"/>
                  <a:pt x="2183" y="6623"/>
                </a:cubicBezTo>
              </a:path>
              <a:path w="4292" h="993">
                <a:moveTo>
                  <a:pt x="3845" y="7069"/>
                </a:moveTo>
                <a:cubicBezTo>
                  <a:pt x="3845" y="7045"/>
                  <a:pt x="3845" y="7036"/>
                  <a:pt x="3845" y="7020"/>
                </a:cubicBezTo>
                <a:cubicBezTo>
                  <a:pt x="3857" y="7101"/>
                  <a:pt x="3897" y="7123"/>
                  <a:pt x="3944" y="7193"/>
                </a:cubicBezTo>
                <a:cubicBezTo>
                  <a:pt x="3980" y="7247"/>
                  <a:pt x="3979" y="7255"/>
                  <a:pt x="4043" y="7268"/>
                </a:cubicBezTo>
                <a:cubicBezTo>
                  <a:pt x="4095" y="7190"/>
                  <a:pt x="4114" y="7115"/>
                  <a:pt x="4118" y="7020"/>
                </a:cubicBezTo>
                <a:cubicBezTo>
                  <a:pt x="4120" y="6962"/>
                  <a:pt x="4118" y="6904"/>
                  <a:pt x="4118" y="6846"/>
                </a:cubicBezTo>
              </a:path>
              <a:path w="4292" h="993">
                <a:moveTo>
                  <a:pt x="4266" y="6796"/>
                </a:moveTo>
                <a:cubicBezTo>
                  <a:pt x="4266" y="6737"/>
                  <a:pt x="4275" y="6759"/>
                  <a:pt x="4316" y="6722"/>
                </a:cubicBezTo>
                <a:cubicBezTo>
                  <a:pt x="4337" y="6703"/>
                  <a:pt x="4399" y="6668"/>
                  <a:pt x="4415" y="6722"/>
                </a:cubicBezTo>
                <a:cubicBezTo>
                  <a:pt x="4435" y="6786"/>
                  <a:pt x="4404" y="6840"/>
                  <a:pt x="4390" y="6896"/>
                </a:cubicBezTo>
                <a:cubicBezTo>
                  <a:pt x="4373" y="6963"/>
                  <a:pt x="4449" y="6906"/>
                  <a:pt x="4465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6040" y="3089160"/>
            <a:ext cx="117360" cy="73080"/>
          </a:xfrm>
          <a:custGeom>
            <a:avLst/>
            <a:gdLst/>
            <a:ahLst/>
            <a:rect l="l" t="t" r="r" b="b"/>
            <a:pathLst>
              <a:path w="324" h="200">
                <a:moveTo>
                  <a:pt x="1463" y="8582"/>
                </a:moveTo>
                <a:cubicBezTo>
                  <a:pt x="1488" y="8582"/>
                  <a:pt x="1496" y="8582"/>
                  <a:pt x="1513" y="8582"/>
                </a:cubicBezTo>
                <a:cubicBezTo>
                  <a:pt x="1422" y="8582"/>
                  <a:pt x="1331" y="8582"/>
                  <a:pt x="1240" y="8582"/>
                </a:cubicBezTo>
              </a:path>
              <a:path w="324" h="200">
                <a:moveTo>
                  <a:pt x="1488" y="8657"/>
                </a:moveTo>
                <a:cubicBezTo>
                  <a:pt x="1527" y="8695"/>
                  <a:pt x="1529" y="8712"/>
                  <a:pt x="1563" y="8706"/>
                </a:cubicBezTo>
                <a:cubicBezTo>
                  <a:pt x="1550" y="8745"/>
                  <a:pt x="1523" y="8732"/>
                  <a:pt x="1488" y="8756"/>
                </a:cubicBezTo>
                <a:cubicBezTo>
                  <a:pt x="1480" y="8764"/>
                  <a:pt x="1471" y="8773"/>
                  <a:pt x="1463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47800" y="3062160"/>
            <a:ext cx="28440" cy="223920"/>
          </a:xfrm>
          <a:custGeom>
            <a:avLst/>
            <a:gdLst/>
            <a:ahLst/>
            <a:rect l="l" t="t" r="r" b="b"/>
            <a:pathLst>
              <a:path w="76" h="621">
                <a:moveTo>
                  <a:pt x="2356" y="8533"/>
                </a:moveTo>
                <a:cubicBezTo>
                  <a:pt x="2356" y="8466"/>
                  <a:pt x="2356" y="8570"/>
                  <a:pt x="2356" y="8582"/>
                </a:cubicBezTo>
                <a:cubicBezTo>
                  <a:pt x="2356" y="8670"/>
                  <a:pt x="2366" y="8790"/>
                  <a:pt x="2381" y="8880"/>
                </a:cubicBezTo>
                <a:cubicBezTo>
                  <a:pt x="2396" y="8971"/>
                  <a:pt x="2431" y="9033"/>
                  <a:pt x="2431" y="9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97000" y="3178080"/>
            <a:ext cx="160200" cy="46080"/>
          </a:xfrm>
          <a:custGeom>
            <a:avLst/>
            <a:gdLst/>
            <a:ahLst/>
            <a:rect l="l" t="t" r="r" b="b"/>
            <a:pathLst>
              <a:path w="447" h="125">
                <a:moveTo>
                  <a:pt x="3324" y="8905"/>
                </a:moveTo>
                <a:cubicBezTo>
                  <a:pt x="3324" y="8930"/>
                  <a:pt x="3324" y="8938"/>
                  <a:pt x="3324" y="8954"/>
                </a:cubicBezTo>
                <a:cubicBezTo>
                  <a:pt x="3384" y="8954"/>
                  <a:pt x="3390" y="8924"/>
                  <a:pt x="3448" y="8905"/>
                </a:cubicBezTo>
                <a:cubicBezTo>
                  <a:pt x="3511" y="8884"/>
                  <a:pt x="3584" y="8899"/>
                  <a:pt x="3646" y="8880"/>
                </a:cubicBezTo>
                <a:cubicBezTo>
                  <a:pt x="3688" y="8867"/>
                  <a:pt x="3753" y="8856"/>
                  <a:pt x="3770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04960" y="3017880"/>
            <a:ext cx="590400" cy="268200"/>
          </a:xfrm>
          <a:custGeom>
            <a:avLst/>
            <a:gdLst/>
            <a:ahLst/>
            <a:rect l="l" t="t" r="r" b="b"/>
            <a:pathLst>
              <a:path w="1638" h="745">
                <a:moveTo>
                  <a:pt x="4762" y="9054"/>
                </a:moveTo>
                <a:cubicBezTo>
                  <a:pt x="4762" y="9107"/>
                  <a:pt x="4750" y="9090"/>
                  <a:pt x="4738" y="9128"/>
                </a:cubicBezTo>
                <a:cubicBezTo>
                  <a:pt x="4771" y="9117"/>
                  <a:pt x="4789" y="9073"/>
                  <a:pt x="4812" y="9029"/>
                </a:cubicBezTo>
                <a:cubicBezTo>
                  <a:pt x="4861" y="8936"/>
                  <a:pt x="4903" y="8855"/>
                  <a:pt x="4936" y="8756"/>
                </a:cubicBezTo>
                <a:cubicBezTo>
                  <a:pt x="4969" y="8658"/>
                  <a:pt x="4986" y="8586"/>
                  <a:pt x="4986" y="8483"/>
                </a:cubicBezTo>
                <a:cubicBezTo>
                  <a:pt x="4986" y="8432"/>
                  <a:pt x="4985" y="8413"/>
                  <a:pt x="4961" y="8384"/>
                </a:cubicBezTo>
                <a:cubicBezTo>
                  <a:pt x="4908" y="8384"/>
                  <a:pt x="4885" y="8408"/>
                  <a:pt x="4862" y="8458"/>
                </a:cubicBezTo>
                <a:cubicBezTo>
                  <a:pt x="4830" y="8528"/>
                  <a:pt x="4815" y="8630"/>
                  <a:pt x="4812" y="8706"/>
                </a:cubicBezTo>
                <a:cubicBezTo>
                  <a:pt x="4808" y="8792"/>
                  <a:pt x="4804" y="8875"/>
                  <a:pt x="4837" y="8954"/>
                </a:cubicBezTo>
                <a:cubicBezTo>
                  <a:pt x="4855" y="8995"/>
                  <a:pt x="4893" y="9106"/>
                  <a:pt x="4961" y="9079"/>
                </a:cubicBezTo>
                <a:cubicBezTo>
                  <a:pt x="5024" y="9054"/>
                  <a:pt x="5070" y="8931"/>
                  <a:pt x="5110" y="8905"/>
                </a:cubicBezTo>
                <a:cubicBezTo>
                  <a:pt x="5118" y="8905"/>
                  <a:pt x="5127" y="8905"/>
                  <a:pt x="5135" y="8905"/>
                </a:cubicBezTo>
                <a:cubicBezTo>
                  <a:pt x="5175" y="8919"/>
                  <a:pt x="5178" y="8984"/>
                  <a:pt x="5209" y="9029"/>
                </a:cubicBezTo>
                <a:cubicBezTo>
                  <a:pt x="5232" y="9052"/>
                  <a:pt x="5240" y="9056"/>
                  <a:pt x="5234" y="9079"/>
                </a:cubicBezTo>
                <a:cubicBezTo>
                  <a:pt x="5283" y="9054"/>
                  <a:pt x="5296" y="9003"/>
                  <a:pt x="5333" y="8954"/>
                </a:cubicBezTo>
                <a:cubicBezTo>
                  <a:pt x="5369" y="8907"/>
                  <a:pt x="5388" y="8892"/>
                  <a:pt x="5432" y="8930"/>
                </a:cubicBezTo>
                <a:cubicBezTo>
                  <a:pt x="5464" y="8958"/>
                  <a:pt x="5481" y="8996"/>
                  <a:pt x="5507" y="9029"/>
                </a:cubicBezTo>
              </a:path>
              <a:path w="1638" h="745">
                <a:moveTo>
                  <a:pt x="5804" y="8781"/>
                </a:moveTo>
                <a:cubicBezTo>
                  <a:pt x="5804" y="8734"/>
                  <a:pt x="5803" y="8809"/>
                  <a:pt x="5829" y="8731"/>
                </a:cubicBezTo>
                <a:cubicBezTo>
                  <a:pt x="5844" y="8685"/>
                  <a:pt x="5869" y="8663"/>
                  <a:pt x="5928" y="8682"/>
                </a:cubicBezTo>
                <a:cubicBezTo>
                  <a:pt x="6005" y="8707"/>
                  <a:pt x="6024" y="8808"/>
                  <a:pt x="6028" y="8880"/>
                </a:cubicBezTo>
                <a:cubicBezTo>
                  <a:pt x="6033" y="8962"/>
                  <a:pt x="6004" y="8999"/>
                  <a:pt x="5928" y="9004"/>
                </a:cubicBezTo>
                <a:cubicBezTo>
                  <a:pt x="5871" y="9007"/>
                  <a:pt x="5869" y="9009"/>
                  <a:pt x="5829" y="8979"/>
                </a:cubicBezTo>
              </a:path>
              <a:path w="1638" h="745">
                <a:moveTo>
                  <a:pt x="6152" y="8607"/>
                </a:moveTo>
                <a:cubicBezTo>
                  <a:pt x="6152" y="8591"/>
                  <a:pt x="6152" y="8574"/>
                  <a:pt x="6152" y="8558"/>
                </a:cubicBezTo>
                <a:cubicBezTo>
                  <a:pt x="6109" y="8599"/>
                  <a:pt x="6085" y="8646"/>
                  <a:pt x="6077" y="8706"/>
                </a:cubicBezTo>
                <a:cubicBezTo>
                  <a:pt x="6062" y="8817"/>
                  <a:pt x="6109" y="8880"/>
                  <a:pt x="6201" y="8930"/>
                </a:cubicBezTo>
                <a:cubicBezTo>
                  <a:pt x="6259" y="8962"/>
                  <a:pt x="6311" y="8954"/>
                  <a:pt x="6375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8880" y="3286080"/>
            <a:ext cx="1563480" cy="88920"/>
          </a:xfrm>
          <a:custGeom>
            <a:avLst/>
            <a:gdLst/>
            <a:ahLst/>
            <a:rect l="l" t="t" r="r" b="b"/>
            <a:pathLst>
              <a:path w="4342" h="249">
                <a:moveTo>
                  <a:pt x="6449" y="9128"/>
                </a:moveTo>
                <a:cubicBezTo>
                  <a:pt x="6394" y="9132"/>
                  <a:pt x="6372" y="9148"/>
                  <a:pt x="6325" y="9153"/>
                </a:cubicBezTo>
                <a:cubicBezTo>
                  <a:pt x="6257" y="9161"/>
                  <a:pt x="6218" y="9154"/>
                  <a:pt x="6152" y="9178"/>
                </a:cubicBezTo>
                <a:cubicBezTo>
                  <a:pt x="6092" y="9200"/>
                  <a:pt x="6039" y="9234"/>
                  <a:pt x="5978" y="9252"/>
                </a:cubicBezTo>
                <a:cubicBezTo>
                  <a:pt x="5906" y="9274"/>
                  <a:pt x="5853" y="9266"/>
                  <a:pt x="5779" y="9277"/>
                </a:cubicBezTo>
                <a:cubicBezTo>
                  <a:pt x="5706" y="9288"/>
                  <a:pt x="5629" y="9289"/>
                  <a:pt x="5556" y="9302"/>
                </a:cubicBezTo>
                <a:cubicBezTo>
                  <a:pt x="5473" y="9316"/>
                  <a:pt x="5460" y="9307"/>
                  <a:pt x="5383" y="9302"/>
                </a:cubicBezTo>
                <a:cubicBezTo>
                  <a:pt x="5255" y="9294"/>
                  <a:pt x="5130" y="9317"/>
                  <a:pt x="5011" y="9327"/>
                </a:cubicBezTo>
                <a:cubicBezTo>
                  <a:pt x="4791" y="9346"/>
                  <a:pt x="4548" y="9332"/>
                  <a:pt x="4341" y="9351"/>
                </a:cubicBezTo>
                <a:cubicBezTo>
                  <a:pt x="4297" y="9355"/>
                  <a:pt x="4250" y="9371"/>
                  <a:pt x="4217" y="9376"/>
                </a:cubicBezTo>
                <a:cubicBezTo>
                  <a:pt x="4128" y="9389"/>
                  <a:pt x="4050" y="9360"/>
                  <a:pt x="3969" y="9351"/>
                </a:cubicBezTo>
                <a:cubicBezTo>
                  <a:pt x="3749" y="9326"/>
                  <a:pt x="3515" y="9349"/>
                  <a:pt x="3299" y="9327"/>
                </a:cubicBezTo>
                <a:cubicBezTo>
                  <a:pt x="2936" y="9289"/>
                  <a:pt x="2450" y="9285"/>
                  <a:pt x="2108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03200" y="3527280"/>
            <a:ext cx="223920" cy="169920"/>
          </a:xfrm>
          <a:custGeom>
            <a:avLst/>
            <a:gdLst/>
            <a:ahLst/>
            <a:rect l="l" t="t" r="r" b="b"/>
            <a:pathLst>
              <a:path w="622" h="472">
                <a:moveTo>
                  <a:pt x="3671" y="10046"/>
                </a:moveTo>
                <a:cubicBezTo>
                  <a:pt x="3644" y="10037"/>
                  <a:pt x="3632" y="10010"/>
                  <a:pt x="3646" y="9971"/>
                </a:cubicBezTo>
                <a:cubicBezTo>
                  <a:pt x="3672" y="9900"/>
                  <a:pt x="3749" y="9877"/>
                  <a:pt x="3820" y="9897"/>
                </a:cubicBezTo>
                <a:cubicBezTo>
                  <a:pt x="3890" y="9917"/>
                  <a:pt x="3953" y="10030"/>
                  <a:pt x="3969" y="10096"/>
                </a:cubicBezTo>
                <a:cubicBezTo>
                  <a:pt x="3993" y="10194"/>
                  <a:pt x="3911" y="10215"/>
                  <a:pt x="3845" y="10244"/>
                </a:cubicBezTo>
                <a:cubicBezTo>
                  <a:pt x="3799" y="10265"/>
                  <a:pt x="3698" y="10295"/>
                  <a:pt x="3646" y="10269"/>
                </a:cubicBezTo>
                <a:cubicBezTo>
                  <a:pt x="3638" y="10261"/>
                  <a:pt x="3629" y="10252"/>
                  <a:pt x="3621" y="10244"/>
                </a:cubicBezTo>
              </a:path>
              <a:path w="622" h="472">
                <a:moveTo>
                  <a:pt x="3994" y="9897"/>
                </a:moveTo>
                <a:cubicBezTo>
                  <a:pt x="3997" y="9894"/>
                  <a:pt x="4107" y="9770"/>
                  <a:pt x="4068" y="9823"/>
                </a:cubicBezTo>
                <a:cubicBezTo>
                  <a:pt x="4017" y="9893"/>
                  <a:pt x="3997" y="9932"/>
                  <a:pt x="3994" y="10021"/>
                </a:cubicBezTo>
                <a:cubicBezTo>
                  <a:pt x="3991" y="10112"/>
                  <a:pt x="3998" y="10209"/>
                  <a:pt x="4093" y="10220"/>
                </a:cubicBezTo>
                <a:cubicBezTo>
                  <a:pt x="4152" y="10227"/>
                  <a:pt x="4192" y="10195"/>
                  <a:pt x="4242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08120" y="3473280"/>
            <a:ext cx="115920" cy="9864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4490" y="9723"/>
                </a:moveTo>
                <a:cubicBezTo>
                  <a:pt x="4482" y="9723"/>
                  <a:pt x="4473" y="9723"/>
                  <a:pt x="4465" y="9723"/>
                </a:cubicBezTo>
                <a:cubicBezTo>
                  <a:pt x="4480" y="9664"/>
                  <a:pt x="4504" y="9654"/>
                  <a:pt x="4564" y="9649"/>
                </a:cubicBezTo>
                <a:cubicBezTo>
                  <a:pt x="4589" y="9649"/>
                  <a:pt x="4597" y="9649"/>
                  <a:pt x="4614" y="9649"/>
                </a:cubicBezTo>
                <a:cubicBezTo>
                  <a:pt x="4614" y="9702"/>
                  <a:pt x="4606" y="9751"/>
                  <a:pt x="4589" y="9798"/>
                </a:cubicBezTo>
                <a:cubicBezTo>
                  <a:pt x="4576" y="9833"/>
                  <a:pt x="4534" y="9894"/>
                  <a:pt x="4589" y="9922"/>
                </a:cubicBezTo>
                <a:cubicBezTo>
                  <a:pt x="4627" y="9941"/>
                  <a:pt x="4750" y="9864"/>
                  <a:pt x="4787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03800" y="455760"/>
            <a:ext cx="206280" cy="187200"/>
          </a:xfrm>
          <a:custGeom>
            <a:avLst/>
            <a:gdLst/>
            <a:ahLst/>
            <a:rect l="l" t="t" r="r" b="b"/>
            <a:pathLst>
              <a:path w="571" h="522">
                <a:moveTo>
                  <a:pt x="11956" y="1389"/>
                </a:moveTo>
                <a:cubicBezTo>
                  <a:pt x="12008" y="1389"/>
                  <a:pt x="12005" y="1391"/>
                  <a:pt x="12005" y="1339"/>
                </a:cubicBezTo>
                <a:cubicBezTo>
                  <a:pt x="12005" y="1314"/>
                  <a:pt x="12005" y="1290"/>
                  <a:pt x="12005" y="1265"/>
                </a:cubicBezTo>
                <a:cubicBezTo>
                  <a:pt x="11968" y="1317"/>
                  <a:pt x="11981" y="1372"/>
                  <a:pt x="11981" y="1439"/>
                </a:cubicBezTo>
                <a:cubicBezTo>
                  <a:pt x="11981" y="1572"/>
                  <a:pt x="12021" y="1686"/>
                  <a:pt x="12129" y="1761"/>
                </a:cubicBezTo>
                <a:cubicBezTo>
                  <a:pt x="12251" y="1846"/>
                  <a:pt x="12274" y="1665"/>
                  <a:pt x="12278" y="1588"/>
                </a:cubicBezTo>
                <a:cubicBezTo>
                  <a:pt x="12283" y="1506"/>
                  <a:pt x="12269" y="1355"/>
                  <a:pt x="12229" y="1315"/>
                </a:cubicBezTo>
                <a:cubicBezTo>
                  <a:pt x="12243" y="1435"/>
                  <a:pt x="12299" y="1528"/>
                  <a:pt x="12353" y="1637"/>
                </a:cubicBezTo>
                <a:cubicBezTo>
                  <a:pt x="12407" y="1745"/>
                  <a:pt x="12418" y="1762"/>
                  <a:pt x="12526" y="1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87920" y="544680"/>
            <a:ext cx="90360" cy="53640"/>
          </a:xfrm>
          <a:custGeom>
            <a:avLst/>
            <a:gdLst/>
            <a:ahLst/>
            <a:rect l="l" t="t" r="r" b="b"/>
            <a:pathLst>
              <a:path w="250" h="150">
                <a:moveTo>
                  <a:pt x="13271" y="1513"/>
                </a:moveTo>
                <a:cubicBezTo>
                  <a:pt x="13188" y="1513"/>
                  <a:pt x="13105" y="1513"/>
                  <a:pt x="13022" y="1513"/>
                </a:cubicBezTo>
              </a:path>
              <a:path w="250" h="150">
                <a:moveTo>
                  <a:pt x="13196" y="1588"/>
                </a:moveTo>
                <a:cubicBezTo>
                  <a:pt x="13251" y="1588"/>
                  <a:pt x="13214" y="1638"/>
                  <a:pt x="13196" y="16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00760" y="330120"/>
            <a:ext cx="615960" cy="312840"/>
          </a:xfrm>
          <a:custGeom>
            <a:avLst/>
            <a:gdLst/>
            <a:ahLst/>
            <a:rect l="l" t="t" r="r" b="b"/>
            <a:pathLst>
              <a:path w="1712" h="869">
                <a:moveTo>
                  <a:pt x="13891" y="1414"/>
                </a:moveTo>
                <a:cubicBezTo>
                  <a:pt x="13891" y="1488"/>
                  <a:pt x="13891" y="1563"/>
                  <a:pt x="13891" y="1637"/>
                </a:cubicBezTo>
                <a:cubicBezTo>
                  <a:pt x="13965" y="1622"/>
                  <a:pt x="13997" y="1620"/>
                  <a:pt x="14039" y="1538"/>
                </a:cubicBezTo>
                <a:cubicBezTo>
                  <a:pt x="14120" y="1381"/>
                  <a:pt x="14213" y="1219"/>
                  <a:pt x="14238" y="1042"/>
                </a:cubicBezTo>
                <a:cubicBezTo>
                  <a:pt x="14238" y="976"/>
                  <a:pt x="14238" y="959"/>
                  <a:pt x="14238" y="918"/>
                </a:cubicBezTo>
                <a:cubicBezTo>
                  <a:pt x="14179" y="955"/>
                  <a:pt x="14127" y="991"/>
                  <a:pt x="14089" y="1067"/>
                </a:cubicBezTo>
                <a:cubicBezTo>
                  <a:pt x="13993" y="1258"/>
                  <a:pt x="13997" y="1462"/>
                  <a:pt x="14064" y="1662"/>
                </a:cubicBezTo>
                <a:cubicBezTo>
                  <a:pt x="14072" y="1679"/>
                  <a:pt x="14081" y="1695"/>
                  <a:pt x="14089" y="1712"/>
                </a:cubicBezTo>
                <a:cubicBezTo>
                  <a:pt x="14186" y="1700"/>
                  <a:pt x="14219" y="1657"/>
                  <a:pt x="14263" y="1563"/>
                </a:cubicBezTo>
                <a:cubicBezTo>
                  <a:pt x="14290" y="1504"/>
                  <a:pt x="14310" y="1473"/>
                  <a:pt x="14337" y="1439"/>
                </a:cubicBezTo>
                <a:cubicBezTo>
                  <a:pt x="14383" y="1507"/>
                  <a:pt x="14391" y="1592"/>
                  <a:pt x="14436" y="1662"/>
                </a:cubicBezTo>
                <a:cubicBezTo>
                  <a:pt x="14444" y="1670"/>
                  <a:pt x="14453" y="1679"/>
                  <a:pt x="14461" y="1687"/>
                </a:cubicBezTo>
                <a:cubicBezTo>
                  <a:pt x="14496" y="1618"/>
                  <a:pt x="14515" y="1566"/>
                  <a:pt x="14585" y="1538"/>
                </a:cubicBezTo>
                <a:cubicBezTo>
                  <a:pt x="14663" y="1507"/>
                  <a:pt x="14740" y="1618"/>
                  <a:pt x="14784" y="1662"/>
                </a:cubicBezTo>
              </a:path>
              <a:path w="1712" h="869">
                <a:moveTo>
                  <a:pt x="15032" y="1513"/>
                </a:moveTo>
                <a:cubicBezTo>
                  <a:pt x="15024" y="1496"/>
                  <a:pt x="15015" y="1480"/>
                  <a:pt x="15007" y="1463"/>
                </a:cubicBezTo>
                <a:cubicBezTo>
                  <a:pt x="15081" y="1449"/>
                  <a:pt x="15132" y="1384"/>
                  <a:pt x="15205" y="1439"/>
                </a:cubicBezTo>
                <a:cubicBezTo>
                  <a:pt x="15272" y="1490"/>
                  <a:pt x="15279" y="1591"/>
                  <a:pt x="15230" y="1662"/>
                </a:cubicBezTo>
                <a:cubicBezTo>
                  <a:pt x="15203" y="1701"/>
                  <a:pt x="15080" y="1750"/>
                  <a:pt x="15032" y="1712"/>
                </a:cubicBezTo>
                <a:cubicBezTo>
                  <a:pt x="15024" y="1695"/>
                  <a:pt x="15015" y="1679"/>
                  <a:pt x="15007" y="1662"/>
                </a:cubicBezTo>
              </a:path>
              <a:path w="1712" h="869">
                <a:moveTo>
                  <a:pt x="15304" y="1389"/>
                </a:moveTo>
                <a:cubicBezTo>
                  <a:pt x="15329" y="1372"/>
                  <a:pt x="15354" y="1356"/>
                  <a:pt x="15379" y="1339"/>
                </a:cubicBezTo>
                <a:cubicBezTo>
                  <a:pt x="15363" y="1417"/>
                  <a:pt x="15316" y="1479"/>
                  <a:pt x="15304" y="1563"/>
                </a:cubicBezTo>
                <a:cubicBezTo>
                  <a:pt x="15288" y="1675"/>
                  <a:pt x="15340" y="1764"/>
                  <a:pt x="15453" y="1786"/>
                </a:cubicBezTo>
                <a:cubicBezTo>
                  <a:pt x="15529" y="1786"/>
                  <a:pt x="15555" y="1786"/>
                  <a:pt x="15602" y="17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70240" y="1009800"/>
            <a:ext cx="258840" cy="500040"/>
          </a:xfrm>
          <a:custGeom>
            <a:avLst/>
            <a:gdLst/>
            <a:ahLst/>
            <a:rect l="l" t="t" r="r" b="b"/>
            <a:pathLst>
              <a:path w="720" h="1390">
                <a:moveTo>
                  <a:pt x="11708" y="3150"/>
                </a:moveTo>
                <a:cubicBezTo>
                  <a:pt x="11708" y="3125"/>
                  <a:pt x="11708" y="3101"/>
                  <a:pt x="11708" y="3076"/>
                </a:cubicBezTo>
                <a:cubicBezTo>
                  <a:pt x="11661" y="3088"/>
                  <a:pt x="11597" y="3118"/>
                  <a:pt x="11584" y="3175"/>
                </a:cubicBezTo>
                <a:cubicBezTo>
                  <a:pt x="11584" y="3243"/>
                  <a:pt x="11581" y="3262"/>
                  <a:pt x="11609" y="3299"/>
                </a:cubicBezTo>
                <a:cubicBezTo>
                  <a:pt x="11695" y="3281"/>
                  <a:pt x="11712" y="3236"/>
                  <a:pt x="11733" y="3150"/>
                </a:cubicBezTo>
                <a:cubicBezTo>
                  <a:pt x="11762" y="3034"/>
                  <a:pt x="11770" y="2913"/>
                  <a:pt x="11807" y="2803"/>
                </a:cubicBezTo>
                <a:cubicBezTo>
                  <a:pt x="11841" y="2825"/>
                  <a:pt x="11875" y="2965"/>
                  <a:pt x="11881" y="3026"/>
                </a:cubicBezTo>
                <a:cubicBezTo>
                  <a:pt x="11894" y="3158"/>
                  <a:pt x="11901" y="3251"/>
                  <a:pt x="11956" y="3373"/>
                </a:cubicBezTo>
              </a:path>
              <a:path w="720" h="1390">
                <a:moveTo>
                  <a:pt x="12030" y="3125"/>
                </a:moveTo>
                <a:cubicBezTo>
                  <a:pt x="12030" y="3190"/>
                  <a:pt x="12043" y="3268"/>
                  <a:pt x="12080" y="3324"/>
                </a:cubicBezTo>
                <a:cubicBezTo>
                  <a:pt x="12117" y="3379"/>
                  <a:pt x="12184" y="3405"/>
                  <a:pt x="12204" y="3324"/>
                </a:cubicBezTo>
                <a:cubicBezTo>
                  <a:pt x="12204" y="3274"/>
                  <a:pt x="12204" y="3258"/>
                  <a:pt x="12204" y="3225"/>
                </a:cubicBezTo>
                <a:cubicBezTo>
                  <a:pt x="12236" y="3277"/>
                  <a:pt x="12271" y="3321"/>
                  <a:pt x="12303" y="3373"/>
                </a:cubicBezTo>
              </a:path>
              <a:path w="720" h="1390">
                <a:moveTo>
                  <a:pt x="12278" y="3572"/>
                </a:moveTo>
                <a:cubicBezTo>
                  <a:pt x="12227" y="3533"/>
                  <a:pt x="12173" y="3547"/>
                  <a:pt x="12105" y="3547"/>
                </a:cubicBezTo>
                <a:cubicBezTo>
                  <a:pt x="11940" y="3547"/>
                  <a:pt x="11774" y="3547"/>
                  <a:pt x="11609" y="3547"/>
                </a:cubicBezTo>
              </a:path>
              <a:path w="720" h="1390">
                <a:moveTo>
                  <a:pt x="11683" y="3820"/>
                </a:moveTo>
                <a:cubicBezTo>
                  <a:pt x="11670" y="3874"/>
                  <a:pt x="11637" y="3905"/>
                  <a:pt x="11633" y="3969"/>
                </a:cubicBezTo>
                <a:cubicBezTo>
                  <a:pt x="11629" y="4036"/>
                  <a:pt x="11637" y="4081"/>
                  <a:pt x="11658" y="4142"/>
                </a:cubicBezTo>
                <a:cubicBezTo>
                  <a:pt x="11758" y="4128"/>
                  <a:pt x="11776" y="4071"/>
                  <a:pt x="11782" y="3969"/>
                </a:cubicBezTo>
                <a:cubicBezTo>
                  <a:pt x="11787" y="3887"/>
                  <a:pt x="11797" y="3788"/>
                  <a:pt x="11757" y="3721"/>
                </a:cubicBezTo>
                <a:cubicBezTo>
                  <a:pt x="11757" y="3819"/>
                  <a:pt x="11776" y="3900"/>
                  <a:pt x="11807" y="3994"/>
                </a:cubicBezTo>
                <a:cubicBezTo>
                  <a:pt x="11831" y="4065"/>
                  <a:pt x="11838" y="4088"/>
                  <a:pt x="11881" y="4118"/>
                </a:cubicBezTo>
              </a:path>
              <a:path w="720" h="1390">
                <a:moveTo>
                  <a:pt x="11956" y="3969"/>
                </a:moveTo>
                <a:cubicBezTo>
                  <a:pt x="11976" y="3929"/>
                  <a:pt x="11974" y="3912"/>
                  <a:pt x="12005" y="3919"/>
                </a:cubicBezTo>
                <a:cubicBezTo>
                  <a:pt x="12040" y="3966"/>
                  <a:pt x="12030" y="4006"/>
                  <a:pt x="12030" y="4068"/>
                </a:cubicBezTo>
                <a:cubicBezTo>
                  <a:pt x="12030" y="4125"/>
                  <a:pt x="12019" y="4185"/>
                  <a:pt x="11956" y="4192"/>
                </a:cubicBezTo>
                <a:cubicBezTo>
                  <a:pt x="11948" y="4192"/>
                  <a:pt x="11939" y="4192"/>
                  <a:pt x="11931" y="4192"/>
                </a:cubicBezTo>
              </a:path>
              <a:path w="720" h="1390">
                <a:moveTo>
                  <a:pt x="12129" y="3894"/>
                </a:moveTo>
                <a:cubicBezTo>
                  <a:pt x="12137" y="3886"/>
                  <a:pt x="12146" y="3878"/>
                  <a:pt x="12154" y="3870"/>
                </a:cubicBezTo>
                <a:cubicBezTo>
                  <a:pt x="12154" y="3957"/>
                  <a:pt x="12145" y="4038"/>
                  <a:pt x="12179" y="4118"/>
                </a:cubicBezTo>
                <a:cubicBezTo>
                  <a:pt x="12209" y="4189"/>
                  <a:pt x="12236" y="4183"/>
                  <a:pt x="12303" y="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99000" y="1276200"/>
            <a:ext cx="61920" cy="46080"/>
          </a:xfrm>
          <a:custGeom>
            <a:avLst/>
            <a:gdLst/>
            <a:ahLst/>
            <a:rect l="l" t="t" r="r" b="b"/>
            <a:pathLst>
              <a:path w="175" h="125">
                <a:moveTo>
                  <a:pt x="12898" y="3547"/>
                </a:moveTo>
                <a:cubicBezTo>
                  <a:pt x="12906" y="3547"/>
                  <a:pt x="12915" y="3547"/>
                  <a:pt x="12923" y="3547"/>
                </a:cubicBezTo>
                <a:cubicBezTo>
                  <a:pt x="12866" y="3555"/>
                  <a:pt x="12836" y="3572"/>
                  <a:pt x="12774" y="3572"/>
                </a:cubicBezTo>
              </a:path>
              <a:path w="175" h="125">
                <a:moveTo>
                  <a:pt x="12923" y="3597"/>
                </a:moveTo>
                <a:cubicBezTo>
                  <a:pt x="12950" y="3633"/>
                  <a:pt x="12967" y="3656"/>
                  <a:pt x="12923" y="36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73760" y="1017720"/>
            <a:ext cx="223560" cy="411120"/>
          </a:xfrm>
          <a:custGeom>
            <a:avLst/>
            <a:gdLst/>
            <a:ahLst/>
            <a:rect l="l" t="t" r="r" b="b"/>
            <a:pathLst>
              <a:path w="621" h="1142">
                <a:moveTo>
                  <a:pt x="14114" y="2952"/>
                </a:moveTo>
                <a:cubicBezTo>
                  <a:pt x="14114" y="2940"/>
                  <a:pt x="14136" y="2825"/>
                  <a:pt x="14139" y="2828"/>
                </a:cubicBezTo>
                <a:cubicBezTo>
                  <a:pt x="14177" y="2867"/>
                  <a:pt x="14139" y="3116"/>
                  <a:pt x="14139" y="3175"/>
                </a:cubicBezTo>
              </a:path>
              <a:path w="621" h="1142">
                <a:moveTo>
                  <a:pt x="14387" y="3299"/>
                </a:moveTo>
                <a:cubicBezTo>
                  <a:pt x="14395" y="3307"/>
                  <a:pt x="14404" y="3316"/>
                  <a:pt x="14412" y="3324"/>
                </a:cubicBezTo>
                <a:cubicBezTo>
                  <a:pt x="14222" y="3324"/>
                  <a:pt x="14031" y="3324"/>
                  <a:pt x="13841" y="3324"/>
                </a:cubicBezTo>
              </a:path>
              <a:path w="621" h="1142">
                <a:moveTo>
                  <a:pt x="13816" y="3721"/>
                </a:moveTo>
                <a:cubicBezTo>
                  <a:pt x="13830" y="3679"/>
                  <a:pt x="13886" y="3674"/>
                  <a:pt x="13940" y="3671"/>
                </a:cubicBezTo>
                <a:cubicBezTo>
                  <a:pt x="14022" y="3666"/>
                  <a:pt x="14053" y="3703"/>
                  <a:pt x="14089" y="3770"/>
                </a:cubicBezTo>
                <a:cubicBezTo>
                  <a:pt x="14128" y="3843"/>
                  <a:pt x="14118" y="3884"/>
                  <a:pt x="14064" y="3944"/>
                </a:cubicBezTo>
                <a:cubicBezTo>
                  <a:pt x="14039" y="3971"/>
                  <a:pt x="13953" y="3985"/>
                  <a:pt x="13915" y="3969"/>
                </a:cubicBezTo>
                <a:cubicBezTo>
                  <a:pt x="13907" y="3961"/>
                  <a:pt x="13899" y="3952"/>
                  <a:pt x="13891" y="3944"/>
                </a:cubicBezTo>
              </a:path>
              <a:path w="621" h="1142">
                <a:moveTo>
                  <a:pt x="14263" y="3721"/>
                </a:moveTo>
                <a:cubicBezTo>
                  <a:pt x="14271" y="3704"/>
                  <a:pt x="14280" y="3688"/>
                  <a:pt x="14288" y="3671"/>
                </a:cubicBezTo>
                <a:cubicBezTo>
                  <a:pt x="14207" y="3687"/>
                  <a:pt x="14193" y="3714"/>
                  <a:pt x="14188" y="3795"/>
                </a:cubicBezTo>
                <a:cubicBezTo>
                  <a:pt x="14182" y="3905"/>
                  <a:pt x="14232" y="3949"/>
                  <a:pt x="14337" y="3969"/>
                </a:cubicBezTo>
                <a:cubicBezTo>
                  <a:pt x="14389" y="3969"/>
                  <a:pt x="14407" y="3968"/>
                  <a:pt x="14436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973920" y="322200"/>
            <a:ext cx="135000" cy="222480"/>
          </a:xfrm>
          <a:custGeom>
            <a:avLst/>
            <a:gdLst/>
            <a:ahLst/>
            <a:rect l="l" t="t" r="r" b="b"/>
            <a:pathLst>
              <a:path w="374" h="621">
                <a:moveTo>
                  <a:pt x="19372" y="1215"/>
                </a:moveTo>
                <a:cubicBezTo>
                  <a:pt x="19372" y="1199"/>
                  <a:pt x="19372" y="1182"/>
                  <a:pt x="19372" y="1166"/>
                </a:cubicBezTo>
                <a:cubicBezTo>
                  <a:pt x="19372" y="1221"/>
                  <a:pt x="19385" y="1287"/>
                  <a:pt x="19397" y="1339"/>
                </a:cubicBezTo>
                <a:cubicBezTo>
                  <a:pt x="19417" y="1425"/>
                  <a:pt x="19436" y="1461"/>
                  <a:pt x="19496" y="1513"/>
                </a:cubicBezTo>
                <a:cubicBezTo>
                  <a:pt x="19606" y="1482"/>
                  <a:pt x="19598" y="1355"/>
                  <a:pt x="19621" y="1240"/>
                </a:cubicBezTo>
                <a:cubicBezTo>
                  <a:pt x="19649" y="1103"/>
                  <a:pt x="19678" y="1013"/>
                  <a:pt x="19745" y="8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15120" y="374760"/>
            <a:ext cx="63720" cy="90360"/>
          </a:xfrm>
          <a:custGeom>
            <a:avLst/>
            <a:gdLst/>
            <a:ahLst/>
            <a:rect l="l" t="t" r="r" b="b"/>
            <a:pathLst>
              <a:path w="175" h="249">
                <a:moveTo>
                  <a:pt x="20166" y="1042"/>
                </a:moveTo>
                <a:cubicBezTo>
                  <a:pt x="20135" y="1065"/>
                  <a:pt x="20106" y="1087"/>
                  <a:pt x="20067" y="1091"/>
                </a:cubicBezTo>
                <a:cubicBezTo>
                  <a:pt x="20059" y="1091"/>
                  <a:pt x="20050" y="1091"/>
                  <a:pt x="20042" y="1091"/>
                </a:cubicBezTo>
              </a:path>
              <a:path w="175" h="249">
                <a:moveTo>
                  <a:pt x="20141" y="1191"/>
                </a:moveTo>
                <a:cubicBezTo>
                  <a:pt x="20169" y="1206"/>
                  <a:pt x="20269" y="1251"/>
                  <a:pt x="20191" y="1290"/>
                </a:cubicBezTo>
                <a:cubicBezTo>
                  <a:pt x="20176" y="1297"/>
                  <a:pt x="20134" y="1290"/>
                  <a:pt x="20117" y="1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92960" y="384120"/>
            <a:ext cx="268200" cy="204840"/>
          </a:xfrm>
          <a:custGeom>
            <a:avLst/>
            <a:gdLst/>
            <a:ahLst/>
            <a:rect l="l" t="t" r="r" b="b"/>
            <a:pathLst>
              <a:path w="745" h="571">
                <a:moveTo>
                  <a:pt x="20563" y="1240"/>
                </a:moveTo>
                <a:cubicBezTo>
                  <a:pt x="20546" y="1205"/>
                  <a:pt x="20560" y="1174"/>
                  <a:pt x="20613" y="1166"/>
                </a:cubicBezTo>
                <a:cubicBezTo>
                  <a:pt x="20701" y="1152"/>
                  <a:pt x="20793" y="1214"/>
                  <a:pt x="20836" y="1290"/>
                </a:cubicBezTo>
                <a:cubicBezTo>
                  <a:pt x="20885" y="1377"/>
                  <a:pt x="20882" y="1472"/>
                  <a:pt x="20786" y="1488"/>
                </a:cubicBezTo>
                <a:cubicBezTo>
                  <a:pt x="20753" y="1488"/>
                  <a:pt x="20737" y="1488"/>
                  <a:pt x="20712" y="1488"/>
                </a:cubicBezTo>
              </a:path>
              <a:path w="745" h="571">
                <a:moveTo>
                  <a:pt x="21084" y="1091"/>
                </a:moveTo>
                <a:cubicBezTo>
                  <a:pt x="21030" y="1040"/>
                  <a:pt x="20980" y="1176"/>
                  <a:pt x="20960" y="1240"/>
                </a:cubicBezTo>
                <a:cubicBezTo>
                  <a:pt x="20924" y="1355"/>
                  <a:pt x="20901" y="1541"/>
                  <a:pt x="21034" y="1612"/>
                </a:cubicBezTo>
                <a:cubicBezTo>
                  <a:pt x="21122" y="1659"/>
                  <a:pt x="21196" y="1634"/>
                  <a:pt x="21282" y="1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34080" y="1000080"/>
            <a:ext cx="304920" cy="492120"/>
          </a:xfrm>
          <a:custGeom>
            <a:avLst/>
            <a:gdLst/>
            <a:ahLst/>
            <a:rect l="l" t="t" r="r" b="b"/>
            <a:pathLst>
              <a:path w="844" h="1365">
                <a:moveTo>
                  <a:pt x="18777" y="3150"/>
                </a:moveTo>
                <a:cubicBezTo>
                  <a:pt x="18836" y="3073"/>
                  <a:pt x="18784" y="3124"/>
                  <a:pt x="18752" y="3150"/>
                </a:cubicBezTo>
                <a:cubicBezTo>
                  <a:pt x="18712" y="3181"/>
                  <a:pt x="18671" y="3234"/>
                  <a:pt x="18703" y="3299"/>
                </a:cubicBezTo>
                <a:cubicBezTo>
                  <a:pt x="18711" y="3307"/>
                  <a:pt x="18720" y="3316"/>
                  <a:pt x="18728" y="3324"/>
                </a:cubicBezTo>
                <a:cubicBezTo>
                  <a:pt x="18826" y="3225"/>
                  <a:pt x="18881" y="3137"/>
                  <a:pt x="18926" y="3001"/>
                </a:cubicBezTo>
                <a:cubicBezTo>
                  <a:pt x="18949" y="2911"/>
                  <a:pt x="18957" y="2887"/>
                  <a:pt x="18951" y="2828"/>
                </a:cubicBezTo>
                <a:cubicBezTo>
                  <a:pt x="18951" y="2690"/>
                  <a:pt x="18927" y="3003"/>
                  <a:pt x="18926" y="3026"/>
                </a:cubicBezTo>
                <a:cubicBezTo>
                  <a:pt x="18923" y="3148"/>
                  <a:pt x="18939" y="3254"/>
                  <a:pt x="18951" y="3373"/>
                </a:cubicBezTo>
              </a:path>
              <a:path w="844" h="1365">
                <a:moveTo>
                  <a:pt x="19050" y="3200"/>
                </a:moveTo>
                <a:cubicBezTo>
                  <a:pt x="19092" y="3214"/>
                  <a:pt x="19092" y="3277"/>
                  <a:pt x="19124" y="3324"/>
                </a:cubicBezTo>
                <a:cubicBezTo>
                  <a:pt x="19168" y="3389"/>
                  <a:pt x="19207" y="3317"/>
                  <a:pt x="19224" y="3274"/>
                </a:cubicBezTo>
                <a:cubicBezTo>
                  <a:pt x="19246" y="3207"/>
                  <a:pt x="19250" y="3189"/>
                  <a:pt x="19273" y="3150"/>
                </a:cubicBezTo>
              </a:path>
              <a:path w="844" h="1365">
                <a:moveTo>
                  <a:pt x="19174" y="3646"/>
                </a:moveTo>
                <a:cubicBezTo>
                  <a:pt x="19194" y="3606"/>
                  <a:pt x="19203" y="3600"/>
                  <a:pt x="19199" y="3572"/>
                </a:cubicBezTo>
                <a:cubicBezTo>
                  <a:pt x="19120" y="3572"/>
                  <a:pt x="19051" y="3554"/>
                  <a:pt x="18976" y="3547"/>
                </a:cubicBezTo>
                <a:cubicBezTo>
                  <a:pt x="18899" y="3540"/>
                  <a:pt x="18849" y="3531"/>
                  <a:pt x="18777" y="3522"/>
                </a:cubicBezTo>
              </a:path>
              <a:path w="844" h="1365">
                <a:moveTo>
                  <a:pt x="18529" y="3820"/>
                </a:moveTo>
                <a:cubicBezTo>
                  <a:pt x="18508" y="3777"/>
                  <a:pt x="18476" y="3855"/>
                  <a:pt x="18455" y="3894"/>
                </a:cubicBezTo>
                <a:cubicBezTo>
                  <a:pt x="18413" y="3973"/>
                  <a:pt x="18421" y="3970"/>
                  <a:pt x="18479" y="4018"/>
                </a:cubicBezTo>
                <a:cubicBezTo>
                  <a:pt x="18581" y="3978"/>
                  <a:pt x="18595" y="3895"/>
                  <a:pt x="18628" y="3795"/>
                </a:cubicBezTo>
                <a:cubicBezTo>
                  <a:pt x="18651" y="3726"/>
                  <a:pt x="18670" y="3668"/>
                  <a:pt x="18678" y="3597"/>
                </a:cubicBezTo>
                <a:cubicBezTo>
                  <a:pt x="18622" y="3569"/>
                  <a:pt x="18612" y="3630"/>
                  <a:pt x="18604" y="3696"/>
                </a:cubicBezTo>
                <a:cubicBezTo>
                  <a:pt x="18592" y="3791"/>
                  <a:pt x="18589" y="3938"/>
                  <a:pt x="18628" y="4018"/>
                </a:cubicBezTo>
              </a:path>
              <a:path w="844" h="1365">
                <a:moveTo>
                  <a:pt x="18802" y="3820"/>
                </a:moveTo>
                <a:cubicBezTo>
                  <a:pt x="18856" y="3856"/>
                  <a:pt x="18873" y="3893"/>
                  <a:pt x="18852" y="3969"/>
                </a:cubicBezTo>
                <a:cubicBezTo>
                  <a:pt x="18830" y="4048"/>
                  <a:pt x="18768" y="4043"/>
                  <a:pt x="18703" y="4043"/>
                </a:cubicBezTo>
              </a:path>
              <a:path w="844" h="1365">
                <a:moveTo>
                  <a:pt x="18926" y="3919"/>
                </a:moveTo>
                <a:cubicBezTo>
                  <a:pt x="18969" y="3933"/>
                  <a:pt x="18951" y="3988"/>
                  <a:pt x="18951" y="4043"/>
                </a:cubicBezTo>
                <a:cubicBezTo>
                  <a:pt x="18951" y="4095"/>
                  <a:pt x="18952" y="4113"/>
                  <a:pt x="18976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108920" y="1295280"/>
            <a:ext cx="88920" cy="619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19918" y="3646"/>
                </a:moveTo>
                <a:cubicBezTo>
                  <a:pt x="19958" y="3626"/>
                  <a:pt x="19975" y="3628"/>
                  <a:pt x="19968" y="3597"/>
                </a:cubicBezTo>
                <a:cubicBezTo>
                  <a:pt x="19894" y="3597"/>
                  <a:pt x="19819" y="3597"/>
                  <a:pt x="19745" y="3597"/>
                </a:cubicBezTo>
              </a:path>
              <a:path w="249" h="174">
                <a:moveTo>
                  <a:pt x="19869" y="3696"/>
                </a:moveTo>
                <a:cubicBezTo>
                  <a:pt x="19932" y="3715"/>
                  <a:pt x="19950" y="3713"/>
                  <a:pt x="19993" y="3746"/>
                </a:cubicBezTo>
                <a:cubicBezTo>
                  <a:pt x="19948" y="3757"/>
                  <a:pt x="19922" y="3770"/>
                  <a:pt x="19869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75680" y="1224000"/>
            <a:ext cx="18720" cy="160200"/>
          </a:xfrm>
          <a:custGeom>
            <a:avLst/>
            <a:gdLst/>
            <a:ahLst/>
            <a:rect l="l" t="t" r="r" b="b"/>
            <a:pathLst>
              <a:path w="50" h="448">
                <a:moveTo>
                  <a:pt x="20489" y="3473"/>
                </a:moveTo>
                <a:cubicBezTo>
                  <a:pt x="20505" y="3448"/>
                  <a:pt x="20522" y="3423"/>
                  <a:pt x="20538" y="3398"/>
                </a:cubicBezTo>
                <a:cubicBezTo>
                  <a:pt x="20538" y="3547"/>
                  <a:pt x="20538" y="3696"/>
                  <a:pt x="20538" y="38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2529000"/>
            <a:ext cx="4464000" cy="4329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5131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197000" y="2813040"/>
            <a:ext cx="1440" cy="98280"/>
          </a:xfrm>
          <a:custGeom>
            <a:avLst/>
            <a:gdLst/>
            <a:ahLst/>
            <a:rect l="l" t="t" r="r" b="b"/>
            <a:pathLst>
              <a:path w="1" h="274">
                <a:moveTo>
                  <a:pt x="3324" y="7838"/>
                </a:moveTo>
                <a:cubicBezTo>
                  <a:pt x="3324" y="7770"/>
                  <a:pt x="3324" y="7945"/>
                  <a:pt x="3324" y="7962"/>
                </a:cubicBezTo>
                <a:cubicBezTo>
                  <a:pt x="3324" y="8003"/>
                  <a:pt x="3324" y="8045"/>
                  <a:pt x="3324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97000" y="3044880"/>
            <a:ext cx="1440" cy="71280"/>
          </a:xfrm>
          <a:custGeom>
            <a:avLst/>
            <a:gdLst/>
            <a:ahLst/>
            <a:rect l="l" t="t" r="r" b="b"/>
            <a:pathLst>
              <a:path w="1" h="200">
                <a:moveTo>
                  <a:pt x="3324" y="8458"/>
                </a:moveTo>
                <a:cubicBezTo>
                  <a:pt x="3324" y="8524"/>
                  <a:pt x="3324" y="8591"/>
                  <a:pt x="3324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87280" y="3241800"/>
            <a:ext cx="9720" cy="63360"/>
          </a:xfrm>
          <a:custGeom>
            <a:avLst/>
            <a:gdLst/>
            <a:ahLst/>
            <a:rect l="l" t="t" r="r" b="b"/>
            <a:pathLst>
              <a:path w="26" h="175">
                <a:moveTo>
                  <a:pt x="3324" y="9004"/>
                </a:moveTo>
                <a:cubicBezTo>
                  <a:pt x="3305" y="9073"/>
                  <a:pt x="3299" y="9108"/>
                  <a:pt x="3299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197000" y="3643200"/>
            <a:ext cx="1440" cy="88920"/>
          </a:xfrm>
          <a:custGeom>
            <a:avLst/>
            <a:gdLst/>
            <a:ahLst/>
            <a:rect l="l" t="t" r="r" b="b"/>
            <a:pathLst>
              <a:path w="1" h="249">
                <a:moveTo>
                  <a:pt x="3324" y="10120"/>
                </a:moveTo>
                <a:cubicBezTo>
                  <a:pt x="3324" y="10203"/>
                  <a:pt x="3324" y="10285"/>
                  <a:pt x="3324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3884760"/>
            <a:ext cx="9720" cy="71280"/>
          </a:xfrm>
          <a:custGeom>
            <a:avLst/>
            <a:gdLst/>
            <a:ahLst/>
            <a:rect l="l" t="t" r="r" b="b"/>
            <a:pathLst>
              <a:path w="26" h="199">
                <a:moveTo>
                  <a:pt x="3324" y="10790"/>
                </a:moveTo>
                <a:cubicBezTo>
                  <a:pt x="3301" y="10865"/>
                  <a:pt x="3299" y="10910"/>
                  <a:pt x="3299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4125960"/>
            <a:ext cx="9720" cy="98280"/>
          </a:xfrm>
          <a:custGeom>
            <a:avLst/>
            <a:gdLst/>
            <a:ahLst/>
            <a:rect l="l" t="t" r="r" b="b"/>
            <a:pathLst>
              <a:path w="26" h="274">
                <a:moveTo>
                  <a:pt x="3299" y="11460"/>
                </a:moveTo>
                <a:cubicBezTo>
                  <a:pt x="3299" y="11559"/>
                  <a:pt x="3313" y="11638"/>
                  <a:pt x="3324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24000" y="4340160"/>
            <a:ext cx="7920" cy="1080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3398" y="12055"/>
                </a:moveTo>
                <a:cubicBezTo>
                  <a:pt x="3398" y="12149"/>
                  <a:pt x="3418" y="12216"/>
                  <a:pt x="3423" y="12303"/>
                </a:cubicBezTo>
                <a:cubicBezTo>
                  <a:pt x="3423" y="12320"/>
                  <a:pt x="3423" y="12336"/>
                  <a:pt x="3423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224000" y="4581360"/>
            <a:ext cx="1440" cy="71640"/>
          </a:xfrm>
          <a:custGeom>
            <a:avLst/>
            <a:gdLst/>
            <a:ahLst/>
            <a:rect l="l" t="t" r="r" b="b"/>
            <a:pathLst>
              <a:path w="1" h="199">
                <a:moveTo>
                  <a:pt x="3398" y="12725"/>
                </a:moveTo>
                <a:cubicBezTo>
                  <a:pt x="3398" y="12791"/>
                  <a:pt x="3398" y="12857"/>
                  <a:pt x="3398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04920" y="4803840"/>
            <a:ext cx="1440" cy="81000"/>
          </a:xfrm>
          <a:custGeom>
            <a:avLst/>
            <a:gdLst/>
            <a:ahLst/>
            <a:rect l="l" t="t" r="r" b="b"/>
            <a:pathLst>
              <a:path w="1" h="224">
                <a:moveTo>
                  <a:pt x="3349" y="13345"/>
                </a:moveTo>
                <a:cubicBezTo>
                  <a:pt x="3349" y="13419"/>
                  <a:pt x="3349" y="13494"/>
                  <a:pt x="3349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97000" y="4973760"/>
            <a:ext cx="1440" cy="54000"/>
          </a:xfrm>
          <a:custGeom>
            <a:avLst/>
            <a:gdLst/>
            <a:ahLst/>
            <a:rect l="l" t="t" r="r" b="b"/>
            <a:pathLst>
              <a:path w="1" h="150">
                <a:moveTo>
                  <a:pt x="3324" y="13816"/>
                </a:moveTo>
                <a:cubicBezTo>
                  <a:pt x="3324" y="13866"/>
                  <a:pt x="3324" y="13915"/>
                  <a:pt x="3324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5187960"/>
            <a:ext cx="1800" cy="98280"/>
          </a:xfrm>
          <a:custGeom>
            <a:avLst/>
            <a:gdLst/>
            <a:ahLst/>
            <a:rect l="l" t="t" r="r" b="b"/>
            <a:pathLst>
              <a:path w="1" h="273">
                <a:moveTo>
                  <a:pt x="3299" y="14412"/>
                </a:moveTo>
                <a:cubicBezTo>
                  <a:pt x="3299" y="14503"/>
                  <a:pt x="3299" y="14593"/>
                  <a:pt x="3299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70000" y="5402160"/>
            <a:ext cx="9360" cy="63720"/>
          </a:xfrm>
          <a:custGeom>
            <a:avLst/>
            <a:gdLst/>
            <a:ahLst/>
            <a:rect l="l" t="t" r="r" b="b"/>
            <a:pathLst>
              <a:path w="26" h="174">
                <a:moveTo>
                  <a:pt x="3274" y="15007"/>
                </a:moveTo>
                <a:cubicBezTo>
                  <a:pt x="3247" y="15077"/>
                  <a:pt x="3235" y="15117"/>
                  <a:pt x="3274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70000" y="5589720"/>
            <a:ext cx="144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3249" y="15528"/>
                </a:moveTo>
                <a:cubicBezTo>
                  <a:pt x="3249" y="15553"/>
                  <a:pt x="3249" y="15577"/>
                  <a:pt x="3249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52360" y="5867280"/>
            <a:ext cx="972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3225" y="16297"/>
                </a:moveTo>
                <a:cubicBezTo>
                  <a:pt x="3200" y="16386"/>
                  <a:pt x="3200" y="16452"/>
                  <a:pt x="3200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52360" y="6045120"/>
            <a:ext cx="972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3200" y="16793"/>
                </a:moveTo>
                <a:cubicBezTo>
                  <a:pt x="3200" y="16857"/>
                  <a:pt x="3203" y="16883"/>
                  <a:pt x="3225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97000" y="6259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324" y="17388"/>
                </a:moveTo>
                <a:lnTo>
                  <a:pt x="3324" y="1738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14280" y="6384960"/>
            <a:ext cx="36720" cy="98280"/>
          </a:xfrm>
          <a:custGeom>
            <a:avLst/>
            <a:gdLst/>
            <a:ahLst/>
            <a:rect l="l" t="t" r="r" b="b"/>
            <a:pathLst>
              <a:path w="101" h="274">
                <a:moveTo>
                  <a:pt x="3373" y="17735"/>
                </a:moveTo>
                <a:cubicBezTo>
                  <a:pt x="3413" y="17828"/>
                  <a:pt x="3431" y="17915"/>
                  <a:pt x="3473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63880" y="2714760"/>
            <a:ext cx="19080" cy="750600"/>
          </a:xfrm>
          <a:custGeom>
            <a:avLst/>
            <a:gdLst/>
            <a:ahLst/>
            <a:rect l="l" t="t" r="r" b="b"/>
            <a:pathLst>
              <a:path w="51" h="2084">
                <a:moveTo>
                  <a:pt x="8285" y="7565"/>
                </a:moveTo>
                <a:cubicBezTo>
                  <a:pt x="8285" y="7557"/>
                  <a:pt x="8285" y="7549"/>
                  <a:pt x="8285" y="7541"/>
                </a:cubicBezTo>
                <a:cubicBezTo>
                  <a:pt x="8285" y="7607"/>
                  <a:pt x="8285" y="7673"/>
                  <a:pt x="8285" y="7739"/>
                </a:cubicBezTo>
              </a:path>
              <a:path w="51" h="2084">
                <a:moveTo>
                  <a:pt x="8285" y="7987"/>
                </a:moveTo>
                <a:cubicBezTo>
                  <a:pt x="8285" y="8078"/>
                  <a:pt x="8285" y="8169"/>
                  <a:pt x="8285" y="8260"/>
                </a:cubicBezTo>
              </a:path>
              <a:path w="51" h="2084">
                <a:moveTo>
                  <a:pt x="8235" y="8533"/>
                </a:moveTo>
                <a:cubicBezTo>
                  <a:pt x="8235" y="8673"/>
                  <a:pt x="8235" y="8814"/>
                  <a:pt x="8235" y="8954"/>
                </a:cubicBezTo>
              </a:path>
              <a:path w="51" h="2084">
                <a:moveTo>
                  <a:pt x="8235" y="9203"/>
                </a:moveTo>
                <a:cubicBezTo>
                  <a:pt x="8235" y="9252"/>
                  <a:pt x="8235" y="9302"/>
                  <a:pt x="8235" y="9351"/>
                </a:cubicBezTo>
              </a:path>
              <a:path w="51" h="2084">
                <a:moveTo>
                  <a:pt x="8260" y="9550"/>
                </a:moveTo>
                <a:cubicBezTo>
                  <a:pt x="8280" y="9590"/>
                  <a:pt x="8289" y="9596"/>
                  <a:pt x="8285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00240" y="3625920"/>
            <a:ext cx="9720" cy="98280"/>
          </a:xfrm>
          <a:custGeom>
            <a:avLst/>
            <a:gdLst/>
            <a:ahLst/>
            <a:rect l="l" t="t" r="r" b="b"/>
            <a:pathLst>
              <a:path w="26" h="274">
                <a:moveTo>
                  <a:pt x="8334" y="10071"/>
                </a:moveTo>
                <a:cubicBezTo>
                  <a:pt x="8366" y="10113"/>
                  <a:pt x="8359" y="10139"/>
                  <a:pt x="8359" y="10195"/>
                </a:cubicBezTo>
                <a:cubicBezTo>
                  <a:pt x="8359" y="10245"/>
                  <a:pt x="8359" y="10294"/>
                  <a:pt x="8359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17880" y="3857760"/>
            <a:ext cx="27000" cy="527040"/>
          </a:xfrm>
          <a:custGeom>
            <a:avLst/>
            <a:gdLst/>
            <a:ahLst/>
            <a:rect l="l" t="t" r="r" b="b"/>
            <a:pathLst>
              <a:path w="75" h="1464">
                <a:moveTo>
                  <a:pt x="8409" y="10716"/>
                </a:moveTo>
                <a:cubicBezTo>
                  <a:pt x="8409" y="10782"/>
                  <a:pt x="8409" y="10848"/>
                  <a:pt x="8409" y="10914"/>
                </a:cubicBezTo>
              </a:path>
              <a:path w="75" h="1464">
                <a:moveTo>
                  <a:pt x="8384" y="11137"/>
                </a:moveTo>
                <a:cubicBezTo>
                  <a:pt x="8384" y="11220"/>
                  <a:pt x="8384" y="11302"/>
                  <a:pt x="8384" y="11385"/>
                </a:cubicBezTo>
              </a:path>
              <a:path w="75" h="1464">
                <a:moveTo>
                  <a:pt x="8409" y="11584"/>
                </a:moveTo>
                <a:cubicBezTo>
                  <a:pt x="8409" y="11667"/>
                  <a:pt x="8409" y="11749"/>
                  <a:pt x="8409" y="11832"/>
                </a:cubicBezTo>
              </a:path>
              <a:path w="75" h="1464">
                <a:moveTo>
                  <a:pt x="8434" y="12005"/>
                </a:moveTo>
                <a:cubicBezTo>
                  <a:pt x="8441" y="12078"/>
                  <a:pt x="8458" y="12107"/>
                  <a:pt x="8458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09960" y="4670280"/>
            <a:ext cx="7920" cy="231840"/>
          </a:xfrm>
          <a:custGeom>
            <a:avLst/>
            <a:gdLst/>
            <a:ahLst/>
            <a:rect l="l" t="t" r="r" b="b"/>
            <a:pathLst>
              <a:path w="26" h="646">
                <a:moveTo>
                  <a:pt x="8384" y="12973"/>
                </a:moveTo>
                <a:cubicBezTo>
                  <a:pt x="8359" y="13031"/>
                  <a:pt x="8359" y="13058"/>
                  <a:pt x="8359" y="13122"/>
                </a:cubicBezTo>
                <a:cubicBezTo>
                  <a:pt x="8359" y="13163"/>
                  <a:pt x="8359" y="13205"/>
                  <a:pt x="8359" y="13246"/>
                </a:cubicBezTo>
              </a:path>
              <a:path w="26" h="646">
                <a:moveTo>
                  <a:pt x="8359" y="13444"/>
                </a:moveTo>
                <a:cubicBezTo>
                  <a:pt x="8359" y="13502"/>
                  <a:pt x="8359" y="13560"/>
                  <a:pt x="8359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982960" y="5037120"/>
            <a:ext cx="27000" cy="696960"/>
          </a:xfrm>
          <a:custGeom>
            <a:avLst/>
            <a:gdLst/>
            <a:ahLst/>
            <a:rect l="l" t="t" r="r" b="b"/>
            <a:pathLst>
              <a:path w="75" h="1936">
                <a:moveTo>
                  <a:pt x="8359" y="13990"/>
                </a:moveTo>
                <a:cubicBezTo>
                  <a:pt x="8359" y="14056"/>
                  <a:pt x="8359" y="14122"/>
                  <a:pt x="8359" y="14188"/>
                </a:cubicBezTo>
              </a:path>
              <a:path w="75" h="1936">
                <a:moveTo>
                  <a:pt x="8334" y="14362"/>
                </a:moveTo>
                <a:cubicBezTo>
                  <a:pt x="8334" y="14484"/>
                  <a:pt x="8336" y="14594"/>
                  <a:pt x="8310" y="14709"/>
                </a:cubicBezTo>
                <a:cubicBezTo>
                  <a:pt x="8310" y="14717"/>
                  <a:pt x="8310" y="14726"/>
                  <a:pt x="8310" y="14734"/>
                </a:cubicBezTo>
              </a:path>
              <a:path w="75" h="1936">
                <a:moveTo>
                  <a:pt x="8285" y="14957"/>
                </a:moveTo>
                <a:cubicBezTo>
                  <a:pt x="8285" y="15040"/>
                  <a:pt x="8285" y="15122"/>
                  <a:pt x="8285" y="15205"/>
                </a:cubicBezTo>
              </a:path>
              <a:path w="75" h="1936">
                <a:moveTo>
                  <a:pt x="8285" y="15354"/>
                </a:moveTo>
                <a:cubicBezTo>
                  <a:pt x="8285" y="15515"/>
                  <a:pt x="8284" y="15672"/>
                  <a:pt x="8310" y="15825"/>
                </a:cubicBezTo>
                <a:cubicBezTo>
                  <a:pt x="8310" y="15875"/>
                  <a:pt x="8310" y="15892"/>
                  <a:pt x="8310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17880" y="5867280"/>
            <a:ext cx="9360" cy="106560"/>
          </a:xfrm>
          <a:custGeom>
            <a:avLst/>
            <a:gdLst/>
            <a:ahLst/>
            <a:rect l="l" t="t" r="r" b="b"/>
            <a:pathLst>
              <a:path w="26" h="298">
                <a:moveTo>
                  <a:pt x="8384" y="16297"/>
                </a:moveTo>
                <a:cubicBezTo>
                  <a:pt x="8384" y="16398"/>
                  <a:pt x="8383" y="16484"/>
                  <a:pt x="8409" y="16570"/>
                </a:cubicBezTo>
                <a:cubicBezTo>
                  <a:pt x="8409" y="16578"/>
                  <a:pt x="8409" y="16586"/>
                  <a:pt x="8409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27240" y="6116760"/>
            <a:ext cx="54000" cy="544320"/>
          </a:xfrm>
          <a:custGeom>
            <a:avLst/>
            <a:gdLst/>
            <a:ahLst/>
            <a:rect l="l" t="t" r="r" b="b"/>
            <a:pathLst>
              <a:path w="150" h="1514">
                <a:moveTo>
                  <a:pt x="8409" y="16991"/>
                </a:moveTo>
                <a:cubicBezTo>
                  <a:pt x="8409" y="17078"/>
                  <a:pt x="8399" y="17159"/>
                  <a:pt x="8434" y="17239"/>
                </a:cubicBezTo>
              </a:path>
              <a:path w="150" h="1514">
                <a:moveTo>
                  <a:pt x="8434" y="17462"/>
                </a:moveTo>
                <a:cubicBezTo>
                  <a:pt x="8452" y="17542"/>
                  <a:pt x="8458" y="17584"/>
                  <a:pt x="8458" y="17661"/>
                </a:cubicBezTo>
                <a:cubicBezTo>
                  <a:pt x="8458" y="17678"/>
                  <a:pt x="8458" y="17694"/>
                  <a:pt x="8458" y="17711"/>
                </a:cubicBezTo>
              </a:path>
              <a:path w="150" h="1514">
                <a:moveTo>
                  <a:pt x="8483" y="17909"/>
                </a:moveTo>
                <a:cubicBezTo>
                  <a:pt x="8483" y="17942"/>
                  <a:pt x="8483" y="17975"/>
                  <a:pt x="8483" y="18008"/>
                </a:cubicBezTo>
              </a:path>
              <a:path w="150" h="1514">
                <a:moveTo>
                  <a:pt x="8558" y="18231"/>
                </a:moveTo>
                <a:cubicBezTo>
                  <a:pt x="8558" y="18322"/>
                  <a:pt x="8558" y="18413"/>
                  <a:pt x="8558" y="18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57720" y="1535040"/>
            <a:ext cx="241200" cy="196920"/>
          </a:xfrm>
          <a:custGeom>
            <a:avLst/>
            <a:gdLst/>
            <a:ahLst/>
            <a:rect l="l" t="t" r="r" b="b"/>
            <a:pathLst>
              <a:path w="670" h="547">
                <a:moveTo>
                  <a:pt x="9351" y="4390"/>
                </a:moveTo>
                <a:cubicBezTo>
                  <a:pt x="9343" y="4398"/>
                  <a:pt x="9335" y="4407"/>
                  <a:pt x="9327" y="4415"/>
                </a:cubicBezTo>
                <a:cubicBezTo>
                  <a:pt x="9327" y="4363"/>
                  <a:pt x="9339" y="4354"/>
                  <a:pt x="9376" y="4316"/>
                </a:cubicBezTo>
                <a:cubicBezTo>
                  <a:pt x="9423" y="4268"/>
                  <a:pt x="9461" y="4266"/>
                  <a:pt x="9525" y="4266"/>
                </a:cubicBezTo>
                <a:cubicBezTo>
                  <a:pt x="9630" y="4266"/>
                  <a:pt x="9624" y="4331"/>
                  <a:pt x="9624" y="4415"/>
                </a:cubicBezTo>
                <a:cubicBezTo>
                  <a:pt x="9624" y="4521"/>
                  <a:pt x="9578" y="4559"/>
                  <a:pt x="9525" y="4638"/>
                </a:cubicBezTo>
                <a:cubicBezTo>
                  <a:pt x="9480" y="4706"/>
                  <a:pt x="9451" y="4731"/>
                  <a:pt x="9451" y="4812"/>
                </a:cubicBezTo>
                <a:cubicBezTo>
                  <a:pt x="9540" y="4812"/>
                  <a:pt x="9611" y="4796"/>
                  <a:pt x="9699" y="4787"/>
                </a:cubicBezTo>
                <a:cubicBezTo>
                  <a:pt x="9800" y="4776"/>
                  <a:pt x="9892" y="4762"/>
                  <a:pt x="9996" y="4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14840" y="955800"/>
            <a:ext cx="635040" cy="295200"/>
          </a:xfrm>
          <a:custGeom>
            <a:avLst/>
            <a:gdLst/>
            <a:ahLst/>
            <a:rect l="l" t="t" r="r" b="b"/>
            <a:pathLst>
              <a:path w="1762" h="820">
                <a:moveTo>
                  <a:pt x="10368" y="3026"/>
                </a:moveTo>
                <a:cubicBezTo>
                  <a:pt x="10344" y="3008"/>
                  <a:pt x="10295" y="2994"/>
                  <a:pt x="10319" y="2952"/>
                </a:cubicBezTo>
                <a:cubicBezTo>
                  <a:pt x="10346" y="2903"/>
                  <a:pt x="10398" y="2855"/>
                  <a:pt x="10443" y="2828"/>
                </a:cubicBezTo>
                <a:cubicBezTo>
                  <a:pt x="10480" y="2806"/>
                  <a:pt x="10600" y="2775"/>
                  <a:pt x="10641" y="2803"/>
                </a:cubicBezTo>
                <a:cubicBezTo>
                  <a:pt x="10719" y="2855"/>
                  <a:pt x="10716" y="2919"/>
                  <a:pt x="10716" y="3001"/>
                </a:cubicBezTo>
                <a:cubicBezTo>
                  <a:pt x="10716" y="3091"/>
                  <a:pt x="10653" y="3104"/>
                  <a:pt x="10592" y="3150"/>
                </a:cubicBezTo>
                <a:cubicBezTo>
                  <a:pt x="10567" y="3169"/>
                  <a:pt x="10544" y="3234"/>
                  <a:pt x="10592" y="3249"/>
                </a:cubicBezTo>
                <a:cubicBezTo>
                  <a:pt x="10652" y="3267"/>
                  <a:pt x="10688" y="3276"/>
                  <a:pt x="10740" y="3324"/>
                </a:cubicBezTo>
                <a:cubicBezTo>
                  <a:pt x="10796" y="3375"/>
                  <a:pt x="10757" y="3389"/>
                  <a:pt x="10716" y="3423"/>
                </a:cubicBezTo>
                <a:cubicBezTo>
                  <a:pt x="10655" y="3473"/>
                  <a:pt x="10619" y="3473"/>
                  <a:pt x="10542" y="3473"/>
                </a:cubicBezTo>
                <a:cubicBezTo>
                  <a:pt x="10497" y="3473"/>
                  <a:pt x="10484" y="3477"/>
                  <a:pt x="10468" y="3448"/>
                </a:cubicBezTo>
              </a:path>
              <a:path w="1762" h="820">
                <a:moveTo>
                  <a:pt x="11112" y="2877"/>
                </a:moveTo>
                <a:cubicBezTo>
                  <a:pt x="11112" y="2853"/>
                  <a:pt x="11112" y="2845"/>
                  <a:pt x="11137" y="2853"/>
                </a:cubicBezTo>
                <a:cubicBezTo>
                  <a:pt x="11137" y="2807"/>
                  <a:pt x="11084" y="2891"/>
                  <a:pt x="11063" y="2927"/>
                </a:cubicBezTo>
                <a:cubicBezTo>
                  <a:pt x="11014" y="3010"/>
                  <a:pt x="10976" y="3130"/>
                  <a:pt x="10964" y="3225"/>
                </a:cubicBezTo>
                <a:cubicBezTo>
                  <a:pt x="10951" y="3322"/>
                  <a:pt x="10984" y="3401"/>
                  <a:pt x="11063" y="3448"/>
                </a:cubicBezTo>
                <a:cubicBezTo>
                  <a:pt x="11133" y="3490"/>
                  <a:pt x="11207" y="3444"/>
                  <a:pt x="11237" y="3373"/>
                </a:cubicBezTo>
                <a:cubicBezTo>
                  <a:pt x="11248" y="3348"/>
                  <a:pt x="11248" y="3260"/>
                  <a:pt x="11212" y="3249"/>
                </a:cubicBezTo>
                <a:cubicBezTo>
                  <a:pt x="11143" y="3228"/>
                  <a:pt x="11068" y="3256"/>
                  <a:pt x="11013" y="3274"/>
                </a:cubicBezTo>
                <a:cubicBezTo>
                  <a:pt x="11005" y="3274"/>
                  <a:pt x="10996" y="3274"/>
                  <a:pt x="10988" y="3274"/>
                </a:cubicBezTo>
              </a:path>
              <a:path w="1762" h="820">
                <a:moveTo>
                  <a:pt x="11385" y="3200"/>
                </a:moveTo>
                <a:cubicBezTo>
                  <a:pt x="11369" y="3177"/>
                  <a:pt x="11343" y="3134"/>
                  <a:pt x="11361" y="3101"/>
                </a:cubicBezTo>
                <a:cubicBezTo>
                  <a:pt x="11381" y="3065"/>
                  <a:pt x="11470" y="2999"/>
                  <a:pt x="11509" y="3001"/>
                </a:cubicBezTo>
                <a:cubicBezTo>
                  <a:pt x="11584" y="3005"/>
                  <a:pt x="11658" y="3147"/>
                  <a:pt x="11683" y="3200"/>
                </a:cubicBezTo>
                <a:cubicBezTo>
                  <a:pt x="11719" y="3274"/>
                  <a:pt x="11730" y="3391"/>
                  <a:pt x="11658" y="3448"/>
                </a:cubicBezTo>
                <a:cubicBezTo>
                  <a:pt x="11598" y="3495"/>
                  <a:pt x="11465" y="3471"/>
                  <a:pt x="11410" y="3423"/>
                </a:cubicBezTo>
                <a:cubicBezTo>
                  <a:pt x="11360" y="3379"/>
                  <a:pt x="11316" y="3295"/>
                  <a:pt x="11336" y="3225"/>
                </a:cubicBezTo>
                <a:cubicBezTo>
                  <a:pt x="11351" y="3171"/>
                  <a:pt x="11397" y="3138"/>
                  <a:pt x="11435" y="3101"/>
                </a:cubicBezTo>
              </a:path>
              <a:path w="1762" h="820">
                <a:moveTo>
                  <a:pt x="11956" y="2753"/>
                </a:moveTo>
                <a:cubicBezTo>
                  <a:pt x="11934" y="2746"/>
                  <a:pt x="11911" y="2715"/>
                  <a:pt x="11931" y="2679"/>
                </a:cubicBezTo>
                <a:cubicBezTo>
                  <a:pt x="11939" y="2671"/>
                  <a:pt x="11948" y="2662"/>
                  <a:pt x="11956" y="2654"/>
                </a:cubicBezTo>
                <a:cubicBezTo>
                  <a:pt x="12020" y="2654"/>
                  <a:pt x="12023" y="2670"/>
                  <a:pt x="12055" y="2729"/>
                </a:cubicBezTo>
                <a:cubicBezTo>
                  <a:pt x="12095" y="2803"/>
                  <a:pt x="12104" y="2898"/>
                  <a:pt x="12030" y="2952"/>
                </a:cubicBezTo>
                <a:cubicBezTo>
                  <a:pt x="11972" y="2994"/>
                  <a:pt x="11930" y="2931"/>
                  <a:pt x="11906" y="2902"/>
                </a:cubicBezTo>
                <a:cubicBezTo>
                  <a:pt x="11864" y="2851"/>
                  <a:pt x="11875" y="2804"/>
                  <a:pt x="11906" y="27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01880" y="4375080"/>
            <a:ext cx="733320" cy="590760"/>
          </a:xfrm>
          <a:custGeom>
            <a:avLst/>
            <a:gdLst/>
            <a:ahLst/>
            <a:rect l="l" t="t" r="r" b="b"/>
            <a:pathLst>
              <a:path w="2035" h="1638">
                <a:moveTo>
                  <a:pt x="7169" y="13444"/>
                </a:moveTo>
                <a:cubicBezTo>
                  <a:pt x="7169" y="13436"/>
                  <a:pt x="7169" y="13427"/>
                  <a:pt x="7169" y="13419"/>
                </a:cubicBezTo>
              </a:path>
              <a:path w="2035" h="1638">
                <a:moveTo>
                  <a:pt x="7169" y="13320"/>
                </a:moveTo>
                <a:cubicBezTo>
                  <a:pt x="7169" y="13295"/>
                  <a:pt x="7169" y="13287"/>
                  <a:pt x="7169" y="13271"/>
                </a:cubicBezTo>
              </a:path>
              <a:path w="2035" h="1638">
                <a:moveTo>
                  <a:pt x="7169" y="13196"/>
                </a:moveTo>
                <a:cubicBezTo>
                  <a:pt x="7169" y="13155"/>
                  <a:pt x="7169" y="13147"/>
                  <a:pt x="7169" y="13122"/>
                </a:cubicBezTo>
              </a:path>
              <a:path w="2035" h="1638">
                <a:moveTo>
                  <a:pt x="7169" y="12948"/>
                </a:moveTo>
                <a:cubicBezTo>
                  <a:pt x="7144" y="12948"/>
                  <a:pt x="7136" y="12948"/>
                  <a:pt x="7144" y="12973"/>
                </a:cubicBezTo>
              </a:path>
              <a:path w="2035" h="1638">
                <a:moveTo>
                  <a:pt x="7144" y="12874"/>
                </a:moveTo>
                <a:cubicBezTo>
                  <a:pt x="7144" y="12849"/>
                  <a:pt x="7144" y="12824"/>
                  <a:pt x="7144" y="12799"/>
                </a:cubicBezTo>
              </a:path>
              <a:path w="2035" h="1638">
                <a:moveTo>
                  <a:pt x="7144" y="12675"/>
                </a:moveTo>
                <a:cubicBezTo>
                  <a:pt x="7144" y="12642"/>
                  <a:pt x="7144" y="12609"/>
                  <a:pt x="7144" y="12576"/>
                </a:cubicBezTo>
              </a:path>
              <a:path w="2035" h="1638">
                <a:moveTo>
                  <a:pt x="7119" y="12452"/>
                </a:moveTo>
                <a:cubicBezTo>
                  <a:pt x="7111" y="12444"/>
                  <a:pt x="7102" y="12435"/>
                  <a:pt x="7094" y="12427"/>
                </a:cubicBezTo>
              </a:path>
              <a:path w="2035" h="1638">
                <a:moveTo>
                  <a:pt x="7119" y="12452"/>
                </a:moveTo>
                <a:cubicBezTo>
                  <a:pt x="7057" y="12399"/>
                  <a:pt x="7067" y="12402"/>
                  <a:pt x="6995" y="12402"/>
                </a:cubicBezTo>
                <a:cubicBezTo>
                  <a:pt x="6983" y="12437"/>
                  <a:pt x="6988" y="12427"/>
                  <a:pt x="6945" y="12427"/>
                </a:cubicBezTo>
              </a:path>
              <a:path w="2035" h="1638">
                <a:moveTo>
                  <a:pt x="6871" y="12402"/>
                </a:moveTo>
                <a:cubicBezTo>
                  <a:pt x="6846" y="12402"/>
                  <a:pt x="6838" y="12402"/>
                  <a:pt x="6821" y="12402"/>
                </a:cubicBezTo>
                <a:cubicBezTo>
                  <a:pt x="6808" y="12440"/>
                  <a:pt x="6792" y="12427"/>
                  <a:pt x="6747" y="12427"/>
                </a:cubicBezTo>
              </a:path>
              <a:path w="2035" h="1638">
                <a:moveTo>
                  <a:pt x="6697" y="12402"/>
                </a:moveTo>
                <a:cubicBezTo>
                  <a:pt x="6647" y="12402"/>
                  <a:pt x="6639" y="12413"/>
                  <a:pt x="6598" y="12427"/>
                </a:cubicBezTo>
                <a:cubicBezTo>
                  <a:pt x="6579" y="12433"/>
                  <a:pt x="6544" y="12427"/>
                  <a:pt x="6524" y="12427"/>
                </a:cubicBezTo>
              </a:path>
              <a:path w="2035" h="1638">
                <a:moveTo>
                  <a:pt x="6474" y="12427"/>
                </a:moveTo>
                <a:cubicBezTo>
                  <a:pt x="6451" y="12404"/>
                  <a:pt x="6447" y="12396"/>
                  <a:pt x="6424" y="12402"/>
                </a:cubicBezTo>
                <a:cubicBezTo>
                  <a:pt x="6413" y="12437"/>
                  <a:pt x="6417" y="12427"/>
                  <a:pt x="6375" y="12427"/>
                </a:cubicBezTo>
              </a:path>
              <a:path w="2035" h="1638">
                <a:moveTo>
                  <a:pt x="6300" y="12427"/>
                </a:moveTo>
                <a:cubicBezTo>
                  <a:pt x="6292" y="12427"/>
                  <a:pt x="6284" y="12427"/>
                  <a:pt x="6276" y="12427"/>
                </a:cubicBezTo>
                <a:cubicBezTo>
                  <a:pt x="6263" y="12389"/>
                  <a:pt x="6246" y="12402"/>
                  <a:pt x="6201" y="12402"/>
                </a:cubicBezTo>
                <a:cubicBezTo>
                  <a:pt x="6160" y="12402"/>
                  <a:pt x="6118" y="12402"/>
                  <a:pt x="6077" y="12402"/>
                </a:cubicBezTo>
                <a:cubicBezTo>
                  <a:pt x="6064" y="12366"/>
                  <a:pt x="6047" y="12378"/>
                  <a:pt x="6003" y="12378"/>
                </a:cubicBezTo>
                <a:cubicBezTo>
                  <a:pt x="5970" y="12378"/>
                  <a:pt x="5937" y="12378"/>
                  <a:pt x="5904" y="12378"/>
                </a:cubicBezTo>
                <a:cubicBezTo>
                  <a:pt x="5892" y="12412"/>
                  <a:pt x="5896" y="12402"/>
                  <a:pt x="5854" y="12402"/>
                </a:cubicBezTo>
              </a:path>
              <a:path w="2035" h="1638">
                <a:moveTo>
                  <a:pt x="6945" y="13494"/>
                </a:moveTo>
                <a:cubicBezTo>
                  <a:pt x="6970" y="13481"/>
                  <a:pt x="6940" y="13454"/>
                  <a:pt x="6921" y="13444"/>
                </a:cubicBezTo>
                <a:cubicBezTo>
                  <a:pt x="6887" y="13427"/>
                  <a:pt x="6843" y="13449"/>
                  <a:pt x="6821" y="13469"/>
                </a:cubicBezTo>
                <a:cubicBezTo>
                  <a:pt x="6782" y="13504"/>
                  <a:pt x="6772" y="13518"/>
                  <a:pt x="6772" y="13568"/>
                </a:cubicBezTo>
                <a:cubicBezTo>
                  <a:pt x="6772" y="13614"/>
                  <a:pt x="6769" y="13637"/>
                  <a:pt x="6821" y="13643"/>
                </a:cubicBezTo>
                <a:cubicBezTo>
                  <a:pt x="6858" y="13647"/>
                  <a:pt x="6886" y="13597"/>
                  <a:pt x="6896" y="13568"/>
                </a:cubicBezTo>
                <a:cubicBezTo>
                  <a:pt x="6896" y="13543"/>
                  <a:pt x="6896" y="13535"/>
                  <a:pt x="6921" y="13543"/>
                </a:cubicBezTo>
                <a:cubicBezTo>
                  <a:pt x="6930" y="13607"/>
                  <a:pt x="6945" y="13646"/>
                  <a:pt x="6945" y="13717"/>
                </a:cubicBezTo>
                <a:cubicBezTo>
                  <a:pt x="6945" y="13749"/>
                  <a:pt x="6962" y="13761"/>
                  <a:pt x="6970" y="13791"/>
                </a:cubicBezTo>
              </a:path>
              <a:path w="2035" h="1638">
                <a:moveTo>
                  <a:pt x="7218" y="13667"/>
                </a:moveTo>
                <a:cubicBezTo>
                  <a:pt x="7180" y="13655"/>
                  <a:pt x="7193" y="13638"/>
                  <a:pt x="7193" y="13593"/>
                </a:cubicBezTo>
                <a:cubicBezTo>
                  <a:pt x="7265" y="13593"/>
                  <a:pt x="7247" y="13586"/>
                  <a:pt x="7293" y="13643"/>
                </a:cubicBezTo>
                <a:cubicBezTo>
                  <a:pt x="7329" y="13687"/>
                  <a:pt x="7317" y="13734"/>
                  <a:pt x="7317" y="13791"/>
                </a:cubicBezTo>
                <a:cubicBezTo>
                  <a:pt x="7264" y="13791"/>
                  <a:pt x="7233" y="13780"/>
                  <a:pt x="7193" y="13742"/>
                </a:cubicBezTo>
                <a:cubicBezTo>
                  <a:pt x="7140" y="13692"/>
                  <a:pt x="7151" y="13671"/>
                  <a:pt x="7119" y="13618"/>
                </a:cubicBezTo>
              </a:path>
              <a:path w="2035" h="1638">
                <a:moveTo>
                  <a:pt x="5333" y="12254"/>
                </a:moveTo>
                <a:cubicBezTo>
                  <a:pt x="5308" y="12254"/>
                  <a:pt x="5300" y="12254"/>
                  <a:pt x="5283" y="12254"/>
                </a:cubicBezTo>
                <a:cubicBezTo>
                  <a:pt x="5283" y="12208"/>
                  <a:pt x="5281" y="12185"/>
                  <a:pt x="5333" y="12179"/>
                </a:cubicBezTo>
                <a:cubicBezTo>
                  <a:pt x="5374" y="12174"/>
                  <a:pt x="5387" y="12154"/>
                  <a:pt x="5432" y="12154"/>
                </a:cubicBezTo>
                <a:cubicBezTo>
                  <a:pt x="5463" y="12154"/>
                  <a:pt x="5478" y="12196"/>
                  <a:pt x="5482" y="12229"/>
                </a:cubicBezTo>
                <a:cubicBezTo>
                  <a:pt x="5488" y="12286"/>
                  <a:pt x="5482" y="12310"/>
                  <a:pt x="5457" y="12353"/>
                </a:cubicBezTo>
                <a:cubicBezTo>
                  <a:pt x="5437" y="12387"/>
                  <a:pt x="5411" y="12441"/>
                  <a:pt x="5407" y="12477"/>
                </a:cubicBezTo>
                <a:cubicBezTo>
                  <a:pt x="5398" y="12554"/>
                  <a:pt x="5455" y="12511"/>
                  <a:pt x="5482" y="12502"/>
                </a:cubicBezTo>
                <a:cubicBezTo>
                  <a:pt x="5526" y="12488"/>
                  <a:pt x="5514" y="12509"/>
                  <a:pt x="5556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62040" y="4759200"/>
            <a:ext cx="366840" cy="401760"/>
          </a:xfrm>
          <a:custGeom>
            <a:avLst/>
            <a:gdLst/>
            <a:ahLst/>
            <a:rect l="l" t="t" r="r" b="b"/>
            <a:pathLst>
              <a:path w="1018" h="1117">
                <a:moveTo>
                  <a:pt x="4589" y="13221"/>
                </a:moveTo>
                <a:cubicBezTo>
                  <a:pt x="4589" y="13293"/>
                  <a:pt x="4572" y="13350"/>
                  <a:pt x="4564" y="13419"/>
                </a:cubicBezTo>
                <a:cubicBezTo>
                  <a:pt x="4553" y="13516"/>
                  <a:pt x="4542" y="13688"/>
                  <a:pt x="4589" y="13767"/>
                </a:cubicBezTo>
              </a:path>
              <a:path w="1018" h="1117">
                <a:moveTo>
                  <a:pt x="4589" y="14114"/>
                </a:moveTo>
                <a:cubicBezTo>
                  <a:pt x="4524" y="14114"/>
                  <a:pt x="4358" y="14087"/>
                  <a:pt x="4341" y="14139"/>
                </a:cubicBezTo>
              </a:path>
              <a:path w="1018" h="1117">
                <a:moveTo>
                  <a:pt x="4961" y="14064"/>
                </a:moveTo>
                <a:cubicBezTo>
                  <a:pt x="4970" y="14030"/>
                  <a:pt x="4991" y="14005"/>
                  <a:pt x="4961" y="13990"/>
                </a:cubicBezTo>
                <a:cubicBezTo>
                  <a:pt x="4913" y="13966"/>
                  <a:pt x="4854" y="14005"/>
                  <a:pt x="4812" y="14015"/>
                </a:cubicBezTo>
                <a:cubicBezTo>
                  <a:pt x="4770" y="14025"/>
                  <a:pt x="4743" y="14042"/>
                  <a:pt x="4738" y="14089"/>
                </a:cubicBezTo>
                <a:cubicBezTo>
                  <a:pt x="4733" y="14133"/>
                  <a:pt x="4739" y="14160"/>
                  <a:pt x="4787" y="14163"/>
                </a:cubicBezTo>
                <a:cubicBezTo>
                  <a:pt x="4832" y="14166"/>
                  <a:pt x="4912" y="14133"/>
                  <a:pt x="4936" y="14089"/>
                </a:cubicBezTo>
                <a:cubicBezTo>
                  <a:pt x="4936" y="14061"/>
                  <a:pt x="4938" y="14050"/>
                  <a:pt x="4961" y="14039"/>
                </a:cubicBezTo>
                <a:cubicBezTo>
                  <a:pt x="4961" y="14138"/>
                  <a:pt x="4961" y="14238"/>
                  <a:pt x="4961" y="14337"/>
                </a:cubicBezTo>
              </a:path>
              <a:path w="1018" h="1117">
                <a:moveTo>
                  <a:pt x="5259" y="14188"/>
                </a:moveTo>
                <a:cubicBezTo>
                  <a:pt x="5238" y="14160"/>
                  <a:pt x="5208" y="14115"/>
                  <a:pt x="5259" y="14089"/>
                </a:cubicBezTo>
                <a:cubicBezTo>
                  <a:pt x="5303" y="14066"/>
                  <a:pt x="5350" y="14131"/>
                  <a:pt x="5358" y="14163"/>
                </a:cubicBezTo>
                <a:cubicBezTo>
                  <a:pt x="5372" y="14213"/>
                  <a:pt x="5363" y="14288"/>
                  <a:pt x="5308" y="14312"/>
                </a:cubicBezTo>
                <a:cubicBezTo>
                  <a:pt x="5274" y="14327"/>
                  <a:pt x="5229" y="14258"/>
                  <a:pt x="5209" y="14238"/>
                </a:cubicBezTo>
                <a:cubicBezTo>
                  <a:pt x="5179" y="14208"/>
                  <a:pt x="5184" y="14203"/>
                  <a:pt x="5184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75000" y="4776840"/>
            <a:ext cx="366840" cy="358560"/>
          </a:xfrm>
          <a:custGeom>
            <a:avLst/>
            <a:gdLst/>
            <a:ahLst/>
            <a:rect l="l" t="t" r="r" b="b"/>
            <a:pathLst>
              <a:path w="1018" h="993">
                <a:moveTo>
                  <a:pt x="9599" y="13295"/>
                </a:moveTo>
                <a:cubicBezTo>
                  <a:pt x="9599" y="13230"/>
                  <a:pt x="9599" y="13381"/>
                  <a:pt x="9599" y="13395"/>
                </a:cubicBezTo>
                <a:cubicBezTo>
                  <a:pt x="9599" y="13444"/>
                  <a:pt x="9599" y="13494"/>
                  <a:pt x="9599" y="13543"/>
                </a:cubicBezTo>
              </a:path>
              <a:path w="1018" h="993">
                <a:moveTo>
                  <a:pt x="9451" y="14039"/>
                </a:moveTo>
                <a:cubicBezTo>
                  <a:pt x="9426" y="14039"/>
                  <a:pt x="9401" y="14039"/>
                  <a:pt x="9376" y="14039"/>
                </a:cubicBezTo>
                <a:cubicBezTo>
                  <a:pt x="9391" y="13981"/>
                  <a:pt x="9423" y="13986"/>
                  <a:pt x="9475" y="13965"/>
                </a:cubicBezTo>
                <a:cubicBezTo>
                  <a:pt x="9517" y="13948"/>
                  <a:pt x="9579" y="13918"/>
                  <a:pt x="9599" y="13990"/>
                </a:cubicBezTo>
                <a:cubicBezTo>
                  <a:pt x="9610" y="14028"/>
                  <a:pt x="9553" y="14115"/>
                  <a:pt x="9525" y="14139"/>
                </a:cubicBezTo>
                <a:cubicBezTo>
                  <a:pt x="9471" y="14184"/>
                  <a:pt x="9451" y="14164"/>
                  <a:pt x="9451" y="14238"/>
                </a:cubicBezTo>
                <a:cubicBezTo>
                  <a:pt x="9508" y="14246"/>
                  <a:pt x="9538" y="14263"/>
                  <a:pt x="9599" y="14263"/>
                </a:cubicBezTo>
              </a:path>
              <a:path w="1018" h="993">
                <a:moveTo>
                  <a:pt x="9723" y="13965"/>
                </a:moveTo>
                <a:cubicBezTo>
                  <a:pt x="9789" y="13965"/>
                  <a:pt x="9834" y="13954"/>
                  <a:pt x="9897" y="13940"/>
                </a:cubicBezTo>
                <a:cubicBezTo>
                  <a:pt x="9954" y="13927"/>
                  <a:pt x="9974" y="13898"/>
                  <a:pt x="10021" y="13940"/>
                </a:cubicBezTo>
                <a:cubicBezTo>
                  <a:pt x="10066" y="13980"/>
                  <a:pt x="10044" y="14015"/>
                  <a:pt x="10021" y="14064"/>
                </a:cubicBezTo>
                <a:cubicBezTo>
                  <a:pt x="9998" y="14111"/>
                  <a:pt x="9952" y="14165"/>
                  <a:pt x="9947" y="14213"/>
                </a:cubicBezTo>
                <a:cubicBezTo>
                  <a:pt x="9947" y="14221"/>
                  <a:pt x="9947" y="14230"/>
                  <a:pt x="9947" y="14238"/>
                </a:cubicBezTo>
              </a:path>
              <a:path w="1018" h="993">
                <a:moveTo>
                  <a:pt x="10244" y="14064"/>
                </a:moveTo>
                <a:cubicBezTo>
                  <a:pt x="10222" y="14033"/>
                  <a:pt x="10215" y="14005"/>
                  <a:pt x="10244" y="13990"/>
                </a:cubicBezTo>
                <a:cubicBezTo>
                  <a:pt x="10297" y="13963"/>
                  <a:pt x="10373" y="13995"/>
                  <a:pt x="10393" y="14039"/>
                </a:cubicBezTo>
                <a:cubicBezTo>
                  <a:pt x="10408" y="14072"/>
                  <a:pt x="10407" y="14193"/>
                  <a:pt x="10368" y="14213"/>
                </a:cubicBezTo>
                <a:cubicBezTo>
                  <a:pt x="10326" y="14235"/>
                  <a:pt x="10293" y="14187"/>
                  <a:pt x="10269" y="14163"/>
                </a:cubicBezTo>
                <a:cubicBezTo>
                  <a:pt x="10261" y="14155"/>
                  <a:pt x="10252" y="14147"/>
                  <a:pt x="10244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52960" y="2411280"/>
            <a:ext cx="1062000" cy="276480"/>
          </a:xfrm>
          <a:custGeom>
            <a:avLst/>
            <a:gdLst/>
            <a:ahLst/>
            <a:rect l="l" t="t" r="r" b="b"/>
            <a:pathLst>
              <a:path w="2953" h="770">
                <a:moveTo>
                  <a:pt x="11857" y="7020"/>
                </a:moveTo>
                <a:cubicBezTo>
                  <a:pt x="11879" y="7043"/>
                  <a:pt x="11884" y="7051"/>
                  <a:pt x="11906" y="7045"/>
                </a:cubicBezTo>
                <a:cubicBezTo>
                  <a:pt x="11837" y="7015"/>
                  <a:pt x="11785" y="7020"/>
                  <a:pt x="11708" y="7020"/>
                </a:cubicBezTo>
                <a:cubicBezTo>
                  <a:pt x="11640" y="7020"/>
                  <a:pt x="11598" y="7037"/>
                  <a:pt x="11534" y="7045"/>
                </a:cubicBezTo>
              </a:path>
              <a:path w="2953" h="770">
                <a:moveTo>
                  <a:pt x="12328" y="6896"/>
                </a:moveTo>
                <a:cubicBezTo>
                  <a:pt x="12363" y="6922"/>
                  <a:pt x="12359" y="6921"/>
                  <a:pt x="12402" y="6921"/>
                </a:cubicBezTo>
                <a:cubicBezTo>
                  <a:pt x="12402" y="6875"/>
                  <a:pt x="12405" y="6852"/>
                  <a:pt x="12353" y="6846"/>
                </a:cubicBezTo>
                <a:cubicBezTo>
                  <a:pt x="12276" y="6837"/>
                  <a:pt x="12243" y="6833"/>
                  <a:pt x="12204" y="6896"/>
                </a:cubicBezTo>
                <a:cubicBezTo>
                  <a:pt x="12168" y="6953"/>
                  <a:pt x="12168" y="6997"/>
                  <a:pt x="12204" y="7045"/>
                </a:cubicBezTo>
                <a:cubicBezTo>
                  <a:pt x="12269" y="7032"/>
                  <a:pt x="12294" y="7001"/>
                  <a:pt x="12328" y="6945"/>
                </a:cubicBezTo>
                <a:cubicBezTo>
                  <a:pt x="12348" y="6905"/>
                  <a:pt x="12357" y="6899"/>
                  <a:pt x="12353" y="6871"/>
                </a:cubicBezTo>
                <a:cubicBezTo>
                  <a:pt x="12389" y="6930"/>
                  <a:pt x="12399" y="6995"/>
                  <a:pt x="12402" y="7069"/>
                </a:cubicBezTo>
                <a:cubicBezTo>
                  <a:pt x="12404" y="7132"/>
                  <a:pt x="12416" y="7161"/>
                  <a:pt x="12427" y="7218"/>
                </a:cubicBezTo>
              </a:path>
              <a:path w="2953" h="770">
                <a:moveTo>
                  <a:pt x="12626" y="7045"/>
                </a:moveTo>
                <a:cubicBezTo>
                  <a:pt x="12618" y="7013"/>
                  <a:pt x="12587" y="6983"/>
                  <a:pt x="12601" y="6945"/>
                </a:cubicBezTo>
                <a:cubicBezTo>
                  <a:pt x="12616" y="6903"/>
                  <a:pt x="12675" y="6863"/>
                  <a:pt x="12725" y="6896"/>
                </a:cubicBezTo>
                <a:cubicBezTo>
                  <a:pt x="12790" y="6939"/>
                  <a:pt x="12820" y="7022"/>
                  <a:pt x="12824" y="7094"/>
                </a:cubicBezTo>
                <a:cubicBezTo>
                  <a:pt x="12824" y="7111"/>
                  <a:pt x="12824" y="7127"/>
                  <a:pt x="12824" y="7144"/>
                </a:cubicBezTo>
                <a:cubicBezTo>
                  <a:pt x="12758" y="7144"/>
                  <a:pt x="12692" y="7144"/>
                  <a:pt x="12626" y="7144"/>
                </a:cubicBezTo>
              </a:path>
              <a:path w="2953" h="770">
                <a:moveTo>
                  <a:pt x="12923" y="7169"/>
                </a:moveTo>
                <a:cubicBezTo>
                  <a:pt x="12969" y="7241"/>
                  <a:pt x="13032" y="7323"/>
                  <a:pt x="12998" y="7417"/>
                </a:cubicBezTo>
                <a:cubicBezTo>
                  <a:pt x="12984" y="7455"/>
                  <a:pt x="12929" y="7460"/>
                  <a:pt x="12898" y="7466"/>
                </a:cubicBezTo>
              </a:path>
              <a:path w="2953" h="770">
                <a:moveTo>
                  <a:pt x="13271" y="6896"/>
                </a:moveTo>
                <a:cubicBezTo>
                  <a:pt x="13263" y="6896"/>
                  <a:pt x="13254" y="6896"/>
                  <a:pt x="13246" y="6896"/>
                </a:cubicBezTo>
                <a:cubicBezTo>
                  <a:pt x="13253" y="6869"/>
                  <a:pt x="13285" y="6806"/>
                  <a:pt x="13320" y="6796"/>
                </a:cubicBezTo>
                <a:cubicBezTo>
                  <a:pt x="13372" y="6781"/>
                  <a:pt x="13425" y="6799"/>
                  <a:pt x="13444" y="6821"/>
                </a:cubicBezTo>
                <a:cubicBezTo>
                  <a:pt x="13485" y="6868"/>
                  <a:pt x="13463" y="6939"/>
                  <a:pt x="13444" y="6995"/>
                </a:cubicBezTo>
                <a:cubicBezTo>
                  <a:pt x="13426" y="7048"/>
                  <a:pt x="13369" y="7079"/>
                  <a:pt x="13395" y="7144"/>
                </a:cubicBezTo>
                <a:cubicBezTo>
                  <a:pt x="13416" y="7196"/>
                  <a:pt x="13488" y="7156"/>
                  <a:pt x="13519" y="7144"/>
                </a:cubicBezTo>
                <a:cubicBezTo>
                  <a:pt x="13564" y="7126"/>
                  <a:pt x="13585" y="7102"/>
                  <a:pt x="13618" y="7069"/>
                </a:cubicBezTo>
              </a:path>
              <a:path w="2953" h="770">
                <a:moveTo>
                  <a:pt x="13717" y="6772"/>
                </a:moveTo>
                <a:cubicBezTo>
                  <a:pt x="13774" y="6772"/>
                  <a:pt x="13795" y="6762"/>
                  <a:pt x="13841" y="6747"/>
                </a:cubicBezTo>
                <a:cubicBezTo>
                  <a:pt x="13897" y="6728"/>
                  <a:pt x="13923" y="6763"/>
                  <a:pt x="13940" y="6772"/>
                </a:cubicBezTo>
                <a:cubicBezTo>
                  <a:pt x="14001" y="6803"/>
                  <a:pt x="13948" y="6863"/>
                  <a:pt x="13940" y="6921"/>
                </a:cubicBezTo>
                <a:cubicBezTo>
                  <a:pt x="13929" y="7006"/>
                  <a:pt x="13896" y="7085"/>
                  <a:pt x="13891" y="7169"/>
                </a:cubicBezTo>
                <a:cubicBezTo>
                  <a:pt x="13891" y="7185"/>
                  <a:pt x="13891" y="7202"/>
                  <a:pt x="13891" y="7218"/>
                </a:cubicBezTo>
              </a:path>
              <a:path w="2953" h="770">
                <a:moveTo>
                  <a:pt x="14188" y="6945"/>
                </a:moveTo>
                <a:cubicBezTo>
                  <a:pt x="14215" y="6878"/>
                  <a:pt x="14239" y="6827"/>
                  <a:pt x="14288" y="6772"/>
                </a:cubicBezTo>
                <a:cubicBezTo>
                  <a:pt x="14336" y="6719"/>
                  <a:pt x="14321" y="6716"/>
                  <a:pt x="14387" y="6697"/>
                </a:cubicBezTo>
                <a:cubicBezTo>
                  <a:pt x="14446" y="6772"/>
                  <a:pt x="14474" y="6875"/>
                  <a:pt x="14486" y="6970"/>
                </a:cubicBezTo>
                <a:cubicBezTo>
                  <a:pt x="14494" y="7029"/>
                  <a:pt x="14514" y="7138"/>
                  <a:pt x="14436" y="7144"/>
                </a:cubicBezTo>
                <a:cubicBezTo>
                  <a:pt x="14340" y="7151"/>
                  <a:pt x="14343" y="7040"/>
                  <a:pt x="14337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6877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830240" y="1473120"/>
            <a:ext cx="849600" cy="357120"/>
          </a:xfrm>
          <a:custGeom>
            <a:avLst/>
            <a:gdLst/>
            <a:ahLst/>
            <a:rect l="l" t="t" r="r" b="b"/>
            <a:pathLst>
              <a:path w="2357" h="993">
                <a:moveTo>
                  <a:pt x="7045" y="4837"/>
                </a:moveTo>
                <a:cubicBezTo>
                  <a:pt x="7053" y="4837"/>
                  <a:pt x="7061" y="4837"/>
                  <a:pt x="7069" y="4837"/>
                </a:cubicBezTo>
                <a:cubicBezTo>
                  <a:pt x="7056" y="4795"/>
                  <a:pt x="7029" y="4806"/>
                  <a:pt x="6995" y="4837"/>
                </a:cubicBezTo>
                <a:cubicBezTo>
                  <a:pt x="6948" y="4879"/>
                  <a:pt x="6883" y="4915"/>
                  <a:pt x="6846" y="4961"/>
                </a:cubicBezTo>
                <a:cubicBezTo>
                  <a:pt x="6812" y="5004"/>
                  <a:pt x="6807" y="5053"/>
                  <a:pt x="6747" y="5060"/>
                </a:cubicBezTo>
                <a:cubicBezTo>
                  <a:pt x="6722" y="5060"/>
                  <a:pt x="6714" y="5060"/>
                  <a:pt x="6722" y="5085"/>
                </a:cubicBezTo>
              </a:path>
              <a:path w="2357" h="993">
                <a:moveTo>
                  <a:pt x="6970" y="5060"/>
                </a:moveTo>
                <a:cubicBezTo>
                  <a:pt x="7002" y="4987"/>
                  <a:pt x="7003" y="4970"/>
                  <a:pt x="6921" y="4936"/>
                </a:cubicBezTo>
                <a:cubicBezTo>
                  <a:pt x="6849" y="4906"/>
                  <a:pt x="6771" y="4879"/>
                  <a:pt x="6697" y="4862"/>
                </a:cubicBezTo>
                <a:cubicBezTo>
                  <a:pt x="6669" y="4862"/>
                  <a:pt x="6658" y="4860"/>
                  <a:pt x="6648" y="4837"/>
                </a:cubicBezTo>
              </a:path>
              <a:path w="2357" h="993">
                <a:moveTo>
                  <a:pt x="5556" y="4564"/>
                </a:moveTo>
                <a:cubicBezTo>
                  <a:pt x="5556" y="4539"/>
                  <a:pt x="5556" y="4531"/>
                  <a:pt x="5556" y="4514"/>
                </a:cubicBezTo>
                <a:cubicBezTo>
                  <a:pt x="5491" y="4514"/>
                  <a:pt x="5443" y="4529"/>
                  <a:pt x="5383" y="4539"/>
                </a:cubicBezTo>
                <a:cubicBezTo>
                  <a:pt x="5321" y="4549"/>
                  <a:pt x="5317" y="4556"/>
                  <a:pt x="5259" y="4589"/>
                </a:cubicBezTo>
              </a:path>
              <a:path w="2357" h="993">
                <a:moveTo>
                  <a:pt x="5978" y="4291"/>
                </a:moveTo>
                <a:cubicBezTo>
                  <a:pt x="5953" y="4291"/>
                  <a:pt x="5945" y="4291"/>
                  <a:pt x="5928" y="4291"/>
                </a:cubicBezTo>
                <a:cubicBezTo>
                  <a:pt x="5940" y="4243"/>
                  <a:pt x="5976" y="4210"/>
                  <a:pt x="6028" y="4192"/>
                </a:cubicBezTo>
                <a:cubicBezTo>
                  <a:pt x="6078" y="4175"/>
                  <a:pt x="6125" y="4200"/>
                  <a:pt x="6152" y="4242"/>
                </a:cubicBezTo>
                <a:cubicBezTo>
                  <a:pt x="6201" y="4319"/>
                  <a:pt x="6166" y="4371"/>
                  <a:pt x="6127" y="4440"/>
                </a:cubicBezTo>
                <a:cubicBezTo>
                  <a:pt x="6104" y="4481"/>
                  <a:pt x="6086" y="4519"/>
                  <a:pt x="6077" y="4564"/>
                </a:cubicBezTo>
                <a:cubicBezTo>
                  <a:pt x="6131" y="4577"/>
                  <a:pt x="6193" y="4574"/>
                  <a:pt x="6251" y="4589"/>
                </a:cubicBezTo>
                <a:cubicBezTo>
                  <a:pt x="6329" y="4610"/>
                  <a:pt x="6368" y="4605"/>
                  <a:pt x="6375" y="4688"/>
                </a:cubicBezTo>
                <a:cubicBezTo>
                  <a:pt x="6383" y="4781"/>
                  <a:pt x="6369" y="4762"/>
                  <a:pt x="6300" y="4787"/>
                </a:cubicBezTo>
                <a:cubicBezTo>
                  <a:pt x="6237" y="4810"/>
                  <a:pt x="6196" y="4812"/>
                  <a:pt x="6127" y="4812"/>
                </a:cubicBezTo>
                <a:cubicBezTo>
                  <a:pt x="6119" y="4812"/>
                  <a:pt x="6110" y="4812"/>
                  <a:pt x="6102" y="4812"/>
                </a:cubicBezTo>
              </a:path>
              <a:path w="2357" h="993">
                <a:moveTo>
                  <a:pt x="6524" y="4539"/>
                </a:moveTo>
                <a:cubicBezTo>
                  <a:pt x="6565" y="4539"/>
                  <a:pt x="6573" y="4539"/>
                  <a:pt x="6598" y="4539"/>
                </a:cubicBezTo>
                <a:cubicBezTo>
                  <a:pt x="6598" y="4607"/>
                  <a:pt x="6606" y="4658"/>
                  <a:pt x="6573" y="4713"/>
                </a:cubicBezTo>
              </a:path>
              <a:path w="2357" h="993">
                <a:moveTo>
                  <a:pt x="6772" y="4167"/>
                </a:moveTo>
                <a:cubicBezTo>
                  <a:pt x="6792" y="4127"/>
                  <a:pt x="6800" y="4120"/>
                  <a:pt x="6796" y="4093"/>
                </a:cubicBezTo>
                <a:cubicBezTo>
                  <a:pt x="6824" y="4107"/>
                  <a:pt x="6791" y="4140"/>
                  <a:pt x="6772" y="4192"/>
                </a:cubicBezTo>
                <a:cubicBezTo>
                  <a:pt x="6737" y="4287"/>
                  <a:pt x="6739" y="4400"/>
                  <a:pt x="6796" y="4490"/>
                </a:cubicBezTo>
                <a:cubicBezTo>
                  <a:pt x="6836" y="4552"/>
                  <a:pt x="6947" y="4607"/>
                  <a:pt x="7020" y="4589"/>
                </a:cubicBezTo>
                <a:cubicBezTo>
                  <a:pt x="7078" y="4574"/>
                  <a:pt x="7079" y="4533"/>
                  <a:pt x="7045" y="4490"/>
                </a:cubicBezTo>
                <a:cubicBezTo>
                  <a:pt x="7010" y="4446"/>
                  <a:pt x="6955" y="4417"/>
                  <a:pt x="6896" y="4440"/>
                </a:cubicBezTo>
                <a:cubicBezTo>
                  <a:pt x="6888" y="4448"/>
                  <a:pt x="6879" y="4457"/>
                  <a:pt x="6871" y="4465"/>
                </a:cubicBezTo>
              </a:path>
              <a:path w="2357" h="993">
                <a:moveTo>
                  <a:pt x="6970" y="4192"/>
                </a:moveTo>
                <a:cubicBezTo>
                  <a:pt x="7007" y="4147"/>
                  <a:pt x="7033" y="4125"/>
                  <a:pt x="7094" y="4118"/>
                </a:cubicBezTo>
                <a:cubicBezTo>
                  <a:pt x="7176" y="4109"/>
                  <a:pt x="7218" y="4153"/>
                  <a:pt x="7268" y="4217"/>
                </a:cubicBezTo>
                <a:cubicBezTo>
                  <a:pt x="7337" y="4305"/>
                  <a:pt x="7424" y="4427"/>
                  <a:pt x="7441" y="4539"/>
                </a:cubicBezTo>
                <a:cubicBezTo>
                  <a:pt x="7458" y="4654"/>
                  <a:pt x="7436" y="4719"/>
                  <a:pt x="7342" y="4787"/>
                </a:cubicBezTo>
                <a:cubicBezTo>
                  <a:pt x="7293" y="4812"/>
                  <a:pt x="7276" y="4821"/>
                  <a:pt x="7243" y="4837"/>
                </a:cubicBezTo>
              </a:path>
              <a:path w="2357" h="993">
                <a:moveTo>
                  <a:pt x="5184" y="4217"/>
                </a:moveTo>
                <a:cubicBezTo>
                  <a:pt x="5192" y="4192"/>
                  <a:pt x="5201" y="4167"/>
                  <a:pt x="5209" y="4142"/>
                </a:cubicBezTo>
                <a:cubicBezTo>
                  <a:pt x="5162" y="4200"/>
                  <a:pt x="5097" y="4319"/>
                  <a:pt x="5085" y="4390"/>
                </a:cubicBezTo>
                <a:cubicBezTo>
                  <a:pt x="5059" y="4539"/>
                  <a:pt x="5089" y="4706"/>
                  <a:pt x="5159" y="4837"/>
                </a:cubicBezTo>
                <a:cubicBezTo>
                  <a:pt x="5200" y="4915"/>
                  <a:pt x="5269" y="4954"/>
                  <a:pt x="5333" y="5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14720" y="2428920"/>
            <a:ext cx="465120" cy="241200"/>
          </a:xfrm>
          <a:custGeom>
            <a:avLst/>
            <a:gdLst/>
            <a:ahLst/>
            <a:rect l="l" t="t" r="r" b="b"/>
            <a:pathLst>
              <a:path w="1290" h="671">
                <a:moveTo>
                  <a:pt x="6251" y="6871"/>
                </a:moveTo>
                <a:cubicBezTo>
                  <a:pt x="6231" y="6832"/>
                  <a:pt x="6200" y="6904"/>
                  <a:pt x="6176" y="6945"/>
                </a:cubicBezTo>
                <a:cubicBezTo>
                  <a:pt x="6161" y="6971"/>
                  <a:pt x="6125" y="7092"/>
                  <a:pt x="6152" y="7119"/>
                </a:cubicBezTo>
                <a:cubicBezTo>
                  <a:pt x="6196" y="7164"/>
                  <a:pt x="6297" y="7144"/>
                  <a:pt x="6350" y="7144"/>
                </a:cubicBezTo>
                <a:cubicBezTo>
                  <a:pt x="6391" y="7144"/>
                  <a:pt x="6458" y="7138"/>
                  <a:pt x="6474" y="7193"/>
                </a:cubicBezTo>
                <a:cubicBezTo>
                  <a:pt x="6495" y="7265"/>
                  <a:pt x="6480" y="7310"/>
                  <a:pt x="6424" y="7342"/>
                </a:cubicBezTo>
                <a:cubicBezTo>
                  <a:pt x="6372" y="7371"/>
                  <a:pt x="6310" y="7411"/>
                  <a:pt x="6251" y="7417"/>
                </a:cubicBezTo>
                <a:cubicBezTo>
                  <a:pt x="6243" y="7417"/>
                  <a:pt x="6234" y="7417"/>
                  <a:pt x="6226" y="7417"/>
                </a:cubicBezTo>
              </a:path>
              <a:path w="1290" h="671">
                <a:moveTo>
                  <a:pt x="6474" y="6796"/>
                </a:moveTo>
                <a:cubicBezTo>
                  <a:pt x="6482" y="6780"/>
                  <a:pt x="6491" y="6763"/>
                  <a:pt x="6499" y="6747"/>
                </a:cubicBezTo>
                <a:cubicBezTo>
                  <a:pt x="6440" y="6762"/>
                  <a:pt x="6430" y="6786"/>
                  <a:pt x="6375" y="6821"/>
                </a:cubicBezTo>
                <a:cubicBezTo>
                  <a:pt x="6322" y="6855"/>
                  <a:pt x="6309" y="6863"/>
                  <a:pt x="6251" y="6871"/>
                </a:cubicBezTo>
              </a:path>
              <a:path w="1290" h="671">
                <a:moveTo>
                  <a:pt x="6796" y="7094"/>
                </a:moveTo>
                <a:cubicBezTo>
                  <a:pt x="6821" y="7094"/>
                  <a:pt x="6829" y="7094"/>
                  <a:pt x="6846" y="7094"/>
                </a:cubicBezTo>
                <a:cubicBezTo>
                  <a:pt x="6828" y="7149"/>
                  <a:pt x="6801" y="7096"/>
                  <a:pt x="6747" y="7119"/>
                </a:cubicBezTo>
                <a:cubicBezTo>
                  <a:pt x="6711" y="7134"/>
                  <a:pt x="6682" y="7148"/>
                  <a:pt x="6648" y="7169"/>
                </a:cubicBezTo>
              </a:path>
              <a:path w="1290" h="671">
                <a:moveTo>
                  <a:pt x="7069" y="7094"/>
                </a:moveTo>
                <a:cubicBezTo>
                  <a:pt x="7053" y="7094"/>
                  <a:pt x="7036" y="7094"/>
                  <a:pt x="7020" y="7094"/>
                </a:cubicBezTo>
                <a:cubicBezTo>
                  <a:pt x="7031" y="7050"/>
                  <a:pt x="7067" y="7007"/>
                  <a:pt x="7119" y="6995"/>
                </a:cubicBezTo>
                <a:cubicBezTo>
                  <a:pt x="7181" y="6980"/>
                  <a:pt x="7256" y="7031"/>
                  <a:pt x="7268" y="7094"/>
                </a:cubicBezTo>
                <a:cubicBezTo>
                  <a:pt x="7281" y="7165"/>
                  <a:pt x="7271" y="7245"/>
                  <a:pt x="7193" y="7268"/>
                </a:cubicBezTo>
                <a:cubicBezTo>
                  <a:pt x="7130" y="7287"/>
                  <a:pt x="7051" y="7264"/>
                  <a:pt x="6995" y="7243"/>
                </a:cubicBezTo>
              </a:path>
              <a:path w="1290" h="671">
                <a:moveTo>
                  <a:pt x="7293" y="6945"/>
                </a:moveTo>
                <a:cubicBezTo>
                  <a:pt x="7293" y="7007"/>
                  <a:pt x="7256" y="7037"/>
                  <a:pt x="7243" y="7094"/>
                </a:cubicBezTo>
                <a:cubicBezTo>
                  <a:pt x="7228" y="7163"/>
                  <a:pt x="7242" y="7246"/>
                  <a:pt x="7317" y="7268"/>
                </a:cubicBezTo>
                <a:cubicBezTo>
                  <a:pt x="7389" y="7289"/>
                  <a:pt x="7409" y="7238"/>
                  <a:pt x="7441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51120" y="2411280"/>
            <a:ext cx="115920" cy="8892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7665" y="6747"/>
                </a:moveTo>
                <a:cubicBezTo>
                  <a:pt x="7657" y="6739"/>
                  <a:pt x="7648" y="6730"/>
                  <a:pt x="7640" y="6722"/>
                </a:cubicBezTo>
                <a:cubicBezTo>
                  <a:pt x="7676" y="6710"/>
                  <a:pt x="7680" y="6697"/>
                  <a:pt x="7739" y="6697"/>
                </a:cubicBezTo>
                <a:cubicBezTo>
                  <a:pt x="7764" y="6697"/>
                  <a:pt x="7772" y="6697"/>
                  <a:pt x="7789" y="6697"/>
                </a:cubicBezTo>
                <a:cubicBezTo>
                  <a:pt x="7789" y="6737"/>
                  <a:pt x="7783" y="6789"/>
                  <a:pt x="7764" y="6821"/>
                </a:cubicBezTo>
                <a:cubicBezTo>
                  <a:pt x="7738" y="6864"/>
                  <a:pt x="7739" y="6892"/>
                  <a:pt x="7739" y="6945"/>
                </a:cubicBezTo>
                <a:cubicBezTo>
                  <a:pt x="7805" y="6945"/>
                  <a:pt x="7851" y="6948"/>
                  <a:pt x="7913" y="6921"/>
                </a:cubicBezTo>
                <a:cubicBezTo>
                  <a:pt x="7929" y="6913"/>
                  <a:pt x="7946" y="6904"/>
                  <a:pt x="7962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54840" y="946080"/>
            <a:ext cx="438120" cy="250920"/>
          </a:xfrm>
          <a:custGeom>
            <a:avLst/>
            <a:gdLst/>
            <a:ahLst/>
            <a:rect l="l" t="t" r="r" b="b"/>
            <a:pathLst>
              <a:path w="1216" h="696">
                <a:moveTo>
                  <a:pt x="17041" y="2828"/>
                </a:moveTo>
                <a:cubicBezTo>
                  <a:pt x="17097" y="2853"/>
                  <a:pt x="17118" y="2870"/>
                  <a:pt x="17165" y="2828"/>
                </a:cubicBezTo>
                <a:cubicBezTo>
                  <a:pt x="17190" y="2805"/>
                  <a:pt x="17214" y="2685"/>
                  <a:pt x="17190" y="2654"/>
                </a:cubicBezTo>
                <a:cubicBezTo>
                  <a:pt x="17157" y="2611"/>
                  <a:pt x="17049" y="2620"/>
                  <a:pt x="17016" y="2654"/>
                </a:cubicBezTo>
                <a:cubicBezTo>
                  <a:pt x="16940" y="2730"/>
                  <a:pt x="16903" y="2876"/>
                  <a:pt x="16892" y="2977"/>
                </a:cubicBezTo>
                <a:cubicBezTo>
                  <a:pt x="16879" y="3089"/>
                  <a:pt x="16892" y="3211"/>
                  <a:pt x="16892" y="3324"/>
                </a:cubicBezTo>
              </a:path>
              <a:path w="1216" h="696">
                <a:moveTo>
                  <a:pt x="16991" y="3125"/>
                </a:moveTo>
                <a:cubicBezTo>
                  <a:pt x="16991" y="3117"/>
                  <a:pt x="16991" y="3109"/>
                  <a:pt x="16991" y="3101"/>
                </a:cubicBezTo>
                <a:cubicBezTo>
                  <a:pt x="16949" y="3111"/>
                  <a:pt x="16911" y="3129"/>
                  <a:pt x="16867" y="3150"/>
                </a:cubicBezTo>
                <a:cubicBezTo>
                  <a:pt x="16851" y="3158"/>
                  <a:pt x="16834" y="3167"/>
                  <a:pt x="16818" y="3175"/>
                </a:cubicBezTo>
              </a:path>
              <a:path w="1216" h="696">
                <a:moveTo>
                  <a:pt x="17363" y="2778"/>
                </a:moveTo>
                <a:cubicBezTo>
                  <a:pt x="17409" y="2740"/>
                  <a:pt x="17426" y="2739"/>
                  <a:pt x="17438" y="2704"/>
                </a:cubicBezTo>
                <a:cubicBezTo>
                  <a:pt x="17394" y="2759"/>
                  <a:pt x="17343" y="2838"/>
                  <a:pt x="17314" y="2902"/>
                </a:cubicBezTo>
                <a:cubicBezTo>
                  <a:pt x="17271" y="2995"/>
                  <a:pt x="17274" y="3096"/>
                  <a:pt x="17338" y="3175"/>
                </a:cubicBezTo>
                <a:cubicBezTo>
                  <a:pt x="17346" y="3183"/>
                  <a:pt x="17355" y="3192"/>
                  <a:pt x="17363" y="3200"/>
                </a:cubicBezTo>
              </a:path>
              <a:path w="1216" h="696">
                <a:moveTo>
                  <a:pt x="17413" y="3125"/>
                </a:moveTo>
                <a:cubicBezTo>
                  <a:pt x="17440" y="3085"/>
                  <a:pt x="17474" y="3045"/>
                  <a:pt x="17537" y="3076"/>
                </a:cubicBezTo>
                <a:cubicBezTo>
                  <a:pt x="17571" y="3093"/>
                  <a:pt x="17607" y="3141"/>
                  <a:pt x="17611" y="3175"/>
                </a:cubicBezTo>
                <a:cubicBezTo>
                  <a:pt x="17616" y="3218"/>
                  <a:pt x="17573" y="3245"/>
                  <a:pt x="17537" y="3249"/>
                </a:cubicBezTo>
                <a:cubicBezTo>
                  <a:pt x="17512" y="3249"/>
                  <a:pt x="17504" y="3249"/>
                  <a:pt x="17487" y="3249"/>
                </a:cubicBezTo>
              </a:path>
              <a:path w="1216" h="696">
                <a:moveTo>
                  <a:pt x="17661" y="3076"/>
                </a:moveTo>
                <a:cubicBezTo>
                  <a:pt x="17669" y="3068"/>
                  <a:pt x="17678" y="3059"/>
                  <a:pt x="17686" y="3051"/>
                </a:cubicBezTo>
                <a:cubicBezTo>
                  <a:pt x="17658" y="3107"/>
                  <a:pt x="17596" y="3183"/>
                  <a:pt x="17611" y="3249"/>
                </a:cubicBezTo>
                <a:cubicBezTo>
                  <a:pt x="17629" y="3329"/>
                  <a:pt x="17697" y="3324"/>
                  <a:pt x="17760" y="3324"/>
                </a:cubicBezTo>
              </a:path>
              <a:path w="1216" h="696">
                <a:moveTo>
                  <a:pt x="17810" y="2753"/>
                </a:moveTo>
                <a:cubicBezTo>
                  <a:pt x="17845" y="2693"/>
                  <a:pt x="17867" y="2646"/>
                  <a:pt x="17934" y="2704"/>
                </a:cubicBezTo>
                <a:cubicBezTo>
                  <a:pt x="18027" y="2785"/>
                  <a:pt x="18030" y="2911"/>
                  <a:pt x="18033" y="3026"/>
                </a:cubicBezTo>
                <a:cubicBezTo>
                  <a:pt x="18035" y="3113"/>
                  <a:pt x="18008" y="3258"/>
                  <a:pt x="17934" y="3324"/>
                </a:cubicBezTo>
                <a:cubicBezTo>
                  <a:pt x="17926" y="3324"/>
                  <a:pt x="17917" y="3324"/>
                  <a:pt x="17909" y="3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24800" y="1098720"/>
            <a:ext cx="54000" cy="5364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8802" y="3051"/>
                </a:moveTo>
                <a:cubicBezTo>
                  <a:pt x="18810" y="3051"/>
                  <a:pt x="18819" y="3051"/>
                  <a:pt x="18827" y="3051"/>
                </a:cubicBezTo>
                <a:cubicBezTo>
                  <a:pt x="18819" y="3074"/>
                  <a:pt x="18784" y="3090"/>
                  <a:pt x="18752" y="3101"/>
                </a:cubicBezTo>
                <a:cubicBezTo>
                  <a:pt x="18733" y="3107"/>
                  <a:pt x="18698" y="3101"/>
                  <a:pt x="18678" y="3101"/>
                </a:cubicBezTo>
              </a:path>
              <a:path w="150" h="150">
                <a:moveTo>
                  <a:pt x="18802" y="3175"/>
                </a:moveTo>
                <a:cubicBezTo>
                  <a:pt x="18810" y="3175"/>
                  <a:pt x="18819" y="3175"/>
                  <a:pt x="18827" y="3175"/>
                </a:cubicBezTo>
                <a:cubicBezTo>
                  <a:pt x="18814" y="3213"/>
                  <a:pt x="18797" y="3200"/>
                  <a:pt x="18752" y="32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170840" y="938160"/>
            <a:ext cx="12528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9943" y="2853"/>
                </a:moveTo>
                <a:cubicBezTo>
                  <a:pt x="19952" y="2793"/>
                  <a:pt x="19979" y="2781"/>
                  <a:pt x="19993" y="2729"/>
                </a:cubicBezTo>
                <a:cubicBezTo>
                  <a:pt x="19978" y="2734"/>
                  <a:pt x="19926" y="2774"/>
                  <a:pt x="19918" y="2803"/>
                </a:cubicBezTo>
                <a:cubicBezTo>
                  <a:pt x="19894" y="2886"/>
                  <a:pt x="19928" y="2917"/>
                  <a:pt x="19993" y="2952"/>
                </a:cubicBezTo>
                <a:cubicBezTo>
                  <a:pt x="20058" y="2987"/>
                  <a:pt x="20140" y="2985"/>
                  <a:pt x="20191" y="3026"/>
                </a:cubicBezTo>
                <a:cubicBezTo>
                  <a:pt x="20222" y="3051"/>
                  <a:pt x="20232" y="3067"/>
                  <a:pt x="20241" y="3101"/>
                </a:cubicBezTo>
                <a:cubicBezTo>
                  <a:pt x="20173" y="3154"/>
                  <a:pt x="20146" y="3159"/>
                  <a:pt x="20067" y="3125"/>
                </a:cubicBezTo>
                <a:cubicBezTo>
                  <a:pt x="20019" y="3102"/>
                  <a:pt x="20004" y="3094"/>
                  <a:pt x="19968" y="3101"/>
                </a:cubicBezTo>
              </a:path>
              <a:path w="348" h="547">
                <a:moveTo>
                  <a:pt x="20265" y="2654"/>
                </a:moveTo>
                <a:cubicBezTo>
                  <a:pt x="20265" y="2637"/>
                  <a:pt x="20265" y="2621"/>
                  <a:pt x="20265" y="2604"/>
                </a:cubicBezTo>
                <a:cubicBezTo>
                  <a:pt x="20210" y="2618"/>
                  <a:pt x="20156" y="2645"/>
                  <a:pt x="20092" y="2654"/>
                </a:cubicBezTo>
                <a:cubicBezTo>
                  <a:pt x="20047" y="2654"/>
                  <a:pt x="20034" y="2651"/>
                  <a:pt x="20017" y="26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12040" y="1071720"/>
            <a:ext cx="81000" cy="17280"/>
          </a:xfrm>
          <a:custGeom>
            <a:avLst/>
            <a:gdLst/>
            <a:ahLst/>
            <a:rect l="l" t="t" r="r" b="b"/>
            <a:pathLst>
              <a:path w="224" h="50">
                <a:moveTo>
                  <a:pt x="20588" y="2977"/>
                </a:moveTo>
                <a:cubicBezTo>
                  <a:pt x="20616" y="3004"/>
                  <a:pt x="20642" y="3042"/>
                  <a:pt x="20687" y="3026"/>
                </a:cubicBezTo>
                <a:cubicBezTo>
                  <a:pt x="20732" y="3010"/>
                  <a:pt x="20767" y="2996"/>
                  <a:pt x="20811" y="29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89880" y="965160"/>
            <a:ext cx="349200" cy="187200"/>
          </a:xfrm>
          <a:custGeom>
            <a:avLst/>
            <a:gdLst/>
            <a:ahLst/>
            <a:rect l="l" t="t" r="r" b="b"/>
            <a:pathLst>
              <a:path w="968" h="522">
                <a:moveTo>
                  <a:pt x="21084" y="3001"/>
                </a:moveTo>
                <a:cubicBezTo>
                  <a:pt x="21139" y="2936"/>
                  <a:pt x="21172" y="2940"/>
                  <a:pt x="21258" y="2977"/>
                </a:cubicBezTo>
                <a:cubicBezTo>
                  <a:pt x="21302" y="2996"/>
                  <a:pt x="21374" y="3039"/>
                  <a:pt x="21357" y="3101"/>
                </a:cubicBezTo>
                <a:cubicBezTo>
                  <a:pt x="21339" y="3168"/>
                  <a:pt x="21293" y="3196"/>
                  <a:pt x="21233" y="3200"/>
                </a:cubicBezTo>
                <a:cubicBezTo>
                  <a:pt x="21181" y="3200"/>
                  <a:pt x="21163" y="3199"/>
                  <a:pt x="21134" y="3175"/>
                </a:cubicBezTo>
              </a:path>
              <a:path w="968" h="522">
                <a:moveTo>
                  <a:pt x="21481" y="2902"/>
                </a:moveTo>
                <a:cubicBezTo>
                  <a:pt x="21501" y="2862"/>
                  <a:pt x="21510" y="2856"/>
                  <a:pt x="21506" y="2828"/>
                </a:cubicBezTo>
                <a:cubicBezTo>
                  <a:pt x="21433" y="2843"/>
                  <a:pt x="21410" y="2853"/>
                  <a:pt x="21406" y="2927"/>
                </a:cubicBezTo>
                <a:cubicBezTo>
                  <a:pt x="21401" y="3011"/>
                  <a:pt x="21412" y="3074"/>
                  <a:pt x="21506" y="3101"/>
                </a:cubicBezTo>
                <a:cubicBezTo>
                  <a:pt x="21555" y="3101"/>
                  <a:pt x="21572" y="3101"/>
                  <a:pt x="21605" y="3101"/>
                </a:cubicBezTo>
              </a:path>
              <a:path w="968" h="522">
                <a:moveTo>
                  <a:pt x="21779" y="2679"/>
                </a:moveTo>
                <a:cubicBezTo>
                  <a:pt x="21771" y="2687"/>
                  <a:pt x="21762" y="2696"/>
                  <a:pt x="21754" y="2704"/>
                </a:cubicBezTo>
                <a:cubicBezTo>
                  <a:pt x="21767" y="2666"/>
                  <a:pt x="21783" y="2679"/>
                  <a:pt x="21828" y="2679"/>
                </a:cubicBezTo>
                <a:cubicBezTo>
                  <a:pt x="21868" y="2679"/>
                  <a:pt x="21916" y="2680"/>
                  <a:pt x="21927" y="2704"/>
                </a:cubicBezTo>
                <a:cubicBezTo>
                  <a:pt x="21927" y="2712"/>
                  <a:pt x="21927" y="2721"/>
                  <a:pt x="21927" y="2729"/>
                </a:cubicBezTo>
                <a:cubicBezTo>
                  <a:pt x="21907" y="2756"/>
                  <a:pt x="21867" y="2796"/>
                  <a:pt x="21853" y="2828"/>
                </a:cubicBezTo>
                <a:cubicBezTo>
                  <a:pt x="21837" y="2864"/>
                  <a:pt x="21872" y="2913"/>
                  <a:pt x="21903" y="2927"/>
                </a:cubicBezTo>
                <a:cubicBezTo>
                  <a:pt x="21937" y="2943"/>
                  <a:pt x="22002" y="2919"/>
                  <a:pt x="22027" y="2902"/>
                </a:cubicBezTo>
                <a:cubicBezTo>
                  <a:pt x="22035" y="2894"/>
                  <a:pt x="22043" y="2885"/>
                  <a:pt x="22051" y="28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81360" y="1438200"/>
            <a:ext cx="579600" cy="268200"/>
          </a:xfrm>
          <a:custGeom>
            <a:avLst/>
            <a:gdLst/>
            <a:ahLst/>
            <a:rect l="l" t="t" r="r" b="b"/>
            <a:pathLst>
              <a:path w="1613" h="745">
                <a:moveTo>
                  <a:pt x="12973" y="4217"/>
                </a:moveTo>
                <a:cubicBezTo>
                  <a:pt x="12929" y="4217"/>
                  <a:pt x="12922" y="4211"/>
                  <a:pt x="12898" y="4192"/>
                </a:cubicBezTo>
                <a:cubicBezTo>
                  <a:pt x="12890" y="4184"/>
                  <a:pt x="12882" y="4175"/>
                  <a:pt x="12874" y="4167"/>
                </a:cubicBezTo>
                <a:cubicBezTo>
                  <a:pt x="12891" y="4220"/>
                  <a:pt x="12916" y="4173"/>
                  <a:pt x="12948" y="4142"/>
                </a:cubicBezTo>
                <a:cubicBezTo>
                  <a:pt x="12987" y="4104"/>
                  <a:pt x="13068" y="4055"/>
                  <a:pt x="13122" y="4043"/>
                </a:cubicBezTo>
                <a:cubicBezTo>
                  <a:pt x="13195" y="4027"/>
                  <a:pt x="13218" y="4086"/>
                  <a:pt x="13221" y="4142"/>
                </a:cubicBezTo>
                <a:cubicBezTo>
                  <a:pt x="13226" y="4222"/>
                  <a:pt x="13187" y="4278"/>
                  <a:pt x="13122" y="4316"/>
                </a:cubicBezTo>
                <a:cubicBezTo>
                  <a:pt x="13078" y="4338"/>
                  <a:pt x="13066" y="4341"/>
                  <a:pt x="13047" y="4366"/>
                </a:cubicBezTo>
                <a:cubicBezTo>
                  <a:pt x="13067" y="4395"/>
                  <a:pt x="13122" y="4392"/>
                  <a:pt x="13171" y="4415"/>
                </a:cubicBezTo>
                <a:cubicBezTo>
                  <a:pt x="13238" y="4447"/>
                  <a:pt x="13289" y="4424"/>
                  <a:pt x="13295" y="4514"/>
                </a:cubicBezTo>
                <a:cubicBezTo>
                  <a:pt x="13298" y="4565"/>
                  <a:pt x="13306" y="4610"/>
                  <a:pt x="13246" y="4614"/>
                </a:cubicBezTo>
                <a:cubicBezTo>
                  <a:pt x="13191" y="4618"/>
                  <a:pt x="13151" y="4638"/>
                  <a:pt x="13097" y="4638"/>
                </a:cubicBezTo>
                <a:cubicBezTo>
                  <a:pt x="13089" y="4638"/>
                  <a:pt x="13080" y="4638"/>
                  <a:pt x="13072" y="4638"/>
                </a:cubicBezTo>
              </a:path>
              <a:path w="1613" h="745">
                <a:moveTo>
                  <a:pt x="13494" y="4539"/>
                </a:moveTo>
                <a:cubicBezTo>
                  <a:pt x="13502" y="4539"/>
                  <a:pt x="13511" y="4539"/>
                  <a:pt x="13519" y="4539"/>
                </a:cubicBezTo>
                <a:cubicBezTo>
                  <a:pt x="13519" y="4593"/>
                  <a:pt x="13529" y="4624"/>
                  <a:pt x="13494" y="4663"/>
                </a:cubicBezTo>
                <a:cubicBezTo>
                  <a:pt x="13486" y="4671"/>
                  <a:pt x="13477" y="4680"/>
                  <a:pt x="13469" y="4688"/>
                </a:cubicBezTo>
              </a:path>
              <a:path w="1613" h="745">
                <a:moveTo>
                  <a:pt x="13791" y="4192"/>
                </a:moveTo>
                <a:cubicBezTo>
                  <a:pt x="13798" y="4163"/>
                  <a:pt x="13808" y="4147"/>
                  <a:pt x="13816" y="4118"/>
                </a:cubicBezTo>
                <a:cubicBezTo>
                  <a:pt x="13779" y="4165"/>
                  <a:pt x="13763" y="4230"/>
                  <a:pt x="13742" y="4291"/>
                </a:cubicBezTo>
                <a:cubicBezTo>
                  <a:pt x="13720" y="4354"/>
                  <a:pt x="13684" y="4481"/>
                  <a:pt x="13742" y="4539"/>
                </a:cubicBezTo>
                <a:cubicBezTo>
                  <a:pt x="13767" y="4564"/>
                  <a:pt x="13859" y="4581"/>
                  <a:pt x="13891" y="4564"/>
                </a:cubicBezTo>
                <a:cubicBezTo>
                  <a:pt x="13927" y="4546"/>
                  <a:pt x="13934" y="4456"/>
                  <a:pt x="13891" y="4440"/>
                </a:cubicBezTo>
                <a:cubicBezTo>
                  <a:pt x="13852" y="4425"/>
                  <a:pt x="13809" y="4421"/>
                  <a:pt x="13767" y="4415"/>
                </a:cubicBezTo>
              </a:path>
              <a:path w="1613" h="745">
                <a:moveTo>
                  <a:pt x="13965" y="4093"/>
                </a:moveTo>
                <a:cubicBezTo>
                  <a:pt x="13996" y="4038"/>
                  <a:pt x="14014" y="3996"/>
                  <a:pt x="14089" y="4018"/>
                </a:cubicBezTo>
                <a:cubicBezTo>
                  <a:pt x="14161" y="4039"/>
                  <a:pt x="14231" y="4130"/>
                  <a:pt x="14263" y="4192"/>
                </a:cubicBezTo>
                <a:cubicBezTo>
                  <a:pt x="14296" y="4258"/>
                  <a:pt x="14350" y="4391"/>
                  <a:pt x="14337" y="4465"/>
                </a:cubicBezTo>
                <a:cubicBezTo>
                  <a:pt x="14323" y="4546"/>
                  <a:pt x="14274" y="4596"/>
                  <a:pt x="14213" y="4638"/>
                </a:cubicBezTo>
              </a:path>
              <a:path w="1613" h="745">
                <a:moveTo>
                  <a:pt x="12824" y="4043"/>
                </a:moveTo>
                <a:cubicBezTo>
                  <a:pt x="12846" y="4021"/>
                  <a:pt x="12855" y="4016"/>
                  <a:pt x="12849" y="3994"/>
                </a:cubicBezTo>
                <a:cubicBezTo>
                  <a:pt x="12832" y="4061"/>
                  <a:pt x="12775" y="4124"/>
                  <a:pt x="12750" y="4192"/>
                </a:cubicBezTo>
                <a:cubicBezTo>
                  <a:pt x="12705" y="4311"/>
                  <a:pt x="12717" y="4446"/>
                  <a:pt x="12750" y="4564"/>
                </a:cubicBezTo>
                <a:cubicBezTo>
                  <a:pt x="12780" y="4670"/>
                  <a:pt x="12783" y="4729"/>
                  <a:pt x="12898" y="4738"/>
                </a:cubicBezTo>
                <a:cubicBezTo>
                  <a:pt x="12906" y="4738"/>
                  <a:pt x="12915" y="4738"/>
                  <a:pt x="12923" y="47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616720" y="1366920"/>
            <a:ext cx="393480" cy="258840"/>
          </a:xfrm>
          <a:custGeom>
            <a:avLst/>
            <a:gdLst/>
            <a:ahLst/>
            <a:rect l="l" t="t" r="r" b="b"/>
            <a:pathLst>
              <a:path w="1093" h="720">
                <a:moveTo>
                  <a:pt x="15825" y="4018"/>
                </a:moveTo>
                <a:cubicBezTo>
                  <a:pt x="15867" y="4018"/>
                  <a:pt x="15885" y="4013"/>
                  <a:pt x="15900" y="3969"/>
                </a:cubicBezTo>
                <a:cubicBezTo>
                  <a:pt x="15913" y="3929"/>
                  <a:pt x="15908" y="3824"/>
                  <a:pt x="15875" y="3795"/>
                </a:cubicBezTo>
                <a:cubicBezTo>
                  <a:pt x="15853" y="3776"/>
                  <a:pt x="15763" y="3807"/>
                  <a:pt x="15751" y="3820"/>
                </a:cubicBezTo>
                <a:cubicBezTo>
                  <a:pt x="15697" y="3878"/>
                  <a:pt x="15685" y="4020"/>
                  <a:pt x="15677" y="4093"/>
                </a:cubicBezTo>
                <a:cubicBezTo>
                  <a:pt x="15664" y="4218"/>
                  <a:pt x="15677" y="4347"/>
                  <a:pt x="15701" y="4465"/>
                </a:cubicBezTo>
                <a:cubicBezTo>
                  <a:pt x="15701" y="4490"/>
                  <a:pt x="15701" y="4498"/>
                  <a:pt x="15701" y="4514"/>
                </a:cubicBezTo>
              </a:path>
              <a:path w="1093" h="720">
                <a:moveTo>
                  <a:pt x="15751" y="4316"/>
                </a:moveTo>
                <a:cubicBezTo>
                  <a:pt x="15759" y="4308"/>
                  <a:pt x="15768" y="4299"/>
                  <a:pt x="15776" y="4291"/>
                </a:cubicBezTo>
                <a:cubicBezTo>
                  <a:pt x="15714" y="4291"/>
                  <a:pt x="15685" y="4323"/>
                  <a:pt x="15627" y="4341"/>
                </a:cubicBezTo>
                <a:cubicBezTo>
                  <a:pt x="15619" y="4341"/>
                  <a:pt x="15610" y="4341"/>
                  <a:pt x="15602" y="4341"/>
                </a:cubicBezTo>
              </a:path>
              <a:path w="1093" h="720">
                <a:moveTo>
                  <a:pt x="16272" y="3894"/>
                </a:moveTo>
                <a:cubicBezTo>
                  <a:pt x="16280" y="3894"/>
                  <a:pt x="16289" y="3894"/>
                  <a:pt x="16297" y="3894"/>
                </a:cubicBezTo>
                <a:cubicBezTo>
                  <a:pt x="16285" y="3941"/>
                  <a:pt x="16250" y="3997"/>
                  <a:pt x="16222" y="4043"/>
                </a:cubicBezTo>
                <a:cubicBezTo>
                  <a:pt x="16160" y="4146"/>
                  <a:pt x="16127" y="4246"/>
                  <a:pt x="16123" y="4366"/>
                </a:cubicBezTo>
                <a:cubicBezTo>
                  <a:pt x="16120" y="4442"/>
                  <a:pt x="16128" y="4460"/>
                  <a:pt x="16173" y="4514"/>
                </a:cubicBezTo>
              </a:path>
              <a:path w="1093" h="720">
                <a:moveTo>
                  <a:pt x="16247" y="4291"/>
                </a:moveTo>
                <a:cubicBezTo>
                  <a:pt x="16251" y="4280"/>
                  <a:pt x="16273" y="4224"/>
                  <a:pt x="16297" y="4217"/>
                </a:cubicBezTo>
                <a:cubicBezTo>
                  <a:pt x="16347" y="4202"/>
                  <a:pt x="16394" y="4224"/>
                  <a:pt x="16421" y="4266"/>
                </a:cubicBezTo>
                <a:cubicBezTo>
                  <a:pt x="16444" y="4302"/>
                  <a:pt x="16467" y="4398"/>
                  <a:pt x="16446" y="4440"/>
                </a:cubicBezTo>
                <a:cubicBezTo>
                  <a:pt x="16424" y="4483"/>
                  <a:pt x="16359" y="4465"/>
                  <a:pt x="16321" y="4465"/>
                </a:cubicBezTo>
                <a:cubicBezTo>
                  <a:pt x="16313" y="4465"/>
                  <a:pt x="16305" y="4465"/>
                  <a:pt x="16297" y="4465"/>
                </a:cubicBezTo>
              </a:path>
              <a:path w="1093" h="720">
                <a:moveTo>
                  <a:pt x="16520" y="4217"/>
                </a:moveTo>
                <a:cubicBezTo>
                  <a:pt x="16528" y="4209"/>
                  <a:pt x="16537" y="4200"/>
                  <a:pt x="16545" y="4192"/>
                </a:cubicBezTo>
                <a:cubicBezTo>
                  <a:pt x="16533" y="4241"/>
                  <a:pt x="16481" y="4256"/>
                  <a:pt x="16495" y="4316"/>
                </a:cubicBezTo>
                <a:cubicBezTo>
                  <a:pt x="16512" y="4390"/>
                  <a:pt x="16548" y="4436"/>
                  <a:pt x="16619" y="4440"/>
                </a:cubicBezTo>
                <a:cubicBezTo>
                  <a:pt x="16664" y="4440"/>
                  <a:pt x="16677" y="4443"/>
                  <a:pt x="16694" y="4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34040" y="1320840"/>
            <a:ext cx="411120" cy="314280"/>
          </a:xfrm>
          <a:custGeom>
            <a:avLst/>
            <a:gdLst/>
            <a:ahLst/>
            <a:rect l="l" t="t" r="r" b="b"/>
            <a:pathLst>
              <a:path w="1142" h="869">
                <a:moveTo>
                  <a:pt x="17041" y="4316"/>
                </a:moveTo>
                <a:cubicBezTo>
                  <a:pt x="17107" y="4316"/>
                  <a:pt x="17160" y="4302"/>
                  <a:pt x="17214" y="4291"/>
                </a:cubicBezTo>
                <a:cubicBezTo>
                  <a:pt x="17260" y="4282"/>
                  <a:pt x="17316" y="4291"/>
                  <a:pt x="17363" y="4291"/>
                </a:cubicBezTo>
              </a:path>
              <a:path w="1142" h="869">
                <a:moveTo>
                  <a:pt x="17611" y="4043"/>
                </a:moveTo>
                <a:cubicBezTo>
                  <a:pt x="17586" y="4008"/>
                  <a:pt x="17587" y="4012"/>
                  <a:pt x="17587" y="3969"/>
                </a:cubicBezTo>
                <a:cubicBezTo>
                  <a:pt x="17653" y="3969"/>
                  <a:pt x="17735" y="3951"/>
                  <a:pt x="17785" y="3994"/>
                </a:cubicBezTo>
                <a:cubicBezTo>
                  <a:pt x="17826" y="4030"/>
                  <a:pt x="17815" y="4074"/>
                  <a:pt x="17785" y="4118"/>
                </a:cubicBezTo>
                <a:cubicBezTo>
                  <a:pt x="17754" y="4164"/>
                  <a:pt x="17735" y="4158"/>
                  <a:pt x="17735" y="4217"/>
                </a:cubicBezTo>
                <a:cubicBezTo>
                  <a:pt x="17735" y="4261"/>
                  <a:pt x="17798" y="4301"/>
                  <a:pt x="17835" y="4316"/>
                </a:cubicBezTo>
                <a:cubicBezTo>
                  <a:pt x="17881" y="4335"/>
                  <a:pt x="17884" y="4336"/>
                  <a:pt x="17884" y="4390"/>
                </a:cubicBezTo>
                <a:cubicBezTo>
                  <a:pt x="17884" y="4442"/>
                  <a:pt x="17864" y="4459"/>
                  <a:pt x="17810" y="4465"/>
                </a:cubicBezTo>
                <a:cubicBezTo>
                  <a:pt x="17775" y="4465"/>
                  <a:pt x="17757" y="4460"/>
                  <a:pt x="17735" y="4440"/>
                </a:cubicBezTo>
              </a:path>
              <a:path w="1142" h="869">
                <a:moveTo>
                  <a:pt x="17810" y="3696"/>
                </a:moveTo>
                <a:cubicBezTo>
                  <a:pt x="17868" y="3671"/>
                  <a:pt x="17895" y="3671"/>
                  <a:pt x="17959" y="3671"/>
                </a:cubicBezTo>
                <a:cubicBezTo>
                  <a:pt x="18044" y="3671"/>
                  <a:pt x="18068" y="3756"/>
                  <a:pt x="18107" y="3820"/>
                </a:cubicBezTo>
                <a:cubicBezTo>
                  <a:pt x="18182" y="3945"/>
                  <a:pt x="18182" y="4021"/>
                  <a:pt x="18182" y="4167"/>
                </a:cubicBezTo>
                <a:cubicBezTo>
                  <a:pt x="18182" y="4281"/>
                  <a:pt x="18155" y="4374"/>
                  <a:pt x="18083" y="4465"/>
                </a:cubicBezTo>
                <a:cubicBezTo>
                  <a:pt x="18036" y="4511"/>
                  <a:pt x="18024" y="4525"/>
                  <a:pt x="17983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75640" y="1455840"/>
            <a:ext cx="71280" cy="6336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9224" y="4043"/>
                </a:moveTo>
                <a:cubicBezTo>
                  <a:pt x="19248" y="4043"/>
                  <a:pt x="19257" y="4043"/>
                  <a:pt x="19273" y="4043"/>
                </a:cubicBezTo>
                <a:cubicBezTo>
                  <a:pt x="19211" y="4043"/>
                  <a:pt x="19174" y="4051"/>
                  <a:pt x="19124" y="4068"/>
                </a:cubicBezTo>
                <a:cubicBezTo>
                  <a:pt x="19116" y="4068"/>
                  <a:pt x="19108" y="4068"/>
                  <a:pt x="19100" y="4068"/>
                </a:cubicBezTo>
              </a:path>
              <a:path w="199" h="175">
                <a:moveTo>
                  <a:pt x="19248" y="4118"/>
                </a:moveTo>
                <a:cubicBezTo>
                  <a:pt x="19271" y="4140"/>
                  <a:pt x="19276" y="4148"/>
                  <a:pt x="19298" y="4142"/>
                </a:cubicBezTo>
                <a:cubicBezTo>
                  <a:pt x="19298" y="4185"/>
                  <a:pt x="19293" y="4202"/>
                  <a:pt x="19248" y="4217"/>
                </a:cubicBezTo>
                <a:cubicBezTo>
                  <a:pt x="19229" y="4223"/>
                  <a:pt x="19194" y="4217"/>
                  <a:pt x="19174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143840" y="1357200"/>
            <a:ext cx="393480" cy="187560"/>
          </a:xfrm>
          <a:custGeom>
            <a:avLst/>
            <a:gdLst/>
            <a:ahLst/>
            <a:rect l="l" t="t" r="r" b="b"/>
            <a:pathLst>
              <a:path w="1092" h="522">
                <a:moveTo>
                  <a:pt x="19968" y="3795"/>
                </a:moveTo>
                <a:cubicBezTo>
                  <a:pt x="19924" y="3839"/>
                  <a:pt x="19864" y="3882"/>
                  <a:pt x="19844" y="3944"/>
                </a:cubicBezTo>
                <a:cubicBezTo>
                  <a:pt x="19826" y="3997"/>
                  <a:pt x="19880" y="4020"/>
                  <a:pt x="19918" y="4043"/>
                </a:cubicBezTo>
                <a:cubicBezTo>
                  <a:pt x="19981" y="4081"/>
                  <a:pt x="20034" y="4067"/>
                  <a:pt x="20092" y="4118"/>
                </a:cubicBezTo>
                <a:cubicBezTo>
                  <a:pt x="20133" y="4154"/>
                  <a:pt x="20141" y="4190"/>
                  <a:pt x="20141" y="4242"/>
                </a:cubicBezTo>
                <a:cubicBezTo>
                  <a:pt x="20141" y="4312"/>
                  <a:pt x="20067" y="4291"/>
                  <a:pt x="20017" y="4291"/>
                </a:cubicBezTo>
                <a:cubicBezTo>
                  <a:pt x="19950" y="4291"/>
                  <a:pt x="19922" y="4284"/>
                  <a:pt x="19869" y="4242"/>
                </a:cubicBezTo>
              </a:path>
              <a:path w="1092" h="522">
                <a:moveTo>
                  <a:pt x="20389" y="3770"/>
                </a:moveTo>
                <a:cubicBezTo>
                  <a:pt x="20341" y="3770"/>
                  <a:pt x="20284" y="3781"/>
                  <a:pt x="20241" y="3795"/>
                </a:cubicBezTo>
                <a:cubicBezTo>
                  <a:pt x="20193" y="3819"/>
                  <a:pt x="20178" y="3827"/>
                  <a:pt x="20141" y="3820"/>
                </a:cubicBezTo>
              </a:path>
              <a:path w="1092" h="522">
                <a:moveTo>
                  <a:pt x="20588" y="4167"/>
                </a:moveTo>
                <a:cubicBezTo>
                  <a:pt x="20650" y="4167"/>
                  <a:pt x="20678" y="4157"/>
                  <a:pt x="20737" y="4142"/>
                </a:cubicBezTo>
                <a:cubicBezTo>
                  <a:pt x="20795" y="4127"/>
                  <a:pt x="20875" y="4142"/>
                  <a:pt x="20935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705800" y="1268280"/>
            <a:ext cx="716040" cy="258840"/>
          </a:xfrm>
          <a:custGeom>
            <a:avLst/>
            <a:gdLst/>
            <a:ahLst/>
            <a:rect l="l" t="t" r="r" b="b"/>
            <a:pathLst>
              <a:path w="1986" h="721">
                <a:moveTo>
                  <a:pt x="21481" y="3746"/>
                </a:moveTo>
                <a:cubicBezTo>
                  <a:pt x="21500" y="3727"/>
                  <a:pt x="21546" y="3652"/>
                  <a:pt x="21555" y="3646"/>
                </a:cubicBezTo>
                <a:cubicBezTo>
                  <a:pt x="21580" y="3646"/>
                  <a:pt x="21588" y="3646"/>
                  <a:pt x="21580" y="3621"/>
                </a:cubicBezTo>
                <a:cubicBezTo>
                  <a:pt x="21521" y="3636"/>
                  <a:pt x="21482" y="3687"/>
                  <a:pt x="21456" y="3746"/>
                </a:cubicBezTo>
                <a:cubicBezTo>
                  <a:pt x="21416" y="3837"/>
                  <a:pt x="21383" y="3968"/>
                  <a:pt x="21406" y="4068"/>
                </a:cubicBezTo>
                <a:cubicBezTo>
                  <a:pt x="21419" y="4126"/>
                  <a:pt x="21425" y="4178"/>
                  <a:pt x="21481" y="4192"/>
                </a:cubicBezTo>
              </a:path>
              <a:path w="1986" h="721">
                <a:moveTo>
                  <a:pt x="21679" y="3969"/>
                </a:moveTo>
                <a:cubicBezTo>
                  <a:pt x="21679" y="3944"/>
                  <a:pt x="21679" y="3936"/>
                  <a:pt x="21654" y="3944"/>
                </a:cubicBezTo>
                <a:cubicBezTo>
                  <a:pt x="21676" y="3922"/>
                  <a:pt x="21724" y="3854"/>
                  <a:pt x="21754" y="3845"/>
                </a:cubicBezTo>
                <a:cubicBezTo>
                  <a:pt x="21826" y="3824"/>
                  <a:pt x="21848" y="3863"/>
                  <a:pt x="21878" y="3919"/>
                </a:cubicBezTo>
                <a:cubicBezTo>
                  <a:pt x="21912" y="3983"/>
                  <a:pt x="21918" y="4054"/>
                  <a:pt x="21878" y="4118"/>
                </a:cubicBezTo>
                <a:cubicBezTo>
                  <a:pt x="21852" y="4160"/>
                  <a:pt x="21823" y="4167"/>
                  <a:pt x="21779" y="4167"/>
                </a:cubicBezTo>
              </a:path>
              <a:path w="1986" h="721">
                <a:moveTo>
                  <a:pt x="22002" y="3870"/>
                </a:moveTo>
                <a:cubicBezTo>
                  <a:pt x="21957" y="3924"/>
                  <a:pt x="21952" y="3949"/>
                  <a:pt x="21952" y="4018"/>
                </a:cubicBezTo>
                <a:cubicBezTo>
                  <a:pt x="21952" y="4072"/>
                  <a:pt x="22005" y="4084"/>
                  <a:pt x="22051" y="4068"/>
                </a:cubicBezTo>
                <a:cubicBezTo>
                  <a:pt x="22068" y="4060"/>
                  <a:pt x="22084" y="4051"/>
                  <a:pt x="22101" y="4043"/>
                </a:cubicBezTo>
              </a:path>
              <a:path w="1986" h="721">
                <a:moveTo>
                  <a:pt x="22374" y="3944"/>
                </a:moveTo>
                <a:cubicBezTo>
                  <a:pt x="22457" y="3944"/>
                  <a:pt x="22539" y="3944"/>
                  <a:pt x="22622" y="3944"/>
                </a:cubicBezTo>
              </a:path>
              <a:path w="1986" h="721">
                <a:moveTo>
                  <a:pt x="22820" y="3746"/>
                </a:moveTo>
                <a:cubicBezTo>
                  <a:pt x="22832" y="3696"/>
                  <a:pt x="22852" y="3690"/>
                  <a:pt x="22895" y="3671"/>
                </a:cubicBezTo>
                <a:cubicBezTo>
                  <a:pt x="22938" y="3652"/>
                  <a:pt x="23009" y="3615"/>
                  <a:pt x="23044" y="3671"/>
                </a:cubicBezTo>
                <a:cubicBezTo>
                  <a:pt x="23069" y="3711"/>
                  <a:pt x="23016" y="3748"/>
                  <a:pt x="22994" y="3770"/>
                </a:cubicBezTo>
                <a:cubicBezTo>
                  <a:pt x="22962" y="3802"/>
                  <a:pt x="22925" y="3826"/>
                  <a:pt x="22920" y="3870"/>
                </a:cubicBezTo>
                <a:cubicBezTo>
                  <a:pt x="22917" y="3901"/>
                  <a:pt x="22989" y="3928"/>
                  <a:pt x="23019" y="3944"/>
                </a:cubicBezTo>
                <a:cubicBezTo>
                  <a:pt x="23055" y="3963"/>
                  <a:pt x="23124" y="4002"/>
                  <a:pt x="23143" y="4043"/>
                </a:cubicBezTo>
                <a:cubicBezTo>
                  <a:pt x="23168" y="4099"/>
                  <a:pt x="23070" y="4116"/>
                  <a:pt x="23044" y="4118"/>
                </a:cubicBezTo>
                <a:cubicBezTo>
                  <a:pt x="23011" y="4118"/>
                  <a:pt x="22994" y="4118"/>
                  <a:pt x="22969" y="4118"/>
                </a:cubicBezTo>
              </a:path>
              <a:path w="1986" h="721">
                <a:moveTo>
                  <a:pt x="23143" y="3522"/>
                </a:moveTo>
                <a:cubicBezTo>
                  <a:pt x="23179" y="3522"/>
                  <a:pt x="23215" y="3529"/>
                  <a:pt x="23242" y="3547"/>
                </a:cubicBezTo>
                <a:cubicBezTo>
                  <a:pt x="23292" y="3580"/>
                  <a:pt x="23343" y="3641"/>
                  <a:pt x="23366" y="3696"/>
                </a:cubicBezTo>
                <a:cubicBezTo>
                  <a:pt x="23403" y="3785"/>
                  <a:pt x="23391" y="3875"/>
                  <a:pt x="23391" y="3969"/>
                </a:cubicBezTo>
                <a:cubicBezTo>
                  <a:pt x="23391" y="4037"/>
                  <a:pt x="23377" y="4123"/>
                  <a:pt x="23316" y="4167"/>
                </a:cubicBezTo>
                <a:cubicBezTo>
                  <a:pt x="23277" y="4195"/>
                  <a:pt x="23234" y="4218"/>
                  <a:pt x="23192" y="42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555040" y="1268280"/>
            <a:ext cx="152280" cy="115920"/>
          </a:xfrm>
          <a:custGeom>
            <a:avLst/>
            <a:gdLst/>
            <a:ahLst/>
            <a:rect l="l" t="t" r="r" b="b"/>
            <a:pathLst>
              <a:path w="423" h="324">
                <a:moveTo>
                  <a:pt x="23788" y="3646"/>
                </a:moveTo>
                <a:cubicBezTo>
                  <a:pt x="23750" y="3633"/>
                  <a:pt x="23763" y="3617"/>
                  <a:pt x="23763" y="3572"/>
                </a:cubicBezTo>
                <a:cubicBezTo>
                  <a:pt x="23763" y="3564"/>
                  <a:pt x="23763" y="3555"/>
                  <a:pt x="23763" y="3547"/>
                </a:cubicBezTo>
                <a:cubicBezTo>
                  <a:pt x="23813" y="3547"/>
                  <a:pt x="23821" y="3536"/>
                  <a:pt x="23862" y="3522"/>
                </a:cubicBezTo>
                <a:cubicBezTo>
                  <a:pt x="23909" y="3506"/>
                  <a:pt x="23977" y="3517"/>
                  <a:pt x="24011" y="3547"/>
                </a:cubicBezTo>
                <a:cubicBezTo>
                  <a:pt x="24066" y="3596"/>
                  <a:pt x="24027" y="3627"/>
                  <a:pt x="23986" y="3671"/>
                </a:cubicBezTo>
                <a:cubicBezTo>
                  <a:pt x="23950" y="3710"/>
                  <a:pt x="23937" y="3717"/>
                  <a:pt x="23937" y="3770"/>
                </a:cubicBezTo>
                <a:cubicBezTo>
                  <a:pt x="23937" y="3831"/>
                  <a:pt x="23987" y="3841"/>
                  <a:pt x="24036" y="3845"/>
                </a:cubicBezTo>
                <a:cubicBezTo>
                  <a:pt x="24096" y="3850"/>
                  <a:pt x="24088" y="3816"/>
                  <a:pt x="24135" y="3795"/>
                </a:cubicBezTo>
                <a:cubicBezTo>
                  <a:pt x="24160" y="3795"/>
                  <a:pt x="24168" y="3795"/>
                  <a:pt x="24185" y="3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57880" y="1724040"/>
            <a:ext cx="803160" cy="303120"/>
          </a:xfrm>
          <a:custGeom>
            <a:avLst/>
            <a:gdLst/>
            <a:ahLst/>
            <a:rect l="l" t="t" r="r" b="b"/>
            <a:pathLst>
              <a:path w="2233" h="845">
                <a:moveTo>
                  <a:pt x="15106" y="5209"/>
                </a:moveTo>
                <a:cubicBezTo>
                  <a:pt x="15130" y="5203"/>
                  <a:pt x="15198" y="5177"/>
                  <a:pt x="15180" y="5135"/>
                </a:cubicBezTo>
                <a:cubicBezTo>
                  <a:pt x="15152" y="5071"/>
                  <a:pt x="15121" y="5041"/>
                  <a:pt x="15056" y="5035"/>
                </a:cubicBezTo>
                <a:cubicBezTo>
                  <a:pt x="14980" y="5029"/>
                  <a:pt x="14941" y="5121"/>
                  <a:pt x="14932" y="5184"/>
                </a:cubicBezTo>
                <a:cubicBezTo>
                  <a:pt x="14912" y="5327"/>
                  <a:pt x="14932" y="5486"/>
                  <a:pt x="14932" y="5631"/>
                </a:cubicBezTo>
              </a:path>
              <a:path w="2233" h="845">
                <a:moveTo>
                  <a:pt x="14982" y="5457"/>
                </a:moveTo>
                <a:cubicBezTo>
                  <a:pt x="14941" y="5416"/>
                  <a:pt x="14931" y="5470"/>
                  <a:pt x="14883" y="5482"/>
                </a:cubicBezTo>
              </a:path>
              <a:path w="2233" h="845">
                <a:moveTo>
                  <a:pt x="15404" y="5085"/>
                </a:moveTo>
                <a:cubicBezTo>
                  <a:pt x="15412" y="5068"/>
                  <a:pt x="15421" y="5052"/>
                  <a:pt x="15429" y="5035"/>
                </a:cubicBezTo>
                <a:cubicBezTo>
                  <a:pt x="15386" y="5089"/>
                  <a:pt x="15338" y="5163"/>
                  <a:pt x="15329" y="5234"/>
                </a:cubicBezTo>
                <a:cubicBezTo>
                  <a:pt x="15315" y="5338"/>
                  <a:pt x="15343" y="5431"/>
                  <a:pt x="15354" y="5531"/>
                </a:cubicBezTo>
              </a:path>
              <a:path w="2233" h="845">
                <a:moveTo>
                  <a:pt x="15453" y="5432"/>
                </a:moveTo>
                <a:cubicBezTo>
                  <a:pt x="15491" y="5394"/>
                  <a:pt x="15500" y="5383"/>
                  <a:pt x="15553" y="5383"/>
                </a:cubicBezTo>
                <a:cubicBezTo>
                  <a:pt x="15610" y="5383"/>
                  <a:pt x="15631" y="5395"/>
                  <a:pt x="15652" y="5457"/>
                </a:cubicBezTo>
                <a:cubicBezTo>
                  <a:pt x="15667" y="5501"/>
                  <a:pt x="15647" y="5561"/>
                  <a:pt x="15602" y="5581"/>
                </a:cubicBezTo>
                <a:cubicBezTo>
                  <a:pt x="15577" y="5581"/>
                  <a:pt x="15569" y="5581"/>
                  <a:pt x="15553" y="5581"/>
                </a:cubicBezTo>
              </a:path>
              <a:path w="2233" h="845">
                <a:moveTo>
                  <a:pt x="15726" y="5383"/>
                </a:moveTo>
                <a:cubicBezTo>
                  <a:pt x="15734" y="5375"/>
                  <a:pt x="15743" y="5366"/>
                  <a:pt x="15751" y="5358"/>
                </a:cubicBezTo>
                <a:cubicBezTo>
                  <a:pt x="15751" y="5413"/>
                  <a:pt x="15722" y="5554"/>
                  <a:pt x="15776" y="5581"/>
                </a:cubicBezTo>
                <a:cubicBezTo>
                  <a:pt x="15806" y="5596"/>
                  <a:pt x="15854" y="5565"/>
                  <a:pt x="15875" y="5556"/>
                </a:cubicBezTo>
              </a:path>
              <a:path w="2233" h="845">
                <a:moveTo>
                  <a:pt x="16123" y="5432"/>
                </a:moveTo>
                <a:cubicBezTo>
                  <a:pt x="16123" y="5424"/>
                  <a:pt x="16123" y="5415"/>
                  <a:pt x="16123" y="5407"/>
                </a:cubicBezTo>
                <a:cubicBezTo>
                  <a:pt x="16189" y="5407"/>
                  <a:pt x="16255" y="5407"/>
                  <a:pt x="16321" y="5407"/>
                </a:cubicBezTo>
              </a:path>
              <a:path w="2233" h="845">
                <a:moveTo>
                  <a:pt x="16470" y="5135"/>
                </a:moveTo>
                <a:cubicBezTo>
                  <a:pt x="16477" y="5114"/>
                  <a:pt x="16491" y="5080"/>
                  <a:pt x="16520" y="5060"/>
                </a:cubicBezTo>
                <a:cubicBezTo>
                  <a:pt x="16584" y="5016"/>
                  <a:pt x="16616" y="5011"/>
                  <a:pt x="16694" y="5011"/>
                </a:cubicBezTo>
                <a:cubicBezTo>
                  <a:pt x="16746" y="5011"/>
                  <a:pt x="16743" y="5043"/>
                  <a:pt x="16743" y="5085"/>
                </a:cubicBezTo>
                <a:cubicBezTo>
                  <a:pt x="16743" y="5146"/>
                  <a:pt x="16713" y="5150"/>
                  <a:pt x="16694" y="5209"/>
                </a:cubicBezTo>
                <a:cubicBezTo>
                  <a:pt x="16680" y="5254"/>
                  <a:pt x="16699" y="5268"/>
                  <a:pt x="16718" y="5283"/>
                </a:cubicBezTo>
                <a:cubicBezTo>
                  <a:pt x="16740" y="5299"/>
                  <a:pt x="16788" y="5323"/>
                  <a:pt x="16793" y="5333"/>
                </a:cubicBezTo>
                <a:cubicBezTo>
                  <a:pt x="16793" y="5341"/>
                  <a:pt x="16793" y="5350"/>
                  <a:pt x="16793" y="5358"/>
                </a:cubicBezTo>
                <a:cubicBezTo>
                  <a:pt x="16755" y="5395"/>
                  <a:pt x="16746" y="5407"/>
                  <a:pt x="16694" y="5407"/>
                </a:cubicBezTo>
              </a:path>
              <a:path w="2233" h="845">
                <a:moveTo>
                  <a:pt x="16743" y="4787"/>
                </a:moveTo>
                <a:cubicBezTo>
                  <a:pt x="16811" y="4787"/>
                  <a:pt x="16861" y="4782"/>
                  <a:pt x="16917" y="4812"/>
                </a:cubicBezTo>
                <a:cubicBezTo>
                  <a:pt x="17005" y="4859"/>
                  <a:pt x="17065" y="4879"/>
                  <a:pt x="17090" y="4986"/>
                </a:cubicBezTo>
                <a:cubicBezTo>
                  <a:pt x="17109" y="5065"/>
                  <a:pt x="17134" y="5176"/>
                  <a:pt x="17115" y="5259"/>
                </a:cubicBezTo>
                <a:cubicBezTo>
                  <a:pt x="17105" y="5303"/>
                  <a:pt x="17049" y="5427"/>
                  <a:pt x="17016" y="5457"/>
                </a:cubicBezTo>
                <a:cubicBezTo>
                  <a:pt x="16991" y="5480"/>
                  <a:pt x="16946" y="5500"/>
                  <a:pt x="16917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303960" y="1884240"/>
            <a:ext cx="98280" cy="108000"/>
          </a:xfrm>
          <a:custGeom>
            <a:avLst/>
            <a:gdLst/>
            <a:ahLst/>
            <a:rect l="l" t="t" r="r" b="b"/>
            <a:pathLst>
              <a:path w="274" h="298">
                <a:moveTo>
                  <a:pt x="17735" y="5358"/>
                </a:moveTo>
                <a:cubicBezTo>
                  <a:pt x="17758" y="5381"/>
                  <a:pt x="17762" y="5389"/>
                  <a:pt x="17785" y="5383"/>
                </a:cubicBezTo>
                <a:cubicBezTo>
                  <a:pt x="17710" y="5383"/>
                  <a:pt x="17650" y="5387"/>
                  <a:pt x="17587" y="5407"/>
                </a:cubicBezTo>
                <a:cubicBezTo>
                  <a:pt x="17548" y="5420"/>
                  <a:pt x="17521" y="5410"/>
                  <a:pt x="17512" y="5383"/>
                </a:cubicBezTo>
              </a:path>
              <a:path w="274" h="298">
                <a:moveTo>
                  <a:pt x="17636" y="5234"/>
                </a:moveTo>
                <a:cubicBezTo>
                  <a:pt x="17675" y="5285"/>
                  <a:pt x="17661" y="5340"/>
                  <a:pt x="17661" y="5407"/>
                </a:cubicBezTo>
                <a:cubicBezTo>
                  <a:pt x="17661" y="5448"/>
                  <a:pt x="17661" y="5490"/>
                  <a:pt x="17661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91160" y="1830240"/>
            <a:ext cx="27000" cy="169920"/>
          </a:xfrm>
          <a:custGeom>
            <a:avLst/>
            <a:gdLst/>
            <a:ahLst/>
            <a:rect l="l" t="t" r="r" b="b"/>
            <a:pathLst>
              <a:path w="75" h="472">
                <a:moveTo>
                  <a:pt x="18033" y="5110"/>
                </a:moveTo>
                <a:cubicBezTo>
                  <a:pt x="18056" y="5087"/>
                  <a:pt x="18060" y="5079"/>
                  <a:pt x="18083" y="5085"/>
                </a:cubicBezTo>
                <a:cubicBezTo>
                  <a:pt x="18083" y="5237"/>
                  <a:pt x="18056" y="5415"/>
                  <a:pt x="18107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23080" y="1857240"/>
            <a:ext cx="61920" cy="4464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19050" y="5184"/>
                </a:moveTo>
                <a:cubicBezTo>
                  <a:pt x="19107" y="5184"/>
                  <a:pt x="19151" y="5184"/>
                  <a:pt x="19075" y="5159"/>
                </a:cubicBezTo>
                <a:cubicBezTo>
                  <a:pt x="19042" y="5148"/>
                  <a:pt x="18986" y="5159"/>
                  <a:pt x="18951" y="5159"/>
                </a:cubicBezTo>
              </a:path>
              <a:path w="174" h="125">
                <a:moveTo>
                  <a:pt x="19100" y="5259"/>
                </a:moveTo>
                <a:cubicBezTo>
                  <a:pt x="19108" y="5259"/>
                  <a:pt x="19116" y="5259"/>
                  <a:pt x="19124" y="5259"/>
                </a:cubicBezTo>
                <a:cubicBezTo>
                  <a:pt x="19112" y="5295"/>
                  <a:pt x="19094" y="5283"/>
                  <a:pt x="19050" y="5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16840" y="1697040"/>
            <a:ext cx="108000" cy="204840"/>
          </a:xfrm>
          <a:custGeom>
            <a:avLst/>
            <a:gdLst/>
            <a:ahLst/>
            <a:rect l="l" t="t" r="r" b="b"/>
            <a:pathLst>
              <a:path w="299" h="571">
                <a:moveTo>
                  <a:pt x="20017" y="4762"/>
                </a:moveTo>
                <a:cubicBezTo>
                  <a:pt x="20052" y="4751"/>
                  <a:pt x="20042" y="4755"/>
                  <a:pt x="20042" y="4713"/>
                </a:cubicBezTo>
                <a:cubicBezTo>
                  <a:pt x="19963" y="4713"/>
                  <a:pt x="20001" y="4717"/>
                  <a:pt x="19943" y="4762"/>
                </a:cubicBezTo>
                <a:cubicBezTo>
                  <a:pt x="19869" y="4819"/>
                  <a:pt x="19836" y="4898"/>
                  <a:pt x="19794" y="4986"/>
                </a:cubicBezTo>
                <a:cubicBezTo>
                  <a:pt x="19766" y="5044"/>
                  <a:pt x="19751" y="5143"/>
                  <a:pt x="19769" y="5209"/>
                </a:cubicBezTo>
                <a:cubicBezTo>
                  <a:pt x="19790" y="5283"/>
                  <a:pt x="19875" y="5301"/>
                  <a:pt x="19943" y="5283"/>
                </a:cubicBezTo>
                <a:cubicBezTo>
                  <a:pt x="20020" y="5262"/>
                  <a:pt x="20061" y="5233"/>
                  <a:pt x="20067" y="5159"/>
                </a:cubicBezTo>
                <a:cubicBezTo>
                  <a:pt x="20071" y="5111"/>
                  <a:pt x="19998" y="5125"/>
                  <a:pt x="19968" y="5110"/>
                </a:cubicBezTo>
                <a:cubicBezTo>
                  <a:pt x="19940" y="5082"/>
                  <a:pt x="19926" y="5073"/>
                  <a:pt x="19893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5680" y="179532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20489" y="5060"/>
                </a:moveTo>
                <a:cubicBezTo>
                  <a:pt x="20489" y="5052"/>
                  <a:pt x="20489" y="5043"/>
                  <a:pt x="20489" y="5035"/>
                </a:cubicBezTo>
                <a:cubicBezTo>
                  <a:pt x="20546" y="5035"/>
                  <a:pt x="20592" y="5020"/>
                  <a:pt x="20638" y="5011"/>
                </a:cubicBezTo>
                <a:cubicBezTo>
                  <a:pt x="20705" y="4998"/>
                  <a:pt x="20694" y="5015"/>
                  <a:pt x="20762" y="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759800" y="1554120"/>
            <a:ext cx="973080" cy="339840"/>
          </a:xfrm>
          <a:custGeom>
            <a:avLst/>
            <a:gdLst/>
            <a:ahLst/>
            <a:rect l="l" t="t" r="r" b="b"/>
            <a:pathLst>
              <a:path w="2705" h="944">
                <a:moveTo>
                  <a:pt x="21704" y="4663"/>
                </a:moveTo>
                <a:cubicBezTo>
                  <a:pt x="21726" y="4625"/>
                  <a:pt x="21745" y="4601"/>
                  <a:pt x="21754" y="4564"/>
                </a:cubicBezTo>
                <a:cubicBezTo>
                  <a:pt x="21691" y="4580"/>
                  <a:pt x="21668" y="4632"/>
                  <a:pt x="21630" y="4688"/>
                </a:cubicBezTo>
                <a:cubicBezTo>
                  <a:pt x="21551" y="4804"/>
                  <a:pt x="21555" y="4900"/>
                  <a:pt x="21555" y="5035"/>
                </a:cubicBezTo>
                <a:cubicBezTo>
                  <a:pt x="21555" y="5089"/>
                  <a:pt x="21564" y="5146"/>
                  <a:pt x="21605" y="5159"/>
                </a:cubicBezTo>
              </a:path>
              <a:path w="2705" h="944">
                <a:moveTo>
                  <a:pt x="21853" y="4961"/>
                </a:moveTo>
                <a:cubicBezTo>
                  <a:pt x="21853" y="4901"/>
                  <a:pt x="21861" y="4924"/>
                  <a:pt x="21903" y="4887"/>
                </a:cubicBezTo>
                <a:cubicBezTo>
                  <a:pt x="21937" y="4856"/>
                  <a:pt x="21972" y="4809"/>
                  <a:pt x="22027" y="4837"/>
                </a:cubicBezTo>
                <a:cubicBezTo>
                  <a:pt x="22071" y="4860"/>
                  <a:pt x="22089" y="4941"/>
                  <a:pt x="22076" y="4986"/>
                </a:cubicBezTo>
                <a:cubicBezTo>
                  <a:pt x="22062" y="5033"/>
                  <a:pt x="22046" y="5070"/>
                  <a:pt x="22002" y="5085"/>
                </a:cubicBezTo>
                <a:cubicBezTo>
                  <a:pt x="21983" y="5091"/>
                  <a:pt x="21947" y="5085"/>
                  <a:pt x="21927" y="5085"/>
                </a:cubicBezTo>
              </a:path>
              <a:path w="2705" h="944">
                <a:moveTo>
                  <a:pt x="22200" y="4887"/>
                </a:moveTo>
                <a:cubicBezTo>
                  <a:pt x="22208" y="4879"/>
                  <a:pt x="22217" y="4870"/>
                  <a:pt x="22225" y="4862"/>
                </a:cubicBezTo>
                <a:cubicBezTo>
                  <a:pt x="22199" y="4906"/>
                  <a:pt x="22184" y="4978"/>
                  <a:pt x="22200" y="5035"/>
                </a:cubicBezTo>
                <a:cubicBezTo>
                  <a:pt x="22227" y="5132"/>
                  <a:pt x="22260" y="5135"/>
                  <a:pt x="22349" y="5135"/>
                </a:cubicBezTo>
                <a:cubicBezTo>
                  <a:pt x="22382" y="5135"/>
                  <a:pt x="22398" y="5135"/>
                  <a:pt x="22423" y="5135"/>
                </a:cubicBezTo>
              </a:path>
              <a:path w="2705" h="944">
                <a:moveTo>
                  <a:pt x="22671" y="5035"/>
                </a:moveTo>
                <a:cubicBezTo>
                  <a:pt x="22671" y="5027"/>
                  <a:pt x="22671" y="5019"/>
                  <a:pt x="22671" y="5011"/>
                </a:cubicBezTo>
                <a:cubicBezTo>
                  <a:pt x="22720" y="5011"/>
                  <a:pt x="22731" y="5022"/>
                  <a:pt x="22771" y="5035"/>
                </a:cubicBezTo>
                <a:cubicBezTo>
                  <a:pt x="22821" y="5051"/>
                  <a:pt x="22873" y="5017"/>
                  <a:pt x="22920" y="5011"/>
                </a:cubicBezTo>
              </a:path>
              <a:path w="2705" h="944">
                <a:moveTo>
                  <a:pt x="23143" y="4762"/>
                </a:moveTo>
                <a:cubicBezTo>
                  <a:pt x="23126" y="4754"/>
                  <a:pt x="23110" y="4746"/>
                  <a:pt x="23093" y="4738"/>
                </a:cubicBezTo>
                <a:cubicBezTo>
                  <a:pt x="23099" y="4720"/>
                  <a:pt x="23137" y="4677"/>
                  <a:pt x="23168" y="4663"/>
                </a:cubicBezTo>
                <a:cubicBezTo>
                  <a:pt x="23198" y="4650"/>
                  <a:pt x="23299" y="4653"/>
                  <a:pt x="23316" y="4688"/>
                </a:cubicBezTo>
                <a:cubicBezTo>
                  <a:pt x="23337" y="4730"/>
                  <a:pt x="23292" y="4762"/>
                  <a:pt x="23267" y="4787"/>
                </a:cubicBezTo>
                <a:cubicBezTo>
                  <a:pt x="23245" y="4809"/>
                  <a:pt x="23191" y="4874"/>
                  <a:pt x="23217" y="4911"/>
                </a:cubicBezTo>
                <a:cubicBezTo>
                  <a:pt x="23255" y="4964"/>
                  <a:pt x="23331" y="4990"/>
                  <a:pt x="23366" y="5035"/>
                </a:cubicBezTo>
                <a:cubicBezTo>
                  <a:pt x="23384" y="5058"/>
                  <a:pt x="23410" y="5113"/>
                  <a:pt x="23366" y="5135"/>
                </a:cubicBezTo>
                <a:cubicBezTo>
                  <a:pt x="23333" y="5152"/>
                  <a:pt x="23307" y="5153"/>
                  <a:pt x="23267" y="5159"/>
                </a:cubicBezTo>
              </a:path>
              <a:path w="2705" h="944">
                <a:moveTo>
                  <a:pt x="23416" y="4514"/>
                </a:moveTo>
                <a:cubicBezTo>
                  <a:pt x="23477" y="4514"/>
                  <a:pt x="23543" y="4499"/>
                  <a:pt x="23589" y="4539"/>
                </a:cubicBezTo>
                <a:cubicBezTo>
                  <a:pt x="23674" y="4613"/>
                  <a:pt x="23708" y="4679"/>
                  <a:pt x="23738" y="4787"/>
                </a:cubicBezTo>
                <a:cubicBezTo>
                  <a:pt x="23775" y="4917"/>
                  <a:pt x="23764" y="5012"/>
                  <a:pt x="23713" y="5135"/>
                </a:cubicBezTo>
                <a:cubicBezTo>
                  <a:pt x="23691" y="5189"/>
                  <a:pt x="23620" y="5240"/>
                  <a:pt x="23564" y="5259"/>
                </a:cubicBezTo>
                <a:cubicBezTo>
                  <a:pt x="23540" y="5259"/>
                  <a:pt x="23531" y="5259"/>
                  <a:pt x="23515" y="5259"/>
                </a:cubicBezTo>
              </a:path>
              <a:path w="2705" h="944">
                <a:moveTo>
                  <a:pt x="23986" y="4366"/>
                </a:moveTo>
                <a:cubicBezTo>
                  <a:pt x="23949" y="4372"/>
                  <a:pt x="23890" y="4377"/>
                  <a:pt x="23961" y="4341"/>
                </a:cubicBezTo>
                <a:cubicBezTo>
                  <a:pt x="24003" y="4320"/>
                  <a:pt x="24032" y="4316"/>
                  <a:pt x="24085" y="4316"/>
                </a:cubicBezTo>
                <a:cubicBezTo>
                  <a:pt x="24117" y="4316"/>
                  <a:pt x="24130" y="4333"/>
                  <a:pt x="24160" y="4341"/>
                </a:cubicBezTo>
                <a:cubicBezTo>
                  <a:pt x="24149" y="4385"/>
                  <a:pt x="24118" y="4427"/>
                  <a:pt x="24085" y="4465"/>
                </a:cubicBezTo>
                <a:cubicBezTo>
                  <a:pt x="24047" y="4508"/>
                  <a:pt x="24047" y="4557"/>
                  <a:pt x="24110" y="4564"/>
                </a:cubicBezTo>
                <a:cubicBezTo>
                  <a:pt x="24169" y="4571"/>
                  <a:pt x="24213" y="4567"/>
                  <a:pt x="24259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95800" y="1901880"/>
            <a:ext cx="160200" cy="162000"/>
          </a:xfrm>
          <a:custGeom>
            <a:avLst/>
            <a:gdLst/>
            <a:ahLst/>
            <a:rect l="l" t="t" r="r" b="b"/>
            <a:pathLst>
              <a:path w="447" h="448">
                <a:moveTo>
                  <a:pt x="9550" y="5283"/>
                </a:moveTo>
                <a:cubicBezTo>
                  <a:pt x="9540" y="5324"/>
                  <a:pt x="9541" y="5323"/>
                  <a:pt x="9500" y="5333"/>
                </a:cubicBezTo>
                <a:cubicBezTo>
                  <a:pt x="9489" y="5365"/>
                  <a:pt x="9466" y="5373"/>
                  <a:pt x="9426" y="5383"/>
                </a:cubicBezTo>
                <a:cubicBezTo>
                  <a:pt x="9414" y="5430"/>
                  <a:pt x="9370" y="5440"/>
                  <a:pt x="9351" y="5482"/>
                </a:cubicBezTo>
                <a:cubicBezTo>
                  <a:pt x="9333" y="5523"/>
                  <a:pt x="9291" y="5564"/>
                  <a:pt x="9277" y="5606"/>
                </a:cubicBezTo>
                <a:cubicBezTo>
                  <a:pt x="9265" y="5643"/>
                  <a:pt x="9252" y="5661"/>
                  <a:pt x="9252" y="5705"/>
                </a:cubicBezTo>
                <a:cubicBezTo>
                  <a:pt x="9216" y="5717"/>
                  <a:pt x="9216" y="5718"/>
                  <a:pt x="9252" y="5730"/>
                </a:cubicBezTo>
              </a:path>
              <a:path w="447" h="448">
                <a:moveTo>
                  <a:pt x="9599" y="5581"/>
                </a:moveTo>
                <a:cubicBezTo>
                  <a:pt x="9546" y="5581"/>
                  <a:pt x="9538" y="5568"/>
                  <a:pt x="9500" y="5531"/>
                </a:cubicBezTo>
                <a:cubicBezTo>
                  <a:pt x="9461" y="5493"/>
                  <a:pt x="9430" y="5450"/>
                  <a:pt x="9376" y="5432"/>
                </a:cubicBezTo>
                <a:cubicBezTo>
                  <a:pt x="9346" y="5422"/>
                  <a:pt x="9302" y="5400"/>
                  <a:pt x="9277" y="5383"/>
                </a:cubicBezTo>
                <a:cubicBezTo>
                  <a:pt x="9237" y="5357"/>
                  <a:pt x="9227" y="5358"/>
                  <a:pt x="9178" y="5358"/>
                </a:cubicBezTo>
                <a:cubicBezTo>
                  <a:pt x="9178" y="5333"/>
                  <a:pt x="9178" y="5325"/>
                  <a:pt x="9153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554120" y="4964040"/>
            <a:ext cx="152280" cy="216000"/>
          </a:xfrm>
          <a:custGeom>
            <a:avLst/>
            <a:gdLst/>
            <a:ahLst/>
            <a:rect l="l" t="t" r="r" b="b"/>
            <a:pathLst>
              <a:path w="423" h="597">
                <a:moveTo>
                  <a:pt x="4390" y="13915"/>
                </a:moveTo>
                <a:cubicBezTo>
                  <a:pt x="4390" y="13940"/>
                  <a:pt x="4390" y="13948"/>
                  <a:pt x="4366" y="13940"/>
                </a:cubicBezTo>
                <a:cubicBezTo>
                  <a:pt x="4366" y="13880"/>
                  <a:pt x="4375" y="13893"/>
                  <a:pt x="4415" y="13866"/>
                </a:cubicBezTo>
                <a:cubicBezTo>
                  <a:pt x="4458" y="13837"/>
                  <a:pt x="4490" y="13801"/>
                  <a:pt x="4539" y="13791"/>
                </a:cubicBezTo>
                <a:cubicBezTo>
                  <a:pt x="4565" y="13786"/>
                  <a:pt x="4653" y="13809"/>
                  <a:pt x="4663" y="13841"/>
                </a:cubicBezTo>
                <a:cubicBezTo>
                  <a:pt x="4688" y="13922"/>
                  <a:pt x="4649" y="13920"/>
                  <a:pt x="4614" y="13965"/>
                </a:cubicBezTo>
                <a:cubicBezTo>
                  <a:pt x="4583" y="14005"/>
                  <a:pt x="4511" y="14050"/>
                  <a:pt x="4490" y="14089"/>
                </a:cubicBezTo>
                <a:cubicBezTo>
                  <a:pt x="4490" y="14114"/>
                  <a:pt x="4490" y="14122"/>
                  <a:pt x="4490" y="14139"/>
                </a:cubicBezTo>
                <a:cubicBezTo>
                  <a:pt x="4546" y="14147"/>
                  <a:pt x="4608" y="14169"/>
                  <a:pt x="4663" y="14188"/>
                </a:cubicBezTo>
                <a:cubicBezTo>
                  <a:pt x="4726" y="14209"/>
                  <a:pt x="4738" y="14230"/>
                  <a:pt x="4738" y="14288"/>
                </a:cubicBezTo>
                <a:cubicBezTo>
                  <a:pt x="4738" y="14332"/>
                  <a:pt x="4680" y="14377"/>
                  <a:pt x="4638" y="14387"/>
                </a:cubicBezTo>
                <a:cubicBezTo>
                  <a:pt x="4544" y="14409"/>
                  <a:pt x="4414" y="14387"/>
                  <a:pt x="4316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608120" y="5483160"/>
            <a:ext cx="27000" cy="241200"/>
          </a:xfrm>
          <a:custGeom>
            <a:avLst/>
            <a:gdLst/>
            <a:ahLst/>
            <a:rect l="l" t="t" r="r" b="b"/>
            <a:pathLst>
              <a:path w="75" h="671">
                <a:moveTo>
                  <a:pt x="4465" y="15230"/>
                </a:moveTo>
                <a:cubicBezTo>
                  <a:pt x="4465" y="15350"/>
                  <a:pt x="4479" y="15461"/>
                  <a:pt x="4490" y="15577"/>
                </a:cubicBezTo>
                <a:cubicBezTo>
                  <a:pt x="4499" y="15675"/>
                  <a:pt x="4524" y="15757"/>
                  <a:pt x="4539" y="15850"/>
                </a:cubicBezTo>
                <a:cubicBezTo>
                  <a:pt x="4539" y="15867"/>
                  <a:pt x="4539" y="15883"/>
                  <a:pt x="4539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902200" y="438120"/>
            <a:ext cx="285840" cy="312840"/>
          </a:xfrm>
          <a:custGeom>
            <a:avLst/>
            <a:gdLst/>
            <a:ahLst/>
            <a:rect l="l" t="t" r="r" b="b"/>
            <a:pathLst>
              <a:path w="795" h="870">
                <a:moveTo>
                  <a:pt x="16694" y="1439"/>
                </a:moveTo>
                <a:cubicBezTo>
                  <a:pt x="16694" y="1406"/>
                  <a:pt x="16694" y="1372"/>
                  <a:pt x="16694" y="1339"/>
                </a:cubicBezTo>
                <a:cubicBezTo>
                  <a:pt x="16694" y="1418"/>
                  <a:pt x="16680" y="1486"/>
                  <a:pt x="16669" y="1563"/>
                </a:cubicBezTo>
                <a:cubicBezTo>
                  <a:pt x="16659" y="1639"/>
                  <a:pt x="16656" y="1714"/>
                  <a:pt x="16644" y="1786"/>
                </a:cubicBezTo>
                <a:cubicBezTo>
                  <a:pt x="16639" y="1815"/>
                  <a:pt x="16644" y="1854"/>
                  <a:pt x="16644" y="1885"/>
                </a:cubicBezTo>
                <a:cubicBezTo>
                  <a:pt x="16682" y="1848"/>
                  <a:pt x="16702" y="1790"/>
                  <a:pt x="16743" y="1761"/>
                </a:cubicBezTo>
                <a:cubicBezTo>
                  <a:pt x="16772" y="1740"/>
                  <a:pt x="16866" y="1669"/>
                  <a:pt x="16892" y="1736"/>
                </a:cubicBezTo>
                <a:cubicBezTo>
                  <a:pt x="16912" y="1787"/>
                  <a:pt x="16928" y="1840"/>
                  <a:pt x="16892" y="1885"/>
                </a:cubicBezTo>
                <a:cubicBezTo>
                  <a:pt x="16851" y="1937"/>
                  <a:pt x="16832" y="1935"/>
                  <a:pt x="16768" y="1935"/>
                </a:cubicBezTo>
                <a:cubicBezTo>
                  <a:pt x="16760" y="1935"/>
                  <a:pt x="16751" y="1935"/>
                  <a:pt x="16743" y="1935"/>
                </a:cubicBezTo>
              </a:path>
              <a:path w="795" h="870">
                <a:moveTo>
                  <a:pt x="16892" y="1339"/>
                </a:moveTo>
                <a:cubicBezTo>
                  <a:pt x="16935" y="1308"/>
                  <a:pt x="16971" y="1300"/>
                  <a:pt x="17016" y="1339"/>
                </a:cubicBezTo>
                <a:cubicBezTo>
                  <a:pt x="17105" y="1416"/>
                  <a:pt x="17126" y="1448"/>
                  <a:pt x="17165" y="1563"/>
                </a:cubicBezTo>
                <a:cubicBezTo>
                  <a:pt x="17197" y="1658"/>
                  <a:pt x="17208" y="1785"/>
                  <a:pt x="17190" y="1885"/>
                </a:cubicBezTo>
                <a:cubicBezTo>
                  <a:pt x="17183" y="1926"/>
                  <a:pt x="17111" y="2068"/>
                  <a:pt x="17066" y="2084"/>
                </a:cubicBezTo>
                <a:cubicBezTo>
                  <a:pt x="17049" y="2084"/>
                  <a:pt x="17033" y="2084"/>
                  <a:pt x="17016" y="2084"/>
                </a:cubicBezTo>
              </a:path>
              <a:path w="795" h="870">
                <a:moveTo>
                  <a:pt x="16520" y="1215"/>
                </a:moveTo>
                <a:cubicBezTo>
                  <a:pt x="16448" y="1227"/>
                  <a:pt x="16446" y="1279"/>
                  <a:pt x="16421" y="1364"/>
                </a:cubicBezTo>
                <a:cubicBezTo>
                  <a:pt x="16394" y="1455"/>
                  <a:pt x="16364" y="1641"/>
                  <a:pt x="16396" y="1736"/>
                </a:cubicBezTo>
                <a:cubicBezTo>
                  <a:pt x="16413" y="1788"/>
                  <a:pt x="16465" y="1864"/>
                  <a:pt x="16495" y="19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32120" y="4259160"/>
            <a:ext cx="180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10368" y="11906"/>
                </a:moveTo>
                <a:cubicBezTo>
                  <a:pt x="10368" y="11881"/>
                  <a:pt x="10368" y="11857"/>
                  <a:pt x="10368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60840" y="4062240"/>
            <a:ext cx="19080" cy="46080"/>
          </a:xfrm>
          <a:custGeom>
            <a:avLst/>
            <a:gdLst/>
            <a:ahLst/>
            <a:rect l="l" t="t" r="r" b="b"/>
            <a:pathLst>
              <a:path w="51" h="125">
                <a:moveTo>
                  <a:pt x="10220" y="11410"/>
                </a:moveTo>
                <a:cubicBezTo>
                  <a:pt x="10173" y="11332"/>
                  <a:pt x="10170" y="11353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71920" y="3768840"/>
            <a:ext cx="54000" cy="169920"/>
          </a:xfrm>
          <a:custGeom>
            <a:avLst/>
            <a:gdLst/>
            <a:ahLst/>
            <a:rect l="l" t="t" r="r" b="b"/>
            <a:pathLst>
              <a:path w="150" h="472">
                <a:moveTo>
                  <a:pt x="10071" y="10939"/>
                </a:moveTo>
                <a:cubicBezTo>
                  <a:pt x="10051" y="10898"/>
                  <a:pt x="10042" y="10892"/>
                  <a:pt x="10046" y="10864"/>
                </a:cubicBezTo>
              </a:path>
              <a:path w="150" h="472">
                <a:moveTo>
                  <a:pt x="9947" y="10592"/>
                </a:moveTo>
                <a:cubicBezTo>
                  <a:pt x="9925" y="10540"/>
                  <a:pt x="9922" y="10522"/>
                  <a:pt x="9922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00280" y="3589200"/>
            <a:ext cx="9720" cy="46080"/>
          </a:xfrm>
          <a:custGeom>
            <a:avLst/>
            <a:gdLst/>
            <a:ahLst/>
            <a:rect l="l" t="t" r="r" b="b"/>
            <a:pathLst>
              <a:path w="26" h="126">
                <a:moveTo>
                  <a:pt x="9748" y="10096"/>
                </a:moveTo>
                <a:cubicBezTo>
                  <a:pt x="9730" y="10035"/>
                  <a:pt x="9723" y="10025"/>
                  <a:pt x="9723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402000" y="3340080"/>
            <a:ext cx="27000" cy="71280"/>
          </a:xfrm>
          <a:custGeom>
            <a:avLst/>
            <a:gdLst/>
            <a:ahLst/>
            <a:rect l="l" t="t" r="r" b="b"/>
            <a:pathLst>
              <a:path w="75" h="199">
                <a:moveTo>
                  <a:pt x="9525" y="9475"/>
                </a:moveTo>
                <a:cubicBezTo>
                  <a:pt x="9500" y="9443"/>
                  <a:pt x="9486" y="9393"/>
                  <a:pt x="9475" y="9351"/>
                </a:cubicBezTo>
                <a:cubicBezTo>
                  <a:pt x="9475" y="9317"/>
                  <a:pt x="9470" y="9299"/>
                  <a:pt x="9451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40080" y="3143160"/>
            <a:ext cx="17640" cy="81000"/>
          </a:xfrm>
          <a:custGeom>
            <a:avLst/>
            <a:gdLst/>
            <a:ahLst/>
            <a:rect l="l" t="t" r="r" b="b"/>
            <a:pathLst>
              <a:path w="51" h="224">
                <a:moveTo>
                  <a:pt x="9327" y="8954"/>
                </a:moveTo>
                <a:cubicBezTo>
                  <a:pt x="9304" y="8902"/>
                  <a:pt x="9302" y="8884"/>
                  <a:pt x="9302" y="8830"/>
                </a:cubicBezTo>
                <a:cubicBezTo>
                  <a:pt x="9302" y="8779"/>
                  <a:pt x="9301" y="8760"/>
                  <a:pt x="9277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3720" y="2982960"/>
            <a:ext cx="9360" cy="44280"/>
          </a:xfrm>
          <a:custGeom>
            <a:avLst/>
            <a:gdLst/>
            <a:ahLst/>
            <a:rect l="l" t="t" r="r" b="b"/>
            <a:pathLst>
              <a:path w="26" h="125">
                <a:moveTo>
                  <a:pt x="9203" y="8409"/>
                </a:moveTo>
                <a:cubicBezTo>
                  <a:pt x="9181" y="8357"/>
                  <a:pt x="9178" y="8339"/>
                  <a:pt x="9178" y="82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259080" y="2840040"/>
            <a:ext cx="180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9054" y="7962"/>
                </a:moveTo>
                <a:cubicBezTo>
                  <a:pt x="9054" y="7937"/>
                  <a:pt x="9054" y="7913"/>
                  <a:pt x="9054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70160" y="2536920"/>
            <a:ext cx="54000" cy="160200"/>
          </a:xfrm>
          <a:custGeom>
            <a:avLst/>
            <a:gdLst/>
            <a:ahLst/>
            <a:rect l="l" t="t" r="r" b="b"/>
            <a:pathLst>
              <a:path w="149" h="447">
                <a:moveTo>
                  <a:pt x="8954" y="7491"/>
                </a:moveTo>
                <a:cubicBezTo>
                  <a:pt x="8914" y="7418"/>
                  <a:pt x="8887" y="7371"/>
                  <a:pt x="8880" y="7293"/>
                </a:cubicBezTo>
                <a:cubicBezTo>
                  <a:pt x="8875" y="7238"/>
                  <a:pt x="8844" y="7173"/>
                  <a:pt x="8830" y="7119"/>
                </a:cubicBezTo>
                <a:cubicBezTo>
                  <a:pt x="8822" y="7094"/>
                  <a:pt x="8814" y="7070"/>
                  <a:pt x="8806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63880" y="2017800"/>
            <a:ext cx="144360" cy="331560"/>
          </a:xfrm>
          <a:custGeom>
            <a:avLst/>
            <a:gdLst/>
            <a:ahLst/>
            <a:rect l="l" t="t" r="r" b="b"/>
            <a:pathLst>
              <a:path w="398" h="919">
                <a:moveTo>
                  <a:pt x="8632" y="6524"/>
                </a:moveTo>
                <a:cubicBezTo>
                  <a:pt x="8599" y="6458"/>
                  <a:pt x="8574" y="6360"/>
                  <a:pt x="8533" y="6300"/>
                </a:cubicBezTo>
                <a:cubicBezTo>
                  <a:pt x="8494" y="6242"/>
                  <a:pt x="8497" y="6181"/>
                  <a:pt x="8458" y="6127"/>
                </a:cubicBezTo>
                <a:cubicBezTo>
                  <a:pt x="8442" y="6110"/>
                  <a:pt x="8425" y="6094"/>
                  <a:pt x="8409" y="6077"/>
                </a:cubicBezTo>
              </a:path>
              <a:path w="398" h="919">
                <a:moveTo>
                  <a:pt x="8384" y="5978"/>
                </a:moveTo>
                <a:cubicBezTo>
                  <a:pt x="8344" y="5899"/>
                  <a:pt x="8300" y="5831"/>
                  <a:pt x="8260" y="5755"/>
                </a:cubicBezTo>
                <a:cubicBezTo>
                  <a:pt x="8234" y="5706"/>
                  <a:pt x="8235" y="5683"/>
                  <a:pt x="8235" y="5631"/>
                </a:cubicBezTo>
                <a:cubicBezTo>
                  <a:pt x="8235" y="5623"/>
                  <a:pt x="8235" y="5614"/>
                  <a:pt x="8235" y="56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803680" y="1857240"/>
            <a:ext cx="27000" cy="17640"/>
          </a:xfrm>
          <a:custGeom>
            <a:avLst/>
            <a:gdLst/>
            <a:ahLst/>
            <a:rect l="l" t="t" r="r" b="b"/>
            <a:pathLst>
              <a:path w="75" h="51">
                <a:moveTo>
                  <a:pt x="7863" y="5209"/>
                </a:moveTo>
                <a:cubicBezTo>
                  <a:pt x="7834" y="5180"/>
                  <a:pt x="7825" y="5168"/>
                  <a:pt x="7789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55920" y="1776240"/>
            <a:ext cx="125280" cy="1800"/>
          </a:xfrm>
          <a:custGeom>
            <a:avLst/>
            <a:gdLst/>
            <a:ahLst/>
            <a:rect l="l" t="t" r="r" b="b"/>
            <a:pathLst>
              <a:path w="349" h="1">
                <a:moveTo>
                  <a:pt x="7169" y="4936"/>
                </a:moveTo>
                <a:cubicBezTo>
                  <a:pt x="7053" y="4936"/>
                  <a:pt x="6937" y="4936"/>
                  <a:pt x="6821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76640" y="1795320"/>
            <a:ext cx="36360" cy="17640"/>
          </a:xfrm>
          <a:custGeom>
            <a:avLst/>
            <a:gdLst/>
            <a:ahLst/>
            <a:rect l="l" t="t" r="r" b="b"/>
            <a:pathLst>
              <a:path w="100" h="50">
                <a:moveTo>
                  <a:pt x="6424" y="4986"/>
                </a:moveTo>
                <a:cubicBezTo>
                  <a:pt x="6408" y="4986"/>
                  <a:pt x="6391" y="4986"/>
                  <a:pt x="6375" y="4986"/>
                </a:cubicBezTo>
                <a:cubicBezTo>
                  <a:pt x="6364" y="5018"/>
                  <a:pt x="6357" y="5025"/>
                  <a:pt x="6325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35080" y="1866960"/>
            <a:ext cx="108000" cy="5400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5953" y="5184"/>
                </a:moveTo>
                <a:cubicBezTo>
                  <a:pt x="5924" y="5235"/>
                  <a:pt x="5929" y="5246"/>
                  <a:pt x="5879" y="5259"/>
                </a:cubicBezTo>
              </a:path>
              <a:path w="299" h="150">
                <a:moveTo>
                  <a:pt x="5705" y="5283"/>
                </a:moveTo>
                <a:cubicBezTo>
                  <a:pt x="5657" y="5283"/>
                  <a:pt x="5699" y="5318"/>
                  <a:pt x="5655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893960" y="1982880"/>
            <a:ext cx="44280" cy="169920"/>
          </a:xfrm>
          <a:custGeom>
            <a:avLst/>
            <a:gdLst/>
            <a:ahLst/>
            <a:rect l="l" t="t" r="r" b="b"/>
            <a:pathLst>
              <a:path w="125" h="472">
                <a:moveTo>
                  <a:pt x="5358" y="5928"/>
                </a:moveTo>
                <a:cubicBezTo>
                  <a:pt x="5358" y="5945"/>
                  <a:pt x="5358" y="5961"/>
                  <a:pt x="5358" y="5978"/>
                </a:cubicBezTo>
              </a:path>
              <a:path w="125" h="472">
                <a:moveTo>
                  <a:pt x="5383" y="5507"/>
                </a:moveTo>
                <a:cubicBezTo>
                  <a:pt x="5343" y="5579"/>
                  <a:pt x="5331" y="5640"/>
                  <a:pt x="5283" y="5705"/>
                </a:cubicBezTo>
                <a:cubicBezTo>
                  <a:pt x="5261" y="5728"/>
                  <a:pt x="5253" y="5733"/>
                  <a:pt x="5259" y="5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312920" y="2143080"/>
            <a:ext cx="581040" cy="1947960"/>
          </a:xfrm>
          <a:custGeom>
            <a:avLst/>
            <a:gdLst/>
            <a:ahLst/>
            <a:rect l="l" t="t" r="r" b="b"/>
            <a:pathLst>
              <a:path w="1614" h="5409">
                <a:moveTo>
                  <a:pt x="5209" y="5953"/>
                </a:moveTo>
                <a:cubicBezTo>
                  <a:pt x="5230" y="6055"/>
                  <a:pt x="5254" y="6150"/>
                  <a:pt x="5259" y="6251"/>
                </a:cubicBezTo>
                <a:cubicBezTo>
                  <a:pt x="5262" y="6318"/>
                  <a:pt x="5270" y="6390"/>
                  <a:pt x="5234" y="6449"/>
                </a:cubicBezTo>
                <a:cubicBezTo>
                  <a:pt x="5226" y="6457"/>
                  <a:pt x="5217" y="6466"/>
                  <a:pt x="5209" y="6474"/>
                </a:cubicBezTo>
              </a:path>
              <a:path w="1614" h="5409">
                <a:moveTo>
                  <a:pt x="5060" y="6573"/>
                </a:moveTo>
                <a:cubicBezTo>
                  <a:pt x="5039" y="6669"/>
                  <a:pt x="5019" y="6751"/>
                  <a:pt x="5011" y="6846"/>
                </a:cubicBezTo>
              </a:path>
              <a:path w="1614" h="5409">
                <a:moveTo>
                  <a:pt x="4738" y="7392"/>
                </a:moveTo>
                <a:cubicBezTo>
                  <a:pt x="4721" y="7425"/>
                  <a:pt x="4705" y="7458"/>
                  <a:pt x="4688" y="7491"/>
                </a:cubicBezTo>
              </a:path>
              <a:path w="1614" h="5409">
                <a:moveTo>
                  <a:pt x="4688" y="6821"/>
                </a:moveTo>
                <a:cubicBezTo>
                  <a:pt x="4680" y="6854"/>
                  <a:pt x="4671" y="6888"/>
                  <a:pt x="4663" y="6921"/>
                </a:cubicBezTo>
              </a:path>
              <a:path w="1614" h="5409">
                <a:moveTo>
                  <a:pt x="4713" y="7045"/>
                </a:moveTo>
                <a:cubicBezTo>
                  <a:pt x="4677" y="7116"/>
                  <a:pt x="4629" y="7189"/>
                  <a:pt x="4614" y="7268"/>
                </a:cubicBezTo>
                <a:cubicBezTo>
                  <a:pt x="4614" y="7284"/>
                  <a:pt x="4614" y="7301"/>
                  <a:pt x="4614" y="7317"/>
                </a:cubicBezTo>
              </a:path>
              <a:path w="1614" h="5409">
                <a:moveTo>
                  <a:pt x="4440" y="7689"/>
                </a:moveTo>
                <a:cubicBezTo>
                  <a:pt x="4381" y="7800"/>
                  <a:pt x="4316" y="7888"/>
                  <a:pt x="4242" y="7987"/>
                </a:cubicBezTo>
                <a:cubicBezTo>
                  <a:pt x="4170" y="8083"/>
                  <a:pt x="4095" y="8127"/>
                  <a:pt x="4043" y="8235"/>
                </a:cubicBezTo>
                <a:cubicBezTo>
                  <a:pt x="4035" y="8252"/>
                  <a:pt x="4026" y="8268"/>
                  <a:pt x="4018" y="8285"/>
                </a:cubicBezTo>
              </a:path>
              <a:path w="1614" h="5409">
                <a:moveTo>
                  <a:pt x="3894" y="8558"/>
                </a:moveTo>
                <a:cubicBezTo>
                  <a:pt x="3894" y="8690"/>
                  <a:pt x="3894" y="8822"/>
                  <a:pt x="3894" y="8954"/>
                </a:cubicBezTo>
              </a:path>
              <a:path w="1614" h="5409">
                <a:moveTo>
                  <a:pt x="3870" y="9277"/>
                </a:moveTo>
                <a:cubicBezTo>
                  <a:pt x="3850" y="9349"/>
                  <a:pt x="3832" y="9429"/>
                  <a:pt x="3820" y="9500"/>
                </a:cubicBezTo>
                <a:cubicBezTo>
                  <a:pt x="3808" y="9573"/>
                  <a:pt x="3801" y="9651"/>
                  <a:pt x="3795" y="9723"/>
                </a:cubicBezTo>
                <a:cubicBezTo>
                  <a:pt x="3795" y="9758"/>
                  <a:pt x="3790" y="9776"/>
                  <a:pt x="3770" y="9798"/>
                </a:cubicBezTo>
              </a:path>
              <a:path w="1614" h="5409">
                <a:moveTo>
                  <a:pt x="3746" y="9872"/>
                </a:moveTo>
                <a:cubicBezTo>
                  <a:pt x="3746" y="9969"/>
                  <a:pt x="3725" y="10050"/>
                  <a:pt x="3721" y="10145"/>
                </a:cubicBezTo>
                <a:cubicBezTo>
                  <a:pt x="3717" y="10250"/>
                  <a:pt x="3710" y="10341"/>
                  <a:pt x="3696" y="10443"/>
                </a:cubicBezTo>
                <a:cubicBezTo>
                  <a:pt x="3689" y="10491"/>
                  <a:pt x="3696" y="10543"/>
                  <a:pt x="3696" y="10592"/>
                </a:cubicBezTo>
              </a:path>
              <a:path w="1614" h="5409">
                <a:moveTo>
                  <a:pt x="3721" y="10790"/>
                </a:moveTo>
                <a:cubicBezTo>
                  <a:pt x="3721" y="10921"/>
                  <a:pt x="3689" y="10989"/>
                  <a:pt x="3671" y="11112"/>
                </a:cubicBezTo>
                <a:cubicBezTo>
                  <a:pt x="3659" y="11195"/>
                  <a:pt x="3646" y="11276"/>
                  <a:pt x="3646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067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438360" y="1643040"/>
            <a:ext cx="12564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9823" y="4614"/>
                </a:moveTo>
                <a:cubicBezTo>
                  <a:pt x="9839" y="4614"/>
                  <a:pt x="9856" y="4614"/>
                  <a:pt x="9872" y="4614"/>
                </a:cubicBezTo>
                <a:cubicBezTo>
                  <a:pt x="9938" y="4614"/>
                  <a:pt x="9786" y="4594"/>
                  <a:pt x="9773" y="4589"/>
                </a:cubicBezTo>
                <a:cubicBezTo>
                  <a:pt x="9708" y="4566"/>
                  <a:pt x="9668" y="4564"/>
                  <a:pt x="9599" y="4564"/>
                </a:cubicBezTo>
                <a:cubicBezTo>
                  <a:pt x="9575" y="4564"/>
                  <a:pt x="9566" y="4564"/>
                  <a:pt x="9550" y="4564"/>
                </a:cubicBezTo>
              </a:path>
              <a:path w="348" h="199">
                <a:moveTo>
                  <a:pt x="9798" y="4738"/>
                </a:moveTo>
                <a:cubicBezTo>
                  <a:pt x="9856" y="4738"/>
                  <a:pt x="9864" y="4738"/>
                  <a:pt x="9897" y="4738"/>
                </a:cubicBezTo>
                <a:cubicBezTo>
                  <a:pt x="9883" y="4777"/>
                  <a:pt x="9847" y="4762"/>
                  <a:pt x="9798" y="4762"/>
                </a:cubicBezTo>
                <a:cubicBezTo>
                  <a:pt x="9740" y="4762"/>
                  <a:pt x="9682" y="4762"/>
                  <a:pt x="9624" y="4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732120" y="1589040"/>
            <a:ext cx="260280" cy="135000"/>
          </a:xfrm>
          <a:custGeom>
            <a:avLst/>
            <a:gdLst/>
            <a:ahLst/>
            <a:rect l="l" t="t" r="r" b="b"/>
            <a:pathLst>
              <a:path w="721" h="373">
                <a:moveTo>
                  <a:pt x="10492" y="4589"/>
                </a:moveTo>
                <a:cubicBezTo>
                  <a:pt x="10464" y="4589"/>
                  <a:pt x="10381" y="4605"/>
                  <a:pt x="10368" y="4564"/>
                </a:cubicBezTo>
                <a:cubicBezTo>
                  <a:pt x="10346" y="4491"/>
                  <a:pt x="10374" y="4476"/>
                  <a:pt x="10418" y="4440"/>
                </a:cubicBezTo>
                <a:cubicBezTo>
                  <a:pt x="10469" y="4398"/>
                  <a:pt x="10581" y="4403"/>
                  <a:pt x="10641" y="4440"/>
                </a:cubicBezTo>
                <a:cubicBezTo>
                  <a:pt x="10717" y="4487"/>
                  <a:pt x="10734" y="4583"/>
                  <a:pt x="10740" y="4663"/>
                </a:cubicBezTo>
                <a:cubicBezTo>
                  <a:pt x="10745" y="4732"/>
                  <a:pt x="10644" y="4754"/>
                  <a:pt x="10592" y="4762"/>
                </a:cubicBezTo>
                <a:cubicBezTo>
                  <a:pt x="10527" y="4772"/>
                  <a:pt x="10477" y="4749"/>
                  <a:pt x="10418" y="4738"/>
                </a:cubicBezTo>
              </a:path>
              <a:path w="721" h="373">
                <a:moveTo>
                  <a:pt x="10988" y="4762"/>
                </a:moveTo>
                <a:cubicBezTo>
                  <a:pt x="11048" y="4762"/>
                  <a:pt x="11045" y="4755"/>
                  <a:pt x="11088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16240" y="1535040"/>
            <a:ext cx="12564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1485" y="4266"/>
                </a:moveTo>
                <a:cubicBezTo>
                  <a:pt x="11509" y="4266"/>
                  <a:pt x="11518" y="4266"/>
                  <a:pt x="11534" y="4266"/>
                </a:cubicBezTo>
                <a:cubicBezTo>
                  <a:pt x="11477" y="4295"/>
                  <a:pt x="11476" y="4331"/>
                  <a:pt x="11460" y="4390"/>
                </a:cubicBezTo>
                <a:cubicBezTo>
                  <a:pt x="11427" y="4511"/>
                  <a:pt x="11446" y="4570"/>
                  <a:pt x="11485" y="4688"/>
                </a:cubicBezTo>
                <a:cubicBezTo>
                  <a:pt x="11512" y="4771"/>
                  <a:pt x="11582" y="4833"/>
                  <a:pt x="11683" y="4812"/>
                </a:cubicBezTo>
                <a:cubicBezTo>
                  <a:pt x="11751" y="4798"/>
                  <a:pt x="11803" y="4733"/>
                  <a:pt x="11782" y="4663"/>
                </a:cubicBezTo>
                <a:cubicBezTo>
                  <a:pt x="11758" y="4581"/>
                  <a:pt x="11657" y="4572"/>
                  <a:pt x="11584" y="4589"/>
                </a:cubicBezTo>
                <a:cubicBezTo>
                  <a:pt x="11534" y="4614"/>
                  <a:pt x="11518" y="4622"/>
                  <a:pt x="11485" y="46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76160" y="2652840"/>
            <a:ext cx="546120" cy="276120"/>
          </a:xfrm>
          <a:custGeom>
            <a:avLst/>
            <a:gdLst/>
            <a:ahLst/>
            <a:rect l="l" t="t" r="r" b="b"/>
            <a:pathLst>
              <a:path w="1514" h="770">
                <a:moveTo>
                  <a:pt x="2505" y="7541"/>
                </a:moveTo>
                <a:cubicBezTo>
                  <a:pt x="2513" y="7524"/>
                  <a:pt x="2522" y="7508"/>
                  <a:pt x="2530" y="7491"/>
                </a:cubicBezTo>
                <a:cubicBezTo>
                  <a:pt x="2486" y="7458"/>
                  <a:pt x="2452" y="7451"/>
                  <a:pt x="2406" y="7491"/>
                </a:cubicBezTo>
                <a:cubicBezTo>
                  <a:pt x="2321" y="7565"/>
                  <a:pt x="2302" y="7584"/>
                  <a:pt x="2257" y="7689"/>
                </a:cubicBezTo>
                <a:cubicBezTo>
                  <a:pt x="2230" y="7752"/>
                  <a:pt x="2173" y="7821"/>
                  <a:pt x="2158" y="7888"/>
                </a:cubicBezTo>
                <a:cubicBezTo>
                  <a:pt x="2147" y="7938"/>
                  <a:pt x="2192" y="7986"/>
                  <a:pt x="2232" y="8012"/>
                </a:cubicBezTo>
                <a:cubicBezTo>
                  <a:pt x="2307" y="8060"/>
                  <a:pt x="2357" y="8029"/>
                  <a:pt x="2431" y="8012"/>
                </a:cubicBezTo>
                <a:cubicBezTo>
                  <a:pt x="2494" y="7997"/>
                  <a:pt x="2528" y="8026"/>
                  <a:pt x="2580" y="7987"/>
                </a:cubicBezTo>
              </a:path>
              <a:path w="1514" h="770">
                <a:moveTo>
                  <a:pt x="2530" y="7813"/>
                </a:moveTo>
                <a:cubicBezTo>
                  <a:pt x="2486" y="7748"/>
                  <a:pt x="2491" y="7755"/>
                  <a:pt x="2431" y="7789"/>
                </a:cubicBezTo>
                <a:cubicBezTo>
                  <a:pt x="2384" y="7815"/>
                  <a:pt x="2358" y="7813"/>
                  <a:pt x="2307" y="7813"/>
                </a:cubicBezTo>
              </a:path>
              <a:path w="1514" h="770">
                <a:moveTo>
                  <a:pt x="2977" y="7417"/>
                </a:moveTo>
                <a:cubicBezTo>
                  <a:pt x="3003" y="7380"/>
                  <a:pt x="2992" y="7378"/>
                  <a:pt x="3026" y="7367"/>
                </a:cubicBezTo>
                <a:cubicBezTo>
                  <a:pt x="2968" y="7426"/>
                  <a:pt x="2933" y="7462"/>
                  <a:pt x="2902" y="7541"/>
                </a:cubicBezTo>
                <a:cubicBezTo>
                  <a:pt x="2859" y="7652"/>
                  <a:pt x="2836" y="7749"/>
                  <a:pt x="2877" y="7863"/>
                </a:cubicBezTo>
                <a:cubicBezTo>
                  <a:pt x="2898" y="7921"/>
                  <a:pt x="2915" y="7977"/>
                  <a:pt x="2927" y="8037"/>
                </a:cubicBezTo>
              </a:path>
              <a:path w="1514" h="770">
                <a:moveTo>
                  <a:pt x="3349" y="7541"/>
                </a:moveTo>
                <a:cubicBezTo>
                  <a:pt x="3371" y="7518"/>
                  <a:pt x="3376" y="7510"/>
                  <a:pt x="3398" y="7516"/>
                </a:cubicBezTo>
                <a:cubicBezTo>
                  <a:pt x="3367" y="7531"/>
                  <a:pt x="3301" y="7602"/>
                  <a:pt x="3274" y="7640"/>
                </a:cubicBezTo>
                <a:cubicBezTo>
                  <a:pt x="3235" y="7694"/>
                  <a:pt x="3215" y="7760"/>
                  <a:pt x="3175" y="7813"/>
                </a:cubicBezTo>
                <a:cubicBezTo>
                  <a:pt x="3148" y="7848"/>
                  <a:pt x="3150" y="7844"/>
                  <a:pt x="3150" y="7888"/>
                </a:cubicBezTo>
              </a:path>
              <a:path w="1514" h="770">
                <a:moveTo>
                  <a:pt x="3349" y="7838"/>
                </a:moveTo>
                <a:cubicBezTo>
                  <a:pt x="3371" y="7816"/>
                  <a:pt x="3379" y="7811"/>
                  <a:pt x="3373" y="7789"/>
                </a:cubicBezTo>
                <a:cubicBezTo>
                  <a:pt x="3328" y="7777"/>
                  <a:pt x="3272" y="7755"/>
                  <a:pt x="3225" y="7739"/>
                </a:cubicBezTo>
                <a:cubicBezTo>
                  <a:pt x="3174" y="7722"/>
                  <a:pt x="3155" y="7714"/>
                  <a:pt x="3101" y="7714"/>
                </a:cubicBezTo>
              </a:path>
              <a:path w="1514" h="770">
                <a:moveTo>
                  <a:pt x="3373" y="7417"/>
                </a:moveTo>
                <a:cubicBezTo>
                  <a:pt x="3386" y="7338"/>
                  <a:pt x="3422" y="7358"/>
                  <a:pt x="3497" y="7392"/>
                </a:cubicBezTo>
                <a:cubicBezTo>
                  <a:pt x="3592" y="7435"/>
                  <a:pt x="3658" y="7564"/>
                  <a:pt x="3671" y="7665"/>
                </a:cubicBezTo>
                <a:cubicBezTo>
                  <a:pt x="3686" y="7782"/>
                  <a:pt x="3652" y="7992"/>
                  <a:pt x="3572" y="8086"/>
                </a:cubicBezTo>
                <a:cubicBezTo>
                  <a:pt x="3547" y="8103"/>
                  <a:pt x="3522" y="8119"/>
                  <a:pt x="3497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47880" y="2759040"/>
            <a:ext cx="98280" cy="90360"/>
          </a:xfrm>
          <a:custGeom>
            <a:avLst/>
            <a:gdLst/>
            <a:ahLst/>
            <a:rect l="l" t="t" r="r" b="b"/>
            <a:pathLst>
              <a:path w="273" h="249">
                <a:moveTo>
                  <a:pt x="5358" y="7689"/>
                </a:moveTo>
                <a:cubicBezTo>
                  <a:pt x="5383" y="7689"/>
                  <a:pt x="5391" y="7689"/>
                  <a:pt x="5407" y="7689"/>
                </a:cubicBezTo>
                <a:cubicBezTo>
                  <a:pt x="5394" y="7650"/>
                  <a:pt x="5357" y="7665"/>
                  <a:pt x="5308" y="7665"/>
                </a:cubicBezTo>
                <a:cubicBezTo>
                  <a:pt x="5261" y="7665"/>
                  <a:pt x="5229" y="7685"/>
                  <a:pt x="5184" y="7689"/>
                </a:cubicBezTo>
                <a:cubicBezTo>
                  <a:pt x="5141" y="7693"/>
                  <a:pt x="5147" y="7676"/>
                  <a:pt x="5135" y="7714"/>
                </a:cubicBezTo>
              </a:path>
              <a:path w="273" h="249">
                <a:moveTo>
                  <a:pt x="5383" y="7838"/>
                </a:moveTo>
                <a:cubicBezTo>
                  <a:pt x="5391" y="7838"/>
                  <a:pt x="5399" y="7838"/>
                  <a:pt x="5407" y="7838"/>
                </a:cubicBezTo>
                <a:cubicBezTo>
                  <a:pt x="5394" y="7879"/>
                  <a:pt x="5354" y="7870"/>
                  <a:pt x="5308" y="7888"/>
                </a:cubicBezTo>
                <a:cubicBezTo>
                  <a:pt x="5292" y="7896"/>
                  <a:pt x="5275" y="7905"/>
                  <a:pt x="5259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00200" y="2741760"/>
            <a:ext cx="795600" cy="179280"/>
          </a:xfrm>
          <a:custGeom>
            <a:avLst/>
            <a:gdLst/>
            <a:ahLst/>
            <a:rect l="l" t="t" r="r" b="b"/>
            <a:pathLst>
              <a:path w="2209" h="497">
                <a:moveTo>
                  <a:pt x="7045" y="7838"/>
                </a:moveTo>
                <a:cubicBezTo>
                  <a:pt x="6994" y="7838"/>
                  <a:pt x="6991" y="7824"/>
                  <a:pt x="6970" y="7813"/>
                </a:cubicBezTo>
                <a:cubicBezTo>
                  <a:pt x="6925" y="7790"/>
                  <a:pt x="6944" y="7762"/>
                  <a:pt x="6970" y="7714"/>
                </a:cubicBezTo>
                <a:cubicBezTo>
                  <a:pt x="7002" y="7655"/>
                  <a:pt x="7069" y="7602"/>
                  <a:pt x="7144" y="7615"/>
                </a:cubicBezTo>
                <a:cubicBezTo>
                  <a:pt x="7259" y="7635"/>
                  <a:pt x="7310" y="7737"/>
                  <a:pt x="7342" y="7838"/>
                </a:cubicBezTo>
                <a:cubicBezTo>
                  <a:pt x="7366" y="7913"/>
                  <a:pt x="7409" y="8060"/>
                  <a:pt x="7293" y="8086"/>
                </a:cubicBezTo>
                <a:cubicBezTo>
                  <a:pt x="7205" y="8106"/>
                  <a:pt x="7098" y="8056"/>
                  <a:pt x="7045" y="7987"/>
                </a:cubicBezTo>
                <a:cubicBezTo>
                  <a:pt x="7009" y="7940"/>
                  <a:pt x="7020" y="7892"/>
                  <a:pt x="7020" y="7838"/>
                </a:cubicBezTo>
              </a:path>
              <a:path w="2209" h="497">
                <a:moveTo>
                  <a:pt x="7913" y="7739"/>
                </a:moveTo>
                <a:cubicBezTo>
                  <a:pt x="7921" y="7731"/>
                  <a:pt x="7930" y="7722"/>
                  <a:pt x="7938" y="7714"/>
                </a:cubicBezTo>
                <a:cubicBezTo>
                  <a:pt x="7925" y="7767"/>
                  <a:pt x="7879" y="7797"/>
                  <a:pt x="7838" y="7838"/>
                </a:cubicBezTo>
                <a:cubicBezTo>
                  <a:pt x="7797" y="7879"/>
                  <a:pt x="7758" y="7903"/>
                  <a:pt x="7714" y="7938"/>
                </a:cubicBezTo>
              </a:path>
              <a:path w="2209" h="497">
                <a:moveTo>
                  <a:pt x="7888" y="7962"/>
                </a:moveTo>
                <a:cubicBezTo>
                  <a:pt x="7896" y="7962"/>
                  <a:pt x="7905" y="7962"/>
                  <a:pt x="7913" y="7962"/>
                </a:cubicBezTo>
                <a:cubicBezTo>
                  <a:pt x="7865" y="7928"/>
                  <a:pt x="7821" y="7928"/>
                  <a:pt x="7764" y="7913"/>
                </a:cubicBezTo>
                <a:cubicBezTo>
                  <a:pt x="7706" y="7894"/>
                  <a:pt x="7700" y="7885"/>
                  <a:pt x="7665" y="7888"/>
                </a:cubicBezTo>
              </a:path>
              <a:path w="2209" h="497">
                <a:moveTo>
                  <a:pt x="8186" y="7813"/>
                </a:moveTo>
                <a:cubicBezTo>
                  <a:pt x="8161" y="7813"/>
                  <a:pt x="8136" y="7813"/>
                  <a:pt x="8111" y="7813"/>
                </a:cubicBezTo>
                <a:cubicBezTo>
                  <a:pt x="8111" y="7777"/>
                  <a:pt x="8117" y="7727"/>
                  <a:pt x="8161" y="7714"/>
                </a:cubicBezTo>
                <a:cubicBezTo>
                  <a:pt x="8256" y="7687"/>
                  <a:pt x="8320" y="7729"/>
                  <a:pt x="8384" y="7789"/>
                </a:cubicBezTo>
                <a:cubicBezTo>
                  <a:pt x="8421" y="7824"/>
                  <a:pt x="8504" y="7926"/>
                  <a:pt x="8458" y="7987"/>
                </a:cubicBezTo>
                <a:cubicBezTo>
                  <a:pt x="8419" y="8038"/>
                  <a:pt x="8289" y="8012"/>
                  <a:pt x="8235" y="8012"/>
                </a:cubicBezTo>
                <a:cubicBezTo>
                  <a:pt x="8176" y="8012"/>
                  <a:pt x="8179" y="8019"/>
                  <a:pt x="8136" y="7987"/>
                </a:cubicBezTo>
              </a:path>
              <a:path w="2209" h="497">
                <a:moveTo>
                  <a:pt x="8706" y="7987"/>
                </a:moveTo>
                <a:cubicBezTo>
                  <a:pt x="8777" y="8016"/>
                  <a:pt x="8783" y="8013"/>
                  <a:pt x="8830" y="8062"/>
                </a:cubicBezTo>
              </a:path>
              <a:path w="2209" h="497">
                <a:moveTo>
                  <a:pt x="9029" y="7739"/>
                </a:moveTo>
                <a:cubicBezTo>
                  <a:pt x="9048" y="7682"/>
                  <a:pt x="9057" y="7675"/>
                  <a:pt x="9054" y="7640"/>
                </a:cubicBezTo>
                <a:cubicBezTo>
                  <a:pt x="9085" y="7721"/>
                  <a:pt x="9082" y="7802"/>
                  <a:pt x="9103" y="7888"/>
                </a:cubicBezTo>
                <a:cubicBezTo>
                  <a:pt x="9122" y="7965"/>
                  <a:pt x="9144" y="8034"/>
                  <a:pt x="9153" y="81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17920" y="2786040"/>
            <a:ext cx="135000" cy="1080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10120" y="7838"/>
                </a:moveTo>
                <a:cubicBezTo>
                  <a:pt x="10128" y="7838"/>
                  <a:pt x="10137" y="7838"/>
                  <a:pt x="10145" y="7838"/>
                </a:cubicBezTo>
                <a:cubicBezTo>
                  <a:pt x="10132" y="7876"/>
                  <a:pt x="10116" y="7863"/>
                  <a:pt x="10071" y="7863"/>
                </a:cubicBezTo>
                <a:cubicBezTo>
                  <a:pt x="10009" y="7863"/>
                  <a:pt x="9988" y="7888"/>
                  <a:pt x="9922" y="7888"/>
                </a:cubicBezTo>
                <a:cubicBezTo>
                  <a:pt x="9870" y="7888"/>
                  <a:pt x="9787" y="7906"/>
                  <a:pt x="9773" y="7863"/>
                </a:cubicBezTo>
              </a:path>
              <a:path w="373" h="299">
                <a:moveTo>
                  <a:pt x="9947" y="7739"/>
                </a:moveTo>
                <a:cubicBezTo>
                  <a:pt x="9990" y="7754"/>
                  <a:pt x="9971" y="7811"/>
                  <a:pt x="9971" y="7863"/>
                </a:cubicBezTo>
                <a:cubicBezTo>
                  <a:pt x="9971" y="7931"/>
                  <a:pt x="9988" y="7973"/>
                  <a:pt x="9996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73680" y="2732040"/>
            <a:ext cx="438120" cy="169920"/>
          </a:xfrm>
          <a:custGeom>
            <a:avLst/>
            <a:gdLst/>
            <a:ahLst/>
            <a:rect l="l" t="t" r="r" b="b"/>
            <a:pathLst>
              <a:path w="1217" h="473">
                <a:moveTo>
                  <a:pt x="11038" y="7665"/>
                </a:moveTo>
                <a:cubicBezTo>
                  <a:pt x="11058" y="7624"/>
                  <a:pt x="11056" y="7608"/>
                  <a:pt x="11088" y="7615"/>
                </a:cubicBezTo>
                <a:cubicBezTo>
                  <a:pt x="11088" y="7557"/>
                  <a:pt x="11077" y="7682"/>
                  <a:pt x="11088" y="7739"/>
                </a:cubicBezTo>
                <a:cubicBezTo>
                  <a:pt x="11107" y="7838"/>
                  <a:pt x="11130" y="7937"/>
                  <a:pt x="11137" y="8037"/>
                </a:cubicBezTo>
                <a:cubicBezTo>
                  <a:pt x="11137" y="8045"/>
                  <a:pt x="11137" y="8054"/>
                  <a:pt x="11137" y="8062"/>
                </a:cubicBezTo>
              </a:path>
              <a:path w="1217" h="473">
                <a:moveTo>
                  <a:pt x="11559" y="7689"/>
                </a:moveTo>
                <a:cubicBezTo>
                  <a:pt x="11584" y="7689"/>
                  <a:pt x="11592" y="7689"/>
                  <a:pt x="11609" y="7689"/>
                </a:cubicBezTo>
                <a:cubicBezTo>
                  <a:pt x="11609" y="7753"/>
                  <a:pt x="11581" y="7748"/>
                  <a:pt x="11534" y="7789"/>
                </a:cubicBezTo>
                <a:cubicBezTo>
                  <a:pt x="11507" y="7813"/>
                  <a:pt x="11450" y="7879"/>
                  <a:pt x="11435" y="7913"/>
                </a:cubicBezTo>
                <a:cubicBezTo>
                  <a:pt x="11435" y="7938"/>
                  <a:pt x="11435" y="7946"/>
                  <a:pt x="11410" y="7938"/>
                </a:cubicBezTo>
              </a:path>
              <a:path w="1217" h="473">
                <a:moveTo>
                  <a:pt x="11584" y="7888"/>
                </a:moveTo>
                <a:cubicBezTo>
                  <a:pt x="11584" y="7871"/>
                  <a:pt x="11584" y="7855"/>
                  <a:pt x="11584" y="7838"/>
                </a:cubicBezTo>
                <a:cubicBezTo>
                  <a:pt x="11542" y="7838"/>
                  <a:pt x="11520" y="7827"/>
                  <a:pt x="11485" y="7813"/>
                </a:cubicBezTo>
                <a:cubicBezTo>
                  <a:pt x="11430" y="7790"/>
                  <a:pt x="11419" y="7764"/>
                  <a:pt x="11361" y="7764"/>
                </a:cubicBezTo>
              </a:path>
              <a:path w="1217" h="473">
                <a:moveTo>
                  <a:pt x="12005" y="7913"/>
                </a:moveTo>
                <a:cubicBezTo>
                  <a:pt x="12030" y="7913"/>
                  <a:pt x="12055" y="7913"/>
                  <a:pt x="12080" y="7913"/>
                </a:cubicBezTo>
                <a:cubicBezTo>
                  <a:pt x="12080" y="7842"/>
                  <a:pt x="12074" y="7888"/>
                  <a:pt x="12030" y="7863"/>
                </a:cubicBezTo>
                <a:cubicBezTo>
                  <a:pt x="11994" y="7843"/>
                  <a:pt x="11923" y="7854"/>
                  <a:pt x="11906" y="7913"/>
                </a:cubicBezTo>
                <a:cubicBezTo>
                  <a:pt x="11882" y="7994"/>
                  <a:pt x="11907" y="8031"/>
                  <a:pt x="11981" y="8037"/>
                </a:cubicBezTo>
                <a:cubicBezTo>
                  <a:pt x="12080" y="8045"/>
                  <a:pt x="12055" y="7967"/>
                  <a:pt x="12080" y="7913"/>
                </a:cubicBezTo>
                <a:cubicBezTo>
                  <a:pt x="12088" y="7905"/>
                  <a:pt x="12097" y="7896"/>
                  <a:pt x="12105" y="7888"/>
                </a:cubicBezTo>
                <a:cubicBezTo>
                  <a:pt x="12154" y="7901"/>
                  <a:pt x="12188" y="7953"/>
                  <a:pt x="12229" y="7987"/>
                </a:cubicBezTo>
                <a:cubicBezTo>
                  <a:pt x="12237" y="7995"/>
                  <a:pt x="12246" y="8004"/>
                  <a:pt x="12254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2759040"/>
            <a:ext cx="133560" cy="9864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13494" y="7789"/>
                </a:moveTo>
                <a:cubicBezTo>
                  <a:pt x="13480" y="7829"/>
                  <a:pt x="13445" y="7813"/>
                  <a:pt x="13395" y="7813"/>
                </a:cubicBezTo>
                <a:cubicBezTo>
                  <a:pt x="13325" y="7813"/>
                  <a:pt x="13269" y="7789"/>
                  <a:pt x="13196" y="7789"/>
                </a:cubicBezTo>
                <a:cubicBezTo>
                  <a:pt x="13163" y="7789"/>
                  <a:pt x="13147" y="7789"/>
                  <a:pt x="13122" y="7789"/>
                </a:cubicBezTo>
              </a:path>
              <a:path w="373" h="274">
                <a:moveTo>
                  <a:pt x="13221" y="7689"/>
                </a:moveTo>
                <a:cubicBezTo>
                  <a:pt x="13238" y="7681"/>
                  <a:pt x="13254" y="7673"/>
                  <a:pt x="13271" y="7665"/>
                </a:cubicBezTo>
                <a:cubicBezTo>
                  <a:pt x="13271" y="7719"/>
                  <a:pt x="13292" y="7758"/>
                  <a:pt x="13295" y="7813"/>
                </a:cubicBezTo>
                <a:cubicBezTo>
                  <a:pt x="13295" y="7871"/>
                  <a:pt x="13295" y="7896"/>
                  <a:pt x="13295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95960" y="2697120"/>
            <a:ext cx="642960" cy="169920"/>
          </a:xfrm>
          <a:custGeom>
            <a:avLst/>
            <a:gdLst/>
            <a:ahLst/>
            <a:rect l="l" t="t" r="r" b="b"/>
            <a:pathLst>
              <a:path w="1787" h="472">
                <a:moveTo>
                  <a:pt x="14784" y="7590"/>
                </a:moveTo>
                <a:cubicBezTo>
                  <a:pt x="14749" y="7616"/>
                  <a:pt x="14753" y="7615"/>
                  <a:pt x="14709" y="7615"/>
                </a:cubicBezTo>
                <a:cubicBezTo>
                  <a:pt x="14732" y="7661"/>
                  <a:pt x="14740" y="7586"/>
                  <a:pt x="14784" y="7565"/>
                </a:cubicBezTo>
                <a:cubicBezTo>
                  <a:pt x="14841" y="7538"/>
                  <a:pt x="14936" y="7484"/>
                  <a:pt x="14982" y="7516"/>
                </a:cubicBezTo>
                <a:cubicBezTo>
                  <a:pt x="15043" y="7559"/>
                  <a:pt x="15002" y="7684"/>
                  <a:pt x="14982" y="7739"/>
                </a:cubicBezTo>
                <a:cubicBezTo>
                  <a:pt x="14956" y="7810"/>
                  <a:pt x="14914" y="7866"/>
                  <a:pt x="14908" y="7938"/>
                </a:cubicBezTo>
                <a:cubicBezTo>
                  <a:pt x="14908" y="7946"/>
                  <a:pt x="14908" y="7954"/>
                  <a:pt x="14908" y="7962"/>
                </a:cubicBezTo>
                <a:cubicBezTo>
                  <a:pt x="14975" y="7962"/>
                  <a:pt x="15020" y="7965"/>
                  <a:pt x="15081" y="7938"/>
                </a:cubicBezTo>
                <a:cubicBezTo>
                  <a:pt x="15143" y="7911"/>
                  <a:pt x="15187" y="7913"/>
                  <a:pt x="15255" y="7913"/>
                </a:cubicBezTo>
              </a:path>
              <a:path w="1787" h="472">
                <a:moveTo>
                  <a:pt x="15677" y="7640"/>
                </a:moveTo>
                <a:cubicBezTo>
                  <a:pt x="15663" y="7694"/>
                  <a:pt x="15629" y="7711"/>
                  <a:pt x="15577" y="7739"/>
                </a:cubicBezTo>
                <a:cubicBezTo>
                  <a:pt x="15548" y="7754"/>
                  <a:pt x="15466" y="7819"/>
                  <a:pt x="15453" y="7838"/>
                </a:cubicBezTo>
                <a:cubicBezTo>
                  <a:pt x="15453" y="7846"/>
                  <a:pt x="15453" y="7855"/>
                  <a:pt x="15453" y="7863"/>
                </a:cubicBezTo>
              </a:path>
              <a:path w="1787" h="472">
                <a:moveTo>
                  <a:pt x="15627" y="7838"/>
                </a:moveTo>
                <a:cubicBezTo>
                  <a:pt x="15635" y="7822"/>
                  <a:pt x="15644" y="7805"/>
                  <a:pt x="15652" y="7789"/>
                </a:cubicBezTo>
                <a:cubicBezTo>
                  <a:pt x="15603" y="7777"/>
                  <a:pt x="15556" y="7753"/>
                  <a:pt x="15503" y="7739"/>
                </a:cubicBezTo>
                <a:cubicBezTo>
                  <a:pt x="15446" y="7724"/>
                  <a:pt x="15426" y="7701"/>
                  <a:pt x="15379" y="7689"/>
                </a:cubicBezTo>
              </a:path>
              <a:path w="1787" h="472">
                <a:moveTo>
                  <a:pt x="15949" y="7689"/>
                </a:moveTo>
                <a:cubicBezTo>
                  <a:pt x="15919" y="7669"/>
                  <a:pt x="15872" y="7641"/>
                  <a:pt x="15900" y="7590"/>
                </a:cubicBezTo>
                <a:cubicBezTo>
                  <a:pt x="15917" y="7560"/>
                  <a:pt x="16047" y="7545"/>
                  <a:pt x="16073" y="7565"/>
                </a:cubicBezTo>
                <a:cubicBezTo>
                  <a:pt x="16114" y="7597"/>
                  <a:pt x="16200" y="7734"/>
                  <a:pt x="16197" y="7789"/>
                </a:cubicBezTo>
                <a:cubicBezTo>
                  <a:pt x="16193" y="7871"/>
                  <a:pt x="16122" y="7908"/>
                  <a:pt x="16049" y="7888"/>
                </a:cubicBezTo>
                <a:cubicBezTo>
                  <a:pt x="15993" y="7872"/>
                  <a:pt x="15921" y="7831"/>
                  <a:pt x="15900" y="7789"/>
                </a:cubicBezTo>
              </a:path>
              <a:path w="1787" h="472">
                <a:moveTo>
                  <a:pt x="16470" y="7913"/>
                </a:moveTo>
                <a:cubicBezTo>
                  <a:pt x="16478" y="7913"/>
                  <a:pt x="16487" y="7913"/>
                  <a:pt x="16495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72120" y="2670120"/>
            <a:ext cx="152640" cy="18756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6892" y="7516"/>
                </a:moveTo>
                <a:cubicBezTo>
                  <a:pt x="16869" y="7493"/>
                  <a:pt x="16861" y="7489"/>
                  <a:pt x="16867" y="7466"/>
                </a:cubicBezTo>
                <a:cubicBezTo>
                  <a:pt x="16909" y="7455"/>
                  <a:pt x="16943" y="7425"/>
                  <a:pt x="16991" y="7417"/>
                </a:cubicBezTo>
                <a:cubicBezTo>
                  <a:pt x="17061" y="7405"/>
                  <a:pt x="17114" y="7420"/>
                  <a:pt x="17165" y="7466"/>
                </a:cubicBezTo>
                <a:cubicBezTo>
                  <a:pt x="17230" y="7525"/>
                  <a:pt x="17182" y="7556"/>
                  <a:pt x="17140" y="7590"/>
                </a:cubicBezTo>
                <a:cubicBezTo>
                  <a:pt x="17112" y="7613"/>
                  <a:pt x="17029" y="7673"/>
                  <a:pt x="17016" y="7689"/>
                </a:cubicBezTo>
                <a:cubicBezTo>
                  <a:pt x="17016" y="7697"/>
                  <a:pt x="17016" y="7706"/>
                  <a:pt x="17016" y="7714"/>
                </a:cubicBezTo>
                <a:cubicBezTo>
                  <a:pt x="17053" y="7741"/>
                  <a:pt x="17117" y="7778"/>
                  <a:pt x="17165" y="7789"/>
                </a:cubicBezTo>
                <a:cubicBezTo>
                  <a:pt x="17211" y="7799"/>
                  <a:pt x="17265" y="7834"/>
                  <a:pt x="17289" y="7888"/>
                </a:cubicBezTo>
                <a:cubicBezTo>
                  <a:pt x="17289" y="7896"/>
                  <a:pt x="17289" y="7905"/>
                  <a:pt x="17289" y="7913"/>
                </a:cubicBezTo>
                <a:cubicBezTo>
                  <a:pt x="17242" y="7948"/>
                  <a:pt x="17202" y="7938"/>
                  <a:pt x="17140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13720" y="2705040"/>
            <a:ext cx="88560" cy="907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9174" y="7665"/>
                </a:moveTo>
                <a:cubicBezTo>
                  <a:pt x="19121" y="7665"/>
                  <a:pt x="19092" y="7680"/>
                  <a:pt x="19050" y="7689"/>
                </a:cubicBezTo>
                <a:cubicBezTo>
                  <a:pt x="19014" y="7696"/>
                  <a:pt x="18964" y="7689"/>
                  <a:pt x="18926" y="7689"/>
                </a:cubicBezTo>
              </a:path>
              <a:path w="249" h="249">
                <a:moveTo>
                  <a:pt x="19000" y="7541"/>
                </a:moveTo>
                <a:cubicBezTo>
                  <a:pt x="19023" y="7518"/>
                  <a:pt x="19027" y="7510"/>
                  <a:pt x="19050" y="7516"/>
                </a:cubicBezTo>
                <a:cubicBezTo>
                  <a:pt x="19050" y="7599"/>
                  <a:pt x="19050" y="7681"/>
                  <a:pt x="19050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72200" y="2678040"/>
            <a:ext cx="500040" cy="223920"/>
          </a:xfrm>
          <a:custGeom>
            <a:avLst/>
            <a:gdLst/>
            <a:ahLst/>
            <a:rect l="l" t="t" r="r" b="b"/>
            <a:pathLst>
              <a:path w="1390" h="622">
                <a:moveTo>
                  <a:pt x="19645" y="7441"/>
                </a:moveTo>
                <a:cubicBezTo>
                  <a:pt x="19701" y="7441"/>
                  <a:pt x="19889" y="7408"/>
                  <a:pt x="19918" y="7466"/>
                </a:cubicBezTo>
                <a:cubicBezTo>
                  <a:pt x="19944" y="7518"/>
                  <a:pt x="19901" y="7579"/>
                  <a:pt x="19869" y="7615"/>
                </a:cubicBezTo>
                <a:cubicBezTo>
                  <a:pt x="19842" y="7645"/>
                  <a:pt x="19802" y="7667"/>
                  <a:pt x="19819" y="7714"/>
                </a:cubicBezTo>
                <a:cubicBezTo>
                  <a:pt x="19852" y="7805"/>
                  <a:pt x="19937" y="7777"/>
                  <a:pt x="19993" y="7838"/>
                </a:cubicBezTo>
                <a:cubicBezTo>
                  <a:pt x="20018" y="7865"/>
                  <a:pt x="20059" y="7929"/>
                  <a:pt x="20067" y="7962"/>
                </a:cubicBezTo>
                <a:cubicBezTo>
                  <a:pt x="19993" y="8007"/>
                  <a:pt x="19978" y="7975"/>
                  <a:pt x="19893" y="7962"/>
                </a:cubicBezTo>
                <a:cubicBezTo>
                  <a:pt x="19849" y="7962"/>
                  <a:pt x="19836" y="7965"/>
                  <a:pt x="19819" y="7938"/>
                </a:cubicBezTo>
              </a:path>
              <a:path w="1390" h="622">
                <a:moveTo>
                  <a:pt x="20513" y="7714"/>
                </a:moveTo>
                <a:cubicBezTo>
                  <a:pt x="20521" y="7714"/>
                  <a:pt x="20530" y="7714"/>
                  <a:pt x="20538" y="7714"/>
                </a:cubicBezTo>
                <a:cubicBezTo>
                  <a:pt x="20501" y="7723"/>
                  <a:pt x="20469" y="7737"/>
                  <a:pt x="20439" y="7764"/>
                </a:cubicBezTo>
                <a:cubicBezTo>
                  <a:pt x="20412" y="7788"/>
                  <a:pt x="20331" y="7851"/>
                  <a:pt x="20315" y="7888"/>
                </a:cubicBezTo>
                <a:cubicBezTo>
                  <a:pt x="20315" y="7896"/>
                  <a:pt x="20315" y="7905"/>
                  <a:pt x="20315" y="7913"/>
                </a:cubicBezTo>
              </a:path>
              <a:path w="1390" h="622">
                <a:moveTo>
                  <a:pt x="20489" y="7863"/>
                </a:moveTo>
                <a:cubicBezTo>
                  <a:pt x="20497" y="7863"/>
                  <a:pt x="20505" y="7863"/>
                  <a:pt x="20513" y="7863"/>
                </a:cubicBezTo>
                <a:cubicBezTo>
                  <a:pt x="20474" y="7853"/>
                  <a:pt x="20429" y="7829"/>
                  <a:pt x="20389" y="7813"/>
                </a:cubicBezTo>
                <a:cubicBezTo>
                  <a:pt x="20373" y="7805"/>
                  <a:pt x="20356" y="7797"/>
                  <a:pt x="20340" y="7789"/>
                </a:cubicBezTo>
              </a:path>
              <a:path w="1390" h="622">
                <a:moveTo>
                  <a:pt x="20786" y="7441"/>
                </a:moveTo>
                <a:cubicBezTo>
                  <a:pt x="20786" y="7509"/>
                  <a:pt x="20770" y="7549"/>
                  <a:pt x="20762" y="7615"/>
                </a:cubicBezTo>
                <a:cubicBezTo>
                  <a:pt x="20756" y="7670"/>
                  <a:pt x="20722" y="7814"/>
                  <a:pt x="20737" y="7863"/>
                </a:cubicBezTo>
                <a:cubicBezTo>
                  <a:pt x="20745" y="7871"/>
                  <a:pt x="20754" y="7880"/>
                  <a:pt x="20762" y="7888"/>
                </a:cubicBezTo>
                <a:cubicBezTo>
                  <a:pt x="20815" y="7874"/>
                  <a:pt x="20847" y="7843"/>
                  <a:pt x="20910" y="7838"/>
                </a:cubicBezTo>
                <a:cubicBezTo>
                  <a:pt x="20985" y="7832"/>
                  <a:pt x="21017" y="7859"/>
                  <a:pt x="21034" y="7938"/>
                </a:cubicBezTo>
                <a:cubicBezTo>
                  <a:pt x="21047" y="8000"/>
                  <a:pt x="21025" y="8047"/>
                  <a:pt x="20960" y="8062"/>
                </a:cubicBezTo>
                <a:cubicBezTo>
                  <a:pt x="20898" y="8077"/>
                  <a:pt x="20839" y="8036"/>
                  <a:pt x="20786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20800" y="3143160"/>
            <a:ext cx="403200" cy="214560"/>
          </a:xfrm>
          <a:custGeom>
            <a:avLst/>
            <a:gdLst/>
            <a:ahLst/>
            <a:rect l="l" t="t" r="r" b="b"/>
            <a:pathLst>
              <a:path w="1117" h="597">
                <a:moveTo>
                  <a:pt x="2282" y="8830"/>
                </a:moveTo>
                <a:cubicBezTo>
                  <a:pt x="2291" y="8795"/>
                  <a:pt x="2307" y="8695"/>
                  <a:pt x="2307" y="8731"/>
                </a:cubicBezTo>
                <a:cubicBezTo>
                  <a:pt x="2307" y="8834"/>
                  <a:pt x="2323" y="8930"/>
                  <a:pt x="2332" y="9029"/>
                </a:cubicBezTo>
                <a:cubicBezTo>
                  <a:pt x="2340" y="9115"/>
                  <a:pt x="2320" y="9223"/>
                  <a:pt x="2356" y="9302"/>
                </a:cubicBezTo>
                <a:cubicBezTo>
                  <a:pt x="2364" y="9310"/>
                  <a:pt x="2373" y="9319"/>
                  <a:pt x="2381" y="9327"/>
                </a:cubicBezTo>
              </a:path>
              <a:path w="1117" h="597">
                <a:moveTo>
                  <a:pt x="2679" y="9227"/>
                </a:moveTo>
                <a:cubicBezTo>
                  <a:pt x="2723" y="9227"/>
                  <a:pt x="2718" y="9225"/>
                  <a:pt x="2753" y="9252"/>
                </a:cubicBezTo>
              </a:path>
              <a:path w="1117" h="597">
                <a:moveTo>
                  <a:pt x="3076" y="8830"/>
                </a:moveTo>
                <a:cubicBezTo>
                  <a:pt x="3076" y="8776"/>
                  <a:pt x="3059" y="8862"/>
                  <a:pt x="3051" y="8880"/>
                </a:cubicBezTo>
                <a:cubicBezTo>
                  <a:pt x="3025" y="8940"/>
                  <a:pt x="3014" y="9006"/>
                  <a:pt x="3076" y="9054"/>
                </a:cubicBezTo>
                <a:cubicBezTo>
                  <a:pt x="3102" y="9074"/>
                  <a:pt x="3235" y="9097"/>
                  <a:pt x="3274" y="9103"/>
                </a:cubicBezTo>
                <a:cubicBezTo>
                  <a:pt x="3356" y="9116"/>
                  <a:pt x="3390" y="9114"/>
                  <a:pt x="3398" y="9203"/>
                </a:cubicBezTo>
                <a:cubicBezTo>
                  <a:pt x="3406" y="9298"/>
                  <a:pt x="3332" y="9283"/>
                  <a:pt x="3274" y="9302"/>
                </a:cubicBezTo>
                <a:cubicBezTo>
                  <a:pt x="3208" y="9324"/>
                  <a:pt x="3181" y="9344"/>
                  <a:pt x="3125" y="9302"/>
                </a:cubicBezTo>
              </a:path>
              <a:path w="1117" h="597">
                <a:moveTo>
                  <a:pt x="3349" y="8830"/>
                </a:moveTo>
                <a:cubicBezTo>
                  <a:pt x="3388" y="8791"/>
                  <a:pt x="3404" y="8790"/>
                  <a:pt x="3398" y="8756"/>
                </a:cubicBezTo>
                <a:cubicBezTo>
                  <a:pt x="3337" y="8768"/>
                  <a:pt x="3282" y="8802"/>
                  <a:pt x="3225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01880" y="3241800"/>
            <a:ext cx="81000" cy="5400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5383" y="9004"/>
                </a:moveTo>
                <a:cubicBezTo>
                  <a:pt x="5391" y="9004"/>
                  <a:pt x="5399" y="9004"/>
                  <a:pt x="5407" y="9004"/>
                </a:cubicBezTo>
                <a:cubicBezTo>
                  <a:pt x="5368" y="9014"/>
                  <a:pt x="5353" y="9029"/>
                  <a:pt x="5308" y="9029"/>
                </a:cubicBezTo>
                <a:cubicBezTo>
                  <a:pt x="5283" y="9029"/>
                  <a:pt x="5275" y="9029"/>
                  <a:pt x="5283" y="9054"/>
                </a:cubicBezTo>
              </a:path>
              <a:path w="225" h="150">
                <a:moveTo>
                  <a:pt x="5507" y="9153"/>
                </a:moveTo>
                <a:cubicBezTo>
                  <a:pt x="5482" y="9153"/>
                  <a:pt x="5457" y="9153"/>
                  <a:pt x="5432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19200" y="3214800"/>
            <a:ext cx="152640" cy="108000"/>
          </a:xfrm>
          <a:custGeom>
            <a:avLst/>
            <a:gdLst/>
            <a:ahLst/>
            <a:rect l="l" t="t" r="r" b="b"/>
            <a:pathLst>
              <a:path w="423" h="298">
                <a:moveTo>
                  <a:pt x="6896" y="9004"/>
                </a:moveTo>
                <a:cubicBezTo>
                  <a:pt x="6923" y="8995"/>
                  <a:pt x="6941" y="8986"/>
                  <a:pt x="6945" y="8954"/>
                </a:cubicBezTo>
                <a:cubicBezTo>
                  <a:pt x="6945" y="8946"/>
                  <a:pt x="6945" y="8938"/>
                  <a:pt x="6945" y="8930"/>
                </a:cubicBezTo>
                <a:cubicBezTo>
                  <a:pt x="6895" y="8930"/>
                  <a:pt x="6863" y="8948"/>
                  <a:pt x="6821" y="8979"/>
                </a:cubicBezTo>
                <a:cubicBezTo>
                  <a:pt x="6769" y="9018"/>
                  <a:pt x="6706" y="9082"/>
                  <a:pt x="6722" y="9153"/>
                </a:cubicBezTo>
                <a:cubicBezTo>
                  <a:pt x="6733" y="9201"/>
                  <a:pt x="6793" y="9262"/>
                  <a:pt x="6846" y="9227"/>
                </a:cubicBezTo>
                <a:cubicBezTo>
                  <a:pt x="6929" y="9173"/>
                  <a:pt x="6912" y="9100"/>
                  <a:pt x="6945" y="9029"/>
                </a:cubicBezTo>
                <a:cubicBezTo>
                  <a:pt x="6953" y="9021"/>
                  <a:pt x="6962" y="9012"/>
                  <a:pt x="6970" y="9004"/>
                </a:cubicBezTo>
                <a:cubicBezTo>
                  <a:pt x="7036" y="9021"/>
                  <a:pt x="7052" y="9078"/>
                  <a:pt x="7094" y="9128"/>
                </a:cubicBezTo>
                <a:cubicBezTo>
                  <a:pt x="7111" y="9145"/>
                  <a:pt x="7127" y="9161"/>
                  <a:pt x="7144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51120" y="3241800"/>
            <a:ext cx="123840" cy="9828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7938" y="9079"/>
                </a:moveTo>
                <a:cubicBezTo>
                  <a:pt x="7966" y="9079"/>
                  <a:pt x="7976" y="9081"/>
                  <a:pt x="7987" y="9103"/>
                </a:cubicBezTo>
                <a:cubicBezTo>
                  <a:pt x="7930" y="9103"/>
                  <a:pt x="7891" y="9119"/>
                  <a:pt x="7838" y="9128"/>
                </a:cubicBezTo>
                <a:cubicBezTo>
                  <a:pt x="7778" y="9138"/>
                  <a:pt x="7728" y="9153"/>
                  <a:pt x="7665" y="9153"/>
                </a:cubicBezTo>
                <a:cubicBezTo>
                  <a:pt x="7657" y="9153"/>
                  <a:pt x="7648" y="9153"/>
                  <a:pt x="7640" y="9153"/>
                </a:cubicBezTo>
              </a:path>
              <a:path w="348" h="274">
                <a:moveTo>
                  <a:pt x="7739" y="9029"/>
                </a:moveTo>
                <a:cubicBezTo>
                  <a:pt x="7796" y="8986"/>
                  <a:pt x="7809" y="9010"/>
                  <a:pt x="7813" y="9079"/>
                </a:cubicBezTo>
                <a:cubicBezTo>
                  <a:pt x="7817" y="9144"/>
                  <a:pt x="7813" y="9211"/>
                  <a:pt x="7813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17880" y="3116160"/>
            <a:ext cx="384120" cy="206640"/>
          </a:xfrm>
          <a:custGeom>
            <a:avLst/>
            <a:gdLst/>
            <a:ahLst/>
            <a:rect l="l" t="t" r="r" b="b"/>
            <a:pathLst>
              <a:path w="1068" h="571">
                <a:moveTo>
                  <a:pt x="8409" y="8806"/>
                </a:moveTo>
                <a:cubicBezTo>
                  <a:pt x="8373" y="8788"/>
                  <a:pt x="8437" y="8742"/>
                  <a:pt x="8483" y="8731"/>
                </a:cubicBezTo>
                <a:cubicBezTo>
                  <a:pt x="8557" y="8713"/>
                  <a:pt x="8636" y="8688"/>
                  <a:pt x="8706" y="8731"/>
                </a:cubicBezTo>
                <a:cubicBezTo>
                  <a:pt x="8750" y="8758"/>
                  <a:pt x="8772" y="8832"/>
                  <a:pt x="8756" y="8880"/>
                </a:cubicBezTo>
                <a:cubicBezTo>
                  <a:pt x="8738" y="8933"/>
                  <a:pt x="8695" y="8966"/>
                  <a:pt x="8657" y="9004"/>
                </a:cubicBezTo>
                <a:cubicBezTo>
                  <a:pt x="8649" y="9012"/>
                  <a:pt x="8640" y="9021"/>
                  <a:pt x="8632" y="9029"/>
                </a:cubicBezTo>
                <a:cubicBezTo>
                  <a:pt x="8648" y="9076"/>
                  <a:pt x="8680" y="9062"/>
                  <a:pt x="8731" y="9079"/>
                </a:cubicBezTo>
                <a:cubicBezTo>
                  <a:pt x="8773" y="9094"/>
                  <a:pt x="8856" y="9110"/>
                  <a:pt x="8880" y="9153"/>
                </a:cubicBezTo>
                <a:cubicBezTo>
                  <a:pt x="8902" y="9194"/>
                  <a:pt x="8864" y="9225"/>
                  <a:pt x="8830" y="9227"/>
                </a:cubicBezTo>
                <a:cubicBezTo>
                  <a:pt x="8754" y="9232"/>
                  <a:pt x="8695" y="9223"/>
                  <a:pt x="8632" y="9203"/>
                </a:cubicBezTo>
                <a:cubicBezTo>
                  <a:pt x="8624" y="9203"/>
                  <a:pt x="8615" y="9203"/>
                  <a:pt x="8607" y="9203"/>
                </a:cubicBezTo>
              </a:path>
              <a:path w="1068" h="571">
                <a:moveTo>
                  <a:pt x="9178" y="8706"/>
                </a:moveTo>
                <a:cubicBezTo>
                  <a:pt x="9178" y="8682"/>
                  <a:pt x="9178" y="8673"/>
                  <a:pt x="9178" y="8657"/>
                </a:cubicBezTo>
                <a:cubicBezTo>
                  <a:pt x="9165" y="8710"/>
                  <a:pt x="9153" y="8742"/>
                  <a:pt x="9153" y="8806"/>
                </a:cubicBezTo>
                <a:cubicBezTo>
                  <a:pt x="9153" y="8904"/>
                  <a:pt x="9163" y="8988"/>
                  <a:pt x="9178" y="9079"/>
                </a:cubicBezTo>
                <a:cubicBezTo>
                  <a:pt x="9187" y="9137"/>
                  <a:pt x="9174" y="9154"/>
                  <a:pt x="9203" y="9203"/>
                </a:cubicBezTo>
                <a:cubicBezTo>
                  <a:pt x="9212" y="9163"/>
                  <a:pt x="9250" y="9114"/>
                  <a:pt x="9277" y="9079"/>
                </a:cubicBezTo>
                <a:cubicBezTo>
                  <a:pt x="9294" y="9057"/>
                  <a:pt x="9347" y="9038"/>
                  <a:pt x="9376" y="9054"/>
                </a:cubicBezTo>
                <a:cubicBezTo>
                  <a:pt x="9398" y="9066"/>
                  <a:pt x="9462" y="9153"/>
                  <a:pt x="9451" y="9178"/>
                </a:cubicBezTo>
                <a:cubicBezTo>
                  <a:pt x="9431" y="9222"/>
                  <a:pt x="9391" y="9227"/>
                  <a:pt x="9351" y="9227"/>
                </a:cubicBezTo>
                <a:cubicBezTo>
                  <a:pt x="9304" y="9227"/>
                  <a:pt x="9290" y="9230"/>
                  <a:pt x="9252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87840" y="3197160"/>
            <a:ext cx="9828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0492" y="9054"/>
                </a:moveTo>
                <a:cubicBezTo>
                  <a:pt x="10560" y="9054"/>
                  <a:pt x="10407" y="9054"/>
                  <a:pt x="10393" y="9054"/>
                </a:cubicBezTo>
                <a:cubicBezTo>
                  <a:pt x="10343" y="9054"/>
                  <a:pt x="10294" y="9054"/>
                  <a:pt x="10244" y="9054"/>
                </a:cubicBezTo>
              </a:path>
              <a:path w="274" h="324">
                <a:moveTo>
                  <a:pt x="10269" y="8905"/>
                </a:moveTo>
                <a:cubicBezTo>
                  <a:pt x="10327" y="8886"/>
                  <a:pt x="10333" y="8877"/>
                  <a:pt x="10368" y="8880"/>
                </a:cubicBezTo>
                <a:cubicBezTo>
                  <a:pt x="10368" y="8988"/>
                  <a:pt x="10368" y="9095"/>
                  <a:pt x="10368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38760" y="3133800"/>
            <a:ext cx="214200" cy="152280"/>
          </a:xfrm>
          <a:custGeom>
            <a:avLst/>
            <a:gdLst/>
            <a:ahLst/>
            <a:rect l="l" t="t" r="r" b="b"/>
            <a:pathLst>
              <a:path w="596" h="423">
                <a:moveTo>
                  <a:pt x="10988" y="8954"/>
                </a:moveTo>
                <a:cubicBezTo>
                  <a:pt x="10941" y="8923"/>
                  <a:pt x="10919" y="8898"/>
                  <a:pt x="10939" y="8830"/>
                </a:cubicBezTo>
                <a:cubicBezTo>
                  <a:pt x="10957" y="8769"/>
                  <a:pt x="11021" y="8695"/>
                  <a:pt x="11088" y="8706"/>
                </a:cubicBezTo>
                <a:cubicBezTo>
                  <a:pt x="11187" y="8723"/>
                  <a:pt x="11233" y="8853"/>
                  <a:pt x="11261" y="8930"/>
                </a:cubicBezTo>
                <a:cubicBezTo>
                  <a:pt x="11279" y="8978"/>
                  <a:pt x="11318" y="9099"/>
                  <a:pt x="11237" y="9128"/>
                </a:cubicBezTo>
                <a:cubicBezTo>
                  <a:pt x="11187" y="9146"/>
                  <a:pt x="11085" y="9096"/>
                  <a:pt x="11038" y="9079"/>
                </a:cubicBezTo>
              </a:path>
              <a:path w="596" h="423">
                <a:moveTo>
                  <a:pt x="11485" y="9029"/>
                </a:moveTo>
                <a:cubicBezTo>
                  <a:pt x="11526" y="9029"/>
                  <a:pt x="11542" y="9021"/>
                  <a:pt x="1153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13160" y="3081240"/>
            <a:ext cx="98640" cy="214560"/>
          </a:xfrm>
          <a:custGeom>
            <a:avLst/>
            <a:gdLst/>
            <a:ahLst/>
            <a:rect l="l" t="t" r="r" b="b"/>
            <a:pathLst>
              <a:path w="274" h="596">
                <a:moveTo>
                  <a:pt x="12105" y="8632"/>
                </a:moveTo>
                <a:cubicBezTo>
                  <a:pt x="12133" y="8603"/>
                  <a:pt x="12145" y="8593"/>
                  <a:pt x="12154" y="8558"/>
                </a:cubicBezTo>
                <a:cubicBezTo>
                  <a:pt x="12085" y="8558"/>
                  <a:pt x="12086" y="8596"/>
                  <a:pt x="12055" y="8657"/>
                </a:cubicBezTo>
                <a:cubicBezTo>
                  <a:pt x="12009" y="8749"/>
                  <a:pt x="11968" y="8875"/>
                  <a:pt x="11981" y="8979"/>
                </a:cubicBezTo>
                <a:cubicBezTo>
                  <a:pt x="11993" y="9070"/>
                  <a:pt x="12071" y="9144"/>
                  <a:pt x="12154" y="9153"/>
                </a:cubicBezTo>
                <a:cubicBezTo>
                  <a:pt x="12224" y="9161"/>
                  <a:pt x="12270" y="9100"/>
                  <a:pt x="12254" y="9029"/>
                </a:cubicBezTo>
                <a:cubicBezTo>
                  <a:pt x="12239" y="8961"/>
                  <a:pt x="12188" y="8933"/>
                  <a:pt x="12129" y="8930"/>
                </a:cubicBezTo>
                <a:cubicBezTo>
                  <a:pt x="12078" y="8930"/>
                  <a:pt x="12060" y="8931"/>
                  <a:pt x="12030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11280" y="3679920"/>
            <a:ext cx="125640" cy="106200"/>
          </a:xfrm>
          <a:custGeom>
            <a:avLst/>
            <a:gdLst/>
            <a:ahLst/>
            <a:rect l="l" t="t" r="r" b="b"/>
            <a:pathLst>
              <a:path w="349" h="298">
                <a:moveTo>
                  <a:pt x="6846" y="10344"/>
                </a:moveTo>
                <a:cubicBezTo>
                  <a:pt x="6846" y="10291"/>
                  <a:pt x="6853" y="10261"/>
                  <a:pt x="6821" y="10220"/>
                </a:cubicBezTo>
                <a:cubicBezTo>
                  <a:pt x="6760" y="10235"/>
                  <a:pt x="6750" y="10288"/>
                  <a:pt x="6722" y="10344"/>
                </a:cubicBezTo>
                <a:cubicBezTo>
                  <a:pt x="6684" y="10420"/>
                  <a:pt x="6685" y="10481"/>
                  <a:pt x="6772" y="10517"/>
                </a:cubicBezTo>
                <a:cubicBezTo>
                  <a:pt x="6780" y="10517"/>
                  <a:pt x="6788" y="10517"/>
                  <a:pt x="6796" y="10517"/>
                </a:cubicBezTo>
                <a:cubicBezTo>
                  <a:pt x="6819" y="10472"/>
                  <a:pt x="6855" y="10375"/>
                  <a:pt x="6896" y="10344"/>
                </a:cubicBezTo>
                <a:cubicBezTo>
                  <a:pt x="6904" y="10344"/>
                  <a:pt x="6913" y="10344"/>
                  <a:pt x="6921" y="10344"/>
                </a:cubicBezTo>
                <a:cubicBezTo>
                  <a:pt x="6962" y="10385"/>
                  <a:pt x="7004" y="10427"/>
                  <a:pt x="7045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714760" y="3500280"/>
            <a:ext cx="517320" cy="258840"/>
          </a:xfrm>
          <a:custGeom>
            <a:avLst/>
            <a:gdLst/>
            <a:ahLst/>
            <a:rect l="l" t="t" r="r" b="b"/>
            <a:pathLst>
              <a:path w="1439" h="721">
                <a:moveTo>
                  <a:pt x="7764" y="10220"/>
                </a:moveTo>
                <a:cubicBezTo>
                  <a:pt x="7805" y="10220"/>
                  <a:pt x="7821" y="10212"/>
                  <a:pt x="7813" y="10244"/>
                </a:cubicBezTo>
                <a:cubicBezTo>
                  <a:pt x="7754" y="10256"/>
                  <a:pt x="7698" y="10280"/>
                  <a:pt x="7640" y="10294"/>
                </a:cubicBezTo>
                <a:cubicBezTo>
                  <a:pt x="7610" y="10301"/>
                  <a:pt x="7572" y="10294"/>
                  <a:pt x="7541" y="10294"/>
                </a:cubicBezTo>
              </a:path>
              <a:path w="1439" h="721">
                <a:moveTo>
                  <a:pt x="7615" y="10170"/>
                </a:moveTo>
                <a:cubicBezTo>
                  <a:pt x="7623" y="10162"/>
                  <a:pt x="7632" y="10153"/>
                  <a:pt x="7640" y="10145"/>
                </a:cubicBezTo>
                <a:cubicBezTo>
                  <a:pt x="7668" y="10210"/>
                  <a:pt x="7685" y="10272"/>
                  <a:pt x="7689" y="10344"/>
                </a:cubicBezTo>
                <a:cubicBezTo>
                  <a:pt x="7689" y="10393"/>
                  <a:pt x="7689" y="10410"/>
                  <a:pt x="7689" y="10443"/>
                </a:cubicBezTo>
              </a:path>
              <a:path w="1439" h="721">
                <a:moveTo>
                  <a:pt x="8136" y="10071"/>
                </a:moveTo>
                <a:cubicBezTo>
                  <a:pt x="8111" y="10071"/>
                  <a:pt x="8103" y="10071"/>
                  <a:pt x="8086" y="10071"/>
                </a:cubicBezTo>
                <a:cubicBezTo>
                  <a:pt x="8099" y="10020"/>
                  <a:pt x="8133" y="9992"/>
                  <a:pt x="8186" y="9971"/>
                </a:cubicBezTo>
                <a:cubicBezTo>
                  <a:pt x="8257" y="9942"/>
                  <a:pt x="8340" y="9929"/>
                  <a:pt x="8409" y="9971"/>
                </a:cubicBezTo>
                <a:cubicBezTo>
                  <a:pt x="8470" y="10008"/>
                  <a:pt x="8461" y="10045"/>
                  <a:pt x="8434" y="10096"/>
                </a:cubicBezTo>
                <a:cubicBezTo>
                  <a:pt x="8401" y="10158"/>
                  <a:pt x="8365" y="10176"/>
                  <a:pt x="8359" y="10244"/>
                </a:cubicBezTo>
                <a:cubicBezTo>
                  <a:pt x="8354" y="10307"/>
                  <a:pt x="8439" y="10300"/>
                  <a:pt x="8483" y="10319"/>
                </a:cubicBezTo>
                <a:cubicBezTo>
                  <a:pt x="8531" y="10343"/>
                  <a:pt x="8545" y="10351"/>
                  <a:pt x="8582" y="10344"/>
                </a:cubicBezTo>
                <a:cubicBezTo>
                  <a:pt x="8582" y="10406"/>
                  <a:pt x="8601" y="10412"/>
                  <a:pt x="8533" y="10418"/>
                </a:cubicBezTo>
                <a:cubicBezTo>
                  <a:pt x="8466" y="10424"/>
                  <a:pt x="8420" y="10416"/>
                  <a:pt x="8359" y="10393"/>
                </a:cubicBezTo>
              </a:path>
              <a:path w="1439" h="721">
                <a:moveTo>
                  <a:pt x="8731" y="9847"/>
                </a:moveTo>
                <a:cubicBezTo>
                  <a:pt x="8750" y="9784"/>
                  <a:pt x="8748" y="9766"/>
                  <a:pt x="8781" y="9723"/>
                </a:cubicBezTo>
                <a:cubicBezTo>
                  <a:pt x="8781" y="9810"/>
                  <a:pt x="8759" y="9883"/>
                  <a:pt x="8756" y="9971"/>
                </a:cubicBezTo>
                <a:cubicBezTo>
                  <a:pt x="8754" y="10036"/>
                  <a:pt x="8722" y="10233"/>
                  <a:pt x="8806" y="10269"/>
                </a:cubicBezTo>
                <a:cubicBezTo>
                  <a:pt x="8851" y="10289"/>
                  <a:pt x="8910" y="10195"/>
                  <a:pt x="8954" y="10170"/>
                </a:cubicBezTo>
                <a:cubicBezTo>
                  <a:pt x="8984" y="10219"/>
                  <a:pt x="8994" y="10248"/>
                  <a:pt x="8954" y="10294"/>
                </a:cubicBezTo>
                <a:cubicBezTo>
                  <a:pt x="8926" y="10323"/>
                  <a:pt x="8913" y="10331"/>
                  <a:pt x="8880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14840" y="3616200"/>
            <a:ext cx="18720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10641" y="10294"/>
                </a:moveTo>
                <a:cubicBezTo>
                  <a:pt x="10641" y="10261"/>
                  <a:pt x="10641" y="10228"/>
                  <a:pt x="10641" y="10195"/>
                </a:cubicBezTo>
                <a:cubicBezTo>
                  <a:pt x="10641" y="10286"/>
                  <a:pt x="10641" y="10377"/>
                  <a:pt x="10641" y="10468"/>
                </a:cubicBezTo>
              </a:path>
              <a:path w="522" h="621">
                <a:moveTo>
                  <a:pt x="10616" y="10542"/>
                </a:moveTo>
                <a:cubicBezTo>
                  <a:pt x="10595" y="10579"/>
                  <a:pt x="10561" y="10647"/>
                  <a:pt x="10517" y="10666"/>
                </a:cubicBezTo>
                <a:cubicBezTo>
                  <a:pt x="10469" y="10687"/>
                  <a:pt x="10419" y="10655"/>
                  <a:pt x="10393" y="10616"/>
                </a:cubicBezTo>
                <a:cubicBezTo>
                  <a:pt x="10341" y="10537"/>
                  <a:pt x="10322" y="10436"/>
                  <a:pt x="10319" y="10344"/>
                </a:cubicBezTo>
                <a:cubicBezTo>
                  <a:pt x="10315" y="10237"/>
                  <a:pt x="10391" y="10116"/>
                  <a:pt x="10492" y="10071"/>
                </a:cubicBezTo>
                <a:cubicBezTo>
                  <a:pt x="10625" y="10011"/>
                  <a:pt x="10747" y="10067"/>
                  <a:pt x="10815" y="10195"/>
                </a:cubicBezTo>
                <a:cubicBezTo>
                  <a:pt x="10873" y="10304"/>
                  <a:pt x="10848" y="10478"/>
                  <a:pt x="10765" y="10567"/>
                </a:cubicBezTo>
                <a:cubicBezTo>
                  <a:pt x="10709" y="10596"/>
                  <a:pt x="10685" y="10606"/>
                  <a:pt x="1064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55800" y="3633840"/>
            <a:ext cx="517320" cy="519120"/>
          </a:xfrm>
          <a:custGeom>
            <a:avLst/>
            <a:gdLst/>
            <a:ahLst/>
            <a:rect l="l" t="t" r="r" b="b"/>
            <a:pathLst>
              <a:path w="1440" h="1439">
                <a:moveTo>
                  <a:pt x="2729" y="10344"/>
                </a:moveTo>
                <a:cubicBezTo>
                  <a:pt x="2704" y="10344"/>
                  <a:pt x="2679" y="10344"/>
                  <a:pt x="2654" y="10344"/>
                </a:cubicBezTo>
                <a:cubicBezTo>
                  <a:pt x="2654" y="10279"/>
                  <a:pt x="2636" y="10194"/>
                  <a:pt x="2679" y="10145"/>
                </a:cubicBezTo>
                <a:cubicBezTo>
                  <a:pt x="2740" y="10076"/>
                  <a:pt x="2799" y="10086"/>
                  <a:pt x="2877" y="10120"/>
                </a:cubicBezTo>
                <a:cubicBezTo>
                  <a:pt x="2955" y="10155"/>
                  <a:pt x="3012" y="10260"/>
                  <a:pt x="3026" y="10344"/>
                </a:cubicBezTo>
                <a:cubicBezTo>
                  <a:pt x="3033" y="10387"/>
                  <a:pt x="3005" y="10498"/>
                  <a:pt x="2952" y="10517"/>
                </a:cubicBezTo>
                <a:cubicBezTo>
                  <a:pt x="2898" y="10536"/>
                  <a:pt x="2811" y="10514"/>
                  <a:pt x="2778" y="10468"/>
                </a:cubicBezTo>
                <a:cubicBezTo>
                  <a:pt x="2743" y="10419"/>
                  <a:pt x="2737" y="10398"/>
                  <a:pt x="2729" y="10344"/>
                </a:cubicBezTo>
              </a:path>
              <a:path w="1440" h="1439">
                <a:moveTo>
                  <a:pt x="3398" y="10542"/>
                </a:moveTo>
                <a:cubicBezTo>
                  <a:pt x="3423" y="10542"/>
                  <a:pt x="3431" y="10542"/>
                  <a:pt x="3423" y="10567"/>
                </a:cubicBezTo>
              </a:path>
              <a:path w="1440" h="1439">
                <a:moveTo>
                  <a:pt x="3870" y="10120"/>
                </a:moveTo>
                <a:cubicBezTo>
                  <a:pt x="3857" y="10084"/>
                  <a:pt x="3839" y="10096"/>
                  <a:pt x="3795" y="10096"/>
                </a:cubicBezTo>
                <a:cubicBezTo>
                  <a:pt x="3716" y="10096"/>
                  <a:pt x="3661" y="10136"/>
                  <a:pt x="3646" y="10220"/>
                </a:cubicBezTo>
                <a:cubicBezTo>
                  <a:pt x="3634" y="10291"/>
                  <a:pt x="3643" y="10370"/>
                  <a:pt x="3721" y="10393"/>
                </a:cubicBezTo>
                <a:cubicBezTo>
                  <a:pt x="3774" y="10409"/>
                  <a:pt x="3836" y="10339"/>
                  <a:pt x="3845" y="10294"/>
                </a:cubicBezTo>
                <a:cubicBezTo>
                  <a:pt x="3855" y="10243"/>
                  <a:pt x="3845" y="10173"/>
                  <a:pt x="3845" y="10120"/>
                </a:cubicBezTo>
                <a:cubicBezTo>
                  <a:pt x="3897" y="10137"/>
                  <a:pt x="3912" y="10213"/>
                  <a:pt x="3944" y="10269"/>
                </a:cubicBezTo>
                <a:cubicBezTo>
                  <a:pt x="3994" y="10356"/>
                  <a:pt x="4014" y="10458"/>
                  <a:pt x="4068" y="10542"/>
                </a:cubicBezTo>
                <a:cubicBezTo>
                  <a:pt x="4076" y="10550"/>
                  <a:pt x="4085" y="10559"/>
                  <a:pt x="4093" y="10567"/>
                </a:cubicBezTo>
              </a:path>
              <a:path w="1440" h="1439">
                <a:moveTo>
                  <a:pt x="2778" y="11187"/>
                </a:moveTo>
                <a:cubicBezTo>
                  <a:pt x="2751" y="11223"/>
                  <a:pt x="2739" y="11230"/>
                  <a:pt x="2729" y="11261"/>
                </a:cubicBezTo>
                <a:cubicBezTo>
                  <a:pt x="2691" y="11249"/>
                  <a:pt x="2704" y="11232"/>
                  <a:pt x="2704" y="11187"/>
                </a:cubicBezTo>
                <a:cubicBezTo>
                  <a:pt x="2704" y="11151"/>
                  <a:pt x="2781" y="11061"/>
                  <a:pt x="2828" y="11063"/>
                </a:cubicBezTo>
                <a:cubicBezTo>
                  <a:pt x="2943" y="11068"/>
                  <a:pt x="2986" y="11160"/>
                  <a:pt x="3001" y="11261"/>
                </a:cubicBezTo>
                <a:cubicBezTo>
                  <a:pt x="3017" y="11373"/>
                  <a:pt x="2968" y="11435"/>
                  <a:pt x="2877" y="11485"/>
                </a:cubicBezTo>
                <a:cubicBezTo>
                  <a:pt x="2827" y="11512"/>
                  <a:pt x="2720" y="11539"/>
                  <a:pt x="2679" y="11485"/>
                </a:cubicBezTo>
                <a:cubicBezTo>
                  <a:pt x="2679" y="11477"/>
                  <a:pt x="2679" y="11468"/>
                  <a:pt x="2679" y="11460"/>
                </a:cubicBezTo>
              </a:path>
              <a:path w="1440" h="1439">
                <a:moveTo>
                  <a:pt x="3225" y="11410"/>
                </a:moveTo>
                <a:cubicBezTo>
                  <a:pt x="3275" y="11470"/>
                  <a:pt x="3274" y="11447"/>
                  <a:pt x="3274" y="11509"/>
                </a:cubicBezTo>
              </a:path>
              <a:path w="1440" h="1439">
                <a:moveTo>
                  <a:pt x="3820" y="11088"/>
                </a:moveTo>
                <a:cubicBezTo>
                  <a:pt x="3839" y="11030"/>
                  <a:pt x="3848" y="11023"/>
                  <a:pt x="3845" y="10988"/>
                </a:cubicBezTo>
                <a:cubicBezTo>
                  <a:pt x="3788" y="11016"/>
                  <a:pt x="3744" y="11092"/>
                  <a:pt x="3721" y="11162"/>
                </a:cubicBezTo>
                <a:cubicBezTo>
                  <a:pt x="3677" y="11298"/>
                  <a:pt x="3710" y="11427"/>
                  <a:pt x="3820" y="11509"/>
                </a:cubicBezTo>
                <a:cubicBezTo>
                  <a:pt x="3893" y="11563"/>
                  <a:pt x="3998" y="11503"/>
                  <a:pt x="3969" y="11410"/>
                </a:cubicBezTo>
                <a:cubicBezTo>
                  <a:pt x="3948" y="11342"/>
                  <a:pt x="3877" y="11336"/>
                  <a:pt x="3820" y="11336"/>
                </a:cubicBezTo>
                <a:cubicBezTo>
                  <a:pt x="3803" y="11336"/>
                  <a:pt x="3787" y="11336"/>
                  <a:pt x="3770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01880" y="3643200"/>
            <a:ext cx="117360" cy="420840"/>
          </a:xfrm>
          <a:custGeom>
            <a:avLst/>
            <a:gdLst/>
            <a:ahLst/>
            <a:rect l="l" t="t" r="r" b="b"/>
            <a:pathLst>
              <a:path w="324" h="1167">
                <a:moveTo>
                  <a:pt x="5383" y="10120"/>
                </a:moveTo>
                <a:cubicBezTo>
                  <a:pt x="5431" y="10120"/>
                  <a:pt x="5444" y="10117"/>
                  <a:pt x="5482" y="10145"/>
                </a:cubicBezTo>
                <a:cubicBezTo>
                  <a:pt x="5462" y="10105"/>
                  <a:pt x="5451" y="10155"/>
                  <a:pt x="5407" y="10170"/>
                </a:cubicBezTo>
                <a:cubicBezTo>
                  <a:pt x="5366" y="10184"/>
                  <a:pt x="5328" y="10195"/>
                  <a:pt x="5283" y="10195"/>
                </a:cubicBezTo>
              </a:path>
              <a:path w="324" h="1167">
                <a:moveTo>
                  <a:pt x="5507" y="10344"/>
                </a:moveTo>
                <a:cubicBezTo>
                  <a:pt x="5536" y="10383"/>
                  <a:pt x="5542" y="10411"/>
                  <a:pt x="5482" y="10418"/>
                </a:cubicBezTo>
                <a:cubicBezTo>
                  <a:pt x="5428" y="10424"/>
                  <a:pt x="5385" y="10433"/>
                  <a:pt x="5333" y="10443"/>
                </a:cubicBezTo>
              </a:path>
              <a:path w="324" h="1167">
                <a:moveTo>
                  <a:pt x="5507" y="11112"/>
                </a:moveTo>
                <a:cubicBezTo>
                  <a:pt x="5515" y="11112"/>
                  <a:pt x="5523" y="11112"/>
                  <a:pt x="5531" y="11112"/>
                </a:cubicBezTo>
                <a:cubicBezTo>
                  <a:pt x="5488" y="11139"/>
                  <a:pt x="5460" y="11137"/>
                  <a:pt x="5407" y="11137"/>
                </a:cubicBezTo>
                <a:cubicBezTo>
                  <a:pt x="5366" y="11137"/>
                  <a:pt x="5358" y="11137"/>
                  <a:pt x="5333" y="11137"/>
                </a:cubicBezTo>
              </a:path>
              <a:path w="324" h="1167">
                <a:moveTo>
                  <a:pt x="5556" y="11237"/>
                </a:moveTo>
                <a:cubicBezTo>
                  <a:pt x="5597" y="11247"/>
                  <a:pt x="5596" y="11246"/>
                  <a:pt x="5606" y="11286"/>
                </a:cubicBezTo>
                <a:cubicBezTo>
                  <a:pt x="5573" y="11286"/>
                  <a:pt x="5556" y="11286"/>
                  <a:pt x="5531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446200" y="4000680"/>
            <a:ext cx="125640" cy="107640"/>
          </a:xfrm>
          <a:custGeom>
            <a:avLst/>
            <a:gdLst/>
            <a:ahLst/>
            <a:rect l="l" t="t" r="r" b="b"/>
            <a:pathLst>
              <a:path w="349" h="299">
                <a:moveTo>
                  <a:pt x="6945" y="11162"/>
                </a:moveTo>
                <a:cubicBezTo>
                  <a:pt x="7001" y="11162"/>
                  <a:pt x="7007" y="11177"/>
                  <a:pt x="7020" y="11137"/>
                </a:cubicBezTo>
                <a:cubicBezTo>
                  <a:pt x="7010" y="11106"/>
                  <a:pt x="6966" y="11099"/>
                  <a:pt x="6921" y="11112"/>
                </a:cubicBezTo>
                <a:cubicBezTo>
                  <a:pt x="6835" y="11137"/>
                  <a:pt x="6779" y="11223"/>
                  <a:pt x="6796" y="11311"/>
                </a:cubicBezTo>
                <a:cubicBezTo>
                  <a:pt x="6811" y="11388"/>
                  <a:pt x="6863" y="11396"/>
                  <a:pt x="6921" y="11410"/>
                </a:cubicBezTo>
                <a:cubicBezTo>
                  <a:pt x="6944" y="11364"/>
                  <a:pt x="6988" y="11213"/>
                  <a:pt x="7020" y="11187"/>
                </a:cubicBezTo>
                <a:cubicBezTo>
                  <a:pt x="7048" y="11164"/>
                  <a:pt x="7133" y="11298"/>
                  <a:pt x="7144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759040" y="3894120"/>
            <a:ext cx="330120" cy="214200"/>
          </a:xfrm>
          <a:custGeom>
            <a:avLst/>
            <a:gdLst/>
            <a:ahLst/>
            <a:rect l="l" t="t" r="r" b="b"/>
            <a:pathLst>
              <a:path w="918" h="596">
                <a:moveTo>
                  <a:pt x="7913" y="11187"/>
                </a:moveTo>
                <a:cubicBezTo>
                  <a:pt x="7976" y="11187"/>
                  <a:pt x="7835" y="11211"/>
                  <a:pt x="7813" y="11212"/>
                </a:cubicBezTo>
                <a:cubicBezTo>
                  <a:pt x="7764" y="11215"/>
                  <a:pt x="7714" y="11212"/>
                  <a:pt x="7665" y="11212"/>
                </a:cubicBezTo>
              </a:path>
              <a:path w="918" h="596">
                <a:moveTo>
                  <a:pt x="7739" y="11088"/>
                </a:moveTo>
                <a:cubicBezTo>
                  <a:pt x="7823" y="11108"/>
                  <a:pt x="7796" y="11165"/>
                  <a:pt x="7813" y="11237"/>
                </a:cubicBezTo>
                <a:cubicBezTo>
                  <a:pt x="7827" y="11300"/>
                  <a:pt x="7841" y="11352"/>
                  <a:pt x="7863" y="11410"/>
                </a:cubicBezTo>
              </a:path>
              <a:path w="918" h="596">
                <a:moveTo>
                  <a:pt x="8260" y="10889"/>
                </a:moveTo>
                <a:cubicBezTo>
                  <a:pt x="8260" y="10831"/>
                  <a:pt x="8260" y="10790"/>
                  <a:pt x="8260" y="10840"/>
                </a:cubicBezTo>
                <a:cubicBezTo>
                  <a:pt x="8222" y="10914"/>
                  <a:pt x="8220" y="11047"/>
                  <a:pt x="8235" y="11137"/>
                </a:cubicBezTo>
                <a:cubicBezTo>
                  <a:pt x="8245" y="11201"/>
                  <a:pt x="8269" y="11332"/>
                  <a:pt x="8359" y="11311"/>
                </a:cubicBezTo>
                <a:cubicBezTo>
                  <a:pt x="8432" y="11294"/>
                  <a:pt x="8454" y="11220"/>
                  <a:pt x="8533" y="11212"/>
                </a:cubicBezTo>
                <a:cubicBezTo>
                  <a:pt x="8598" y="11205"/>
                  <a:pt x="8591" y="11305"/>
                  <a:pt x="8558" y="11336"/>
                </a:cubicBezTo>
                <a:cubicBezTo>
                  <a:pt x="8510" y="11360"/>
                  <a:pt x="8495" y="11368"/>
                  <a:pt x="8458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79920" y="3938760"/>
            <a:ext cx="231840" cy="214200"/>
          </a:xfrm>
          <a:custGeom>
            <a:avLst/>
            <a:gdLst/>
            <a:ahLst/>
            <a:rect l="l" t="t" r="r" b="b"/>
            <a:pathLst>
              <a:path w="645" h="596">
                <a:moveTo>
                  <a:pt x="10443" y="11063"/>
                </a:moveTo>
                <a:cubicBezTo>
                  <a:pt x="10493" y="11033"/>
                  <a:pt x="10530" y="11038"/>
                  <a:pt x="10592" y="11038"/>
                </a:cubicBezTo>
                <a:cubicBezTo>
                  <a:pt x="10624" y="11038"/>
                  <a:pt x="10666" y="11077"/>
                  <a:pt x="10641" y="11112"/>
                </a:cubicBezTo>
                <a:cubicBezTo>
                  <a:pt x="10600" y="11171"/>
                  <a:pt x="10550" y="11184"/>
                  <a:pt x="10542" y="11261"/>
                </a:cubicBezTo>
                <a:cubicBezTo>
                  <a:pt x="10540" y="11285"/>
                  <a:pt x="10542" y="11312"/>
                  <a:pt x="10542" y="11336"/>
                </a:cubicBezTo>
                <a:cubicBezTo>
                  <a:pt x="10616" y="11336"/>
                  <a:pt x="10691" y="11336"/>
                  <a:pt x="10765" y="11336"/>
                </a:cubicBezTo>
              </a:path>
              <a:path w="645" h="596">
                <a:moveTo>
                  <a:pt x="10616" y="11435"/>
                </a:moveTo>
                <a:cubicBezTo>
                  <a:pt x="10546" y="11455"/>
                  <a:pt x="10445" y="11507"/>
                  <a:pt x="10368" y="11485"/>
                </a:cubicBezTo>
                <a:cubicBezTo>
                  <a:pt x="10287" y="11462"/>
                  <a:pt x="10233" y="11364"/>
                  <a:pt x="10220" y="11286"/>
                </a:cubicBezTo>
                <a:cubicBezTo>
                  <a:pt x="10201" y="11168"/>
                  <a:pt x="10259" y="11077"/>
                  <a:pt x="10344" y="11013"/>
                </a:cubicBezTo>
                <a:cubicBezTo>
                  <a:pt x="10464" y="10922"/>
                  <a:pt x="10559" y="10920"/>
                  <a:pt x="10691" y="10988"/>
                </a:cubicBezTo>
                <a:cubicBezTo>
                  <a:pt x="10821" y="11055"/>
                  <a:pt x="10855" y="11178"/>
                  <a:pt x="10864" y="11311"/>
                </a:cubicBezTo>
                <a:cubicBezTo>
                  <a:pt x="10871" y="11418"/>
                  <a:pt x="10801" y="11516"/>
                  <a:pt x="10691" y="11534"/>
                </a:cubicBezTo>
                <a:cubicBezTo>
                  <a:pt x="10591" y="11534"/>
                  <a:pt x="10556" y="11534"/>
                  <a:pt x="10492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920" y="1955880"/>
            <a:ext cx="534960" cy="2152440"/>
          </a:xfrm>
          <a:custGeom>
            <a:avLst/>
            <a:gdLst/>
            <a:ahLst/>
            <a:rect l="l" t="t" r="r" b="b"/>
            <a:pathLst>
              <a:path w="1489" h="5979">
                <a:moveTo>
                  <a:pt x="620" y="5631"/>
                </a:moveTo>
                <a:cubicBezTo>
                  <a:pt x="634" y="5556"/>
                  <a:pt x="640" y="5504"/>
                  <a:pt x="645" y="5432"/>
                </a:cubicBezTo>
                <a:cubicBezTo>
                  <a:pt x="646" y="5435"/>
                  <a:pt x="663" y="5500"/>
                  <a:pt x="670" y="5531"/>
                </a:cubicBezTo>
                <a:cubicBezTo>
                  <a:pt x="698" y="5657"/>
                  <a:pt x="732" y="5798"/>
                  <a:pt x="744" y="5928"/>
                </a:cubicBezTo>
                <a:cubicBezTo>
                  <a:pt x="759" y="6095"/>
                  <a:pt x="764" y="6259"/>
                  <a:pt x="794" y="6424"/>
                </a:cubicBezTo>
                <a:cubicBezTo>
                  <a:pt x="825" y="6599"/>
                  <a:pt x="839" y="6770"/>
                  <a:pt x="868" y="6945"/>
                </a:cubicBezTo>
                <a:cubicBezTo>
                  <a:pt x="896" y="7112"/>
                  <a:pt x="910" y="7274"/>
                  <a:pt x="943" y="7441"/>
                </a:cubicBezTo>
                <a:cubicBezTo>
                  <a:pt x="1005" y="7755"/>
                  <a:pt x="1067" y="8071"/>
                  <a:pt x="1116" y="8384"/>
                </a:cubicBezTo>
                <a:cubicBezTo>
                  <a:pt x="1139" y="8532"/>
                  <a:pt x="1206" y="8680"/>
                  <a:pt x="1240" y="8830"/>
                </a:cubicBezTo>
                <a:cubicBezTo>
                  <a:pt x="1266" y="8948"/>
                  <a:pt x="1314" y="9061"/>
                  <a:pt x="1339" y="9178"/>
                </a:cubicBezTo>
                <a:cubicBezTo>
                  <a:pt x="1362" y="9285"/>
                  <a:pt x="1381" y="9392"/>
                  <a:pt x="1414" y="9500"/>
                </a:cubicBezTo>
                <a:cubicBezTo>
                  <a:pt x="1439" y="9575"/>
                  <a:pt x="1447" y="9599"/>
                  <a:pt x="1463" y="9649"/>
                </a:cubicBezTo>
              </a:path>
              <a:path w="1489" h="5979">
                <a:moveTo>
                  <a:pt x="1563" y="9575"/>
                </a:moveTo>
                <a:cubicBezTo>
                  <a:pt x="1563" y="9664"/>
                  <a:pt x="1552" y="9740"/>
                  <a:pt x="1538" y="9823"/>
                </a:cubicBezTo>
                <a:cubicBezTo>
                  <a:pt x="1529" y="9875"/>
                  <a:pt x="1518" y="9955"/>
                  <a:pt x="1513" y="9996"/>
                </a:cubicBezTo>
                <a:cubicBezTo>
                  <a:pt x="1470" y="10366"/>
                  <a:pt x="1513" y="10764"/>
                  <a:pt x="1513" y="11137"/>
                </a:cubicBezTo>
                <a:cubicBezTo>
                  <a:pt x="1610" y="11137"/>
                  <a:pt x="1695" y="11127"/>
                  <a:pt x="1786" y="11112"/>
                </a:cubicBezTo>
                <a:cubicBezTo>
                  <a:pt x="1876" y="11097"/>
                  <a:pt x="2009" y="11101"/>
                  <a:pt x="2084" y="11137"/>
                </a:cubicBezTo>
                <a:cubicBezTo>
                  <a:pt x="2124" y="11156"/>
                  <a:pt x="2112" y="11172"/>
                  <a:pt x="2084" y="11212"/>
                </a:cubicBezTo>
                <a:cubicBezTo>
                  <a:pt x="2055" y="11253"/>
                  <a:pt x="2000" y="11286"/>
                  <a:pt x="1960" y="11311"/>
                </a:cubicBezTo>
                <a:cubicBezTo>
                  <a:pt x="1933" y="11328"/>
                  <a:pt x="1853" y="11366"/>
                  <a:pt x="1836" y="11385"/>
                </a:cubicBezTo>
                <a:cubicBezTo>
                  <a:pt x="1836" y="11393"/>
                  <a:pt x="1836" y="11402"/>
                  <a:pt x="1836" y="11410"/>
                </a:cubicBezTo>
                <a:cubicBezTo>
                  <a:pt x="1889" y="11383"/>
                  <a:pt x="1916" y="11347"/>
                  <a:pt x="1960" y="11311"/>
                </a:cubicBezTo>
                <a:cubicBezTo>
                  <a:pt x="2005" y="11274"/>
                  <a:pt x="2064" y="11222"/>
                  <a:pt x="2084" y="11162"/>
                </a:cubicBezTo>
                <a:cubicBezTo>
                  <a:pt x="2105" y="11100"/>
                  <a:pt x="2077" y="11030"/>
                  <a:pt x="2034" y="10988"/>
                </a:cubicBezTo>
                <a:cubicBezTo>
                  <a:pt x="2006" y="10961"/>
                  <a:pt x="1915" y="10949"/>
                  <a:pt x="1885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95200" y="4483080"/>
            <a:ext cx="625680" cy="268200"/>
          </a:xfrm>
          <a:custGeom>
            <a:avLst/>
            <a:gdLst/>
            <a:ahLst/>
            <a:rect l="l" t="t" r="r" b="b"/>
            <a:pathLst>
              <a:path w="1737" h="745">
                <a:moveTo>
                  <a:pt x="1191" y="12526"/>
                </a:moveTo>
                <a:cubicBezTo>
                  <a:pt x="1191" y="12502"/>
                  <a:pt x="1191" y="12493"/>
                  <a:pt x="1191" y="12477"/>
                </a:cubicBezTo>
                <a:cubicBezTo>
                  <a:pt x="1230" y="12491"/>
                  <a:pt x="1215" y="12526"/>
                  <a:pt x="1215" y="12576"/>
                </a:cubicBezTo>
                <a:cubicBezTo>
                  <a:pt x="1215" y="12626"/>
                  <a:pt x="1215" y="12642"/>
                  <a:pt x="1215" y="12675"/>
                </a:cubicBezTo>
              </a:path>
              <a:path w="1737" h="745">
                <a:moveTo>
                  <a:pt x="1116" y="12923"/>
                </a:moveTo>
                <a:cubicBezTo>
                  <a:pt x="1094" y="12997"/>
                  <a:pt x="1098" y="13045"/>
                  <a:pt x="1017" y="13072"/>
                </a:cubicBezTo>
                <a:cubicBezTo>
                  <a:pt x="945" y="13096"/>
                  <a:pt x="900" y="13052"/>
                  <a:pt x="868" y="12998"/>
                </a:cubicBezTo>
                <a:cubicBezTo>
                  <a:pt x="822" y="12920"/>
                  <a:pt x="819" y="12863"/>
                  <a:pt x="819" y="12774"/>
                </a:cubicBezTo>
                <a:cubicBezTo>
                  <a:pt x="819" y="12675"/>
                  <a:pt x="881" y="12581"/>
                  <a:pt x="967" y="12526"/>
                </a:cubicBezTo>
                <a:cubicBezTo>
                  <a:pt x="1089" y="12448"/>
                  <a:pt x="1216" y="12463"/>
                  <a:pt x="1339" y="12526"/>
                </a:cubicBezTo>
                <a:cubicBezTo>
                  <a:pt x="1474" y="12595"/>
                  <a:pt x="1528" y="12652"/>
                  <a:pt x="1538" y="12799"/>
                </a:cubicBezTo>
                <a:cubicBezTo>
                  <a:pt x="1546" y="12921"/>
                  <a:pt x="1468" y="12972"/>
                  <a:pt x="1364" y="13022"/>
                </a:cubicBezTo>
                <a:cubicBezTo>
                  <a:pt x="1339" y="13030"/>
                  <a:pt x="1315" y="13039"/>
                  <a:pt x="1290" y="13047"/>
                </a:cubicBezTo>
              </a:path>
              <a:path w="1737" h="745">
                <a:moveTo>
                  <a:pt x="1811" y="12824"/>
                </a:moveTo>
                <a:cubicBezTo>
                  <a:pt x="1811" y="12832"/>
                  <a:pt x="1811" y="12841"/>
                  <a:pt x="1811" y="12849"/>
                </a:cubicBezTo>
                <a:cubicBezTo>
                  <a:pt x="1854" y="12849"/>
                  <a:pt x="1897" y="12840"/>
                  <a:pt x="1935" y="12824"/>
                </a:cubicBezTo>
                <a:cubicBezTo>
                  <a:pt x="1951" y="12816"/>
                  <a:pt x="1968" y="12807"/>
                  <a:pt x="1984" y="12799"/>
                </a:cubicBezTo>
              </a:path>
              <a:path w="1737" h="745">
                <a:moveTo>
                  <a:pt x="2133" y="12700"/>
                </a:moveTo>
                <a:cubicBezTo>
                  <a:pt x="2133" y="12640"/>
                  <a:pt x="2141" y="12663"/>
                  <a:pt x="2183" y="12626"/>
                </a:cubicBezTo>
                <a:cubicBezTo>
                  <a:pt x="2218" y="12595"/>
                  <a:pt x="2236" y="12601"/>
                  <a:pt x="2282" y="12601"/>
                </a:cubicBezTo>
                <a:cubicBezTo>
                  <a:pt x="2290" y="12601"/>
                  <a:pt x="2299" y="12601"/>
                  <a:pt x="2307" y="12601"/>
                </a:cubicBezTo>
                <a:cubicBezTo>
                  <a:pt x="2307" y="12664"/>
                  <a:pt x="2309" y="12693"/>
                  <a:pt x="2282" y="12750"/>
                </a:cubicBezTo>
                <a:cubicBezTo>
                  <a:pt x="2246" y="12826"/>
                  <a:pt x="2232" y="12864"/>
                  <a:pt x="2232" y="12948"/>
                </a:cubicBezTo>
                <a:cubicBezTo>
                  <a:pt x="2232" y="12989"/>
                  <a:pt x="2266" y="13013"/>
                  <a:pt x="2307" y="12998"/>
                </a:cubicBezTo>
                <a:cubicBezTo>
                  <a:pt x="2351" y="12982"/>
                  <a:pt x="2366" y="12958"/>
                  <a:pt x="2406" y="12948"/>
                </a:cubicBezTo>
              </a:path>
              <a:path w="1737" h="745">
                <a:moveTo>
                  <a:pt x="2332" y="13022"/>
                </a:moveTo>
                <a:cubicBezTo>
                  <a:pt x="2255" y="13093"/>
                  <a:pt x="2200" y="13125"/>
                  <a:pt x="2108" y="13171"/>
                </a:cubicBezTo>
                <a:cubicBezTo>
                  <a:pt x="2023" y="13214"/>
                  <a:pt x="1959" y="13184"/>
                  <a:pt x="1910" y="13097"/>
                </a:cubicBezTo>
                <a:cubicBezTo>
                  <a:pt x="1854" y="12998"/>
                  <a:pt x="1846" y="12880"/>
                  <a:pt x="1885" y="12774"/>
                </a:cubicBezTo>
                <a:cubicBezTo>
                  <a:pt x="1932" y="12649"/>
                  <a:pt x="2045" y="12488"/>
                  <a:pt x="2183" y="12452"/>
                </a:cubicBezTo>
                <a:cubicBezTo>
                  <a:pt x="2327" y="12415"/>
                  <a:pt x="2433" y="12479"/>
                  <a:pt x="2505" y="12601"/>
                </a:cubicBezTo>
                <a:cubicBezTo>
                  <a:pt x="2563" y="12699"/>
                  <a:pt x="2571" y="12851"/>
                  <a:pt x="2505" y="12948"/>
                </a:cubicBezTo>
                <a:cubicBezTo>
                  <a:pt x="2437" y="13016"/>
                  <a:pt x="2420" y="13038"/>
                  <a:pt x="2356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55800" y="4902120"/>
            <a:ext cx="473040" cy="189000"/>
          </a:xfrm>
          <a:custGeom>
            <a:avLst/>
            <a:gdLst/>
            <a:ahLst/>
            <a:rect l="l" t="t" r="r" b="b"/>
            <a:pathLst>
              <a:path w="1316" h="522">
                <a:moveTo>
                  <a:pt x="2753" y="14015"/>
                </a:moveTo>
                <a:cubicBezTo>
                  <a:pt x="2720" y="14015"/>
                  <a:pt x="2687" y="14015"/>
                  <a:pt x="2654" y="14015"/>
                </a:cubicBezTo>
                <a:cubicBezTo>
                  <a:pt x="2654" y="13940"/>
                  <a:pt x="2669" y="13888"/>
                  <a:pt x="2679" y="13816"/>
                </a:cubicBezTo>
                <a:cubicBezTo>
                  <a:pt x="2689" y="13744"/>
                  <a:pt x="2748" y="13665"/>
                  <a:pt x="2828" y="13643"/>
                </a:cubicBezTo>
                <a:cubicBezTo>
                  <a:pt x="2945" y="13611"/>
                  <a:pt x="2976" y="13742"/>
                  <a:pt x="3001" y="13816"/>
                </a:cubicBezTo>
                <a:cubicBezTo>
                  <a:pt x="3033" y="13910"/>
                  <a:pt x="3080" y="13995"/>
                  <a:pt x="3026" y="14089"/>
                </a:cubicBezTo>
                <a:cubicBezTo>
                  <a:pt x="2974" y="14179"/>
                  <a:pt x="2874" y="14124"/>
                  <a:pt x="2803" y="14114"/>
                </a:cubicBezTo>
                <a:cubicBezTo>
                  <a:pt x="2742" y="14106"/>
                  <a:pt x="2719" y="14101"/>
                  <a:pt x="2704" y="14039"/>
                </a:cubicBezTo>
              </a:path>
              <a:path w="1316" h="522">
                <a:moveTo>
                  <a:pt x="3423" y="14089"/>
                </a:moveTo>
                <a:lnTo>
                  <a:pt x="3423" y="14089"/>
                </a:lnTo>
                <a:lnTo>
                  <a:pt x="3423" y="14089"/>
                </a:lnTo>
                <a:lnTo>
                  <a:pt x="3423" y="14089"/>
                </a:lnTo>
                <a:lnTo>
                  <a:pt x="3423" y="14089"/>
                </a:lnTo>
              </a:path>
              <a:path w="1316" h="522">
                <a:moveTo>
                  <a:pt x="3621" y="13767"/>
                </a:moveTo>
                <a:cubicBezTo>
                  <a:pt x="3584" y="13716"/>
                  <a:pt x="3602" y="13711"/>
                  <a:pt x="3646" y="13667"/>
                </a:cubicBezTo>
                <a:cubicBezTo>
                  <a:pt x="3674" y="13640"/>
                  <a:pt x="3779" y="13605"/>
                  <a:pt x="3820" y="13618"/>
                </a:cubicBezTo>
                <a:cubicBezTo>
                  <a:pt x="3885" y="13638"/>
                  <a:pt x="3896" y="13719"/>
                  <a:pt x="3870" y="13767"/>
                </a:cubicBezTo>
                <a:cubicBezTo>
                  <a:pt x="3839" y="13824"/>
                  <a:pt x="3732" y="13925"/>
                  <a:pt x="3671" y="13940"/>
                </a:cubicBezTo>
                <a:cubicBezTo>
                  <a:pt x="3713" y="13972"/>
                  <a:pt x="3790" y="13982"/>
                  <a:pt x="3845" y="13990"/>
                </a:cubicBezTo>
                <a:cubicBezTo>
                  <a:pt x="3895" y="13997"/>
                  <a:pt x="3957" y="14008"/>
                  <a:pt x="3969" y="14064"/>
                </a:cubicBezTo>
                <a:cubicBezTo>
                  <a:pt x="3969" y="14072"/>
                  <a:pt x="3969" y="14081"/>
                  <a:pt x="3969" y="14089"/>
                </a:cubicBezTo>
                <a:cubicBezTo>
                  <a:pt x="3914" y="14122"/>
                  <a:pt x="3863" y="14114"/>
                  <a:pt x="3795" y="14114"/>
                </a:cubicBezTo>
                <a:cubicBezTo>
                  <a:pt x="3731" y="14114"/>
                  <a:pt x="3731" y="14115"/>
                  <a:pt x="3671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52760" y="4983120"/>
            <a:ext cx="106200" cy="61920"/>
          </a:xfrm>
          <a:custGeom>
            <a:avLst/>
            <a:gdLst/>
            <a:ahLst/>
            <a:rect l="l" t="t" r="r" b="b"/>
            <a:pathLst>
              <a:path w="299" h="175">
                <a:moveTo>
                  <a:pt x="4837" y="13841"/>
                </a:moveTo>
                <a:cubicBezTo>
                  <a:pt x="4845" y="13841"/>
                  <a:pt x="4854" y="13841"/>
                  <a:pt x="4862" y="13841"/>
                </a:cubicBezTo>
                <a:cubicBezTo>
                  <a:pt x="4818" y="13874"/>
                  <a:pt x="4796" y="13866"/>
                  <a:pt x="4738" y="13866"/>
                </a:cubicBezTo>
                <a:cubicBezTo>
                  <a:pt x="4688" y="13866"/>
                  <a:pt x="4639" y="13866"/>
                  <a:pt x="4589" y="13866"/>
                </a:cubicBezTo>
              </a:path>
              <a:path w="299" h="175">
                <a:moveTo>
                  <a:pt x="4862" y="13940"/>
                </a:moveTo>
                <a:cubicBezTo>
                  <a:pt x="4870" y="13948"/>
                  <a:pt x="4879" y="13957"/>
                  <a:pt x="4887" y="13965"/>
                </a:cubicBezTo>
                <a:cubicBezTo>
                  <a:pt x="4844" y="13997"/>
                  <a:pt x="4807" y="13988"/>
                  <a:pt x="4762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46160" y="4902120"/>
            <a:ext cx="358920" cy="206280"/>
          </a:xfrm>
          <a:custGeom>
            <a:avLst/>
            <a:gdLst/>
            <a:ahLst/>
            <a:rect l="l" t="t" r="r" b="b"/>
            <a:pathLst>
              <a:path w="994" h="571">
                <a:moveTo>
                  <a:pt x="5482" y="13915"/>
                </a:moveTo>
                <a:cubicBezTo>
                  <a:pt x="5422" y="13901"/>
                  <a:pt x="5396" y="13878"/>
                  <a:pt x="5432" y="13816"/>
                </a:cubicBezTo>
                <a:cubicBezTo>
                  <a:pt x="5474" y="13743"/>
                  <a:pt x="5527" y="13722"/>
                  <a:pt x="5606" y="13692"/>
                </a:cubicBezTo>
                <a:cubicBezTo>
                  <a:pt x="5683" y="13663"/>
                  <a:pt x="5750" y="13637"/>
                  <a:pt x="5755" y="13742"/>
                </a:cubicBezTo>
                <a:cubicBezTo>
                  <a:pt x="5760" y="13850"/>
                  <a:pt x="5708" y="13906"/>
                  <a:pt x="5655" y="13990"/>
                </a:cubicBezTo>
                <a:cubicBezTo>
                  <a:pt x="5623" y="14041"/>
                  <a:pt x="5593" y="14106"/>
                  <a:pt x="5581" y="14163"/>
                </a:cubicBezTo>
                <a:cubicBezTo>
                  <a:pt x="5653" y="14163"/>
                  <a:pt x="5712" y="14150"/>
                  <a:pt x="5779" y="14139"/>
                </a:cubicBezTo>
                <a:cubicBezTo>
                  <a:pt x="5839" y="14129"/>
                  <a:pt x="5960" y="14169"/>
                  <a:pt x="5978" y="14114"/>
                </a:cubicBezTo>
              </a:path>
              <a:path w="994" h="571">
                <a:moveTo>
                  <a:pt x="6127" y="13717"/>
                </a:moveTo>
                <a:cubicBezTo>
                  <a:pt x="6147" y="13657"/>
                  <a:pt x="6146" y="13643"/>
                  <a:pt x="6176" y="13618"/>
                </a:cubicBezTo>
                <a:cubicBezTo>
                  <a:pt x="6176" y="13703"/>
                  <a:pt x="6137" y="13755"/>
                  <a:pt x="6127" y="13841"/>
                </a:cubicBezTo>
                <a:cubicBezTo>
                  <a:pt x="6113" y="13961"/>
                  <a:pt x="6119" y="14039"/>
                  <a:pt x="6201" y="14114"/>
                </a:cubicBezTo>
                <a:cubicBezTo>
                  <a:pt x="6256" y="14165"/>
                  <a:pt x="6309" y="14119"/>
                  <a:pt x="6375" y="14114"/>
                </a:cubicBezTo>
                <a:cubicBezTo>
                  <a:pt x="6383" y="14114"/>
                  <a:pt x="6392" y="14114"/>
                  <a:pt x="6400" y="14114"/>
                </a:cubicBezTo>
                <a:cubicBezTo>
                  <a:pt x="6400" y="14178"/>
                  <a:pt x="6392" y="14184"/>
                  <a:pt x="6325" y="14188"/>
                </a:cubicBezTo>
                <a:cubicBezTo>
                  <a:pt x="6276" y="14188"/>
                  <a:pt x="6259" y="14188"/>
                  <a:pt x="6226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27080" y="5180040"/>
            <a:ext cx="473040" cy="177840"/>
          </a:xfrm>
          <a:custGeom>
            <a:avLst/>
            <a:gdLst/>
            <a:ahLst/>
            <a:rect l="l" t="t" r="r" b="b"/>
            <a:pathLst>
              <a:path w="1315" h="497">
                <a:moveTo>
                  <a:pt x="2952" y="14734"/>
                </a:moveTo>
                <a:cubicBezTo>
                  <a:pt x="2917" y="14746"/>
                  <a:pt x="2925" y="14772"/>
                  <a:pt x="2877" y="14784"/>
                </a:cubicBezTo>
                <a:cubicBezTo>
                  <a:pt x="2854" y="14752"/>
                  <a:pt x="2830" y="14677"/>
                  <a:pt x="2853" y="14635"/>
                </a:cubicBezTo>
                <a:cubicBezTo>
                  <a:pt x="2882" y="14581"/>
                  <a:pt x="2962" y="14522"/>
                  <a:pt x="3026" y="14536"/>
                </a:cubicBezTo>
                <a:cubicBezTo>
                  <a:pt x="3138" y="14560"/>
                  <a:pt x="3125" y="14674"/>
                  <a:pt x="3125" y="14759"/>
                </a:cubicBezTo>
                <a:cubicBezTo>
                  <a:pt x="3125" y="14854"/>
                  <a:pt x="3090" y="14876"/>
                  <a:pt x="3001" y="14883"/>
                </a:cubicBezTo>
                <a:cubicBezTo>
                  <a:pt x="2953" y="14887"/>
                  <a:pt x="2939" y="14880"/>
                  <a:pt x="2902" y="14858"/>
                </a:cubicBezTo>
              </a:path>
              <a:path w="1315" h="497">
                <a:moveTo>
                  <a:pt x="3324" y="14709"/>
                </a:moveTo>
                <a:cubicBezTo>
                  <a:pt x="3334" y="14711"/>
                  <a:pt x="3454" y="14739"/>
                  <a:pt x="3398" y="14784"/>
                </a:cubicBezTo>
                <a:cubicBezTo>
                  <a:pt x="3390" y="14784"/>
                  <a:pt x="3381" y="14784"/>
                  <a:pt x="3373" y="14784"/>
                </a:cubicBezTo>
              </a:path>
              <a:path w="1315" h="497">
                <a:moveTo>
                  <a:pt x="3572" y="14486"/>
                </a:moveTo>
                <a:cubicBezTo>
                  <a:pt x="3597" y="14486"/>
                  <a:pt x="3605" y="14486"/>
                  <a:pt x="3621" y="14486"/>
                </a:cubicBezTo>
                <a:cubicBezTo>
                  <a:pt x="3621" y="14560"/>
                  <a:pt x="3642" y="14614"/>
                  <a:pt x="3646" y="14684"/>
                </a:cubicBezTo>
                <a:cubicBezTo>
                  <a:pt x="3646" y="14726"/>
                  <a:pt x="3646" y="14734"/>
                  <a:pt x="3646" y="14759"/>
                </a:cubicBezTo>
              </a:path>
              <a:path w="1315" h="497">
                <a:moveTo>
                  <a:pt x="3919" y="14436"/>
                </a:moveTo>
                <a:cubicBezTo>
                  <a:pt x="3879" y="14449"/>
                  <a:pt x="3894" y="14485"/>
                  <a:pt x="3894" y="14536"/>
                </a:cubicBezTo>
                <a:cubicBezTo>
                  <a:pt x="3894" y="14601"/>
                  <a:pt x="3892" y="14642"/>
                  <a:pt x="3969" y="14660"/>
                </a:cubicBezTo>
                <a:cubicBezTo>
                  <a:pt x="4029" y="14674"/>
                  <a:pt x="4094" y="14670"/>
                  <a:pt x="4142" y="14709"/>
                </a:cubicBezTo>
                <a:cubicBezTo>
                  <a:pt x="4183" y="14742"/>
                  <a:pt x="4165" y="14787"/>
                  <a:pt x="4118" y="14808"/>
                </a:cubicBezTo>
                <a:cubicBezTo>
                  <a:pt x="4076" y="14826"/>
                  <a:pt x="3991" y="14827"/>
                  <a:pt x="3944" y="14833"/>
                </a:cubicBezTo>
              </a:path>
              <a:path w="1315" h="497">
                <a:moveTo>
                  <a:pt x="3919" y="14536"/>
                </a:moveTo>
                <a:cubicBezTo>
                  <a:pt x="3989" y="14445"/>
                  <a:pt x="4005" y="14393"/>
                  <a:pt x="4118" y="14387"/>
                </a:cubicBezTo>
                <a:cubicBezTo>
                  <a:pt x="4134" y="14387"/>
                  <a:pt x="4151" y="14387"/>
                  <a:pt x="4167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24040" y="5259240"/>
            <a:ext cx="71280" cy="810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4936" y="14610"/>
                </a:moveTo>
                <a:cubicBezTo>
                  <a:pt x="4912" y="14616"/>
                  <a:pt x="4859" y="14623"/>
                  <a:pt x="4837" y="14635"/>
                </a:cubicBezTo>
                <a:cubicBezTo>
                  <a:pt x="4814" y="14658"/>
                  <a:pt x="4810" y="14666"/>
                  <a:pt x="4787" y="14660"/>
                </a:cubicBezTo>
              </a:path>
              <a:path w="200" h="224">
                <a:moveTo>
                  <a:pt x="4961" y="14734"/>
                </a:moveTo>
                <a:cubicBezTo>
                  <a:pt x="4969" y="14734"/>
                  <a:pt x="4978" y="14734"/>
                  <a:pt x="4986" y="14734"/>
                </a:cubicBezTo>
                <a:cubicBezTo>
                  <a:pt x="4986" y="14770"/>
                  <a:pt x="4981" y="14820"/>
                  <a:pt x="4936" y="14833"/>
                </a:cubicBezTo>
                <a:cubicBezTo>
                  <a:pt x="4920" y="14833"/>
                  <a:pt x="4903" y="14833"/>
                  <a:pt x="4887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44800" y="5224320"/>
            <a:ext cx="117360" cy="214560"/>
          </a:xfrm>
          <a:custGeom>
            <a:avLst/>
            <a:gdLst/>
            <a:ahLst/>
            <a:rect l="l" t="t" r="r" b="b"/>
            <a:pathLst>
              <a:path w="324" h="596">
                <a:moveTo>
                  <a:pt x="5680" y="14560"/>
                </a:moveTo>
                <a:cubicBezTo>
                  <a:pt x="5680" y="14544"/>
                  <a:pt x="5680" y="14527"/>
                  <a:pt x="5680" y="14511"/>
                </a:cubicBezTo>
                <a:cubicBezTo>
                  <a:pt x="5680" y="14630"/>
                  <a:pt x="5671" y="14744"/>
                  <a:pt x="5705" y="14858"/>
                </a:cubicBezTo>
                <a:cubicBezTo>
                  <a:pt x="5725" y="14918"/>
                  <a:pt x="5724" y="14933"/>
                  <a:pt x="5755" y="14957"/>
                </a:cubicBezTo>
                <a:cubicBezTo>
                  <a:pt x="5816" y="14944"/>
                  <a:pt x="5849" y="14890"/>
                  <a:pt x="5904" y="14883"/>
                </a:cubicBezTo>
                <a:cubicBezTo>
                  <a:pt x="5987" y="14872"/>
                  <a:pt x="5999" y="14940"/>
                  <a:pt x="6003" y="15007"/>
                </a:cubicBezTo>
                <a:cubicBezTo>
                  <a:pt x="6006" y="15064"/>
                  <a:pt x="5971" y="15122"/>
                  <a:pt x="5904" y="15106"/>
                </a:cubicBezTo>
                <a:cubicBezTo>
                  <a:pt x="5854" y="15081"/>
                  <a:pt x="5837" y="15073"/>
                  <a:pt x="5804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081080" y="5473800"/>
            <a:ext cx="571680" cy="196920"/>
          </a:xfrm>
          <a:custGeom>
            <a:avLst/>
            <a:gdLst/>
            <a:ahLst/>
            <a:rect l="l" t="t" r="r" b="b"/>
            <a:pathLst>
              <a:path w="1589" h="547">
                <a:moveTo>
                  <a:pt x="3076" y="15429"/>
                </a:moveTo>
                <a:cubicBezTo>
                  <a:pt x="3020" y="15387"/>
                  <a:pt x="3054" y="15404"/>
                  <a:pt x="3026" y="15354"/>
                </a:cubicBezTo>
                <a:cubicBezTo>
                  <a:pt x="2991" y="15291"/>
                  <a:pt x="2999" y="15282"/>
                  <a:pt x="3051" y="15230"/>
                </a:cubicBezTo>
                <a:cubicBezTo>
                  <a:pt x="3099" y="15182"/>
                  <a:pt x="3202" y="15208"/>
                  <a:pt x="3249" y="15255"/>
                </a:cubicBezTo>
                <a:cubicBezTo>
                  <a:pt x="3308" y="15314"/>
                  <a:pt x="3313" y="15410"/>
                  <a:pt x="3274" y="15478"/>
                </a:cubicBezTo>
                <a:cubicBezTo>
                  <a:pt x="3246" y="15527"/>
                  <a:pt x="3173" y="15549"/>
                  <a:pt x="3125" y="15553"/>
                </a:cubicBezTo>
                <a:cubicBezTo>
                  <a:pt x="3101" y="15553"/>
                  <a:pt x="3092" y="15553"/>
                  <a:pt x="3076" y="15553"/>
                </a:cubicBezTo>
              </a:path>
              <a:path w="1589" h="547">
                <a:moveTo>
                  <a:pt x="3473" y="15503"/>
                </a:moveTo>
                <a:cubicBezTo>
                  <a:pt x="3550" y="15511"/>
                  <a:pt x="3556" y="15487"/>
                  <a:pt x="3572" y="15553"/>
                </a:cubicBezTo>
              </a:path>
              <a:path w="1589" h="547">
                <a:moveTo>
                  <a:pt x="3746" y="15304"/>
                </a:moveTo>
                <a:cubicBezTo>
                  <a:pt x="3768" y="15282"/>
                  <a:pt x="3773" y="15274"/>
                  <a:pt x="3795" y="15280"/>
                </a:cubicBezTo>
                <a:cubicBezTo>
                  <a:pt x="3795" y="15352"/>
                  <a:pt x="3772" y="15449"/>
                  <a:pt x="3820" y="15503"/>
                </a:cubicBezTo>
                <a:cubicBezTo>
                  <a:pt x="3863" y="15551"/>
                  <a:pt x="3881" y="15553"/>
                  <a:pt x="3944" y="15553"/>
                </a:cubicBezTo>
                <a:cubicBezTo>
                  <a:pt x="4007" y="15553"/>
                  <a:pt x="4041" y="15534"/>
                  <a:pt x="4093" y="15528"/>
                </a:cubicBezTo>
                <a:cubicBezTo>
                  <a:pt x="4134" y="15523"/>
                  <a:pt x="4132" y="15521"/>
                  <a:pt x="4142" y="15553"/>
                </a:cubicBezTo>
              </a:path>
              <a:path w="1589" h="547">
                <a:moveTo>
                  <a:pt x="4018" y="15478"/>
                </a:moveTo>
                <a:cubicBezTo>
                  <a:pt x="3992" y="15514"/>
                  <a:pt x="3983" y="15553"/>
                  <a:pt x="3994" y="15602"/>
                </a:cubicBezTo>
                <a:cubicBezTo>
                  <a:pt x="4011" y="15678"/>
                  <a:pt x="4018" y="15680"/>
                  <a:pt x="4018" y="15751"/>
                </a:cubicBezTo>
              </a:path>
              <a:path w="1589" h="547">
                <a:moveTo>
                  <a:pt x="4291" y="15429"/>
                </a:moveTo>
                <a:cubicBezTo>
                  <a:pt x="4311" y="15388"/>
                  <a:pt x="4309" y="15372"/>
                  <a:pt x="4341" y="15379"/>
                </a:cubicBezTo>
                <a:cubicBezTo>
                  <a:pt x="4319" y="15416"/>
                  <a:pt x="4296" y="15460"/>
                  <a:pt x="4291" y="15503"/>
                </a:cubicBezTo>
                <a:cubicBezTo>
                  <a:pt x="4287" y="15543"/>
                  <a:pt x="4358" y="15593"/>
                  <a:pt x="4390" y="15602"/>
                </a:cubicBezTo>
                <a:cubicBezTo>
                  <a:pt x="4456" y="15620"/>
                  <a:pt x="4438" y="15588"/>
                  <a:pt x="4490" y="15627"/>
                </a:cubicBezTo>
                <a:cubicBezTo>
                  <a:pt x="4477" y="15677"/>
                  <a:pt x="4458" y="15683"/>
                  <a:pt x="4415" y="15701"/>
                </a:cubicBezTo>
                <a:cubicBezTo>
                  <a:pt x="4355" y="15727"/>
                  <a:pt x="4356" y="15726"/>
                  <a:pt x="4291" y="15726"/>
                </a:cubicBezTo>
              </a:path>
              <a:path w="1589" h="547">
                <a:moveTo>
                  <a:pt x="4589" y="15379"/>
                </a:moveTo>
                <a:cubicBezTo>
                  <a:pt x="4589" y="15282"/>
                  <a:pt x="4524" y="15349"/>
                  <a:pt x="4465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20880" y="5572080"/>
            <a:ext cx="73080" cy="54000"/>
          </a:xfrm>
          <a:custGeom>
            <a:avLst/>
            <a:gdLst/>
            <a:ahLst/>
            <a:rect l="l" t="t" r="r" b="b"/>
            <a:pathLst>
              <a:path w="200" h="150">
                <a:moveTo>
                  <a:pt x="5159" y="15503"/>
                </a:moveTo>
                <a:cubicBezTo>
                  <a:pt x="5182" y="15480"/>
                  <a:pt x="5186" y="15472"/>
                  <a:pt x="5209" y="15478"/>
                </a:cubicBezTo>
                <a:cubicBezTo>
                  <a:pt x="5159" y="15478"/>
                  <a:pt x="5110" y="15478"/>
                  <a:pt x="5060" y="15478"/>
                </a:cubicBezTo>
              </a:path>
              <a:path w="200" h="150">
                <a:moveTo>
                  <a:pt x="5234" y="15553"/>
                </a:moveTo>
                <a:cubicBezTo>
                  <a:pt x="5234" y="15561"/>
                  <a:pt x="5234" y="15569"/>
                  <a:pt x="5234" y="15577"/>
                </a:cubicBezTo>
                <a:cubicBezTo>
                  <a:pt x="5299" y="15599"/>
                  <a:pt x="5236" y="15592"/>
                  <a:pt x="5209" y="15602"/>
                </a:cubicBezTo>
                <a:cubicBezTo>
                  <a:pt x="5192" y="15610"/>
                  <a:pt x="5176" y="15619"/>
                  <a:pt x="5159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116080" y="5572080"/>
            <a:ext cx="115920" cy="9864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6102" y="15478"/>
                </a:moveTo>
                <a:cubicBezTo>
                  <a:pt x="6152" y="15478"/>
                  <a:pt x="6011" y="15479"/>
                  <a:pt x="5978" y="15503"/>
                </a:cubicBezTo>
                <a:cubicBezTo>
                  <a:pt x="5929" y="15538"/>
                  <a:pt x="5859" y="15662"/>
                  <a:pt x="5879" y="15726"/>
                </a:cubicBezTo>
                <a:cubicBezTo>
                  <a:pt x="5887" y="15734"/>
                  <a:pt x="5896" y="15743"/>
                  <a:pt x="5904" y="15751"/>
                </a:cubicBezTo>
                <a:cubicBezTo>
                  <a:pt x="5975" y="15737"/>
                  <a:pt x="5995" y="15715"/>
                  <a:pt x="6028" y="15652"/>
                </a:cubicBezTo>
                <a:cubicBezTo>
                  <a:pt x="6036" y="15635"/>
                  <a:pt x="6044" y="15619"/>
                  <a:pt x="6052" y="15602"/>
                </a:cubicBezTo>
                <a:cubicBezTo>
                  <a:pt x="6103" y="15602"/>
                  <a:pt x="6144" y="15637"/>
                  <a:pt x="6176" y="15677"/>
                </a:cubicBezTo>
                <a:cubicBezTo>
                  <a:pt x="6184" y="15693"/>
                  <a:pt x="6193" y="15710"/>
                  <a:pt x="6201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478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152280" y="2286000"/>
            <a:ext cx="223920" cy="196920"/>
          </a:xfrm>
          <a:custGeom>
            <a:avLst/>
            <a:gdLst/>
            <a:ahLst/>
            <a:rect l="l" t="t" r="r" b="b"/>
            <a:pathLst>
              <a:path w="621" h="547">
                <a:moveTo>
                  <a:pt x="744" y="6499"/>
                </a:moveTo>
                <a:cubicBezTo>
                  <a:pt x="769" y="6499"/>
                  <a:pt x="777" y="6499"/>
                  <a:pt x="794" y="6499"/>
                </a:cubicBezTo>
                <a:cubicBezTo>
                  <a:pt x="787" y="6477"/>
                  <a:pt x="755" y="6454"/>
                  <a:pt x="719" y="6474"/>
                </a:cubicBezTo>
                <a:cubicBezTo>
                  <a:pt x="670" y="6502"/>
                  <a:pt x="656" y="6574"/>
                  <a:pt x="645" y="6623"/>
                </a:cubicBezTo>
                <a:cubicBezTo>
                  <a:pt x="633" y="6675"/>
                  <a:pt x="640" y="6716"/>
                  <a:pt x="695" y="6722"/>
                </a:cubicBezTo>
                <a:cubicBezTo>
                  <a:pt x="739" y="6727"/>
                  <a:pt x="741" y="6635"/>
                  <a:pt x="744" y="6598"/>
                </a:cubicBezTo>
                <a:cubicBezTo>
                  <a:pt x="744" y="6573"/>
                  <a:pt x="744" y="6565"/>
                  <a:pt x="744" y="6548"/>
                </a:cubicBezTo>
                <a:cubicBezTo>
                  <a:pt x="807" y="6548"/>
                  <a:pt x="823" y="6579"/>
                  <a:pt x="868" y="6623"/>
                </a:cubicBezTo>
                <a:cubicBezTo>
                  <a:pt x="910" y="6664"/>
                  <a:pt x="918" y="6672"/>
                  <a:pt x="943" y="6697"/>
                </a:cubicBezTo>
              </a:path>
              <a:path w="621" h="547">
                <a:moveTo>
                  <a:pt x="794" y="6424"/>
                </a:moveTo>
                <a:cubicBezTo>
                  <a:pt x="817" y="6385"/>
                  <a:pt x="835" y="6329"/>
                  <a:pt x="893" y="6350"/>
                </a:cubicBezTo>
                <a:cubicBezTo>
                  <a:pt x="961" y="6374"/>
                  <a:pt x="1029" y="6479"/>
                  <a:pt x="1042" y="6548"/>
                </a:cubicBezTo>
                <a:cubicBezTo>
                  <a:pt x="1056" y="6620"/>
                  <a:pt x="1059" y="6760"/>
                  <a:pt x="1017" y="6821"/>
                </a:cubicBezTo>
                <a:cubicBezTo>
                  <a:pt x="975" y="6863"/>
                  <a:pt x="967" y="6870"/>
                  <a:pt x="943" y="6896"/>
                </a:cubicBezTo>
              </a:path>
              <a:path w="621" h="547">
                <a:moveTo>
                  <a:pt x="496" y="6375"/>
                </a:moveTo>
                <a:cubicBezTo>
                  <a:pt x="457" y="6388"/>
                  <a:pt x="428" y="6495"/>
                  <a:pt x="422" y="6548"/>
                </a:cubicBezTo>
                <a:cubicBezTo>
                  <a:pt x="408" y="6660"/>
                  <a:pt x="422" y="6783"/>
                  <a:pt x="422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03160" y="2232000"/>
            <a:ext cx="384120" cy="285840"/>
          </a:xfrm>
          <a:custGeom>
            <a:avLst/>
            <a:gdLst/>
            <a:ahLst/>
            <a:rect l="l" t="t" r="r" b="b"/>
            <a:pathLst>
              <a:path w="1068" h="795">
                <a:moveTo>
                  <a:pt x="2232" y="6747"/>
                </a:moveTo>
                <a:cubicBezTo>
                  <a:pt x="2270" y="6760"/>
                  <a:pt x="2253" y="6772"/>
                  <a:pt x="2307" y="6772"/>
                </a:cubicBezTo>
                <a:cubicBezTo>
                  <a:pt x="2366" y="6772"/>
                  <a:pt x="2385" y="6773"/>
                  <a:pt x="2431" y="6747"/>
                </a:cubicBezTo>
                <a:cubicBezTo>
                  <a:pt x="2484" y="6717"/>
                  <a:pt x="2534" y="6660"/>
                  <a:pt x="2555" y="6598"/>
                </a:cubicBezTo>
                <a:cubicBezTo>
                  <a:pt x="2567" y="6562"/>
                  <a:pt x="2549" y="6548"/>
                  <a:pt x="2530" y="6524"/>
                </a:cubicBezTo>
                <a:cubicBezTo>
                  <a:pt x="2482" y="6543"/>
                  <a:pt x="2415" y="6600"/>
                  <a:pt x="2381" y="6648"/>
                </a:cubicBezTo>
                <a:cubicBezTo>
                  <a:pt x="2344" y="6700"/>
                  <a:pt x="2341" y="6834"/>
                  <a:pt x="2356" y="6896"/>
                </a:cubicBezTo>
                <a:cubicBezTo>
                  <a:pt x="2372" y="6964"/>
                  <a:pt x="2448" y="6990"/>
                  <a:pt x="2505" y="6995"/>
                </a:cubicBezTo>
                <a:cubicBezTo>
                  <a:pt x="2550" y="6999"/>
                  <a:pt x="2619" y="6947"/>
                  <a:pt x="2654" y="6921"/>
                </a:cubicBezTo>
                <a:cubicBezTo>
                  <a:pt x="2677" y="6898"/>
                  <a:pt x="2681" y="6890"/>
                  <a:pt x="2704" y="6896"/>
                </a:cubicBezTo>
              </a:path>
              <a:path w="1068" h="795">
                <a:moveTo>
                  <a:pt x="2927" y="6276"/>
                </a:moveTo>
                <a:cubicBezTo>
                  <a:pt x="2949" y="6224"/>
                  <a:pt x="2941" y="6213"/>
                  <a:pt x="2977" y="6201"/>
                </a:cubicBezTo>
                <a:cubicBezTo>
                  <a:pt x="2977" y="6315"/>
                  <a:pt x="2977" y="6417"/>
                  <a:pt x="3001" y="6524"/>
                </a:cubicBezTo>
                <a:cubicBezTo>
                  <a:pt x="3008" y="6556"/>
                  <a:pt x="3064" y="6561"/>
                  <a:pt x="3101" y="6548"/>
                </a:cubicBezTo>
                <a:cubicBezTo>
                  <a:pt x="3150" y="6531"/>
                  <a:pt x="3181" y="6489"/>
                  <a:pt x="3225" y="6474"/>
                </a:cubicBezTo>
                <a:cubicBezTo>
                  <a:pt x="3245" y="6467"/>
                  <a:pt x="3329" y="6449"/>
                  <a:pt x="3274" y="6449"/>
                </a:cubicBezTo>
                <a:cubicBezTo>
                  <a:pt x="3266" y="6449"/>
                  <a:pt x="3257" y="6449"/>
                  <a:pt x="3249" y="6449"/>
                </a:cubicBezTo>
              </a:path>
              <a:path w="1068" h="795">
                <a:moveTo>
                  <a:pt x="3125" y="6375"/>
                </a:moveTo>
                <a:cubicBezTo>
                  <a:pt x="3125" y="6458"/>
                  <a:pt x="3125" y="6540"/>
                  <a:pt x="3125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00120" y="2347920"/>
            <a:ext cx="162000" cy="90360"/>
          </a:xfrm>
          <a:custGeom>
            <a:avLst/>
            <a:gdLst/>
            <a:ahLst/>
            <a:rect l="l" t="t" r="r" b="b"/>
            <a:pathLst>
              <a:path w="448" h="249">
                <a:moveTo>
                  <a:pt x="4614" y="6697"/>
                </a:moveTo>
                <a:cubicBezTo>
                  <a:pt x="4578" y="6675"/>
                  <a:pt x="4511" y="6634"/>
                  <a:pt x="4465" y="6623"/>
                </a:cubicBezTo>
                <a:cubicBezTo>
                  <a:pt x="4382" y="6604"/>
                  <a:pt x="4292" y="6630"/>
                  <a:pt x="4217" y="6648"/>
                </a:cubicBezTo>
                <a:cubicBezTo>
                  <a:pt x="4189" y="6648"/>
                  <a:pt x="4178" y="6650"/>
                  <a:pt x="4167" y="6672"/>
                </a:cubicBezTo>
              </a:path>
              <a:path w="448" h="249">
                <a:moveTo>
                  <a:pt x="4291" y="6524"/>
                </a:moveTo>
                <a:cubicBezTo>
                  <a:pt x="4334" y="6579"/>
                  <a:pt x="4316" y="6650"/>
                  <a:pt x="4316" y="6722"/>
                </a:cubicBezTo>
                <a:cubicBezTo>
                  <a:pt x="4316" y="6739"/>
                  <a:pt x="4316" y="6755"/>
                  <a:pt x="4316" y="6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35080" y="2224080"/>
            <a:ext cx="171720" cy="285840"/>
          </a:xfrm>
          <a:custGeom>
            <a:avLst/>
            <a:gdLst/>
            <a:ahLst/>
            <a:rect l="l" t="t" r="r" b="b"/>
            <a:pathLst>
              <a:path w="473" h="795">
                <a:moveTo>
                  <a:pt x="5705" y="6201"/>
                </a:moveTo>
                <a:cubicBezTo>
                  <a:pt x="5705" y="6193"/>
                  <a:pt x="5705" y="6184"/>
                  <a:pt x="5705" y="6176"/>
                </a:cubicBezTo>
                <a:cubicBezTo>
                  <a:pt x="5737" y="6198"/>
                  <a:pt x="5721" y="6270"/>
                  <a:pt x="5705" y="6325"/>
                </a:cubicBezTo>
                <a:cubicBezTo>
                  <a:pt x="5683" y="6398"/>
                  <a:pt x="5659" y="6471"/>
                  <a:pt x="5655" y="6548"/>
                </a:cubicBezTo>
                <a:cubicBezTo>
                  <a:pt x="5652" y="6600"/>
                  <a:pt x="5676" y="6673"/>
                  <a:pt x="5730" y="6697"/>
                </a:cubicBezTo>
                <a:cubicBezTo>
                  <a:pt x="5788" y="6722"/>
                  <a:pt x="6114" y="6711"/>
                  <a:pt x="6127" y="6672"/>
                </a:cubicBezTo>
              </a:path>
              <a:path w="473" h="795">
                <a:moveTo>
                  <a:pt x="5953" y="6573"/>
                </a:moveTo>
                <a:cubicBezTo>
                  <a:pt x="5945" y="6565"/>
                  <a:pt x="5936" y="6556"/>
                  <a:pt x="5928" y="6548"/>
                </a:cubicBezTo>
                <a:cubicBezTo>
                  <a:pt x="5887" y="6605"/>
                  <a:pt x="5904" y="6675"/>
                  <a:pt x="5904" y="6747"/>
                </a:cubicBezTo>
                <a:cubicBezTo>
                  <a:pt x="5904" y="6831"/>
                  <a:pt x="5908" y="6889"/>
                  <a:pt x="5928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394000" y="2116080"/>
            <a:ext cx="588960" cy="473040"/>
          </a:xfrm>
          <a:custGeom>
            <a:avLst/>
            <a:gdLst/>
            <a:ahLst/>
            <a:rect l="l" t="t" r="r" b="b"/>
            <a:pathLst>
              <a:path w="1638" h="1315">
                <a:moveTo>
                  <a:pt x="7491" y="6871"/>
                </a:moveTo>
                <a:cubicBezTo>
                  <a:pt x="7442" y="6887"/>
                  <a:pt x="7472" y="6916"/>
                  <a:pt x="7516" y="6921"/>
                </a:cubicBezTo>
                <a:cubicBezTo>
                  <a:pt x="7581" y="6928"/>
                  <a:pt x="7647" y="6860"/>
                  <a:pt x="7689" y="6821"/>
                </a:cubicBezTo>
                <a:cubicBezTo>
                  <a:pt x="7742" y="6772"/>
                  <a:pt x="7764" y="6742"/>
                  <a:pt x="7764" y="6672"/>
                </a:cubicBezTo>
                <a:cubicBezTo>
                  <a:pt x="7697" y="6672"/>
                  <a:pt x="7660" y="6692"/>
                  <a:pt x="7615" y="6747"/>
                </a:cubicBezTo>
                <a:cubicBezTo>
                  <a:pt x="7549" y="6827"/>
                  <a:pt x="7518" y="6941"/>
                  <a:pt x="7541" y="7045"/>
                </a:cubicBezTo>
                <a:cubicBezTo>
                  <a:pt x="7555" y="7110"/>
                  <a:pt x="7652" y="7155"/>
                  <a:pt x="7714" y="7144"/>
                </a:cubicBezTo>
                <a:cubicBezTo>
                  <a:pt x="7806" y="7128"/>
                  <a:pt x="7820" y="7064"/>
                  <a:pt x="7888" y="7020"/>
                </a:cubicBezTo>
                <a:cubicBezTo>
                  <a:pt x="7948" y="6982"/>
                  <a:pt x="7926" y="6995"/>
                  <a:pt x="7962" y="6945"/>
                </a:cubicBezTo>
              </a:path>
              <a:path w="1638" h="1315">
                <a:moveTo>
                  <a:pt x="8037" y="6375"/>
                </a:moveTo>
                <a:cubicBezTo>
                  <a:pt x="8003" y="6329"/>
                  <a:pt x="8003" y="6324"/>
                  <a:pt x="8037" y="6300"/>
                </a:cubicBezTo>
                <a:cubicBezTo>
                  <a:pt x="8066" y="6279"/>
                  <a:pt x="8118" y="6227"/>
                  <a:pt x="8161" y="6251"/>
                </a:cubicBezTo>
                <a:cubicBezTo>
                  <a:pt x="8192" y="6268"/>
                  <a:pt x="8198" y="6346"/>
                  <a:pt x="8186" y="6375"/>
                </a:cubicBezTo>
                <a:cubicBezTo>
                  <a:pt x="8181" y="6387"/>
                  <a:pt x="8133" y="6452"/>
                  <a:pt x="8161" y="6474"/>
                </a:cubicBezTo>
                <a:cubicBezTo>
                  <a:pt x="8191" y="6498"/>
                  <a:pt x="8242" y="6499"/>
                  <a:pt x="8285" y="6499"/>
                </a:cubicBezTo>
                <a:cubicBezTo>
                  <a:pt x="8276" y="6525"/>
                  <a:pt x="8228" y="6563"/>
                  <a:pt x="8186" y="6573"/>
                </a:cubicBezTo>
                <a:cubicBezTo>
                  <a:pt x="8169" y="6573"/>
                  <a:pt x="8153" y="6573"/>
                  <a:pt x="8136" y="6573"/>
                </a:cubicBezTo>
              </a:path>
              <a:path w="1638" h="1315">
                <a:moveTo>
                  <a:pt x="6921" y="5904"/>
                </a:moveTo>
                <a:cubicBezTo>
                  <a:pt x="6921" y="5879"/>
                  <a:pt x="6921" y="5871"/>
                  <a:pt x="6945" y="5879"/>
                </a:cubicBezTo>
                <a:cubicBezTo>
                  <a:pt x="6945" y="6003"/>
                  <a:pt x="6945" y="6127"/>
                  <a:pt x="6945" y="6251"/>
                </a:cubicBezTo>
              </a:path>
              <a:path w="1638" h="1315">
                <a:moveTo>
                  <a:pt x="7218" y="6424"/>
                </a:moveTo>
                <a:cubicBezTo>
                  <a:pt x="7069" y="6424"/>
                  <a:pt x="6904" y="6409"/>
                  <a:pt x="6772" y="6449"/>
                </a:cubicBezTo>
                <a:cubicBezTo>
                  <a:pt x="6744" y="6449"/>
                  <a:pt x="6733" y="6451"/>
                  <a:pt x="6722" y="6474"/>
                </a:cubicBezTo>
              </a:path>
              <a:path w="1638" h="1315">
                <a:moveTo>
                  <a:pt x="6648" y="7020"/>
                </a:moveTo>
                <a:cubicBezTo>
                  <a:pt x="6689" y="7052"/>
                  <a:pt x="6705" y="7057"/>
                  <a:pt x="6747" y="7020"/>
                </a:cubicBezTo>
                <a:cubicBezTo>
                  <a:pt x="6789" y="6983"/>
                  <a:pt x="6857" y="6929"/>
                  <a:pt x="6871" y="6871"/>
                </a:cubicBezTo>
                <a:cubicBezTo>
                  <a:pt x="6877" y="6845"/>
                  <a:pt x="6871" y="6801"/>
                  <a:pt x="6871" y="6772"/>
                </a:cubicBezTo>
                <a:cubicBezTo>
                  <a:pt x="6810" y="6784"/>
                  <a:pt x="6732" y="6813"/>
                  <a:pt x="6697" y="6871"/>
                </a:cubicBezTo>
                <a:cubicBezTo>
                  <a:pt x="6658" y="6936"/>
                  <a:pt x="6654" y="7057"/>
                  <a:pt x="6697" y="7119"/>
                </a:cubicBezTo>
                <a:cubicBezTo>
                  <a:pt x="6750" y="7197"/>
                  <a:pt x="6813" y="7193"/>
                  <a:pt x="6896" y="7193"/>
                </a:cubicBezTo>
                <a:cubicBezTo>
                  <a:pt x="6964" y="7193"/>
                  <a:pt x="6983" y="7196"/>
                  <a:pt x="7020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0280" y="2438280"/>
            <a:ext cx="152640" cy="8892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10120" y="6921"/>
                </a:moveTo>
                <a:cubicBezTo>
                  <a:pt x="10145" y="6921"/>
                  <a:pt x="10153" y="6921"/>
                  <a:pt x="10145" y="6896"/>
                </a:cubicBezTo>
                <a:cubicBezTo>
                  <a:pt x="10098" y="6896"/>
                  <a:pt x="10066" y="6873"/>
                  <a:pt x="10021" y="6871"/>
                </a:cubicBezTo>
                <a:cubicBezTo>
                  <a:pt x="9922" y="6866"/>
                  <a:pt x="9822" y="6871"/>
                  <a:pt x="9723" y="6871"/>
                </a:cubicBezTo>
              </a:path>
              <a:path w="423" h="249">
                <a:moveTo>
                  <a:pt x="9847" y="6772"/>
                </a:moveTo>
                <a:cubicBezTo>
                  <a:pt x="9915" y="6788"/>
                  <a:pt x="9897" y="6831"/>
                  <a:pt x="9897" y="6896"/>
                </a:cubicBezTo>
                <a:cubicBezTo>
                  <a:pt x="9897" y="6962"/>
                  <a:pt x="9897" y="6979"/>
                  <a:pt x="9897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94120" y="2286000"/>
            <a:ext cx="79560" cy="214200"/>
          </a:xfrm>
          <a:custGeom>
            <a:avLst/>
            <a:gdLst/>
            <a:ahLst/>
            <a:rect l="l" t="t" r="r" b="b"/>
            <a:pathLst>
              <a:path w="224" h="596">
                <a:moveTo>
                  <a:pt x="10988" y="6375"/>
                </a:moveTo>
                <a:cubicBezTo>
                  <a:pt x="10968" y="6334"/>
                  <a:pt x="10913" y="6435"/>
                  <a:pt x="10889" y="6474"/>
                </a:cubicBezTo>
                <a:cubicBezTo>
                  <a:pt x="10827" y="6576"/>
                  <a:pt x="10815" y="6629"/>
                  <a:pt x="10815" y="6747"/>
                </a:cubicBezTo>
                <a:cubicBezTo>
                  <a:pt x="10815" y="6858"/>
                  <a:pt x="10848" y="6889"/>
                  <a:pt x="10939" y="6945"/>
                </a:cubicBezTo>
                <a:cubicBezTo>
                  <a:pt x="10983" y="6901"/>
                  <a:pt x="11061" y="6846"/>
                  <a:pt x="11038" y="6772"/>
                </a:cubicBezTo>
                <a:cubicBezTo>
                  <a:pt x="11021" y="6717"/>
                  <a:pt x="10933" y="6710"/>
                  <a:pt x="10889" y="6722"/>
                </a:cubicBezTo>
                <a:cubicBezTo>
                  <a:pt x="10873" y="6730"/>
                  <a:pt x="10856" y="6739"/>
                  <a:pt x="10840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133880" y="2241720"/>
            <a:ext cx="223920" cy="455400"/>
          </a:xfrm>
          <a:custGeom>
            <a:avLst/>
            <a:gdLst/>
            <a:ahLst/>
            <a:rect l="l" t="t" r="r" b="b"/>
            <a:pathLst>
              <a:path w="621" h="1266">
                <a:moveTo>
                  <a:pt x="11857" y="6251"/>
                </a:moveTo>
                <a:cubicBezTo>
                  <a:pt x="11857" y="6210"/>
                  <a:pt x="11857" y="6284"/>
                  <a:pt x="11857" y="6325"/>
                </a:cubicBezTo>
                <a:cubicBezTo>
                  <a:pt x="11857" y="6399"/>
                  <a:pt x="11857" y="6474"/>
                  <a:pt x="11857" y="6548"/>
                </a:cubicBezTo>
              </a:path>
              <a:path w="621" h="1266">
                <a:moveTo>
                  <a:pt x="12105" y="6747"/>
                </a:moveTo>
                <a:cubicBezTo>
                  <a:pt x="12089" y="6698"/>
                  <a:pt x="12076" y="6739"/>
                  <a:pt x="12030" y="6722"/>
                </a:cubicBezTo>
                <a:cubicBezTo>
                  <a:pt x="11955" y="6695"/>
                  <a:pt x="11863" y="6684"/>
                  <a:pt x="11782" y="6672"/>
                </a:cubicBezTo>
                <a:cubicBezTo>
                  <a:pt x="11725" y="6664"/>
                  <a:pt x="11652" y="6668"/>
                  <a:pt x="11609" y="6697"/>
                </a:cubicBezTo>
                <a:cubicBezTo>
                  <a:pt x="11601" y="6705"/>
                  <a:pt x="11592" y="6714"/>
                  <a:pt x="11584" y="6722"/>
                </a:cubicBezTo>
              </a:path>
              <a:path w="621" h="1266">
                <a:moveTo>
                  <a:pt x="11485" y="7243"/>
                </a:moveTo>
                <a:cubicBezTo>
                  <a:pt x="11485" y="7284"/>
                  <a:pt x="11485" y="7292"/>
                  <a:pt x="11485" y="7317"/>
                </a:cubicBezTo>
                <a:cubicBezTo>
                  <a:pt x="11537" y="7317"/>
                  <a:pt x="11595" y="7312"/>
                  <a:pt x="11633" y="7268"/>
                </a:cubicBezTo>
                <a:cubicBezTo>
                  <a:pt x="11685" y="7207"/>
                  <a:pt x="11727" y="7149"/>
                  <a:pt x="11733" y="7069"/>
                </a:cubicBezTo>
                <a:cubicBezTo>
                  <a:pt x="11733" y="7041"/>
                  <a:pt x="11730" y="7031"/>
                  <a:pt x="11708" y="7020"/>
                </a:cubicBezTo>
                <a:cubicBezTo>
                  <a:pt x="11647" y="7069"/>
                  <a:pt x="11573" y="7121"/>
                  <a:pt x="11534" y="7193"/>
                </a:cubicBezTo>
                <a:cubicBezTo>
                  <a:pt x="11493" y="7268"/>
                  <a:pt x="11492" y="7393"/>
                  <a:pt x="11534" y="7466"/>
                </a:cubicBezTo>
                <a:cubicBezTo>
                  <a:pt x="11565" y="7520"/>
                  <a:pt x="11667" y="7491"/>
                  <a:pt x="11708" y="7466"/>
                </a:cubicBezTo>
                <a:cubicBezTo>
                  <a:pt x="11738" y="7436"/>
                  <a:pt x="11752" y="7425"/>
                  <a:pt x="11782" y="7417"/>
                </a:cubicBezTo>
              </a:path>
              <a:path w="621" h="1266">
                <a:moveTo>
                  <a:pt x="11906" y="6871"/>
                </a:moveTo>
                <a:cubicBezTo>
                  <a:pt x="11898" y="6871"/>
                  <a:pt x="11889" y="6871"/>
                  <a:pt x="11881" y="6871"/>
                </a:cubicBezTo>
                <a:cubicBezTo>
                  <a:pt x="11894" y="6833"/>
                  <a:pt x="11911" y="6846"/>
                  <a:pt x="11956" y="6846"/>
                </a:cubicBezTo>
                <a:cubicBezTo>
                  <a:pt x="12002" y="6846"/>
                  <a:pt x="12024" y="6845"/>
                  <a:pt x="12030" y="6896"/>
                </a:cubicBezTo>
                <a:cubicBezTo>
                  <a:pt x="12030" y="6904"/>
                  <a:pt x="12030" y="6913"/>
                  <a:pt x="12030" y="6921"/>
                </a:cubicBezTo>
                <a:cubicBezTo>
                  <a:pt x="12003" y="6930"/>
                  <a:pt x="11985" y="6938"/>
                  <a:pt x="11981" y="6970"/>
                </a:cubicBezTo>
                <a:cubicBezTo>
                  <a:pt x="11981" y="6995"/>
                  <a:pt x="11981" y="7003"/>
                  <a:pt x="11981" y="7020"/>
                </a:cubicBezTo>
                <a:cubicBezTo>
                  <a:pt x="12014" y="7020"/>
                  <a:pt x="12047" y="7020"/>
                  <a:pt x="12080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45000" y="2357280"/>
            <a:ext cx="304920" cy="268560"/>
          </a:xfrm>
          <a:custGeom>
            <a:avLst/>
            <a:gdLst/>
            <a:ahLst/>
            <a:rect l="l" t="t" r="r" b="b"/>
            <a:pathLst>
              <a:path w="844" h="746">
                <a:moveTo>
                  <a:pt x="12626" y="7069"/>
                </a:moveTo>
                <a:cubicBezTo>
                  <a:pt x="12626" y="7094"/>
                  <a:pt x="12626" y="7102"/>
                  <a:pt x="12626" y="7119"/>
                </a:cubicBezTo>
                <a:cubicBezTo>
                  <a:pt x="12680" y="7119"/>
                  <a:pt x="12730" y="7103"/>
                  <a:pt x="12774" y="7069"/>
                </a:cubicBezTo>
                <a:cubicBezTo>
                  <a:pt x="12828" y="7027"/>
                  <a:pt x="12883" y="6915"/>
                  <a:pt x="12898" y="6846"/>
                </a:cubicBezTo>
                <a:cubicBezTo>
                  <a:pt x="12898" y="6829"/>
                  <a:pt x="12898" y="6813"/>
                  <a:pt x="12898" y="6796"/>
                </a:cubicBezTo>
                <a:cubicBezTo>
                  <a:pt x="12803" y="6796"/>
                  <a:pt x="12763" y="6844"/>
                  <a:pt x="12700" y="6921"/>
                </a:cubicBezTo>
                <a:cubicBezTo>
                  <a:pt x="12619" y="7021"/>
                  <a:pt x="12598" y="7112"/>
                  <a:pt x="12675" y="7218"/>
                </a:cubicBezTo>
                <a:cubicBezTo>
                  <a:pt x="12726" y="7288"/>
                  <a:pt x="12814" y="7315"/>
                  <a:pt x="12898" y="7293"/>
                </a:cubicBezTo>
                <a:cubicBezTo>
                  <a:pt x="12975" y="7273"/>
                  <a:pt x="13002" y="7224"/>
                  <a:pt x="13047" y="7169"/>
                </a:cubicBezTo>
              </a:path>
              <a:path w="844" h="746">
                <a:moveTo>
                  <a:pt x="13295" y="6648"/>
                </a:moveTo>
                <a:cubicBezTo>
                  <a:pt x="13284" y="6600"/>
                  <a:pt x="13234" y="6598"/>
                  <a:pt x="13271" y="6598"/>
                </a:cubicBezTo>
                <a:cubicBezTo>
                  <a:pt x="13324" y="6598"/>
                  <a:pt x="13354" y="6562"/>
                  <a:pt x="13395" y="6548"/>
                </a:cubicBezTo>
                <a:cubicBezTo>
                  <a:pt x="13419" y="6548"/>
                  <a:pt x="13428" y="6548"/>
                  <a:pt x="13444" y="6548"/>
                </a:cubicBezTo>
                <a:cubicBezTo>
                  <a:pt x="13436" y="6578"/>
                  <a:pt x="13411" y="6624"/>
                  <a:pt x="13395" y="6648"/>
                </a:cubicBezTo>
                <a:cubicBezTo>
                  <a:pt x="13373" y="6680"/>
                  <a:pt x="13357" y="6729"/>
                  <a:pt x="13419" y="6747"/>
                </a:cubicBezTo>
                <a:cubicBezTo>
                  <a:pt x="13436" y="6747"/>
                  <a:pt x="13452" y="6747"/>
                  <a:pt x="13469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70320" y="2509920"/>
            <a:ext cx="125640" cy="1062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14709" y="7144"/>
                </a:moveTo>
                <a:cubicBezTo>
                  <a:pt x="14695" y="7102"/>
                  <a:pt x="14661" y="7119"/>
                  <a:pt x="14610" y="7119"/>
                </a:cubicBezTo>
                <a:cubicBezTo>
                  <a:pt x="14527" y="7119"/>
                  <a:pt x="14445" y="7119"/>
                  <a:pt x="14362" y="7119"/>
                </a:cubicBezTo>
              </a:path>
              <a:path w="348" h="299">
                <a:moveTo>
                  <a:pt x="14486" y="6970"/>
                </a:moveTo>
                <a:cubicBezTo>
                  <a:pt x="14486" y="7069"/>
                  <a:pt x="14486" y="7169"/>
                  <a:pt x="14486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527800" y="2394000"/>
            <a:ext cx="169560" cy="2221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5429" y="6672"/>
                </a:moveTo>
                <a:cubicBezTo>
                  <a:pt x="15487" y="6614"/>
                  <a:pt x="15385" y="6739"/>
                  <a:pt x="15379" y="6772"/>
                </a:cubicBezTo>
                <a:cubicBezTo>
                  <a:pt x="15365" y="6854"/>
                  <a:pt x="15334" y="6942"/>
                  <a:pt x="15379" y="7020"/>
                </a:cubicBezTo>
                <a:cubicBezTo>
                  <a:pt x="15410" y="7074"/>
                  <a:pt x="15499" y="7080"/>
                  <a:pt x="15553" y="7069"/>
                </a:cubicBezTo>
                <a:cubicBezTo>
                  <a:pt x="15625" y="7054"/>
                  <a:pt x="15679" y="7026"/>
                  <a:pt x="15751" y="7020"/>
                </a:cubicBezTo>
                <a:cubicBezTo>
                  <a:pt x="15775" y="7018"/>
                  <a:pt x="15801" y="7020"/>
                  <a:pt x="15825" y="7020"/>
                </a:cubicBezTo>
              </a:path>
              <a:path w="472" h="621">
                <a:moveTo>
                  <a:pt x="15701" y="6896"/>
                </a:moveTo>
                <a:cubicBezTo>
                  <a:pt x="15607" y="6923"/>
                  <a:pt x="15627" y="6969"/>
                  <a:pt x="15627" y="7069"/>
                </a:cubicBezTo>
                <a:cubicBezTo>
                  <a:pt x="15627" y="7147"/>
                  <a:pt x="15628" y="7196"/>
                  <a:pt x="15652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30920" y="2330280"/>
            <a:ext cx="687240" cy="438480"/>
          </a:xfrm>
          <a:custGeom>
            <a:avLst/>
            <a:gdLst/>
            <a:ahLst/>
            <a:rect l="l" t="t" r="r" b="b"/>
            <a:pathLst>
              <a:path w="1911" h="1216">
                <a:moveTo>
                  <a:pt x="17289" y="7342"/>
                </a:moveTo>
                <a:cubicBezTo>
                  <a:pt x="17336" y="7342"/>
                  <a:pt x="17372" y="7349"/>
                  <a:pt x="17413" y="7317"/>
                </a:cubicBezTo>
                <a:cubicBezTo>
                  <a:pt x="17476" y="7269"/>
                  <a:pt x="17556" y="7192"/>
                  <a:pt x="17587" y="7119"/>
                </a:cubicBezTo>
                <a:cubicBezTo>
                  <a:pt x="17608" y="7070"/>
                  <a:pt x="17638" y="6988"/>
                  <a:pt x="17587" y="6970"/>
                </a:cubicBezTo>
                <a:cubicBezTo>
                  <a:pt x="17499" y="6992"/>
                  <a:pt x="17433" y="7054"/>
                  <a:pt x="17388" y="7144"/>
                </a:cubicBezTo>
                <a:cubicBezTo>
                  <a:pt x="17339" y="7241"/>
                  <a:pt x="17349" y="7341"/>
                  <a:pt x="17413" y="7417"/>
                </a:cubicBezTo>
                <a:cubicBezTo>
                  <a:pt x="17474" y="7490"/>
                  <a:pt x="17549" y="7466"/>
                  <a:pt x="17636" y="7466"/>
                </a:cubicBezTo>
                <a:cubicBezTo>
                  <a:pt x="17724" y="7466"/>
                  <a:pt x="17735" y="7429"/>
                  <a:pt x="17785" y="7367"/>
                </a:cubicBezTo>
              </a:path>
              <a:path w="1911" h="1216">
                <a:moveTo>
                  <a:pt x="18083" y="6722"/>
                </a:moveTo>
                <a:cubicBezTo>
                  <a:pt x="18141" y="6600"/>
                  <a:pt x="18063" y="6783"/>
                  <a:pt x="18058" y="6821"/>
                </a:cubicBezTo>
              </a:path>
              <a:path w="1911" h="1216">
                <a:moveTo>
                  <a:pt x="16768" y="6474"/>
                </a:moveTo>
                <a:cubicBezTo>
                  <a:pt x="16760" y="6474"/>
                  <a:pt x="16751" y="6474"/>
                  <a:pt x="16743" y="6474"/>
                </a:cubicBezTo>
                <a:cubicBezTo>
                  <a:pt x="16743" y="6573"/>
                  <a:pt x="16743" y="6673"/>
                  <a:pt x="16743" y="6772"/>
                </a:cubicBezTo>
              </a:path>
              <a:path w="1911" h="1216">
                <a:moveTo>
                  <a:pt x="16991" y="6896"/>
                </a:moveTo>
                <a:cubicBezTo>
                  <a:pt x="16979" y="6932"/>
                  <a:pt x="16915" y="6934"/>
                  <a:pt x="16867" y="6921"/>
                </a:cubicBezTo>
                <a:cubicBezTo>
                  <a:pt x="16788" y="6899"/>
                  <a:pt x="16730" y="6896"/>
                  <a:pt x="16644" y="6896"/>
                </a:cubicBezTo>
                <a:cubicBezTo>
                  <a:pt x="16585" y="6896"/>
                  <a:pt x="16551" y="6882"/>
                  <a:pt x="16495" y="6871"/>
                </a:cubicBezTo>
              </a:path>
              <a:path w="1911" h="1216">
                <a:moveTo>
                  <a:pt x="16197" y="7565"/>
                </a:moveTo>
                <a:cubicBezTo>
                  <a:pt x="16197" y="7593"/>
                  <a:pt x="16199" y="7604"/>
                  <a:pt x="16222" y="7615"/>
                </a:cubicBezTo>
                <a:cubicBezTo>
                  <a:pt x="16278" y="7601"/>
                  <a:pt x="16326" y="7558"/>
                  <a:pt x="16371" y="7516"/>
                </a:cubicBezTo>
                <a:cubicBezTo>
                  <a:pt x="16402" y="7487"/>
                  <a:pt x="16490" y="7395"/>
                  <a:pt x="16470" y="7342"/>
                </a:cubicBezTo>
                <a:cubicBezTo>
                  <a:pt x="16462" y="7334"/>
                  <a:pt x="16454" y="7325"/>
                  <a:pt x="16446" y="7317"/>
                </a:cubicBezTo>
                <a:cubicBezTo>
                  <a:pt x="16395" y="7338"/>
                  <a:pt x="16310" y="7391"/>
                  <a:pt x="16272" y="7441"/>
                </a:cubicBezTo>
                <a:cubicBezTo>
                  <a:pt x="16224" y="7504"/>
                  <a:pt x="16204" y="7571"/>
                  <a:pt x="16247" y="7640"/>
                </a:cubicBezTo>
                <a:cubicBezTo>
                  <a:pt x="16280" y="7693"/>
                  <a:pt x="16315" y="7689"/>
                  <a:pt x="16371" y="7689"/>
                </a:cubicBezTo>
                <a:cubicBezTo>
                  <a:pt x="16408" y="7689"/>
                  <a:pt x="16442" y="7662"/>
                  <a:pt x="16470" y="7640"/>
                </a:cubicBezTo>
              </a:path>
              <a:path w="1911" h="1216">
                <a:moveTo>
                  <a:pt x="16669" y="7144"/>
                </a:moveTo>
                <a:cubicBezTo>
                  <a:pt x="16677" y="7144"/>
                  <a:pt x="16686" y="7144"/>
                  <a:pt x="16694" y="7144"/>
                </a:cubicBezTo>
                <a:cubicBezTo>
                  <a:pt x="16706" y="7106"/>
                  <a:pt x="16723" y="7119"/>
                  <a:pt x="16768" y="7119"/>
                </a:cubicBezTo>
                <a:cubicBezTo>
                  <a:pt x="16768" y="7180"/>
                  <a:pt x="16740" y="7169"/>
                  <a:pt x="16718" y="7218"/>
                </a:cubicBezTo>
                <a:cubicBezTo>
                  <a:pt x="16691" y="7278"/>
                  <a:pt x="16760" y="7293"/>
                  <a:pt x="16793" y="7317"/>
                </a:cubicBezTo>
                <a:cubicBezTo>
                  <a:pt x="16819" y="7336"/>
                  <a:pt x="16863" y="7379"/>
                  <a:pt x="16842" y="7417"/>
                </a:cubicBezTo>
                <a:cubicBezTo>
                  <a:pt x="16824" y="7449"/>
                  <a:pt x="16797" y="7459"/>
                  <a:pt x="16768" y="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18200" y="2517840"/>
            <a:ext cx="169920" cy="135000"/>
          </a:xfrm>
          <a:custGeom>
            <a:avLst/>
            <a:gdLst/>
            <a:ahLst/>
            <a:rect l="l" t="t" r="r" b="b"/>
            <a:pathLst>
              <a:path w="473" h="373">
                <a:moveTo>
                  <a:pt x="19943" y="7218"/>
                </a:moveTo>
                <a:cubicBezTo>
                  <a:pt x="19951" y="7226"/>
                  <a:pt x="19960" y="7235"/>
                  <a:pt x="19968" y="7243"/>
                </a:cubicBezTo>
                <a:cubicBezTo>
                  <a:pt x="19937" y="7233"/>
                  <a:pt x="19934" y="7202"/>
                  <a:pt x="19893" y="7193"/>
                </a:cubicBezTo>
                <a:cubicBezTo>
                  <a:pt x="19818" y="7177"/>
                  <a:pt x="19749" y="7169"/>
                  <a:pt x="19670" y="7169"/>
                </a:cubicBezTo>
                <a:cubicBezTo>
                  <a:pt x="19604" y="7169"/>
                  <a:pt x="19573" y="7161"/>
                  <a:pt x="19521" y="7144"/>
                </a:cubicBezTo>
                <a:cubicBezTo>
                  <a:pt x="19513" y="7144"/>
                  <a:pt x="19504" y="7144"/>
                  <a:pt x="19496" y="7144"/>
                </a:cubicBezTo>
              </a:path>
              <a:path w="473" h="373">
                <a:moveTo>
                  <a:pt x="19645" y="6995"/>
                </a:moveTo>
                <a:cubicBezTo>
                  <a:pt x="19670" y="6995"/>
                  <a:pt x="19678" y="6995"/>
                  <a:pt x="19695" y="6995"/>
                </a:cubicBezTo>
                <a:cubicBezTo>
                  <a:pt x="19695" y="7083"/>
                  <a:pt x="19679" y="7159"/>
                  <a:pt x="19670" y="7243"/>
                </a:cubicBezTo>
                <a:cubicBezTo>
                  <a:pt x="19670" y="7309"/>
                  <a:pt x="19670" y="7326"/>
                  <a:pt x="19670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796160" y="2394000"/>
            <a:ext cx="374760" cy="436680"/>
          </a:xfrm>
          <a:custGeom>
            <a:avLst/>
            <a:gdLst/>
            <a:ahLst/>
            <a:rect l="l" t="t" r="r" b="b"/>
            <a:pathLst>
              <a:path w="1043" h="1216">
                <a:moveTo>
                  <a:pt x="22374" y="6697"/>
                </a:moveTo>
                <a:cubicBezTo>
                  <a:pt x="22374" y="6669"/>
                  <a:pt x="22376" y="6658"/>
                  <a:pt x="22399" y="6648"/>
                </a:cubicBezTo>
                <a:cubicBezTo>
                  <a:pt x="22399" y="6705"/>
                  <a:pt x="22392" y="6769"/>
                  <a:pt x="22374" y="6821"/>
                </a:cubicBezTo>
                <a:cubicBezTo>
                  <a:pt x="22350" y="6869"/>
                  <a:pt x="22342" y="6884"/>
                  <a:pt x="22349" y="6921"/>
                </a:cubicBezTo>
              </a:path>
              <a:path w="1043" h="1216">
                <a:moveTo>
                  <a:pt x="22696" y="7218"/>
                </a:moveTo>
                <a:cubicBezTo>
                  <a:pt x="22652" y="7185"/>
                  <a:pt x="22630" y="7193"/>
                  <a:pt x="22572" y="7193"/>
                </a:cubicBezTo>
                <a:cubicBezTo>
                  <a:pt x="22476" y="7193"/>
                  <a:pt x="22370" y="7161"/>
                  <a:pt x="22275" y="7144"/>
                </a:cubicBezTo>
                <a:cubicBezTo>
                  <a:pt x="22168" y="7124"/>
                  <a:pt x="22061" y="7098"/>
                  <a:pt x="21952" y="7094"/>
                </a:cubicBezTo>
                <a:cubicBezTo>
                  <a:pt x="21898" y="7092"/>
                  <a:pt x="21842" y="7077"/>
                  <a:pt x="21828" y="7119"/>
                </a:cubicBezTo>
              </a:path>
              <a:path w="1043" h="1216">
                <a:moveTo>
                  <a:pt x="21654" y="7689"/>
                </a:moveTo>
                <a:cubicBezTo>
                  <a:pt x="21713" y="7689"/>
                  <a:pt x="21754" y="7691"/>
                  <a:pt x="21803" y="7665"/>
                </a:cubicBezTo>
                <a:cubicBezTo>
                  <a:pt x="21862" y="7634"/>
                  <a:pt x="21896" y="7612"/>
                  <a:pt x="21903" y="7541"/>
                </a:cubicBezTo>
                <a:cubicBezTo>
                  <a:pt x="21907" y="7499"/>
                  <a:pt x="21902" y="7498"/>
                  <a:pt x="21878" y="7466"/>
                </a:cubicBezTo>
                <a:cubicBezTo>
                  <a:pt x="21818" y="7490"/>
                  <a:pt x="21763" y="7532"/>
                  <a:pt x="21729" y="7590"/>
                </a:cubicBezTo>
                <a:cubicBezTo>
                  <a:pt x="21690" y="7656"/>
                  <a:pt x="21697" y="7756"/>
                  <a:pt x="21754" y="7813"/>
                </a:cubicBezTo>
                <a:cubicBezTo>
                  <a:pt x="21796" y="7856"/>
                  <a:pt x="21894" y="7879"/>
                  <a:pt x="21952" y="7863"/>
                </a:cubicBezTo>
                <a:cubicBezTo>
                  <a:pt x="21997" y="7850"/>
                  <a:pt x="22020" y="7820"/>
                  <a:pt x="22051" y="7789"/>
                </a:cubicBezTo>
              </a:path>
              <a:path w="1043" h="1216">
                <a:moveTo>
                  <a:pt x="22299" y="7317"/>
                </a:moveTo>
                <a:cubicBezTo>
                  <a:pt x="22299" y="7371"/>
                  <a:pt x="22288" y="7389"/>
                  <a:pt x="22275" y="7441"/>
                </a:cubicBezTo>
                <a:cubicBezTo>
                  <a:pt x="22268" y="7471"/>
                  <a:pt x="22268" y="7525"/>
                  <a:pt x="22299" y="7541"/>
                </a:cubicBezTo>
                <a:cubicBezTo>
                  <a:pt x="22343" y="7564"/>
                  <a:pt x="22489" y="7543"/>
                  <a:pt x="22498" y="7516"/>
                </a:cubicBezTo>
              </a:path>
              <a:path w="1043" h="1216">
                <a:moveTo>
                  <a:pt x="22423" y="7466"/>
                </a:moveTo>
                <a:cubicBezTo>
                  <a:pt x="22399" y="7466"/>
                  <a:pt x="22390" y="7466"/>
                  <a:pt x="22374" y="7466"/>
                </a:cubicBezTo>
                <a:cubicBezTo>
                  <a:pt x="22364" y="7505"/>
                  <a:pt x="22349" y="7521"/>
                  <a:pt x="22349" y="7565"/>
                </a:cubicBezTo>
                <a:cubicBezTo>
                  <a:pt x="22349" y="7590"/>
                  <a:pt x="22349" y="7598"/>
                  <a:pt x="22349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7680" y="3098880"/>
            <a:ext cx="527040" cy="214200"/>
          </a:xfrm>
          <a:custGeom>
            <a:avLst/>
            <a:gdLst/>
            <a:ahLst/>
            <a:rect l="l" t="t" r="r" b="b"/>
            <a:pathLst>
              <a:path w="1464" h="597">
                <a:moveTo>
                  <a:pt x="1761" y="8905"/>
                </a:moveTo>
                <a:cubicBezTo>
                  <a:pt x="1731" y="8882"/>
                  <a:pt x="1680" y="8862"/>
                  <a:pt x="1637" y="8880"/>
                </a:cubicBezTo>
                <a:cubicBezTo>
                  <a:pt x="1586" y="8901"/>
                  <a:pt x="1551" y="8905"/>
                  <a:pt x="1488" y="8905"/>
                </a:cubicBezTo>
                <a:cubicBezTo>
                  <a:pt x="1463" y="8905"/>
                  <a:pt x="1455" y="8905"/>
                  <a:pt x="1439" y="8905"/>
                </a:cubicBezTo>
              </a:path>
              <a:path w="1464" h="597">
                <a:moveTo>
                  <a:pt x="1712" y="9029"/>
                </a:moveTo>
                <a:cubicBezTo>
                  <a:pt x="1720" y="9029"/>
                  <a:pt x="1728" y="9029"/>
                  <a:pt x="1736" y="9029"/>
                </a:cubicBezTo>
                <a:cubicBezTo>
                  <a:pt x="1729" y="9052"/>
                  <a:pt x="1694" y="9068"/>
                  <a:pt x="1662" y="9079"/>
                </a:cubicBezTo>
                <a:cubicBezTo>
                  <a:pt x="1627" y="9079"/>
                  <a:pt x="1610" y="9083"/>
                  <a:pt x="1588" y="9103"/>
                </a:cubicBezTo>
              </a:path>
              <a:path w="1464" h="597">
                <a:moveTo>
                  <a:pt x="2084" y="9029"/>
                </a:moveTo>
                <a:cubicBezTo>
                  <a:pt x="2104" y="9036"/>
                  <a:pt x="2122" y="9074"/>
                  <a:pt x="2158" y="9054"/>
                </a:cubicBezTo>
                <a:cubicBezTo>
                  <a:pt x="2199" y="9031"/>
                  <a:pt x="2225" y="8965"/>
                  <a:pt x="2232" y="8930"/>
                </a:cubicBezTo>
                <a:cubicBezTo>
                  <a:pt x="2242" y="8880"/>
                  <a:pt x="2238" y="8834"/>
                  <a:pt x="2183" y="8830"/>
                </a:cubicBezTo>
                <a:cubicBezTo>
                  <a:pt x="2105" y="8824"/>
                  <a:pt x="2072" y="8935"/>
                  <a:pt x="2059" y="9004"/>
                </a:cubicBezTo>
                <a:cubicBezTo>
                  <a:pt x="2046" y="9074"/>
                  <a:pt x="2104" y="9142"/>
                  <a:pt x="2158" y="9178"/>
                </a:cubicBezTo>
                <a:cubicBezTo>
                  <a:pt x="2207" y="9211"/>
                  <a:pt x="2259" y="9207"/>
                  <a:pt x="2307" y="9178"/>
                </a:cubicBezTo>
                <a:cubicBezTo>
                  <a:pt x="2343" y="9157"/>
                  <a:pt x="2372" y="9114"/>
                  <a:pt x="2381" y="9079"/>
                </a:cubicBezTo>
              </a:path>
              <a:path w="1464" h="597">
                <a:moveTo>
                  <a:pt x="2555" y="8607"/>
                </a:moveTo>
                <a:cubicBezTo>
                  <a:pt x="2563" y="8607"/>
                  <a:pt x="2572" y="8607"/>
                  <a:pt x="2580" y="8607"/>
                </a:cubicBezTo>
                <a:cubicBezTo>
                  <a:pt x="2580" y="8657"/>
                  <a:pt x="2580" y="8706"/>
                  <a:pt x="2580" y="8756"/>
                </a:cubicBezTo>
                <a:cubicBezTo>
                  <a:pt x="2625" y="8768"/>
                  <a:pt x="2650" y="8781"/>
                  <a:pt x="2704" y="8781"/>
                </a:cubicBezTo>
                <a:cubicBezTo>
                  <a:pt x="2720" y="8781"/>
                  <a:pt x="2787" y="8765"/>
                  <a:pt x="2803" y="8756"/>
                </a:cubicBezTo>
                <a:cubicBezTo>
                  <a:pt x="2840" y="8735"/>
                  <a:pt x="2861" y="8716"/>
                  <a:pt x="2902" y="8706"/>
                </a:cubicBezTo>
              </a:path>
              <a:path w="1464" h="597">
                <a:moveTo>
                  <a:pt x="2778" y="8682"/>
                </a:moveTo>
                <a:cubicBezTo>
                  <a:pt x="2778" y="8735"/>
                  <a:pt x="2794" y="8756"/>
                  <a:pt x="2803" y="8806"/>
                </a:cubicBezTo>
                <a:cubicBezTo>
                  <a:pt x="2803" y="8822"/>
                  <a:pt x="2803" y="8839"/>
                  <a:pt x="2803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12920" y="3241800"/>
            <a:ext cx="71280" cy="810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3820" y="9128"/>
                </a:moveTo>
                <a:cubicBezTo>
                  <a:pt x="3828" y="9120"/>
                  <a:pt x="3837" y="9111"/>
                  <a:pt x="3845" y="9103"/>
                </a:cubicBezTo>
                <a:cubicBezTo>
                  <a:pt x="3782" y="9103"/>
                  <a:pt x="3748" y="9111"/>
                  <a:pt x="3696" y="9128"/>
                </a:cubicBezTo>
                <a:cubicBezTo>
                  <a:pt x="3656" y="9141"/>
                  <a:pt x="3686" y="9140"/>
                  <a:pt x="3646" y="9153"/>
                </a:cubicBezTo>
              </a:path>
              <a:path w="200" h="224">
                <a:moveTo>
                  <a:pt x="3696" y="9029"/>
                </a:moveTo>
                <a:cubicBezTo>
                  <a:pt x="3719" y="9006"/>
                  <a:pt x="3723" y="8998"/>
                  <a:pt x="3746" y="9004"/>
                </a:cubicBezTo>
                <a:cubicBezTo>
                  <a:pt x="3746" y="9061"/>
                  <a:pt x="3753" y="9126"/>
                  <a:pt x="3770" y="9178"/>
                </a:cubicBezTo>
                <a:cubicBezTo>
                  <a:pt x="3778" y="9194"/>
                  <a:pt x="3787" y="9211"/>
                  <a:pt x="3795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776240" y="2973240"/>
            <a:ext cx="250920" cy="492120"/>
          </a:xfrm>
          <a:custGeom>
            <a:avLst/>
            <a:gdLst/>
            <a:ahLst/>
            <a:rect l="l" t="t" r="r" b="b"/>
            <a:pathLst>
              <a:path w="696" h="1365">
                <a:moveTo>
                  <a:pt x="5060" y="8310"/>
                </a:moveTo>
                <a:cubicBezTo>
                  <a:pt x="5060" y="8285"/>
                  <a:pt x="5060" y="8277"/>
                  <a:pt x="5085" y="8285"/>
                </a:cubicBezTo>
                <a:cubicBezTo>
                  <a:pt x="5085" y="8224"/>
                  <a:pt x="5062" y="8392"/>
                  <a:pt x="5060" y="8409"/>
                </a:cubicBezTo>
                <a:cubicBezTo>
                  <a:pt x="5048" y="8500"/>
                  <a:pt x="5066" y="8575"/>
                  <a:pt x="5085" y="8657"/>
                </a:cubicBezTo>
                <a:cubicBezTo>
                  <a:pt x="5099" y="8717"/>
                  <a:pt x="5125" y="8706"/>
                  <a:pt x="5184" y="8706"/>
                </a:cubicBezTo>
                <a:cubicBezTo>
                  <a:pt x="5237" y="8706"/>
                  <a:pt x="5284" y="8676"/>
                  <a:pt x="5333" y="8657"/>
                </a:cubicBezTo>
                <a:cubicBezTo>
                  <a:pt x="5386" y="8636"/>
                  <a:pt x="5402" y="8632"/>
                  <a:pt x="5457" y="8632"/>
                </a:cubicBezTo>
              </a:path>
              <a:path w="696" h="1365">
                <a:moveTo>
                  <a:pt x="5283" y="8483"/>
                </a:moveTo>
                <a:cubicBezTo>
                  <a:pt x="5240" y="8498"/>
                  <a:pt x="5259" y="8555"/>
                  <a:pt x="5259" y="8607"/>
                </a:cubicBezTo>
                <a:cubicBezTo>
                  <a:pt x="5259" y="8683"/>
                  <a:pt x="5258" y="8713"/>
                  <a:pt x="5283" y="8781"/>
                </a:cubicBezTo>
              </a:path>
              <a:path w="696" h="1365">
                <a:moveTo>
                  <a:pt x="5581" y="8954"/>
                </a:moveTo>
                <a:cubicBezTo>
                  <a:pt x="5568" y="8918"/>
                  <a:pt x="5551" y="8930"/>
                  <a:pt x="5507" y="8930"/>
                </a:cubicBezTo>
                <a:cubicBezTo>
                  <a:pt x="5401" y="8930"/>
                  <a:pt x="5308" y="8939"/>
                  <a:pt x="5209" y="8954"/>
                </a:cubicBezTo>
                <a:cubicBezTo>
                  <a:pt x="5148" y="8963"/>
                  <a:pt x="5087" y="8993"/>
                  <a:pt x="5035" y="9004"/>
                </a:cubicBezTo>
                <a:cubicBezTo>
                  <a:pt x="4974" y="9016"/>
                  <a:pt x="4997" y="9029"/>
                  <a:pt x="4936" y="9029"/>
                </a:cubicBezTo>
              </a:path>
              <a:path w="696" h="1365">
                <a:moveTo>
                  <a:pt x="4961" y="9475"/>
                </a:moveTo>
                <a:cubicBezTo>
                  <a:pt x="5010" y="9475"/>
                  <a:pt x="5020" y="9464"/>
                  <a:pt x="5060" y="9451"/>
                </a:cubicBezTo>
                <a:cubicBezTo>
                  <a:pt x="5132" y="9428"/>
                  <a:pt x="5107" y="9409"/>
                  <a:pt x="5135" y="9351"/>
                </a:cubicBezTo>
                <a:cubicBezTo>
                  <a:pt x="5154" y="9313"/>
                  <a:pt x="5159" y="9322"/>
                  <a:pt x="5159" y="9277"/>
                </a:cubicBezTo>
                <a:cubicBezTo>
                  <a:pt x="5109" y="9277"/>
                  <a:pt x="5101" y="9278"/>
                  <a:pt x="5060" y="9302"/>
                </a:cubicBezTo>
                <a:cubicBezTo>
                  <a:pt x="4988" y="9344"/>
                  <a:pt x="4986" y="9371"/>
                  <a:pt x="4986" y="9451"/>
                </a:cubicBezTo>
                <a:cubicBezTo>
                  <a:pt x="4986" y="9517"/>
                  <a:pt x="4989" y="9548"/>
                  <a:pt x="5035" y="9599"/>
                </a:cubicBezTo>
                <a:cubicBezTo>
                  <a:pt x="5059" y="9626"/>
                  <a:pt x="5123" y="9639"/>
                  <a:pt x="5159" y="9624"/>
                </a:cubicBezTo>
                <a:cubicBezTo>
                  <a:pt x="5185" y="9613"/>
                  <a:pt x="5211" y="9592"/>
                  <a:pt x="5234" y="9575"/>
                </a:cubicBezTo>
              </a:path>
              <a:path w="696" h="1365">
                <a:moveTo>
                  <a:pt x="5407" y="9178"/>
                </a:moveTo>
                <a:cubicBezTo>
                  <a:pt x="5399" y="9178"/>
                  <a:pt x="5391" y="9178"/>
                  <a:pt x="5383" y="9178"/>
                </a:cubicBezTo>
                <a:cubicBezTo>
                  <a:pt x="5396" y="9138"/>
                  <a:pt x="5422" y="9151"/>
                  <a:pt x="5457" y="9128"/>
                </a:cubicBezTo>
                <a:cubicBezTo>
                  <a:pt x="5480" y="9105"/>
                  <a:pt x="5484" y="9097"/>
                  <a:pt x="5507" y="9103"/>
                </a:cubicBezTo>
                <a:cubicBezTo>
                  <a:pt x="5507" y="9149"/>
                  <a:pt x="5487" y="9162"/>
                  <a:pt x="5482" y="9203"/>
                </a:cubicBezTo>
                <a:cubicBezTo>
                  <a:pt x="5477" y="9249"/>
                  <a:pt x="5471" y="9290"/>
                  <a:pt x="5507" y="9302"/>
                </a:cubicBezTo>
                <a:cubicBezTo>
                  <a:pt x="5530" y="9294"/>
                  <a:pt x="5554" y="9270"/>
                  <a:pt x="5581" y="9252"/>
                </a:cubicBezTo>
                <a:cubicBezTo>
                  <a:pt x="5604" y="9229"/>
                  <a:pt x="5608" y="9221"/>
                  <a:pt x="5631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374920" y="3276720"/>
            <a:ext cx="90360" cy="117360"/>
          </a:xfrm>
          <a:custGeom>
            <a:avLst/>
            <a:gdLst/>
            <a:ahLst/>
            <a:rect l="l" t="t" r="r" b="b"/>
            <a:pathLst>
              <a:path w="249" h="324">
                <a:moveTo>
                  <a:pt x="6821" y="9252"/>
                </a:moveTo>
                <a:cubicBezTo>
                  <a:pt x="6829" y="9244"/>
                  <a:pt x="6838" y="9235"/>
                  <a:pt x="6846" y="9227"/>
                </a:cubicBezTo>
                <a:cubicBezTo>
                  <a:pt x="6763" y="9227"/>
                  <a:pt x="6681" y="9227"/>
                  <a:pt x="6598" y="9227"/>
                </a:cubicBezTo>
              </a:path>
              <a:path w="249" h="324">
                <a:moveTo>
                  <a:pt x="6648" y="9128"/>
                </a:moveTo>
                <a:cubicBezTo>
                  <a:pt x="6656" y="9120"/>
                  <a:pt x="6664" y="9111"/>
                  <a:pt x="6672" y="9103"/>
                </a:cubicBezTo>
                <a:cubicBezTo>
                  <a:pt x="6672" y="9160"/>
                  <a:pt x="6688" y="9200"/>
                  <a:pt x="6697" y="9252"/>
                </a:cubicBezTo>
                <a:cubicBezTo>
                  <a:pt x="6707" y="9310"/>
                  <a:pt x="6715" y="9367"/>
                  <a:pt x="6722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32040" y="3187800"/>
            <a:ext cx="117360" cy="24120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7739" y="8905"/>
                </a:moveTo>
                <a:cubicBezTo>
                  <a:pt x="7752" y="8865"/>
                  <a:pt x="7751" y="8895"/>
                  <a:pt x="7764" y="8855"/>
                </a:cubicBezTo>
                <a:cubicBezTo>
                  <a:pt x="7713" y="8855"/>
                  <a:pt x="7714" y="8861"/>
                  <a:pt x="7689" y="8905"/>
                </a:cubicBezTo>
                <a:cubicBezTo>
                  <a:pt x="7664" y="8949"/>
                  <a:pt x="7626" y="9031"/>
                  <a:pt x="7615" y="9079"/>
                </a:cubicBezTo>
                <a:cubicBezTo>
                  <a:pt x="7599" y="9152"/>
                  <a:pt x="7590" y="9226"/>
                  <a:pt x="7590" y="9302"/>
                </a:cubicBezTo>
                <a:cubicBezTo>
                  <a:pt x="7590" y="9373"/>
                  <a:pt x="7610" y="9411"/>
                  <a:pt x="7615" y="9475"/>
                </a:cubicBezTo>
                <a:cubicBezTo>
                  <a:pt x="7618" y="9505"/>
                  <a:pt x="7654" y="9521"/>
                  <a:pt x="7689" y="9525"/>
                </a:cubicBezTo>
                <a:cubicBezTo>
                  <a:pt x="7742" y="9531"/>
                  <a:pt x="7798" y="9532"/>
                  <a:pt x="7838" y="9500"/>
                </a:cubicBezTo>
                <a:cubicBezTo>
                  <a:pt x="7868" y="9476"/>
                  <a:pt x="7902" y="9434"/>
                  <a:pt x="7913" y="9401"/>
                </a:cubicBezTo>
                <a:cubicBezTo>
                  <a:pt x="7926" y="9363"/>
                  <a:pt x="7911" y="9328"/>
                  <a:pt x="7888" y="9302"/>
                </a:cubicBezTo>
                <a:cubicBezTo>
                  <a:pt x="7858" y="9268"/>
                  <a:pt x="7855" y="9224"/>
                  <a:pt x="7789" y="9252"/>
                </a:cubicBezTo>
                <a:cubicBezTo>
                  <a:pt x="7734" y="9275"/>
                  <a:pt x="7683" y="9333"/>
                  <a:pt x="7640" y="9376"/>
                </a:cubicBezTo>
                <a:cubicBezTo>
                  <a:pt x="7617" y="9399"/>
                  <a:pt x="7609" y="9403"/>
                  <a:pt x="7615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0080" y="3367080"/>
            <a:ext cx="133200" cy="71280"/>
          </a:xfrm>
          <a:custGeom>
            <a:avLst/>
            <a:gdLst/>
            <a:ahLst/>
            <a:rect l="l" t="t" r="r" b="b"/>
            <a:pathLst>
              <a:path w="373" h="200">
                <a:moveTo>
                  <a:pt x="9624" y="9426"/>
                </a:moveTo>
                <a:cubicBezTo>
                  <a:pt x="9632" y="9418"/>
                  <a:pt x="9641" y="9409"/>
                  <a:pt x="9649" y="9401"/>
                </a:cubicBezTo>
                <a:cubicBezTo>
                  <a:pt x="9559" y="9401"/>
                  <a:pt x="9486" y="9406"/>
                  <a:pt x="9401" y="9426"/>
                </a:cubicBezTo>
                <a:cubicBezTo>
                  <a:pt x="9360" y="9436"/>
                  <a:pt x="9318" y="9443"/>
                  <a:pt x="9277" y="9451"/>
                </a:cubicBezTo>
              </a:path>
              <a:path w="373" h="200">
                <a:moveTo>
                  <a:pt x="9426" y="9351"/>
                </a:moveTo>
                <a:cubicBezTo>
                  <a:pt x="9475" y="9383"/>
                  <a:pt x="9434" y="9436"/>
                  <a:pt x="9451" y="9500"/>
                </a:cubicBezTo>
                <a:cubicBezTo>
                  <a:pt x="9459" y="9517"/>
                  <a:pt x="9467" y="9533"/>
                  <a:pt x="9475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48040" y="3197160"/>
            <a:ext cx="322200" cy="463680"/>
          </a:xfrm>
          <a:custGeom>
            <a:avLst/>
            <a:gdLst/>
            <a:ahLst/>
            <a:rect l="l" t="t" r="r" b="b"/>
            <a:pathLst>
              <a:path w="894" h="1291">
                <a:moveTo>
                  <a:pt x="10864" y="8880"/>
                </a:moveTo>
                <a:cubicBezTo>
                  <a:pt x="10864" y="8963"/>
                  <a:pt x="10846" y="9024"/>
                  <a:pt x="10840" y="9103"/>
                </a:cubicBezTo>
                <a:cubicBezTo>
                  <a:pt x="10834" y="9181"/>
                  <a:pt x="10837" y="9197"/>
                  <a:pt x="10914" y="9203"/>
                </a:cubicBezTo>
                <a:cubicBezTo>
                  <a:pt x="10979" y="9208"/>
                  <a:pt x="11026" y="9183"/>
                  <a:pt x="11088" y="9178"/>
                </a:cubicBezTo>
                <a:cubicBezTo>
                  <a:pt x="11129" y="9175"/>
                  <a:pt x="11171" y="9178"/>
                  <a:pt x="11212" y="9178"/>
                </a:cubicBezTo>
              </a:path>
              <a:path w="894" h="1291">
                <a:moveTo>
                  <a:pt x="11063" y="9103"/>
                </a:moveTo>
                <a:cubicBezTo>
                  <a:pt x="11023" y="9116"/>
                  <a:pt x="11038" y="9152"/>
                  <a:pt x="11038" y="9203"/>
                </a:cubicBezTo>
                <a:cubicBezTo>
                  <a:pt x="11038" y="9264"/>
                  <a:pt x="11038" y="9302"/>
                  <a:pt x="11063" y="9351"/>
                </a:cubicBezTo>
              </a:path>
              <a:path w="894" h="1291">
                <a:moveTo>
                  <a:pt x="11584" y="9426"/>
                </a:moveTo>
                <a:cubicBezTo>
                  <a:pt x="11534" y="9413"/>
                  <a:pt x="11520" y="9401"/>
                  <a:pt x="11460" y="9401"/>
                </a:cubicBezTo>
                <a:cubicBezTo>
                  <a:pt x="11350" y="9401"/>
                  <a:pt x="11245" y="9441"/>
                  <a:pt x="11137" y="9451"/>
                </a:cubicBezTo>
                <a:cubicBezTo>
                  <a:pt x="11035" y="9460"/>
                  <a:pt x="10934" y="9460"/>
                  <a:pt x="10840" y="9500"/>
                </a:cubicBezTo>
                <a:cubicBezTo>
                  <a:pt x="10785" y="9523"/>
                  <a:pt x="10750" y="9525"/>
                  <a:pt x="10691" y="9525"/>
                </a:cubicBezTo>
              </a:path>
              <a:path w="894" h="1291">
                <a:moveTo>
                  <a:pt x="10790" y="10046"/>
                </a:moveTo>
                <a:cubicBezTo>
                  <a:pt x="10804" y="10088"/>
                  <a:pt x="10830" y="10077"/>
                  <a:pt x="10864" y="10046"/>
                </a:cubicBezTo>
                <a:cubicBezTo>
                  <a:pt x="10896" y="10017"/>
                  <a:pt x="10936" y="9962"/>
                  <a:pt x="10939" y="9922"/>
                </a:cubicBezTo>
                <a:cubicBezTo>
                  <a:pt x="10943" y="9871"/>
                  <a:pt x="10953" y="9866"/>
                  <a:pt x="10964" y="9823"/>
                </a:cubicBezTo>
                <a:cubicBezTo>
                  <a:pt x="10927" y="9823"/>
                  <a:pt x="10888" y="9811"/>
                  <a:pt x="10864" y="9847"/>
                </a:cubicBezTo>
                <a:cubicBezTo>
                  <a:pt x="10812" y="9924"/>
                  <a:pt x="10790" y="9922"/>
                  <a:pt x="10790" y="10021"/>
                </a:cubicBezTo>
                <a:cubicBezTo>
                  <a:pt x="10790" y="10094"/>
                  <a:pt x="10816" y="10145"/>
                  <a:pt x="10889" y="10170"/>
                </a:cubicBezTo>
                <a:cubicBezTo>
                  <a:pt x="10934" y="10185"/>
                  <a:pt x="10982" y="10173"/>
                  <a:pt x="11013" y="10145"/>
                </a:cubicBezTo>
                <a:cubicBezTo>
                  <a:pt x="11021" y="10137"/>
                  <a:pt x="11030" y="10128"/>
                  <a:pt x="11038" y="10120"/>
                </a:cubicBezTo>
              </a:path>
              <a:path w="894" h="1291">
                <a:moveTo>
                  <a:pt x="11385" y="9748"/>
                </a:moveTo>
                <a:cubicBezTo>
                  <a:pt x="11377" y="9748"/>
                  <a:pt x="11369" y="9748"/>
                  <a:pt x="11361" y="9748"/>
                </a:cubicBezTo>
                <a:cubicBezTo>
                  <a:pt x="11398" y="9719"/>
                  <a:pt x="11412" y="9723"/>
                  <a:pt x="11460" y="9723"/>
                </a:cubicBezTo>
                <a:cubicBezTo>
                  <a:pt x="11460" y="9780"/>
                  <a:pt x="11450" y="9801"/>
                  <a:pt x="11435" y="9847"/>
                </a:cubicBezTo>
                <a:cubicBezTo>
                  <a:pt x="11420" y="9891"/>
                  <a:pt x="11445" y="9917"/>
                  <a:pt x="11485" y="9922"/>
                </a:cubicBezTo>
                <a:cubicBezTo>
                  <a:pt x="11513" y="9922"/>
                  <a:pt x="11523" y="9919"/>
                  <a:pt x="11534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527720" y="3384720"/>
            <a:ext cx="88560" cy="8064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2824" y="9475"/>
                </a:moveTo>
                <a:cubicBezTo>
                  <a:pt x="12771" y="9475"/>
                  <a:pt x="12751" y="9491"/>
                  <a:pt x="12700" y="9500"/>
                </a:cubicBezTo>
                <a:cubicBezTo>
                  <a:pt x="12689" y="9502"/>
                  <a:pt x="12584" y="9515"/>
                  <a:pt x="12576" y="9525"/>
                </a:cubicBezTo>
                <a:cubicBezTo>
                  <a:pt x="12576" y="9533"/>
                  <a:pt x="12576" y="9542"/>
                  <a:pt x="12576" y="9550"/>
                </a:cubicBezTo>
              </a:path>
              <a:path w="249" h="224">
                <a:moveTo>
                  <a:pt x="12601" y="9426"/>
                </a:moveTo>
                <a:cubicBezTo>
                  <a:pt x="12623" y="9404"/>
                  <a:pt x="12628" y="9395"/>
                  <a:pt x="12650" y="9401"/>
                </a:cubicBezTo>
                <a:cubicBezTo>
                  <a:pt x="12659" y="9464"/>
                  <a:pt x="12689" y="9510"/>
                  <a:pt x="12700" y="9575"/>
                </a:cubicBezTo>
                <a:cubicBezTo>
                  <a:pt x="12700" y="9591"/>
                  <a:pt x="12700" y="9608"/>
                  <a:pt x="12700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964040" y="3340080"/>
            <a:ext cx="314280" cy="438120"/>
          </a:xfrm>
          <a:custGeom>
            <a:avLst/>
            <a:gdLst/>
            <a:ahLst/>
            <a:rect l="l" t="t" r="r" b="b"/>
            <a:pathLst>
              <a:path w="870" h="1216">
                <a:moveTo>
                  <a:pt x="13990" y="9277"/>
                </a:moveTo>
                <a:cubicBezTo>
                  <a:pt x="14064" y="9296"/>
                  <a:pt x="14039" y="9357"/>
                  <a:pt x="14039" y="9426"/>
                </a:cubicBezTo>
                <a:cubicBezTo>
                  <a:pt x="14039" y="9502"/>
                  <a:pt x="14038" y="9531"/>
                  <a:pt x="14064" y="9599"/>
                </a:cubicBezTo>
              </a:path>
              <a:path w="870" h="1216">
                <a:moveTo>
                  <a:pt x="14610" y="9699"/>
                </a:moveTo>
                <a:cubicBezTo>
                  <a:pt x="14618" y="9707"/>
                  <a:pt x="14627" y="9715"/>
                  <a:pt x="14635" y="9723"/>
                </a:cubicBezTo>
                <a:cubicBezTo>
                  <a:pt x="14557" y="9723"/>
                  <a:pt x="14490" y="9745"/>
                  <a:pt x="14412" y="9748"/>
                </a:cubicBezTo>
                <a:cubicBezTo>
                  <a:pt x="14288" y="9753"/>
                  <a:pt x="14160" y="9749"/>
                  <a:pt x="14039" y="9773"/>
                </a:cubicBezTo>
                <a:cubicBezTo>
                  <a:pt x="13961" y="9788"/>
                  <a:pt x="13894" y="9817"/>
                  <a:pt x="13816" y="9823"/>
                </a:cubicBezTo>
                <a:cubicBezTo>
                  <a:pt x="13808" y="9823"/>
                  <a:pt x="13799" y="9823"/>
                  <a:pt x="13791" y="9823"/>
                </a:cubicBezTo>
              </a:path>
              <a:path w="870" h="1216">
                <a:moveTo>
                  <a:pt x="13816" y="10294"/>
                </a:moveTo>
                <a:cubicBezTo>
                  <a:pt x="13841" y="10338"/>
                  <a:pt x="13873" y="10416"/>
                  <a:pt x="13940" y="10393"/>
                </a:cubicBezTo>
                <a:cubicBezTo>
                  <a:pt x="14008" y="10370"/>
                  <a:pt x="14049" y="10255"/>
                  <a:pt x="14064" y="10195"/>
                </a:cubicBezTo>
                <a:cubicBezTo>
                  <a:pt x="14064" y="10170"/>
                  <a:pt x="14064" y="10162"/>
                  <a:pt x="14064" y="10145"/>
                </a:cubicBezTo>
                <a:cubicBezTo>
                  <a:pt x="13981" y="10145"/>
                  <a:pt x="13971" y="10164"/>
                  <a:pt x="13940" y="10244"/>
                </a:cubicBezTo>
                <a:cubicBezTo>
                  <a:pt x="13918" y="10301"/>
                  <a:pt x="13886" y="10415"/>
                  <a:pt x="13940" y="10468"/>
                </a:cubicBezTo>
                <a:cubicBezTo>
                  <a:pt x="13993" y="10520"/>
                  <a:pt x="14106" y="10489"/>
                  <a:pt x="14163" y="10468"/>
                </a:cubicBezTo>
                <a:cubicBezTo>
                  <a:pt x="14180" y="10460"/>
                  <a:pt x="14196" y="10451"/>
                  <a:pt x="14213" y="10443"/>
                </a:cubicBezTo>
              </a:path>
              <a:path w="870" h="1216">
                <a:moveTo>
                  <a:pt x="14362" y="9971"/>
                </a:moveTo>
                <a:cubicBezTo>
                  <a:pt x="14370" y="9971"/>
                  <a:pt x="14379" y="9971"/>
                  <a:pt x="14387" y="9971"/>
                </a:cubicBezTo>
                <a:cubicBezTo>
                  <a:pt x="14358" y="10009"/>
                  <a:pt x="14362" y="10022"/>
                  <a:pt x="14362" y="10071"/>
                </a:cubicBezTo>
                <a:cubicBezTo>
                  <a:pt x="14362" y="10112"/>
                  <a:pt x="14362" y="10120"/>
                  <a:pt x="14362" y="10145"/>
                </a:cubicBezTo>
                <a:cubicBezTo>
                  <a:pt x="14413" y="10158"/>
                  <a:pt x="14425" y="10170"/>
                  <a:pt x="14486" y="10170"/>
                </a:cubicBezTo>
                <a:cubicBezTo>
                  <a:pt x="14533" y="10170"/>
                  <a:pt x="14565" y="10150"/>
                  <a:pt x="14610" y="10145"/>
                </a:cubicBezTo>
                <a:cubicBezTo>
                  <a:pt x="14635" y="10145"/>
                  <a:pt x="14643" y="10145"/>
                  <a:pt x="14660" y="10145"/>
                </a:cubicBezTo>
              </a:path>
              <a:path w="870" h="1216">
                <a:moveTo>
                  <a:pt x="14585" y="10096"/>
                </a:moveTo>
                <a:cubicBezTo>
                  <a:pt x="14503" y="10072"/>
                  <a:pt x="14511" y="10086"/>
                  <a:pt x="14511" y="10170"/>
                </a:cubicBezTo>
                <a:cubicBezTo>
                  <a:pt x="14511" y="10236"/>
                  <a:pt x="14511" y="10253"/>
                  <a:pt x="14511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758960" y="3044880"/>
            <a:ext cx="428760" cy="465120"/>
          </a:xfrm>
          <a:custGeom>
            <a:avLst/>
            <a:gdLst/>
            <a:ahLst/>
            <a:rect l="l" t="t" r="r" b="b"/>
            <a:pathLst>
              <a:path w="1191" h="1291">
                <a:moveTo>
                  <a:pt x="5333" y="8905"/>
                </a:moveTo>
                <a:cubicBezTo>
                  <a:pt x="5374" y="8913"/>
                  <a:pt x="5437" y="8933"/>
                  <a:pt x="5457" y="8979"/>
                </a:cubicBezTo>
                <a:cubicBezTo>
                  <a:pt x="5482" y="9036"/>
                  <a:pt x="5472" y="8989"/>
                  <a:pt x="5457" y="8954"/>
                </a:cubicBezTo>
                <a:cubicBezTo>
                  <a:pt x="5437" y="8914"/>
                  <a:pt x="5428" y="8908"/>
                  <a:pt x="5432" y="8880"/>
                </a:cubicBezTo>
                <a:cubicBezTo>
                  <a:pt x="5480" y="8939"/>
                  <a:pt x="5530" y="9032"/>
                  <a:pt x="5556" y="9103"/>
                </a:cubicBezTo>
                <a:cubicBezTo>
                  <a:pt x="5585" y="9182"/>
                  <a:pt x="5605" y="9273"/>
                  <a:pt x="5631" y="9351"/>
                </a:cubicBezTo>
                <a:cubicBezTo>
                  <a:pt x="5555" y="9330"/>
                  <a:pt x="5537" y="9289"/>
                  <a:pt x="5482" y="9227"/>
                </a:cubicBezTo>
                <a:cubicBezTo>
                  <a:pt x="5444" y="9185"/>
                  <a:pt x="5417" y="9147"/>
                  <a:pt x="5383" y="9103"/>
                </a:cubicBezTo>
                <a:cubicBezTo>
                  <a:pt x="5397" y="9177"/>
                  <a:pt x="5418" y="9252"/>
                  <a:pt x="5432" y="9327"/>
                </a:cubicBezTo>
                <a:cubicBezTo>
                  <a:pt x="5450" y="9420"/>
                  <a:pt x="5504" y="9471"/>
                  <a:pt x="5457" y="9550"/>
                </a:cubicBezTo>
                <a:cubicBezTo>
                  <a:pt x="5386" y="9493"/>
                  <a:pt x="5344" y="9445"/>
                  <a:pt x="5283" y="9376"/>
                </a:cubicBezTo>
                <a:cubicBezTo>
                  <a:pt x="5231" y="9318"/>
                  <a:pt x="5187" y="9265"/>
                  <a:pt x="5135" y="9227"/>
                </a:cubicBezTo>
                <a:cubicBezTo>
                  <a:pt x="5135" y="9307"/>
                  <a:pt x="5146" y="9397"/>
                  <a:pt x="5159" y="9475"/>
                </a:cubicBezTo>
                <a:cubicBezTo>
                  <a:pt x="5176" y="9573"/>
                  <a:pt x="5236" y="9661"/>
                  <a:pt x="5184" y="9748"/>
                </a:cubicBezTo>
                <a:cubicBezTo>
                  <a:pt x="5120" y="9684"/>
                  <a:pt x="5031" y="9601"/>
                  <a:pt x="4986" y="9525"/>
                </a:cubicBezTo>
                <a:cubicBezTo>
                  <a:pt x="4950" y="9465"/>
                  <a:pt x="4933" y="9408"/>
                  <a:pt x="4887" y="9351"/>
                </a:cubicBezTo>
                <a:cubicBezTo>
                  <a:pt x="4887" y="9449"/>
                  <a:pt x="4908" y="9529"/>
                  <a:pt x="4936" y="9624"/>
                </a:cubicBezTo>
                <a:cubicBezTo>
                  <a:pt x="4958" y="9691"/>
                  <a:pt x="4963" y="9709"/>
                  <a:pt x="4986" y="9748"/>
                </a:cubicBezTo>
              </a:path>
              <a:path w="1191" h="1291">
                <a:moveTo>
                  <a:pt x="5730" y="8781"/>
                </a:moveTo>
                <a:cubicBezTo>
                  <a:pt x="5730" y="8789"/>
                  <a:pt x="5730" y="8798"/>
                  <a:pt x="5730" y="8806"/>
                </a:cubicBezTo>
                <a:cubicBezTo>
                  <a:pt x="5783" y="8793"/>
                  <a:pt x="5779" y="8768"/>
                  <a:pt x="5804" y="8731"/>
                </a:cubicBezTo>
                <a:cubicBezTo>
                  <a:pt x="5843" y="8672"/>
                  <a:pt x="5856" y="8649"/>
                  <a:pt x="5879" y="8582"/>
                </a:cubicBezTo>
                <a:cubicBezTo>
                  <a:pt x="5901" y="8517"/>
                  <a:pt x="5920" y="8513"/>
                  <a:pt x="5879" y="8458"/>
                </a:cubicBezTo>
                <a:cubicBezTo>
                  <a:pt x="5847" y="8474"/>
                  <a:pt x="5790" y="8534"/>
                  <a:pt x="5779" y="8582"/>
                </a:cubicBezTo>
                <a:cubicBezTo>
                  <a:pt x="5762" y="8656"/>
                  <a:pt x="5758" y="8786"/>
                  <a:pt x="5829" y="8830"/>
                </a:cubicBezTo>
                <a:cubicBezTo>
                  <a:pt x="5870" y="8856"/>
                  <a:pt x="5972" y="8822"/>
                  <a:pt x="6003" y="8806"/>
                </a:cubicBezTo>
                <a:cubicBezTo>
                  <a:pt x="6046" y="8784"/>
                  <a:pt x="6058" y="8780"/>
                  <a:pt x="6077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32000" y="2982960"/>
            <a:ext cx="9036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6201" y="8384"/>
                </a:moveTo>
                <a:cubicBezTo>
                  <a:pt x="6214" y="8330"/>
                  <a:pt x="6238" y="8344"/>
                  <a:pt x="6276" y="8310"/>
                </a:cubicBezTo>
                <a:cubicBezTo>
                  <a:pt x="6298" y="8287"/>
                  <a:pt x="6303" y="8279"/>
                  <a:pt x="6325" y="8285"/>
                </a:cubicBezTo>
                <a:cubicBezTo>
                  <a:pt x="6337" y="8369"/>
                  <a:pt x="6346" y="8350"/>
                  <a:pt x="6325" y="8434"/>
                </a:cubicBezTo>
                <a:cubicBezTo>
                  <a:pt x="6318" y="8461"/>
                  <a:pt x="6353" y="8467"/>
                  <a:pt x="6375" y="8483"/>
                </a:cubicBezTo>
                <a:cubicBezTo>
                  <a:pt x="6406" y="8459"/>
                  <a:pt x="6418" y="8457"/>
                  <a:pt x="6449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52280" y="3884760"/>
            <a:ext cx="320760" cy="25848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819" y="10889"/>
                </a:moveTo>
                <a:cubicBezTo>
                  <a:pt x="819" y="10845"/>
                  <a:pt x="821" y="10850"/>
                  <a:pt x="794" y="10815"/>
                </a:cubicBezTo>
                <a:cubicBezTo>
                  <a:pt x="794" y="10960"/>
                  <a:pt x="799" y="11097"/>
                  <a:pt x="819" y="11237"/>
                </a:cubicBezTo>
                <a:cubicBezTo>
                  <a:pt x="825" y="11276"/>
                  <a:pt x="819" y="11321"/>
                  <a:pt x="819" y="11361"/>
                </a:cubicBezTo>
                <a:cubicBezTo>
                  <a:pt x="851" y="11317"/>
                  <a:pt x="833" y="11280"/>
                  <a:pt x="868" y="11237"/>
                </a:cubicBezTo>
                <a:cubicBezTo>
                  <a:pt x="903" y="11194"/>
                  <a:pt x="950" y="11209"/>
                  <a:pt x="992" y="11237"/>
                </a:cubicBezTo>
                <a:cubicBezTo>
                  <a:pt x="1019" y="11255"/>
                  <a:pt x="1063" y="11298"/>
                  <a:pt x="1042" y="11336"/>
                </a:cubicBezTo>
                <a:cubicBezTo>
                  <a:pt x="1025" y="11367"/>
                  <a:pt x="923" y="11380"/>
                  <a:pt x="893" y="11385"/>
                </a:cubicBezTo>
                <a:cubicBezTo>
                  <a:pt x="843" y="11385"/>
                  <a:pt x="827" y="11385"/>
                  <a:pt x="794" y="11385"/>
                </a:cubicBezTo>
              </a:path>
              <a:path w="894" h="720">
                <a:moveTo>
                  <a:pt x="967" y="10939"/>
                </a:moveTo>
                <a:cubicBezTo>
                  <a:pt x="1005" y="10926"/>
                  <a:pt x="988" y="10914"/>
                  <a:pt x="1042" y="10914"/>
                </a:cubicBezTo>
                <a:cubicBezTo>
                  <a:pt x="1110" y="10914"/>
                  <a:pt x="1169" y="10969"/>
                  <a:pt x="1215" y="11013"/>
                </a:cubicBezTo>
                <a:cubicBezTo>
                  <a:pt x="1282" y="11076"/>
                  <a:pt x="1333" y="11164"/>
                  <a:pt x="1315" y="11261"/>
                </a:cubicBezTo>
                <a:cubicBezTo>
                  <a:pt x="1294" y="11375"/>
                  <a:pt x="1235" y="11415"/>
                  <a:pt x="1141" y="11460"/>
                </a:cubicBezTo>
                <a:cubicBezTo>
                  <a:pt x="1124" y="11468"/>
                  <a:pt x="1108" y="11477"/>
                  <a:pt x="1091" y="11485"/>
                </a:cubicBezTo>
              </a:path>
              <a:path w="894" h="720">
                <a:moveTo>
                  <a:pt x="546" y="10889"/>
                </a:moveTo>
                <a:cubicBezTo>
                  <a:pt x="565" y="10832"/>
                  <a:pt x="574" y="10825"/>
                  <a:pt x="571" y="10790"/>
                </a:cubicBezTo>
                <a:cubicBezTo>
                  <a:pt x="505" y="10790"/>
                  <a:pt x="496" y="10827"/>
                  <a:pt x="471" y="10889"/>
                </a:cubicBezTo>
                <a:cubicBezTo>
                  <a:pt x="419" y="11021"/>
                  <a:pt x="416" y="11124"/>
                  <a:pt x="446" y="11261"/>
                </a:cubicBezTo>
                <a:cubicBezTo>
                  <a:pt x="470" y="11368"/>
                  <a:pt x="504" y="11427"/>
                  <a:pt x="571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8240" y="4027320"/>
            <a:ext cx="312840" cy="268560"/>
          </a:xfrm>
          <a:custGeom>
            <a:avLst/>
            <a:gdLst/>
            <a:ahLst/>
            <a:rect l="l" t="t" r="r" b="b"/>
            <a:pathLst>
              <a:path w="869" h="745">
                <a:moveTo>
                  <a:pt x="2133" y="11633"/>
                </a:moveTo>
                <a:cubicBezTo>
                  <a:pt x="2133" y="11650"/>
                  <a:pt x="2133" y="11666"/>
                  <a:pt x="2133" y="11683"/>
                </a:cubicBezTo>
                <a:cubicBezTo>
                  <a:pt x="2181" y="11671"/>
                  <a:pt x="2190" y="11636"/>
                  <a:pt x="2232" y="11609"/>
                </a:cubicBezTo>
                <a:cubicBezTo>
                  <a:pt x="2290" y="11572"/>
                  <a:pt x="2340" y="11508"/>
                  <a:pt x="2356" y="11435"/>
                </a:cubicBezTo>
                <a:cubicBezTo>
                  <a:pt x="2356" y="11418"/>
                  <a:pt x="2356" y="11402"/>
                  <a:pt x="2356" y="11385"/>
                </a:cubicBezTo>
                <a:cubicBezTo>
                  <a:pt x="2266" y="11404"/>
                  <a:pt x="2235" y="11459"/>
                  <a:pt x="2183" y="11534"/>
                </a:cubicBezTo>
                <a:cubicBezTo>
                  <a:pt x="2121" y="11624"/>
                  <a:pt x="2099" y="11778"/>
                  <a:pt x="2158" y="11881"/>
                </a:cubicBezTo>
                <a:cubicBezTo>
                  <a:pt x="2218" y="11987"/>
                  <a:pt x="2320" y="11912"/>
                  <a:pt x="2381" y="11857"/>
                </a:cubicBezTo>
                <a:cubicBezTo>
                  <a:pt x="2398" y="11840"/>
                  <a:pt x="2414" y="11824"/>
                  <a:pt x="2431" y="11807"/>
                </a:cubicBezTo>
              </a:path>
              <a:path w="869" h="745">
                <a:moveTo>
                  <a:pt x="2704" y="11212"/>
                </a:moveTo>
                <a:cubicBezTo>
                  <a:pt x="2712" y="11204"/>
                  <a:pt x="2721" y="11195"/>
                  <a:pt x="2729" y="11187"/>
                </a:cubicBezTo>
                <a:cubicBezTo>
                  <a:pt x="2729" y="11240"/>
                  <a:pt x="2713" y="11260"/>
                  <a:pt x="2704" y="11311"/>
                </a:cubicBezTo>
                <a:cubicBezTo>
                  <a:pt x="2696" y="11357"/>
                  <a:pt x="2705" y="11413"/>
                  <a:pt x="2753" y="11435"/>
                </a:cubicBezTo>
                <a:cubicBezTo>
                  <a:pt x="2807" y="11459"/>
                  <a:pt x="2886" y="11422"/>
                  <a:pt x="2927" y="11410"/>
                </a:cubicBezTo>
                <a:cubicBezTo>
                  <a:pt x="2947" y="11404"/>
                  <a:pt x="2980" y="11410"/>
                  <a:pt x="3001" y="11410"/>
                </a:cubicBezTo>
              </a:path>
              <a:path w="869" h="745">
                <a:moveTo>
                  <a:pt x="2927" y="11286"/>
                </a:moveTo>
                <a:cubicBezTo>
                  <a:pt x="2919" y="11278"/>
                  <a:pt x="2910" y="11269"/>
                  <a:pt x="2902" y="11261"/>
                </a:cubicBezTo>
                <a:cubicBezTo>
                  <a:pt x="2911" y="11331"/>
                  <a:pt x="2927" y="11386"/>
                  <a:pt x="2927" y="11460"/>
                </a:cubicBezTo>
                <a:cubicBezTo>
                  <a:pt x="2927" y="11476"/>
                  <a:pt x="2927" y="11493"/>
                  <a:pt x="2927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4133880"/>
            <a:ext cx="704880" cy="250920"/>
          </a:xfrm>
          <a:custGeom>
            <a:avLst/>
            <a:gdLst/>
            <a:ahLst/>
            <a:rect l="l" t="t" r="r" b="b"/>
            <a:pathLst>
              <a:path w="1960" h="695">
                <a:moveTo>
                  <a:pt x="3795" y="11906"/>
                </a:moveTo>
                <a:cubicBezTo>
                  <a:pt x="3854" y="11881"/>
                  <a:pt x="3893" y="11881"/>
                  <a:pt x="3820" y="11881"/>
                </a:cubicBezTo>
                <a:cubicBezTo>
                  <a:pt x="3738" y="11881"/>
                  <a:pt x="3674" y="11896"/>
                  <a:pt x="3597" y="11906"/>
                </a:cubicBezTo>
              </a:path>
              <a:path w="1960" h="695">
                <a:moveTo>
                  <a:pt x="3597" y="11832"/>
                </a:moveTo>
                <a:cubicBezTo>
                  <a:pt x="3635" y="11793"/>
                  <a:pt x="3637" y="11776"/>
                  <a:pt x="3671" y="11782"/>
                </a:cubicBezTo>
                <a:cubicBezTo>
                  <a:pt x="3705" y="11850"/>
                  <a:pt x="3696" y="11924"/>
                  <a:pt x="3696" y="12005"/>
                </a:cubicBezTo>
              </a:path>
              <a:path w="1960" h="695">
                <a:moveTo>
                  <a:pt x="4217" y="11509"/>
                </a:moveTo>
                <a:cubicBezTo>
                  <a:pt x="4233" y="11501"/>
                  <a:pt x="4250" y="11493"/>
                  <a:pt x="4266" y="11485"/>
                </a:cubicBezTo>
                <a:cubicBezTo>
                  <a:pt x="4266" y="11557"/>
                  <a:pt x="4263" y="11613"/>
                  <a:pt x="4242" y="11683"/>
                </a:cubicBezTo>
                <a:cubicBezTo>
                  <a:pt x="4210" y="11792"/>
                  <a:pt x="4171" y="11873"/>
                  <a:pt x="4217" y="11981"/>
                </a:cubicBezTo>
                <a:cubicBezTo>
                  <a:pt x="4253" y="12066"/>
                  <a:pt x="4310" y="12055"/>
                  <a:pt x="4390" y="12055"/>
                </a:cubicBezTo>
                <a:cubicBezTo>
                  <a:pt x="4473" y="12055"/>
                  <a:pt x="4492" y="12004"/>
                  <a:pt x="4564" y="11981"/>
                </a:cubicBezTo>
                <a:cubicBezTo>
                  <a:pt x="4583" y="11975"/>
                  <a:pt x="4618" y="11981"/>
                  <a:pt x="4638" y="11981"/>
                </a:cubicBezTo>
              </a:path>
              <a:path w="1960" h="695">
                <a:moveTo>
                  <a:pt x="4465" y="11857"/>
                </a:moveTo>
                <a:cubicBezTo>
                  <a:pt x="4448" y="11857"/>
                  <a:pt x="4432" y="11857"/>
                  <a:pt x="4415" y="11857"/>
                </a:cubicBezTo>
                <a:cubicBezTo>
                  <a:pt x="4415" y="11967"/>
                  <a:pt x="4402" y="12077"/>
                  <a:pt x="4440" y="12179"/>
                </a:cubicBezTo>
              </a:path>
              <a:path w="1960" h="695">
                <a:moveTo>
                  <a:pt x="4638" y="11807"/>
                </a:moveTo>
                <a:cubicBezTo>
                  <a:pt x="4647" y="11834"/>
                  <a:pt x="4656" y="11853"/>
                  <a:pt x="4688" y="11857"/>
                </a:cubicBezTo>
                <a:cubicBezTo>
                  <a:pt x="4740" y="11864"/>
                  <a:pt x="4792" y="11862"/>
                  <a:pt x="4837" y="11832"/>
                </a:cubicBezTo>
                <a:cubicBezTo>
                  <a:pt x="4870" y="11810"/>
                  <a:pt x="4862" y="11791"/>
                  <a:pt x="4862" y="11757"/>
                </a:cubicBezTo>
                <a:cubicBezTo>
                  <a:pt x="4784" y="11729"/>
                  <a:pt x="4715" y="11719"/>
                  <a:pt x="4663" y="11807"/>
                </a:cubicBezTo>
                <a:cubicBezTo>
                  <a:pt x="4599" y="11914"/>
                  <a:pt x="4652" y="12009"/>
                  <a:pt x="4738" y="12080"/>
                </a:cubicBezTo>
                <a:cubicBezTo>
                  <a:pt x="4839" y="12163"/>
                  <a:pt x="4897" y="12135"/>
                  <a:pt x="4986" y="12080"/>
                </a:cubicBezTo>
                <a:cubicBezTo>
                  <a:pt x="5002" y="12072"/>
                  <a:pt x="5019" y="12063"/>
                  <a:pt x="5035" y="12055"/>
                </a:cubicBezTo>
              </a:path>
              <a:path w="1960" h="695">
                <a:moveTo>
                  <a:pt x="5259" y="11683"/>
                </a:moveTo>
                <a:cubicBezTo>
                  <a:pt x="5204" y="11665"/>
                  <a:pt x="5246" y="11648"/>
                  <a:pt x="5259" y="11609"/>
                </a:cubicBezTo>
                <a:cubicBezTo>
                  <a:pt x="5264" y="11594"/>
                  <a:pt x="5347" y="11538"/>
                  <a:pt x="5383" y="11559"/>
                </a:cubicBezTo>
                <a:cubicBezTo>
                  <a:pt x="5408" y="11573"/>
                  <a:pt x="5415" y="11679"/>
                  <a:pt x="5407" y="11708"/>
                </a:cubicBezTo>
                <a:cubicBezTo>
                  <a:pt x="5389" y="11774"/>
                  <a:pt x="5360" y="11822"/>
                  <a:pt x="5407" y="11881"/>
                </a:cubicBezTo>
                <a:cubicBezTo>
                  <a:pt x="5440" y="11923"/>
                  <a:pt x="5507" y="11906"/>
                  <a:pt x="5556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0" y="4321080"/>
            <a:ext cx="8892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6548" y="12154"/>
                </a:moveTo>
                <a:cubicBezTo>
                  <a:pt x="6588" y="12134"/>
                  <a:pt x="6605" y="12136"/>
                  <a:pt x="6598" y="12105"/>
                </a:cubicBezTo>
                <a:cubicBezTo>
                  <a:pt x="6515" y="12105"/>
                  <a:pt x="6452" y="12112"/>
                  <a:pt x="6375" y="12129"/>
                </a:cubicBezTo>
                <a:cubicBezTo>
                  <a:pt x="6367" y="12129"/>
                  <a:pt x="6358" y="12129"/>
                  <a:pt x="6350" y="12129"/>
                </a:cubicBezTo>
              </a:path>
              <a:path w="249" h="299">
                <a:moveTo>
                  <a:pt x="6350" y="12030"/>
                </a:moveTo>
                <a:cubicBezTo>
                  <a:pt x="6367" y="12022"/>
                  <a:pt x="6383" y="12013"/>
                  <a:pt x="6400" y="12005"/>
                </a:cubicBezTo>
                <a:cubicBezTo>
                  <a:pt x="6430" y="12089"/>
                  <a:pt x="6424" y="12163"/>
                  <a:pt x="6424" y="12254"/>
                </a:cubicBezTo>
                <a:cubicBezTo>
                  <a:pt x="6424" y="12270"/>
                  <a:pt x="6424" y="12287"/>
                  <a:pt x="6424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27200" y="4232160"/>
            <a:ext cx="115920" cy="223920"/>
          </a:xfrm>
          <a:custGeom>
            <a:avLst/>
            <a:gdLst/>
            <a:ahLst/>
            <a:rect l="l" t="t" r="r" b="b"/>
            <a:pathLst>
              <a:path w="323" h="622">
                <a:moveTo>
                  <a:pt x="7169" y="11807"/>
                </a:moveTo>
                <a:cubicBezTo>
                  <a:pt x="7209" y="11787"/>
                  <a:pt x="7225" y="11788"/>
                  <a:pt x="7218" y="11757"/>
                </a:cubicBezTo>
                <a:cubicBezTo>
                  <a:pt x="7171" y="11769"/>
                  <a:pt x="7121" y="11837"/>
                  <a:pt x="7094" y="11881"/>
                </a:cubicBezTo>
                <a:cubicBezTo>
                  <a:pt x="7035" y="11980"/>
                  <a:pt x="6975" y="12144"/>
                  <a:pt x="7045" y="12254"/>
                </a:cubicBezTo>
                <a:cubicBezTo>
                  <a:pt x="7092" y="12327"/>
                  <a:pt x="7204" y="12437"/>
                  <a:pt x="7293" y="12353"/>
                </a:cubicBezTo>
                <a:cubicBezTo>
                  <a:pt x="7357" y="12292"/>
                  <a:pt x="7336" y="12217"/>
                  <a:pt x="7293" y="12154"/>
                </a:cubicBezTo>
                <a:cubicBezTo>
                  <a:pt x="7267" y="12116"/>
                  <a:pt x="7234" y="12129"/>
                  <a:pt x="7193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74960" y="434016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8359" y="12179"/>
                </a:moveTo>
                <a:cubicBezTo>
                  <a:pt x="8349" y="12148"/>
                  <a:pt x="8306" y="12141"/>
                  <a:pt x="8260" y="12154"/>
                </a:cubicBezTo>
                <a:cubicBezTo>
                  <a:pt x="8194" y="12173"/>
                  <a:pt x="8126" y="12161"/>
                  <a:pt x="8062" y="12179"/>
                </a:cubicBezTo>
                <a:cubicBezTo>
                  <a:pt x="8021" y="12199"/>
                  <a:pt x="8015" y="12208"/>
                  <a:pt x="7987" y="12204"/>
                </a:cubicBezTo>
              </a:path>
              <a:path w="373" h="249">
                <a:moveTo>
                  <a:pt x="8086" y="12080"/>
                </a:moveTo>
                <a:cubicBezTo>
                  <a:pt x="8094" y="12072"/>
                  <a:pt x="8103" y="12063"/>
                  <a:pt x="8111" y="12055"/>
                </a:cubicBezTo>
                <a:cubicBezTo>
                  <a:pt x="8147" y="12115"/>
                  <a:pt x="8157" y="12179"/>
                  <a:pt x="8161" y="12254"/>
                </a:cubicBezTo>
                <a:cubicBezTo>
                  <a:pt x="8161" y="12270"/>
                  <a:pt x="8161" y="12287"/>
                  <a:pt x="8161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63920" y="4160880"/>
            <a:ext cx="314280" cy="447480"/>
          </a:xfrm>
          <a:custGeom>
            <a:avLst/>
            <a:gdLst/>
            <a:ahLst/>
            <a:rect l="l" t="t" r="r" b="b"/>
            <a:pathLst>
              <a:path w="869" h="1241">
                <a:moveTo>
                  <a:pt x="9897" y="11609"/>
                </a:moveTo>
                <a:cubicBezTo>
                  <a:pt x="9869" y="11572"/>
                  <a:pt x="9855" y="11573"/>
                  <a:pt x="9897" y="11559"/>
                </a:cubicBezTo>
                <a:cubicBezTo>
                  <a:pt x="9866" y="11600"/>
                  <a:pt x="9843" y="11656"/>
                  <a:pt x="9823" y="11708"/>
                </a:cubicBezTo>
                <a:cubicBezTo>
                  <a:pt x="9789" y="11794"/>
                  <a:pt x="9773" y="11865"/>
                  <a:pt x="9773" y="11956"/>
                </a:cubicBezTo>
                <a:cubicBezTo>
                  <a:pt x="9773" y="12008"/>
                  <a:pt x="9826" y="12027"/>
                  <a:pt x="9872" y="12030"/>
                </a:cubicBezTo>
                <a:cubicBezTo>
                  <a:pt x="9940" y="12035"/>
                  <a:pt x="9999" y="12005"/>
                  <a:pt x="10071" y="12005"/>
                </a:cubicBezTo>
                <a:cubicBezTo>
                  <a:pt x="10129" y="12005"/>
                  <a:pt x="10174" y="11996"/>
                  <a:pt x="10220" y="12030"/>
                </a:cubicBezTo>
              </a:path>
              <a:path w="869" h="1241">
                <a:moveTo>
                  <a:pt x="10071" y="11881"/>
                </a:moveTo>
                <a:cubicBezTo>
                  <a:pt x="10028" y="11895"/>
                  <a:pt x="10046" y="11950"/>
                  <a:pt x="10046" y="12005"/>
                </a:cubicBezTo>
                <a:cubicBezTo>
                  <a:pt x="10046" y="12055"/>
                  <a:pt x="10046" y="12104"/>
                  <a:pt x="10046" y="12154"/>
                </a:cubicBezTo>
              </a:path>
              <a:path w="869" h="1241">
                <a:moveTo>
                  <a:pt x="10492" y="12254"/>
                </a:moveTo>
                <a:cubicBezTo>
                  <a:pt x="10398" y="12254"/>
                  <a:pt x="10311" y="12238"/>
                  <a:pt x="10220" y="12229"/>
                </a:cubicBezTo>
                <a:cubicBezTo>
                  <a:pt x="10077" y="12216"/>
                  <a:pt x="9932" y="12238"/>
                  <a:pt x="9798" y="12254"/>
                </a:cubicBezTo>
                <a:cubicBezTo>
                  <a:pt x="9727" y="12263"/>
                  <a:pt x="9680" y="12238"/>
                  <a:pt x="9624" y="12278"/>
                </a:cubicBezTo>
              </a:path>
              <a:path w="869" h="1241">
                <a:moveTo>
                  <a:pt x="9674" y="12650"/>
                </a:moveTo>
                <a:cubicBezTo>
                  <a:pt x="9674" y="12678"/>
                  <a:pt x="9676" y="12689"/>
                  <a:pt x="9699" y="12700"/>
                </a:cubicBezTo>
                <a:cubicBezTo>
                  <a:pt x="9747" y="12688"/>
                  <a:pt x="9798" y="12650"/>
                  <a:pt x="9847" y="12626"/>
                </a:cubicBezTo>
                <a:cubicBezTo>
                  <a:pt x="9909" y="12595"/>
                  <a:pt x="9947" y="12596"/>
                  <a:pt x="9947" y="12526"/>
                </a:cubicBezTo>
                <a:cubicBezTo>
                  <a:pt x="9896" y="12490"/>
                  <a:pt x="9851" y="12510"/>
                  <a:pt x="9798" y="12551"/>
                </a:cubicBezTo>
                <a:cubicBezTo>
                  <a:pt x="9743" y="12594"/>
                  <a:pt x="9694" y="12677"/>
                  <a:pt x="9723" y="12750"/>
                </a:cubicBezTo>
                <a:cubicBezTo>
                  <a:pt x="9744" y="12804"/>
                  <a:pt x="9852" y="12812"/>
                  <a:pt x="9897" y="12799"/>
                </a:cubicBezTo>
                <a:cubicBezTo>
                  <a:pt x="9943" y="12786"/>
                  <a:pt x="9983" y="12772"/>
                  <a:pt x="10021" y="12750"/>
                </a:cubicBezTo>
              </a:path>
              <a:path w="869" h="1241">
                <a:moveTo>
                  <a:pt x="10220" y="12452"/>
                </a:moveTo>
                <a:cubicBezTo>
                  <a:pt x="10220" y="12419"/>
                  <a:pt x="10207" y="12372"/>
                  <a:pt x="10244" y="12353"/>
                </a:cubicBezTo>
                <a:cubicBezTo>
                  <a:pt x="10271" y="12340"/>
                  <a:pt x="10331" y="12352"/>
                  <a:pt x="10344" y="12378"/>
                </a:cubicBezTo>
                <a:cubicBezTo>
                  <a:pt x="10369" y="12427"/>
                  <a:pt x="10309" y="12444"/>
                  <a:pt x="10294" y="12477"/>
                </a:cubicBezTo>
                <a:cubicBezTo>
                  <a:pt x="10280" y="12510"/>
                  <a:pt x="10289" y="12549"/>
                  <a:pt x="10319" y="12551"/>
                </a:cubicBezTo>
                <a:cubicBezTo>
                  <a:pt x="10335" y="12551"/>
                  <a:pt x="10352" y="12551"/>
                  <a:pt x="10368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071960" y="4394160"/>
            <a:ext cx="12528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11658" y="12378"/>
                </a:moveTo>
                <a:cubicBezTo>
                  <a:pt x="11643" y="12317"/>
                  <a:pt x="11620" y="12328"/>
                  <a:pt x="11559" y="12328"/>
                </a:cubicBezTo>
                <a:cubicBezTo>
                  <a:pt x="11483" y="12328"/>
                  <a:pt x="11432" y="12337"/>
                  <a:pt x="11361" y="12353"/>
                </a:cubicBezTo>
                <a:cubicBezTo>
                  <a:pt x="11336" y="12353"/>
                  <a:pt x="11328" y="12353"/>
                  <a:pt x="11311" y="12353"/>
                </a:cubicBezTo>
              </a:path>
              <a:path w="348" h="199">
                <a:moveTo>
                  <a:pt x="11410" y="12204"/>
                </a:moveTo>
                <a:cubicBezTo>
                  <a:pt x="11449" y="12230"/>
                  <a:pt x="11435" y="12292"/>
                  <a:pt x="11435" y="12353"/>
                </a:cubicBezTo>
                <a:cubicBezTo>
                  <a:pt x="11435" y="12369"/>
                  <a:pt x="11435" y="12386"/>
                  <a:pt x="11435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45000" y="4268880"/>
            <a:ext cx="295200" cy="463320"/>
          </a:xfrm>
          <a:custGeom>
            <a:avLst/>
            <a:gdLst/>
            <a:ahLst/>
            <a:rect l="l" t="t" r="r" b="b"/>
            <a:pathLst>
              <a:path w="819" h="1290">
                <a:moveTo>
                  <a:pt x="12973" y="11931"/>
                </a:moveTo>
                <a:cubicBezTo>
                  <a:pt x="12965" y="11906"/>
                  <a:pt x="12956" y="11882"/>
                  <a:pt x="12948" y="11857"/>
                </a:cubicBezTo>
                <a:cubicBezTo>
                  <a:pt x="12984" y="11916"/>
                  <a:pt x="12973" y="11981"/>
                  <a:pt x="12973" y="12055"/>
                </a:cubicBezTo>
                <a:cubicBezTo>
                  <a:pt x="12973" y="12150"/>
                  <a:pt x="12974" y="12189"/>
                  <a:pt x="12998" y="12278"/>
                </a:cubicBezTo>
              </a:path>
              <a:path w="819" h="1290">
                <a:moveTo>
                  <a:pt x="13419" y="12427"/>
                </a:moveTo>
                <a:cubicBezTo>
                  <a:pt x="13460" y="12427"/>
                  <a:pt x="13385" y="12436"/>
                  <a:pt x="13345" y="12427"/>
                </a:cubicBezTo>
                <a:cubicBezTo>
                  <a:pt x="13238" y="12402"/>
                  <a:pt x="13133" y="12382"/>
                  <a:pt x="13022" y="12378"/>
                </a:cubicBezTo>
                <a:cubicBezTo>
                  <a:pt x="12932" y="12375"/>
                  <a:pt x="12841" y="12378"/>
                  <a:pt x="12750" y="12378"/>
                </a:cubicBezTo>
              </a:path>
              <a:path w="819" h="1290">
                <a:moveTo>
                  <a:pt x="12626" y="12998"/>
                </a:moveTo>
                <a:cubicBezTo>
                  <a:pt x="12626" y="13022"/>
                  <a:pt x="12626" y="13031"/>
                  <a:pt x="12626" y="13047"/>
                </a:cubicBezTo>
                <a:cubicBezTo>
                  <a:pt x="12684" y="13047"/>
                  <a:pt x="12721" y="13024"/>
                  <a:pt x="12774" y="12998"/>
                </a:cubicBezTo>
                <a:cubicBezTo>
                  <a:pt x="12840" y="12965"/>
                  <a:pt x="12868" y="12918"/>
                  <a:pt x="12874" y="12849"/>
                </a:cubicBezTo>
                <a:cubicBezTo>
                  <a:pt x="12874" y="12821"/>
                  <a:pt x="12872" y="12810"/>
                  <a:pt x="12849" y="12799"/>
                </a:cubicBezTo>
                <a:cubicBezTo>
                  <a:pt x="12775" y="12818"/>
                  <a:pt x="12684" y="12864"/>
                  <a:pt x="12650" y="12948"/>
                </a:cubicBezTo>
                <a:cubicBezTo>
                  <a:pt x="12622" y="13018"/>
                  <a:pt x="12702" y="13094"/>
                  <a:pt x="12750" y="13122"/>
                </a:cubicBezTo>
                <a:cubicBezTo>
                  <a:pt x="12816" y="13161"/>
                  <a:pt x="12858" y="13149"/>
                  <a:pt x="12923" y="13122"/>
                </a:cubicBezTo>
              </a:path>
              <a:path w="819" h="1290">
                <a:moveTo>
                  <a:pt x="13146" y="12675"/>
                </a:moveTo>
                <a:cubicBezTo>
                  <a:pt x="13146" y="12612"/>
                  <a:pt x="13130" y="12731"/>
                  <a:pt x="13122" y="12750"/>
                </a:cubicBezTo>
                <a:cubicBezTo>
                  <a:pt x="13106" y="12788"/>
                  <a:pt x="13065" y="12870"/>
                  <a:pt x="13122" y="12898"/>
                </a:cubicBezTo>
                <a:cubicBezTo>
                  <a:pt x="13148" y="12911"/>
                  <a:pt x="13217" y="12921"/>
                  <a:pt x="13246" y="12923"/>
                </a:cubicBezTo>
                <a:cubicBezTo>
                  <a:pt x="13295" y="12926"/>
                  <a:pt x="13357" y="12937"/>
                  <a:pt x="13370" y="12898"/>
                </a:cubicBezTo>
              </a:path>
              <a:path w="819" h="1290">
                <a:moveTo>
                  <a:pt x="13320" y="12874"/>
                </a:moveTo>
                <a:cubicBezTo>
                  <a:pt x="13227" y="12847"/>
                  <a:pt x="13246" y="12883"/>
                  <a:pt x="13246" y="12973"/>
                </a:cubicBezTo>
                <a:cubicBezTo>
                  <a:pt x="13246" y="13014"/>
                  <a:pt x="13246" y="13022"/>
                  <a:pt x="13246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5840" y="4626000"/>
            <a:ext cx="179280" cy="16020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1240" y="12948"/>
                </a:moveTo>
                <a:cubicBezTo>
                  <a:pt x="1265" y="12948"/>
                  <a:pt x="1273" y="12948"/>
                  <a:pt x="1290" y="12948"/>
                </a:cubicBezTo>
                <a:cubicBezTo>
                  <a:pt x="1182" y="12948"/>
                  <a:pt x="1069" y="12934"/>
                  <a:pt x="967" y="12973"/>
                </a:cubicBezTo>
                <a:cubicBezTo>
                  <a:pt x="911" y="12994"/>
                  <a:pt x="879" y="13022"/>
                  <a:pt x="819" y="13022"/>
                </a:cubicBezTo>
                <a:cubicBezTo>
                  <a:pt x="794" y="13022"/>
                  <a:pt x="786" y="13022"/>
                  <a:pt x="794" y="12998"/>
                </a:cubicBezTo>
              </a:path>
              <a:path w="497" h="447">
                <a:moveTo>
                  <a:pt x="893" y="12849"/>
                </a:moveTo>
                <a:cubicBezTo>
                  <a:pt x="967" y="12867"/>
                  <a:pt x="943" y="12927"/>
                  <a:pt x="943" y="12998"/>
                </a:cubicBezTo>
                <a:cubicBezTo>
                  <a:pt x="943" y="13105"/>
                  <a:pt x="966" y="13192"/>
                  <a:pt x="992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0240" y="4660920"/>
            <a:ext cx="312840" cy="23328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1885" y="13419"/>
                </a:moveTo>
                <a:cubicBezTo>
                  <a:pt x="1809" y="13419"/>
                  <a:pt x="1857" y="13414"/>
                  <a:pt x="1885" y="13370"/>
                </a:cubicBezTo>
                <a:cubicBezTo>
                  <a:pt x="1925" y="13308"/>
                  <a:pt x="1991" y="13277"/>
                  <a:pt x="2009" y="13196"/>
                </a:cubicBezTo>
                <a:cubicBezTo>
                  <a:pt x="2015" y="13169"/>
                  <a:pt x="2009" y="13126"/>
                  <a:pt x="2009" y="13097"/>
                </a:cubicBezTo>
                <a:cubicBezTo>
                  <a:pt x="1944" y="13162"/>
                  <a:pt x="1878" y="13224"/>
                  <a:pt x="1860" y="13320"/>
                </a:cubicBezTo>
                <a:cubicBezTo>
                  <a:pt x="1842" y="13415"/>
                  <a:pt x="1856" y="13507"/>
                  <a:pt x="1935" y="13568"/>
                </a:cubicBezTo>
                <a:cubicBezTo>
                  <a:pt x="1991" y="13611"/>
                  <a:pt x="2051" y="13591"/>
                  <a:pt x="2108" y="13568"/>
                </a:cubicBezTo>
                <a:cubicBezTo>
                  <a:pt x="2152" y="13546"/>
                  <a:pt x="2163" y="13543"/>
                  <a:pt x="2183" y="13519"/>
                </a:cubicBezTo>
              </a:path>
              <a:path w="869" h="646">
                <a:moveTo>
                  <a:pt x="2381" y="12973"/>
                </a:moveTo>
                <a:cubicBezTo>
                  <a:pt x="2381" y="12965"/>
                  <a:pt x="2381" y="12956"/>
                  <a:pt x="2381" y="12948"/>
                </a:cubicBezTo>
                <a:cubicBezTo>
                  <a:pt x="2432" y="12965"/>
                  <a:pt x="2389" y="12996"/>
                  <a:pt x="2406" y="13047"/>
                </a:cubicBezTo>
                <a:cubicBezTo>
                  <a:pt x="2421" y="13091"/>
                  <a:pt x="2446" y="13106"/>
                  <a:pt x="2456" y="13146"/>
                </a:cubicBezTo>
                <a:cubicBezTo>
                  <a:pt x="2512" y="13146"/>
                  <a:pt x="2704" y="13146"/>
                  <a:pt x="2679" y="13146"/>
                </a:cubicBezTo>
              </a:path>
              <a:path w="869" h="646">
                <a:moveTo>
                  <a:pt x="2604" y="13097"/>
                </a:moveTo>
                <a:cubicBezTo>
                  <a:pt x="2596" y="13089"/>
                  <a:pt x="2588" y="13080"/>
                  <a:pt x="2580" y="13072"/>
                </a:cubicBezTo>
                <a:cubicBezTo>
                  <a:pt x="2580" y="13146"/>
                  <a:pt x="2579" y="13202"/>
                  <a:pt x="2604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258920" y="4687920"/>
            <a:ext cx="615960" cy="295200"/>
          </a:xfrm>
          <a:custGeom>
            <a:avLst/>
            <a:gdLst/>
            <a:ahLst/>
            <a:rect l="l" t="t" r="r" b="b"/>
            <a:pathLst>
              <a:path w="1713" h="820">
                <a:moveTo>
                  <a:pt x="3671" y="13395"/>
                </a:moveTo>
                <a:cubicBezTo>
                  <a:pt x="3696" y="13395"/>
                  <a:pt x="3704" y="13395"/>
                  <a:pt x="3721" y="13395"/>
                </a:cubicBezTo>
                <a:cubicBezTo>
                  <a:pt x="3673" y="13395"/>
                  <a:pt x="3634" y="13412"/>
                  <a:pt x="3597" y="13419"/>
                </a:cubicBezTo>
                <a:cubicBezTo>
                  <a:pt x="3552" y="13428"/>
                  <a:pt x="3537" y="13434"/>
                  <a:pt x="3497" y="13444"/>
                </a:cubicBezTo>
              </a:path>
              <a:path w="1713" h="820">
                <a:moveTo>
                  <a:pt x="3944" y="13097"/>
                </a:moveTo>
                <a:cubicBezTo>
                  <a:pt x="3986" y="13055"/>
                  <a:pt x="3994" y="13048"/>
                  <a:pt x="4018" y="13022"/>
                </a:cubicBezTo>
                <a:cubicBezTo>
                  <a:pt x="4018" y="13084"/>
                  <a:pt x="4001" y="13139"/>
                  <a:pt x="3994" y="13196"/>
                </a:cubicBezTo>
                <a:cubicBezTo>
                  <a:pt x="3984" y="13280"/>
                  <a:pt x="3969" y="13358"/>
                  <a:pt x="3969" y="13444"/>
                </a:cubicBezTo>
                <a:cubicBezTo>
                  <a:pt x="3969" y="13498"/>
                  <a:pt x="3986" y="13537"/>
                  <a:pt x="4043" y="13543"/>
                </a:cubicBezTo>
                <a:cubicBezTo>
                  <a:pt x="4134" y="13553"/>
                  <a:pt x="4208" y="13538"/>
                  <a:pt x="4291" y="13519"/>
                </a:cubicBezTo>
                <a:cubicBezTo>
                  <a:pt x="4345" y="13507"/>
                  <a:pt x="4371" y="13538"/>
                  <a:pt x="4415" y="13543"/>
                </a:cubicBezTo>
                <a:cubicBezTo>
                  <a:pt x="4447" y="13546"/>
                  <a:pt x="4480" y="13549"/>
                  <a:pt x="4490" y="13568"/>
                </a:cubicBezTo>
                <a:cubicBezTo>
                  <a:pt x="4490" y="13576"/>
                  <a:pt x="4490" y="13585"/>
                  <a:pt x="4490" y="13593"/>
                </a:cubicBezTo>
              </a:path>
              <a:path w="1713" h="820">
                <a:moveTo>
                  <a:pt x="4316" y="13519"/>
                </a:moveTo>
                <a:cubicBezTo>
                  <a:pt x="4253" y="13550"/>
                  <a:pt x="4266" y="13594"/>
                  <a:pt x="4266" y="13667"/>
                </a:cubicBezTo>
                <a:cubicBezTo>
                  <a:pt x="4266" y="13728"/>
                  <a:pt x="4284" y="13781"/>
                  <a:pt x="4291" y="13841"/>
                </a:cubicBezTo>
              </a:path>
              <a:path w="1713" h="820">
                <a:moveTo>
                  <a:pt x="4514" y="13543"/>
                </a:moveTo>
                <a:cubicBezTo>
                  <a:pt x="4570" y="13543"/>
                  <a:pt x="4614" y="13551"/>
                  <a:pt x="4663" y="13519"/>
                </a:cubicBezTo>
                <a:cubicBezTo>
                  <a:pt x="4708" y="13489"/>
                  <a:pt x="4713" y="13443"/>
                  <a:pt x="4713" y="13395"/>
                </a:cubicBezTo>
                <a:cubicBezTo>
                  <a:pt x="4628" y="13407"/>
                  <a:pt x="4586" y="13451"/>
                  <a:pt x="4564" y="13543"/>
                </a:cubicBezTo>
                <a:cubicBezTo>
                  <a:pt x="4544" y="13627"/>
                  <a:pt x="4559" y="13728"/>
                  <a:pt x="4638" y="13767"/>
                </a:cubicBezTo>
                <a:cubicBezTo>
                  <a:pt x="4720" y="13807"/>
                  <a:pt x="4789" y="13792"/>
                  <a:pt x="4862" y="13742"/>
                </a:cubicBezTo>
                <a:cubicBezTo>
                  <a:pt x="4870" y="13734"/>
                  <a:pt x="4879" y="13725"/>
                  <a:pt x="4887" y="13717"/>
                </a:cubicBezTo>
              </a:path>
              <a:path w="1713" h="820">
                <a:moveTo>
                  <a:pt x="5011" y="13444"/>
                </a:moveTo>
                <a:cubicBezTo>
                  <a:pt x="4978" y="13395"/>
                  <a:pt x="4973" y="13406"/>
                  <a:pt x="4961" y="13370"/>
                </a:cubicBezTo>
                <a:cubicBezTo>
                  <a:pt x="5000" y="13360"/>
                  <a:pt x="5016" y="13345"/>
                  <a:pt x="5060" y="13345"/>
                </a:cubicBezTo>
                <a:cubicBezTo>
                  <a:pt x="5068" y="13345"/>
                  <a:pt x="5077" y="13345"/>
                  <a:pt x="5085" y="13345"/>
                </a:cubicBezTo>
                <a:cubicBezTo>
                  <a:pt x="5085" y="13386"/>
                  <a:pt x="5064" y="13496"/>
                  <a:pt x="5110" y="13519"/>
                </a:cubicBezTo>
                <a:cubicBezTo>
                  <a:pt x="5125" y="13526"/>
                  <a:pt x="5199" y="13519"/>
                  <a:pt x="5209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14720" y="4884840"/>
            <a:ext cx="420480" cy="231840"/>
          </a:xfrm>
          <a:custGeom>
            <a:avLst/>
            <a:gdLst/>
            <a:ahLst/>
            <a:rect l="l" t="t" r="r" b="b"/>
            <a:pathLst>
              <a:path w="1166" h="646">
                <a:moveTo>
                  <a:pt x="6474" y="14039"/>
                </a:moveTo>
                <a:cubicBezTo>
                  <a:pt x="6514" y="13987"/>
                  <a:pt x="6492" y="13963"/>
                  <a:pt x="6424" y="13940"/>
                </a:cubicBezTo>
                <a:cubicBezTo>
                  <a:pt x="6360" y="13918"/>
                  <a:pt x="6283" y="13952"/>
                  <a:pt x="6226" y="13965"/>
                </a:cubicBezTo>
                <a:cubicBezTo>
                  <a:pt x="6204" y="13970"/>
                  <a:pt x="6174" y="13965"/>
                  <a:pt x="6152" y="13965"/>
                </a:cubicBezTo>
              </a:path>
              <a:path w="1166" h="646">
                <a:moveTo>
                  <a:pt x="6226" y="13891"/>
                </a:moveTo>
                <a:cubicBezTo>
                  <a:pt x="6248" y="13847"/>
                  <a:pt x="6251" y="13835"/>
                  <a:pt x="6276" y="13816"/>
                </a:cubicBezTo>
                <a:cubicBezTo>
                  <a:pt x="6291" y="13878"/>
                  <a:pt x="6300" y="13915"/>
                  <a:pt x="6300" y="13990"/>
                </a:cubicBezTo>
                <a:cubicBezTo>
                  <a:pt x="6300" y="14071"/>
                  <a:pt x="6325" y="14130"/>
                  <a:pt x="6325" y="14213"/>
                </a:cubicBezTo>
              </a:path>
              <a:path w="1166" h="646">
                <a:moveTo>
                  <a:pt x="6970" y="13593"/>
                </a:moveTo>
                <a:cubicBezTo>
                  <a:pt x="7031" y="13574"/>
                  <a:pt x="7041" y="13568"/>
                  <a:pt x="7094" y="13568"/>
                </a:cubicBezTo>
                <a:cubicBezTo>
                  <a:pt x="7039" y="13623"/>
                  <a:pt x="7021" y="13667"/>
                  <a:pt x="6995" y="13742"/>
                </a:cubicBezTo>
                <a:cubicBezTo>
                  <a:pt x="6955" y="13856"/>
                  <a:pt x="6949" y="13965"/>
                  <a:pt x="7020" y="14064"/>
                </a:cubicBezTo>
                <a:cubicBezTo>
                  <a:pt x="7076" y="14142"/>
                  <a:pt x="7144" y="14188"/>
                  <a:pt x="7243" y="14163"/>
                </a:cubicBezTo>
                <a:cubicBezTo>
                  <a:pt x="7305" y="14147"/>
                  <a:pt x="7350" y="14050"/>
                  <a:pt x="7317" y="13990"/>
                </a:cubicBezTo>
                <a:cubicBezTo>
                  <a:pt x="7282" y="13927"/>
                  <a:pt x="7249" y="13940"/>
                  <a:pt x="7193" y="13940"/>
                </a:cubicBezTo>
                <a:cubicBezTo>
                  <a:pt x="7185" y="13940"/>
                  <a:pt x="7177" y="13940"/>
                  <a:pt x="7169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71880" y="499104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8806" y="13866"/>
                </a:moveTo>
                <a:cubicBezTo>
                  <a:pt x="8762" y="13892"/>
                  <a:pt x="8687" y="13906"/>
                  <a:pt x="8632" y="13915"/>
                </a:cubicBezTo>
                <a:cubicBezTo>
                  <a:pt x="8580" y="13915"/>
                  <a:pt x="8562" y="13916"/>
                  <a:pt x="8533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02000" y="4813200"/>
            <a:ext cx="366840" cy="438120"/>
          </a:xfrm>
          <a:custGeom>
            <a:avLst/>
            <a:gdLst/>
            <a:ahLst/>
            <a:rect l="l" t="t" r="r" b="b"/>
            <a:pathLst>
              <a:path w="1018" h="1216">
                <a:moveTo>
                  <a:pt x="9748" y="13419"/>
                </a:moveTo>
                <a:cubicBezTo>
                  <a:pt x="9748" y="13378"/>
                  <a:pt x="9740" y="13362"/>
                  <a:pt x="9773" y="13370"/>
                </a:cubicBezTo>
                <a:cubicBezTo>
                  <a:pt x="9773" y="13427"/>
                  <a:pt x="9757" y="13466"/>
                  <a:pt x="9748" y="13519"/>
                </a:cubicBezTo>
                <a:cubicBezTo>
                  <a:pt x="9736" y="13589"/>
                  <a:pt x="9743" y="13661"/>
                  <a:pt x="9773" y="13717"/>
                </a:cubicBezTo>
                <a:cubicBezTo>
                  <a:pt x="9813" y="13792"/>
                  <a:pt x="9867" y="13767"/>
                  <a:pt x="9947" y="13767"/>
                </a:cubicBezTo>
                <a:cubicBezTo>
                  <a:pt x="10005" y="13767"/>
                  <a:pt x="10033" y="13742"/>
                  <a:pt x="10096" y="13742"/>
                </a:cubicBezTo>
                <a:cubicBezTo>
                  <a:pt x="10120" y="13742"/>
                  <a:pt x="10129" y="13742"/>
                  <a:pt x="10145" y="13742"/>
                </a:cubicBezTo>
              </a:path>
              <a:path w="1018" h="1216">
                <a:moveTo>
                  <a:pt x="10021" y="13568"/>
                </a:moveTo>
                <a:cubicBezTo>
                  <a:pt x="10004" y="13560"/>
                  <a:pt x="9988" y="13551"/>
                  <a:pt x="9971" y="13543"/>
                </a:cubicBezTo>
                <a:cubicBezTo>
                  <a:pt x="9971" y="13642"/>
                  <a:pt x="9971" y="13742"/>
                  <a:pt x="9971" y="13841"/>
                </a:cubicBezTo>
              </a:path>
              <a:path w="1018" h="1216">
                <a:moveTo>
                  <a:pt x="10468" y="14015"/>
                </a:moveTo>
                <a:cubicBezTo>
                  <a:pt x="10430" y="14002"/>
                  <a:pt x="10447" y="13990"/>
                  <a:pt x="10393" y="13990"/>
                </a:cubicBezTo>
                <a:cubicBezTo>
                  <a:pt x="10160" y="13990"/>
                  <a:pt x="9748" y="13912"/>
                  <a:pt x="9550" y="14015"/>
                </a:cubicBezTo>
                <a:cubicBezTo>
                  <a:pt x="9505" y="14039"/>
                  <a:pt x="9496" y="14039"/>
                  <a:pt x="9451" y="14039"/>
                </a:cubicBezTo>
              </a:path>
              <a:path w="1018" h="1216">
                <a:moveTo>
                  <a:pt x="9699" y="14461"/>
                </a:moveTo>
                <a:cubicBezTo>
                  <a:pt x="9712" y="14503"/>
                  <a:pt x="9739" y="14492"/>
                  <a:pt x="9773" y="14461"/>
                </a:cubicBezTo>
                <a:cubicBezTo>
                  <a:pt x="9816" y="14423"/>
                  <a:pt x="9859" y="14369"/>
                  <a:pt x="9872" y="14312"/>
                </a:cubicBezTo>
                <a:cubicBezTo>
                  <a:pt x="9884" y="14258"/>
                  <a:pt x="9855" y="14246"/>
                  <a:pt x="9823" y="14213"/>
                </a:cubicBezTo>
                <a:cubicBezTo>
                  <a:pt x="9770" y="14234"/>
                  <a:pt x="9689" y="14295"/>
                  <a:pt x="9674" y="14362"/>
                </a:cubicBezTo>
                <a:cubicBezTo>
                  <a:pt x="9659" y="14433"/>
                  <a:pt x="9671" y="14549"/>
                  <a:pt x="9748" y="14585"/>
                </a:cubicBezTo>
                <a:cubicBezTo>
                  <a:pt x="9802" y="14610"/>
                  <a:pt x="9949" y="14589"/>
                  <a:pt x="9996" y="14560"/>
                </a:cubicBezTo>
                <a:cubicBezTo>
                  <a:pt x="10021" y="14536"/>
                  <a:pt x="10030" y="14528"/>
                  <a:pt x="10046" y="14511"/>
                </a:cubicBezTo>
              </a:path>
              <a:path w="1018" h="1216">
                <a:moveTo>
                  <a:pt x="10145" y="14213"/>
                </a:moveTo>
                <a:cubicBezTo>
                  <a:pt x="10110" y="14167"/>
                  <a:pt x="10112" y="14164"/>
                  <a:pt x="10145" y="14139"/>
                </a:cubicBezTo>
                <a:cubicBezTo>
                  <a:pt x="10183" y="14111"/>
                  <a:pt x="10196" y="14114"/>
                  <a:pt x="10244" y="14114"/>
                </a:cubicBezTo>
                <a:cubicBezTo>
                  <a:pt x="10252" y="14114"/>
                  <a:pt x="10261" y="14114"/>
                  <a:pt x="10269" y="14114"/>
                </a:cubicBezTo>
                <a:cubicBezTo>
                  <a:pt x="10269" y="14188"/>
                  <a:pt x="10264" y="14228"/>
                  <a:pt x="10244" y="14288"/>
                </a:cubicBezTo>
                <a:cubicBezTo>
                  <a:pt x="10244" y="14312"/>
                  <a:pt x="10244" y="14321"/>
                  <a:pt x="10244" y="14337"/>
                </a:cubicBezTo>
                <a:cubicBezTo>
                  <a:pt x="10291" y="14337"/>
                  <a:pt x="10307" y="14320"/>
                  <a:pt x="10344" y="14312"/>
                </a:cubicBezTo>
                <a:cubicBezTo>
                  <a:pt x="10388" y="14312"/>
                  <a:pt x="10401" y="14315"/>
                  <a:pt x="10418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152960" y="5037120"/>
            <a:ext cx="106200" cy="98280"/>
          </a:xfrm>
          <a:custGeom>
            <a:avLst/>
            <a:gdLst/>
            <a:ahLst/>
            <a:rect l="l" t="t" r="r" b="b"/>
            <a:pathLst>
              <a:path w="299" h="274">
                <a:moveTo>
                  <a:pt x="11832" y="14163"/>
                </a:moveTo>
                <a:cubicBezTo>
                  <a:pt x="11832" y="14155"/>
                  <a:pt x="11832" y="14147"/>
                  <a:pt x="11832" y="14139"/>
                </a:cubicBezTo>
                <a:cubicBezTo>
                  <a:pt x="11733" y="14139"/>
                  <a:pt x="11633" y="14139"/>
                  <a:pt x="11534" y="14139"/>
                </a:cubicBezTo>
              </a:path>
              <a:path w="299" h="274">
                <a:moveTo>
                  <a:pt x="11658" y="13990"/>
                </a:moveTo>
                <a:cubicBezTo>
                  <a:pt x="11726" y="14007"/>
                  <a:pt x="11708" y="14049"/>
                  <a:pt x="11708" y="14114"/>
                </a:cubicBezTo>
                <a:cubicBezTo>
                  <a:pt x="11708" y="14178"/>
                  <a:pt x="11711" y="14204"/>
                  <a:pt x="1173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00720" y="4938840"/>
            <a:ext cx="322200" cy="401400"/>
          </a:xfrm>
          <a:custGeom>
            <a:avLst/>
            <a:gdLst/>
            <a:ahLst/>
            <a:rect l="l" t="t" r="r" b="b"/>
            <a:pathLst>
              <a:path w="894" h="1117">
                <a:moveTo>
                  <a:pt x="12750" y="13742"/>
                </a:moveTo>
                <a:cubicBezTo>
                  <a:pt x="12758" y="13734"/>
                  <a:pt x="12766" y="13725"/>
                  <a:pt x="12774" y="13717"/>
                </a:cubicBezTo>
                <a:cubicBezTo>
                  <a:pt x="12774" y="13813"/>
                  <a:pt x="12763" y="13897"/>
                  <a:pt x="12750" y="13990"/>
                </a:cubicBezTo>
                <a:cubicBezTo>
                  <a:pt x="12750" y="14006"/>
                  <a:pt x="12750" y="14023"/>
                  <a:pt x="12750" y="14039"/>
                </a:cubicBezTo>
              </a:path>
              <a:path w="894" h="1117">
                <a:moveTo>
                  <a:pt x="13171" y="14188"/>
                </a:moveTo>
                <a:cubicBezTo>
                  <a:pt x="13019" y="14188"/>
                  <a:pt x="12873" y="14197"/>
                  <a:pt x="12725" y="14213"/>
                </a:cubicBezTo>
                <a:cubicBezTo>
                  <a:pt x="12654" y="14221"/>
                  <a:pt x="12587" y="14231"/>
                  <a:pt x="12526" y="14238"/>
                </a:cubicBezTo>
                <a:cubicBezTo>
                  <a:pt x="12518" y="14238"/>
                  <a:pt x="12510" y="14238"/>
                  <a:pt x="12502" y="14238"/>
                </a:cubicBezTo>
              </a:path>
              <a:path w="894" h="1117">
                <a:moveTo>
                  <a:pt x="12576" y="14610"/>
                </a:moveTo>
                <a:cubicBezTo>
                  <a:pt x="12576" y="14660"/>
                  <a:pt x="12576" y="14709"/>
                  <a:pt x="12576" y="14759"/>
                </a:cubicBezTo>
                <a:cubicBezTo>
                  <a:pt x="12653" y="14743"/>
                  <a:pt x="12687" y="14702"/>
                  <a:pt x="12750" y="14660"/>
                </a:cubicBezTo>
                <a:cubicBezTo>
                  <a:pt x="12819" y="14614"/>
                  <a:pt x="12824" y="14594"/>
                  <a:pt x="12824" y="14511"/>
                </a:cubicBezTo>
                <a:cubicBezTo>
                  <a:pt x="12736" y="14511"/>
                  <a:pt x="12697" y="14504"/>
                  <a:pt x="12650" y="14585"/>
                </a:cubicBezTo>
                <a:cubicBezTo>
                  <a:pt x="12606" y="14660"/>
                  <a:pt x="12607" y="14753"/>
                  <a:pt x="12675" y="14808"/>
                </a:cubicBezTo>
                <a:cubicBezTo>
                  <a:pt x="12741" y="14862"/>
                  <a:pt x="12807" y="14824"/>
                  <a:pt x="12874" y="14808"/>
                </a:cubicBezTo>
                <a:cubicBezTo>
                  <a:pt x="12882" y="14808"/>
                  <a:pt x="12890" y="14808"/>
                  <a:pt x="12898" y="14808"/>
                </a:cubicBezTo>
              </a:path>
              <a:path w="894" h="1117">
                <a:moveTo>
                  <a:pt x="13146" y="14337"/>
                </a:moveTo>
                <a:cubicBezTo>
                  <a:pt x="13146" y="14398"/>
                  <a:pt x="13116" y="14403"/>
                  <a:pt x="13097" y="14461"/>
                </a:cubicBezTo>
                <a:cubicBezTo>
                  <a:pt x="13086" y="14493"/>
                  <a:pt x="13086" y="14567"/>
                  <a:pt x="13122" y="14585"/>
                </a:cubicBezTo>
                <a:cubicBezTo>
                  <a:pt x="13164" y="14606"/>
                  <a:pt x="13217" y="14566"/>
                  <a:pt x="13246" y="14560"/>
                </a:cubicBezTo>
                <a:cubicBezTo>
                  <a:pt x="13290" y="14551"/>
                  <a:pt x="13349" y="14560"/>
                  <a:pt x="13395" y="14560"/>
                </a:cubicBezTo>
              </a:path>
              <a:path w="894" h="1117">
                <a:moveTo>
                  <a:pt x="13320" y="14461"/>
                </a:moveTo>
                <a:cubicBezTo>
                  <a:pt x="13304" y="14461"/>
                  <a:pt x="13287" y="14461"/>
                  <a:pt x="13271" y="14461"/>
                </a:cubicBezTo>
                <a:cubicBezTo>
                  <a:pt x="13271" y="14542"/>
                  <a:pt x="13258" y="14610"/>
                  <a:pt x="13246" y="14684"/>
                </a:cubicBezTo>
                <a:cubicBezTo>
                  <a:pt x="13246" y="14701"/>
                  <a:pt x="13246" y="14717"/>
                  <a:pt x="13246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43040" y="5607000"/>
            <a:ext cx="135000" cy="117360"/>
          </a:xfrm>
          <a:custGeom>
            <a:avLst/>
            <a:gdLst/>
            <a:ahLst/>
            <a:rect l="l" t="t" r="r" b="b"/>
            <a:pathLst>
              <a:path w="373" h="324">
                <a:moveTo>
                  <a:pt x="4812" y="15701"/>
                </a:moveTo>
                <a:cubicBezTo>
                  <a:pt x="4855" y="15719"/>
                  <a:pt x="4970" y="15719"/>
                  <a:pt x="4936" y="15751"/>
                </a:cubicBezTo>
                <a:cubicBezTo>
                  <a:pt x="4914" y="15772"/>
                  <a:pt x="4813" y="15727"/>
                  <a:pt x="4787" y="15726"/>
                </a:cubicBezTo>
                <a:cubicBezTo>
                  <a:pt x="4713" y="15722"/>
                  <a:pt x="4660" y="15746"/>
                  <a:pt x="4589" y="15751"/>
                </a:cubicBezTo>
                <a:cubicBezTo>
                  <a:pt x="4581" y="15751"/>
                  <a:pt x="4572" y="15751"/>
                  <a:pt x="4564" y="15751"/>
                </a:cubicBezTo>
              </a:path>
              <a:path w="373" h="324">
                <a:moveTo>
                  <a:pt x="4614" y="15577"/>
                </a:moveTo>
                <a:cubicBezTo>
                  <a:pt x="4697" y="15598"/>
                  <a:pt x="4646" y="15655"/>
                  <a:pt x="4663" y="15726"/>
                </a:cubicBezTo>
                <a:cubicBezTo>
                  <a:pt x="4678" y="15788"/>
                  <a:pt x="4688" y="15833"/>
                  <a:pt x="4688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97080" y="5464080"/>
            <a:ext cx="330120" cy="206640"/>
          </a:xfrm>
          <a:custGeom>
            <a:avLst/>
            <a:gdLst/>
            <a:ahLst/>
            <a:rect l="l" t="t" r="r" b="b"/>
            <a:pathLst>
              <a:path w="919" h="572">
                <a:moveTo>
                  <a:pt x="6127" y="15354"/>
                </a:moveTo>
                <a:cubicBezTo>
                  <a:pt x="6127" y="15346"/>
                  <a:pt x="6127" y="15337"/>
                  <a:pt x="6127" y="15329"/>
                </a:cubicBezTo>
                <a:cubicBezTo>
                  <a:pt x="6086" y="15356"/>
                  <a:pt x="6102" y="15439"/>
                  <a:pt x="6102" y="15503"/>
                </a:cubicBezTo>
                <a:cubicBezTo>
                  <a:pt x="6102" y="15591"/>
                  <a:pt x="6122" y="15671"/>
                  <a:pt x="6152" y="15751"/>
                </a:cubicBezTo>
              </a:path>
              <a:path w="919" h="572">
                <a:moveTo>
                  <a:pt x="6499" y="15429"/>
                </a:moveTo>
                <a:cubicBezTo>
                  <a:pt x="6472" y="15389"/>
                  <a:pt x="6429" y="15375"/>
                  <a:pt x="6424" y="15329"/>
                </a:cubicBezTo>
                <a:cubicBezTo>
                  <a:pt x="6418" y="15278"/>
                  <a:pt x="6488" y="15249"/>
                  <a:pt x="6524" y="15230"/>
                </a:cubicBezTo>
                <a:cubicBezTo>
                  <a:pt x="6588" y="15196"/>
                  <a:pt x="6635" y="15155"/>
                  <a:pt x="6697" y="15205"/>
                </a:cubicBezTo>
                <a:cubicBezTo>
                  <a:pt x="6742" y="15241"/>
                  <a:pt x="6734" y="15377"/>
                  <a:pt x="6722" y="15429"/>
                </a:cubicBezTo>
                <a:cubicBezTo>
                  <a:pt x="6704" y="15507"/>
                  <a:pt x="6672" y="15539"/>
                  <a:pt x="6672" y="15627"/>
                </a:cubicBezTo>
                <a:cubicBezTo>
                  <a:pt x="6672" y="15720"/>
                  <a:pt x="6781" y="15659"/>
                  <a:pt x="6821" y="15652"/>
                </a:cubicBezTo>
                <a:cubicBezTo>
                  <a:pt x="6892" y="15640"/>
                  <a:pt x="6949" y="15611"/>
                  <a:pt x="7020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74760" y="5330880"/>
            <a:ext cx="108000" cy="90360"/>
          </a:xfrm>
          <a:custGeom>
            <a:avLst/>
            <a:gdLst/>
            <a:ahLst/>
            <a:rect l="l" t="t" r="r" b="b"/>
            <a:pathLst>
              <a:path w="298" h="249">
                <a:moveTo>
                  <a:pt x="1290" y="14833"/>
                </a:moveTo>
                <a:cubicBezTo>
                  <a:pt x="1315" y="14833"/>
                  <a:pt x="1323" y="14833"/>
                  <a:pt x="1339" y="14833"/>
                </a:cubicBezTo>
                <a:cubicBezTo>
                  <a:pt x="1297" y="14822"/>
                  <a:pt x="1269" y="14792"/>
                  <a:pt x="1215" y="14808"/>
                </a:cubicBezTo>
                <a:cubicBezTo>
                  <a:pt x="1152" y="14827"/>
                  <a:pt x="1119" y="14885"/>
                  <a:pt x="1067" y="14908"/>
                </a:cubicBezTo>
                <a:cubicBezTo>
                  <a:pt x="1059" y="14908"/>
                  <a:pt x="1050" y="14908"/>
                  <a:pt x="1042" y="14908"/>
                </a:cubicBezTo>
              </a:path>
              <a:path w="298" h="249">
                <a:moveTo>
                  <a:pt x="1315" y="14957"/>
                </a:moveTo>
                <a:cubicBezTo>
                  <a:pt x="1337" y="14980"/>
                  <a:pt x="1345" y="14985"/>
                  <a:pt x="1339" y="15007"/>
                </a:cubicBezTo>
                <a:cubicBezTo>
                  <a:pt x="1280" y="15019"/>
                  <a:pt x="1224" y="15035"/>
                  <a:pt x="1166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69960" y="5286240"/>
            <a:ext cx="419040" cy="206640"/>
          </a:xfrm>
          <a:custGeom>
            <a:avLst/>
            <a:gdLst/>
            <a:ahLst/>
            <a:rect l="l" t="t" r="r" b="b"/>
            <a:pathLst>
              <a:path w="1167" h="572">
                <a:moveTo>
                  <a:pt x="1885" y="14858"/>
                </a:moveTo>
                <a:cubicBezTo>
                  <a:pt x="1843" y="14844"/>
                  <a:pt x="1854" y="14818"/>
                  <a:pt x="1885" y="14784"/>
                </a:cubicBezTo>
                <a:cubicBezTo>
                  <a:pt x="1914" y="14752"/>
                  <a:pt x="1970" y="14694"/>
                  <a:pt x="2009" y="14684"/>
                </a:cubicBezTo>
                <a:cubicBezTo>
                  <a:pt x="2049" y="14673"/>
                  <a:pt x="2120" y="14686"/>
                  <a:pt x="2133" y="14734"/>
                </a:cubicBezTo>
                <a:cubicBezTo>
                  <a:pt x="2155" y="14811"/>
                  <a:pt x="2131" y="14912"/>
                  <a:pt x="2108" y="14982"/>
                </a:cubicBezTo>
                <a:cubicBezTo>
                  <a:pt x="2083" y="15058"/>
                  <a:pt x="2058" y="15129"/>
                  <a:pt x="2034" y="15205"/>
                </a:cubicBezTo>
                <a:cubicBezTo>
                  <a:pt x="2034" y="15230"/>
                  <a:pt x="2034" y="15238"/>
                  <a:pt x="2034" y="15255"/>
                </a:cubicBezTo>
                <a:cubicBezTo>
                  <a:pt x="2091" y="15255"/>
                  <a:pt x="2112" y="15245"/>
                  <a:pt x="2158" y="15230"/>
                </a:cubicBezTo>
                <a:cubicBezTo>
                  <a:pt x="2167" y="15227"/>
                  <a:pt x="2254" y="15209"/>
                  <a:pt x="2257" y="15205"/>
                </a:cubicBezTo>
                <a:cubicBezTo>
                  <a:pt x="2257" y="15197"/>
                  <a:pt x="2257" y="15188"/>
                  <a:pt x="2257" y="15180"/>
                </a:cubicBezTo>
              </a:path>
              <a:path w="1167" h="572">
                <a:moveTo>
                  <a:pt x="2282" y="15056"/>
                </a:moveTo>
                <a:cubicBezTo>
                  <a:pt x="2318" y="15056"/>
                  <a:pt x="2386" y="15072"/>
                  <a:pt x="2406" y="15032"/>
                </a:cubicBezTo>
                <a:cubicBezTo>
                  <a:pt x="2424" y="14996"/>
                  <a:pt x="2447" y="14952"/>
                  <a:pt x="2456" y="14908"/>
                </a:cubicBezTo>
                <a:cubicBezTo>
                  <a:pt x="2416" y="14908"/>
                  <a:pt x="2349" y="14909"/>
                  <a:pt x="2332" y="14957"/>
                </a:cubicBezTo>
                <a:cubicBezTo>
                  <a:pt x="2309" y="15024"/>
                  <a:pt x="2338" y="15125"/>
                  <a:pt x="2381" y="15180"/>
                </a:cubicBezTo>
                <a:cubicBezTo>
                  <a:pt x="2438" y="15253"/>
                  <a:pt x="2478" y="15267"/>
                  <a:pt x="2555" y="15230"/>
                </a:cubicBezTo>
                <a:cubicBezTo>
                  <a:pt x="2571" y="15222"/>
                  <a:pt x="2588" y="15213"/>
                  <a:pt x="2604" y="15205"/>
                </a:cubicBezTo>
              </a:path>
              <a:path w="1167" h="572">
                <a:moveTo>
                  <a:pt x="2704" y="14759"/>
                </a:moveTo>
                <a:cubicBezTo>
                  <a:pt x="2704" y="14819"/>
                  <a:pt x="2714" y="14858"/>
                  <a:pt x="2729" y="14908"/>
                </a:cubicBezTo>
                <a:cubicBezTo>
                  <a:pt x="2729" y="14916"/>
                  <a:pt x="2729" y="14924"/>
                  <a:pt x="2729" y="14932"/>
                </a:cubicBezTo>
                <a:cubicBezTo>
                  <a:pt x="2819" y="14932"/>
                  <a:pt x="2899" y="14931"/>
                  <a:pt x="2977" y="14908"/>
                </a:cubicBezTo>
                <a:cubicBezTo>
                  <a:pt x="3001" y="14908"/>
                  <a:pt x="3010" y="14908"/>
                  <a:pt x="3026" y="14908"/>
                </a:cubicBezTo>
              </a:path>
              <a:path w="1167" h="572">
                <a:moveTo>
                  <a:pt x="2952" y="14883"/>
                </a:moveTo>
                <a:cubicBezTo>
                  <a:pt x="2913" y="14805"/>
                  <a:pt x="2951" y="14953"/>
                  <a:pt x="2952" y="14957"/>
                </a:cubicBezTo>
                <a:cubicBezTo>
                  <a:pt x="2952" y="15009"/>
                  <a:pt x="2953" y="15027"/>
                  <a:pt x="2977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268880" y="5715000"/>
            <a:ext cx="258840" cy="393840"/>
          </a:xfrm>
          <a:custGeom>
            <a:avLst/>
            <a:gdLst/>
            <a:ahLst/>
            <a:rect l="l" t="t" r="r" b="b"/>
            <a:pathLst>
              <a:path w="720" h="1092">
                <a:moveTo>
                  <a:pt x="11956" y="15999"/>
                </a:moveTo>
                <a:lnTo>
                  <a:pt x="11956" y="15999"/>
                </a:lnTo>
                <a:lnTo>
                  <a:pt x="11956" y="15999"/>
                </a:lnTo>
                <a:lnTo>
                  <a:pt x="11956" y="15999"/>
                </a:lnTo>
                <a:lnTo>
                  <a:pt x="11956" y="15999"/>
                </a:lnTo>
                <a:lnTo>
                  <a:pt x="11956" y="15999"/>
                </a:lnTo>
                <a:lnTo>
                  <a:pt x="11956" y="15999"/>
                </a:lnTo>
              </a:path>
              <a:path w="720" h="1092">
                <a:moveTo>
                  <a:pt x="11956" y="15999"/>
                </a:moveTo>
                <a:cubicBezTo>
                  <a:pt x="11948" y="15999"/>
                  <a:pt x="11939" y="15999"/>
                  <a:pt x="11931" y="15999"/>
                </a:cubicBezTo>
                <a:cubicBezTo>
                  <a:pt x="11942" y="15967"/>
                  <a:pt x="11956" y="16007"/>
                  <a:pt x="11956" y="15974"/>
                </a:cubicBezTo>
                <a:cubicBezTo>
                  <a:pt x="11956" y="15955"/>
                  <a:pt x="11983" y="15882"/>
                  <a:pt x="12005" y="15875"/>
                </a:cubicBezTo>
                <a:cubicBezTo>
                  <a:pt x="12036" y="15865"/>
                  <a:pt x="12095" y="15875"/>
                  <a:pt x="12129" y="15875"/>
                </a:cubicBezTo>
                <a:cubicBezTo>
                  <a:pt x="12129" y="15956"/>
                  <a:pt x="12148" y="16052"/>
                  <a:pt x="12105" y="16123"/>
                </a:cubicBezTo>
                <a:cubicBezTo>
                  <a:pt x="12082" y="16161"/>
                  <a:pt x="12019" y="16201"/>
                  <a:pt x="12005" y="16222"/>
                </a:cubicBezTo>
                <a:cubicBezTo>
                  <a:pt x="12005" y="16230"/>
                  <a:pt x="12005" y="16239"/>
                  <a:pt x="12005" y="16247"/>
                </a:cubicBezTo>
                <a:cubicBezTo>
                  <a:pt x="12067" y="16247"/>
                  <a:pt x="12096" y="16237"/>
                  <a:pt x="12154" y="16222"/>
                </a:cubicBezTo>
                <a:cubicBezTo>
                  <a:pt x="12183" y="16215"/>
                  <a:pt x="12224" y="16222"/>
                  <a:pt x="12254" y="16222"/>
                </a:cubicBezTo>
              </a:path>
              <a:path w="720" h="1092">
                <a:moveTo>
                  <a:pt x="12502" y="16446"/>
                </a:moveTo>
                <a:cubicBezTo>
                  <a:pt x="12526" y="16446"/>
                  <a:pt x="12534" y="16446"/>
                  <a:pt x="12526" y="16470"/>
                </a:cubicBezTo>
                <a:cubicBezTo>
                  <a:pt x="12438" y="16470"/>
                  <a:pt x="12359" y="16456"/>
                  <a:pt x="12278" y="16446"/>
                </a:cubicBezTo>
                <a:cubicBezTo>
                  <a:pt x="12225" y="16440"/>
                  <a:pt x="12103" y="16410"/>
                  <a:pt x="12055" y="16421"/>
                </a:cubicBezTo>
                <a:cubicBezTo>
                  <a:pt x="12002" y="16433"/>
                  <a:pt x="11957" y="16480"/>
                  <a:pt x="11931" y="16495"/>
                </a:cubicBezTo>
                <a:cubicBezTo>
                  <a:pt x="11923" y="16495"/>
                  <a:pt x="11914" y="16495"/>
                  <a:pt x="11906" y="16495"/>
                </a:cubicBezTo>
              </a:path>
              <a:path w="720" h="1092">
                <a:moveTo>
                  <a:pt x="11881" y="16768"/>
                </a:moveTo>
                <a:cubicBezTo>
                  <a:pt x="11856" y="16803"/>
                  <a:pt x="11857" y="16800"/>
                  <a:pt x="11857" y="16842"/>
                </a:cubicBezTo>
                <a:cubicBezTo>
                  <a:pt x="11918" y="16842"/>
                  <a:pt x="11975" y="16851"/>
                  <a:pt x="12030" y="16818"/>
                </a:cubicBezTo>
                <a:cubicBezTo>
                  <a:pt x="12075" y="16790"/>
                  <a:pt x="12095" y="16741"/>
                  <a:pt x="12105" y="16694"/>
                </a:cubicBezTo>
                <a:cubicBezTo>
                  <a:pt x="12055" y="16694"/>
                  <a:pt x="12021" y="16686"/>
                  <a:pt x="11981" y="16718"/>
                </a:cubicBezTo>
                <a:cubicBezTo>
                  <a:pt x="11921" y="16766"/>
                  <a:pt x="11918" y="16830"/>
                  <a:pt x="11956" y="16892"/>
                </a:cubicBezTo>
                <a:cubicBezTo>
                  <a:pt x="11983" y="16935"/>
                  <a:pt x="12032" y="16963"/>
                  <a:pt x="12080" y="16966"/>
                </a:cubicBezTo>
                <a:cubicBezTo>
                  <a:pt x="12131" y="16969"/>
                  <a:pt x="12137" y="16952"/>
                  <a:pt x="12179" y="16942"/>
                </a:cubicBezTo>
              </a:path>
              <a:path w="720" h="1092">
                <a:moveTo>
                  <a:pt x="12353" y="16594"/>
                </a:moveTo>
                <a:cubicBezTo>
                  <a:pt x="12353" y="16578"/>
                  <a:pt x="12353" y="16561"/>
                  <a:pt x="12353" y="16545"/>
                </a:cubicBezTo>
                <a:cubicBezTo>
                  <a:pt x="12343" y="16584"/>
                  <a:pt x="12328" y="16599"/>
                  <a:pt x="12328" y="16644"/>
                </a:cubicBezTo>
                <a:cubicBezTo>
                  <a:pt x="12328" y="16690"/>
                  <a:pt x="12326" y="16712"/>
                  <a:pt x="12378" y="16718"/>
                </a:cubicBezTo>
                <a:cubicBezTo>
                  <a:pt x="12442" y="16725"/>
                  <a:pt x="12511" y="16718"/>
                  <a:pt x="12576" y="16718"/>
                </a:cubicBezTo>
              </a:path>
              <a:path w="720" h="1092">
                <a:moveTo>
                  <a:pt x="12526" y="16694"/>
                </a:moveTo>
                <a:cubicBezTo>
                  <a:pt x="12444" y="16670"/>
                  <a:pt x="12452" y="16684"/>
                  <a:pt x="12452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2920" y="5724360"/>
            <a:ext cx="133200" cy="115920"/>
          </a:xfrm>
          <a:custGeom>
            <a:avLst/>
            <a:gdLst/>
            <a:ahLst/>
            <a:rect l="l" t="t" r="r" b="b"/>
            <a:pathLst>
              <a:path w="373" h="323">
                <a:moveTo>
                  <a:pt x="10492" y="16073"/>
                </a:moveTo>
                <a:cubicBezTo>
                  <a:pt x="10561" y="16073"/>
                  <a:pt x="10452" y="16076"/>
                  <a:pt x="10443" y="16073"/>
                </a:cubicBezTo>
                <a:cubicBezTo>
                  <a:pt x="10365" y="16046"/>
                  <a:pt x="10304" y="16049"/>
                  <a:pt x="10220" y="16049"/>
                </a:cubicBezTo>
                <a:cubicBezTo>
                  <a:pt x="10185" y="16049"/>
                  <a:pt x="10167" y="16053"/>
                  <a:pt x="10145" y="16073"/>
                </a:cubicBezTo>
              </a:path>
              <a:path w="373" h="323">
                <a:moveTo>
                  <a:pt x="10244" y="15925"/>
                </a:moveTo>
                <a:cubicBezTo>
                  <a:pt x="10289" y="15909"/>
                  <a:pt x="10282" y="16004"/>
                  <a:pt x="10269" y="16073"/>
                </a:cubicBezTo>
                <a:cubicBezTo>
                  <a:pt x="10245" y="16146"/>
                  <a:pt x="10236" y="16170"/>
                  <a:pt x="10244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04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08080" y="2347920"/>
            <a:ext cx="320760" cy="546120"/>
          </a:xfrm>
          <a:custGeom>
            <a:avLst/>
            <a:gdLst/>
            <a:ahLst/>
            <a:rect l="l" t="t" r="r" b="b"/>
            <a:pathLst>
              <a:path w="894" h="1514">
                <a:moveTo>
                  <a:pt x="3398" y="6821"/>
                </a:moveTo>
                <a:cubicBezTo>
                  <a:pt x="3457" y="6801"/>
                  <a:pt x="3406" y="6788"/>
                  <a:pt x="3398" y="6772"/>
                </a:cubicBezTo>
                <a:cubicBezTo>
                  <a:pt x="3383" y="6743"/>
                  <a:pt x="3348" y="6731"/>
                  <a:pt x="3299" y="6747"/>
                </a:cubicBezTo>
                <a:cubicBezTo>
                  <a:pt x="3221" y="6773"/>
                  <a:pt x="3175" y="6816"/>
                  <a:pt x="3150" y="6896"/>
                </a:cubicBezTo>
                <a:cubicBezTo>
                  <a:pt x="3133" y="6952"/>
                  <a:pt x="3206" y="7027"/>
                  <a:pt x="3249" y="7045"/>
                </a:cubicBezTo>
                <a:cubicBezTo>
                  <a:pt x="3326" y="7078"/>
                  <a:pt x="3351" y="7002"/>
                  <a:pt x="3373" y="6945"/>
                </a:cubicBezTo>
                <a:cubicBezTo>
                  <a:pt x="3405" y="6864"/>
                  <a:pt x="3443" y="6657"/>
                  <a:pt x="3423" y="6573"/>
                </a:cubicBezTo>
                <a:cubicBezTo>
                  <a:pt x="3401" y="6551"/>
                  <a:pt x="3392" y="6546"/>
                  <a:pt x="3398" y="6524"/>
                </a:cubicBezTo>
                <a:cubicBezTo>
                  <a:pt x="3368" y="6534"/>
                  <a:pt x="3354" y="6605"/>
                  <a:pt x="3349" y="6648"/>
                </a:cubicBezTo>
                <a:cubicBezTo>
                  <a:pt x="3340" y="6716"/>
                  <a:pt x="3371" y="6837"/>
                  <a:pt x="3398" y="6896"/>
                </a:cubicBezTo>
                <a:cubicBezTo>
                  <a:pt x="3420" y="6918"/>
                  <a:pt x="3429" y="6923"/>
                  <a:pt x="3423" y="6945"/>
                </a:cubicBezTo>
              </a:path>
              <a:path w="894" h="1514">
                <a:moveTo>
                  <a:pt x="3646" y="6970"/>
                </a:moveTo>
                <a:cubicBezTo>
                  <a:pt x="3646" y="6978"/>
                  <a:pt x="3646" y="6987"/>
                  <a:pt x="3646" y="6995"/>
                </a:cubicBezTo>
                <a:cubicBezTo>
                  <a:pt x="3674" y="6958"/>
                  <a:pt x="3688" y="6893"/>
                  <a:pt x="3696" y="6846"/>
                </a:cubicBezTo>
                <a:cubicBezTo>
                  <a:pt x="3707" y="6780"/>
                  <a:pt x="3721" y="6684"/>
                  <a:pt x="3746" y="6623"/>
                </a:cubicBezTo>
                <a:cubicBezTo>
                  <a:pt x="3768" y="6600"/>
                  <a:pt x="3776" y="6595"/>
                  <a:pt x="3770" y="6573"/>
                </a:cubicBezTo>
                <a:cubicBezTo>
                  <a:pt x="3797" y="6610"/>
                  <a:pt x="3834" y="6674"/>
                  <a:pt x="3845" y="6722"/>
                </a:cubicBezTo>
                <a:cubicBezTo>
                  <a:pt x="3860" y="6789"/>
                  <a:pt x="3889" y="6851"/>
                  <a:pt x="3894" y="6921"/>
                </a:cubicBezTo>
                <a:cubicBezTo>
                  <a:pt x="3894" y="6929"/>
                  <a:pt x="3894" y="6937"/>
                  <a:pt x="3894" y="6945"/>
                </a:cubicBezTo>
              </a:path>
              <a:path w="894" h="1514">
                <a:moveTo>
                  <a:pt x="3919" y="6896"/>
                </a:moveTo>
                <a:cubicBezTo>
                  <a:pt x="3861" y="6871"/>
                  <a:pt x="3834" y="6871"/>
                  <a:pt x="3770" y="6871"/>
                </a:cubicBezTo>
                <a:cubicBezTo>
                  <a:pt x="3721" y="6871"/>
                  <a:pt x="3704" y="6871"/>
                  <a:pt x="3671" y="6871"/>
                </a:cubicBezTo>
              </a:path>
              <a:path w="894" h="1514">
                <a:moveTo>
                  <a:pt x="3969" y="7193"/>
                </a:moveTo>
                <a:cubicBezTo>
                  <a:pt x="3920" y="7193"/>
                  <a:pt x="3910" y="7182"/>
                  <a:pt x="3870" y="7169"/>
                </a:cubicBezTo>
                <a:cubicBezTo>
                  <a:pt x="3812" y="7150"/>
                  <a:pt x="3730" y="7190"/>
                  <a:pt x="3671" y="7193"/>
                </a:cubicBezTo>
                <a:cubicBezTo>
                  <a:pt x="3569" y="7198"/>
                  <a:pt x="3474" y="7214"/>
                  <a:pt x="3373" y="7218"/>
                </a:cubicBezTo>
                <a:cubicBezTo>
                  <a:pt x="3288" y="7221"/>
                  <a:pt x="3179" y="7209"/>
                  <a:pt x="3101" y="7243"/>
                </a:cubicBezTo>
                <a:cubicBezTo>
                  <a:pt x="3093" y="7251"/>
                  <a:pt x="3084" y="7260"/>
                  <a:pt x="3076" y="7268"/>
                </a:cubicBezTo>
              </a:path>
              <a:path w="894" h="1514">
                <a:moveTo>
                  <a:pt x="3299" y="7913"/>
                </a:moveTo>
                <a:cubicBezTo>
                  <a:pt x="3299" y="7896"/>
                  <a:pt x="3299" y="7880"/>
                  <a:pt x="3299" y="7863"/>
                </a:cubicBezTo>
                <a:cubicBezTo>
                  <a:pt x="3251" y="7911"/>
                  <a:pt x="3249" y="7918"/>
                  <a:pt x="3249" y="7987"/>
                </a:cubicBezTo>
                <a:cubicBezTo>
                  <a:pt x="3249" y="8015"/>
                  <a:pt x="3251" y="8026"/>
                  <a:pt x="3274" y="8037"/>
                </a:cubicBezTo>
                <a:cubicBezTo>
                  <a:pt x="3346" y="7965"/>
                  <a:pt x="3369" y="7941"/>
                  <a:pt x="3373" y="7838"/>
                </a:cubicBezTo>
                <a:cubicBezTo>
                  <a:pt x="3375" y="7784"/>
                  <a:pt x="3395" y="7656"/>
                  <a:pt x="3349" y="7640"/>
                </a:cubicBezTo>
                <a:cubicBezTo>
                  <a:pt x="3349" y="7722"/>
                  <a:pt x="3349" y="7784"/>
                  <a:pt x="3373" y="7863"/>
                </a:cubicBezTo>
                <a:cubicBezTo>
                  <a:pt x="3399" y="7947"/>
                  <a:pt x="3414" y="8023"/>
                  <a:pt x="3497" y="8037"/>
                </a:cubicBezTo>
                <a:cubicBezTo>
                  <a:pt x="3539" y="8044"/>
                  <a:pt x="3557" y="8029"/>
                  <a:pt x="3597" y="8012"/>
                </a:cubicBezTo>
              </a:path>
              <a:path w="894" h="1514">
                <a:moveTo>
                  <a:pt x="3696" y="7789"/>
                </a:moveTo>
                <a:cubicBezTo>
                  <a:pt x="3696" y="7748"/>
                  <a:pt x="3696" y="7706"/>
                  <a:pt x="3696" y="7665"/>
                </a:cubicBezTo>
                <a:cubicBezTo>
                  <a:pt x="3646" y="7726"/>
                  <a:pt x="3646" y="7761"/>
                  <a:pt x="3646" y="7838"/>
                </a:cubicBezTo>
                <a:cubicBezTo>
                  <a:pt x="3646" y="7898"/>
                  <a:pt x="3660" y="7918"/>
                  <a:pt x="3696" y="7962"/>
                </a:cubicBezTo>
              </a:path>
              <a:path w="894" h="1514">
                <a:moveTo>
                  <a:pt x="3795" y="7913"/>
                </a:moveTo>
                <a:cubicBezTo>
                  <a:pt x="3789" y="7850"/>
                  <a:pt x="3796" y="7797"/>
                  <a:pt x="3721" y="7789"/>
                </a:cubicBezTo>
                <a:cubicBezTo>
                  <a:pt x="3681" y="7785"/>
                  <a:pt x="3637" y="7789"/>
                  <a:pt x="3597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866960" y="2608200"/>
            <a:ext cx="98280" cy="7956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5333" y="7268"/>
                </a:moveTo>
                <a:cubicBezTo>
                  <a:pt x="5341" y="7260"/>
                  <a:pt x="5350" y="7251"/>
                  <a:pt x="5358" y="7243"/>
                </a:cubicBezTo>
                <a:cubicBezTo>
                  <a:pt x="5317" y="7243"/>
                  <a:pt x="5275" y="7243"/>
                  <a:pt x="5234" y="7243"/>
                </a:cubicBezTo>
                <a:cubicBezTo>
                  <a:pt x="5222" y="7278"/>
                  <a:pt x="5227" y="7268"/>
                  <a:pt x="5184" y="7268"/>
                </a:cubicBezTo>
              </a:path>
              <a:path w="274" h="224">
                <a:moveTo>
                  <a:pt x="5457" y="7417"/>
                </a:moveTo>
                <a:cubicBezTo>
                  <a:pt x="5449" y="7417"/>
                  <a:pt x="5440" y="7417"/>
                  <a:pt x="5432" y="7417"/>
                </a:cubicBezTo>
                <a:cubicBezTo>
                  <a:pt x="5422" y="7446"/>
                  <a:pt x="5370" y="7455"/>
                  <a:pt x="5333" y="7466"/>
                </a:cubicBezTo>
                <a:cubicBezTo>
                  <a:pt x="5308" y="7466"/>
                  <a:pt x="5300" y="7466"/>
                  <a:pt x="5283" y="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125800" y="2608200"/>
            <a:ext cx="249120" cy="249480"/>
          </a:xfrm>
          <a:custGeom>
            <a:avLst/>
            <a:gdLst/>
            <a:ahLst/>
            <a:rect l="l" t="t" r="r" b="b"/>
            <a:pathLst>
              <a:path w="695" h="696">
                <a:moveTo>
                  <a:pt x="5904" y="7813"/>
                </a:moveTo>
                <a:cubicBezTo>
                  <a:pt x="5904" y="7821"/>
                  <a:pt x="5904" y="7830"/>
                  <a:pt x="5904" y="7838"/>
                </a:cubicBezTo>
                <a:cubicBezTo>
                  <a:pt x="5931" y="7800"/>
                  <a:pt x="5928" y="7787"/>
                  <a:pt x="5928" y="7739"/>
                </a:cubicBezTo>
                <a:cubicBezTo>
                  <a:pt x="5928" y="7667"/>
                  <a:pt x="5950" y="7582"/>
                  <a:pt x="5978" y="7516"/>
                </a:cubicBezTo>
                <a:cubicBezTo>
                  <a:pt x="6007" y="7447"/>
                  <a:pt x="6015" y="7383"/>
                  <a:pt x="6052" y="7317"/>
                </a:cubicBezTo>
                <a:cubicBezTo>
                  <a:pt x="6082" y="7264"/>
                  <a:pt x="6062" y="7256"/>
                  <a:pt x="6102" y="7243"/>
                </a:cubicBezTo>
                <a:cubicBezTo>
                  <a:pt x="6102" y="7317"/>
                  <a:pt x="6117" y="7369"/>
                  <a:pt x="6127" y="7441"/>
                </a:cubicBezTo>
                <a:cubicBezTo>
                  <a:pt x="6138" y="7517"/>
                  <a:pt x="6128" y="7593"/>
                  <a:pt x="6152" y="7665"/>
                </a:cubicBezTo>
                <a:cubicBezTo>
                  <a:pt x="6167" y="7712"/>
                  <a:pt x="6176" y="7776"/>
                  <a:pt x="6201" y="7813"/>
                </a:cubicBezTo>
                <a:cubicBezTo>
                  <a:pt x="6209" y="7821"/>
                  <a:pt x="6218" y="7830"/>
                  <a:pt x="6226" y="7838"/>
                </a:cubicBezTo>
              </a:path>
              <a:path w="695" h="696">
                <a:moveTo>
                  <a:pt x="6226" y="7739"/>
                </a:moveTo>
                <a:cubicBezTo>
                  <a:pt x="6192" y="7680"/>
                  <a:pt x="6192" y="7665"/>
                  <a:pt x="6127" y="7665"/>
                </a:cubicBezTo>
                <a:cubicBezTo>
                  <a:pt x="6053" y="7665"/>
                  <a:pt x="5962" y="7646"/>
                  <a:pt x="5904" y="7689"/>
                </a:cubicBezTo>
              </a:path>
              <a:path w="695" h="696">
                <a:moveTo>
                  <a:pt x="6424" y="7789"/>
                </a:moveTo>
                <a:cubicBezTo>
                  <a:pt x="6438" y="7775"/>
                  <a:pt x="6495" y="7706"/>
                  <a:pt x="6524" y="7739"/>
                </a:cubicBezTo>
                <a:cubicBezTo>
                  <a:pt x="6562" y="7782"/>
                  <a:pt x="6594" y="7834"/>
                  <a:pt x="6598" y="7888"/>
                </a:cubicBezTo>
                <a:cubicBezTo>
                  <a:pt x="6598" y="7913"/>
                  <a:pt x="6598" y="7921"/>
                  <a:pt x="6598" y="7938"/>
                </a:cubicBezTo>
                <a:cubicBezTo>
                  <a:pt x="6551" y="7938"/>
                  <a:pt x="6488" y="7932"/>
                  <a:pt x="6449" y="7913"/>
                </a:cubicBezTo>
                <a:cubicBezTo>
                  <a:pt x="6417" y="7897"/>
                  <a:pt x="6407" y="7867"/>
                  <a:pt x="6400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589120" y="2562120"/>
            <a:ext cx="590760" cy="250920"/>
          </a:xfrm>
          <a:custGeom>
            <a:avLst/>
            <a:gdLst/>
            <a:ahLst/>
            <a:rect l="l" t="t" r="r" b="b"/>
            <a:pathLst>
              <a:path w="1638" h="695">
                <a:moveTo>
                  <a:pt x="7193" y="7193"/>
                </a:moveTo>
                <a:cubicBezTo>
                  <a:pt x="7193" y="7169"/>
                  <a:pt x="7193" y="7161"/>
                  <a:pt x="7218" y="7169"/>
                </a:cubicBezTo>
                <a:cubicBezTo>
                  <a:pt x="7218" y="7342"/>
                  <a:pt x="7218" y="7516"/>
                  <a:pt x="7218" y="7689"/>
                </a:cubicBezTo>
              </a:path>
              <a:path w="1638" h="695">
                <a:moveTo>
                  <a:pt x="7367" y="7491"/>
                </a:moveTo>
                <a:cubicBezTo>
                  <a:pt x="7375" y="7491"/>
                  <a:pt x="7384" y="7491"/>
                  <a:pt x="7392" y="7491"/>
                </a:cubicBezTo>
                <a:cubicBezTo>
                  <a:pt x="7344" y="7503"/>
                  <a:pt x="7310" y="7537"/>
                  <a:pt x="7293" y="7590"/>
                </a:cubicBezTo>
                <a:cubicBezTo>
                  <a:pt x="7283" y="7622"/>
                  <a:pt x="7280" y="7745"/>
                  <a:pt x="7317" y="7764"/>
                </a:cubicBezTo>
                <a:cubicBezTo>
                  <a:pt x="7325" y="7764"/>
                  <a:pt x="7334" y="7764"/>
                  <a:pt x="7342" y="7764"/>
                </a:cubicBezTo>
                <a:cubicBezTo>
                  <a:pt x="7350" y="7787"/>
                  <a:pt x="7384" y="7802"/>
                  <a:pt x="7417" y="7813"/>
                </a:cubicBezTo>
                <a:cubicBezTo>
                  <a:pt x="7441" y="7813"/>
                  <a:pt x="7450" y="7813"/>
                  <a:pt x="7466" y="7813"/>
                </a:cubicBezTo>
              </a:path>
              <a:path w="1638" h="695">
                <a:moveTo>
                  <a:pt x="7615" y="7689"/>
                </a:moveTo>
                <a:cubicBezTo>
                  <a:pt x="7677" y="7689"/>
                  <a:pt x="7712" y="7682"/>
                  <a:pt x="7764" y="7665"/>
                </a:cubicBezTo>
                <a:cubicBezTo>
                  <a:pt x="7804" y="7652"/>
                  <a:pt x="7833" y="7638"/>
                  <a:pt x="7838" y="7590"/>
                </a:cubicBezTo>
                <a:cubicBezTo>
                  <a:pt x="7838" y="7565"/>
                  <a:pt x="7838" y="7557"/>
                  <a:pt x="7838" y="7541"/>
                </a:cubicBezTo>
                <a:cubicBezTo>
                  <a:pt x="7800" y="7541"/>
                  <a:pt x="7764" y="7530"/>
                  <a:pt x="7739" y="7565"/>
                </a:cubicBezTo>
                <a:cubicBezTo>
                  <a:pt x="7712" y="7604"/>
                  <a:pt x="7697" y="7694"/>
                  <a:pt x="7714" y="7739"/>
                </a:cubicBezTo>
                <a:cubicBezTo>
                  <a:pt x="7740" y="7807"/>
                  <a:pt x="7773" y="7813"/>
                  <a:pt x="7838" y="7813"/>
                </a:cubicBezTo>
                <a:cubicBezTo>
                  <a:pt x="7878" y="7813"/>
                  <a:pt x="7931" y="7808"/>
                  <a:pt x="7962" y="7789"/>
                </a:cubicBezTo>
                <a:cubicBezTo>
                  <a:pt x="7997" y="7768"/>
                  <a:pt x="8002" y="7768"/>
                  <a:pt x="8012" y="7739"/>
                </a:cubicBezTo>
              </a:path>
              <a:path w="1638" h="695">
                <a:moveTo>
                  <a:pt x="8235" y="7119"/>
                </a:moveTo>
                <a:cubicBezTo>
                  <a:pt x="8243" y="7119"/>
                  <a:pt x="8252" y="7119"/>
                  <a:pt x="8260" y="7119"/>
                </a:cubicBezTo>
                <a:cubicBezTo>
                  <a:pt x="8260" y="7251"/>
                  <a:pt x="8260" y="7384"/>
                  <a:pt x="8260" y="7516"/>
                </a:cubicBezTo>
              </a:path>
              <a:path w="1638" h="695">
                <a:moveTo>
                  <a:pt x="8384" y="7317"/>
                </a:moveTo>
                <a:cubicBezTo>
                  <a:pt x="8392" y="7309"/>
                  <a:pt x="8401" y="7301"/>
                  <a:pt x="8409" y="7293"/>
                </a:cubicBezTo>
                <a:cubicBezTo>
                  <a:pt x="8377" y="7324"/>
                  <a:pt x="8339" y="7348"/>
                  <a:pt x="8334" y="7392"/>
                </a:cubicBezTo>
                <a:cubicBezTo>
                  <a:pt x="8331" y="7416"/>
                  <a:pt x="8334" y="7442"/>
                  <a:pt x="8334" y="7466"/>
                </a:cubicBezTo>
                <a:cubicBezTo>
                  <a:pt x="8400" y="7466"/>
                  <a:pt x="8467" y="7466"/>
                  <a:pt x="8533" y="7466"/>
                </a:cubicBezTo>
              </a:path>
              <a:path w="1638" h="695">
                <a:moveTo>
                  <a:pt x="8682" y="7218"/>
                </a:moveTo>
                <a:cubicBezTo>
                  <a:pt x="8682" y="7210"/>
                  <a:pt x="8682" y="7201"/>
                  <a:pt x="8682" y="7193"/>
                </a:cubicBezTo>
                <a:cubicBezTo>
                  <a:pt x="8682" y="7259"/>
                  <a:pt x="8671" y="7304"/>
                  <a:pt x="8657" y="7367"/>
                </a:cubicBezTo>
                <a:cubicBezTo>
                  <a:pt x="8646" y="7415"/>
                  <a:pt x="8653" y="7457"/>
                  <a:pt x="8682" y="7491"/>
                </a:cubicBezTo>
                <a:cubicBezTo>
                  <a:pt x="8700" y="7512"/>
                  <a:pt x="8751" y="7533"/>
                  <a:pt x="8781" y="7516"/>
                </a:cubicBezTo>
                <a:cubicBezTo>
                  <a:pt x="8803" y="7494"/>
                  <a:pt x="8808" y="7485"/>
                  <a:pt x="8830" y="7491"/>
                </a:cubicBezTo>
              </a:path>
              <a:path w="1638" h="695">
                <a:moveTo>
                  <a:pt x="8806" y="7342"/>
                </a:moveTo>
                <a:cubicBezTo>
                  <a:pt x="8753" y="7342"/>
                  <a:pt x="8744" y="7354"/>
                  <a:pt x="8706" y="7392"/>
                </a:cubicBezTo>
                <a:cubicBezTo>
                  <a:pt x="8698" y="7400"/>
                  <a:pt x="8690" y="7409"/>
                  <a:pt x="8682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11120" y="3224160"/>
            <a:ext cx="534960" cy="241200"/>
          </a:xfrm>
          <a:custGeom>
            <a:avLst/>
            <a:gdLst/>
            <a:ahLst/>
            <a:rect l="l" t="t" r="r" b="b"/>
            <a:pathLst>
              <a:path w="1489" h="671">
                <a:moveTo>
                  <a:pt x="1191" y="9004"/>
                </a:moveTo>
                <a:cubicBezTo>
                  <a:pt x="1191" y="8935"/>
                  <a:pt x="1195" y="9090"/>
                  <a:pt x="1191" y="9103"/>
                </a:cubicBezTo>
                <a:cubicBezTo>
                  <a:pt x="1165" y="9196"/>
                  <a:pt x="1155" y="9256"/>
                  <a:pt x="1191" y="9351"/>
                </a:cubicBezTo>
                <a:cubicBezTo>
                  <a:pt x="1229" y="9454"/>
                  <a:pt x="1257" y="9470"/>
                  <a:pt x="1364" y="9475"/>
                </a:cubicBezTo>
                <a:cubicBezTo>
                  <a:pt x="1423" y="9475"/>
                  <a:pt x="1449" y="9472"/>
                  <a:pt x="1488" y="9451"/>
                </a:cubicBezTo>
              </a:path>
              <a:path w="1489" h="671">
                <a:moveTo>
                  <a:pt x="1463" y="9252"/>
                </a:moveTo>
                <a:cubicBezTo>
                  <a:pt x="1348" y="9212"/>
                  <a:pt x="1301" y="9190"/>
                  <a:pt x="1191" y="9227"/>
                </a:cubicBezTo>
                <a:cubicBezTo>
                  <a:pt x="1174" y="9235"/>
                  <a:pt x="1158" y="9244"/>
                  <a:pt x="1141" y="9252"/>
                </a:cubicBezTo>
              </a:path>
              <a:path w="1489" h="671">
                <a:moveTo>
                  <a:pt x="1712" y="9203"/>
                </a:moveTo>
                <a:cubicBezTo>
                  <a:pt x="1720" y="9203"/>
                  <a:pt x="1728" y="9203"/>
                  <a:pt x="1736" y="9203"/>
                </a:cubicBezTo>
                <a:cubicBezTo>
                  <a:pt x="1727" y="9176"/>
                  <a:pt x="1701" y="9164"/>
                  <a:pt x="1662" y="9178"/>
                </a:cubicBezTo>
                <a:cubicBezTo>
                  <a:pt x="1619" y="9194"/>
                  <a:pt x="1596" y="9203"/>
                  <a:pt x="1563" y="9227"/>
                </a:cubicBezTo>
              </a:path>
              <a:path w="1489" h="671">
                <a:moveTo>
                  <a:pt x="1736" y="9302"/>
                </a:moveTo>
                <a:cubicBezTo>
                  <a:pt x="1778" y="9302"/>
                  <a:pt x="1786" y="9302"/>
                  <a:pt x="1811" y="9302"/>
                </a:cubicBezTo>
                <a:cubicBezTo>
                  <a:pt x="1802" y="9330"/>
                  <a:pt x="1755" y="9341"/>
                  <a:pt x="1712" y="9351"/>
                </a:cubicBezTo>
                <a:cubicBezTo>
                  <a:pt x="1679" y="9351"/>
                  <a:pt x="1662" y="9351"/>
                  <a:pt x="1637" y="9351"/>
                </a:cubicBezTo>
              </a:path>
              <a:path w="1489" h="671">
                <a:moveTo>
                  <a:pt x="2108" y="9128"/>
                </a:moveTo>
                <a:cubicBezTo>
                  <a:pt x="2131" y="9105"/>
                  <a:pt x="2135" y="9097"/>
                  <a:pt x="2158" y="9103"/>
                </a:cubicBezTo>
                <a:cubicBezTo>
                  <a:pt x="2117" y="9154"/>
                  <a:pt x="2089" y="9188"/>
                  <a:pt x="2084" y="9252"/>
                </a:cubicBezTo>
                <a:cubicBezTo>
                  <a:pt x="2084" y="9260"/>
                  <a:pt x="2084" y="9269"/>
                  <a:pt x="2084" y="9277"/>
                </a:cubicBezTo>
                <a:cubicBezTo>
                  <a:pt x="2131" y="9277"/>
                  <a:pt x="2163" y="9299"/>
                  <a:pt x="2208" y="9302"/>
                </a:cubicBezTo>
                <a:cubicBezTo>
                  <a:pt x="2277" y="9307"/>
                  <a:pt x="2301" y="9313"/>
                  <a:pt x="2307" y="9376"/>
                </a:cubicBezTo>
                <a:cubicBezTo>
                  <a:pt x="2311" y="9420"/>
                  <a:pt x="2247" y="9466"/>
                  <a:pt x="2208" y="9475"/>
                </a:cubicBezTo>
                <a:cubicBezTo>
                  <a:pt x="2158" y="9475"/>
                  <a:pt x="2141" y="9475"/>
                  <a:pt x="2108" y="9475"/>
                </a:cubicBezTo>
              </a:path>
              <a:path w="1489" h="671">
                <a:moveTo>
                  <a:pt x="2158" y="9153"/>
                </a:moveTo>
                <a:cubicBezTo>
                  <a:pt x="2187" y="9103"/>
                  <a:pt x="2181" y="9092"/>
                  <a:pt x="2232" y="9079"/>
                </a:cubicBezTo>
                <a:cubicBezTo>
                  <a:pt x="2242" y="9049"/>
                  <a:pt x="2253" y="9037"/>
                  <a:pt x="2282" y="9004"/>
                </a:cubicBezTo>
                <a:cubicBezTo>
                  <a:pt x="2307" y="8975"/>
                  <a:pt x="2326" y="8977"/>
                  <a:pt x="2356" y="8954"/>
                </a:cubicBezTo>
              </a:path>
              <a:path w="1489" h="671">
                <a:moveTo>
                  <a:pt x="2629" y="9426"/>
                </a:moveTo>
                <a:cubicBezTo>
                  <a:pt x="2621" y="9518"/>
                  <a:pt x="2600" y="9547"/>
                  <a:pt x="2555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74840" y="3276720"/>
            <a:ext cx="287280" cy="233280"/>
          </a:xfrm>
          <a:custGeom>
            <a:avLst/>
            <a:gdLst/>
            <a:ahLst/>
            <a:rect l="l" t="t" r="r" b="b"/>
            <a:pathLst>
              <a:path w="795" h="646">
                <a:moveTo>
                  <a:pt x="3870" y="9500"/>
                </a:moveTo>
                <a:cubicBezTo>
                  <a:pt x="3862" y="9523"/>
                  <a:pt x="3861" y="9548"/>
                  <a:pt x="3845" y="9575"/>
                </a:cubicBezTo>
                <a:cubicBezTo>
                  <a:pt x="3822" y="9597"/>
                  <a:pt x="3814" y="9602"/>
                  <a:pt x="3820" y="9624"/>
                </a:cubicBezTo>
                <a:cubicBezTo>
                  <a:pt x="3857" y="9575"/>
                  <a:pt x="3873" y="9513"/>
                  <a:pt x="3894" y="9451"/>
                </a:cubicBezTo>
                <a:cubicBezTo>
                  <a:pt x="3929" y="9349"/>
                  <a:pt x="3950" y="9212"/>
                  <a:pt x="4018" y="9128"/>
                </a:cubicBezTo>
                <a:cubicBezTo>
                  <a:pt x="4026" y="9120"/>
                  <a:pt x="4035" y="9111"/>
                  <a:pt x="4043" y="9103"/>
                </a:cubicBezTo>
                <a:cubicBezTo>
                  <a:pt x="4083" y="9157"/>
                  <a:pt x="4096" y="9234"/>
                  <a:pt x="4118" y="9302"/>
                </a:cubicBezTo>
                <a:cubicBezTo>
                  <a:pt x="4147" y="9390"/>
                  <a:pt x="4166" y="9497"/>
                  <a:pt x="4217" y="9575"/>
                </a:cubicBezTo>
                <a:cubicBezTo>
                  <a:pt x="4225" y="9583"/>
                  <a:pt x="4234" y="9591"/>
                  <a:pt x="4242" y="9599"/>
                </a:cubicBezTo>
              </a:path>
              <a:path w="795" h="646">
                <a:moveTo>
                  <a:pt x="4291" y="9550"/>
                </a:moveTo>
                <a:cubicBezTo>
                  <a:pt x="4238" y="9509"/>
                  <a:pt x="4187" y="9487"/>
                  <a:pt x="4118" y="9475"/>
                </a:cubicBezTo>
                <a:cubicBezTo>
                  <a:pt x="4072" y="9467"/>
                  <a:pt x="4016" y="9475"/>
                  <a:pt x="3969" y="9475"/>
                </a:cubicBezTo>
              </a:path>
              <a:path w="795" h="646">
                <a:moveTo>
                  <a:pt x="4490" y="9649"/>
                </a:moveTo>
                <a:cubicBezTo>
                  <a:pt x="4465" y="9649"/>
                  <a:pt x="4457" y="9649"/>
                  <a:pt x="4440" y="9649"/>
                </a:cubicBezTo>
                <a:cubicBezTo>
                  <a:pt x="4440" y="9603"/>
                  <a:pt x="4438" y="9581"/>
                  <a:pt x="4490" y="9575"/>
                </a:cubicBezTo>
                <a:cubicBezTo>
                  <a:pt x="4534" y="9570"/>
                  <a:pt x="4575" y="9622"/>
                  <a:pt x="4589" y="9649"/>
                </a:cubicBezTo>
                <a:cubicBezTo>
                  <a:pt x="4609" y="9689"/>
                  <a:pt x="4618" y="9696"/>
                  <a:pt x="4614" y="9723"/>
                </a:cubicBezTo>
                <a:cubicBezTo>
                  <a:pt x="4564" y="9761"/>
                  <a:pt x="4543" y="9751"/>
                  <a:pt x="4490" y="9723"/>
                </a:cubicBezTo>
                <a:cubicBezTo>
                  <a:pt x="4417" y="9685"/>
                  <a:pt x="4415" y="9680"/>
                  <a:pt x="4415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03240" y="3232080"/>
            <a:ext cx="546120" cy="250920"/>
          </a:xfrm>
          <a:custGeom>
            <a:avLst/>
            <a:gdLst/>
            <a:ahLst/>
            <a:rect l="l" t="t" r="r" b="b"/>
            <a:pathLst>
              <a:path w="1514" h="696">
                <a:moveTo>
                  <a:pt x="5011" y="9203"/>
                </a:moveTo>
                <a:cubicBezTo>
                  <a:pt x="5011" y="9186"/>
                  <a:pt x="5011" y="9170"/>
                  <a:pt x="5011" y="9153"/>
                </a:cubicBezTo>
                <a:cubicBezTo>
                  <a:pt x="5011" y="9095"/>
                  <a:pt x="5011" y="9219"/>
                  <a:pt x="5011" y="9277"/>
                </a:cubicBezTo>
                <a:cubicBezTo>
                  <a:pt x="5011" y="9372"/>
                  <a:pt x="5030" y="9456"/>
                  <a:pt x="5035" y="9550"/>
                </a:cubicBezTo>
                <a:cubicBezTo>
                  <a:pt x="5036" y="9569"/>
                  <a:pt x="5060" y="9655"/>
                  <a:pt x="5060" y="9599"/>
                </a:cubicBezTo>
              </a:path>
              <a:path w="1514" h="696">
                <a:moveTo>
                  <a:pt x="5184" y="9376"/>
                </a:moveTo>
                <a:cubicBezTo>
                  <a:pt x="5192" y="9368"/>
                  <a:pt x="5201" y="9359"/>
                  <a:pt x="5209" y="9351"/>
                </a:cubicBezTo>
                <a:cubicBezTo>
                  <a:pt x="5161" y="9363"/>
                  <a:pt x="5115" y="9407"/>
                  <a:pt x="5085" y="9451"/>
                </a:cubicBezTo>
                <a:cubicBezTo>
                  <a:pt x="5064" y="9483"/>
                  <a:pt x="5041" y="9561"/>
                  <a:pt x="5060" y="9599"/>
                </a:cubicBezTo>
                <a:cubicBezTo>
                  <a:pt x="5081" y="9641"/>
                  <a:pt x="5167" y="9671"/>
                  <a:pt x="5209" y="9674"/>
                </a:cubicBezTo>
                <a:cubicBezTo>
                  <a:pt x="5262" y="9678"/>
                  <a:pt x="5265" y="9660"/>
                  <a:pt x="5308" y="9649"/>
                </a:cubicBezTo>
              </a:path>
              <a:path w="1514" h="696">
                <a:moveTo>
                  <a:pt x="5383" y="9550"/>
                </a:moveTo>
                <a:cubicBezTo>
                  <a:pt x="5460" y="9550"/>
                  <a:pt x="5515" y="9546"/>
                  <a:pt x="5581" y="9500"/>
                </a:cubicBezTo>
                <a:cubicBezTo>
                  <a:pt x="5613" y="9478"/>
                  <a:pt x="5623" y="9458"/>
                  <a:pt x="5631" y="9426"/>
                </a:cubicBezTo>
                <a:cubicBezTo>
                  <a:pt x="5587" y="9393"/>
                  <a:pt x="5553" y="9386"/>
                  <a:pt x="5507" y="9426"/>
                </a:cubicBezTo>
                <a:cubicBezTo>
                  <a:pt x="5456" y="9470"/>
                  <a:pt x="5423" y="9564"/>
                  <a:pt x="5482" y="9624"/>
                </a:cubicBezTo>
                <a:cubicBezTo>
                  <a:pt x="5531" y="9673"/>
                  <a:pt x="5641" y="9689"/>
                  <a:pt x="5705" y="9674"/>
                </a:cubicBezTo>
                <a:cubicBezTo>
                  <a:pt x="5749" y="9652"/>
                  <a:pt x="5760" y="9649"/>
                  <a:pt x="5779" y="9624"/>
                </a:cubicBezTo>
              </a:path>
              <a:path w="1514" h="696">
                <a:moveTo>
                  <a:pt x="5953" y="9029"/>
                </a:moveTo>
                <a:cubicBezTo>
                  <a:pt x="5911" y="8974"/>
                  <a:pt x="5928" y="8975"/>
                  <a:pt x="5928" y="9054"/>
                </a:cubicBezTo>
                <a:cubicBezTo>
                  <a:pt x="5928" y="9129"/>
                  <a:pt x="5941" y="9183"/>
                  <a:pt x="5953" y="9252"/>
                </a:cubicBezTo>
                <a:cubicBezTo>
                  <a:pt x="5963" y="9310"/>
                  <a:pt x="5932" y="9312"/>
                  <a:pt x="5978" y="9327"/>
                </a:cubicBezTo>
              </a:path>
              <a:path w="1514" h="696">
                <a:moveTo>
                  <a:pt x="6077" y="9178"/>
                </a:moveTo>
                <a:cubicBezTo>
                  <a:pt x="6077" y="9170"/>
                  <a:pt x="6077" y="9161"/>
                  <a:pt x="6077" y="9153"/>
                </a:cubicBezTo>
                <a:cubicBezTo>
                  <a:pt x="6054" y="9184"/>
                  <a:pt x="6032" y="9213"/>
                  <a:pt x="6028" y="9252"/>
                </a:cubicBezTo>
                <a:cubicBezTo>
                  <a:pt x="6022" y="9305"/>
                  <a:pt x="6063" y="9302"/>
                  <a:pt x="6102" y="9302"/>
                </a:cubicBezTo>
                <a:cubicBezTo>
                  <a:pt x="6158" y="9302"/>
                  <a:pt x="6184" y="9309"/>
                  <a:pt x="6226" y="9277"/>
                </a:cubicBezTo>
              </a:path>
              <a:path w="1514" h="696">
                <a:moveTo>
                  <a:pt x="6350" y="9029"/>
                </a:moveTo>
                <a:cubicBezTo>
                  <a:pt x="6350" y="8977"/>
                  <a:pt x="6336" y="9079"/>
                  <a:pt x="6325" y="9103"/>
                </a:cubicBezTo>
                <a:cubicBezTo>
                  <a:pt x="6300" y="9157"/>
                  <a:pt x="6273" y="9251"/>
                  <a:pt x="6325" y="9302"/>
                </a:cubicBezTo>
                <a:cubicBezTo>
                  <a:pt x="6342" y="9310"/>
                  <a:pt x="6358" y="9319"/>
                  <a:pt x="6375" y="9327"/>
                </a:cubicBezTo>
              </a:path>
              <a:path w="1514" h="696">
                <a:moveTo>
                  <a:pt x="6524" y="9227"/>
                </a:moveTo>
                <a:cubicBezTo>
                  <a:pt x="6438" y="9151"/>
                  <a:pt x="6463" y="9153"/>
                  <a:pt x="6375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3120" y="3446640"/>
            <a:ext cx="88920" cy="8064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7516" y="9599"/>
                </a:moveTo>
                <a:cubicBezTo>
                  <a:pt x="7524" y="9591"/>
                  <a:pt x="7533" y="9583"/>
                  <a:pt x="7541" y="9575"/>
                </a:cubicBezTo>
                <a:cubicBezTo>
                  <a:pt x="7488" y="9575"/>
                  <a:pt x="7458" y="9590"/>
                  <a:pt x="7417" y="9599"/>
                </a:cubicBezTo>
                <a:cubicBezTo>
                  <a:pt x="7375" y="9599"/>
                  <a:pt x="7367" y="9599"/>
                  <a:pt x="7342" y="9599"/>
                </a:cubicBezTo>
              </a:path>
              <a:path w="249" h="224">
                <a:moveTo>
                  <a:pt x="7565" y="9699"/>
                </a:moveTo>
                <a:cubicBezTo>
                  <a:pt x="7582" y="9720"/>
                  <a:pt x="7621" y="9781"/>
                  <a:pt x="7565" y="9798"/>
                </a:cubicBezTo>
                <a:cubicBezTo>
                  <a:pt x="7534" y="9808"/>
                  <a:pt x="7475" y="9798"/>
                  <a:pt x="7441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911320" y="3367080"/>
            <a:ext cx="517680" cy="196920"/>
          </a:xfrm>
          <a:custGeom>
            <a:avLst/>
            <a:gdLst/>
            <a:ahLst/>
            <a:rect l="l" t="t" r="r" b="b"/>
            <a:pathLst>
              <a:path w="1440" h="547">
                <a:moveTo>
                  <a:pt x="8136" y="9599"/>
                </a:moveTo>
                <a:cubicBezTo>
                  <a:pt x="8119" y="9550"/>
                  <a:pt x="8086" y="9599"/>
                  <a:pt x="8086" y="9525"/>
                </a:cubicBezTo>
                <a:cubicBezTo>
                  <a:pt x="8086" y="9471"/>
                  <a:pt x="8076" y="9441"/>
                  <a:pt x="8111" y="9401"/>
                </a:cubicBezTo>
                <a:cubicBezTo>
                  <a:pt x="8163" y="9342"/>
                  <a:pt x="8196" y="9346"/>
                  <a:pt x="8260" y="9376"/>
                </a:cubicBezTo>
                <a:cubicBezTo>
                  <a:pt x="8327" y="9408"/>
                  <a:pt x="8416" y="9443"/>
                  <a:pt x="8434" y="9525"/>
                </a:cubicBezTo>
                <a:cubicBezTo>
                  <a:pt x="8444" y="9571"/>
                  <a:pt x="8449" y="9692"/>
                  <a:pt x="8409" y="9723"/>
                </a:cubicBezTo>
                <a:cubicBezTo>
                  <a:pt x="8358" y="9761"/>
                  <a:pt x="8294" y="9748"/>
                  <a:pt x="8235" y="9748"/>
                </a:cubicBezTo>
                <a:cubicBezTo>
                  <a:pt x="8178" y="9748"/>
                  <a:pt x="8159" y="9758"/>
                  <a:pt x="8136" y="9723"/>
                </a:cubicBezTo>
              </a:path>
              <a:path w="1440" h="547">
                <a:moveTo>
                  <a:pt x="8731" y="9748"/>
                </a:moveTo>
                <a:cubicBezTo>
                  <a:pt x="8754" y="9771"/>
                  <a:pt x="8762" y="9775"/>
                  <a:pt x="8756" y="9798"/>
                </a:cubicBezTo>
              </a:path>
              <a:path w="1440" h="547">
                <a:moveTo>
                  <a:pt x="8979" y="9624"/>
                </a:moveTo>
                <a:cubicBezTo>
                  <a:pt x="8958" y="9596"/>
                  <a:pt x="8944" y="9548"/>
                  <a:pt x="8979" y="9525"/>
                </a:cubicBezTo>
                <a:cubicBezTo>
                  <a:pt x="9016" y="9501"/>
                  <a:pt x="9055" y="9479"/>
                  <a:pt x="9103" y="9475"/>
                </a:cubicBezTo>
                <a:cubicBezTo>
                  <a:pt x="9139" y="9472"/>
                  <a:pt x="9191" y="9483"/>
                  <a:pt x="9203" y="9525"/>
                </a:cubicBezTo>
                <a:cubicBezTo>
                  <a:pt x="9218" y="9577"/>
                  <a:pt x="9174" y="9676"/>
                  <a:pt x="9153" y="9723"/>
                </a:cubicBezTo>
                <a:cubicBezTo>
                  <a:pt x="9144" y="9742"/>
                  <a:pt x="9101" y="9848"/>
                  <a:pt x="9128" y="9872"/>
                </a:cubicBezTo>
                <a:cubicBezTo>
                  <a:pt x="9164" y="9904"/>
                  <a:pt x="9258" y="9909"/>
                  <a:pt x="9302" y="9897"/>
                </a:cubicBezTo>
                <a:cubicBezTo>
                  <a:pt x="9377" y="9876"/>
                  <a:pt x="9454" y="9833"/>
                  <a:pt x="9525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339920" y="3741840"/>
            <a:ext cx="268200" cy="206280"/>
          </a:xfrm>
          <a:custGeom>
            <a:avLst/>
            <a:gdLst/>
            <a:ahLst/>
            <a:rect l="l" t="t" r="r" b="b"/>
            <a:pathLst>
              <a:path w="745" h="572">
                <a:moveTo>
                  <a:pt x="3721" y="10790"/>
                </a:moveTo>
                <a:cubicBezTo>
                  <a:pt x="3721" y="10815"/>
                  <a:pt x="3721" y="10839"/>
                  <a:pt x="3721" y="10864"/>
                </a:cubicBezTo>
                <a:cubicBezTo>
                  <a:pt x="3721" y="10921"/>
                  <a:pt x="3738" y="10789"/>
                  <a:pt x="3746" y="10765"/>
                </a:cubicBezTo>
                <a:cubicBezTo>
                  <a:pt x="3780" y="10666"/>
                  <a:pt x="3802" y="10563"/>
                  <a:pt x="3845" y="10468"/>
                </a:cubicBezTo>
                <a:cubicBezTo>
                  <a:pt x="3873" y="10407"/>
                  <a:pt x="3882" y="10393"/>
                  <a:pt x="3944" y="10393"/>
                </a:cubicBezTo>
                <a:cubicBezTo>
                  <a:pt x="3978" y="10461"/>
                  <a:pt x="3996" y="10559"/>
                  <a:pt x="4018" y="10641"/>
                </a:cubicBezTo>
                <a:cubicBezTo>
                  <a:pt x="4044" y="10741"/>
                  <a:pt x="4082" y="10838"/>
                  <a:pt x="4093" y="10939"/>
                </a:cubicBezTo>
              </a:path>
              <a:path w="745" h="572">
                <a:moveTo>
                  <a:pt x="4093" y="10840"/>
                </a:moveTo>
                <a:cubicBezTo>
                  <a:pt x="4046" y="10800"/>
                  <a:pt x="4013" y="10770"/>
                  <a:pt x="3944" y="10790"/>
                </a:cubicBezTo>
                <a:cubicBezTo>
                  <a:pt x="3897" y="10804"/>
                  <a:pt x="3859" y="10817"/>
                  <a:pt x="3820" y="10840"/>
                </a:cubicBezTo>
              </a:path>
              <a:path w="745" h="572">
                <a:moveTo>
                  <a:pt x="4316" y="10889"/>
                </a:moveTo>
                <a:cubicBezTo>
                  <a:pt x="4308" y="10889"/>
                  <a:pt x="4299" y="10889"/>
                  <a:pt x="4291" y="10889"/>
                </a:cubicBezTo>
                <a:cubicBezTo>
                  <a:pt x="4300" y="10852"/>
                  <a:pt x="4328" y="10828"/>
                  <a:pt x="4366" y="10815"/>
                </a:cubicBezTo>
                <a:cubicBezTo>
                  <a:pt x="4393" y="10806"/>
                  <a:pt x="4455" y="10866"/>
                  <a:pt x="4465" y="10889"/>
                </a:cubicBezTo>
                <a:cubicBezTo>
                  <a:pt x="4484" y="10932"/>
                  <a:pt x="4452" y="10960"/>
                  <a:pt x="4415" y="10964"/>
                </a:cubicBezTo>
                <a:cubicBezTo>
                  <a:pt x="4384" y="10967"/>
                  <a:pt x="4370" y="10946"/>
                  <a:pt x="4341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24040" y="3714840"/>
            <a:ext cx="598320" cy="223920"/>
          </a:xfrm>
          <a:custGeom>
            <a:avLst/>
            <a:gdLst/>
            <a:ahLst/>
            <a:rect l="l" t="t" r="r" b="b"/>
            <a:pathLst>
              <a:path w="1663" h="621">
                <a:moveTo>
                  <a:pt x="4787" y="10492"/>
                </a:moveTo>
                <a:cubicBezTo>
                  <a:pt x="4787" y="10468"/>
                  <a:pt x="4787" y="10459"/>
                  <a:pt x="4787" y="10443"/>
                </a:cubicBezTo>
                <a:cubicBezTo>
                  <a:pt x="4787" y="10572"/>
                  <a:pt x="4793" y="10693"/>
                  <a:pt x="4812" y="10815"/>
                </a:cubicBezTo>
                <a:cubicBezTo>
                  <a:pt x="4812" y="10856"/>
                  <a:pt x="4812" y="10864"/>
                  <a:pt x="4812" y="10889"/>
                </a:cubicBezTo>
              </a:path>
              <a:path w="1663" h="621">
                <a:moveTo>
                  <a:pt x="5035" y="10691"/>
                </a:moveTo>
                <a:cubicBezTo>
                  <a:pt x="5035" y="10683"/>
                  <a:pt x="5035" y="10674"/>
                  <a:pt x="5035" y="10666"/>
                </a:cubicBezTo>
                <a:cubicBezTo>
                  <a:pt x="5025" y="10696"/>
                  <a:pt x="5015" y="10708"/>
                  <a:pt x="4986" y="10740"/>
                </a:cubicBezTo>
                <a:cubicBezTo>
                  <a:pt x="4949" y="10781"/>
                  <a:pt x="4936" y="10810"/>
                  <a:pt x="4936" y="10864"/>
                </a:cubicBezTo>
                <a:cubicBezTo>
                  <a:pt x="4936" y="10889"/>
                  <a:pt x="4936" y="10897"/>
                  <a:pt x="4936" y="10914"/>
                </a:cubicBezTo>
                <a:cubicBezTo>
                  <a:pt x="4982" y="10914"/>
                  <a:pt x="4995" y="10934"/>
                  <a:pt x="5035" y="10939"/>
                </a:cubicBezTo>
                <a:cubicBezTo>
                  <a:pt x="5038" y="10939"/>
                  <a:pt x="5135" y="10914"/>
                  <a:pt x="5135" y="10914"/>
                </a:cubicBezTo>
                <a:cubicBezTo>
                  <a:pt x="5135" y="10889"/>
                  <a:pt x="5135" y="10881"/>
                  <a:pt x="5159" y="10889"/>
                </a:cubicBezTo>
              </a:path>
              <a:path w="1663" h="621">
                <a:moveTo>
                  <a:pt x="5259" y="10815"/>
                </a:moveTo>
                <a:cubicBezTo>
                  <a:pt x="5302" y="10815"/>
                  <a:pt x="5308" y="10808"/>
                  <a:pt x="5333" y="10790"/>
                </a:cubicBezTo>
                <a:cubicBezTo>
                  <a:pt x="5375" y="10758"/>
                  <a:pt x="5402" y="10718"/>
                  <a:pt x="5407" y="10666"/>
                </a:cubicBezTo>
                <a:cubicBezTo>
                  <a:pt x="5410" y="10634"/>
                  <a:pt x="5424" y="10622"/>
                  <a:pt x="5432" y="10592"/>
                </a:cubicBezTo>
                <a:cubicBezTo>
                  <a:pt x="5380" y="10592"/>
                  <a:pt x="5371" y="10604"/>
                  <a:pt x="5333" y="10641"/>
                </a:cubicBezTo>
                <a:cubicBezTo>
                  <a:pt x="5284" y="10690"/>
                  <a:pt x="5283" y="10725"/>
                  <a:pt x="5283" y="10790"/>
                </a:cubicBezTo>
                <a:cubicBezTo>
                  <a:pt x="5283" y="10844"/>
                  <a:pt x="5301" y="10883"/>
                  <a:pt x="5358" y="10889"/>
                </a:cubicBezTo>
                <a:cubicBezTo>
                  <a:pt x="5401" y="10894"/>
                  <a:pt x="5471" y="10881"/>
                  <a:pt x="5507" y="10864"/>
                </a:cubicBezTo>
                <a:cubicBezTo>
                  <a:pt x="5541" y="10847"/>
                  <a:pt x="5543" y="10825"/>
                  <a:pt x="5581" y="10815"/>
                </a:cubicBezTo>
              </a:path>
              <a:path w="1663" h="621">
                <a:moveTo>
                  <a:pt x="5829" y="10393"/>
                </a:moveTo>
                <a:cubicBezTo>
                  <a:pt x="5801" y="10431"/>
                  <a:pt x="5804" y="10444"/>
                  <a:pt x="5804" y="10492"/>
                </a:cubicBezTo>
                <a:cubicBezTo>
                  <a:pt x="5845" y="10492"/>
                  <a:pt x="5887" y="10492"/>
                  <a:pt x="5928" y="10492"/>
                </a:cubicBezTo>
                <a:cubicBezTo>
                  <a:pt x="5939" y="10524"/>
                  <a:pt x="5950" y="10530"/>
                  <a:pt x="5978" y="10567"/>
                </a:cubicBezTo>
                <a:cubicBezTo>
                  <a:pt x="5939" y="10577"/>
                  <a:pt x="5923" y="10592"/>
                  <a:pt x="5879" y="10592"/>
                </a:cubicBezTo>
                <a:cubicBezTo>
                  <a:pt x="5838" y="10592"/>
                  <a:pt x="5867" y="10604"/>
                  <a:pt x="5829" y="10616"/>
                </a:cubicBezTo>
              </a:path>
              <a:path w="1663" h="621">
                <a:moveTo>
                  <a:pt x="6003" y="10319"/>
                </a:moveTo>
                <a:cubicBezTo>
                  <a:pt x="5957" y="10319"/>
                  <a:pt x="5944" y="10339"/>
                  <a:pt x="5904" y="10344"/>
                </a:cubicBezTo>
                <a:cubicBezTo>
                  <a:pt x="5861" y="10349"/>
                  <a:pt x="5867" y="10330"/>
                  <a:pt x="5854" y="10368"/>
                </a:cubicBezTo>
              </a:path>
              <a:path w="1663" h="621">
                <a:moveTo>
                  <a:pt x="6176" y="10368"/>
                </a:moveTo>
                <a:cubicBezTo>
                  <a:pt x="6176" y="10458"/>
                  <a:pt x="6175" y="10540"/>
                  <a:pt x="6201" y="10616"/>
                </a:cubicBezTo>
                <a:cubicBezTo>
                  <a:pt x="6201" y="10624"/>
                  <a:pt x="6201" y="10633"/>
                  <a:pt x="6201" y="10641"/>
                </a:cubicBezTo>
              </a:path>
              <a:path w="1663" h="621">
                <a:moveTo>
                  <a:pt x="6276" y="10492"/>
                </a:moveTo>
                <a:cubicBezTo>
                  <a:pt x="6265" y="10537"/>
                  <a:pt x="6251" y="10562"/>
                  <a:pt x="6251" y="10616"/>
                </a:cubicBezTo>
                <a:cubicBezTo>
                  <a:pt x="6251" y="10669"/>
                  <a:pt x="6283" y="10666"/>
                  <a:pt x="6325" y="10666"/>
                </a:cubicBezTo>
                <a:cubicBezTo>
                  <a:pt x="6372" y="10666"/>
                  <a:pt x="6415" y="10642"/>
                  <a:pt x="6449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60760" y="3894120"/>
            <a:ext cx="81000" cy="6192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7565" y="10815"/>
                </a:moveTo>
                <a:cubicBezTo>
                  <a:pt x="7515" y="10815"/>
                  <a:pt x="7507" y="10826"/>
                  <a:pt x="7466" y="10840"/>
                </a:cubicBezTo>
                <a:cubicBezTo>
                  <a:pt x="7424" y="10854"/>
                  <a:pt x="7433" y="10834"/>
                  <a:pt x="7392" y="10864"/>
                </a:cubicBezTo>
              </a:path>
              <a:path w="224" h="174">
                <a:moveTo>
                  <a:pt x="7565" y="10914"/>
                </a:moveTo>
                <a:cubicBezTo>
                  <a:pt x="7606" y="10934"/>
                  <a:pt x="7622" y="10932"/>
                  <a:pt x="7615" y="10964"/>
                </a:cubicBezTo>
                <a:cubicBezTo>
                  <a:pt x="7565" y="10976"/>
                  <a:pt x="7551" y="10988"/>
                  <a:pt x="7491" y="10988"/>
                </a:cubicBezTo>
                <a:cubicBezTo>
                  <a:pt x="7483" y="10988"/>
                  <a:pt x="7474" y="10988"/>
                  <a:pt x="7466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01960" y="3830760"/>
            <a:ext cx="509400" cy="152280"/>
          </a:xfrm>
          <a:custGeom>
            <a:avLst/>
            <a:gdLst/>
            <a:ahLst/>
            <a:rect l="l" t="t" r="r" b="b"/>
            <a:pathLst>
              <a:path w="1414" h="423">
                <a:moveTo>
                  <a:pt x="8086" y="10864"/>
                </a:moveTo>
                <a:cubicBezTo>
                  <a:pt x="8076" y="10825"/>
                  <a:pt x="8062" y="10809"/>
                  <a:pt x="8062" y="10765"/>
                </a:cubicBezTo>
                <a:cubicBezTo>
                  <a:pt x="8062" y="10731"/>
                  <a:pt x="8047" y="10661"/>
                  <a:pt x="8086" y="10641"/>
                </a:cubicBezTo>
                <a:cubicBezTo>
                  <a:pt x="8127" y="10620"/>
                  <a:pt x="8226" y="10641"/>
                  <a:pt x="8260" y="10666"/>
                </a:cubicBezTo>
                <a:cubicBezTo>
                  <a:pt x="8337" y="10721"/>
                  <a:pt x="8355" y="10803"/>
                  <a:pt x="8359" y="10889"/>
                </a:cubicBezTo>
                <a:cubicBezTo>
                  <a:pt x="8364" y="10993"/>
                  <a:pt x="8322" y="10988"/>
                  <a:pt x="8235" y="10988"/>
                </a:cubicBezTo>
                <a:cubicBezTo>
                  <a:pt x="8158" y="10988"/>
                  <a:pt x="8122" y="10988"/>
                  <a:pt x="8062" y="10939"/>
                </a:cubicBezTo>
              </a:path>
              <a:path w="1414" h="423">
                <a:moveTo>
                  <a:pt x="8607" y="10964"/>
                </a:moveTo>
                <a:cubicBezTo>
                  <a:pt x="8648" y="10984"/>
                  <a:pt x="8654" y="10992"/>
                  <a:pt x="8682" y="10988"/>
                </a:cubicBezTo>
              </a:path>
              <a:path w="1414" h="423">
                <a:moveTo>
                  <a:pt x="8905" y="10790"/>
                </a:moveTo>
                <a:cubicBezTo>
                  <a:pt x="8885" y="10750"/>
                  <a:pt x="8876" y="10743"/>
                  <a:pt x="8880" y="10716"/>
                </a:cubicBezTo>
                <a:cubicBezTo>
                  <a:pt x="8941" y="10704"/>
                  <a:pt x="8968" y="10670"/>
                  <a:pt x="9029" y="10666"/>
                </a:cubicBezTo>
                <a:cubicBezTo>
                  <a:pt x="9105" y="10662"/>
                  <a:pt x="9122" y="10663"/>
                  <a:pt x="9128" y="10740"/>
                </a:cubicBezTo>
                <a:cubicBezTo>
                  <a:pt x="9132" y="10792"/>
                  <a:pt x="9098" y="10867"/>
                  <a:pt x="9079" y="10914"/>
                </a:cubicBezTo>
                <a:cubicBezTo>
                  <a:pt x="9056" y="10972"/>
                  <a:pt x="9037" y="10989"/>
                  <a:pt x="9079" y="11038"/>
                </a:cubicBezTo>
                <a:cubicBezTo>
                  <a:pt x="9132" y="11099"/>
                  <a:pt x="9214" y="11047"/>
                  <a:pt x="9277" y="11038"/>
                </a:cubicBezTo>
                <a:cubicBezTo>
                  <a:pt x="9344" y="11028"/>
                  <a:pt x="9406" y="11019"/>
                  <a:pt x="9475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84200" y="4205160"/>
            <a:ext cx="214560" cy="223920"/>
          </a:xfrm>
          <a:custGeom>
            <a:avLst/>
            <a:gdLst/>
            <a:ahLst/>
            <a:rect l="l" t="t" r="r" b="b"/>
            <a:pathLst>
              <a:path w="596" h="621">
                <a:moveTo>
                  <a:pt x="3845" y="12080"/>
                </a:moveTo>
                <a:cubicBezTo>
                  <a:pt x="3845" y="12105"/>
                  <a:pt x="3845" y="12129"/>
                  <a:pt x="3845" y="12154"/>
                </a:cubicBezTo>
                <a:cubicBezTo>
                  <a:pt x="3855" y="12113"/>
                  <a:pt x="3888" y="12077"/>
                  <a:pt x="3894" y="12030"/>
                </a:cubicBezTo>
                <a:cubicBezTo>
                  <a:pt x="3905" y="11949"/>
                  <a:pt x="3919" y="11859"/>
                  <a:pt x="3944" y="11782"/>
                </a:cubicBezTo>
                <a:cubicBezTo>
                  <a:pt x="3969" y="11733"/>
                  <a:pt x="3978" y="11716"/>
                  <a:pt x="3994" y="11683"/>
                </a:cubicBezTo>
                <a:cubicBezTo>
                  <a:pt x="4024" y="11704"/>
                  <a:pt x="4049" y="11802"/>
                  <a:pt x="4068" y="11857"/>
                </a:cubicBezTo>
                <a:cubicBezTo>
                  <a:pt x="4099" y="11947"/>
                  <a:pt x="4125" y="12060"/>
                  <a:pt x="4142" y="12154"/>
                </a:cubicBezTo>
                <a:cubicBezTo>
                  <a:pt x="4142" y="12199"/>
                  <a:pt x="4139" y="12212"/>
                  <a:pt x="4167" y="12229"/>
                </a:cubicBezTo>
              </a:path>
              <a:path w="596" h="621">
                <a:moveTo>
                  <a:pt x="4167" y="12229"/>
                </a:moveTo>
                <a:cubicBezTo>
                  <a:pt x="4142" y="12185"/>
                  <a:pt x="4123" y="12133"/>
                  <a:pt x="4068" y="12129"/>
                </a:cubicBezTo>
                <a:cubicBezTo>
                  <a:pt x="3995" y="12124"/>
                  <a:pt x="3919" y="12129"/>
                  <a:pt x="3845" y="12129"/>
                </a:cubicBezTo>
              </a:path>
              <a:path w="596" h="621">
                <a:moveTo>
                  <a:pt x="4266" y="12204"/>
                </a:moveTo>
                <a:cubicBezTo>
                  <a:pt x="4266" y="12173"/>
                  <a:pt x="4274" y="12137"/>
                  <a:pt x="4291" y="12129"/>
                </a:cubicBezTo>
                <a:cubicBezTo>
                  <a:pt x="4302" y="12123"/>
                  <a:pt x="4373" y="12087"/>
                  <a:pt x="4390" y="12105"/>
                </a:cubicBezTo>
                <a:cubicBezTo>
                  <a:pt x="4433" y="12152"/>
                  <a:pt x="4440" y="12194"/>
                  <a:pt x="4440" y="12254"/>
                </a:cubicBezTo>
                <a:cubicBezTo>
                  <a:pt x="4440" y="12330"/>
                  <a:pt x="4379" y="12298"/>
                  <a:pt x="4341" y="12278"/>
                </a:cubicBezTo>
                <a:cubicBezTo>
                  <a:pt x="4324" y="12270"/>
                  <a:pt x="4308" y="12262"/>
                  <a:pt x="4291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697040" y="4179960"/>
            <a:ext cx="411120" cy="249120"/>
          </a:xfrm>
          <a:custGeom>
            <a:avLst/>
            <a:gdLst/>
            <a:ahLst/>
            <a:rect l="l" t="t" r="r" b="b"/>
            <a:pathLst>
              <a:path w="1142" h="695">
                <a:moveTo>
                  <a:pt x="4738" y="12179"/>
                </a:moveTo>
                <a:cubicBezTo>
                  <a:pt x="4690" y="12155"/>
                  <a:pt x="4778" y="12151"/>
                  <a:pt x="4812" y="12129"/>
                </a:cubicBezTo>
                <a:cubicBezTo>
                  <a:pt x="4858" y="12099"/>
                  <a:pt x="4886" y="12040"/>
                  <a:pt x="4911" y="12005"/>
                </a:cubicBezTo>
                <a:cubicBezTo>
                  <a:pt x="4936" y="11969"/>
                  <a:pt x="4936" y="11975"/>
                  <a:pt x="4936" y="11931"/>
                </a:cubicBezTo>
                <a:cubicBezTo>
                  <a:pt x="4866" y="11945"/>
                  <a:pt x="4827" y="11995"/>
                  <a:pt x="4787" y="12055"/>
                </a:cubicBezTo>
                <a:cubicBezTo>
                  <a:pt x="4750" y="12110"/>
                  <a:pt x="4720" y="12187"/>
                  <a:pt x="4738" y="12254"/>
                </a:cubicBezTo>
                <a:cubicBezTo>
                  <a:pt x="4757" y="12323"/>
                  <a:pt x="4875" y="12318"/>
                  <a:pt x="4936" y="12303"/>
                </a:cubicBezTo>
                <a:cubicBezTo>
                  <a:pt x="5004" y="12287"/>
                  <a:pt x="5046" y="12225"/>
                  <a:pt x="5110" y="12204"/>
                </a:cubicBezTo>
                <a:cubicBezTo>
                  <a:pt x="5118" y="12204"/>
                  <a:pt x="5127" y="12204"/>
                  <a:pt x="5135" y="12204"/>
                </a:cubicBezTo>
              </a:path>
              <a:path w="1142" h="695">
                <a:moveTo>
                  <a:pt x="5283" y="11807"/>
                </a:moveTo>
                <a:cubicBezTo>
                  <a:pt x="5305" y="11757"/>
                  <a:pt x="5308" y="11756"/>
                  <a:pt x="5308" y="11708"/>
                </a:cubicBezTo>
                <a:cubicBezTo>
                  <a:pt x="5285" y="11723"/>
                  <a:pt x="5264" y="11765"/>
                  <a:pt x="5259" y="11807"/>
                </a:cubicBezTo>
                <a:cubicBezTo>
                  <a:pt x="5259" y="11832"/>
                  <a:pt x="5259" y="11840"/>
                  <a:pt x="5259" y="11857"/>
                </a:cubicBezTo>
                <a:cubicBezTo>
                  <a:pt x="5325" y="11857"/>
                  <a:pt x="5399" y="11843"/>
                  <a:pt x="5457" y="11881"/>
                </a:cubicBezTo>
                <a:cubicBezTo>
                  <a:pt x="5480" y="11904"/>
                  <a:pt x="5488" y="11908"/>
                  <a:pt x="5482" y="11931"/>
                </a:cubicBezTo>
                <a:cubicBezTo>
                  <a:pt x="5435" y="11966"/>
                  <a:pt x="5395" y="11956"/>
                  <a:pt x="5333" y="11956"/>
                </a:cubicBezTo>
                <a:cubicBezTo>
                  <a:pt x="5305" y="11956"/>
                  <a:pt x="5294" y="11954"/>
                  <a:pt x="5283" y="11931"/>
                </a:cubicBezTo>
              </a:path>
              <a:path w="1142" h="695">
                <a:moveTo>
                  <a:pt x="5308" y="11757"/>
                </a:moveTo>
                <a:cubicBezTo>
                  <a:pt x="5331" y="11735"/>
                  <a:pt x="5339" y="11730"/>
                  <a:pt x="5333" y="11708"/>
                </a:cubicBezTo>
                <a:cubicBezTo>
                  <a:pt x="5373" y="11698"/>
                  <a:pt x="5399" y="11683"/>
                  <a:pt x="5432" y="11658"/>
                </a:cubicBezTo>
              </a:path>
              <a:path w="1142" h="695">
                <a:moveTo>
                  <a:pt x="5631" y="11633"/>
                </a:moveTo>
                <a:cubicBezTo>
                  <a:pt x="5631" y="11569"/>
                  <a:pt x="5631" y="11739"/>
                  <a:pt x="5631" y="11757"/>
                </a:cubicBezTo>
                <a:cubicBezTo>
                  <a:pt x="5631" y="11797"/>
                  <a:pt x="5620" y="11926"/>
                  <a:pt x="5655" y="11956"/>
                </a:cubicBezTo>
                <a:cubicBezTo>
                  <a:pt x="5674" y="11972"/>
                  <a:pt x="5680" y="11973"/>
                  <a:pt x="5705" y="11981"/>
                </a:cubicBezTo>
              </a:path>
              <a:path w="1142" h="695">
                <a:moveTo>
                  <a:pt x="5779" y="11832"/>
                </a:moveTo>
                <a:cubicBezTo>
                  <a:pt x="5779" y="11824"/>
                  <a:pt x="5779" y="11815"/>
                  <a:pt x="5779" y="11807"/>
                </a:cubicBezTo>
                <a:cubicBezTo>
                  <a:pt x="5769" y="11837"/>
                  <a:pt x="5732" y="11850"/>
                  <a:pt x="5755" y="11906"/>
                </a:cubicBezTo>
                <a:cubicBezTo>
                  <a:pt x="5766" y="11934"/>
                  <a:pt x="5830" y="11950"/>
                  <a:pt x="5854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37080" y="3429000"/>
            <a:ext cx="258840" cy="268200"/>
          </a:xfrm>
          <a:custGeom>
            <a:avLst/>
            <a:gdLst/>
            <a:ahLst/>
            <a:rect l="l" t="t" r="r" b="b"/>
            <a:pathLst>
              <a:path w="720" h="745">
                <a:moveTo>
                  <a:pt x="12601" y="10046"/>
                </a:moveTo>
                <a:cubicBezTo>
                  <a:pt x="12666" y="10046"/>
                  <a:pt x="12633" y="10044"/>
                  <a:pt x="12650" y="9996"/>
                </a:cubicBezTo>
                <a:cubicBezTo>
                  <a:pt x="12677" y="9922"/>
                  <a:pt x="12683" y="9844"/>
                  <a:pt x="12725" y="9773"/>
                </a:cubicBezTo>
                <a:cubicBezTo>
                  <a:pt x="12766" y="9703"/>
                  <a:pt x="12803" y="9616"/>
                  <a:pt x="12849" y="9550"/>
                </a:cubicBezTo>
                <a:cubicBezTo>
                  <a:pt x="12872" y="9517"/>
                  <a:pt x="12888" y="9525"/>
                  <a:pt x="12923" y="9525"/>
                </a:cubicBezTo>
                <a:cubicBezTo>
                  <a:pt x="12934" y="9610"/>
                  <a:pt x="12948" y="9682"/>
                  <a:pt x="12948" y="9773"/>
                </a:cubicBezTo>
                <a:cubicBezTo>
                  <a:pt x="12948" y="9867"/>
                  <a:pt x="12956" y="9935"/>
                  <a:pt x="12973" y="10021"/>
                </a:cubicBezTo>
              </a:path>
              <a:path w="720" h="745">
                <a:moveTo>
                  <a:pt x="12998" y="9971"/>
                </a:moveTo>
                <a:cubicBezTo>
                  <a:pt x="12934" y="9909"/>
                  <a:pt x="12934" y="9897"/>
                  <a:pt x="12849" y="9897"/>
                </a:cubicBezTo>
                <a:cubicBezTo>
                  <a:pt x="12798" y="9897"/>
                  <a:pt x="12756" y="9922"/>
                  <a:pt x="12700" y="9922"/>
                </a:cubicBezTo>
                <a:cubicBezTo>
                  <a:pt x="12683" y="9922"/>
                  <a:pt x="12667" y="9922"/>
                  <a:pt x="12650" y="9922"/>
                </a:cubicBezTo>
              </a:path>
              <a:path w="720" h="745">
                <a:moveTo>
                  <a:pt x="13122" y="10096"/>
                </a:moveTo>
                <a:cubicBezTo>
                  <a:pt x="13132" y="10066"/>
                  <a:pt x="13180" y="10050"/>
                  <a:pt x="13221" y="10071"/>
                </a:cubicBezTo>
                <a:cubicBezTo>
                  <a:pt x="13283" y="10102"/>
                  <a:pt x="13316" y="10128"/>
                  <a:pt x="13320" y="10195"/>
                </a:cubicBezTo>
                <a:cubicBezTo>
                  <a:pt x="13320" y="10236"/>
                  <a:pt x="13320" y="10244"/>
                  <a:pt x="13320" y="10269"/>
                </a:cubicBezTo>
                <a:cubicBezTo>
                  <a:pt x="13270" y="10269"/>
                  <a:pt x="13241" y="10273"/>
                  <a:pt x="13196" y="10244"/>
                </a:cubicBezTo>
                <a:cubicBezTo>
                  <a:pt x="13160" y="10220"/>
                  <a:pt x="13157" y="10227"/>
                  <a:pt x="13146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19760" y="3394080"/>
            <a:ext cx="430200" cy="258840"/>
          </a:xfrm>
          <a:custGeom>
            <a:avLst/>
            <a:gdLst/>
            <a:ahLst/>
            <a:rect l="l" t="t" r="r" b="b"/>
            <a:pathLst>
              <a:path w="1192" h="720">
                <a:moveTo>
                  <a:pt x="13667" y="9971"/>
                </a:moveTo>
                <a:cubicBezTo>
                  <a:pt x="13674" y="9993"/>
                  <a:pt x="13706" y="10016"/>
                  <a:pt x="13742" y="9996"/>
                </a:cubicBezTo>
                <a:cubicBezTo>
                  <a:pt x="13789" y="9970"/>
                  <a:pt x="13803" y="9939"/>
                  <a:pt x="13841" y="9897"/>
                </a:cubicBezTo>
                <a:cubicBezTo>
                  <a:pt x="13883" y="9851"/>
                  <a:pt x="13882" y="9861"/>
                  <a:pt x="13891" y="9798"/>
                </a:cubicBezTo>
                <a:cubicBezTo>
                  <a:pt x="13838" y="9798"/>
                  <a:pt x="13807" y="9809"/>
                  <a:pt x="13767" y="9847"/>
                </a:cubicBezTo>
                <a:cubicBezTo>
                  <a:pt x="13696" y="9913"/>
                  <a:pt x="13651" y="9977"/>
                  <a:pt x="13692" y="10071"/>
                </a:cubicBezTo>
                <a:cubicBezTo>
                  <a:pt x="13726" y="10149"/>
                  <a:pt x="13796" y="10145"/>
                  <a:pt x="13866" y="10145"/>
                </a:cubicBezTo>
                <a:cubicBezTo>
                  <a:pt x="13932" y="10145"/>
                  <a:pt x="14009" y="10147"/>
                  <a:pt x="14064" y="10120"/>
                </a:cubicBezTo>
                <a:cubicBezTo>
                  <a:pt x="14072" y="10112"/>
                  <a:pt x="14081" y="10104"/>
                  <a:pt x="14089" y="10096"/>
                </a:cubicBezTo>
              </a:path>
              <a:path w="1192" h="720">
                <a:moveTo>
                  <a:pt x="14312" y="9451"/>
                </a:moveTo>
                <a:cubicBezTo>
                  <a:pt x="14312" y="9410"/>
                  <a:pt x="14312" y="9484"/>
                  <a:pt x="14312" y="9525"/>
                </a:cubicBezTo>
                <a:cubicBezTo>
                  <a:pt x="14312" y="9616"/>
                  <a:pt x="14312" y="9707"/>
                  <a:pt x="14312" y="9798"/>
                </a:cubicBezTo>
              </a:path>
              <a:path w="1192" h="720">
                <a:moveTo>
                  <a:pt x="14436" y="9649"/>
                </a:moveTo>
                <a:cubicBezTo>
                  <a:pt x="14436" y="9641"/>
                  <a:pt x="14436" y="9632"/>
                  <a:pt x="14436" y="9624"/>
                </a:cubicBezTo>
                <a:cubicBezTo>
                  <a:pt x="14408" y="9634"/>
                  <a:pt x="14392" y="9659"/>
                  <a:pt x="14387" y="9699"/>
                </a:cubicBezTo>
                <a:cubicBezTo>
                  <a:pt x="14382" y="9744"/>
                  <a:pt x="14389" y="9768"/>
                  <a:pt x="14436" y="9773"/>
                </a:cubicBezTo>
                <a:cubicBezTo>
                  <a:pt x="14476" y="9778"/>
                  <a:pt x="14519" y="9773"/>
                  <a:pt x="14560" y="9773"/>
                </a:cubicBezTo>
              </a:path>
              <a:path w="1192" h="720">
                <a:moveTo>
                  <a:pt x="14709" y="9475"/>
                </a:moveTo>
                <a:cubicBezTo>
                  <a:pt x="14717" y="9467"/>
                  <a:pt x="14726" y="9459"/>
                  <a:pt x="14734" y="9451"/>
                </a:cubicBezTo>
                <a:cubicBezTo>
                  <a:pt x="14734" y="9511"/>
                  <a:pt x="14704" y="9517"/>
                  <a:pt x="14684" y="9575"/>
                </a:cubicBezTo>
                <a:cubicBezTo>
                  <a:pt x="14665" y="9632"/>
                  <a:pt x="14684" y="9704"/>
                  <a:pt x="14709" y="9748"/>
                </a:cubicBezTo>
                <a:cubicBezTo>
                  <a:pt x="14743" y="9808"/>
                  <a:pt x="14736" y="9787"/>
                  <a:pt x="14784" y="9823"/>
                </a:cubicBezTo>
              </a:path>
              <a:path w="1192" h="720">
                <a:moveTo>
                  <a:pt x="14858" y="9674"/>
                </a:moveTo>
                <a:cubicBezTo>
                  <a:pt x="14798" y="9622"/>
                  <a:pt x="14821" y="9624"/>
                  <a:pt x="14759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545080" y="3537000"/>
            <a:ext cx="81000" cy="44280"/>
          </a:xfrm>
          <a:custGeom>
            <a:avLst/>
            <a:gdLst/>
            <a:ahLst/>
            <a:rect l="l" t="t" r="r" b="b"/>
            <a:pathLst>
              <a:path w="224" h="125">
                <a:moveTo>
                  <a:pt x="15602" y="9823"/>
                </a:moveTo>
                <a:cubicBezTo>
                  <a:pt x="15545" y="9823"/>
                  <a:pt x="15523" y="9833"/>
                  <a:pt x="15478" y="9847"/>
                </a:cubicBezTo>
                <a:cubicBezTo>
                  <a:pt x="15434" y="9861"/>
                  <a:pt x="15446" y="9840"/>
                  <a:pt x="15404" y="9872"/>
                </a:cubicBezTo>
              </a:path>
              <a:path w="224" h="125">
                <a:moveTo>
                  <a:pt x="15627" y="9947"/>
                </a:moveTo>
                <a:cubicBezTo>
                  <a:pt x="15577" y="9947"/>
                  <a:pt x="15528" y="9947"/>
                  <a:pt x="15478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30920" y="3500280"/>
            <a:ext cx="19080" cy="223920"/>
          </a:xfrm>
          <a:custGeom>
            <a:avLst/>
            <a:gdLst/>
            <a:ahLst/>
            <a:rect l="l" t="t" r="r" b="b"/>
            <a:pathLst>
              <a:path w="51" h="622">
                <a:moveTo>
                  <a:pt x="16222" y="9723"/>
                </a:moveTo>
                <a:cubicBezTo>
                  <a:pt x="16258" y="9770"/>
                  <a:pt x="16236" y="9836"/>
                  <a:pt x="16222" y="9897"/>
                </a:cubicBezTo>
                <a:cubicBezTo>
                  <a:pt x="16198" y="10000"/>
                  <a:pt x="16197" y="10088"/>
                  <a:pt x="16197" y="10195"/>
                </a:cubicBezTo>
                <a:cubicBezTo>
                  <a:pt x="16197" y="10258"/>
                  <a:pt x="16209" y="10291"/>
                  <a:pt x="16222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10080" y="3840120"/>
            <a:ext cx="438120" cy="268200"/>
          </a:xfrm>
          <a:custGeom>
            <a:avLst/>
            <a:gdLst/>
            <a:ahLst/>
            <a:rect l="l" t="t" r="r" b="b"/>
            <a:pathLst>
              <a:path w="1217" h="745">
                <a:moveTo>
                  <a:pt x="12526" y="11088"/>
                </a:moveTo>
                <a:cubicBezTo>
                  <a:pt x="12526" y="11112"/>
                  <a:pt x="12526" y="11121"/>
                  <a:pt x="12526" y="11137"/>
                </a:cubicBezTo>
                <a:cubicBezTo>
                  <a:pt x="12535" y="11101"/>
                  <a:pt x="12569" y="11071"/>
                  <a:pt x="12576" y="11038"/>
                </a:cubicBezTo>
                <a:cubicBezTo>
                  <a:pt x="12592" y="10962"/>
                  <a:pt x="12618" y="10890"/>
                  <a:pt x="12650" y="10815"/>
                </a:cubicBezTo>
                <a:cubicBezTo>
                  <a:pt x="12666" y="10776"/>
                  <a:pt x="12713" y="10687"/>
                  <a:pt x="12750" y="10666"/>
                </a:cubicBezTo>
                <a:cubicBezTo>
                  <a:pt x="12807" y="10634"/>
                  <a:pt x="12812" y="10710"/>
                  <a:pt x="12824" y="10740"/>
                </a:cubicBezTo>
                <a:cubicBezTo>
                  <a:pt x="12853" y="10813"/>
                  <a:pt x="12855" y="10888"/>
                  <a:pt x="12874" y="10964"/>
                </a:cubicBezTo>
                <a:cubicBezTo>
                  <a:pt x="12894" y="11046"/>
                  <a:pt x="12924" y="11108"/>
                  <a:pt x="12948" y="11187"/>
                </a:cubicBezTo>
                <a:cubicBezTo>
                  <a:pt x="12948" y="11195"/>
                  <a:pt x="12948" y="11204"/>
                  <a:pt x="12948" y="11212"/>
                </a:cubicBezTo>
              </a:path>
              <a:path w="1217" h="745">
                <a:moveTo>
                  <a:pt x="12973" y="11112"/>
                </a:moveTo>
                <a:cubicBezTo>
                  <a:pt x="12934" y="11074"/>
                  <a:pt x="12917" y="11072"/>
                  <a:pt x="12923" y="11038"/>
                </a:cubicBezTo>
                <a:cubicBezTo>
                  <a:pt x="12857" y="11038"/>
                  <a:pt x="12791" y="11038"/>
                  <a:pt x="12725" y="11038"/>
                </a:cubicBezTo>
                <a:cubicBezTo>
                  <a:pt x="12725" y="11063"/>
                  <a:pt x="12725" y="11071"/>
                  <a:pt x="12700" y="11063"/>
                </a:cubicBezTo>
              </a:path>
              <a:path w="1217" h="745">
                <a:moveTo>
                  <a:pt x="13271" y="11088"/>
                </a:moveTo>
                <a:cubicBezTo>
                  <a:pt x="13307" y="11088"/>
                  <a:pt x="13344" y="11081"/>
                  <a:pt x="13370" y="11063"/>
                </a:cubicBezTo>
                <a:cubicBezTo>
                  <a:pt x="13404" y="11041"/>
                  <a:pt x="13444" y="11026"/>
                  <a:pt x="13469" y="10988"/>
                </a:cubicBezTo>
                <a:cubicBezTo>
                  <a:pt x="13496" y="10946"/>
                  <a:pt x="13494" y="10933"/>
                  <a:pt x="13494" y="10889"/>
                </a:cubicBezTo>
                <a:cubicBezTo>
                  <a:pt x="13446" y="10889"/>
                  <a:pt x="13380" y="10902"/>
                  <a:pt x="13345" y="10939"/>
                </a:cubicBezTo>
                <a:cubicBezTo>
                  <a:pt x="13287" y="11001"/>
                  <a:pt x="13289" y="11068"/>
                  <a:pt x="13320" y="11137"/>
                </a:cubicBezTo>
                <a:cubicBezTo>
                  <a:pt x="13353" y="11212"/>
                  <a:pt x="13389" y="11233"/>
                  <a:pt x="13469" y="11237"/>
                </a:cubicBezTo>
                <a:cubicBezTo>
                  <a:pt x="13543" y="11241"/>
                  <a:pt x="13608" y="11199"/>
                  <a:pt x="13667" y="11187"/>
                </a:cubicBezTo>
                <a:cubicBezTo>
                  <a:pt x="13712" y="11187"/>
                  <a:pt x="13725" y="11190"/>
                  <a:pt x="13742" y="11162"/>
                </a:cubicBezTo>
              </a:path>
              <a:path w="1217" h="745">
                <a:moveTo>
                  <a:pt x="13022" y="11336"/>
                </a:moveTo>
                <a:cubicBezTo>
                  <a:pt x="13022" y="11280"/>
                  <a:pt x="13029" y="11293"/>
                  <a:pt x="13072" y="11261"/>
                </a:cubicBezTo>
                <a:cubicBezTo>
                  <a:pt x="13105" y="11305"/>
                  <a:pt x="13097" y="11327"/>
                  <a:pt x="13097" y="11385"/>
                </a:cubicBezTo>
                <a:cubicBezTo>
                  <a:pt x="13097" y="11393"/>
                  <a:pt x="13097" y="11402"/>
                  <a:pt x="13097" y="11410"/>
                </a:cubicBezTo>
                <a:cubicBezTo>
                  <a:pt x="13062" y="11410"/>
                  <a:pt x="13017" y="11423"/>
                  <a:pt x="12998" y="11385"/>
                </a:cubicBezTo>
                <a:cubicBezTo>
                  <a:pt x="12998" y="11377"/>
                  <a:pt x="12998" y="11369"/>
                  <a:pt x="12998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062680" y="3786120"/>
            <a:ext cx="277560" cy="142920"/>
          </a:xfrm>
          <a:custGeom>
            <a:avLst/>
            <a:gdLst/>
            <a:ahLst/>
            <a:rect l="l" t="t" r="r" b="b"/>
            <a:pathLst>
              <a:path w="770" h="398">
                <a:moveTo>
                  <a:pt x="14064" y="10641"/>
                </a:moveTo>
                <a:cubicBezTo>
                  <a:pt x="14093" y="10612"/>
                  <a:pt x="14105" y="10604"/>
                  <a:pt x="14114" y="10567"/>
                </a:cubicBezTo>
                <a:cubicBezTo>
                  <a:pt x="14076" y="10605"/>
                  <a:pt x="14064" y="10613"/>
                  <a:pt x="14064" y="10666"/>
                </a:cubicBezTo>
                <a:cubicBezTo>
                  <a:pt x="14064" y="10691"/>
                  <a:pt x="14064" y="10699"/>
                  <a:pt x="14064" y="10716"/>
                </a:cubicBezTo>
                <a:cubicBezTo>
                  <a:pt x="14124" y="10724"/>
                  <a:pt x="14160" y="10749"/>
                  <a:pt x="14213" y="10765"/>
                </a:cubicBezTo>
                <a:cubicBezTo>
                  <a:pt x="14254" y="10777"/>
                  <a:pt x="14283" y="10792"/>
                  <a:pt x="14288" y="10840"/>
                </a:cubicBezTo>
                <a:cubicBezTo>
                  <a:pt x="14294" y="10893"/>
                  <a:pt x="14250" y="10889"/>
                  <a:pt x="14213" y="10889"/>
                </a:cubicBezTo>
                <a:cubicBezTo>
                  <a:pt x="14152" y="10889"/>
                  <a:pt x="14140" y="10877"/>
                  <a:pt x="14089" y="10864"/>
                </a:cubicBezTo>
              </a:path>
              <a:path w="770" h="398">
                <a:moveTo>
                  <a:pt x="14337" y="10517"/>
                </a:moveTo>
                <a:cubicBezTo>
                  <a:pt x="14287" y="10517"/>
                  <a:pt x="14279" y="10528"/>
                  <a:pt x="14238" y="10542"/>
                </a:cubicBezTo>
                <a:cubicBezTo>
                  <a:pt x="14219" y="10548"/>
                  <a:pt x="14183" y="10542"/>
                  <a:pt x="14163" y="10542"/>
                </a:cubicBezTo>
              </a:path>
              <a:path w="770" h="398">
                <a:moveTo>
                  <a:pt x="14511" y="10567"/>
                </a:moveTo>
                <a:cubicBezTo>
                  <a:pt x="14511" y="10559"/>
                  <a:pt x="14511" y="10550"/>
                  <a:pt x="14511" y="10542"/>
                </a:cubicBezTo>
                <a:cubicBezTo>
                  <a:pt x="14511" y="10639"/>
                  <a:pt x="14511" y="10731"/>
                  <a:pt x="14536" y="10815"/>
                </a:cubicBezTo>
                <a:cubicBezTo>
                  <a:pt x="14536" y="10840"/>
                  <a:pt x="14536" y="10848"/>
                  <a:pt x="14536" y="10864"/>
                </a:cubicBezTo>
              </a:path>
              <a:path w="770" h="398">
                <a:moveTo>
                  <a:pt x="14709" y="10691"/>
                </a:moveTo>
                <a:cubicBezTo>
                  <a:pt x="14686" y="10699"/>
                  <a:pt x="14656" y="10732"/>
                  <a:pt x="14635" y="10765"/>
                </a:cubicBezTo>
                <a:cubicBezTo>
                  <a:pt x="14606" y="10811"/>
                  <a:pt x="14610" y="10839"/>
                  <a:pt x="14610" y="10889"/>
                </a:cubicBezTo>
                <a:cubicBezTo>
                  <a:pt x="14673" y="10889"/>
                  <a:pt x="14700" y="10910"/>
                  <a:pt x="14759" y="10914"/>
                </a:cubicBezTo>
                <a:cubicBezTo>
                  <a:pt x="14800" y="10914"/>
                  <a:pt x="14808" y="10914"/>
                  <a:pt x="14833" y="10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473800" y="3956040"/>
            <a:ext cx="98280" cy="6192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15404" y="10988"/>
                </a:moveTo>
                <a:cubicBezTo>
                  <a:pt x="15412" y="10988"/>
                  <a:pt x="15421" y="10988"/>
                  <a:pt x="15429" y="10988"/>
                </a:cubicBezTo>
                <a:cubicBezTo>
                  <a:pt x="15354" y="10988"/>
                  <a:pt x="15280" y="10988"/>
                  <a:pt x="15205" y="10988"/>
                </a:cubicBezTo>
              </a:path>
              <a:path w="274" h="175">
                <a:moveTo>
                  <a:pt x="15453" y="11137"/>
                </a:moveTo>
                <a:cubicBezTo>
                  <a:pt x="15461" y="11137"/>
                  <a:pt x="15470" y="11137"/>
                  <a:pt x="15478" y="11137"/>
                </a:cubicBezTo>
                <a:cubicBezTo>
                  <a:pt x="15465" y="11177"/>
                  <a:pt x="15430" y="11162"/>
                  <a:pt x="15379" y="11162"/>
                </a:cubicBezTo>
                <a:cubicBezTo>
                  <a:pt x="15346" y="11162"/>
                  <a:pt x="15313" y="11162"/>
                  <a:pt x="15280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69000" y="3946680"/>
            <a:ext cx="17280" cy="161640"/>
          </a:xfrm>
          <a:custGeom>
            <a:avLst/>
            <a:gdLst/>
            <a:ahLst/>
            <a:rect l="l" t="t" r="r" b="b"/>
            <a:pathLst>
              <a:path w="50" h="447">
                <a:moveTo>
                  <a:pt x="16024" y="10964"/>
                </a:moveTo>
                <a:cubicBezTo>
                  <a:pt x="16032" y="10964"/>
                  <a:pt x="16041" y="10964"/>
                  <a:pt x="16049" y="10964"/>
                </a:cubicBezTo>
                <a:cubicBezTo>
                  <a:pt x="16036" y="11014"/>
                  <a:pt x="16024" y="11027"/>
                  <a:pt x="16024" y="11088"/>
                </a:cubicBezTo>
                <a:cubicBezTo>
                  <a:pt x="16024" y="11180"/>
                  <a:pt x="16036" y="11247"/>
                  <a:pt x="16049" y="11336"/>
                </a:cubicBezTo>
                <a:cubicBezTo>
                  <a:pt x="16049" y="11380"/>
                  <a:pt x="16046" y="11393"/>
                  <a:pt x="16073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79960" y="4456080"/>
            <a:ext cx="704880" cy="295200"/>
          </a:xfrm>
          <a:custGeom>
            <a:avLst/>
            <a:gdLst/>
            <a:ahLst/>
            <a:rect l="l" t="t" r="r" b="b"/>
            <a:pathLst>
              <a:path w="1960" h="819">
                <a:moveTo>
                  <a:pt x="11609" y="13022"/>
                </a:moveTo>
                <a:cubicBezTo>
                  <a:pt x="11609" y="13088"/>
                  <a:pt x="11630" y="12958"/>
                  <a:pt x="11633" y="12948"/>
                </a:cubicBezTo>
                <a:cubicBezTo>
                  <a:pt x="11661" y="12845"/>
                  <a:pt x="11694" y="12687"/>
                  <a:pt x="11757" y="12601"/>
                </a:cubicBezTo>
                <a:cubicBezTo>
                  <a:pt x="11781" y="12568"/>
                  <a:pt x="11832" y="12510"/>
                  <a:pt x="11857" y="12502"/>
                </a:cubicBezTo>
                <a:cubicBezTo>
                  <a:pt x="11900" y="12557"/>
                  <a:pt x="11924" y="12629"/>
                  <a:pt x="11931" y="12700"/>
                </a:cubicBezTo>
                <a:cubicBezTo>
                  <a:pt x="11942" y="12812"/>
                  <a:pt x="11956" y="12894"/>
                  <a:pt x="12005" y="12998"/>
                </a:cubicBezTo>
                <a:cubicBezTo>
                  <a:pt x="12033" y="13057"/>
                  <a:pt x="12027" y="13047"/>
                  <a:pt x="12080" y="13047"/>
                </a:cubicBezTo>
                <a:cubicBezTo>
                  <a:pt x="12080" y="13001"/>
                  <a:pt x="12086" y="12983"/>
                  <a:pt x="12055" y="12948"/>
                </a:cubicBezTo>
                <a:cubicBezTo>
                  <a:pt x="12016" y="12904"/>
                  <a:pt x="11957" y="12915"/>
                  <a:pt x="11906" y="12898"/>
                </a:cubicBezTo>
                <a:cubicBezTo>
                  <a:pt x="11840" y="12877"/>
                  <a:pt x="11775" y="12863"/>
                  <a:pt x="11708" y="12849"/>
                </a:cubicBezTo>
              </a:path>
              <a:path w="1960" h="819">
                <a:moveTo>
                  <a:pt x="12254" y="13022"/>
                </a:moveTo>
                <a:cubicBezTo>
                  <a:pt x="12254" y="13067"/>
                  <a:pt x="12240" y="13003"/>
                  <a:pt x="12278" y="12998"/>
                </a:cubicBezTo>
                <a:cubicBezTo>
                  <a:pt x="12319" y="12993"/>
                  <a:pt x="12369" y="13064"/>
                  <a:pt x="12378" y="13097"/>
                </a:cubicBezTo>
                <a:cubicBezTo>
                  <a:pt x="12385" y="13122"/>
                  <a:pt x="12384" y="13221"/>
                  <a:pt x="12328" y="13196"/>
                </a:cubicBezTo>
                <a:cubicBezTo>
                  <a:pt x="12320" y="13188"/>
                  <a:pt x="12311" y="13179"/>
                  <a:pt x="12303" y="13171"/>
                </a:cubicBezTo>
              </a:path>
              <a:path w="1960" h="819">
                <a:moveTo>
                  <a:pt x="12601" y="12898"/>
                </a:moveTo>
                <a:cubicBezTo>
                  <a:pt x="12618" y="12949"/>
                  <a:pt x="12658" y="12920"/>
                  <a:pt x="12700" y="12898"/>
                </a:cubicBezTo>
                <a:cubicBezTo>
                  <a:pt x="12768" y="12863"/>
                  <a:pt x="12793" y="12849"/>
                  <a:pt x="12799" y="12774"/>
                </a:cubicBezTo>
                <a:cubicBezTo>
                  <a:pt x="12803" y="12733"/>
                  <a:pt x="12798" y="12732"/>
                  <a:pt x="12774" y="12700"/>
                </a:cubicBezTo>
                <a:cubicBezTo>
                  <a:pt x="12703" y="12718"/>
                  <a:pt x="12625" y="12764"/>
                  <a:pt x="12601" y="12849"/>
                </a:cubicBezTo>
                <a:cubicBezTo>
                  <a:pt x="12581" y="12921"/>
                  <a:pt x="12669" y="13016"/>
                  <a:pt x="12725" y="13047"/>
                </a:cubicBezTo>
                <a:cubicBezTo>
                  <a:pt x="12802" y="13090"/>
                  <a:pt x="12898" y="13079"/>
                  <a:pt x="12973" y="13047"/>
                </a:cubicBezTo>
                <a:cubicBezTo>
                  <a:pt x="12989" y="13039"/>
                  <a:pt x="13006" y="13030"/>
                  <a:pt x="13022" y="13022"/>
                </a:cubicBezTo>
              </a:path>
              <a:path w="1960" h="819">
                <a:moveTo>
                  <a:pt x="13072" y="12526"/>
                </a:moveTo>
                <a:cubicBezTo>
                  <a:pt x="13072" y="12507"/>
                  <a:pt x="13057" y="12434"/>
                  <a:pt x="13022" y="12477"/>
                </a:cubicBezTo>
                <a:cubicBezTo>
                  <a:pt x="13022" y="12485"/>
                  <a:pt x="13022" y="12494"/>
                  <a:pt x="13022" y="12502"/>
                </a:cubicBezTo>
                <a:cubicBezTo>
                  <a:pt x="13036" y="12541"/>
                  <a:pt x="13077" y="12533"/>
                  <a:pt x="13122" y="12551"/>
                </a:cubicBezTo>
                <a:cubicBezTo>
                  <a:pt x="13168" y="12570"/>
                  <a:pt x="13215" y="12601"/>
                  <a:pt x="13221" y="12650"/>
                </a:cubicBezTo>
                <a:cubicBezTo>
                  <a:pt x="13221" y="12658"/>
                  <a:pt x="13221" y="12667"/>
                  <a:pt x="13221" y="12675"/>
                </a:cubicBezTo>
                <a:cubicBezTo>
                  <a:pt x="13171" y="12675"/>
                  <a:pt x="13122" y="12675"/>
                  <a:pt x="13072" y="12675"/>
                </a:cubicBezTo>
              </a:path>
              <a:path w="1960" h="819">
                <a:moveTo>
                  <a:pt x="13022" y="12502"/>
                </a:moveTo>
                <a:cubicBezTo>
                  <a:pt x="13100" y="12447"/>
                  <a:pt x="13108" y="12427"/>
                  <a:pt x="13196" y="12427"/>
                </a:cubicBezTo>
              </a:path>
              <a:path w="1960" h="819">
                <a:moveTo>
                  <a:pt x="13370" y="12402"/>
                </a:moveTo>
                <a:cubicBezTo>
                  <a:pt x="13336" y="12336"/>
                  <a:pt x="13340" y="12506"/>
                  <a:pt x="13345" y="12526"/>
                </a:cubicBezTo>
                <a:cubicBezTo>
                  <a:pt x="13358" y="12581"/>
                  <a:pt x="13383" y="12626"/>
                  <a:pt x="13395" y="12675"/>
                </a:cubicBezTo>
              </a:path>
              <a:path w="1960" h="819">
                <a:moveTo>
                  <a:pt x="13519" y="12576"/>
                </a:moveTo>
                <a:cubicBezTo>
                  <a:pt x="13519" y="12568"/>
                  <a:pt x="13519" y="12559"/>
                  <a:pt x="13519" y="12551"/>
                </a:cubicBezTo>
                <a:cubicBezTo>
                  <a:pt x="13501" y="12557"/>
                  <a:pt x="13458" y="12595"/>
                  <a:pt x="13444" y="12626"/>
                </a:cubicBezTo>
                <a:cubicBezTo>
                  <a:pt x="13425" y="12669"/>
                  <a:pt x="13458" y="12696"/>
                  <a:pt x="13494" y="12700"/>
                </a:cubicBezTo>
                <a:cubicBezTo>
                  <a:pt x="13527" y="12700"/>
                  <a:pt x="13543" y="12700"/>
                  <a:pt x="13568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18040" y="462600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4139" y="12849"/>
                </a:moveTo>
                <a:cubicBezTo>
                  <a:pt x="14070" y="12849"/>
                  <a:pt x="13994" y="12834"/>
                  <a:pt x="13940" y="12874"/>
                </a:cubicBezTo>
              </a:path>
              <a:path w="224" h="199">
                <a:moveTo>
                  <a:pt x="14139" y="13022"/>
                </a:moveTo>
                <a:cubicBezTo>
                  <a:pt x="14147" y="13030"/>
                  <a:pt x="14155" y="13039"/>
                  <a:pt x="14163" y="13047"/>
                </a:cubicBezTo>
                <a:cubicBezTo>
                  <a:pt x="14111" y="13024"/>
                  <a:pt x="14093" y="13022"/>
                  <a:pt x="14039" y="13022"/>
                </a:cubicBezTo>
                <a:cubicBezTo>
                  <a:pt x="14031" y="13022"/>
                  <a:pt x="14023" y="13022"/>
                  <a:pt x="14015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30880" y="4537080"/>
            <a:ext cx="9360" cy="249120"/>
          </a:xfrm>
          <a:custGeom>
            <a:avLst/>
            <a:gdLst/>
            <a:ahLst/>
            <a:rect l="l" t="t" r="r" b="b"/>
            <a:pathLst>
              <a:path w="26" h="695">
                <a:moveTo>
                  <a:pt x="14808" y="12601"/>
                </a:moveTo>
                <a:cubicBezTo>
                  <a:pt x="14808" y="12815"/>
                  <a:pt x="14774" y="13077"/>
                  <a:pt x="14833" y="13271"/>
                </a:cubicBezTo>
                <a:cubicBezTo>
                  <a:pt x="14833" y="13279"/>
                  <a:pt x="14833" y="13287"/>
                  <a:pt x="14833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00200" y="4268880"/>
            <a:ext cx="679680" cy="392040"/>
          </a:xfrm>
          <a:custGeom>
            <a:avLst/>
            <a:gdLst/>
            <a:ahLst/>
            <a:rect l="l" t="t" r="r" b="b"/>
            <a:pathLst>
              <a:path w="1886" h="1092">
                <a:moveTo>
                  <a:pt x="7094" y="12129"/>
                </a:moveTo>
                <a:cubicBezTo>
                  <a:pt x="7117" y="12107"/>
                  <a:pt x="7122" y="12099"/>
                  <a:pt x="7144" y="12105"/>
                </a:cubicBezTo>
                <a:cubicBezTo>
                  <a:pt x="7096" y="12105"/>
                  <a:pt x="7064" y="12100"/>
                  <a:pt x="7020" y="12129"/>
                </a:cubicBezTo>
                <a:cubicBezTo>
                  <a:pt x="6983" y="12154"/>
                  <a:pt x="6990" y="12154"/>
                  <a:pt x="6945" y="12154"/>
                </a:cubicBezTo>
              </a:path>
              <a:path w="1886" h="1092">
                <a:moveTo>
                  <a:pt x="7045" y="12179"/>
                </a:moveTo>
                <a:cubicBezTo>
                  <a:pt x="7103" y="12187"/>
                  <a:pt x="7147" y="12196"/>
                  <a:pt x="7094" y="12254"/>
                </a:cubicBezTo>
                <a:cubicBezTo>
                  <a:pt x="7065" y="12286"/>
                  <a:pt x="7012" y="12295"/>
                  <a:pt x="6970" y="12303"/>
                </a:cubicBezTo>
              </a:path>
              <a:path w="1886" h="1092">
                <a:moveTo>
                  <a:pt x="7665" y="12005"/>
                </a:moveTo>
                <a:cubicBezTo>
                  <a:pt x="7636" y="11996"/>
                  <a:pt x="7620" y="11972"/>
                  <a:pt x="7615" y="11931"/>
                </a:cubicBezTo>
                <a:cubicBezTo>
                  <a:pt x="7610" y="11886"/>
                  <a:pt x="7617" y="11860"/>
                  <a:pt x="7665" y="11857"/>
                </a:cubicBezTo>
                <a:cubicBezTo>
                  <a:pt x="7716" y="11853"/>
                  <a:pt x="7806" y="11855"/>
                  <a:pt x="7838" y="11906"/>
                </a:cubicBezTo>
                <a:cubicBezTo>
                  <a:pt x="7872" y="11961"/>
                  <a:pt x="7930" y="12113"/>
                  <a:pt x="7913" y="12179"/>
                </a:cubicBezTo>
                <a:cubicBezTo>
                  <a:pt x="7894" y="12253"/>
                  <a:pt x="7803" y="12223"/>
                  <a:pt x="7764" y="12204"/>
                </a:cubicBezTo>
                <a:cubicBezTo>
                  <a:pt x="7737" y="12191"/>
                  <a:pt x="7618" y="12154"/>
                  <a:pt x="7640" y="12105"/>
                </a:cubicBezTo>
                <a:cubicBezTo>
                  <a:pt x="7648" y="12097"/>
                  <a:pt x="7657" y="12088"/>
                  <a:pt x="7665" y="12080"/>
                </a:cubicBezTo>
              </a:path>
              <a:path w="1886" h="1092">
                <a:moveTo>
                  <a:pt x="8161" y="12179"/>
                </a:moveTo>
                <a:cubicBezTo>
                  <a:pt x="8186" y="12204"/>
                  <a:pt x="8194" y="12212"/>
                  <a:pt x="8210" y="12229"/>
                </a:cubicBezTo>
              </a:path>
              <a:path w="1886" h="1092">
                <a:moveTo>
                  <a:pt x="8334" y="12005"/>
                </a:moveTo>
                <a:cubicBezTo>
                  <a:pt x="8334" y="11963"/>
                  <a:pt x="8340" y="11946"/>
                  <a:pt x="8384" y="11931"/>
                </a:cubicBezTo>
                <a:cubicBezTo>
                  <a:pt x="8417" y="11920"/>
                  <a:pt x="8468" y="11886"/>
                  <a:pt x="8508" y="11906"/>
                </a:cubicBezTo>
                <a:cubicBezTo>
                  <a:pt x="8563" y="11933"/>
                  <a:pt x="8558" y="11978"/>
                  <a:pt x="8558" y="12030"/>
                </a:cubicBezTo>
                <a:cubicBezTo>
                  <a:pt x="8558" y="12084"/>
                  <a:pt x="8517" y="12135"/>
                  <a:pt x="8508" y="12179"/>
                </a:cubicBezTo>
                <a:cubicBezTo>
                  <a:pt x="8508" y="12196"/>
                  <a:pt x="8508" y="12212"/>
                  <a:pt x="8508" y="12229"/>
                </a:cubicBezTo>
                <a:cubicBezTo>
                  <a:pt x="8571" y="12229"/>
                  <a:pt x="8600" y="12231"/>
                  <a:pt x="8657" y="12204"/>
                </a:cubicBezTo>
                <a:cubicBezTo>
                  <a:pt x="8697" y="12184"/>
                  <a:pt x="8703" y="12175"/>
                  <a:pt x="8731" y="12179"/>
                </a:cubicBezTo>
              </a:path>
              <a:path w="1886" h="1092">
                <a:moveTo>
                  <a:pt x="8830" y="12427"/>
                </a:moveTo>
                <a:cubicBezTo>
                  <a:pt x="8417" y="12427"/>
                  <a:pt x="8003" y="12427"/>
                  <a:pt x="7590" y="12427"/>
                </a:cubicBezTo>
              </a:path>
              <a:path w="1886" h="1092">
                <a:moveTo>
                  <a:pt x="8235" y="12551"/>
                </a:moveTo>
                <a:cubicBezTo>
                  <a:pt x="8227" y="12543"/>
                  <a:pt x="8218" y="12534"/>
                  <a:pt x="8210" y="12526"/>
                </a:cubicBezTo>
                <a:cubicBezTo>
                  <a:pt x="8210" y="12588"/>
                  <a:pt x="8218" y="12667"/>
                  <a:pt x="8235" y="12725"/>
                </a:cubicBezTo>
                <a:cubicBezTo>
                  <a:pt x="8252" y="12784"/>
                  <a:pt x="8254" y="12871"/>
                  <a:pt x="8285" y="12923"/>
                </a:cubicBezTo>
                <a:cubicBezTo>
                  <a:pt x="8293" y="12931"/>
                  <a:pt x="8302" y="12940"/>
                  <a:pt x="8310" y="12948"/>
                </a:cubicBezTo>
              </a:path>
              <a:path w="1886" h="1092">
                <a:moveTo>
                  <a:pt x="8458" y="12725"/>
                </a:moveTo>
                <a:cubicBezTo>
                  <a:pt x="8496" y="12696"/>
                  <a:pt x="8511" y="12670"/>
                  <a:pt x="8458" y="12700"/>
                </a:cubicBezTo>
                <a:cubicBezTo>
                  <a:pt x="8426" y="12718"/>
                  <a:pt x="8386" y="12765"/>
                  <a:pt x="8384" y="12799"/>
                </a:cubicBezTo>
                <a:cubicBezTo>
                  <a:pt x="8384" y="12841"/>
                  <a:pt x="8384" y="12849"/>
                  <a:pt x="8384" y="12874"/>
                </a:cubicBezTo>
                <a:cubicBezTo>
                  <a:pt x="8439" y="12874"/>
                  <a:pt x="8478" y="12894"/>
                  <a:pt x="8533" y="12898"/>
                </a:cubicBezTo>
                <a:cubicBezTo>
                  <a:pt x="8565" y="12900"/>
                  <a:pt x="8600" y="12898"/>
                  <a:pt x="8632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68800" y="4929120"/>
            <a:ext cx="776160" cy="393840"/>
          </a:xfrm>
          <a:custGeom>
            <a:avLst/>
            <a:gdLst/>
            <a:ahLst/>
            <a:rect l="l" t="t" r="r" b="b"/>
            <a:pathLst>
              <a:path w="2159" h="1093">
                <a:moveTo>
                  <a:pt x="9103" y="13841"/>
                </a:moveTo>
                <a:cubicBezTo>
                  <a:pt x="9087" y="13792"/>
                  <a:pt x="9096" y="13829"/>
                  <a:pt x="9103" y="13767"/>
                </a:cubicBezTo>
                <a:cubicBezTo>
                  <a:pt x="9110" y="13706"/>
                  <a:pt x="9149" y="13697"/>
                  <a:pt x="9203" y="13692"/>
                </a:cubicBezTo>
                <a:cubicBezTo>
                  <a:pt x="9269" y="13686"/>
                  <a:pt x="9325" y="13724"/>
                  <a:pt x="9351" y="13791"/>
                </a:cubicBezTo>
                <a:cubicBezTo>
                  <a:pt x="9361" y="13816"/>
                  <a:pt x="9366" y="13928"/>
                  <a:pt x="9327" y="13940"/>
                </a:cubicBezTo>
                <a:cubicBezTo>
                  <a:pt x="9260" y="13961"/>
                  <a:pt x="9188" y="13929"/>
                  <a:pt x="9128" y="13915"/>
                </a:cubicBezTo>
                <a:cubicBezTo>
                  <a:pt x="9120" y="13915"/>
                  <a:pt x="9111" y="13915"/>
                  <a:pt x="9103" y="13915"/>
                </a:cubicBezTo>
              </a:path>
              <a:path w="2159" h="1093">
                <a:moveTo>
                  <a:pt x="9525" y="13990"/>
                </a:moveTo>
                <a:cubicBezTo>
                  <a:pt x="9598" y="13997"/>
                  <a:pt x="9594" y="14001"/>
                  <a:pt x="9649" y="14015"/>
                </a:cubicBezTo>
              </a:path>
              <a:path w="2159" h="1093">
                <a:moveTo>
                  <a:pt x="9798" y="13841"/>
                </a:moveTo>
                <a:cubicBezTo>
                  <a:pt x="9778" y="13801"/>
                  <a:pt x="9769" y="13794"/>
                  <a:pt x="9773" y="13767"/>
                </a:cubicBezTo>
                <a:cubicBezTo>
                  <a:pt x="9839" y="13767"/>
                  <a:pt x="9922" y="13747"/>
                  <a:pt x="9971" y="13791"/>
                </a:cubicBezTo>
                <a:cubicBezTo>
                  <a:pt x="10020" y="13834"/>
                  <a:pt x="9984" y="13854"/>
                  <a:pt x="9947" y="13891"/>
                </a:cubicBezTo>
                <a:cubicBezTo>
                  <a:pt x="9919" y="13919"/>
                  <a:pt x="9906" y="13954"/>
                  <a:pt x="9897" y="13990"/>
                </a:cubicBezTo>
                <a:cubicBezTo>
                  <a:pt x="9979" y="13990"/>
                  <a:pt x="10051" y="13986"/>
                  <a:pt x="10120" y="13965"/>
                </a:cubicBezTo>
                <a:cubicBezTo>
                  <a:pt x="10128" y="13965"/>
                  <a:pt x="10137" y="13965"/>
                  <a:pt x="10145" y="13965"/>
                </a:cubicBezTo>
              </a:path>
              <a:path w="2159" h="1093">
                <a:moveTo>
                  <a:pt x="10344" y="14288"/>
                </a:moveTo>
                <a:cubicBezTo>
                  <a:pt x="10328" y="14239"/>
                  <a:pt x="10296" y="14276"/>
                  <a:pt x="10244" y="14263"/>
                </a:cubicBezTo>
                <a:cubicBezTo>
                  <a:pt x="10148" y="14239"/>
                  <a:pt x="10071" y="14238"/>
                  <a:pt x="9971" y="14238"/>
                </a:cubicBezTo>
                <a:cubicBezTo>
                  <a:pt x="9841" y="14238"/>
                  <a:pt x="9721" y="14243"/>
                  <a:pt x="9599" y="14263"/>
                </a:cubicBezTo>
                <a:cubicBezTo>
                  <a:pt x="9546" y="14271"/>
                  <a:pt x="9497" y="14283"/>
                  <a:pt x="9451" y="14288"/>
                </a:cubicBezTo>
                <a:cubicBezTo>
                  <a:pt x="9443" y="14288"/>
                  <a:pt x="9434" y="14288"/>
                  <a:pt x="9426" y="14288"/>
                </a:cubicBezTo>
              </a:path>
              <a:path w="2159" h="1093">
                <a:moveTo>
                  <a:pt x="9823" y="14461"/>
                </a:moveTo>
                <a:cubicBezTo>
                  <a:pt x="9823" y="14394"/>
                  <a:pt x="9823" y="14545"/>
                  <a:pt x="9823" y="14560"/>
                </a:cubicBezTo>
                <a:cubicBezTo>
                  <a:pt x="9823" y="14636"/>
                  <a:pt x="9831" y="14688"/>
                  <a:pt x="9847" y="14759"/>
                </a:cubicBezTo>
                <a:cubicBezTo>
                  <a:pt x="9847" y="14767"/>
                  <a:pt x="9847" y="14776"/>
                  <a:pt x="9847" y="14784"/>
                </a:cubicBezTo>
              </a:path>
              <a:path w="2159" h="1093">
                <a:moveTo>
                  <a:pt x="10021" y="14511"/>
                </a:moveTo>
                <a:cubicBezTo>
                  <a:pt x="10021" y="14470"/>
                  <a:pt x="10001" y="14530"/>
                  <a:pt x="9971" y="14560"/>
                </a:cubicBezTo>
                <a:cubicBezTo>
                  <a:pt x="9922" y="14609"/>
                  <a:pt x="9904" y="14654"/>
                  <a:pt x="9947" y="14709"/>
                </a:cubicBezTo>
                <a:cubicBezTo>
                  <a:pt x="9974" y="14743"/>
                  <a:pt x="10057" y="14749"/>
                  <a:pt x="10096" y="14734"/>
                </a:cubicBezTo>
                <a:cubicBezTo>
                  <a:pt x="10130" y="14721"/>
                  <a:pt x="10154" y="14692"/>
                  <a:pt x="10195" y="14684"/>
                </a:cubicBezTo>
              </a:path>
              <a:path w="2159" h="1093">
                <a:moveTo>
                  <a:pt x="10716" y="14263"/>
                </a:moveTo>
                <a:cubicBezTo>
                  <a:pt x="10724" y="14263"/>
                  <a:pt x="10732" y="14263"/>
                  <a:pt x="10740" y="14263"/>
                </a:cubicBezTo>
                <a:cubicBezTo>
                  <a:pt x="10690" y="14263"/>
                  <a:pt x="10682" y="14274"/>
                  <a:pt x="10641" y="14288"/>
                </a:cubicBezTo>
                <a:cubicBezTo>
                  <a:pt x="10614" y="14297"/>
                  <a:pt x="10595" y="14305"/>
                  <a:pt x="10567" y="14312"/>
                </a:cubicBezTo>
              </a:path>
              <a:path w="2159" h="1093">
                <a:moveTo>
                  <a:pt x="10740" y="14387"/>
                </a:moveTo>
                <a:cubicBezTo>
                  <a:pt x="10748" y="14387"/>
                  <a:pt x="10757" y="14387"/>
                  <a:pt x="10765" y="14387"/>
                </a:cubicBezTo>
                <a:cubicBezTo>
                  <a:pt x="10743" y="14421"/>
                  <a:pt x="10717" y="14412"/>
                  <a:pt x="10666" y="14412"/>
                </a:cubicBezTo>
                <a:cubicBezTo>
                  <a:pt x="10638" y="14412"/>
                  <a:pt x="10627" y="14414"/>
                  <a:pt x="10616" y="14436"/>
                </a:cubicBezTo>
              </a:path>
              <a:path w="2159" h="1093">
                <a:moveTo>
                  <a:pt x="11187" y="14064"/>
                </a:moveTo>
                <a:cubicBezTo>
                  <a:pt x="11231" y="14079"/>
                  <a:pt x="11212" y="14135"/>
                  <a:pt x="11212" y="14188"/>
                </a:cubicBezTo>
                <a:cubicBezTo>
                  <a:pt x="11212" y="14279"/>
                  <a:pt x="11192" y="14387"/>
                  <a:pt x="11237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749840" y="5126040"/>
            <a:ext cx="14436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3196" y="14312"/>
                </a:moveTo>
                <a:cubicBezTo>
                  <a:pt x="13223" y="14277"/>
                  <a:pt x="13221" y="14282"/>
                  <a:pt x="13221" y="14238"/>
                </a:cubicBezTo>
                <a:cubicBezTo>
                  <a:pt x="13282" y="14258"/>
                  <a:pt x="13228" y="14311"/>
                  <a:pt x="13221" y="14362"/>
                </a:cubicBezTo>
                <a:cubicBezTo>
                  <a:pt x="13204" y="14489"/>
                  <a:pt x="13221" y="14630"/>
                  <a:pt x="13221" y="14759"/>
                </a:cubicBezTo>
              </a:path>
              <a:path w="398" h="522">
                <a:moveTo>
                  <a:pt x="13494" y="14486"/>
                </a:moveTo>
                <a:cubicBezTo>
                  <a:pt x="13474" y="14526"/>
                  <a:pt x="13428" y="14545"/>
                  <a:pt x="13395" y="14585"/>
                </a:cubicBezTo>
                <a:cubicBezTo>
                  <a:pt x="13350" y="14640"/>
                  <a:pt x="13326" y="14668"/>
                  <a:pt x="13370" y="14734"/>
                </a:cubicBezTo>
                <a:cubicBezTo>
                  <a:pt x="13410" y="14794"/>
                  <a:pt x="13472" y="14746"/>
                  <a:pt x="13519" y="14734"/>
                </a:cubicBezTo>
                <a:cubicBezTo>
                  <a:pt x="13554" y="14734"/>
                  <a:pt x="13571" y="14729"/>
                  <a:pt x="13593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54760" y="5205240"/>
            <a:ext cx="723600" cy="179640"/>
          </a:xfrm>
          <a:custGeom>
            <a:avLst/>
            <a:gdLst/>
            <a:ahLst/>
            <a:rect l="l" t="t" r="r" b="b"/>
            <a:pathLst>
              <a:path w="2011" h="497">
                <a:moveTo>
                  <a:pt x="14263" y="14536"/>
                </a:moveTo>
                <a:cubicBezTo>
                  <a:pt x="14271" y="14528"/>
                  <a:pt x="14280" y="14519"/>
                  <a:pt x="14288" y="14511"/>
                </a:cubicBezTo>
                <a:cubicBezTo>
                  <a:pt x="14240" y="14511"/>
                  <a:pt x="14209" y="14533"/>
                  <a:pt x="14163" y="14536"/>
                </a:cubicBezTo>
                <a:cubicBezTo>
                  <a:pt x="14122" y="14539"/>
                  <a:pt x="14080" y="14536"/>
                  <a:pt x="14039" y="14536"/>
                </a:cubicBezTo>
              </a:path>
              <a:path w="2011" h="497">
                <a:moveTo>
                  <a:pt x="14238" y="14660"/>
                </a:moveTo>
                <a:cubicBezTo>
                  <a:pt x="14246" y="14668"/>
                  <a:pt x="14255" y="14676"/>
                  <a:pt x="14263" y="14684"/>
                </a:cubicBezTo>
                <a:cubicBezTo>
                  <a:pt x="14205" y="14684"/>
                  <a:pt x="14147" y="14684"/>
                  <a:pt x="14089" y="14684"/>
                </a:cubicBezTo>
              </a:path>
              <a:path w="2011" h="497">
                <a:moveTo>
                  <a:pt x="14660" y="14684"/>
                </a:moveTo>
                <a:cubicBezTo>
                  <a:pt x="14617" y="14653"/>
                  <a:pt x="14610" y="14666"/>
                  <a:pt x="14610" y="14610"/>
                </a:cubicBezTo>
                <a:cubicBezTo>
                  <a:pt x="14610" y="14583"/>
                  <a:pt x="14661" y="14502"/>
                  <a:pt x="14684" y="14486"/>
                </a:cubicBezTo>
                <a:cubicBezTo>
                  <a:pt x="14738" y="14448"/>
                  <a:pt x="14793" y="14455"/>
                  <a:pt x="14833" y="14511"/>
                </a:cubicBezTo>
                <a:cubicBezTo>
                  <a:pt x="14877" y="14572"/>
                  <a:pt x="14903" y="14660"/>
                  <a:pt x="14883" y="14734"/>
                </a:cubicBezTo>
                <a:cubicBezTo>
                  <a:pt x="14862" y="14814"/>
                  <a:pt x="14799" y="14808"/>
                  <a:pt x="14734" y="14808"/>
                </a:cubicBezTo>
                <a:cubicBezTo>
                  <a:pt x="14675" y="14808"/>
                  <a:pt x="14629" y="14792"/>
                  <a:pt x="14585" y="14759"/>
                </a:cubicBezTo>
              </a:path>
              <a:path w="2011" h="497">
                <a:moveTo>
                  <a:pt x="15081" y="14908"/>
                </a:moveTo>
                <a:cubicBezTo>
                  <a:pt x="15089" y="14908"/>
                  <a:pt x="15098" y="14908"/>
                  <a:pt x="15106" y="14908"/>
                </a:cubicBezTo>
              </a:path>
              <a:path w="2011" h="497">
                <a:moveTo>
                  <a:pt x="15528" y="14734"/>
                </a:moveTo>
                <a:cubicBezTo>
                  <a:pt x="15490" y="14696"/>
                  <a:pt x="15478" y="14688"/>
                  <a:pt x="15478" y="14635"/>
                </a:cubicBezTo>
                <a:cubicBezTo>
                  <a:pt x="15478" y="14584"/>
                  <a:pt x="15518" y="14575"/>
                  <a:pt x="15553" y="14560"/>
                </a:cubicBezTo>
                <a:cubicBezTo>
                  <a:pt x="15592" y="14544"/>
                  <a:pt x="15653" y="14479"/>
                  <a:pt x="15701" y="14511"/>
                </a:cubicBezTo>
                <a:cubicBezTo>
                  <a:pt x="15766" y="14554"/>
                  <a:pt x="15766" y="14637"/>
                  <a:pt x="15751" y="14709"/>
                </a:cubicBezTo>
                <a:cubicBezTo>
                  <a:pt x="15734" y="14792"/>
                  <a:pt x="15677" y="14834"/>
                  <a:pt x="15652" y="14908"/>
                </a:cubicBezTo>
                <a:cubicBezTo>
                  <a:pt x="15652" y="14916"/>
                  <a:pt x="15652" y="14924"/>
                  <a:pt x="15652" y="14932"/>
                </a:cubicBezTo>
                <a:cubicBezTo>
                  <a:pt x="15723" y="14975"/>
                  <a:pt x="15749" y="14945"/>
                  <a:pt x="15825" y="14932"/>
                </a:cubicBezTo>
                <a:cubicBezTo>
                  <a:pt x="15895" y="14920"/>
                  <a:pt x="15978" y="14932"/>
                  <a:pt x="16049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048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9360" y="1473120"/>
            <a:ext cx="374760" cy="492120"/>
          </a:xfrm>
          <a:custGeom>
            <a:avLst/>
            <a:gdLst/>
            <a:ahLst/>
            <a:rect l="l" t="t" r="r" b="b"/>
            <a:pathLst>
              <a:path w="1043" h="1365">
                <a:moveTo>
                  <a:pt x="719" y="5333"/>
                </a:moveTo>
                <a:cubicBezTo>
                  <a:pt x="685" y="5396"/>
                  <a:pt x="695" y="5430"/>
                  <a:pt x="620" y="5457"/>
                </a:cubicBezTo>
                <a:cubicBezTo>
                  <a:pt x="551" y="5482"/>
                  <a:pt x="381" y="5465"/>
                  <a:pt x="322" y="5432"/>
                </a:cubicBezTo>
                <a:cubicBezTo>
                  <a:pt x="217" y="5373"/>
                  <a:pt x="189" y="5325"/>
                  <a:pt x="124" y="5234"/>
                </a:cubicBezTo>
                <a:cubicBezTo>
                  <a:pt x="46" y="5125"/>
                  <a:pt x="13" y="5003"/>
                  <a:pt x="25" y="4862"/>
                </a:cubicBezTo>
                <a:cubicBezTo>
                  <a:pt x="40" y="4675"/>
                  <a:pt x="81" y="4456"/>
                  <a:pt x="174" y="4291"/>
                </a:cubicBezTo>
                <a:cubicBezTo>
                  <a:pt x="252" y="4151"/>
                  <a:pt x="377" y="4055"/>
                  <a:pt x="546" y="4093"/>
                </a:cubicBezTo>
                <a:cubicBezTo>
                  <a:pt x="728" y="4134"/>
                  <a:pt x="872" y="4296"/>
                  <a:pt x="967" y="4440"/>
                </a:cubicBezTo>
                <a:cubicBezTo>
                  <a:pt x="1085" y="4619"/>
                  <a:pt x="1087" y="4766"/>
                  <a:pt x="1017" y="4961"/>
                </a:cubicBezTo>
                <a:cubicBezTo>
                  <a:pt x="1000" y="5002"/>
                  <a:pt x="984" y="5044"/>
                  <a:pt x="967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20800" y="2544840"/>
            <a:ext cx="171360" cy="23328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2282" y="7665"/>
                </a:moveTo>
                <a:cubicBezTo>
                  <a:pt x="2282" y="7689"/>
                  <a:pt x="2282" y="7698"/>
                  <a:pt x="2282" y="7714"/>
                </a:cubicBezTo>
                <a:cubicBezTo>
                  <a:pt x="2329" y="7655"/>
                  <a:pt x="2326" y="7607"/>
                  <a:pt x="2356" y="7541"/>
                </a:cubicBezTo>
                <a:cubicBezTo>
                  <a:pt x="2422" y="7399"/>
                  <a:pt x="2442" y="7229"/>
                  <a:pt x="2505" y="7094"/>
                </a:cubicBezTo>
                <a:cubicBezTo>
                  <a:pt x="2513" y="7086"/>
                  <a:pt x="2522" y="7077"/>
                  <a:pt x="2530" y="7069"/>
                </a:cubicBezTo>
                <a:cubicBezTo>
                  <a:pt x="2580" y="7086"/>
                  <a:pt x="2589" y="7210"/>
                  <a:pt x="2604" y="7268"/>
                </a:cubicBezTo>
                <a:cubicBezTo>
                  <a:pt x="2634" y="7387"/>
                  <a:pt x="2666" y="7528"/>
                  <a:pt x="2704" y="7640"/>
                </a:cubicBezTo>
                <a:cubicBezTo>
                  <a:pt x="2712" y="7648"/>
                  <a:pt x="2721" y="7657"/>
                  <a:pt x="2729" y="7665"/>
                </a:cubicBezTo>
              </a:path>
              <a:path w="472" h="646">
                <a:moveTo>
                  <a:pt x="2753" y="7615"/>
                </a:moveTo>
                <a:cubicBezTo>
                  <a:pt x="2733" y="7595"/>
                  <a:pt x="2661" y="7500"/>
                  <a:pt x="2629" y="7491"/>
                </a:cubicBezTo>
                <a:cubicBezTo>
                  <a:pt x="2577" y="7476"/>
                  <a:pt x="2502" y="7521"/>
                  <a:pt x="2456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25360" y="2608200"/>
            <a:ext cx="54000" cy="79560"/>
          </a:xfrm>
          <a:custGeom>
            <a:avLst/>
            <a:gdLst/>
            <a:ahLst/>
            <a:rect l="l" t="t" r="r" b="b"/>
            <a:pathLst>
              <a:path w="150" h="224">
                <a:moveTo>
                  <a:pt x="3175" y="7243"/>
                </a:moveTo>
                <a:cubicBezTo>
                  <a:pt x="3270" y="7243"/>
                  <a:pt x="3236" y="7223"/>
                  <a:pt x="3200" y="7243"/>
                </a:cubicBezTo>
                <a:cubicBezTo>
                  <a:pt x="3163" y="7263"/>
                  <a:pt x="3144" y="7309"/>
                  <a:pt x="3125" y="7342"/>
                </a:cubicBezTo>
              </a:path>
              <a:path w="150" h="224">
                <a:moveTo>
                  <a:pt x="3225" y="7417"/>
                </a:moveTo>
                <a:cubicBezTo>
                  <a:pt x="3249" y="7417"/>
                  <a:pt x="3258" y="7417"/>
                  <a:pt x="3274" y="7417"/>
                </a:cubicBezTo>
                <a:cubicBezTo>
                  <a:pt x="3257" y="7484"/>
                  <a:pt x="3214" y="7466"/>
                  <a:pt x="3150" y="7466"/>
                </a:cubicBezTo>
                <a:cubicBezTo>
                  <a:pt x="3142" y="7466"/>
                  <a:pt x="3133" y="7466"/>
                  <a:pt x="3125" y="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295280" y="2536920"/>
            <a:ext cx="320760" cy="214200"/>
          </a:xfrm>
          <a:custGeom>
            <a:avLst/>
            <a:gdLst/>
            <a:ahLst/>
            <a:rect l="l" t="t" r="r" b="b"/>
            <a:pathLst>
              <a:path w="894" h="596">
                <a:moveTo>
                  <a:pt x="3621" y="7565"/>
                </a:moveTo>
                <a:cubicBezTo>
                  <a:pt x="3596" y="7600"/>
                  <a:pt x="3597" y="7597"/>
                  <a:pt x="3597" y="7640"/>
                </a:cubicBezTo>
                <a:cubicBezTo>
                  <a:pt x="3611" y="7583"/>
                  <a:pt x="3631" y="7528"/>
                  <a:pt x="3646" y="7466"/>
                </a:cubicBezTo>
                <a:cubicBezTo>
                  <a:pt x="3672" y="7353"/>
                  <a:pt x="3693" y="7228"/>
                  <a:pt x="3721" y="7119"/>
                </a:cubicBezTo>
                <a:cubicBezTo>
                  <a:pt x="3734" y="7071"/>
                  <a:pt x="3740" y="7055"/>
                  <a:pt x="3770" y="7045"/>
                </a:cubicBezTo>
                <a:cubicBezTo>
                  <a:pt x="3827" y="7114"/>
                  <a:pt x="3847" y="7180"/>
                  <a:pt x="3870" y="7268"/>
                </a:cubicBezTo>
                <a:cubicBezTo>
                  <a:pt x="3897" y="7373"/>
                  <a:pt x="3935" y="7497"/>
                  <a:pt x="3994" y="7590"/>
                </a:cubicBezTo>
                <a:cubicBezTo>
                  <a:pt x="4002" y="7598"/>
                  <a:pt x="4010" y="7607"/>
                  <a:pt x="4018" y="7615"/>
                </a:cubicBezTo>
              </a:path>
              <a:path w="894" h="596">
                <a:moveTo>
                  <a:pt x="4043" y="7516"/>
                </a:moveTo>
                <a:cubicBezTo>
                  <a:pt x="3993" y="7487"/>
                  <a:pt x="3974" y="7466"/>
                  <a:pt x="3919" y="7466"/>
                </a:cubicBezTo>
                <a:cubicBezTo>
                  <a:pt x="3861" y="7466"/>
                  <a:pt x="3804" y="7466"/>
                  <a:pt x="3746" y="7466"/>
                </a:cubicBezTo>
              </a:path>
              <a:path w="894" h="596">
                <a:moveTo>
                  <a:pt x="4217" y="7590"/>
                </a:moveTo>
                <a:cubicBezTo>
                  <a:pt x="4224" y="7561"/>
                  <a:pt x="4238" y="7511"/>
                  <a:pt x="4266" y="7491"/>
                </a:cubicBezTo>
                <a:cubicBezTo>
                  <a:pt x="4309" y="7461"/>
                  <a:pt x="4398" y="7446"/>
                  <a:pt x="4440" y="7491"/>
                </a:cubicBezTo>
                <a:cubicBezTo>
                  <a:pt x="4468" y="7522"/>
                  <a:pt x="4482" y="7577"/>
                  <a:pt x="4490" y="7615"/>
                </a:cubicBezTo>
                <a:cubicBezTo>
                  <a:pt x="4457" y="7640"/>
                  <a:pt x="4413" y="7654"/>
                  <a:pt x="4366" y="7640"/>
                </a:cubicBezTo>
                <a:cubicBezTo>
                  <a:pt x="4316" y="7615"/>
                  <a:pt x="4299" y="7607"/>
                  <a:pt x="4266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741320" y="2428920"/>
            <a:ext cx="696960" cy="285840"/>
          </a:xfrm>
          <a:custGeom>
            <a:avLst/>
            <a:gdLst/>
            <a:ahLst/>
            <a:rect l="l" t="t" r="r" b="b"/>
            <a:pathLst>
              <a:path w="1936" h="795">
                <a:moveTo>
                  <a:pt x="4837" y="7417"/>
                </a:moveTo>
                <a:cubicBezTo>
                  <a:pt x="4853" y="7464"/>
                  <a:pt x="4907" y="7433"/>
                  <a:pt x="4936" y="7392"/>
                </a:cubicBezTo>
                <a:cubicBezTo>
                  <a:pt x="4983" y="7327"/>
                  <a:pt x="5023" y="7266"/>
                  <a:pt x="5060" y="7193"/>
                </a:cubicBezTo>
                <a:cubicBezTo>
                  <a:pt x="5084" y="7145"/>
                  <a:pt x="5111" y="7086"/>
                  <a:pt x="5060" y="7069"/>
                </a:cubicBezTo>
                <a:cubicBezTo>
                  <a:pt x="4981" y="7138"/>
                  <a:pt x="4946" y="7213"/>
                  <a:pt x="4911" y="7317"/>
                </a:cubicBezTo>
                <a:cubicBezTo>
                  <a:pt x="4893" y="7371"/>
                  <a:pt x="4886" y="7509"/>
                  <a:pt x="4961" y="7541"/>
                </a:cubicBezTo>
                <a:cubicBezTo>
                  <a:pt x="5018" y="7566"/>
                  <a:pt x="5115" y="7526"/>
                  <a:pt x="5159" y="7491"/>
                </a:cubicBezTo>
                <a:cubicBezTo>
                  <a:pt x="5211" y="7450"/>
                  <a:pt x="5258" y="7411"/>
                  <a:pt x="5308" y="7367"/>
                </a:cubicBezTo>
              </a:path>
              <a:path w="1936" h="795">
                <a:moveTo>
                  <a:pt x="5556" y="7020"/>
                </a:moveTo>
                <a:cubicBezTo>
                  <a:pt x="5556" y="7045"/>
                  <a:pt x="5556" y="7053"/>
                  <a:pt x="5531" y="7045"/>
                </a:cubicBezTo>
                <a:cubicBezTo>
                  <a:pt x="5495" y="7032"/>
                  <a:pt x="5507" y="7014"/>
                  <a:pt x="5507" y="6970"/>
                </a:cubicBezTo>
                <a:cubicBezTo>
                  <a:pt x="5507" y="6918"/>
                  <a:pt x="5524" y="6875"/>
                  <a:pt x="5581" y="6871"/>
                </a:cubicBezTo>
                <a:cubicBezTo>
                  <a:pt x="5651" y="6866"/>
                  <a:pt x="5690" y="6928"/>
                  <a:pt x="5705" y="6995"/>
                </a:cubicBezTo>
                <a:cubicBezTo>
                  <a:pt x="5721" y="7068"/>
                  <a:pt x="5670" y="7068"/>
                  <a:pt x="5631" y="7094"/>
                </a:cubicBezTo>
                <a:cubicBezTo>
                  <a:pt x="5594" y="7119"/>
                  <a:pt x="5601" y="7119"/>
                  <a:pt x="5556" y="7119"/>
                </a:cubicBezTo>
              </a:path>
              <a:path w="1936" h="795">
                <a:moveTo>
                  <a:pt x="5854" y="7119"/>
                </a:moveTo>
                <a:cubicBezTo>
                  <a:pt x="5912" y="7119"/>
                  <a:pt x="5936" y="7103"/>
                  <a:pt x="5928" y="7144"/>
                </a:cubicBezTo>
              </a:path>
              <a:path w="1936" h="795">
                <a:moveTo>
                  <a:pt x="6077" y="6896"/>
                </a:moveTo>
                <a:cubicBezTo>
                  <a:pt x="6052" y="6896"/>
                  <a:pt x="6044" y="6896"/>
                  <a:pt x="6028" y="6896"/>
                </a:cubicBezTo>
                <a:cubicBezTo>
                  <a:pt x="6028" y="6854"/>
                  <a:pt x="6033" y="6836"/>
                  <a:pt x="6077" y="6821"/>
                </a:cubicBezTo>
                <a:cubicBezTo>
                  <a:pt x="6106" y="6811"/>
                  <a:pt x="6162" y="6816"/>
                  <a:pt x="6176" y="6846"/>
                </a:cubicBezTo>
                <a:cubicBezTo>
                  <a:pt x="6200" y="6896"/>
                  <a:pt x="6176" y="7013"/>
                  <a:pt x="6176" y="7069"/>
                </a:cubicBezTo>
                <a:cubicBezTo>
                  <a:pt x="6211" y="7069"/>
                  <a:pt x="6250" y="7063"/>
                  <a:pt x="6276" y="7045"/>
                </a:cubicBezTo>
                <a:cubicBezTo>
                  <a:pt x="6309" y="7023"/>
                  <a:pt x="6334" y="7000"/>
                  <a:pt x="6375" y="6995"/>
                </a:cubicBezTo>
                <a:cubicBezTo>
                  <a:pt x="6400" y="6995"/>
                  <a:pt x="6408" y="6995"/>
                  <a:pt x="6424" y="6995"/>
                </a:cubicBezTo>
              </a:path>
              <a:path w="1936" h="795">
                <a:moveTo>
                  <a:pt x="6548" y="6772"/>
                </a:moveTo>
                <a:cubicBezTo>
                  <a:pt x="6526" y="6750"/>
                  <a:pt x="6515" y="6741"/>
                  <a:pt x="6548" y="6747"/>
                </a:cubicBezTo>
                <a:cubicBezTo>
                  <a:pt x="6548" y="6840"/>
                  <a:pt x="6534" y="6943"/>
                  <a:pt x="6573" y="7020"/>
                </a:cubicBezTo>
                <a:cubicBezTo>
                  <a:pt x="6610" y="7092"/>
                  <a:pt x="6619" y="7094"/>
                  <a:pt x="6697" y="7094"/>
                </a:cubicBezTo>
                <a:cubicBezTo>
                  <a:pt x="6714" y="7094"/>
                  <a:pt x="6730" y="7094"/>
                  <a:pt x="6747" y="7094"/>
                </a:cubicBezTo>
              </a:path>
              <a:path w="1936" h="795">
                <a:moveTo>
                  <a:pt x="6772" y="6945"/>
                </a:moveTo>
                <a:cubicBezTo>
                  <a:pt x="6710" y="6893"/>
                  <a:pt x="6719" y="6896"/>
                  <a:pt x="6648" y="6896"/>
                </a:cubicBezTo>
                <a:cubicBezTo>
                  <a:pt x="6620" y="6896"/>
                  <a:pt x="6609" y="6898"/>
                  <a:pt x="6598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50960" y="3027240"/>
            <a:ext cx="106200" cy="204840"/>
          </a:xfrm>
          <a:custGeom>
            <a:avLst/>
            <a:gdLst/>
            <a:ahLst/>
            <a:rect l="l" t="t" r="r" b="b"/>
            <a:pathLst>
              <a:path w="298" h="571">
                <a:moveTo>
                  <a:pt x="2084" y="8905"/>
                </a:moveTo>
                <a:cubicBezTo>
                  <a:pt x="2084" y="8930"/>
                  <a:pt x="2084" y="8954"/>
                  <a:pt x="2084" y="8979"/>
                </a:cubicBezTo>
                <a:cubicBezTo>
                  <a:pt x="2122" y="8927"/>
                  <a:pt x="2108" y="8873"/>
                  <a:pt x="2108" y="8806"/>
                </a:cubicBezTo>
                <a:cubicBezTo>
                  <a:pt x="2108" y="8710"/>
                  <a:pt x="2129" y="8627"/>
                  <a:pt x="2133" y="8533"/>
                </a:cubicBezTo>
                <a:cubicBezTo>
                  <a:pt x="2135" y="8485"/>
                  <a:pt x="2149" y="8454"/>
                  <a:pt x="2158" y="8409"/>
                </a:cubicBezTo>
                <a:cubicBezTo>
                  <a:pt x="2196" y="8422"/>
                  <a:pt x="2208" y="8485"/>
                  <a:pt x="2232" y="8533"/>
                </a:cubicBezTo>
                <a:cubicBezTo>
                  <a:pt x="2276" y="8621"/>
                  <a:pt x="2295" y="8716"/>
                  <a:pt x="2332" y="8806"/>
                </a:cubicBezTo>
                <a:cubicBezTo>
                  <a:pt x="2352" y="8855"/>
                  <a:pt x="2356" y="8888"/>
                  <a:pt x="2381" y="8930"/>
                </a:cubicBezTo>
              </a:path>
              <a:path w="298" h="571">
                <a:moveTo>
                  <a:pt x="2307" y="8880"/>
                </a:moveTo>
                <a:cubicBezTo>
                  <a:pt x="2280" y="8857"/>
                  <a:pt x="2232" y="8803"/>
                  <a:pt x="2183" y="8830"/>
                </a:cubicBezTo>
                <a:cubicBezTo>
                  <a:pt x="2175" y="8838"/>
                  <a:pt x="2166" y="8847"/>
                  <a:pt x="2158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098720" y="3062160"/>
            <a:ext cx="88560" cy="730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3225" y="8533"/>
                </a:moveTo>
                <a:cubicBezTo>
                  <a:pt x="3233" y="8533"/>
                  <a:pt x="3241" y="8533"/>
                  <a:pt x="3249" y="8533"/>
                </a:cubicBezTo>
                <a:cubicBezTo>
                  <a:pt x="3214" y="8506"/>
                  <a:pt x="3219" y="8508"/>
                  <a:pt x="3175" y="8508"/>
                </a:cubicBezTo>
                <a:cubicBezTo>
                  <a:pt x="3162" y="8546"/>
                  <a:pt x="3146" y="8533"/>
                  <a:pt x="3101" y="8533"/>
                </a:cubicBezTo>
                <a:cubicBezTo>
                  <a:pt x="3058" y="8533"/>
                  <a:pt x="3063" y="8523"/>
                  <a:pt x="3051" y="8558"/>
                </a:cubicBezTo>
              </a:path>
              <a:path w="249" h="199">
                <a:moveTo>
                  <a:pt x="3299" y="8657"/>
                </a:moveTo>
                <a:cubicBezTo>
                  <a:pt x="3299" y="8665"/>
                  <a:pt x="3299" y="8674"/>
                  <a:pt x="3299" y="8682"/>
                </a:cubicBezTo>
                <a:cubicBezTo>
                  <a:pt x="3244" y="8682"/>
                  <a:pt x="3217" y="8676"/>
                  <a:pt x="3175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339920" y="2946240"/>
            <a:ext cx="1000080" cy="376560"/>
          </a:xfrm>
          <a:custGeom>
            <a:avLst/>
            <a:gdLst/>
            <a:ahLst/>
            <a:rect l="l" t="t" r="r" b="b"/>
            <a:pathLst>
              <a:path w="2779" h="1042">
                <a:moveTo>
                  <a:pt x="3845" y="8285"/>
                </a:moveTo>
                <a:cubicBezTo>
                  <a:pt x="3887" y="8228"/>
                  <a:pt x="3861" y="8241"/>
                  <a:pt x="3845" y="8210"/>
                </a:cubicBezTo>
                <a:cubicBezTo>
                  <a:pt x="3815" y="8152"/>
                  <a:pt x="3869" y="8282"/>
                  <a:pt x="3870" y="8285"/>
                </a:cubicBezTo>
                <a:cubicBezTo>
                  <a:pt x="3881" y="8344"/>
                  <a:pt x="3902" y="8384"/>
                  <a:pt x="3919" y="8434"/>
                </a:cubicBezTo>
                <a:cubicBezTo>
                  <a:pt x="3919" y="8442"/>
                  <a:pt x="3919" y="8450"/>
                  <a:pt x="3919" y="8458"/>
                </a:cubicBezTo>
              </a:path>
              <a:path w="2779" h="1042">
                <a:moveTo>
                  <a:pt x="4266" y="8558"/>
                </a:moveTo>
                <a:cubicBezTo>
                  <a:pt x="4307" y="8578"/>
                  <a:pt x="4324" y="8575"/>
                  <a:pt x="4316" y="8607"/>
                </a:cubicBezTo>
                <a:cubicBezTo>
                  <a:pt x="4242" y="8607"/>
                  <a:pt x="4186" y="8620"/>
                  <a:pt x="4118" y="8632"/>
                </a:cubicBezTo>
                <a:cubicBezTo>
                  <a:pt x="4056" y="8643"/>
                  <a:pt x="3979" y="8640"/>
                  <a:pt x="3919" y="8657"/>
                </a:cubicBezTo>
                <a:cubicBezTo>
                  <a:pt x="3856" y="8675"/>
                  <a:pt x="3815" y="8682"/>
                  <a:pt x="3746" y="8682"/>
                </a:cubicBezTo>
                <a:cubicBezTo>
                  <a:pt x="3721" y="8682"/>
                  <a:pt x="3713" y="8682"/>
                  <a:pt x="3721" y="8706"/>
                </a:cubicBezTo>
              </a:path>
              <a:path w="2779" h="1042">
                <a:moveTo>
                  <a:pt x="3870" y="9079"/>
                </a:moveTo>
                <a:cubicBezTo>
                  <a:pt x="3845" y="9079"/>
                  <a:pt x="3837" y="9079"/>
                  <a:pt x="3845" y="9103"/>
                </a:cubicBezTo>
                <a:cubicBezTo>
                  <a:pt x="3898" y="9103"/>
                  <a:pt x="3927" y="9088"/>
                  <a:pt x="3969" y="9079"/>
                </a:cubicBezTo>
                <a:cubicBezTo>
                  <a:pt x="4011" y="9070"/>
                  <a:pt x="4065" y="9069"/>
                  <a:pt x="4093" y="9029"/>
                </a:cubicBezTo>
                <a:cubicBezTo>
                  <a:pt x="4124" y="8985"/>
                  <a:pt x="4142" y="8956"/>
                  <a:pt x="4142" y="8905"/>
                </a:cubicBezTo>
                <a:cubicBezTo>
                  <a:pt x="4142" y="8897"/>
                  <a:pt x="4142" y="8888"/>
                  <a:pt x="4142" y="8880"/>
                </a:cubicBezTo>
                <a:cubicBezTo>
                  <a:pt x="4096" y="8880"/>
                  <a:pt x="4071" y="8888"/>
                  <a:pt x="4043" y="8930"/>
                </a:cubicBezTo>
                <a:cubicBezTo>
                  <a:pt x="4005" y="8989"/>
                  <a:pt x="3973" y="9032"/>
                  <a:pt x="3969" y="9103"/>
                </a:cubicBezTo>
                <a:cubicBezTo>
                  <a:pt x="3966" y="9163"/>
                  <a:pt x="4005" y="9213"/>
                  <a:pt x="4068" y="9227"/>
                </a:cubicBezTo>
                <a:cubicBezTo>
                  <a:pt x="4150" y="9246"/>
                  <a:pt x="4219" y="9205"/>
                  <a:pt x="4291" y="9178"/>
                </a:cubicBezTo>
                <a:cubicBezTo>
                  <a:pt x="4353" y="9155"/>
                  <a:pt x="4390" y="9143"/>
                  <a:pt x="4440" y="9103"/>
                </a:cubicBezTo>
              </a:path>
              <a:path w="2779" h="1042">
                <a:moveTo>
                  <a:pt x="4713" y="8855"/>
                </a:moveTo>
                <a:cubicBezTo>
                  <a:pt x="4713" y="8863"/>
                  <a:pt x="4713" y="8872"/>
                  <a:pt x="4713" y="8880"/>
                </a:cubicBezTo>
                <a:cubicBezTo>
                  <a:pt x="4737" y="8872"/>
                  <a:pt x="4759" y="8871"/>
                  <a:pt x="4787" y="8855"/>
                </a:cubicBezTo>
                <a:cubicBezTo>
                  <a:pt x="4845" y="8823"/>
                  <a:pt x="4906" y="8738"/>
                  <a:pt x="4936" y="8682"/>
                </a:cubicBezTo>
                <a:cubicBezTo>
                  <a:pt x="4969" y="8620"/>
                  <a:pt x="4986" y="8605"/>
                  <a:pt x="4986" y="8533"/>
                </a:cubicBezTo>
                <a:cubicBezTo>
                  <a:pt x="4986" y="8508"/>
                  <a:pt x="4986" y="8500"/>
                  <a:pt x="4986" y="8483"/>
                </a:cubicBezTo>
                <a:cubicBezTo>
                  <a:pt x="4930" y="8539"/>
                  <a:pt x="4884" y="8595"/>
                  <a:pt x="4837" y="8657"/>
                </a:cubicBezTo>
                <a:cubicBezTo>
                  <a:pt x="4785" y="8725"/>
                  <a:pt x="4808" y="8755"/>
                  <a:pt x="4787" y="8830"/>
                </a:cubicBezTo>
                <a:cubicBezTo>
                  <a:pt x="4765" y="8909"/>
                  <a:pt x="4751" y="8894"/>
                  <a:pt x="4812" y="8954"/>
                </a:cubicBezTo>
                <a:cubicBezTo>
                  <a:pt x="4843" y="8984"/>
                  <a:pt x="4892" y="9000"/>
                  <a:pt x="4936" y="9004"/>
                </a:cubicBezTo>
                <a:cubicBezTo>
                  <a:pt x="4979" y="9008"/>
                  <a:pt x="5031" y="8980"/>
                  <a:pt x="5060" y="8954"/>
                </a:cubicBezTo>
                <a:cubicBezTo>
                  <a:pt x="5085" y="8930"/>
                  <a:pt x="5094" y="8922"/>
                  <a:pt x="5110" y="8905"/>
                </a:cubicBezTo>
              </a:path>
              <a:path w="2779" h="1042">
                <a:moveTo>
                  <a:pt x="5432" y="8558"/>
                </a:moveTo>
                <a:cubicBezTo>
                  <a:pt x="5394" y="8545"/>
                  <a:pt x="5407" y="8528"/>
                  <a:pt x="5407" y="8483"/>
                </a:cubicBezTo>
                <a:cubicBezTo>
                  <a:pt x="5407" y="8459"/>
                  <a:pt x="5433" y="8396"/>
                  <a:pt x="5457" y="8384"/>
                </a:cubicBezTo>
                <a:cubicBezTo>
                  <a:pt x="5495" y="8365"/>
                  <a:pt x="5538" y="8406"/>
                  <a:pt x="5556" y="8434"/>
                </a:cubicBezTo>
                <a:cubicBezTo>
                  <a:pt x="5586" y="8480"/>
                  <a:pt x="5625" y="8527"/>
                  <a:pt x="5631" y="8582"/>
                </a:cubicBezTo>
                <a:cubicBezTo>
                  <a:pt x="5634" y="8616"/>
                  <a:pt x="5584" y="8651"/>
                  <a:pt x="5556" y="8657"/>
                </a:cubicBezTo>
                <a:cubicBezTo>
                  <a:pt x="5509" y="8667"/>
                  <a:pt x="5481" y="8682"/>
                  <a:pt x="5432" y="8682"/>
                </a:cubicBezTo>
              </a:path>
              <a:path w="2779" h="1042">
                <a:moveTo>
                  <a:pt x="5854" y="8607"/>
                </a:moveTo>
                <a:cubicBezTo>
                  <a:pt x="5854" y="8615"/>
                  <a:pt x="5854" y="8624"/>
                  <a:pt x="5854" y="8632"/>
                </a:cubicBezTo>
              </a:path>
              <a:path w="2779" h="1042">
                <a:moveTo>
                  <a:pt x="5904" y="8458"/>
                </a:moveTo>
                <a:cubicBezTo>
                  <a:pt x="5904" y="8433"/>
                  <a:pt x="5904" y="8409"/>
                  <a:pt x="5904" y="8384"/>
                </a:cubicBezTo>
                <a:cubicBezTo>
                  <a:pt x="5930" y="8377"/>
                  <a:pt x="5971" y="8341"/>
                  <a:pt x="6003" y="8359"/>
                </a:cubicBezTo>
                <a:cubicBezTo>
                  <a:pt x="6042" y="8381"/>
                  <a:pt x="6070" y="8449"/>
                  <a:pt x="6077" y="8483"/>
                </a:cubicBezTo>
                <a:cubicBezTo>
                  <a:pt x="6087" y="8535"/>
                  <a:pt x="6077" y="8603"/>
                  <a:pt x="6077" y="8657"/>
                </a:cubicBezTo>
                <a:cubicBezTo>
                  <a:pt x="6123" y="8657"/>
                  <a:pt x="6136" y="8637"/>
                  <a:pt x="6176" y="8632"/>
                </a:cubicBezTo>
                <a:cubicBezTo>
                  <a:pt x="6184" y="8632"/>
                  <a:pt x="6193" y="8632"/>
                  <a:pt x="6201" y="8632"/>
                </a:cubicBezTo>
                <a:cubicBezTo>
                  <a:pt x="6217" y="8585"/>
                  <a:pt x="6235" y="8629"/>
                  <a:pt x="6251" y="8582"/>
                </a:cubicBezTo>
              </a:path>
              <a:path w="2779" h="1042">
                <a:moveTo>
                  <a:pt x="6300" y="8359"/>
                </a:moveTo>
                <a:cubicBezTo>
                  <a:pt x="6300" y="8435"/>
                  <a:pt x="6275" y="8551"/>
                  <a:pt x="6325" y="8607"/>
                </a:cubicBezTo>
                <a:cubicBezTo>
                  <a:pt x="6360" y="8646"/>
                  <a:pt x="6373" y="8657"/>
                  <a:pt x="6424" y="8657"/>
                </a:cubicBezTo>
                <a:cubicBezTo>
                  <a:pt x="6478" y="8657"/>
                  <a:pt x="6461" y="8645"/>
                  <a:pt x="6499" y="8632"/>
                </a:cubicBezTo>
              </a:path>
              <a:path w="2779" h="1042">
                <a:moveTo>
                  <a:pt x="6449" y="8508"/>
                </a:moveTo>
                <a:cubicBezTo>
                  <a:pt x="6405" y="8508"/>
                  <a:pt x="6410" y="8506"/>
                  <a:pt x="6375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41760" y="3170160"/>
            <a:ext cx="115920" cy="8892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7813" y="8830"/>
                </a:moveTo>
                <a:cubicBezTo>
                  <a:pt x="7813" y="8822"/>
                  <a:pt x="7813" y="8814"/>
                  <a:pt x="7813" y="8806"/>
                </a:cubicBezTo>
                <a:cubicBezTo>
                  <a:pt x="7778" y="8806"/>
                  <a:pt x="7740" y="8813"/>
                  <a:pt x="7714" y="8830"/>
                </a:cubicBezTo>
                <a:cubicBezTo>
                  <a:pt x="7677" y="8855"/>
                  <a:pt x="7649" y="8880"/>
                  <a:pt x="7615" y="8905"/>
                </a:cubicBezTo>
              </a:path>
              <a:path w="324" h="249">
                <a:moveTo>
                  <a:pt x="7913" y="8979"/>
                </a:moveTo>
                <a:cubicBezTo>
                  <a:pt x="7921" y="8987"/>
                  <a:pt x="7930" y="8996"/>
                  <a:pt x="7938" y="9004"/>
                </a:cubicBezTo>
                <a:cubicBezTo>
                  <a:pt x="7898" y="9004"/>
                  <a:pt x="7844" y="9010"/>
                  <a:pt x="7813" y="9029"/>
                </a:cubicBezTo>
                <a:cubicBezTo>
                  <a:pt x="7805" y="9037"/>
                  <a:pt x="7797" y="9046"/>
                  <a:pt x="7789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027240" y="3054240"/>
            <a:ext cx="411120" cy="241560"/>
          </a:xfrm>
          <a:custGeom>
            <a:avLst/>
            <a:gdLst/>
            <a:ahLst/>
            <a:rect l="l" t="t" r="r" b="b"/>
            <a:pathLst>
              <a:path w="1142" h="671">
                <a:moveTo>
                  <a:pt x="8434" y="8930"/>
                </a:moveTo>
                <a:cubicBezTo>
                  <a:pt x="8446" y="8966"/>
                  <a:pt x="8464" y="8954"/>
                  <a:pt x="8508" y="8954"/>
                </a:cubicBezTo>
                <a:cubicBezTo>
                  <a:pt x="8561" y="8954"/>
                  <a:pt x="8569" y="8943"/>
                  <a:pt x="8607" y="8905"/>
                </a:cubicBezTo>
                <a:cubicBezTo>
                  <a:pt x="8655" y="8857"/>
                  <a:pt x="8657" y="8820"/>
                  <a:pt x="8657" y="8756"/>
                </a:cubicBezTo>
                <a:cubicBezTo>
                  <a:pt x="8657" y="8708"/>
                  <a:pt x="8643" y="8661"/>
                  <a:pt x="8582" y="8682"/>
                </a:cubicBezTo>
                <a:cubicBezTo>
                  <a:pt x="8497" y="8711"/>
                  <a:pt x="8470" y="8782"/>
                  <a:pt x="8434" y="8855"/>
                </a:cubicBezTo>
                <a:cubicBezTo>
                  <a:pt x="8399" y="8925"/>
                  <a:pt x="8403" y="8961"/>
                  <a:pt x="8434" y="9029"/>
                </a:cubicBezTo>
                <a:cubicBezTo>
                  <a:pt x="8456" y="9077"/>
                  <a:pt x="8505" y="9139"/>
                  <a:pt x="8558" y="9153"/>
                </a:cubicBezTo>
                <a:cubicBezTo>
                  <a:pt x="8618" y="9169"/>
                  <a:pt x="8664" y="9140"/>
                  <a:pt x="8706" y="9103"/>
                </a:cubicBezTo>
                <a:cubicBezTo>
                  <a:pt x="8731" y="9079"/>
                  <a:pt x="8740" y="9071"/>
                  <a:pt x="8756" y="9054"/>
                </a:cubicBezTo>
              </a:path>
              <a:path w="1142" h="671">
                <a:moveTo>
                  <a:pt x="8979" y="8632"/>
                </a:moveTo>
                <a:cubicBezTo>
                  <a:pt x="8954" y="8632"/>
                  <a:pt x="8946" y="8632"/>
                  <a:pt x="8954" y="8657"/>
                </a:cubicBezTo>
                <a:cubicBezTo>
                  <a:pt x="8990" y="8630"/>
                  <a:pt x="9039" y="8619"/>
                  <a:pt x="9079" y="8607"/>
                </a:cubicBezTo>
                <a:cubicBezTo>
                  <a:pt x="9099" y="8601"/>
                  <a:pt x="9132" y="8607"/>
                  <a:pt x="9153" y="8607"/>
                </a:cubicBezTo>
                <a:cubicBezTo>
                  <a:pt x="9153" y="8582"/>
                  <a:pt x="9153" y="8574"/>
                  <a:pt x="9178" y="8582"/>
                </a:cubicBezTo>
              </a:path>
              <a:path w="1142" h="671">
                <a:moveTo>
                  <a:pt x="9351" y="8483"/>
                </a:moveTo>
                <a:cubicBezTo>
                  <a:pt x="9351" y="8563"/>
                  <a:pt x="9344" y="8633"/>
                  <a:pt x="9376" y="8706"/>
                </a:cubicBezTo>
              </a:path>
              <a:path w="1142" h="671">
                <a:moveTo>
                  <a:pt x="9550" y="8930"/>
                </a:moveTo>
                <a:cubicBezTo>
                  <a:pt x="9550" y="8922"/>
                  <a:pt x="9550" y="8913"/>
                  <a:pt x="9550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54280" y="3054240"/>
            <a:ext cx="704880" cy="241560"/>
          </a:xfrm>
          <a:custGeom>
            <a:avLst/>
            <a:gdLst/>
            <a:ahLst/>
            <a:rect l="l" t="t" r="r" b="b"/>
            <a:pathLst>
              <a:path w="1961" h="671">
                <a:moveTo>
                  <a:pt x="9872" y="9054"/>
                </a:moveTo>
                <a:cubicBezTo>
                  <a:pt x="9883" y="9086"/>
                  <a:pt x="9928" y="9083"/>
                  <a:pt x="9947" y="9054"/>
                </a:cubicBezTo>
                <a:cubicBezTo>
                  <a:pt x="9967" y="9024"/>
                  <a:pt x="9985" y="9028"/>
                  <a:pt x="10021" y="9004"/>
                </a:cubicBezTo>
                <a:cubicBezTo>
                  <a:pt x="10039" y="8992"/>
                  <a:pt x="10113" y="8938"/>
                  <a:pt x="10120" y="8930"/>
                </a:cubicBezTo>
                <a:cubicBezTo>
                  <a:pt x="10162" y="8878"/>
                  <a:pt x="10170" y="8845"/>
                  <a:pt x="10170" y="8781"/>
                </a:cubicBezTo>
                <a:cubicBezTo>
                  <a:pt x="10170" y="8746"/>
                  <a:pt x="10134" y="8709"/>
                  <a:pt x="10096" y="8731"/>
                </a:cubicBezTo>
                <a:cubicBezTo>
                  <a:pt x="10036" y="8765"/>
                  <a:pt x="9992" y="8811"/>
                  <a:pt x="9971" y="8880"/>
                </a:cubicBezTo>
                <a:cubicBezTo>
                  <a:pt x="9960" y="8915"/>
                  <a:pt x="9937" y="9020"/>
                  <a:pt x="9947" y="9054"/>
                </a:cubicBezTo>
                <a:cubicBezTo>
                  <a:pt x="9957" y="9088"/>
                  <a:pt x="10042" y="9146"/>
                  <a:pt x="10071" y="9153"/>
                </a:cubicBezTo>
                <a:cubicBezTo>
                  <a:pt x="10135" y="9168"/>
                  <a:pt x="10212" y="9153"/>
                  <a:pt x="10269" y="9128"/>
                </a:cubicBezTo>
                <a:cubicBezTo>
                  <a:pt x="10317" y="9104"/>
                  <a:pt x="10331" y="9096"/>
                  <a:pt x="10368" y="9103"/>
                </a:cubicBezTo>
              </a:path>
              <a:path w="1961" h="671">
                <a:moveTo>
                  <a:pt x="10616" y="8632"/>
                </a:moveTo>
                <a:cubicBezTo>
                  <a:pt x="10590" y="8686"/>
                  <a:pt x="10580" y="8603"/>
                  <a:pt x="10592" y="8582"/>
                </a:cubicBezTo>
                <a:cubicBezTo>
                  <a:pt x="10610" y="8549"/>
                  <a:pt x="10629" y="8520"/>
                  <a:pt x="10666" y="8508"/>
                </a:cubicBezTo>
                <a:cubicBezTo>
                  <a:pt x="10699" y="8497"/>
                  <a:pt x="10746" y="8506"/>
                  <a:pt x="10765" y="8533"/>
                </a:cubicBezTo>
                <a:cubicBezTo>
                  <a:pt x="10804" y="8588"/>
                  <a:pt x="10815" y="8615"/>
                  <a:pt x="10815" y="8682"/>
                </a:cubicBezTo>
                <a:cubicBezTo>
                  <a:pt x="10815" y="8706"/>
                  <a:pt x="10815" y="8715"/>
                  <a:pt x="10815" y="8731"/>
                </a:cubicBezTo>
                <a:cubicBezTo>
                  <a:pt x="10770" y="8731"/>
                  <a:pt x="10756" y="8753"/>
                  <a:pt x="10716" y="8756"/>
                </a:cubicBezTo>
                <a:cubicBezTo>
                  <a:pt x="10674" y="8756"/>
                  <a:pt x="10666" y="8756"/>
                  <a:pt x="10641" y="8756"/>
                </a:cubicBezTo>
              </a:path>
              <a:path w="1961" h="671">
                <a:moveTo>
                  <a:pt x="11038" y="8756"/>
                </a:moveTo>
                <a:cubicBezTo>
                  <a:pt x="11046" y="8764"/>
                  <a:pt x="11055" y="8773"/>
                  <a:pt x="11063" y="8781"/>
                </a:cubicBezTo>
              </a:path>
              <a:path w="1961" h="671">
                <a:moveTo>
                  <a:pt x="11187" y="8558"/>
                </a:moveTo>
                <a:cubicBezTo>
                  <a:pt x="11187" y="8515"/>
                  <a:pt x="11192" y="8498"/>
                  <a:pt x="11237" y="8483"/>
                </a:cubicBezTo>
                <a:cubicBezTo>
                  <a:pt x="11274" y="8470"/>
                  <a:pt x="11338" y="8477"/>
                  <a:pt x="11361" y="8508"/>
                </a:cubicBezTo>
                <a:cubicBezTo>
                  <a:pt x="11389" y="8545"/>
                  <a:pt x="11401" y="8639"/>
                  <a:pt x="11385" y="8682"/>
                </a:cubicBezTo>
                <a:cubicBezTo>
                  <a:pt x="11371" y="8720"/>
                  <a:pt x="11341" y="8738"/>
                  <a:pt x="11336" y="8781"/>
                </a:cubicBezTo>
                <a:cubicBezTo>
                  <a:pt x="11336" y="8806"/>
                  <a:pt x="11336" y="8814"/>
                  <a:pt x="11361" y="8806"/>
                </a:cubicBezTo>
                <a:cubicBezTo>
                  <a:pt x="11398" y="8793"/>
                  <a:pt x="11382" y="8781"/>
                  <a:pt x="11435" y="8781"/>
                </a:cubicBezTo>
                <a:cubicBezTo>
                  <a:pt x="11475" y="8781"/>
                  <a:pt x="11489" y="8756"/>
                  <a:pt x="11534" y="8756"/>
                </a:cubicBezTo>
              </a:path>
              <a:path w="1961" h="671">
                <a:moveTo>
                  <a:pt x="11658" y="8558"/>
                </a:moveTo>
                <a:cubicBezTo>
                  <a:pt x="11658" y="8582"/>
                  <a:pt x="11658" y="8590"/>
                  <a:pt x="11683" y="8582"/>
                </a:cubicBezTo>
                <a:cubicBezTo>
                  <a:pt x="11670" y="8620"/>
                  <a:pt x="11658" y="8603"/>
                  <a:pt x="11658" y="8657"/>
                </a:cubicBezTo>
                <a:cubicBezTo>
                  <a:pt x="11658" y="8724"/>
                  <a:pt x="11641" y="8803"/>
                  <a:pt x="11683" y="8855"/>
                </a:cubicBezTo>
                <a:cubicBezTo>
                  <a:pt x="11712" y="8892"/>
                  <a:pt x="11737" y="8880"/>
                  <a:pt x="11782" y="8880"/>
                </a:cubicBezTo>
              </a:path>
              <a:path w="1961" h="671">
                <a:moveTo>
                  <a:pt x="11832" y="8682"/>
                </a:moveTo>
                <a:cubicBezTo>
                  <a:pt x="11766" y="8682"/>
                  <a:pt x="11699" y="8682"/>
                  <a:pt x="11633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74920" y="3473280"/>
            <a:ext cx="152280" cy="2336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6598" y="10220"/>
                </a:moveTo>
                <a:cubicBezTo>
                  <a:pt x="6598" y="10284"/>
                  <a:pt x="6598" y="10181"/>
                  <a:pt x="6598" y="10170"/>
                </a:cubicBezTo>
                <a:cubicBezTo>
                  <a:pt x="6598" y="10118"/>
                  <a:pt x="6641" y="10056"/>
                  <a:pt x="6648" y="9996"/>
                </a:cubicBezTo>
                <a:cubicBezTo>
                  <a:pt x="6657" y="9918"/>
                  <a:pt x="6641" y="9821"/>
                  <a:pt x="6672" y="9748"/>
                </a:cubicBezTo>
                <a:cubicBezTo>
                  <a:pt x="6687" y="9712"/>
                  <a:pt x="6701" y="9683"/>
                  <a:pt x="6722" y="9649"/>
                </a:cubicBezTo>
                <a:cubicBezTo>
                  <a:pt x="6741" y="9655"/>
                  <a:pt x="6781" y="9692"/>
                  <a:pt x="6796" y="9723"/>
                </a:cubicBezTo>
                <a:cubicBezTo>
                  <a:pt x="6838" y="9813"/>
                  <a:pt x="6887" y="9903"/>
                  <a:pt x="6921" y="9996"/>
                </a:cubicBezTo>
                <a:cubicBezTo>
                  <a:pt x="6948" y="10071"/>
                  <a:pt x="6991" y="10141"/>
                  <a:pt x="6995" y="10220"/>
                </a:cubicBezTo>
                <a:cubicBezTo>
                  <a:pt x="6998" y="10276"/>
                  <a:pt x="6978" y="10280"/>
                  <a:pt x="7020" y="10294"/>
                </a:cubicBezTo>
              </a:path>
              <a:path w="423" h="646">
                <a:moveTo>
                  <a:pt x="6945" y="10170"/>
                </a:moveTo>
                <a:cubicBezTo>
                  <a:pt x="6906" y="10109"/>
                  <a:pt x="6914" y="10120"/>
                  <a:pt x="6846" y="10120"/>
                </a:cubicBezTo>
                <a:cubicBezTo>
                  <a:pt x="6796" y="10120"/>
                  <a:pt x="6747" y="10120"/>
                  <a:pt x="6697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68760" y="3456000"/>
            <a:ext cx="71280" cy="98280"/>
          </a:xfrm>
          <a:custGeom>
            <a:avLst/>
            <a:gdLst/>
            <a:ahLst/>
            <a:rect l="l" t="t" r="r" b="b"/>
            <a:pathLst>
              <a:path w="200" h="274">
                <a:moveTo>
                  <a:pt x="7789" y="9624"/>
                </a:moveTo>
                <a:cubicBezTo>
                  <a:pt x="7797" y="9616"/>
                  <a:pt x="7805" y="9607"/>
                  <a:pt x="7813" y="9599"/>
                </a:cubicBezTo>
                <a:cubicBezTo>
                  <a:pt x="7771" y="9599"/>
                  <a:pt x="7776" y="9589"/>
                  <a:pt x="7764" y="9624"/>
                </a:cubicBezTo>
                <a:cubicBezTo>
                  <a:pt x="7739" y="9624"/>
                  <a:pt x="7714" y="9624"/>
                  <a:pt x="7689" y="9624"/>
                </a:cubicBezTo>
              </a:path>
              <a:path w="200" h="274">
                <a:moveTo>
                  <a:pt x="7888" y="9823"/>
                </a:moveTo>
                <a:cubicBezTo>
                  <a:pt x="7828" y="9823"/>
                  <a:pt x="7837" y="9851"/>
                  <a:pt x="7789" y="9872"/>
                </a:cubicBezTo>
                <a:cubicBezTo>
                  <a:pt x="7781" y="9872"/>
                  <a:pt x="7772" y="9872"/>
                  <a:pt x="7764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000240" y="3517920"/>
            <a:ext cx="169920" cy="169920"/>
          </a:xfrm>
          <a:custGeom>
            <a:avLst/>
            <a:gdLst/>
            <a:ahLst/>
            <a:rect l="l" t="t" r="r" b="b"/>
            <a:pathLst>
              <a:path w="473" h="472">
                <a:moveTo>
                  <a:pt x="8334" y="10046"/>
                </a:moveTo>
                <a:cubicBezTo>
                  <a:pt x="8378" y="10079"/>
                  <a:pt x="8405" y="10082"/>
                  <a:pt x="8458" y="10046"/>
                </a:cubicBezTo>
                <a:cubicBezTo>
                  <a:pt x="8513" y="10009"/>
                  <a:pt x="8551" y="9943"/>
                  <a:pt x="8582" y="9897"/>
                </a:cubicBezTo>
                <a:cubicBezTo>
                  <a:pt x="8608" y="9857"/>
                  <a:pt x="8607" y="9847"/>
                  <a:pt x="8607" y="9798"/>
                </a:cubicBezTo>
                <a:cubicBezTo>
                  <a:pt x="8607" y="9790"/>
                  <a:pt x="8607" y="9781"/>
                  <a:pt x="8607" y="9773"/>
                </a:cubicBezTo>
                <a:cubicBezTo>
                  <a:pt x="8564" y="9773"/>
                  <a:pt x="8511" y="9759"/>
                  <a:pt x="8483" y="9798"/>
                </a:cubicBezTo>
                <a:cubicBezTo>
                  <a:pt x="8434" y="9867"/>
                  <a:pt x="8413" y="9910"/>
                  <a:pt x="8409" y="9996"/>
                </a:cubicBezTo>
                <a:cubicBezTo>
                  <a:pt x="8406" y="10052"/>
                  <a:pt x="8414" y="10129"/>
                  <a:pt x="8458" y="10170"/>
                </a:cubicBezTo>
                <a:cubicBezTo>
                  <a:pt x="8493" y="10203"/>
                  <a:pt x="8585" y="10241"/>
                  <a:pt x="8632" y="10244"/>
                </a:cubicBezTo>
                <a:cubicBezTo>
                  <a:pt x="8708" y="10249"/>
                  <a:pt x="8701" y="10205"/>
                  <a:pt x="8756" y="10170"/>
                </a:cubicBezTo>
                <a:cubicBezTo>
                  <a:pt x="8773" y="10162"/>
                  <a:pt x="8789" y="10153"/>
                  <a:pt x="8806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41800" y="3375000"/>
            <a:ext cx="482400" cy="135000"/>
          </a:xfrm>
          <a:custGeom>
            <a:avLst/>
            <a:gdLst/>
            <a:ahLst/>
            <a:rect l="l" t="t" r="r" b="b"/>
            <a:pathLst>
              <a:path w="1341" h="373">
                <a:moveTo>
                  <a:pt x="9054" y="9575"/>
                </a:moveTo>
                <a:cubicBezTo>
                  <a:pt x="9004" y="9563"/>
                  <a:pt x="9004" y="9551"/>
                  <a:pt x="9004" y="9500"/>
                </a:cubicBezTo>
                <a:cubicBezTo>
                  <a:pt x="9004" y="9445"/>
                  <a:pt x="8997" y="9425"/>
                  <a:pt x="9029" y="9401"/>
                </a:cubicBezTo>
                <a:cubicBezTo>
                  <a:pt x="9056" y="9381"/>
                  <a:pt x="9089" y="9362"/>
                  <a:pt x="9128" y="9376"/>
                </a:cubicBezTo>
                <a:cubicBezTo>
                  <a:pt x="9203" y="9403"/>
                  <a:pt x="9211" y="9454"/>
                  <a:pt x="9227" y="9525"/>
                </a:cubicBezTo>
                <a:cubicBezTo>
                  <a:pt x="9236" y="9563"/>
                  <a:pt x="9215" y="9607"/>
                  <a:pt x="9178" y="9624"/>
                </a:cubicBezTo>
                <a:cubicBezTo>
                  <a:pt x="9154" y="9634"/>
                  <a:pt x="9103" y="9646"/>
                  <a:pt x="9079" y="9649"/>
                </a:cubicBezTo>
                <a:cubicBezTo>
                  <a:pt x="9037" y="9654"/>
                  <a:pt x="9008" y="9610"/>
                  <a:pt x="9004" y="9575"/>
                </a:cubicBezTo>
                <a:cubicBezTo>
                  <a:pt x="9004" y="9550"/>
                  <a:pt x="9004" y="9542"/>
                  <a:pt x="9004" y="9525"/>
                </a:cubicBezTo>
              </a:path>
              <a:path w="1341" h="373">
                <a:moveTo>
                  <a:pt x="9451" y="9699"/>
                </a:move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</a:path>
              <a:path w="1341" h="373">
                <a:moveTo>
                  <a:pt x="9599" y="9500"/>
                </a:moveTo>
                <a:cubicBezTo>
                  <a:pt x="9609" y="9460"/>
                  <a:pt x="9608" y="9461"/>
                  <a:pt x="9649" y="9451"/>
                </a:cubicBezTo>
                <a:cubicBezTo>
                  <a:pt x="9658" y="9423"/>
                  <a:pt x="9683" y="9406"/>
                  <a:pt x="9723" y="9401"/>
                </a:cubicBezTo>
                <a:cubicBezTo>
                  <a:pt x="9765" y="9396"/>
                  <a:pt x="9794" y="9440"/>
                  <a:pt x="9798" y="9475"/>
                </a:cubicBezTo>
                <a:cubicBezTo>
                  <a:pt x="9803" y="9523"/>
                  <a:pt x="9778" y="9554"/>
                  <a:pt x="9773" y="9599"/>
                </a:cubicBezTo>
                <a:cubicBezTo>
                  <a:pt x="9770" y="9632"/>
                  <a:pt x="9773" y="9666"/>
                  <a:pt x="9773" y="9699"/>
                </a:cubicBezTo>
                <a:cubicBezTo>
                  <a:pt x="9836" y="9699"/>
                  <a:pt x="9870" y="9691"/>
                  <a:pt x="9922" y="9674"/>
                </a:cubicBezTo>
                <a:cubicBezTo>
                  <a:pt x="9965" y="9660"/>
                  <a:pt x="9954" y="9681"/>
                  <a:pt x="9996" y="9649"/>
                </a:cubicBezTo>
              </a:path>
              <a:path w="1341" h="373">
                <a:moveTo>
                  <a:pt x="10120" y="9500"/>
                </a:moveTo>
                <a:cubicBezTo>
                  <a:pt x="10120" y="9562"/>
                  <a:pt x="10130" y="9590"/>
                  <a:pt x="10145" y="9649"/>
                </a:cubicBezTo>
                <a:cubicBezTo>
                  <a:pt x="10153" y="9681"/>
                  <a:pt x="10184" y="9732"/>
                  <a:pt x="10220" y="9748"/>
                </a:cubicBezTo>
                <a:cubicBezTo>
                  <a:pt x="10252" y="9763"/>
                  <a:pt x="10273" y="9739"/>
                  <a:pt x="10294" y="9723"/>
                </a:cubicBezTo>
              </a:path>
              <a:path w="1341" h="373">
                <a:moveTo>
                  <a:pt x="10344" y="9599"/>
                </a:moveTo>
                <a:cubicBezTo>
                  <a:pt x="10280" y="9573"/>
                  <a:pt x="10293" y="9563"/>
                  <a:pt x="10244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8040" y="3446640"/>
            <a:ext cx="46080" cy="18720"/>
          </a:xfrm>
          <a:custGeom>
            <a:avLst/>
            <a:gdLst/>
            <a:ahLst/>
            <a:rect l="l" t="t" r="r" b="b"/>
            <a:pathLst>
              <a:path w="125" h="50">
                <a:moveTo>
                  <a:pt x="10691" y="9624"/>
                </a:moveTo>
                <a:cubicBezTo>
                  <a:pt x="10727" y="9624"/>
                  <a:pt x="10763" y="9617"/>
                  <a:pt x="10790" y="9599"/>
                </a:cubicBezTo>
                <a:cubicBezTo>
                  <a:pt x="10798" y="9591"/>
                  <a:pt x="10807" y="9583"/>
                  <a:pt x="10815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17960" y="3402000"/>
            <a:ext cx="19080" cy="98280"/>
          </a:xfrm>
          <a:custGeom>
            <a:avLst/>
            <a:gdLst/>
            <a:ahLst/>
            <a:rect l="l" t="t" r="r" b="b"/>
            <a:pathLst>
              <a:path w="51" h="273">
                <a:moveTo>
                  <a:pt x="11162" y="9451"/>
                </a:moveTo>
                <a:cubicBezTo>
                  <a:pt x="11195" y="9494"/>
                  <a:pt x="11187" y="9517"/>
                  <a:pt x="11187" y="9575"/>
                </a:cubicBezTo>
                <a:cubicBezTo>
                  <a:pt x="11187" y="9629"/>
                  <a:pt x="11205" y="9670"/>
                  <a:pt x="11212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54080" y="3973680"/>
            <a:ext cx="714240" cy="250560"/>
          </a:xfrm>
          <a:custGeom>
            <a:avLst/>
            <a:gdLst/>
            <a:ahLst/>
            <a:rect l="l" t="t" r="r" b="b"/>
            <a:pathLst>
              <a:path w="1985" h="696">
                <a:moveTo>
                  <a:pt x="2927" y="11584"/>
                </a:moveTo>
                <a:cubicBezTo>
                  <a:pt x="2927" y="11609"/>
                  <a:pt x="2927" y="11617"/>
                  <a:pt x="2927" y="11633"/>
                </a:cubicBezTo>
                <a:cubicBezTo>
                  <a:pt x="2970" y="11619"/>
                  <a:pt x="2975" y="11563"/>
                  <a:pt x="2977" y="11509"/>
                </a:cubicBezTo>
                <a:cubicBezTo>
                  <a:pt x="2982" y="11386"/>
                  <a:pt x="3010" y="11283"/>
                  <a:pt x="3026" y="11162"/>
                </a:cubicBezTo>
                <a:cubicBezTo>
                  <a:pt x="3026" y="11094"/>
                  <a:pt x="3023" y="11075"/>
                  <a:pt x="3051" y="11038"/>
                </a:cubicBezTo>
                <a:cubicBezTo>
                  <a:pt x="3083" y="11133"/>
                  <a:pt x="3099" y="11235"/>
                  <a:pt x="3125" y="11336"/>
                </a:cubicBezTo>
                <a:cubicBezTo>
                  <a:pt x="3156" y="11459"/>
                  <a:pt x="3213" y="11568"/>
                  <a:pt x="3249" y="11683"/>
                </a:cubicBezTo>
                <a:cubicBezTo>
                  <a:pt x="3249" y="11700"/>
                  <a:pt x="3249" y="11716"/>
                  <a:pt x="3249" y="11733"/>
                </a:cubicBezTo>
              </a:path>
              <a:path w="1985" h="696">
                <a:moveTo>
                  <a:pt x="3200" y="11509"/>
                </a:moveTo>
                <a:cubicBezTo>
                  <a:pt x="3102" y="11385"/>
                  <a:pt x="3144" y="11448"/>
                  <a:pt x="3051" y="11485"/>
                </a:cubicBezTo>
                <a:cubicBezTo>
                  <a:pt x="2993" y="11508"/>
                  <a:pt x="3018" y="11495"/>
                  <a:pt x="2977" y="11509"/>
                </a:cubicBezTo>
              </a:path>
              <a:path w="1985" h="696">
                <a:moveTo>
                  <a:pt x="3646" y="11336"/>
                </a:moveTo>
                <a:cubicBezTo>
                  <a:pt x="3671" y="11336"/>
                  <a:pt x="3696" y="11336"/>
                  <a:pt x="3721" y="11336"/>
                </a:cubicBezTo>
                <a:cubicBezTo>
                  <a:pt x="3664" y="11336"/>
                  <a:pt x="3642" y="11335"/>
                  <a:pt x="3597" y="11361"/>
                </a:cubicBezTo>
                <a:cubicBezTo>
                  <a:pt x="3556" y="11384"/>
                  <a:pt x="3516" y="11391"/>
                  <a:pt x="3473" y="11410"/>
                </a:cubicBezTo>
              </a:path>
              <a:path w="1985" h="696">
                <a:moveTo>
                  <a:pt x="3597" y="11435"/>
                </a:moveTo>
                <a:cubicBezTo>
                  <a:pt x="3605" y="11435"/>
                  <a:pt x="3613" y="11435"/>
                  <a:pt x="3621" y="11435"/>
                </a:cubicBezTo>
                <a:cubicBezTo>
                  <a:pt x="3621" y="11516"/>
                  <a:pt x="3605" y="11480"/>
                  <a:pt x="3547" y="11509"/>
                </a:cubicBezTo>
                <a:cubicBezTo>
                  <a:pt x="3499" y="11533"/>
                  <a:pt x="3508" y="11559"/>
                  <a:pt x="3448" y="11559"/>
                </a:cubicBezTo>
              </a:path>
              <a:path w="1985" h="696">
                <a:moveTo>
                  <a:pt x="3919" y="11311"/>
                </a:moveTo>
                <a:cubicBezTo>
                  <a:pt x="3944" y="11311"/>
                  <a:pt x="3952" y="11311"/>
                  <a:pt x="3969" y="11311"/>
                </a:cubicBezTo>
                <a:cubicBezTo>
                  <a:pt x="3969" y="11424"/>
                  <a:pt x="3977" y="11527"/>
                  <a:pt x="3994" y="11633"/>
                </a:cubicBezTo>
                <a:cubicBezTo>
                  <a:pt x="3994" y="11650"/>
                  <a:pt x="3994" y="11666"/>
                  <a:pt x="3994" y="11683"/>
                </a:cubicBezTo>
              </a:path>
              <a:path w="1985" h="696">
                <a:moveTo>
                  <a:pt x="4242" y="11460"/>
                </a:moveTo>
                <a:cubicBezTo>
                  <a:pt x="4212" y="11453"/>
                  <a:pt x="4167" y="11429"/>
                  <a:pt x="4192" y="11385"/>
                </a:cubicBezTo>
                <a:cubicBezTo>
                  <a:pt x="4216" y="11342"/>
                  <a:pt x="4269" y="11320"/>
                  <a:pt x="4316" y="11336"/>
                </a:cubicBezTo>
                <a:cubicBezTo>
                  <a:pt x="4402" y="11365"/>
                  <a:pt x="4390" y="11407"/>
                  <a:pt x="4390" y="11485"/>
                </a:cubicBezTo>
                <a:cubicBezTo>
                  <a:pt x="4390" y="11556"/>
                  <a:pt x="4403" y="11613"/>
                  <a:pt x="4316" y="11633"/>
                </a:cubicBezTo>
                <a:cubicBezTo>
                  <a:pt x="4258" y="11646"/>
                  <a:pt x="4158" y="11636"/>
                  <a:pt x="4118" y="11584"/>
                </a:cubicBezTo>
                <a:cubicBezTo>
                  <a:pt x="4118" y="11576"/>
                  <a:pt x="4118" y="11567"/>
                  <a:pt x="4118" y="11559"/>
                </a:cubicBezTo>
              </a:path>
              <a:path w="1985" h="696">
                <a:moveTo>
                  <a:pt x="4614" y="11410"/>
                </a:moveTo>
                <a:cubicBezTo>
                  <a:pt x="4628" y="11352"/>
                  <a:pt x="4652" y="11340"/>
                  <a:pt x="4713" y="11336"/>
                </a:cubicBezTo>
                <a:cubicBezTo>
                  <a:pt x="4805" y="11331"/>
                  <a:pt x="4843" y="11386"/>
                  <a:pt x="4887" y="11460"/>
                </a:cubicBezTo>
                <a:cubicBezTo>
                  <a:pt x="4910" y="11499"/>
                  <a:pt x="4941" y="11625"/>
                  <a:pt x="4887" y="11658"/>
                </a:cubicBezTo>
                <a:cubicBezTo>
                  <a:pt x="4857" y="11676"/>
                  <a:pt x="4707" y="11671"/>
                  <a:pt x="4688" y="11633"/>
                </a:cubicBezTo>
                <a:cubicBezTo>
                  <a:pt x="4673" y="11603"/>
                  <a:pt x="4704" y="11555"/>
                  <a:pt x="4713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884240" y="4241880"/>
            <a:ext cx="17640" cy="44280"/>
          </a:xfrm>
          <a:custGeom>
            <a:avLst/>
            <a:gdLst/>
            <a:ahLst/>
            <a:rect l="l" t="t" r="r" b="b"/>
            <a:pathLst>
              <a:path w="50" h="125">
                <a:moveTo>
                  <a:pt x="5259" y="11782"/>
                </a:moveTo>
                <a:cubicBezTo>
                  <a:pt x="5267" y="11782"/>
                  <a:pt x="5275" y="11782"/>
                  <a:pt x="5283" y="11782"/>
                </a:cubicBezTo>
                <a:cubicBezTo>
                  <a:pt x="5283" y="11837"/>
                  <a:pt x="5263" y="11856"/>
                  <a:pt x="5234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660760" y="4071960"/>
            <a:ext cx="196920" cy="160200"/>
          </a:xfrm>
          <a:custGeom>
            <a:avLst/>
            <a:gdLst/>
            <a:ahLst/>
            <a:rect l="l" t="t" r="r" b="b"/>
            <a:pathLst>
              <a:path w="547" h="447">
                <a:moveTo>
                  <a:pt x="7392" y="11361"/>
                </a:moveTo>
                <a:cubicBezTo>
                  <a:pt x="7392" y="11320"/>
                  <a:pt x="7392" y="11394"/>
                  <a:pt x="7392" y="11435"/>
                </a:cubicBezTo>
                <a:cubicBezTo>
                  <a:pt x="7392" y="11516"/>
                  <a:pt x="7395" y="11656"/>
                  <a:pt x="7417" y="11733"/>
                </a:cubicBezTo>
                <a:cubicBezTo>
                  <a:pt x="7425" y="11741"/>
                  <a:pt x="7433" y="11749"/>
                  <a:pt x="7441" y="11757"/>
                </a:cubicBezTo>
              </a:path>
              <a:path w="547" h="447">
                <a:moveTo>
                  <a:pt x="7689" y="11435"/>
                </a:moveTo>
                <a:cubicBezTo>
                  <a:pt x="7677" y="11398"/>
                  <a:pt x="7665" y="11413"/>
                  <a:pt x="7665" y="11361"/>
                </a:cubicBezTo>
                <a:cubicBezTo>
                  <a:pt x="7719" y="11347"/>
                  <a:pt x="7726" y="11315"/>
                  <a:pt x="7789" y="11311"/>
                </a:cubicBezTo>
                <a:cubicBezTo>
                  <a:pt x="7865" y="11306"/>
                  <a:pt x="7923" y="11360"/>
                  <a:pt x="7938" y="11435"/>
                </a:cubicBezTo>
                <a:cubicBezTo>
                  <a:pt x="7952" y="11503"/>
                  <a:pt x="7967" y="11674"/>
                  <a:pt x="7888" y="11708"/>
                </a:cubicBezTo>
                <a:cubicBezTo>
                  <a:pt x="7829" y="11734"/>
                  <a:pt x="7736" y="11691"/>
                  <a:pt x="7689" y="11658"/>
                </a:cubicBezTo>
                <a:cubicBezTo>
                  <a:pt x="7642" y="11625"/>
                  <a:pt x="7646" y="11583"/>
                  <a:pt x="7640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963880" y="4098960"/>
            <a:ext cx="117360" cy="1332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8260" y="11509"/>
                </a:moveTo>
                <a:cubicBezTo>
                  <a:pt x="8260" y="11463"/>
                  <a:pt x="8254" y="11445"/>
                  <a:pt x="8285" y="11410"/>
                </a:cubicBezTo>
                <a:cubicBezTo>
                  <a:pt x="8341" y="11347"/>
                  <a:pt x="8410" y="11392"/>
                  <a:pt x="8458" y="11435"/>
                </a:cubicBezTo>
                <a:cubicBezTo>
                  <a:pt x="8516" y="11487"/>
                  <a:pt x="8575" y="11601"/>
                  <a:pt x="8558" y="11683"/>
                </a:cubicBezTo>
                <a:cubicBezTo>
                  <a:pt x="8540" y="11767"/>
                  <a:pt x="8455" y="11773"/>
                  <a:pt x="8384" y="11757"/>
                </a:cubicBezTo>
                <a:cubicBezTo>
                  <a:pt x="8329" y="11744"/>
                  <a:pt x="8249" y="11661"/>
                  <a:pt x="8235" y="11609"/>
                </a:cubicBezTo>
                <a:cubicBezTo>
                  <a:pt x="8235" y="11564"/>
                  <a:pt x="8232" y="11551"/>
                  <a:pt x="8260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32080" y="4133880"/>
            <a:ext cx="98640" cy="54000"/>
          </a:xfrm>
          <a:custGeom>
            <a:avLst/>
            <a:gdLst/>
            <a:ahLst/>
            <a:rect l="l" t="t" r="r" b="b"/>
            <a:pathLst>
              <a:path w="274" h="149">
                <a:moveTo>
                  <a:pt x="9252" y="11509"/>
                </a:moveTo>
                <a:cubicBezTo>
                  <a:pt x="9252" y="11501"/>
                  <a:pt x="9252" y="11493"/>
                  <a:pt x="9252" y="11485"/>
                </a:cubicBezTo>
                <a:cubicBezTo>
                  <a:pt x="9202" y="11497"/>
                  <a:pt x="9188" y="11509"/>
                  <a:pt x="9128" y="11509"/>
                </a:cubicBezTo>
                <a:cubicBezTo>
                  <a:pt x="9063" y="11509"/>
                  <a:pt x="9055" y="11517"/>
                  <a:pt x="9004" y="11534"/>
                </a:cubicBezTo>
                <a:cubicBezTo>
                  <a:pt x="8979" y="11534"/>
                  <a:pt x="8971" y="11534"/>
                  <a:pt x="8979" y="11559"/>
                </a:cubicBezTo>
              </a:path>
              <a:path w="274" h="149">
                <a:moveTo>
                  <a:pt x="9203" y="11559"/>
                </a:moveTo>
                <a:cubicBezTo>
                  <a:pt x="9211" y="11567"/>
                  <a:pt x="9219" y="11576"/>
                  <a:pt x="9227" y="11584"/>
                </a:cubicBezTo>
                <a:cubicBezTo>
                  <a:pt x="9205" y="11601"/>
                  <a:pt x="9154" y="11628"/>
                  <a:pt x="9128" y="11633"/>
                </a:cubicBezTo>
                <a:cubicBezTo>
                  <a:pt x="9087" y="11633"/>
                  <a:pt x="9079" y="11633"/>
                  <a:pt x="9054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90920" y="3990960"/>
            <a:ext cx="1009800" cy="277920"/>
          </a:xfrm>
          <a:custGeom>
            <a:avLst/>
            <a:gdLst/>
            <a:ahLst/>
            <a:rect l="l" t="t" r="r" b="b"/>
            <a:pathLst>
              <a:path w="2804" h="770">
                <a:moveTo>
                  <a:pt x="9699" y="11609"/>
                </a:moveTo>
                <a:cubicBezTo>
                  <a:pt x="9711" y="11645"/>
                  <a:pt x="9729" y="11633"/>
                  <a:pt x="9773" y="11633"/>
                </a:cubicBezTo>
                <a:cubicBezTo>
                  <a:pt x="9811" y="11633"/>
                  <a:pt x="9887" y="11606"/>
                  <a:pt x="9922" y="11584"/>
                </a:cubicBezTo>
                <a:cubicBezTo>
                  <a:pt x="9972" y="11553"/>
                  <a:pt x="9992" y="11512"/>
                  <a:pt x="9996" y="11460"/>
                </a:cubicBezTo>
                <a:cubicBezTo>
                  <a:pt x="9999" y="11425"/>
                  <a:pt x="9967" y="11387"/>
                  <a:pt x="9947" y="11361"/>
                </a:cubicBezTo>
                <a:cubicBezTo>
                  <a:pt x="9872" y="11371"/>
                  <a:pt x="9821" y="11419"/>
                  <a:pt x="9773" y="11485"/>
                </a:cubicBezTo>
                <a:cubicBezTo>
                  <a:pt x="9724" y="11553"/>
                  <a:pt x="9723" y="11629"/>
                  <a:pt x="9723" y="11708"/>
                </a:cubicBezTo>
                <a:cubicBezTo>
                  <a:pt x="9723" y="11785"/>
                  <a:pt x="9797" y="11840"/>
                  <a:pt x="9872" y="11857"/>
                </a:cubicBezTo>
                <a:cubicBezTo>
                  <a:pt x="9937" y="11871"/>
                  <a:pt x="10039" y="11867"/>
                  <a:pt x="10096" y="11832"/>
                </a:cubicBezTo>
                <a:cubicBezTo>
                  <a:pt x="10150" y="11798"/>
                  <a:pt x="10190" y="11736"/>
                  <a:pt x="10220" y="11683"/>
                </a:cubicBezTo>
              </a:path>
              <a:path w="2804" h="770">
                <a:moveTo>
                  <a:pt x="10492" y="11286"/>
                </a:moveTo>
                <a:cubicBezTo>
                  <a:pt x="10468" y="11286"/>
                  <a:pt x="10459" y="11286"/>
                  <a:pt x="10443" y="11286"/>
                </a:cubicBezTo>
                <a:cubicBezTo>
                  <a:pt x="10443" y="11223"/>
                  <a:pt x="10451" y="11189"/>
                  <a:pt x="10468" y="11137"/>
                </a:cubicBezTo>
                <a:cubicBezTo>
                  <a:pt x="10485" y="11087"/>
                  <a:pt x="10516" y="11088"/>
                  <a:pt x="10567" y="11088"/>
                </a:cubicBezTo>
                <a:cubicBezTo>
                  <a:pt x="10632" y="11088"/>
                  <a:pt x="10664" y="11128"/>
                  <a:pt x="10691" y="11187"/>
                </a:cubicBezTo>
                <a:cubicBezTo>
                  <a:pt x="10720" y="11252"/>
                  <a:pt x="10735" y="11330"/>
                  <a:pt x="10691" y="11385"/>
                </a:cubicBezTo>
                <a:cubicBezTo>
                  <a:pt x="10669" y="11413"/>
                  <a:pt x="10602" y="11425"/>
                  <a:pt x="10567" y="11410"/>
                </a:cubicBezTo>
                <a:cubicBezTo>
                  <a:pt x="10532" y="11395"/>
                  <a:pt x="10496" y="11376"/>
                  <a:pt x="10492" y="11336"/>
                </a:cubicBezTo>
                <a:cubicBezTo>
                  <a:pt x="10492" y="11328"/>
                  <a:pt x="10492" y="11319"/>
                  <a:pt x="10492" y="11311"/>
                </a:cubicBezTo>
              </a:path>
              <a:path w="2804" h="770">
                <a:moveTo>
                  <a:pt x="10939" y="11336"/>
                </a:moveTo>
                <a:cubicBezTo>
                  <a:pt x="10961" y="11358"/>
                  <a:pt x="10970" y="11363"/>
                  <a:pt x="10964" y="11385"/>
                </a:cubicBezTo>
              </a:path>
              <a:path w="2804" h="770">
                <a:moveTo>
                  <a:pt x="11063" y="11162"/>
                </a:moveTo>
                <a:cubicBezTo>
                  <a:pt x="11063" y="11119"/>
                  <a:pt x="11068" y="11102"/>
                  <a:pt x="11112" y="11088"/>
                </a:cubicBezTo>
                <a:cubicBezTo>
                  <a:pt x="11143" y="11078"/>
                  <a:pt x="11221" y="11080"/>
                  <a:pt x="11237" y="11112"/>
                </a:cubicBezTo>
                <a:cubicBezTo>
                  <a:pt x="11258" y="11154"/>
                  <a:pt x="11218" y="11208"/>
                  <a:pt x="11212" y="11237"/>
                </a:cubicBezTo>
                <a:cubicBezTo>
                  <a:pt x="11202" y="11287"/>
                  <a:pt x="11165" y="11315"/>
                  <a:pt x="11162" y="11361"/>
                </a:cubicBezTo>
                <a:cubicBezTo>
                  <a:pt x="11156" y="11444"/>
                  <a:pt x="11155" y="11381"/>
                  <a:pt x="11137" y="11435"/>
                </a:cubicBezTo>
                <a:cubicBezTo>
                  <a:pt x="11179" y="11467"/>
                  <a:pt x="11205" y="11460"/>
                  <a:pt x="11261" y="11460"/>
                </a:cubicBezTo>
                <a:cubicBezTo>
                  <a:pt x="11316" y="11460"/>
                  <a:pt x="11345" y="11441"/>
                  <a:pt x="11385" y="11410"/>
                </a:cubicBezTo>
              </a:path>
              <a:path w="2804" h="770">
                <a:moveTo>
                  <a:pt x="11509" y="11137"/>
                </a:moveTo>
                <a:cubicBezTo>
                  <a:pt x="11509" y="11112"/>
                  <a:pt x="11509" y="11104"/>
                  <a:pt x="11534" y="11112"/>
                </a:cubicBezTo>
                <a:cubicBezTo>
                  <a:pt x="11524" y="11151"/>
                  <a:pt x="11509" y="11167"/>
                  <a:pt x="11509" y="11212"/>
                </a:cubicBezTo>
                <a:cubicBezTo>
                  <a:pt x="11509" y="11266"/>
                  <a:pt x="11467" y="11304"/>
                  <a:pt x="11485" y="11361"/>
                </a:cubicBezTo>
                <a:cubicBezTo>
                  <a:pt x="11502" y="11413"/>
                  <a:pt x="11515" y="11424"/>
                  <a:pt x="11559" y="11435"/>
                </a:cubicBezTo>
              </a:path>
              <a:path w="2804" h="770">
                <a:moveTo>
                  <a:pt x="11683" y="11311"/>
                </a:moveTo>
                <a:cubicBezTo>
                  <a:pt x="11620" y="11292"/>
                  <a:pt x="11595" y="11286"/>
                  <a:pt x="11534" y="11286"/>
                </a:cubicBezTo>
                <a:cubicBezTo>
                  <a:pt x="11526" y="11286"/>
                  <a:pt x="11517" y="11286"/>
                  <a:pt x="11509" y="11286"/>
                </a:cubicBezTo>
              </a:path>
              <a:path w="2804" h="770">
                <a:moveTo>
                  <a:pt x="11956" y="11385"/>
                </a:moveTo>
                <a:cubicBezTo>
                  <a:pt x="11948" y="11385"/>
                  <a:pt x="11939" y="11385"/>
                  <a:pt x="11931" y="11385"/>
                </a:cubicBezTo>
                <a:cubicBezTo>
                  <a:pt x="11968" y="11359"/>
                  <a:pt x="11970" y="11370"/>
                  <a:pt x="11981" y="11336"/>
                </a:cubicBezTo>
                <a:cubicBezTo>
                  <a:pt x="12040" y="11336"/>
                  <a:pt x="12074" y="11317"/>
                  <a:pt x="12129" y="11311"/>
                </a:cubicBezTo>
                <a:cubicBezTo>
                  <a:pt x="12154" y="11311"/>
                  <a:pt x="12162" y="11311"/>
                  <a:pt x="12179" y="11311"/>
                </a:cubicBezTo>
              </a:path>
              <a:path w="2804" h="770">
                <a:moveTo>
                  <a:pt x="12427" y="11112"/>
                </a:moveTo>
                <a:cubicBezTo>
                  <a:pt x="12427" y="11185"/>
                  <a:pt x="12441" y="11243"/>
                  <a:pt x="12452" y="11311"/>
                </a:cubicBezTo>
                <a:cubicBezTo>
                  <a:pt x="12462" y="11371"/>
                  <a:pt x="12473" y="11403"/>
                  <a:pt x="12502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28920" y="4394160"/>
            <a:ext cx="312840" cy="241200"/>
          </a:xfrm>
          <a:custGeom>
            <a:avLst/>
            <a:gdLst/>
            <a:ahLst/>
            <a:rect l="l" t="t" r="r" b="b"/>
            <a:pathLst>
              <a:path w="869" h="671">
                <a:moveTo>
                  <a:pt x="6747" y="12626"/>
                </a:moveTo>
                <a:cubicBezTo>
                  <a:pt x="6747" y="12642"/>
                  <a:pt x="6747" y="12659"/>
                  <a:pt x="6747" y="12675"/>
                </a:cubicBezTo>
                <a:cubicBezTo>
                  <a:pt x="6791" y="12664"/>
                  <a:pt x="6842" y="12617"/>
                  <a:pt x="6871" y="12576"/>
                </a:cubicBezTo>
                <a:cubicBezTo>
                  <a:pt x="6904" y="12529"/>
                  <a:pt x="6958" y="12434"/>
                  <a:pt x="6970" y="12378"/>
                </a:cubicBezTo>
                <a:cubicBezTo>
                  <a:pt x="6982" y="12324"/>
                  <a:pt x="6995" y="12288"/>
                  <a:pt x="6995" y="12229"/>
                </a:cubicBezTo>
                <a:cubicBezTo>
                  <a:pt x="6995" y="12221"/>
                  <a:pt x="6995" y="12212"/>
                  <a:pt x="6995" y="12204"/>
                </a:cubicBezTo>
                <a:cubicBezTo>
                  <a:pt x="6959" y="12204"/>
                  <a:pt x="6909" y="12209"/>
                  <a:pt x="6896" y="12254"/>
                </a:cubicBezTo>
                <a:cubicBezTo>
                  <a:pt x="6876" y="12323"/>
                  <a:pt x="6849" y="12403"/>
                  <a:pt x="6846" y="12477"/>
                </a:cubicBezTo>
                <a:cubicBezTo>
                  <a:pt x="6842" y="12573"/>
                  <a:pt x="6854" y="12638"/>
                  <a:pt x="6896" y="12725"/>
                </a:cubicBezTo>
                <a:cubicBezTo>
                  <a:pt x="6915" y="12764"/>
                  <a:pt x="6973" y="12860"/>
                  <a:pt x="7020" y="12874"/>
                </a:cubicBezTo>
                <a:cubicBezTo>
                  <a:pt x="7075" y="12890"/>
                  <a:pt x="7128" y="12855"/>
                  <a:pt x="7169" y="12824"/>
                </a:cubicBezTo>
                <a:cubicBezTo>
                  <a:pt x="7194" y="12805"/>
                  <a:pt x="7233" y="12730"/>
                  <a:pt x="7243" y="12700"/>
                </a:cubicBezTo>
                <a:cubicBezTo>
                  <a:pt x="7243" y="12692"/>
                  <a:pt x="7243" y="12683"/>
                  <a:pt x="7243" y="12675"/>
                </a:cubicBezTo>
                <a:cubicBezTo>
                  <a:pt x="7282" y="12688"/>
                  <a:pt x="7270" y="12715"/>
                  <a:pt x="7293" y="12750"/>
                </a:cubicBezTo>
                <a:cubicBezTo>
                  <a:pt x="7301" y="12758"/>
                  <a:pt x="7309" y="12766"/>
                  <a:pt x="7317" y="12774"/>
                </a:cubicBezTo>
                <a:cubicBezTo>
                  <a:pt x="7358" y="12735"/>
                  <a:pt x="7380" y="12691"/>
                  <a:pt x="7417" y="12650"/>
                </a:cubicBezTo>
                <a:cubicBezTo>
                  <a:pt x="7456" y="12607"/>
                  <a:pt x="7509" y="12629"/>
                  <a:pt x="7541" y="12675"/>
                </a:cubicBezTo>
                <a:cubicBezTo>
                  <a:pt x="7567" y="12729"/>
                  <a:pt x="7579" y="12749"/>
                  <a:pt x="7615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74960" y="4491000"/>
            <a:ext cx="376200" cy="144360"/>
          </a:xfrm>
          <a:custGeom>
            <a:avLst/>
            <a:gdLst/>
            <a:ahLst/>
            <a:rect l="l" t="t" r="r" b="b"/>
            <a:pathLst>
              <a:path w="1043" h="398">
                <a:moveTo>
                  <a:pt x="7987" y="12502"/>
                </a:moveTo>
                <a:cubicBezTo>
                  <a:pt x="7987" y="12436"/>
                  <a:pt x="8011" y="12587"/>
                  <a:pt x="8012" y="12601"/>
                </a:cubicBezTo>
                <a:cubicBezTo>
                  <a:pt x="8016" y="12683"/>
                  <a:pt x="8027" y="12746"/>
                  <a:pt x="8037" y="12824"/>
                </a:cubicBezTo>
              </a:path>
              <a:path w="1043" h="398">
                <a:moveTo>
                  <a:pt x="8310" y="12626"/>
                </a:moveTo>
                <a:cubicBezTo>
                  <a:pt x="8279" y="12584"/>
                  <a:pt x="8273" y="12568"/>
                  <a:pt x="8310" y="12526"/>
                </a:cubicBezTo>
                <a:cubicBezTo>
                  <a:pt x="8336" y="12497"/>
                  <a:pt x="8395" y="12491"/>
                  <a:pt x="8434" y="12502"/>
                </a:cubicBezTo>
                <a:cubicBezTo>
                  <a:pt x="8510" y="12524"/>
                  <a:pt x="8544" y="12603"/>
                  <a:pt x="8558" y="12675"/>
                </a:cubicBezTo>
                <a:cubicBezTo>
                  <a:pt x="8572" y="12750"/>
                  <a:pt x="8517" y="12771"/>
                  <a:pt x="8458" y="12774"/>
                </a:cubicBezTo>
                <a:cubicBezTo>
                  <a:pt x="8419" y="12776"/>
                  <a:pt x="8334" y="12780"/>
                  <a:pt x="8310" y="12750"/>
                </a:cubicBezTo>
                <a:cubicBezTo>
                  <a:pt x="8302" y="12733"/>
                  <a:pt x="8293" y="12717"/>
                  <a:pt x="8285" y="12700"/>
                </a:cubicBezTo>
              </a:path>
              <a:path w="1043" h="398">
                <a:moveTo>
                  <a:pt x="8781" y="12675"/>
                </a:moveTo>
                <a:cubicBezTo>
                  <a:pt x="8759" y="12668"/>
                  <a:pt x="8736" y="12637"/>
                  <a:pt x="8756" y="12601"/>
                </a:cubicBezTo>
                <a:cubicBezTo>
                  <a:pt x="8783" y="12552"/>
                  <a:pt x="8853" y="12531"/>
                  <a:pt x="8905" y="12551"/>
                </a:cubicBezTo>
                <a:cubicBezTo>
                  <a:pt x="8976" y="12578"/>
                  <a:pt x="9015" y="12652"/>
                  <a:pt x="9029" y="12725"/>
                </a:cubicBezTo>
                <a:cubicBezTo>
                  <a:pt x="9042" y="12791"/>
                  <a:pt x="9044" y="12850"/>
                  <a:pt x="8979" y="12874"/>
                </a:cubicBezTo>
                <a:cubicBezTo>
                  <a:pt x="8917" y="12897"/>
                  <a:pt x="8876" y="12852"/>
                  <a:pt x="8830" y="12824"/>
                </a:cubicBezTo>
                <a:cubicBezTo>
                  <a:pt x="8814" y="12816"/>
                  <a:pt x="8797" y="12807"/>
                  <a:pt x="8781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456000" y="4545000"/>
            <a:ext cx="81000" cy="81000"/>
          </a:xfrm>
          <a:custGeom>
            <a:avLst/>
            <a:gdLst/>
            <a:ahLst/>
            <a:rect l="l" t="t" r="r" b="b"/>
            <a:pathLst>
              <a:path w="225" h="224">
                <a:moveTo>
                  <a:pt x="9773" y="12626"/>
                </a:moveTo>
                <a:cubicBezTo>
                  <a:pt x="9717" y="12626"/>
                  <a:pt x="9695" y="12635"/>
                  <a:pt x="9649" y="12650"/>
                </a:cubicBezTo>
                <a:cubicBezTo>
                  <a:pt x="9624" y="12650"/>
                  <a:pt x="9616" y="12650"/>
                  <a:pt x="9599" y="12650"/>
                </a:cubicBezTo>
              </a:path>
              <a:path w="225" h="224">
                <a:moveTo>
                  <a:pt x="9773" y="12774"/>
                </a:moveTo>
                <a:cubicBezTo>
                  <a:pt x="9796" y="12797"/>
                  <a:pt x="9800" y="12805"/>
                  <a:pt x="9823" y="12799"/>
                </a:cubicBezTo>
                <a:cubicBezTo>
                  <a:pt x="9791" y="12823"/>
                  <a:pt x="9780" y="12825"/>
                  <a:pt x="9748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813120" y="4518000"/>
            <a:ext cx="115920" cy="12528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10666" y="12725"/>
                </a:moveTo>
                <a:cubicBezTo>
                  <a:pt x="10623" y="12725"/>
                  <a:pt x="10606" y="12720"/>
                  <a:pt x="10592" y="12675"/>
                </a:cubicBezTo>
                <a:cubicBezTo>
                  <a:pt x="10579" y="12634"/>
                  <a:pt x="10609" y="12597"/>
                  <a:pt x="10641" y="12576"/>
                </a:cubicBezTo>
                <a:cubicBezTo>
                  <a:pt x="10694" y="12542"/>
                  <a:pt x="10761" y="12537"/>
                  <a:pt x="10815" y="12576"/>
                </a:cubicBezTo>
                <a:cubicBezTo>
                  <a:pt x="10887" y="12629"/>
                  <a:pt x="10910" y="12715"/>
                  <a:pt x="10914" y="12799"/>
                </a:cubicBezTo>
                <a:cubicBezTo>
                  <a:pt x="10919" y="12885"/>
                  <a:pt x="10901" y="12893"/>
                  <a:pt x="10815" y="12898"/>
                </a:cubicBezTo>
                <a:cubicBezTo>
                  <a:pt x="10765" y="12901"/>
                  <a:pt x="10682" y="12874"/>
                  <a:pt x="10641" y="12849"/>
                </a:cubicBezTo>
                <a:cubicBezTo>
                  <a:pt x="10633" y="12841"/>
                  <a:pt x="10624" y="12832"/>
                  <a:pt x="10616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44960" y="4491000"/>
            <a:ext cx="357120" cy="169920"/>
          </a:xfrm>
          <a:custGeom>
            <a:avLst/>
            <a:gdLst/>
            <a:ahLst/>
            <a:rect l="l" t="t" r="r" b="b"/>
            <a:pathLst>
              <a:path w="993" h="472">
                <a:moveTo>
                  <a:pt x="11237" y="12898"/>
                </a:moveTo>
                <a:cubicBezTo>
                  <a:pt x="11261" y="12923"/>
                  <a:pt x="11269" y="12932"/>
                  <a:pt x="11286" y="12948"/>
                </a:cubicBezTo>
              </a:path>
              <a:path w="993" h="472">
                <a:moveTo>
                  <a:pt x="11460" y="12700"/>
                </a:moveTo>
                <a:cubicBezTo>
                  <a:pt x="11425" y="12660"/>
                  <a:pt x="11384" y="12614"/>
                  <a:pt x="11410" y="12551"/>
                </a:cubicBezTo>
                <a:cubicBezTo>
                  <a:pt x="11431" y="12501"/>
                  <a:pt x="11490" y="12481"/>
                  <a:pt x="11534" y="12477"/>
                </a:cubicBezTo>
                <a:cubicBezTo>
                  <a:pt x="11581" y="12473"/>
                  <a:pt x="11620" y="12537"/>
                  <a:pt x="11633" y="12576"/>
                </a:cubicBezTo>
                <a:cubicBezTo>
                  <a:pt x="11655" y="12643"/>
                  <a:pt x="11602" y="12669"/>
                  <a:pt x="11584" y="12725"/>
                </a:cubicBezTo>
                <a:cubicBezTo>
                  <a:pt x="11570" y="12766"/>
                  <a:pt x="11538" y="12809"/>
                  <a:pt x="11534" y="12849"/>
                </a:cubicBezTo>
                <a:cubicBezTo>
                  <a:pt x="11531" y="12879"/>
                  <a:pt x="11578" y="12896"/>
                  <a:pt x="11609" y="12898"/>
                </a:cubicBezTo>
                <a:cubicBezTo>
                  <a:pt x="11663" y="12902"/>
                  <a:pt x="11738" y="12896"/>
                  <a:pt x="11782" y="12874"/>
                </a:cubicBezTo>
                <a:cubicBezTo>
                  <a:pt x="11790" y="12866"/>
                  <a:pt x="11799" y="12857"/>
                  <a:pt x="11807" y="12849"/>
                </a:cubicBezTo>
              </a:path>
              <a:path w="993" h="472">
                <a:moveTo>
                  <a:pt x="12030" y="12576"/>
                </a:moveTo>
                <a:cubicBezTo>
                  <a:pt x="12030" y="12630"/>
                  <a:pt x="12008" y="12645"/>
                  <a:pt x="12005" y="12700"/>
                </a:cubicBezTo>
                <a:cubicBezTo>
                  <a:pt x="11999" y="12799"/>
                  <a:pt x="11990" y="12864"/>
                  <a:pt x="12055" y="12923"/>
                </a:cubicBezTo>
                <a:cubicBezTo>
                  <a:pt x="12083" y="12951"/>
                  <a:pt x="12096" y="12960"/>
                  <a:pt x="12129" y="12948"/>
                </a:cubicBezTo>
              </a:path>
              <a:path w="993" h="472">
                <a:moveTo>
                  <a:pt x="12229" y="12824"/>
                </a:moveTo>
                <a:cubicBezTo>
                  <a:pt x="12138" y="12760"/>
                  <a:pt x="12156" y="12750"/>
                  <a:pt x="12080" y="12774"/>
                </a:cubicBezTo>
                <a:cubicBezTo>
                  <a:pt x="12072" y="12774"/>
                  <a:pt x="12063" y="12774"/>
                  <a:pt x="12055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37080" y="4572000"/>
            <a:ext cx="106200" cy="36360"/>
          </a:xfrm>
          <a:custGeom>
            <a:avLst/>
            <a:gdLst/>
            <a:ahLst/>
            <a:rect l="l" t="t" r="r" b="b"/>
            <a:pathLst>
              <a:path w="298" h="100">
                <a:moveTo>
                  <a:pt x="12601" y="12799"/>
                </a:moveTo>
                <a:cubicBezTo>
                  <a:pt x="12642" y="12789"/>
                  <a:pt x="12681" y="12770"/>
                  <a:pt x="12725" y="12750"/>
                </a:cubicBezTo>
                <a:cubicBezTo>
                  <a:pt x="12780" y="12724"/>
                  <a:pt x="12840" y="12712"/>
                  <a:pt x="12898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76840" y="4500720"/>
            <a:ext cx="9360" cy="160200"/>
          </a:xfrm>
          <a:custGeom>
            <a:avLst/>
            <a:gdLst/>
            <a:ahLst/>
            <a:rect l="l" t="t" r="r" b="b"/>
            <a:pathLst>
              <a:path w="25" h="447">
                <a:moveTo>
                  <a:pt x="13271" y="12526"/>
                </a:moveTo>
                <a:cubicBezTo>
                  <a:pt x="13271" y="12447"/>
                  <a:pt x="13271" y="12624"/>
                  <a:pt x="13271" y="12626"/>
                </a:cubicBezTo>
                <a:cubicBezTo>
                  <a:pt x="13271" y="12725"/>
                  <a:pt x="13282" y="12804"/>
                  <a:pt x="13295" y="12898"/>
                </a:cubicBezTo>
                <a:cubicBezTo>
                  <a:pt x="13295" y="12915"/>
                  <a:pt x="13295" y="12931"/>
                  <a:pt x="1329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160720" y="4795920"/>
            <a:ext cx="1982520" cy="579240"/>
          </a:xfrm>
          <a:custGeom>
            <a:avLst/>
            <a:gdLst/>
            <a:ahLst/>
            <a:rect l="l" t="t" r="r" b="b"/>
            <a:pathLst>
              <a:path w="5507" h="1613">
                <a:moveTo>
                  <a:pt x="11286" y="13494"/>
                </a:moveTo>
                <a:cubicBezTo>
                  <a:pt x="11319" y="13444"/>
                  <a:pt x="11324" y="13456"/>
                  <a:pt x="11336" y="13419"/>
                </a:cubicBezTo>
                <a:cubicBezTo>
                  <a:pt x="11312" y="13459"/>
                  <a:pt x="11270" y="13542"/>
                  <a:pt x="11261" y="13593"/>
                </a:cubicBezTo>
                <a:cubicBezTo>
                  <a:pt x="11249" y="13664"/>
                  <a:pt x="11252" y="13787"/>
                  <a:pt x="11311" y="13841"/>
                </a:cubicBezTo>
                <a:cubicBezTo>
                  <a:pt x="11352" y="13879"/>
                  <a:pt x="11410" y="13866"/>
                  <a:pt x="11460" y="13866"/>
                </a:cubicBezTo>
              </a:path>
              <a:path w="5507" h="1613">
                <a:moveTo>
                  <a:pt x="11509" y="13618"/>
                </a:moveTo>
                <a:cubicBezTo>
                  <a:pt x="11398" y="13584"/>
                  <a:pt x="11433" y="13601"/>
                  <a:pt x="11336" y="13618"/>
                </a:cubicBezTo>
                <a:cubicBezTo>
                  <a:pt x="11281" y="13628"/>
                  <a:pt x="11218" y="13618"/>
                  <a:pt x="11162" y="13618"/>
                </a:cubicBezTo>
              </a:path>
              <a:path w="5507" h="1613">
                <a:moveTo>
                  <a:pt x="10418" y="13543"/>
                </a:moveTo>
                <a:cubicBezTo>
                  <a:pt x="10418" y="13535"/>
                  <a:pt x="10418" y="13527"/>
                  <a:pt x="10418" y="13519"/>
                </a:cubicBezTo>
                <a:cubicBezTo>
                  <a:pt x="10386" y="13542"/>
                  <a:pt x="10348" y="13549"/>
                  <a:pt x="10319" y="13568"/>
                </a:cubicBezTo>
                <a:cubicBezTo>
                  <a:pt x="10296" y="13591"/>
                  <a:pt x="10292" y="13599"/>
                  <a:pt x="10269" y="13593"/>
                </a:cubicBezTo>
              </a:path>
              <a:path w="5507" h="1613">
                <a:moveTo>
                  <a:pt x="10393" y="13643"/>
                </a:moveTo>
                <a:cubicBezTo>
                  <a:pt x="10410" y="13643"/>
                  <a:pt x="10426" y="13643"/>
                  <a:pt x="10443" y="13643"/>
                </a:cubicBezTo>
                <a:cubicBezTo>
                  <a:pt x="10430" y="13692"/>
                  <a:pt x="10418" y="13692"/>
                  <a:pt x="10368" y="13692"/>
                </a:cubicBezTo>
                <a:cubicBezTo>
                  <a:pt x="10360" y="13692"/>
                  <a:pt x="10352" y="13692"/>
                  <a:pt x="10344" y="13692"/>
                </a:cubicBezTo>
              </a:path>
              <a:path w="5507" h="1613">
                <a:moveTo>
                  <a:pt x="6028" y="13791"/>
                </a:moveTo>
                <a:cubicBezTo>
                  <a:pt x="6002" y="13826"/>
                  <a:pt x="6003" y="13822"/>
                  <a:pt x="6003" y="13866"/>
                </a:cubicBezTo>
                <a:cubicBezTo>
                  <a:pt x="6014" y="13822"/>
                  <a:pt x="6035" y="13789"/>
                  <a:pt x="6052" y="13742"/>
                </a:cubicBezTo>
                <a:cubicBezTo>
                  <a:pt x="6086" y="13646"/>
                  <a:pt x="6116" y="13543"/>
                  <a:pt x="6127" y="13444"/>
                </a:cubicBezTo>
                <a:cubicBezTo>
                  <a:pt x="6133" y="13391"/>
                  <a:pt x="6142" y="13333"/>
                  <a:pt x="6102" y="13320"/>
                </a:cubicBezTo>
                <a:cubicBezTo>
                  <a:pt x="6073" y="13368"/>
                  <a:pt x="6037" y="13457"/>
                  <a:pt x="6028" y="13519"/>
                </a:cubicBezTo>
                <a:cubicBezTo>
                  <a:pt x="6014" y="13612"/>
                  <a:pt x="6021" y="13729"/>
                  <a:pt x="6052" y="13816"/>
                </a:cubicBezTo>
                <a:cubicBezTo>
                  <a:pt x="6071" y="13870"/>
                  <a:pt x="6103" y="13950"/>
                  <a:pt x="6176" y="13915"/>
                </a:cubicBezTo>
                <a:cubicBezTo>
                  <a:pt x="6236" y="13886"/>
                  <a:pt x="6230" y="13809"/>
                  <a:pt x="6251" y="13767"/>
                </a:cubicBezTo>
                <a:cubicBezTo>
                  <a:pt x="6273" y="13745"/>
                  <a:pt x="6278" y="13736"/>
                  <a:pt x="6300" y="13742"/>
                </a:cubicBezTo>
                <a:cubicBezTo>
                  <a:pt x="6312" y="13790"/>
                  <a:pt x="6344" y="13817"/>
                  <a:pt x="6375" y="13841"/>
                </a:cubicBezTo>
                <a:cubicBezTo>
                  <a:pt x="6383" y="13849"/>
                  <a:pt x="6392" y="13858"/>
                  <a:pt x="6400" y="13866"/>
                </a:cubicBezTo>
                <a:cubicBezTo>
                  <a:pt x="6423" y="13827"/>
                  <a:pt x="6422" y="13765"/>
                  <a:pt x="6474" y="13742"/>
                </a:cubicBezTo>
                <a:cubicBezTo>
                  <a:pt x="6505" y="13728"/>
                  <a:pt x="6575" y="13798"/>
                  <a:pt x="6598" y="13816"/>
                </a:cubicBezTo>
              </a:path>
              <a:path w="5507" h="1613">
                <a:moveTo>
                  <a:pt x="6896" y="13568"/>
                </a:moveTo>
                <a:cubicBezTo>
                  <a:pt x="6921" y="13568"/>
                  <a:pt x="6929" y="13568"/>
                  <a:pt x="6945" y="13568"/>
                </a:cubicBezTo>
                <a:cubicBezTo>
                  <a:pt x="6945" y="13640"/>
                  <a:pt x="6962" y="13701"/>
                  <a:pt x="6970" y="13767"/>
                </a:cubicBezTo>
                <a:cubicBezTo>
                  <a:pt x="6980" y="13845"/>
                  <a:pt x="6984" y="13869"/>
                  <a:pt x="7020" y="13940"/>
                </a:cubicBezTo>
              </a:path>
              <a:path w="5507" h="1613">
                <a:moveTo>
                  <a:pt x="7243" y="13742"/>
                </a:moveTo>
                <a:cubicBezTo>
                  <a:pt x="7220" y="13719"/>
                  <a:pt x="7212" y="13715"/>
                  <a:pt x="7218" y="13692"/>
                </a:cubicBezTo>
                <a:cubicBezTo>
                  <a:pt x="7269" y="13652"/>
                  <a:pt x="7304" y="13622"/>
                  <a:pt x="7367" y="13618"/>
                </a:cubicBezTo>
                <a:cubicBezTo>
                  <a:pt x="7468" y="13612"/>
                  <a:pt x="7496" y="13688"/>
                  <a:pt x="7541" y="13767"/>
                </a:cubicBezTo>
                <a:cubicBezTo>
                  <a:pt x="7591" y="13856"/>
                  <a:pt x="7572" y="13897"/>
                  <a:pt x="7491" y="13940"/>
                </a:cubicBezTo>
                <a:cubicBezTo>
                  <a:pt x="7417" y="13979"/>
                  <a:pt x="7381" y="13963"/>
                  <a:pt x="7317" y="13915"/>
                </a:cubicBezTo>
                <a:cubicBezTo>
                  <a:pt x="7309" y="13907"/>
                  <a:pt x="7301" y="13899"/>
                  <a:pt x="7293" y="13891"/>
                </a:cubicBezTo>
              </a:path>
              <a:path w="5507" h="1613">
                <a:moveTo>
                  <a:pt x="7764" y="13866"/>
                </a:moveTo>
                <a:cubicBezTo>
                  <a:pt x="7724" y="13853"/>
                  <a:pt x="7739" y="13818"/>
                  <a:pt x="7739" y="13767"/>
                </a:cubicBezTo>
                <a:cubicBezTo>
                  <a:pt x="7739" y="13710"/>
                  <a:pt x="7811" y="13680"/>
                  <a:pt x="7863" y="13692"/>
                </a:cubicBezTo>
                <a:cubicBezTo>
                  <a:pt x="7933" y="13708"/>
                  <a:pt x="7997" y="13799"/>
                  <a:pt x="8012" y="13866"/>
                </a:cubicBezTo>
                <a:cubicBezTo>
                  <a:pt x="8028" y="13938"/>
                  <a:pt x="8016" y="13985"/>
                  <a:pt x="7938" y="13990"/>
                </a:cubicBezTo>
                <a:cubicBezTo>
                  <a:pt x="7864" y="13995"/>
                  <a:pt x="7820" y="13990"/>
                  <a:pt x="7764" y="13940"/>
                </a:cubicBezTo>
                <a:cubicBezTo>
                  <a:pt x="7756" y="13932"/>
                  <a:pt x="7747" y="13923"/>
                  <a:pt x="7739" y="13915"/>
                </a:cubicBezTo>
              </a:path>
              <a:path w="5507" h="1613">
                <a:moveTo>
                  <a:pt x="8855" y="13742"/>
                </a:moveTo>
                <a:cubicBezTo>
                  <a:pt x="8863" y="13742"/>
                  <a:pt x="8872" y="13742"/>
                  <a:pt x="8880" y="13742"/>
                </a:cubicBezTo>
                <a:cubicBezTo>
                  <a:pt x="8869" y="13775"/>
                  <a:pt x="8829" y="13788"/>
                  <a:pt x="8781" y="13791"/>
                </a:cubicBezTo>
                <a:cubicBezTo>
                  <a:pt x="8725" y="13795"/>
                  <a:pt x="8685" y="13811"/>
                  <a:pt x="8632" y="13816"/>
                </a:cubicBezTo>
                <a:cubicBezTo>
                  <a:pt x="8624" y="13816"/>
                  <a:pt x="8615" y="13816"/>
                  <a:pt x="8607" y="13816"/>
                </a:cubicBezTo>
              </a:path>
              <a:path w="5507" h="1613">
                <a:moveTo>
                  <a:pt x="8657" y="13667"/>
                </a:moveTo>
                <a:cubicBezTo>
                  <a:pt x="8682" y="13667"/>
                  <a:pt x="8690" y="13667"/>
                  <a:pt x="8706" y="13667"/>
                </a:cubicBezTo>
                <a:cubicBezTo>
                  <a:pt x="8715" y="13729"/>
                  <a:pt x="8714" y="13802"/>
                  <a:pt x="8731" y="13866"/>
                </a:cubicBezTo>
                <a:cubicBezTo>
                  <a:pt x="8739" y="13882"/>
                  <a:pt x="8748" y="13899"/>
                  <a:pt x="8756" y="13915"/>
                </a:cubicBezTo>
              </a:path>
              <a:path w="5507" h="1613">
                <a:moveTo>
                  <a:pt x="9227" y="13419"/>
                </a:moveTo>
                <a:cubicBezTo>
                  <a:pt x="9252" y="13427"/>
                  <a:pt x="9270" y="13478"/>
                  <a:pt x="9277" y="13519"/>
                </a:cubicBezTo>
                <a:cubicBezTo>
                  <a:pt x="9292" y="13601"/>
                  <a:pt x="9295" y="13685"/>
                  <a:pt x="9302" y="13767"/>
                </a:cubicBezTo>
              </a:path>
              <a:path w="5507" h="1613">
                <a:moveTo>
                  <a:pt x="9649" y="14039"/>
                </a:moveTo>
                <a:cubicBezTo>
                  <a:pt x="9583" y="14039"/>
                  <a:pt x="9527" y="14057"/>
                  <a:pt x="9475" y="14064"/>
                </a:cubicBezTo>
                <a:cubicBezTo>
                  <a:pt x="9414" y="14072"/>
                  <a:pt x="9362" y="14084"/>
                  <a:pt x="9302" y="14089"/>
                </a:cubicBezTo>
                <a:cubicBezTo>
                  <a:pt x="9233" y="14095"/>
                  <a:pt x="9168" y="14094"/>
                  <a:pt x="9103" y="14114"/>
                </a:cubicBezTo>
                <a:cubicBezTo>
                  <a:pt x="9023" y="14139"/>
                  <a:pt x="8939" y="14155"/>
                  <a:pt x="8855" y="14163"/>
                </a:cubicBezTo>
                <a:cubicBezTo>
                  <a:pt x="8780" y="14170"/>
                  <a:pt x="8727" y="14171"/>
                  <a:pt x="8657" y="14188"/>
                </a:cubicBezTo>
                <a:cubicBezTo>
                  <a:pt x="8581" y="14206"/>
                  <a:pt x="8515" y="14211"/>
                  <a:pt x="8434" y="14213"/>
                </a:cubicBezTo>
                <a:cubicBezTo>
                  <a:pt x="8357" y="14215"/>
                  <a:pt x="8307" y="14219"/>
                  <a:pt x="8235" y="14238"/>
                </a:cubicBezTo>
                <a:cubicBezTo>
                  <a:pt x="8169" y="14256"/>
                  <a:pt x="8107" y="14261"/>
                  <a:pt x="8037" y="14263"/>
                </a:cubicBezTo>
                <a:cubicBezTo>
                  <a:pt x="7956" y="14265"/>
                  <a:pt x="7888" y="14279"/>
                  <a:pt x="7813" y="14288"/>
                </a:cubicBezTo>
                <a:cubicBezTo>
                  <a:pt x="7741" y="14297"/>
                  <a:pt x="7658" y="14305"/>
                  <a:pt x="7590" y="14312"/>
                </a:cubicBezTo>
                <a:cubicBezTo>
                  <a:pt x="7382" y="14332"/>
                  <a:pt x="7175" y="14295"/>
                  <a:pt x="6970" y="14337"/>
                </a:cubicBezTo>
                <a:cubicBezTo>
                  <a:pt x="6899" y="14352"/>
                  <a:pt x="6814" y="14363"/>
                  <a:pt x="6747" y="14387"/>
                </a:cubicBezTo>
                <a:cubicBezTo>
                  <a:pt x="6688" y="14408"/>
                  <a:pt x="6634" y="14448"/>
                  <a:pt x="6573" y="14461"/>
                </a:cubicBezTo>
                <a:cubicBezTo>
                  <a:pt x="6548" y="14461"/>
                  <a:pt x="6540" y="14461"/>
                  <a:pt x="6524" y="14461"/>
                </a:cubicBezTo>
              </a:path>
              <a:path w="5507" h="1613">
                <a:moveTo>
                  <a:pt x="7615" y="14734"/>
                </a:moveTo>
                <a:cubicBezTo>
                  <a:pt x="7607" y="14734"/>
                  <a:pt x="7598" y="14734"/>
                  <a:pt x="7590" y="14734"/>
                </a:cubicBezTo>
                <a:cubicBezTo>
                  <a:pt x="7605" y="14674"/>
                  <a:pt x="7628" y="14684"/>
                  <a:pt x="7689" y="14684"/>
                </a:cubicBezTo>
                <a:cubicBezTo>
                  <a:pt x="7779" y="14684"/>
                  <a:pt x="7815" y="14678"/>
                  <a:pt x="7863" y="14759"/>
                </a:cubicBezTo>
                <a:cubicBezTo>
                  <a:pt x="7882" y="14792"/>
                  <a:pt x="7914" y="14858"/>
                  <a:pt x="7863" y="14883"/>
                </a:cubicBezTo>
                <a:cubicBezTo>
                  <a:pt x="7799" y="14915"/>
                  <a:pt x="7668" y="14874"/>
                  <a:pt x="7615" y="14858"/>
                </a:cubicBezTo>
                <a:cubicBezTo>
                  <a:pt x="7607" y="14858"/>
                  <a:pt x="7598" y="14858"/>
                  <a:pt x="7590" y="14858"/>
                </a:cubicBezTo>
              </a:path>
              <a:path w="5507" h="1613">
                <a:moveTo>
                  <a:pt x="8111" y="14858"/>
                </a:moveTo>
                <a:cubicBezTo>
                  <a:pt x="8119" y="14866"/>
                  <a:pt x="8128" y="14875"/>
                  <a:pt x="8136" y="14883"/>
                </a:cubicBezTo>
              </a:path>
              <a:path w="5507" h="1613">
                <a:moveTo>
                  <a:pt x="8334" y="14660"/>
                </a:moveTo>
                <a:cubicBezTo>
                  <a:pt x="8298" y="14632"/>
                  <a:pt x="8296" y="14643"/>
                  <a:pt x="8285" y="14610"/>
                </a:cubicBezTo>
                <a:cubicBezTo>
                  <a:pt x="8291" y="14592"/>
                  <a:pt x="8328" y="14550"/>
                  <a:pt x="8359" y="14536"/>
                </a:cubicBezTo>
                <a:cubicBezTo>
                  <a:pt x="8399" y="14519"/>
                  <a:pt x="8445" y="14487"/>
                  <a:pt x="8483" y="14536"/>
                </a:cubicBezTo>
                <a:cubicBezTo>
                  <a:pt x="8540" y="14609"/>
                  <a:pt x="8494" y="14683"/>
                  <a:pt x="8483" y="14759"/>
                </a:cubicBezTo>
                <a:cubicBezTo>
                  <a:pt x="8478" y="14793"/>
                  <a:pt x="8439" y="14874"/>
                  <a:pt x="8458" y="14908"/>
                </a:cubicBezTo>
                <a:cubicBezTo>
                  <a:pt x="8490" y="14964"/>
                  <a:pt x="8567" y="14922"/>
                  <a:pt x="8607" y="14908"/>
                </a:cubicBezTo>
                <a:cubicBezTo>
                  <a:pt x="8682" y="14883"/>
                  <a:pt x="8706" y="14875"/>
                  <a:pt x="8756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714840" y="5749920"/>
            <a:ext cx="706320" cy="268200"/>
          </a:xfrm>
          <a:custGeom>
            <a:avLst/>
            <a:gdLst/>
            <a:ahLst/>
            <a:rect l="l" t="t" r="r" b="b"/>
            <a:pathLst>
              <a:path w="1960" h="745">
                <a:moveTo>
                  <a:pt x="10344" y="16024"/>
                </a:moveTo>
                <a:cubicBezTo>
                  <a:pt x="10368" y="15999"/>
                  <a:pt x="10376" y="15990"/>
                  <a:pt x="10393" y="15974"/>
                </a:cubicBezTo>
                <a:cubicBezTo>
                  <a:pt x="10357" y="16022"/>
                  <a:pt x="10362" y="16067"/>
                  <a:pt x="10344" y="16123"/>
                </a:cubicBezTo>
                <a:cubicBezTo>
                  <a:pt x="10318" y="16202"/>
                  <a:pt x="10319" y="16260"/>
                  <a:pt x="10319" y="16346"/>
                </a:cubicBezTo>
                <a:cubicBezTo>
                  <a:pt x="10319" y="16421"/>
                  <a:pt x="10316" y="16462"/>
                  <a:pt x="10368" y="16520"/>
                </a:cubicBezTo>
                <a:cubicBezTo>
                  <a:pt x="10402" y="16558"/>
                  <a:pt x="10436" y="16589"/>
                  <a:pt x="10492" y="16570"/>
                </a:cubicBezTo>
                <a:cubicBezTo>
                  <a:pt x="10537" y="16555"/>
                  <a:pt x="10552" y="16530"/>
                  <a:pt x="10592" y="16520"/>
                </a:cubicBezTo>
              </a:path>
              <a:path w="1960" h="745">
                <a:moveTo>
                  <a:pt x="10542" y="16272"/>
                </a:moveTo>
                <a:cubicBezTo>
                  <a:pt x="10542" y="16264"/>
                  <a:pt x="10542" y="16255"/>
                  <a:pt x="10542" y="16247"/>
                </a:cubicBezTo>
                <a:cubicBezTo>
                  <a:pt x="10481" y="16247"/>
                  <a:pt x="10492" y="16275"/>
                  <a:pt x="10443" y="16297"/>
                </a:cubicBezTo>
                <a:cubicBezTo>
                  <a:pt x="10400" y="16316"/>
                  <a:pt x="10357" y="16317"/>
                  <a:pt x="10319" y="16346"/>
                </a:cubicBezTo>
              </a:path>
              <a:path w="1960" h="745">
                <a:moveTo>
                  <a:pt x="10889" y="16272"/>
                </a:moveTo>
                <a:cubicBezTo>
                  <a:pt x="10836" y="16272"/>
                  <a:pt x="10807" y="16266"/>
                  <a:pt x="10765" y="16297"/>
                </a:cubicBezTo>
              </a:path>
              <a:path w="1960" h="745">
                <a:moveTo>
                  <a:pt x="10914" y="16421"/>
                </a:moveTo>
                <a:cubicBezTo>
                  <a:pt x="10922" y="16421"/>
                  <a:pt x="10931" y="16421"/>
                  <a:pt x="10939" y="16421"/>
                </a:cubicBezTo>
                <a:cubicBezTo>
                  <a:pt x="10886" y="16421"/>
                  <a:pt x="10857" y="16414"/>
                  <a:pt x="10815" y="16446"/>
                </a:cubicBezTo>
              </a:path>
              <a:path w="1960" h="745">
                <a:moveTo>
                  <a:pt x="11162" y="16272"/>
                </a:moveTo>
                <a:cubicBezTo>
                  <a:pt x="11174" y="16224"/>
                  <a:pt x="11208" y="16210"/>
                  <a:pt x="11261" y="16197"/>
                </a:cubicBezTo>
                <a:cubicBezTo>
                  <a:pt x="11288" y="16190"/>
                  <a:pt x="11398" y="16182"/>
                  <a:pt x="11410" y="16222"/>
                </a:cubicBezTo>
                <a:cubicBezTo>
                  <a:pt x="11425" y="16271"/>
                  <a:pt x="11404" y="16379"/>
                  <a:pt x="11385" y="16421"/>
                </a:cubicBezTo>
                <a:cubicBezTo>
                  <a:pt x="11362" y="16473"/>
                  <a:pt x="11317" y="16508"/>
                  <a:pt x="11311" y="16570"/>
                </a:cubicBezTo>
                <a:cubicBezTo>
                  <a:pt x="11311" y="16594"/>
                  <a:pt x="11311" y="16603"/>
                  <a:pt x="11311" y="16619"/>
                </a:cubicBezTo>
                <a:cubicBezTo>
                  <a:pt x="11417" y="16619"/>
                  <a:pt x="11510" y="16621"/>
                  <a:pt x="11609" y="16644"/>
                </a:cubicBezTo>
                <a:cubicBezTo>
                  <a:pt x="11633" y="16644"/>
                  <a:pt x="11642" y="16644"/>
                  <a:pt x="11658" y="16644"/>
                </a:cubicBezTo>
              </a:path>
              <a:path w="1960" h="745">
                <a:moveTo>
                  <a:pt x="11981" y="16297"/>
                </a:moveTo>
                <a:cubicBezTo>
                  <a:pt x="12014" y="16264"/>
                  <a:pt x="12047" y="16230"/>
                  <a:pt x="12080" y="16197"/>
                </a:cubicBezTo>
                <a:cubicBezTo>
                  <a:pt x="12042" y="16207"/>
                  <a:pt x="12011" y="16220"/>
                  <a:pt x="11981" y="16247"/>
                </a:cubicBezTo>
                <a:cubicBezTo>
                  <a:pt x="11949" y="16276"/>
                  <a:pt x="11911" y="16304"/>
                  <a:pt x="11906" y="16346"/>
                </a:cubicBezTo>
                <a:cubicBezTo>
                  <a:pt x="11902" y="16382"/>
                  <a:pt x="11950" y="16395"/>
                  <a:pt x="11981" y="16421"/>
                </a:cubicBezTo>
                <a:cubicBezTo>
                  <a:pt x="12036" y="16467"/>
                  <a:pt x="12070" y="16479"/>
                  <a:pt x="12105" y="16545"/>
                </a:cubicBezTo>
                <a:cubicBezTo>
                  <a:pt x="12142" y="16616"/>
                  <a:pt x="12154" y="16635"/>
                  <a:pt x="12154" y="16718"/>
                </a:cubicBezTo>
                <a:cubicBezTo>
                  <a:pt x="12104" y="16718"/>
                  <a:pt x="12070" y="16726"/>
                  <a:pt x="12030" y="16694"/>
                </a:cubicBezTo>
                <a:cubicBezTo>
                  <a:pt x="11999" y="16670"/>
                  <a:pt x="11994" y="16608"/>
                  <a:pt x="12005" y="16570"/>
                </a:cubicBezTo>
                <a:cubicBezTo>
                  <a:pt x="12028" y="16491"/>
                  <a:pt x="12123" y="16404"/>
                  <a:pt x="12179" y="16346"/>
                </a:cubicBezTo>
                <a:cubicBezTo>
                  <a:pt x="12217" y="16306"/>
                  <a:pt x="12232" y="16284"/>
                  <a:pt x="12278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5429520" cy="200016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 flipV="1">
            <a:off x="1908000" y="2060280"/>
            <a:ext cx="863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276720" y="1988640"/>
            <a:ext cx="7905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4360" y="306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92360" y="3860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he gradient is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45160" y="4027320"/>
            <a:ext cx="250920" cy="204840"/>
          </a:xfrm>
          <a:custGeom>
            <a:avLst/>
            <a:gdLst/>
            <a:ahLst/>
            <a:rect l="l" t="t" r="r" b="b"/>
            <a:pathLst>
              <a:path w="695" h="571">
                <a:moveTo>
                  <a:pt x="18852" y="11410"/>
                </a:moveTo>
                <a:cubicBezTo>
                  <a:pt x="18852" y="11385"/>
                  <a:pt x="18852" y="11361"/>
                  <a:pt x="18852" y="11336"/>
                </a:cubicBezTo>
                <a:cubicBezTo>
                  <a:pt x="18809" y="11347"/>
                  <a:pt x="18785" y="11376"/>
                  <a:pt x="18752" y="11410"/>
                </a:cubicBezTo>
                <a:cubicBezTo>
                  <a:pt x="18704" y="11458"/>
                  <a:pt x="18653" y="11491"/>
                  <a:pt x="18604" y="11534"/>
                </a:cubicBezTo>
                <a:cubicBezTo>
                  <a:pt x="18551" y="11581"/>
                  <a:pt x="18524" y="11632"/>
                  <a:pt x="18479" y="11683"/>
                </a:cubicBezTo>
                <a:cubicBezTo>
                  <a:pt x="18451" y="11715"/>
                  <a:pt x="18440" y="11729"/>
                  <a:pt x="18430" y="11757"/>
                </a:cubicBezTo>
              </a:path>
              <a:path w="695" h="571">
                <a:moveTo>
                  <a:pt x="18876" y="11757"/>
                </a:moveTo>
                <a:cubicBezTo>
                  <a:pt x="18845" y="11716"/>
                  <a:pt x="18841" y="11709"/>
                  <a:pt x="18802" y="11683"/>
                </a:cubicBezTo>
                <a:cubicBezTo>
                  <a:pt x="18764" y="11657"/>
                  <a:pt x="18713" y="11612"/>
                  <a:pt x="18678" y="11584"/>
                </a:cubicBezTo>
                <a:cubicBezTo>
                  <a:pt x="18596" y="11516"/>
                  <a:pt x="18513" y="11452"/>
                  <a:pt x="18430" y="11385"/>
                </a:cubicBezTo>
                <a:cubicBezTo>
                  <a:pt x="18366" y="11333"/>
                  <a:pt x="18291" y="11291"/>
                  <a:pt x="18231" y="11237"/>
                </a:cubicBezTo>
                <a:cubicBezTo>
                  <a:pt x="18207" y="11212"/>
                  <a:pt x="18199" y="11203"/>
                  <a:pt x="18182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69120" y="1874880"/>
            <a:ext cx="241200" cy="206280"/>
          </a:xfrm>
          <a:custGeom>
            <a:avLst/>
            <a:gdLst/>
            <a:ahLst/>
            <a:rect l="l" t="t" r="r" b="b"/>
            <a:pathLst>
              <a:path w="671" h="571">
                <a:moveTo>
                  <a:pt x="20762" y="5358"/>
                </a:moveTo>
                <a:cubicBezTo>
                  <a:pt x="20774" y="5320"/>
                  <a:pt x="20791" y="5333"/>
                  <a:pt x="20836" y="5333"/>
                </a:cubicBezTo>
                <a:cubicBezTo>
                  <a:pt x="20844" y="5333"/>
                  <a:pt x="20853" y="5333"/>
                  <a:pt x="20861" y="5333"/>
                </a:cubicBezTo>
                <a:cubicBezTo>
                  <a:pt x="20846" y="5377"/>
                  <a:pt x="20799" y="5364"/>
                  <a:pt x="20762" y="5407"/>
                </a:cubicBezTo>
                <a:cubicBezTo>
                  <a:pt x="20713" y="5465"/>
                  <a:pt x="20655" y="5533"/>
                  <a:pt x="20588" y="5581"/>
                </a:cubicBezTo>
                <a:cubicBezTo>
                  <a:pt x="20525" y="5627"/>
                  <a:pt x="20488" y="5671"/>
                  <a:pt x="20439" y="5730"/>
                </a:cubicBezTo>
                <a:cubicBezTo>
                  <a:pt x="20418" y="5755"/>
                  <a:pt x="20414" y="5797"/>
                  <a:pt x="20414" y="5755"/>
                </a:cubicBezTo>
              </a:path>
              <a:path w="671" h="571">
                <a:moveTo>
                  <a:pt x="20861" y="5705"/>
                </a:moveTo>
                <a:cubicBezTo>
                  <a:pt x="20861" y="5671"/>
                  <a:pt x="20874" y="5625"/>
                  <a:pt x="20836" y="5606"/>
                </a:cubicBezTo>
                <a:cubicBezTo>
                  <a:pt x="20795" y="5586"/>
                  <a:pt x="20758" y="5555"/>
                  <a:pt x="20712" y="5531"/>
                </a:cubicBezTo>
                <a:cubicBezTo>
                  <a:pt x="20631" y="5489"/>
                  <a:pt x="20562" y="5435"/>
                  <a:pt x="20489" y="5383"/>
                </a:cubicBezTo>
                <a:cubicBezTo>
                  <a:pt x="20426" y="5339"/>
                  <a:pt x="20355" y="5298"/>
                  <a:pt x="20290" y="5259"/>
                </a:cubicBezTo>
                <a:cubicBezTo>
                  <a:pt x="20253" y="5237"/>
                  <a:pt x="20228" y="5218"/>
                  <a:pt x="20191" y="5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13240" y="901800"/>
            <a:ext cx="3446640" cy="3241440"/>
          </a:xfrm>
          <a:custGeom>
            <a:avLst/>
            <a:gdLst/>
            <a:ahLst/>
            <a:rect l="l" t="t" r="r" b="b"/>
            <a:pathLst>
              <a:path w="9575" h="9005">
                <a:moveTo>
                  <a:pt x="18579" y="11435"/>
                </a:moveTo>
                <a:cubicBezTo>
                  <a:pt x="18543" y="11425"/>
                  <a:pt x="18514" y="11420"/>
                  <a:pt x="18479" y="11410"/>
                </a:cubicBezTo>
                <a:cubicBezTo>
                  <a:pt x="18439" y="11399"/>
                  <a:pt x="18395" y="11396"/>
                  <a:pt x="18355" y="11385"/>
                </a:cubicBezTo>
                <a:cubicBezTo>
                  <a:pt x="18292" y="11368"/>
                  <a:pt x="18241" y="11353"/>
                  <a:pt x="18182" y="11336"/>
                </a:cubicBezTo>
                <a:cubicBezTo>
                  <a:pt x="18135" y="11323"/>
                  <a:pt x="18079" y="11325"/>
                  <a:pt x="18033" y="11311"/>
                </a:cubicBezTo>
                <a:cubicBezTo>
                  <a:pt x="17984" y="11296"/>
                  <a:pt x="17937" y="11275"/>
                  <a:pt x="17884" y="11261"/>
                </a:cubicBezTo>
                <a:cubicBezTo>
                  <a:pt x="17847" y="11251"/>
                  <a:pt x="17801" y="11224"/>
                  <a:pt x="17760" y="11212"/>
                </a:cubicBezTo>
                <a:cubicBezTo>
                  <a:pt x="17706" y="11196"/>
                  <a:pt x="17669" y="11179"/>
                  <a:pt x="17611" y="11162"/>
                </a:cubicBezTo>
                <a:cubicBezTo>
                  <a:pt x="17568" y="11149"/>
                  <a:pt x="17528" y="11126"/>
                  <a:pt x="17487" y="11112"/>
                </a:cubicBezTo>
                <a:cubicBezTo>
                  <a:pt x="17434" y="11094"/>
                  <a:pt x="17389" y="11084"/>
                  <a:pt x="17338" y="11063"/>
                </a:cubicBezTo>
                <a:cubicBezTo>
                  <a:pt x="17298" y="11046"/>
                  <a:pt x="17252" y="11030"/>
                  <a:pt x="17214" y="11013"/>
                </a:cubicBezTo>
                <a:cubicBezTo>
                  <a:pt x="17180" y="10998"/>
                  <a:pt x="17150" y="10981"/>
                  <a:pt x="17115" y="10964"/>
                </a:cubicBezTo>
                <a:cubicBezTo>
                  <a:pt x="17073" y="10943"/>
                  <a:pt x="17034" y="10912"/>
                  <a:pt x="16991" y="10889"/>
                </a:cubicBezTo>
                <a:cubicBezTo>
                  <a:pt x="16960" y="10872"/>
                  <a:pt x="16925" y="10857"/>
                  <a:pt x="16892" y="10840"/>
                </a:cubicBezTo>
                <a:cubicBezTo>
                  <a:pt x="16850" y="10818"/>
                  <a:pt x="16810" y="10788"/>
                  <a:pt x="16768" y="10765"/>
                </a:cubicBezTo>
                <a:cubicBezTo>
                  <a:pt x="16728" y="10743"/>
                  <a:pt x="16735" y="10741"/>
                  <a:pt x="16694" y="10716"/>
                </a:cubicBezTo>
                <a:cubicBezTo>
                  <a:pt x="16673" y="10703"/>
                  <a:pt x="16627" y="10671"/>
                  <a:pt x="16619" y="10666"/>
                </a:cubicBezTo>
                <a:cubicBezTo>
                  <a:pt x="16586" y="10647"/>
                  <a:pt x="16571" y="10662"/>
                  <a:pt x="16545" y="10641"/>
                </a:cubicBezTo>
                <a:cubicBezTo>
                  <a:pt x="16513" y="10615"/>
                  <a:pt x="16492" y="10587"/>
                  <a:pt x="16470" y="10567"/>
                </a:cubicBezTo>
                <a:cubicBezTo>
                  <a:pt x="16414" y="10516"/>
                  <a:pt x="16365" y="10439"/>
                  <a:pt x="16321" y="10393"/>
                </a:cubicBezTo>
                <a:cubicBezTo>
                  <a:pt x="16303" y="10375"/>
                  <a:pt x="16265" y="10341"/>
                  <a:pt x="16247" y="10319"/>
                </a:cubicBezTo>
                <a:cubicBezTo>
                  <a:pt x="16177" y="10234"/>
                  <a:pt x="16105" y="10160"/>
                  <a:pt x="16049" y="10071"/>
                </a:cubicBezTo>
                <a:cubicBezTo>
                  <a:pt x="16027" y="10037"/>
                  <a:pt x="15998" y="9986"/>
                  <a:pt x="15974" y="9947"/>
                </a:cubicBezTo>
                <a:cubicBezTo>
                  <a:pt x="15938" y="9888"/>
                  <a:pt x="15907" y="9828"/>
                  <a:pt x="15875" y="9773"/>
                </a:cubicBezTo>
                <a:cubicBezTo>
                  <a:pt x="15849" y="9728"/>
                  <a:pt x="15829" y="9696"/>
                  <a:pt x="15801" y="9649"/>
                </a:cubicBezTo>
                <a:cubicBezTo>
                  <a:pt x="15774" y="9604"/>
                  <a:pt x="15747" y="9567"/>
                  <a:pt x="15726" y="9525"/>
                </a:cubicBezTo>
                <a:cubicBezTo>
                  <a:pt x="15704" y="9481"/>
                  <a:pt x="15696" y="9440"/>
                  <a:pt x="15677" y="9401"/>
                </a:cubicBezTo>
                <a:cubicBezTo>
                  <a:pt x="15658" y="9362"/>
                  <a:pt x="15645" y="9313"/>
                  <a:pt x="15627" y="9277"/>
                </a:cubicBezTo>
                <a:cubicBezTo>
                  <a:pt x="15602" y="9228"/>
                  <a:pt x="15575" y="9172"/>
                  <a:pt x="15553" y="9128"/>
                </a:cubicBezTo>
                <a:cubicBezTo>
                  <a:pt x="15532" y="9086"/>
                  <a:pt x="15495" y="9045"/>
                  <a:pt x="15478" y="9004"/>
                </a:cubicBezTo>
                <a:cubicBezTo>
                  <a:pt x="15458" y="8955"/>
                  <a:pt x="15422" y="8924"/>
                  <a:pt x="15404" y="8880"/>
                </a:cubicBezTo>
                <a:cubicBezTo>
                  <a:pt x="15385" y="8835"/>
                  <a:pt x="15401" y="8774"/>
                  <a:pt x="15379" y="8731"/>
                </a:cubicBezTo>
                <a:cubicBezTo>
                  <a:pt x="15355" y="8684"/>
                  <a:pt x="15323" y="8655"/>
                  <a:pt x="15304" y="8607"/>
                </a:cubicBezTo>
                <a:cubicBezTo>
                  <a:pt x="15284" y="8558"/>
                  <a:pt x="15274" y="8507"/>
                  <a:pt x="15255" y="8458"/>
                </a:cubicBezTo>
                <a:cubicBezTo>
                  <a:pt x="15229" y="8394"/>
                  <a:pt x="15201" y="8327"/>
                  <a:pt x="15180" y="8260"/>
                </a:cubicBezTo>
                <a:cubicBezTo>
                  <a:pt x="15165" y="8212"/>
                  <a:pt x="15169" y="8159"/>
                  <a:pt x="15156" y="8111"/>
                </a:cubicBezTo>
                <a:cubicBezTo>
                  <a:pt x="15136" y="8036"/>
                  <a:pt x="15124" y="7963"/>
                  <a:pt x="15106" y="7888"/>
                </a:cubicBezTo>
                <a:cubicBezTo>
                  <a:pt x="15088" y="7812"/>
                  <a:pt x="15068" y="7743"/>
                  <a:pt x="15056" y="7665"/>
                </a:cubicBezTo>
                <a:cubicBezTo>
                  <a:pt x="15047" y="7605"/>
                  <a:pt x="15040" y="7550"/>
                  <a:pt x="15032" y="7491"/>
                </a:cubicBezTo>
                <a:cubicBezTo>
                  <a:pt x="15025" y="7438"/>
                  <a:pt x="15014" y="7393"/>
                  <a:pt x="15007" y="7342"/>
                </a:cubicBezTo>
                <a:cubicBezTo>
                  <a:pt x="14999" y="7285"/>
                  <a:pt x="14985" y="7223"/>
                  <a:pt x="14982" y="7169"/>
                </a:cubicBezTo>
                <a:cubicBezTo>
                  <a:pt x="14974" y="7032"/>
                  <a:pt x="14973" y="6904"/>
                  <a:pt x="14957" y="6772"/>
                </a:cubicBezTo>
                <a:cubicBezTo>
                  <a:pt x="14950" y="6714"/>
                  <a:pt x="14940" y="6684"/>
                  <a:pt x="14932" y="6623"/>
                </a:cubicBezTo>
                <a:cubicBezTo>
                  <a:pt x="14922" y="6547"/>
                  <a:pt x="14918" y="6474"/>
                  <a:pt x="14908" y="6400"/>
                </a:cubicBezTo>
                <a:cubicBezTo>
                  <a:pt x="14888" y="6242"/>
                  <a:pt x="14864" y="6068"/>
                  <a:pt x="14858" y="5904"/>
                </a:cubicBezTo>
                <a:cubicBezTo>
                  <a:pt x="14850" y="5706"/>
                  <a:pt x="14898" y="5539"/>
                  <a:pt x="14908" y="5358"/>
                </a:cubicBezTo>
                <a:cubicBezTo>
                  <a:pt x="14929" y="4993"/>
                  <a:pt x="14906" y="4617"/>
                  <a:pt x="14858" y="4266"/>
                </a:cubicBezTo>
                <a:cubicBezTo>
                  <a:pt x="14847" y="4184"/>
                  <a:pt x="14850" y="4099"/>
                  <a:pt x="14833" y="4018"/>
                </a:cubicBezTo>
                <a:cubicBezTo>
                  <a:pt x="14810" y="3905"/>
                  <a:pt x="14767" y="3782"/>
                  <a:pt x="14759" y="3671"/>
                </a:cubicBezTo>
                <a:cubicBezTo>
                  <a:pt x="14754" y="3605"/>
                  <a:pt x="14761" y="3539"/>
                  <a:pt x="14759" y="3473"/>
                </a:cubicBezTo>
              </a:path>
              <a:path w="9575" h="9005">
                <a:moveTo>
                  <a:pt x="20563" y="5606"/>
                </a:moveTo>
                <a:cubicBezTo>
                  <a:pt x="20563" y="5614"/>
                  <a:pt x="20563" y="5623"/>
                  <a:pt x="20563" y="5631"/>
                </a:cubicBezTo>
                <a:cubicBezTo>
                  <a:pt x="20535" y="5638"/>
                  <a:pt x="20534" y="5640"/>
                  <a:pt x="20513" y="5655"/>
                </a:cubicBezTo>
                <a:cubicBezTo>
                  <a:pt x="20513" y="5680"/>
                  <a:pt x="20513" y="5705"/>
                  <a:pt x="20513" y="5730"/>
                </a:cubicBezTo>
                <a:cubicBezTo>
                  <a:pt x="20507" y="5744"/>
                  <a:pt x="20496" y="5765"/>
                  <a:pt x="20489" y="5804"/>
                </a:cubicBezTo>
                <a:cubicBezTo>
                  <a:pt x="20486" y="5818"/>
                  <a:pt x="20470" y="5912"/>
                  <a:pt x="20464" y="5928"/>
                </a:cubicBezTo>
                <a:cubicBezTo>
                  <a:pt x="20450" y="5966"/>
                  <a:pt x="20421" y="5985"/>
                  <a:pt x="20414" y="6028"/>
                </a:cubicBezTo>
                <a:cubicBezTo>
                  <a:pt x="20331" y="6525"/>
                  <a:pt x="20414" y="7110"/>
                  <a:pt x="20414" y="7615"/>
                </a:cubicBezTo>
                <a:cubicBezTo>
                  <a:pt x="20418" y="7648"/>
                  <a:pt x="20443" y="7656"/>
                  <a:pt x="20439" y="7689"/>
                </a:cubicBezTo>
                <a:cubicBezTo>
                  <a:pt x="20433" y="7740"/>
                  <a:pt x="20416" y="7796"/>
                  <a:pt x="20414" y="7838"/>
                </a:cubicBezTo>
                <a:cubicBezTo>
                  <a:pt x="20410" y="7919"/>
                  <a:pt x="20401" y="7994"/>
                  <a:pt x="20389" y="8062"/>
                </a:cubicBezTo>
                <a:cubicBezTo>
                  <a:pt x="20382" y="8102"/>
                  <a:pt x="20374" y="8124"/>
                  <a:pt x="20365" y="8161"/>
                </a:cubicBezTo>
                <a:cubicBezTo>
                  <a:pt x="20354" y="8205"/>
                  <a:pt x="20343" y="8272"/>
                  <a:pt x="20340" y="8310"/>
                </a:cubicBezTo>
                <a:cubicBezTo>
                  <a:pt x="20329" y="8438"/>
                  <a:pt x="20323" y="8592"/>
                  <a:pt x="20315" y="8706"/>
                </a:cubicBezTo>
                <a:cubicBezTo>
                  <a:pt x="20310" y="8786"/>
                  <a:pt x="20294" y="8888"/>
                  <a:pt x="20290" y="8954"/>
                </a:cubicBezTo>
                <a:cubicBezTo>
                  <a:pt x="20270" y="9248"/>
                  <a:pt x="20284" y="9568"/>
                  <a:pt x="20265" y="9847"/>
                </a:cubicBezTo>
                <a:cubicBezTo>
                  <a:pt x="20262" y="9896"/>
                  <a:pt x="20267" y="9947"/>
                  <a:pt x="20265" y="9996"/>
                </a:cubicBezTo>
                <a:cubicBezTo>
                  <a:pt x="20260" y="10010"/>
                  <a:pt x="20248" y="10032"/>
                  <a:pt x="20241" y="10071"/>
                </a:cubicBezTo>
                <a:cubicBezTo>
                  <a:pt x="20235" y="10103"/>
                  <a:pt x="20224" y="10156"/>
                  <a:pt x="20216" y="10195"/>
                </a:cubicBezTo>
                <a:cubicBezTo>
                  <a:pt x="20211" y="10219"/>
                  <a:pt x="20201" y="10290"/>
                  <a:pt x="20191" y="10319"/>
                </a:cubicBezTo>
                <a:cubicBezTo>
                  <a:pt x="20179" y="10352"/>
                  <a:pt x="20150" y="10386"/>
                  <a:pt x="20141" y="10418"/>
                </a:cubicBezTo>
                <a:cubicBezTo>
                  <a:pt x="20131" y="10455"/>
                  <a:pt x="20131" y="10483"/>
                  <a:pt x="20117" y="10517"/>
                </a:cubicBezTo>
                <a:cubicBezTo>
                  <a:pt x="20103" y="10550"/>
                  <a:pt x="20080" y="10583"/>
                  <a:pt x="20067" y="10616"/>
                </a:cubicBezTo>
                <a:cubicBezTo>
                  <a:pt x="20057" y="10640"/>
                  <a:pt x="20053" y="10668"/>
                  <a:pt x="20042" y="10691"/>
                </a:cubicBezTo>
                <a:cubicBezTo>
                  <a:pt x="20037" y="10701"/>
                  <a:pt x="20005" y="10735"/>
                  <a:pt x="19993" y="10765"/>
                </a:cubicBezTo>
                <a:cubicBezTo>
                  <a:pt x="19983" y="10789"/>
                  <a:pt x="19978" y="10816"/>
                  <a:pt x="19968" y="10840"/>
                </a:cubicBezTo>
                <a:cubicBezTo>
                  <a:pt x="19948" y="10860"/>
                  <a:pt x="19920" y="10854"/>
                  <a:pt x="19893" y="10889"/>
                </a:cubicBezTo>
                <a:cubicBezTo>
                  <a:pt x="19893" y="10897"/>
                  <a:pt x="19893" y="10906"/>
                  <a:pt x="19893" y="10914"/>
                </a:cubicBezTo>
                <a:cubicBezTo>
                  <a:pt x="19867" y="10921"/>
                  <a:pt x="19864" y="10924"/>
                  <a:pt x="19844" y="10939"/>
                </a:cubicBezTo>
                <a:cubicBezTo>
                  <a:pt x="19830" y="10953"/>
                  <a:pt x="19784" y="10999"/>
                  <a:pt x="19769" y="11013"/>
                </a:cubicBezTo>
                <a:cubicBezTo>
                  <a:pt x="19749" y="11033"/>
                  <a:pt x="19755" y="11061"/>
                  <a:pt x="19720" y="11088"/>
                </a:cubicBezTo>
                <a:cubicBezTo>
                  <a:pt x="19712" y="11088"/>
                  <a:pt x="19703" y="11088"/>
                  <a:pt x="19695" y="11088"/>
                </a:cubicBezTo>
                <a:cubicBezTo>
                  <a:pt x="19688" y="11114"/>
                  <a:pt x="19685" y="11117"/>
                  <a:pt x="19670" y="11137"/>
                </a:cubicBezTo>
                <a:cubicBezTo>
                  <a:pt x="19643" y="11144"/>
                  <a:pt x="19641" y="11146"/>
                  <a:pt x="19621" y="11162"/>
                </a:cubicBezTo>
                <a:cubicBezTo>
                  <a:pt x="19603" y="11187"/>
                  <a:pt x="19566" y="11230"/>
                  <a:pt x="19546" y="11261"/>
                </a:cubicBezTo>
                <a:cubicBezTo>
                  <a:pt x="19523" y="11284"/>
                  <a:pt x="19515" y="11288"/>
                  <a:pt x="19521" y="11311"/>
                </a:cubicBezTo>
                <a:cubicBezTo>
                  <a:pt x="19494" y="11318"/>
                  <a:pt x="19492" y="11320"/>
                  <a:pt x="19472" y="11336"/>
                </a:cubicBezTo>
                <a:cubicBezTo>
                  <a:pt x="19465" y="11363"/>
                  <a:pt x="19463" y="11365"/>
                  <a:pt x="19447" y="11385"/>
                </a:cubicBezTo>
                <a:cubicBezTo>
                  <a:pt x="19420" y="11392"/>
                  <a:pt x="19418" y="11394"/>
                  <a:pt x="19397" y="11410"/>
                </a:cubicBezTo>
                <a:cubicBezTo>
                  <a:pt x="19385" y="11417"/>
                  <a:pt x="19350" y="11446"/>
                  <a:pt x="19323" y="11460"/>
                </a:cubicBezTo>
                <a:cubicBezTo>
                  <a:pt x="19282" y="11481"/>
                  <a:pt x="19244" y="11500"/>
                  <a:pt x="19199" y="11509"/>
                </a:cubicBezTo>
                <a:cubicBezTo>
                  <a:pt x="19168" y="11516"/>
                  <a:pt x="19132" y="11506"/>
                  <a:pt x="19100" y="11509"/>
                </a:cubicBezTo>
                <a:cubicBezTo>
                  <a:pt x="19067" y="11503"/>
                  <a:pt x="19058" y="11486"/>
                  <a:pt x="19025" y="11485"/>
                </a:cubicBezTo>
                <a:cubicBezTo>
                  <a:pt x="18966" y="11483"/>
                  <a:pt x="18896" y="11463"/>
                  <a:pt x="18852" y="11460"/>
                </a:cubicBezTo>
                <a:cubicBezTo>
                  <a:pt x="18811" y="11457"/>
                  <a:pt x="18769" y="11462"/>
                  <a:pt x="18728" y="11460"/>
                </a:cubicBezTo>
              </a:path>
              <a:path w="9575" h="9005">
                <a:moveTo>
                  <a:pt x="20762" y="5432"/>
                </a:moveTo>
                <a:cubicBezTo>
                  <a:pt x="20762" y="5457"/>
                  <a:pt x="20762" y="5465"/>
                  <a:pt x="20737" y="5457"/>
                </a:cubicBezTo>
                <a:cubicBezTo>
                  <a:pt x="20744" y="5431"/>
                  <a:pt x="20753" y="5389"/>
                  <a:pt x="20762" y="5358"/>
                </a:cubicBezTo>
                <a:cubicBezTo>
                  <a:pt x="20769" y="5334"/>
                  <a:pt x="20779" y="5311"/>
                  <a:pt x="20786" y="5283"/>
                </a:cubicBezTo>
                <a:cubicBezTo>
                  <a:pt x="20798" y="5252"/>
                  <a:pt x="20797" y="5239"/>
                  <a:pt x="20811" y="5209"/>
                </a:cubicBezTo>
                <a:cubicBezTo>
                  <a:pt x="20830" y="5167"/>
                  <a:pt x="20850" y="5130"/>
                  <a:pt x="20861" y="5085"/>
                </a:cubicBezTo>
                <a:cubicBezTo>
                  <a:pt x="20869" y="5052"/>
                  <a:pt x="20879" y="5013"/>
                  <a:pt x="20886" y="4986"/>
                </a:cubicBezTo>
                <a:cubicBezTo>
                  <a:pt x="20895" y="4949"/>
                  <a:pt x="20893" y="4920"/>
                  <a:pt x="20910" y="4887"/>
                </a:cubicBezTo>
                <a:cubicBezTo>
                  <a:pt x="20928" y="4853"/>
                  <a:pt x="20970" y="4823"/>
                  <a:pt x="20985" y="4787"/>
                </a:cubicBezTo>
                <a:cubicBezTo>
                  <a:pt x="20998" y="4756"/>
                  <a:pt x="20996" y="4719"/>
                  <a:pt x="21010" y="4688"/>
                </a:cubicBezTo>
                <a:cubicBezTo>
                  <a:pt x="21026" y="4653"/>
                  <a:pt x="21045" y="4624"/>
                  <a:pt x="21059" y="4589"/>
                </a:cubicBezTo>
                <a:cubicBezTo>
                  <a:pt x="21072" y="4557"/>
                  <a:pt x="21094" y="4492"/>
                  <a:pt x="21109" y="4465"/>
                </a:cubicBezTo>
                <a:cubicBezTo>
                  <a:pt x="21127" y="4433"/>
                  <a:pt x="21169" y="4400"/>
                  <a:pt x="21183" y="4366"/>
                </a:cubicBezTo>
                <a:cubicBezTo>
                  <a:pt x="21194" y="4340"/>
                  <a:pt x="21194" y="4289"/>
                  <a:pt x="21208" y="4266"/>
                </a:cubicBezTo>
                <a:cubicBezTo>
                  <a:pt x="21230" y="4228"/>
                  <a:pt x="21261" y="4204"/>
                  <a:pt x="21282" y="4167"/>
                </a:cubicBezTo>
                <a:cubicBezTo>
                  <a:pt x="21296" y="4141"/>
                  <a:pt x="21321" y="4097"/>
                  <a:pt x="21332" y="4068"/>
                </a:cubicBezTo>
                <a:cubicBezTo>
                  <a:pt x="21345" y="4035"/>
                  <a:pt x="21340" y="4000"/>
                  <a:pt x="21357" y="3969"/>
                </a:cubicBezTo>
                <a:cubicBezTo>
                  <a:pt x="21378" y="3930"/>
                  <a:pt x="21405" y="3908"/>
                  <a:pt x="21431" y="3870"/>
                </a:cubicBezTo>
                <a:cubicBezTo>
                  <a:pt x="21449" y="3844"/>
                  <a:pt x="21486" y="3802"/>
                  <a:pt x="21506" y="3770"/>
                </a:cubicBezTo>
                <a:cubicBezTo>
                  <a:pt x="21553" y="3695"/>
                  <a:pt x="21596" y="3663"/>
                  <a:pt x="21654" y="3597"/>
                </a:cubicBezTo>
                <a:cubicBezTo>
                  <a:pt x="21699" y="3546"/>
                  <a:pt x="21730" y="3498"/>
                  <a:pt x="21779" y="3448"/>
                </a:cubicBezTo>
                <a:cubicBezTo>
                  <a:pt x="21821" y="3406"/>
                  <a:pt x="21870" y="3399"/>
                  <a:pt x="21903" y="3373"/>
                </a:cubicBezTo>
                <a:cubicBezTo>
                  <a:pt x="21936" y="3347"/>
                  <a:pt x="21974" y="3319"/>
                  <a:pt x="22002" y="3299"/>
                </a:cubicBezTo>
                <a:cubicBezTo>
                  <a:pt x="22041" y="3271"/>
                  <a:pt x="22061" y="3247"/>
                  <a:pt x="22101" y="3225"/>
                </a:cubicBezTo>
                <a:cubicBezTo>
                  <a:pt x="22121" y="3214"/>
                  <a:pt x="22154" y="3210"/>
                  <a:pt x="22175" y="3200"/>
                </a:cubicBezTo>
                <a:cubicBezTo>
                  <a:pt x="22199" y="3181"/>
                  <a:pt x="22209" y="3144"/>
                  <a:pt x="22250" y="3125"/>
                </a:cubicBezTo>
                <a:cubicBezTo>
                  <a:pt x="22266" y="3125"/>
                  <a:pt x="22283" y="3125"/>
                  <a:pt x="22299" y="3125"/>
                </a:cubicBezTo>
                <a:cubicBezTo>
                  <a:pt x="22306" y="3122"/>
                  <a:pt x="22370" y="3089"/>
                  <a:pt x="22399" y="3076"/>
                </a:cubicBezTo>
                <a:cubicBezTo>
                  <a:pt x="22428" y="3063"/>
                  <a:pt x="22469" y="3035"/>
                  <a:pt x="22498" y="3026"/>
                </a:cubicBezTo>
                <a:cubicBezTo>
                  <a:pt x="22539" y="3014"/>
                  <a:pt x="22602" y="3016"/>
                  <a:pt x="22647" y="3001"/>
                </a:cubicBezTo>
                <a:cubicBezTo>
                  <a:pt x="22695" y="2985"/>
                  <a:pt x="22727" y="2964"/>
                  <a:pt x="22771" y="2952"/>
                </a:cubicBezTo>
                <a:cubicBezTo>
                  <a:pt x="22821" y="2938"/>
                  <a:pt x="22850" y="2917"/>
                  <a:pt x="22895" y="2902"/>
                </a:cubicBezTo>
                <a:cubicBezTo>
                  <a:pt x="22929" y="2891"/>
                  <a:pt x="22961" y="2886"/>
                  <a:pt x="22994" y="2877"/>
                </a:cubicBezTo>
                <a:cubicBezTo>
                  <a:pt x="23048" y="2862"/>
                  <a:pt x="23092" y="2821"/>
                  <a:pt x="23143" y="2803"/>
                </a:cubicBezTo>
                <a:cubicBezTo>
                  <a:pt x="23175" y="2791"/>
                  <a:pt x="23210" y="2787"/>
                  <a:pt x="23242" y="2778"/>
                </a:cubicBezTo>
                <a:cubicBezTo>
                  <a:pt x="23278" y="2768"/>
                  <a:pt x="23306" y="2762"/>
                  <a:pt x="23341" y="2753"/>
                </a:cubicBezTo>
                <a:cubicBezTo>
                  <a:pt x="23371" y="2746"/>
                  <a:pt x="23410" y="2741"/>
                  <a:pt x="23440" y="2729"/>
                </a:cubicBezTo>
                <a:cubicBezTo>
                  <a:pt x="23473" y="2716"/>
                  <a:pt x="23507" y="2690"/>
                  <a:pt x="23540" y="2679"/>
                </a:cubicBezTo>
                <a:cubicBezTo>
                  <a:pt x="23577" y="2667"/>
                  <a:pt x="23599" y="2662"/>
                  <a:pt x="23639" y="2654"/>
                </a:cubicBezTo>
                <a:cubicBezTo>
                  <a:pt x="23664" y="2654"/>
                  <a:pt x="23672" y="2654"/>
                  <a:pt x="23688" y="2654"/>
                </a:cubicBezTo>
                <a:cubicBezTo>
                  <a:pt x="23719" y="2642"/>
                  <a:pt x="23733" y="2643"/>
                  <a:pt x="23763" y="2629"/>
                </a:cubicBezTo>
                <a:cubicBezTo>
                  <a:pt x="23805" y="2611"/>
                  <a:pt x="23841" y="2589"/>
                  <a:pt x="23887" y="2580"/>
                </a:cubicBezTo>
                <a:cubicBezTo>
                  <a:pt x="23895" y="2580"/>
                  <a:pt x="23904" y="2580"/>
                  <a:pt x="23912" y="2580"/>
                </a:cubicBezTo>
                <a:cubicBezTo>
                  <a:pt x="23922" y="2578"/>
                  <a:pt x="23991" y="2556"/>
                  <a:pt x="24036" y="2555"/>
                </a:cubicBezTo>
                <a:cubicBezTo>
                  <a:pt x="24129" y="2553"/>
                  <a:pt x="24206" y="2561"/>
                  <a:pt x="24284" y="2530"/>
                </a:cubicBezTo>
                <a:cubicBezTo>
                  <a:pt x="24318" y="2516"/>
                  <a:pt x="24256" y="2528"/>
                  <a:pt x="24284" y="25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06800" y="1446120"/>
            <a:ext cx="403200" cy="260280"/>
          </a:xfrm>
          <a:custGeom>
            <a:avLst/>
            <a:gdLst/>
            <a:ahLst/>
            <a:rect l="l" t="t" r="r" b="b"/>
            <a:pathLst>
              <a:path w="1117" h="721">
                <a:moveTo>
                  <a:pt x="8706" y="4440"/>
                </a:moveTo>
                <a:cubicBezTo>
                  <a:pt x="8663" y="4440"/>
                  <a:pt x="8667" y="4441"/>
                  <a:pt x="8632" y="4415"/>
                </a:cubicBezTo>
                <a:cubicBezTo>
                  <a:pt x="8640" y="4382"/>
                  <a:pt x="8658" y="4322"/>
                  <a:pt x="8682" y="4291"/>
                </a:cubicBezTo>
                <a:cubicBezTo>
                  <a:pt x="8720" y="4241"/>
                  <a:pt x="8792" y="4181"/>
                  <a:pt x="8855" y="4167"/>
                </a:cubicBezTo>
                <a:cubicBezTo>
                  <a:pt x="8943" y="4147"/>
                  <a:pt x="8974" y="4280"/>
                  <a:pt x="8979" y="4341"/>
                </a:cubicBezTo>
                <a:cubicBezTo>
                  <a:pt x="8988" y="4466"/>
                  <a:pt x="8965" y="4510"/>
                  <a:pt x="8905" y="4614"/>
                </a:cubicBezTo>
                <a:cubicBezTo>
                  <a:pt x="8881" y="4655"/>
                  <a:pt x="8864" y="4693"/>
                  <a:pt x="8855" y="4738"/>
                </a:cubicBezTo>
                <a:cubicBezTo>
                  <a:pt x="8897" y="4738"/>
                  <a:pt x="8920" y="4728"/>
                  <a:pt x="8954" y="4713"/>
                </a:cubicBezTo>
                <a:cubicBezTo>
                  <a:pt x="9020" y="4684"/>
                  <a:pt x="9028" y="4663"/>
                  <a:pt x="9103" y="4663"/>
                </a:cubicBezTo>
                <a:cubicBezTo>
                  <a:pt x="9148" y="4663"/>
                  <a:pt x="9180" y="4638"/>
                  <a:pt x="9227" y="4638"/>
                </a:cubicBezTo>
              </a:path>
              <a:path w="1117" h="721">
                <a:moveTo>
                  <a:pt x="9302" y="4192"/>
                </a:moveTo>
                <a:cubicBezTo>
                  <a:pt x="9279" y="4169"/>
                  <a:pt x="9316" y="4115"/>
                  <a:pt x="9351" y="4068"/>
                </a:cubicBezTo>
                <a:cubicBezTo>
                  <a:pt x="9385" y="4022"/>
                  <a:pt x="9471" y="3997"/>
                  <a:pt x="9525" y="4018"/>
                </a:cubicBezTo>
                <a:cubicBezTo>
                  <a:pt x="9574" y="4037"/>
                  <a:pt x="9609" y="4119"/>
                  <a:pt x="9599" y="4167"/>
                </a:cubicBezTo>
                <a:cubicBezTo>
                  <a:pt x="9584" y="4236"/>
                  <a:pt x="9521" y="4277"/>
                  <a:pt x="9500" y="4341"/>
                </a:cubicBezTo>
                <a:cubicBezTo>
                  <a:pt x="9500" y="4349"/>
                  <a:pt x="9500" y="4358"/>
                  <a:pt x="9500" y="4366"/>
                </a:cubicBezTo>
                <a:cubicBezTo>
                  <a:pt x="9552" y="4396"/>
                  <a:pt x="9620" y="4390"/>
                  <a:pt x="9674" y="4415"/>
                </a:cubicBezTo>
                <a:cubicBezTo>
                  <a:pt x="9710" y="4432"/>
                  <a:pt x="9758" y="4464"/>
                  <a:pt x="9748" y="4514"/>
                </a:cubicBezTo>
                <a:cubicBezTo>
                  <a:pt x="9727" y="4621"/>
                  <a:pt x="9674" y="4647"/>
                  <a:pt x="9599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76800" y="1509840"/>
            <a:ext cx="420480" cy="222120"/>
          </a:xfrm>
          <a:custGeom>
            <a:avLst/>
            <a:gdLst/>
            <a:ahLst/>
            <a:rect l="l" t="t" r="r" b="b"/>
            <a:pathLst>
              <a:path w="1167" h="621">
                <a:moveTo>
                  <a:pt x="12105" y="4415"/>
                </a:moveTo>
                <a:cubicBezTo>
                  <a:pt x="12082" y="4438"/>
                  <a:pt x="12078" y="4446"/>
                  <a:pt x="12055" y="4440"/>
                </a:cubicBezTo>
                <a:cubicBezTo>
                  <a:pt x="12055" y="4394"/>
                  <a:pt x="12062" y="4369"/>
                  <a:pt x="12105" y="4341"/>
                </a:cubicBezTo>
                <a:cubicBezTo>
                  <a:pt x="12143" y="4316"/>
                  <a:pt x="12232" y="4251"/>
                  <a:pt x="12278" y="4266"/>
                </a:cubicBezTo>
                <a:cubicBezTo>
                  <a:pt x="12333" y="4285"/>
                  <a:pt x="12328" y="4346"/>
                  <a:pt x="12328" y="4390"/>
                </a:cubicBezTo>
                <a:cubicBezTo>
                  <a:pt x="12328" y="4477"/>
                  <a:pt x="12315" y="4534"/>
                  <a:pt x="12278" y="4614"/>
                </a:cubicBezTo>
                <a:cubicBezTo>
                  <a:pt x="12256" y="4661"/>
                  <a:pt x="12209" y="4715"/>
                  <a:pt x="12204" y="4762"/>
                </a:cubicBezTo>
                <a:cubicBezTo>
                  <a:pt x="12204" y="4770"/>
                  <a:pt x="12204" y="4779"/>
                  <a:pt x="12204" y="4787"/>
                </a:cubicBezTo>
                <a:cubicBezTo>
                  <a:pt x="12267" y="4787"/>
                  <a:pt x="12294" y="4767"/>
                  <a:pt x="12353" y="4762"/>
                </a:cubicBezTo>
                <a:cubicBezTo>
                  <a:pt x="12407" y="4758"/>
                  <a:pt x="12433" y="4770"/>
                  <a:pt x="12477" y="4738"/>
                </a:cubicBezTo>
              </a:path>
              <a:path w="1167" h="621">
                <a:moveTo>
                  <a:pt x="12675" y="4366"/>
                </a:moveTo>
                <a:cubicBezTo>
                  <a:pt x="12717" y="4330"/>
                  <a:pt x="12789" y="4277"/>
                  <a:pt x="12750" y="4316"/>
                </a:cubicBezTo>
                <a:cubicBezTo>
                  <a:pt x="12714" y="4352"/>
                  <a:pt x="12666" y="4416"/>
                  <a:pt x="12650" y="4465"/>
                </a:cubicBezTo>
                <a:cubicBezTo>
                  <a:pt x="12650" y="4490"/>
                  <a:pt x="12650" y="4498"/>
                  <a:pt x="12650" y="4514"/>
                </a:cubicBezTo>
                <a:cubicBezTo>
                  <a:pt x="12705" y="4514"/>
                  <a:pt x="12744" y="4536"/>
                  <a:pt x="12799" y="4539"/>
                </a:cubicBezTo>
                <a:cubicBezTo>
                  <a:pt x="12867" y="4543"/>
                  <a:pt x="12876" y="4568"/>
                  <a:pt x="12923" y="4614"/>
                </a:cubicBezTo>
                <a:cubicBezTo>
                  <a:pt x="12976" y="4666"/>
                  <a:pt x="12939" y="4691"/>
                  <a:pt x="12923" y="4738"/>
                </a:cubicBezTo>
                <a:cubicBezTo>
                  <a:pt x="12917" y="4757"/>
                  <a:pt x="12835" y="4780"/>
                  <a:pt x="12799" y="4787"/>
                </a:cubicBezTo>
                <a:cubicBezTo>
                  <a:pt x="12783" y="4787"/>
                  <a:pt x="12766" y="4787"/>
                  <a:pt x="12750" y="4787"/>
                </a:cubicBezTo>
              </a:path>
              <a:path w="1167" h="621">
                <a:moveTo>
                  <a:pt x="13047" y="4217"/>
                </a:moveTo>
                <a:cubicBezTo>
                  <a:pt x="13039" y="4201"/>
                  <a:pt x="12996" y="4226"/>
                  <a:pt x="12948" y="4242"/>
                </a:cubicBezTo>
                <a:cubicBezTo>
                  <a:pt x="12866" y="4270"/>
                  <a:pt x="12813" y="4291"/>
                  <a:pt x="12725" y="4291"/>
                </a:cubicBezTo>
              </a:path>
              <a:path w="1167" h="621">
                <a:moveTo>
                  <a:pt x="12328" y="4465"/>
                </a:moveTo>
                <a:cubicBezTo>
                  <a:pt x="12308" y="4438"/>
                  <a:pt x="12268" y="4397"/>
                  <a:pt x="12254" y="4366"/>
                </a:cubicBezTo>
                <a:cubicBezTo>
                  <a:pt x="12254" y="4341"/>
                  <a:pt x="12254" y="4333"/>
                  <a:pt x="12254" y="4316"/>
                </a:cubicBezTo>
                <a:cubicBezTo>
                  <a:pt x="12281" y="4259"/>
                  <a:pt x="12314" y="4407"/>
                  <a:pt x="12328" y="4440"/>
                </a:cubicBezTo>
                <a:cubicBezTo>
                  <a:pt x="12340" y="4467"/>
                  <a:pt x="12414" y="4608"/>
                  <a:pt x="12378" y="4564"/>
                </a:cubicBezTo>
                <a:cubicBezTo>
                  <a:pt x="12314" y="4487"/>
                  <a:pt x="12273" y="4405"/>
                  <a:pt x="12229" y="4316"/>
                </a:cubicBezTo>
                <a:cubicBezTo>
                  <a:pt x="12229" y="4308"/>
                  <a:pt x="12229" y="4299"/>
                  <a:pt x="12229" y="4291"/>
                </a:cubicBezTo>
                <a:cubicBezTo>
                  <a:pt x="12270" y="4372"/>
                  <a:pt x="12294" y="4455"/>
                  <a:pt x="12328" y="4539"/>
                </a:cubicBezTo>
                <a:cubicBezTo>
                  <a:pt x="12337" y="4561"/>
                  <a:pt x="12379" y="4656"/>
                  <a:pt x="12303" y="4614"/>
                </a:cubicBezTo>
                <a:cubicBezTo>
                  <a:pt x="12260" y="4590"/>
                  <a:pt x="12197" y="4510"/>
                  <a:pt x="12179" y="4465"/>
                </a:cubicBezTo>
                <a:cubicBezTo>
                  <a:pt x="12179" y="4457"/>
                  <a:pt x="12179" y="4448"/>
                  <a:pt x="12179" y="4440"/>
                </a:cubicBezTo>
                <a:cubicBezTo>
                  <a:pt x="12202" y="4501"/>
                  <a:pt x="12240" y="4574"/>
                  <a:pt x="12254" y="4638"/>
                </a:cubicBezTo>
                <a:cubicBezTo>
                  <a:pt x="12274" y="4728"/>
                  <a:pt x="12223" y="4724"/>
                  <a:pt x="12179" y="4663"/>
                </a:cubicBezTo>
                <a:cubicBezTo>
                  <a:pt x="12152" y="4626"/>
                  <a:pt x="12137" y="4581"/>
                  <a:pt x="12129" y="4539"/>
                </a:cubicBezTo>
                <a:cubicBezTo>
                  <a:pt x="12147" y="4503"/>
                  <a:pt x="12193" y="4569"/>
                  <a:pt x="12204" y="4614"/>
                </a:cubicBezTo>
                <a:cubicBezTo>
                  <a:pt x="12219" y="4675"/>
                  <a:pt x="12216" y="4688"/>
                  <a:pt x="12179" y="4663"/>
                </a:cubicBezTo>
                <a:cubicBezTo>
                  <a:pt x="12172" y="4635"/>
                  <a:pt x="12127" y="4577"/>
                  <a:pt x="12154" y="4614"/>
                </a:cubicBezTo>
                <a:cubicBezTo>
                  <a:pt x="12182" y="4652"/>
                  <a:pt x="12186" y="4689"/>
                  <a:pt x="12204" y="4738"/>
                </a:cubicBezTo>
                <a:cubicBezTo>
                  <a:pt x="12271" y="4825"/>
                  <a:pt x="12202" y="4733"/>
                  <a:pt x="12179" y="4688"/>
                </a:cubicBezTo>
              </a:path>
              <a:path w="1167" h="621">
                <a:moveTo>
                  <a:pt x="11881" y="4341"/>
                </a:moveTo>
                <a:cubicBezTo>
                  <a:pt x="11881" y="4316"/>
                  <a:pt x="11881" y="4308"/>
                  <a:pt x="11881" y="4291"/>
                </a:cubicBezTo>
                <a:cubicBezTo>
                  <a:pt x="11881" y="4465"/>
                  <a:pt x="11881" y="4638"/>
                  <a:pt x="11881" y="4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79920" y="2687760"/>
            <a:ext cx="312480" cy="187200"/>
          </a:xfrm>
          <a:custGeom>
            <a:avLst/>
            <a:gdLst/>
            <a:ahLst/>
            <a:rect l="l" t="t" r="r" b="b"/>
            <a:pathLst>
              <a:path w="869" h="522">
                <a:moveTo>
                  <a:pt x="10220" y="7541"/>
                </a:moveTo>
                <a:cubicBezTo>
                  <a:pt x="10220" y="7513"/>
                  <a:pt x="10222" y="7502"/>
                  <a:pt x="10244" y="7491"/>
                </a:cubicBezTo>
                <a:cubicBezTo>
                  <a:pt x="10244" y="7560"/>
                  <a:pt x="10266" y="7619"/>
                  <a:pt x="10269" y="7689"/>
                </a:cubicBezTo>
                <a:cubicBezTo>
                  <a:pt x="10272" y="7763"/>
                  <a:pt x="10294" y="7815"/>
                  <a:pt x="10294" y="7888"/>
                </a:cubicBezTo>
              </a:path>
              <a:path w="869" h="522">
                <a:moveTo>
                  <a:pt x="10542" y="7491"/>
                </a:moveTo>
                <a:cubicBezTo>
                  <a:pt x="10583" y="7479"/>
                  <a:pt x="10637" y="7460"/>
                  <a:pt x="10641" y="7516"/>
                </a:cubicBezTo>
                <a:cubicBezTo>
                  <a:pt x="10648" y="7601"/>
                  <a:pt x="10613" y="7723"/>
                  <a:pt x="10666" y="7789"/>
                </a:cubicBezTo>
                <a:cubicBezTo>
                  <a:pt x="10709" y="7842"/>
                  <a:pt x="10747" y="7797"/>
                  <a:pt x="10790" y="7789"/>
                </a:cubicBezTo>
                <a:cubicBezTo>
                  <a:pt x="10834" y="7780"/>
                  <a:pt x="10875" y="7768"/>
                  <a:pt x="10914" y="7764"/>
                </a:cubicBezTo>
                <a:cubicBezTo>
                  <a:pt x="10985" y="7756"/>
                  <a:pt x="11030" y="7773"/>
                  <a:pt x="11063" y="7789"/>
                </a:cubicBezTo>
                <a:cubicBezTo>
                  <a:pt x="11071" y="7789"/>
                  <a:pt x="11080" y="7789"/>
                  <a:pt x="11088" y="7789"/>
                </a:cubicBezTo>
              </a:path>
              <a:path w="869" h="522">
                <a:moveTo>
                  <a:pt x="10939" y="7640"/>
                </a:moveTo>
                <a:cubicBezTo>
                  <a:pt x="10939" y="7756"/>
                  <a:pt x="10939" y="7871"/>
                  <a:pt x="10939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73800" y="3027240"/>
            <a:ext cx="401400" cy="214560"/>
          </a:xfrm>
          <a:custGeom>
            <a:avLst/>
            <a:gdLst/>
            <a:ahLst/>
            <a:rect l="l" t="t" r="r" b="b"/>
            <a:pathLst>
              <a:path w="1117" h="596">
                <a:moveTo>
                  <a:pt x="15205" y="8558"/>
                </a:moveTo>
                <a:cubicBezTo>
                  <a:pt x="15205" y="8513"/>
                  <a:pt x="15202" y="8500"/>
                  <a:pt x="15230" y="8483"/>
                </a:cubicBezTo>
                <a:cubicBezTo>
                  <a:pt x="15230" y="8648"/>
                  <a:pt x="15230" y="8814"/>
                  <a:pt x="15230" y="8979"/>
                </a:cubicBezTo>
              </a:path>
              <a:path w="1117" h="596">
                <a:moveTo>
                  <a:pt x="15478" y="8558"/>
                </a:moveTo>
                <a:cubicBezTo>
                  <a:pt x="15488" y="8528"/>
                  <a:pt x="15521" y="8516"/>
                  <a:pt x="15553" y="8483"/>
                </a:cubicBezTo>
                <a:cubicBezTo>
                  <a:pt x="15584" y="8451"/>
                  <a:pt x="15653" y="8393"/>
                  <a:pt x="15701" y="8409"/>
                </a:cubicBezTo>
                <a:cubicBezTo>
                  <a:pt x="15756" y="8428"/>
                  <a:pt x="15764" y="8512"/>
                  <a:pt x="15751" y="8558"/>
                </a:cubicBezTo>
                <a:cubicBezTo>
                  <a:pt x="15721" y="8666"/>
                  <a:pt x="15648" y="8769"/>
                  <a:pt x="15627" y="8880"/>
                </a:cubicBezTo>
                <a:cubicBezTo>
                  <a:pt x="15621" y="8913"/>
                  <a:pt x="15627" y="8971"/>
                  <a:pt x="15627" y="9004"/>
                </a:cubicBezTo>
                <a:cubicBezTo>
                  <a:pt x="15686" y="9004"/>
                  <a:pt x="15705" y="9005"/>
                  <a:pt x="15751" y="8979"/>
                </a:cubicBezTo>
                <a:cubicBezTo>
                  <a:pt x="15801" y="8950"/>
                  <a:pt x="15811" y="8924"/>
                  <a:pt x="15850" y="8905"/>
                </a:cubicBezTo>
                <a:cubicBezTo>
                  <a:pt x="15886" y="8887"/>
                  <a:pt x="15887" y="8909"/>
                  <a:pt x="15925" y="8880"/>
                </a:cubicBezTo>
              </a:path>
              <a:path w="1117" h="596">
                <a:moveTo>
                  <a:pt x="16073" y="8706"/>
                </a:moveTo>
                <a:cubicBezTo>
                  <a:pt x="16073" y="8645"/>
                  <a:pt x="16088" y="8629"/>
                  <a:pt x="16098" y="8582"/>
                </a:cubicBezTo>
                <a:cubicBezTo>
                  <a:pt x="16108" y="8536"/>
                  <a:pt x="16118" y="8483"/>
                  <a:pt x="16173" y="8458"/>
                </a:cubicBezTo>
                <a:cubicBezTo>
                  <a:pt x="16181" y="8458"/>
                  <a:pt x="16189" y="8458"/>
                  <a:pt x="16197" y="8458"/>
                </a:cubicBezTo>
                <a:cubicBezTo>
                  <a:pt x="16284" y="8532"/>
                  <a:pt x="16313" y="8612"/>
                  <a:pt x="16321" y="8731"/>
                </a:cubicBezTo>
                <a:cubicBezTo>
                  <a:pt x="16326" y="8807"/>
                  <a:pt x="16348" y="8912"/>
                  <a:pt x="16247" y="8930"/>
                </a:cubicBezTo>
                <a:cubicBezTo>
                  <a:pt x="16131" y="8951"/>
                  <a:pt x="16048" y="8879"/>
                  <a:pt x="15999" y="8781"/>
                </a:cubicBezTo>
                <a:cubicBezTo>
                  <a:pt x="15975" y="8708"/>
                  <a:pt x="15966" y="8684"/>
                  <a:pt x="15974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7840" y="4286160"/>
            <a:ext cx="482400" cy="428760"/>
          </a:xfrm>
          <a:custGeom>
            <a:avLst/>
            <a:gdLst/>
            <a:ahLst/>
            <a:rect l="l" t="t" r="r" b="b"/>
            <a:pathLst>
              <a:path w="1340" h="1192">
                <a:moveTo>
                  <a:pt x="13494" y="11981"/>
                </a:moveTo>
                <a:cubicBezTo>
                  <a:pt x="13494" y="11948"/>
                  <a:pt x="13504" y="11876"/>
                  <a:pt x="13519" y="11906"/>
                </a:cubicBezTo>
                <a:cubicBezTo>
                  <a:pt x="13567" y="12002"/>
                  <a:pt x="13519" y="12219"/>
                  <a:pt x="13519" y="12328"/>
                </a:cubicBezTo>
              </a:path>
              <a:path w="1340" h="1192">
                <a:moveTo>
                  <a:pt x="14015" y="11931"/>
                </a:moveTo>
                <a:cubicBezTo>
                  <a:pt x="14040" y="11931"/>
                  <a:pt x="14064" y="11931"/>
                  <a:pt x="14089" y="11931"/>
                </a:cubicBezTo>
                <a:cubicBezTo>
                  <a:pt x="14051" y="11922"/>
                  <a:pt x="14013" y="11886"/>
                  <a:pt x="13965" y="11906"/>
                </a:cubicBezTo>
                <a:cubicBezTo>
                  <a:pt x="13929" y="11921"/>
                  <a:pt x="13864" y="11969"/>
                  <a:pt x="13841" y="12005"/>
                </a:cubicBezTo>
                <a:cubicBezTo>
                  <a:pt x="13820" y="12037"/>
                  <a:pt x="13791" y="12105"/>
                  <a:pt x="13841" y="12129"/>
                </a:cubicBezTo>
                <a:cubicBezTo>
                  <a:pt x="13896" y="12156"/>
                  <a:pt x="13922" y="12089"/>
                  <a:pt x="13940" y="12055"/>
                </a:cubicBezTo>
                <a:cubicBezTo>
                  <a:pt x="13969" y="12000"/>
                  <a:pt x="13978" y="11947"/>
                  <a:pt x="14039" y="11931"/>
                </a:cubicBezTo>
                <a:cubicBezTo>
                  <a:pt x="14073" y="11999"/>
                  <a:pt x="14064" y="12073"/>
                  <a:pt x="14064" y="12154"/>
                </a:cubicBezTo>
                <a:cubicBezTo>
                  <a:pt x="14064" y="12216"/>
                  <a:pt x="14089" y="12266"/>
                  <a:pt x="14089" y="12328"/>
                </a:cubicBezTo>
                <a:cubicBezTo>
                  <a:pt x="14089" y="12336"/>
                  <a:pt x="14089" y="12345"/>
                  <a:pt x="14089" y="12353"/>
                </a:cubicBezTo>
              </a:path>
              <a:path w="1340" h="1192">
                <a:moveTo>
                  <a:pt x="14585" y="12526"/>
                </a:moveTo>
                <a:cubicBezTo>
                  <a:pt x="14610" y="12526"/>
                  <a:pt x="14618" y="12526"/>
                  <a:pt x="14610" y="12502"/>
                </a:cubicBezTo>
                <a:cubicBezTo>
                  <a:pt x="14409" y="12502"/>
                  <a:pt x="14211" y="12500"/>
                  <a:pt x="14015" y="12526"/>
                </a:cubicBezTo>
                <a:cubicBezTo>
                  <a:pt x="13928" y="12538"/>
                  <a:pt x="13852" y="12587"/>
                  <a:pt x="13767" y="12601"/>
                </a:cubicBezTo>
                <a:cubicBezTo>
                  <a:pt x="13727" y="12608"/>
                  <a:pt x="13654" y="12609"/>
                  <a:pt x="13618" y="12626"/>
                </a:cubicBezTo>
                <a:cubicBezTo>
                  <a:pt x="13579" y="12645"/>
                  <a:pt x="13588" y="12650"/>
                  <a:pt x="13543" y="12650"/>
                </a:cubicBezTo>
              </a:path>
              <a:path w="1340" h="1192">
                <a:moveTo>
                  <a:pt x="13667" y="12750"/>
                </a:moveTo>
                <a:cubicBezTo>
                  <a:pt x="13692" y="12750"/>
                  <a:pt x="13700" y="12750"/>
                  <a:pt x="13717" y="12750"/>
                </a:cubicBezTo>
                <a:cubicBezTo>
                  <a:pt x="13717" y="12839"/>
                  <a:pt x="13729" y="12915"/>
                  <a:pt x="13742" y="12998"/>
                </a:cubicBezTo>
                <a:cubicBezTo>
                  <a:pt x="13742" y="13049"/>
                  <a:pt x="13743" y="13068"/>
                  <a:pt x="13767" y="13097"/>
                </a:cubicBezTo>
              </a:path>
              <a:path w="1340" h="1192">
                <a:moveTo>
                  <a:pt x="13965" y="12799"/>
                </a:moveTo>
                <a:cubicBezTo>
                  <a:pt x="13987" y="12770"/>
                  <a:pt x="14001" y="12717"/>
                  <a:pt x="14039" y="12700"/>
                </a:cubicBezTo>
                <a:cubicBezTo>
                  <a:pt x="14076" y="12683"/>
                  <a:pt x="14120" y="12675"/>
                  <a:pt x="14163" y="12675"/>
                </a:cubicBezTo>
                <a:cubicBezTo>
                  <a:pt x="14204" y="12675"/>
                  <a:pt x="14228" y="12709"/>
                  <a:pt x="14213" y="12750"/>
                </a:cubicBezTo>
                <a:cubicBezTo>
                  <a:pt x="14182" y="12834"/>
                  <a:pt x="14158" y="12849"/>
                  <a:pt x="14114" y="12923"/>
                </a:cubicBezTo>
                <a:cubicBezTo>
                  <a:pt x="14086" y="12970"/>
                  <a:pt x="14089" y="12996"/>
                  <a:pt x="14089" y="13047"/>
                </a:cubicBezTo>
                <a:cubicBezTo>
                  <a:pt x="14187" y="13047"/>
                  <a:pt x="14300" y="13049"/>
                  <a:pt x="14362" y="13022"/>
                </a:cubicBezTo>
                <a:cubicBezTo>
                  <a:pt x="14387" y="13022"/>
                  <a:pt x="14395" y="13022"/>
                  <a:pt x="14412" y="13022"/>
                </a:cubicBezTo>
              </a:path>
              <a:path w="1340" h="1192">
                <a:moveTo>
                  <a:pt x="14585" y="12824"/>
                </a:moveTo>
                <a:cubicBezTo>
                  <a:pt x="14585" y="12777"/>
                  <a:pt x="14586" y="12736"/>
                  <a:pt x="14610" y="12700"/>
                </a:cubicBezTo>
                <a:cubicBezTo>
                  <a:pt x="14650" y="12640"/>
                  <a:pt x="14694" y="12650"/>
                  <a:pt x="14759" y="12650"/>
                </a:cubicBezTo>
                <a:cubicBezTo>
                  <a:pt x="14811" y="12650"/>
                  <a:pt x="14830" y="12703"/>
                  <a:pt x="14833" y="12750"/>
                </a:cubicBezTo>
                <a:cubicBezTo>
                  <a:pt x="14840" y="12852"/>
                  <a:pt x="14822" y="12855"/>
                  <a:pt x="14734" y="12898"/>
                </a:cubicBezTo>
                <a:cubicBezTo>
                  <a:pt x="14642" y="12944"/>
                  <a:pt x="14630" y="12945"/>
                  <a:pt x="14536" y="12923"/>
                </a:cubicBezTo>
                <a:cubicBezTo>
                  <a:pt x="14504" y="12915"/>
                  <a:pt x="14497" y="12862"/>
                  <a:pt x="14511" y="12824"/>
                </a:cubicBezTo>
                <a:cubicBezTo>
                  <a:pt x="14519" y="12807"/>
                  <a:pt x="14528" y="12791"/>
                  <a:pt x="14536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00240" y="4857840"/>
            <a:ext cx="500040" cy="401400"/>
          </a:xfrm>
          <a:custGeom>
            <a:avLst/>
            <a:gdLst/>
            <a:ahLst/>
            <a:rect l="l" t="t" r="r" b="b"/>
            <a:pathLst>
              <a:path w="1390" h="1117">
                <a:moveTo>
                  <a:pt x="8632" y="13643"/>
                </a:moveTo>
                <a:cubicBezTo>
                  <a:pt x="8632" y="13626"/>
                  <a:pt x="8632" y="13610"/>
                  <a:pt x="8632" y="13593"/>
                </a:cubicBezTo>
                <a:cubicBezTo>
                  <a:pt x="8662" y="13674"/>
                  <a:pt x="8641" y="13733"/>
                  <a:pt x="8657" y="13816"/>
                </a:cubicBezTo>
                <a:cubicBezTo>
                  <a:pt x="8669" y="13877"/>
                  <a:pt x="8682" y="13905"/>
                  <a:pt x="8682" y="13965"/>
                </a:cubicBezTo>
              </a:path>
              <a:path w="1390" h="1117">
                <a:moveTo>
                  <a:pt x="8930" y="13643"/>
                </a:moveTo>
                <a:cubicBezTo>
                  <a:pt x="8959" y="13591"/>
                  <a:pt x="8953" y="13581"/>
                  <a:pt x="9004" y="13568"/>
                </a:cubicBezTo>
                <a:cubicBezTo>
                  <a:pt x="8956" y="13616"/>
                  <a:pt x="8954" y="13623"/>
                  <a:pt x="8954" y="13692"/>
                </a:cubicBezTo>
                <a:cubicBezTo>
                  <a:pt x="8954" y="13755"/>
                  <a:pt x="9006" y="13742"/>
                  <a:pt x="9054" y="13742"/>
                </a:cubicBezTo>
                <a:cubicBezTo>
                  <a:pt x="9108" y="13742"/>
                  <a:pt x="9164" y="13756"/>
                  <a:pt x="9203" y="13791"/>
                </a:cubicBezTo>
                <a:cubicBezTo>
                  <a:pt x="9236" y="13820"/>
                  <a:pt x="9244" y="13851"/>
                  <a:pt x="9252" y="13891"/>
                </a:cubicBezTo>
                <a:cubicBezTo>
                  <a:pt x="9205" y="13925"/>
                  <a:pt x="9164" y="13915"/>
                  <a:pt x="9103" y="13915"/>
                </a:cubicBezTo>
                <a:cubicBezTo>
                  <a:pt x="9045" y="13915"/>
                  <a:pt x="9037" y="13915"/>
                  <a:pt x="9004" y="13915"/>
                </a:cubicBezTo>
              </a:path>
              <a:path w="1390" h="1117">
                <a:moveTo>
                  <a:pt x="9203" y="13543"/>
                </a:moveTo>
                <a:cubicBezTo>
                  <a:pt x="9203" y="13527"/>
                  <a:pt x="9203" y="13510"/>
                  <a:pt x="9203" y="13494"/>
                </a:cubicBezTo>
                <a:cubicBezTo>
                  <a:pt x="9176" y="13521"/>
                  <a:pt x="9137" y="13578"/>
                  <a:pt x="9103" y="13593"/>
                </a:cubicBezTo>
                <a:cubicBezTo>
                  <a:pt x="9095" y="13593"/>
                  <a:pt x="9087" y="13593"/>
                  <a:pt x="9079" y="13593"/>
                </a:cubicBezTo>
              </a:path>
              <a:path w="1390" h="1117">
                <a:moveTo>
                  <a:pt x="9550" y="14015"/>
                </a:moveTo>
                <a:cubicBezTo>
                  <a:pt x="9621" y="14015"/>
                  <a:pt x="9507" y="14011"/>
                  <a:pt x="9500" y="14015"/>
                </a:cubicBezTo>
                <a:cubicBezTo>
                  <a:pt x="9434" y="14050"/>
                  <a:pt x="9357" y="14061"/>
                  <a:pt x="9277" y="14064"/>
                </a:cubicBezTo>
                <a:cubicBezTo>
                  <a:pt x="9151" y="14069"/>
                  <a:pt x="9033" y="14089"/>
                  <a:pt x="8905" y="14089"/>
                </a:cubicBezTo>
                <a:cubicBezTo>
                  <a:pt x="8800" y="14089"/>
                  <a:pt x="8751" y="14118"/>
                  <a:pt x="8657" y="14139"/>
                </a:cubicBezTo>
                <a:cubicBezTo>
                  <a:pt x="8593" y="14153"/>
                  <a:pt x="8522" y="14177"/>
                  <a:pt x="8458" y="14188"/>
                </a:cubicBezTo>
                <a:cubicBezTo>
                  <a:pt x="8401" y="14198"/>
                  <a:pt x="8379" y="14204"/>
                  <a:pt x="8334" y="14238"/>
                </a:cubicBezTo>
              </a:path>
              <a:path w="1390" h="1117">
                <a:moveTo>
                  <a:pt x="8533" y="14337"/>
                </a:moveTo>
                <a:cubicBezTo>
                  <a:pt x="8541" y="14329"/>
                  <a:pt x="8550" y="14320"/>
                  <a:pt x="8558" y="14312"/>
                </a:cubicBezTo>
                <a:cubicBezTo>
                  <a:pt x="8567" y="14351"/>
                  <a:pt x="8570" y="14395"/>
                  <a:pt x="8582" y="14436"/>
                </a:cubicBezTo>
                <a:cubicBezTo>
                  <a:pt x="8600" y="14497"/>
                  <a:pt x="8618" y="14554"/>
                  <a:pt x="8632" y="14610"/>
                </a:cubicBezTo>
              </a:path>
              <a:path w="1390" h="1117">
                <a:moveTo>
                  <a:pt x="8905" y="14337"/>
                </a:moveTo>
                <a:cubicBezTo>
                  <a:pt x="8898" y="14311"/>
                  <a:pt x="8862" y="14270"/>
                  <a:pt x="8880" y="14238"/>
                </a:cubicBezTo>
                <a:cubicBezTo>
                  <a:pt x="8911" y="14182"/>
                  <a:pt x="8977" y="14188"/>
                  <a:pt x="9029" y="14188"/>
                </a:cubicBezTo>
                <a:cubicBezTo>
                  <a:pt x="9081" y="14188"/>
                  <a:pt x="9124" y="14176"/>
                  <a:pt x="9128" y="14238"/>
                </a:cubicBezTo>
                <a:cubicBezTo>
                  <a:pt x="9133" y="14311"/>
                  <a:pt x="9120" y="14347"/>
                  <a:pt x="9103" y="14412"/>
                </a:cubicBezTo>
                <a:cubicBezTo>
                  <a:pt x="9093" y="14450"/>
                  <a:pt x="9079" y="14467"/>
                  <a:pt x="9079" y="14511"/>
                </a:cubicBezTo>
                <a:cubicBezTo>
                  <a:pt x="9079" y="14519"/>
                  <a:pt x="9079" y="14528"/>
                  <a:pt x="9079" y="14536"/>
                </a:cubicBezTo>
                <a:cubicBezTo>
                  <a:pt x="9145" y="14536"/>
                  <a:pt x="9228" y="14555"/>
                  <a:pt x="9277" y="14511"/>
                </a:cubicBezTo>
                <a:cubicBezTo>
                  <a:pt x="9285" y="14503"/>
                  <a:pt x="9294" y="14494"/>
                  <a:pt x="9302" y="14486"/>
                </a:cubicBezTo>
              </a:path>
              <a:path w="1390" h="1117">
                <a:moveTo>
                  <a:pt x="9426" y="14312"/>
                </a:moveTo>
                <a:cubicBezTo>
                  <a:pt x="9426" y="14268"/>
                  <a:pt x="9433" y="14263"/>
                  <a:pt x="9451" y="14238"/>
                </a:cubicBezTo>
                <a:cubicBezTo>
                  <a:pt x="9487" y="14189"/>
                  <a:pt x="9489" y="14163"/>
                  <a:pt x="9550" y="14163"/>
                </a:cubicBezTo>
                <a:cubicBezTo>
                  <a:pt x="9647" y="14163"/>
                  <a:pt x="9660" y="14209"/>
                  <a:pt x="9699" y="14288"/>
                </a:cubicBezTo>
                <a:cubicBezTo>
                  <a:pt x="9744" y="14378"/>
                  <a:pt x="9733" y="14437"/>
                  <a:pt x="9649" y="14486"/>
                </a:cubicBezTo>
                <a:cubicBezTo>
                  <a:pt x="9573" y="14530"/>
                  <a:pt x="9506" y="14499"/>
                  <a:pt x="9451" y="14436"/>
                </a:cubicBezTo>
                <a:cubicBezTo>
                  <a:pt x="9407" y="14386"/>
                  <a:pt x="9426" y="14299"/>
                  <a:pt x="9426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5518080"/>
            <a:ext cx="731880" cy="563760"/>
          </a:xfrm>
          <a:custGeom>
            <a:avLst/>
            <a:gdLst/>
            <a:ahLst/>
            <a:rect l="l" t="t" r="r" b="b"/>
            <a:pathLst>
              <a:path w="2035" h="1564">
                <a:moveTo>
                  <a:pt x="13022" y="15329"/>
                </a:moveTo>
                <a:cubicBezTo>
                  <a:pt x="13068" y="15360"/>
                  <a:pt x="13048" y="15419"/>
                  <a:pt x="13022" y="15478"/>
                </a:cubicBezTo>
                <a:cubicBezTo>
                  <a:pt x="12995" y="15539"/>
                  <a:pt x="12952" y="15611"/>
                  <a:pt x="12948" y="15677"/>
                </a:cubicBezTo>
                <a:cubicBezTo>
                  <a:pt x="12948" y="15718"/>
                  <a:pt x="12948" y="15726"/>
                  <a:pt x="12948" y="15751"/>
                </a:cubicBezTo>
                <a:cubicBezTo>
                  <a:pt x="13023" y="15751"/>
                  <a:pt x="13077" y="15738"/>
                  <a:pt x="13146" y="15726"/>
                </a:cubicBezTo>
                <a:cubicBezTo>
                  <a:pt x="13214" y="15715"/>
                  <a:pt x="13266" y="15735"/>
                  <a:pt x="13320" y="15751"/>
                </a:cubicBezTo>
                <a:cubicBezTo>
                  <a:pt x="13368" y="15766"/>
                  <a:pt x="13403" y="15726"/>
                  <a:pt x="13419" y="15776"/>
                </a:cubicBezTo>
              </a:path>
              <a:path w="2035" h="1564">
                <a:moveTo>
                  <a:pt x="13271" y="15677"/>
                </a:moveTo>
                <a:cubicBezTo>
                  <a:pt x="13263" y="15669"/>
                  <a:pt x="13254" y="15660"/>
                  <a:pt x="13246" y="15652"/>
                </a:cubicBezTo>
                <a:cubicBezTo>
                  <a:pt x="13246" y="15707"/>
                  <a:pt x="13224" y="15746"/>
                  <a:pt x="13221" y="15801"/>
                </a:cubicBezTo>
                <a:cubicBezTo>
                  <a:pt x="13221" y="15842"/>
                  <a:pt x="13221" y="15850"/>
                  <a:pt x="13221" y="15875"/>
                </a:cubicBezTo>
              </a:path>
              <a:path w="2035" h="1564">
                <a:moveTo>
                  <a:pt x="13469" y="15553"/>
                </a:moveTo>
                <a:cubicBezTo>
                  <a:pt x="13498" y="15503"/>
                  <a:pt x="13493" y="15491"/>
                  <a:pt x="13543" y="15478"/>
                </a:cubicBezTo>
                <a:cubicBezTo>
                  <a:pt x="13543" y="15569"/>
                  <a:pt x="13543" y="15660"/>
                  <a:pt x="13543" y="15751"/>
                </a:cubicBezTo>
                <a:cubicBezTo>
                  <a:pt x="13610" y="15751"/>
                  <a:pt x="13656" y="15737"/>
                  <a:pt x="13717" y="15726"/>
                </a:cubicBezTo>
                <a:cubicBezTo>
                  <a:pt x="13765" y="15717"/>
                  <a:pt x="13819" y="15706"/>
                  <a:pt x="13866" y="15701"/>
                </a:cubicBezTo>
                <a:cubicBezTo>
                  <a:pt x="13912" y="15696"/>
                  <a:pt x="13930" y="15700"/>
                  <a:pt x="13965" y="15726"/>
                </a:cubicBezTo>
              </a:path>
              <a:path w="2035" h="1564">
                <a:moveTo>
                  <a:pt x="13791" y="15652"/>
                </a:moveTo>
                <a:cubicBezTo>
                  <a:pt x="13783" y="15644"/>
                  <a:pt x="13775" y="15635"/>
                  <a:pt x="13767" y="15627"/>
                </a:cubicBezTo>
                <a:cubicBezTo>
                  <a:pt x="13731" y="15687"/>
                  <a:pt x="13742" y="15750"/>
                  <a:pt x="13742" y="15825"/>
                </a:cubicBezTo>
                <a:cubicBezTo>
                  <a:pt x="13742" y="15875"/>
                  <a:pt x="13742" y="15892"/>
                  <a:pt x="13742" y="15925"/>
                </a:cubicBezTo>
              </a:path>
              <a:path w="2035" h="1564">
                <a:moveTo>
                  <a:pt x="14932" y="15999"/>
                </a:moveTo>
                <a:cubicBezTo>
                  <a:pt x="14920" y="16041"/>
                  <a:pt x="14937" y="16056"/>
                  <a:pt x="14883" y="16073"/>
                </a:cubicBezTo>
                <a:cubicBezTo>
                  <a:pt x="14842" y="16086"/>
                  <a:pt x="14768" y="16091"/>
                  <a:pt x="14734" y="16098"/>
                </a:cubicBezTo>
                <a:cubicBezTo>
                  <a:pt x="14682" y="16108"/>
                  <a:pt x="14621" y="16073"/>
                  <a:pt x="14560" y="16073"/>
                </a:cubicBezTo>
                <a:cubicBezTo>
                  <a:pt x="14491" y="16073"/>
                  <a:pt x="14434" y="16049"/>
                  <a:pt x="14362" y="16049"/>
                </a:cubicBezTo>
                <a:cubicBezTo>
                  <a:pt x="14193" y="16049"/>
                  <a:pt x="14027" y="16048"/>
                  <a:pt x="13866" y="16073"/>
                </a:cubicBezTo>
                <a:cubicBezTo>
                  <a:pt x="13784" y="16086"/>
                  <a:pt x="13697" y="16113"/>
                  <a:pt x="13618" y="16123"/>
                </a:cubicBezTo>
                <a:cubicBezTo>
                  <a:pt x="13525" y="16135"/>
                  <a:pt x="13437" y="16160"/>
                  <a:pt x="13345" y="16173"/>
                </a:cubicBezTo>
                <a:cubicBezTo>
                  <a:pt x="13262" y="16185"/>
                  <a:pt x="13176" y="16185"/>
                  <a:pt x="13097" y="16197"/>
                </a:cubicBezTo>
                <a:cubicBezTo>
                  <a:pt x="13042" y="16205"/>
                  <a:pt x="13043" y="16209"/>
                  <a:pt x="12998" y="16247"/>
                </a:cubicBezTo>
                <a:cubicBezTo>
                  <a:pt x="12965" y="16275"/>
                  <a:pt x="12934" y="16279"/>
                  <a:pt x="12898" y="16297"/>
                </a:cubicBezTo>
              </a:path>
              <a:path w="2035" h="1564">
                <a:moveTo>
                  <a:pt x="13395" y="16421"/>
                </a:moveTo>
                <a:cubicBezTo>
                  <a:pt x="13395" y="16371"/>
                  <a:pt x="13395" y="16470"/>
                  <a:pt x="13395" y="16520"/>
                </a:cubicBezTo>
                <a:cubicBezTo>
                  <a:pt x="13395" y="16623"/>
                  <a:pt x="13429" y="16721"/>
                  <a:pt x="13444" y="16818"/>
                </a:cubicBezTo>
                <a:cubicBezTo>
                  <a:pt x="13444" y="16859"/>
                  <a:pt x="13444" y="16867"/>
                  <a:pt x="13444" y="16892"/>
                </a:cubicBezTo>
              </a:path>
              <a:path w="2035" h="1564">
                <a:moveTo>
                  <a:pt x="13618" y="16520"/>
                </a:moveTo>
                <a:cubicBezTo>
                  <a:pt x="13618" y="16473"/>
                  <a:pt x="13612" y="16457"/>
                  <a:pt x="13643" y="16421"/>
                </a:cubicBezTo>
                <a:cubicBezTo>
                  <a:pt x="13667" y="16393"/>
                  <a:pt x="13753" y="16380"/>
                  <a:pt x="13791" y="16396"/>
                </a:cubicBezTo>
                <a:cubicBezTo>
                  <a:pt x="13842" y="16417"/>
                  <a:pt x="13863" y="16475"/>
                  <a:pt x="13866" y="16520"/>
                </a:cubicBezTo>
                <a:cubicBezTo>
                  <a:pt x="13872" y="16618"/>
                  <a:pt x="13836" y="16636"/>
                  <a:pt x="13791" y="16718"/>
                </a:cubicBezTo>
                <a:cubicBezTo>
                  <a:pt x="13771" y="16759"/>
                  <a:pt x="13763" y="16765"/>
                  <a:pt x="13767" y="16793"/>
                </a:cubicBezTo>
                <a:cubicBezTo>
                  <a:pt x="13822" y="16793"/>
                  <a:pt x="13838" y="16782"/>
                  <a:pt x="13891" y="16768"/>
                </a:cubicBezTo>
                <a:cubicBezTo>
                  <a:pt x="13936" y="16757"/>
                  <a:pt x="14002" y="16750"/>
                  <a:pt x="14039" y="16743"/>
                </a:cubicBezTo>
                <a:cubicBezTo>
                  <a:pt x="14056" y="16743"/>
                  <a:pt x="14072" y="16743"/>
                  <a:pt x="14089" y="16743"/>
                </a:cubicBezTo>
              </a:path>
              <a:path w="2035" h="1564">
                <a:moveTo>
                  <a:pt x="14312" y="16594"/>
                </a:moveTo>
                <a:cubicBezTo>
                  <a:pt x="14312" y="16548"/>
                  <a:pt x="14313" y="16505"/>
                  <a:pt x="14337" y="16470"/>
                </a:cubicBezTo>
                <a:cubicBezTo>
                  <a:pt x="14371" y="16421"/>
                  <a:pt x="14406" y="16401"/>
                  <a:pt x="14461" y="16396"/>
                </a:cubicBezTo>
                <a:cubicBezTo>
                  <a:pt x="14514" y="16392"/>
                  <a:pt x="14608" y="16450"/>
                  <a:pt x="14635" y="16495"/>
                </a:cubicBezTo>
                <a:cubicBezTo>
                  <a:pt x="14687" y="16583"/>
                  <a:pt x="14668" y="16675"/>
                  <a:pt x="14610" y="16743"/>
                </a:cubicBezTo>
                <a:cubicBezTo>
                  <a:pt x="14563" y="16798"/>
                  <a:pt x="14463" y="16858"/>
                  <a:pt x="14387" y="16818"/>
                </a:cubicBezTo>
                <a:cubicBezTo>
                  <a:pt x="14333" y="16789"/>
                  <a:pt x="14275" y="16680"/>
                  <a:pt x="14288" y="16619"/>
                </a:cubicBezTo>
                <a:cubicBezTo>
                  <a:pt x="14309" y="16576"/>
                  <a:pt x="14313" y="16564"/>
                  <a:pt x="14337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28880" y="5902200"/>
            <a:ext cx="393480" cy="179640"/>
          </a:xfrm>
          <a:custGeom>
            <a:avLst/>
            <a:gdLst/>
            <a:ahLst/>
            <a:rect l="l" t="t" r="r" b="b"/>
            <a:pathLst>
              <a:path w="1092" h="497">
                <a:moveTo>
                  <a:pt x="5358" y="16570"/>
                </a:moveTo>
                <a:cubicBezTo>
                  <a:pt x="5358" y="16485"/>
                  <a:pt x="5358" y="16485"/>
                  <a:pt x="5358" y="16570"/>
                </a:cubicBezTo>
                <a:cubicBezTo>
                  <a:pt x="5358" y="16669"/>
                  <a:pt x="5358" y="16768"/>
                  <a:pt x="5358" y="16867"/>
                </a:cubicBezTo>
              </a:path>
              <a:path w="1092" h="497">
                <a:moveTo>
                  <a:pt x="5606" y="16570"/>
                </a:moveTo>
                <a:cubicBezTo>
                  <a:pt x="5579" y="16516"/>
                  <a:pt x="5620" y="16501"/>
                  <a:pt x="5680" y="16470"/>
                </a:cubicBezTo>
                <a:cubicBezTo>
                  <a:pt x="5731" y="16443"/>
                  <a:pt x="5819" y="16377"/>
                  <a:pt x="5879" y="16396"/>
                </a:cubicBezTo>
                <a:cubicBezTo>
                  <a:pt x="5946" y="16417"/>
                  <a:pt x="5891" y="16558"/>
                  <a:pt x="5879" y="16594"/>
                </a:cubicBezTo>
                <a:cubicBezTo>
                  <a:pt x="5849" y="16684"/>
                  <a:pt x="5796" y="16727"/>
                  <a:pt x="5730" y="16793"/>
                </a:cubicBezTo>
                <a:cubicBezTo>
                  <a:pt x="5700" y="16823"/>
                  <a:pt x="5705" y="16827"/>
                  <a:pt x="5705" y="16867"/>
                </a:cubicBezTo>
                <a:cubicBezTo>
                  <a:pt x="5821" y="16867"/>
                  <a:pt x="5936" y="16867"/>
                  <a:pt x="6052" y="16867"/>
                </a:cubicBezTo>
              </a:path>
              <a:path w="1092" h="497">
                <a:moveTo>
                  <a:pt x="6226" y="16694"/>
                </a:moveTo>
                <a:cubicBezTo>
                  <a:pt x="6226" y="16628"/>
                  <a:pt x="6234" y="16621"/>
                  <a:pt x="6251" y="16570"/>
                </a:cubicBezTo>
                <a:cubicBezTo>
                  <a:pt x="6272" y="16508"/>
                  <a:pt x="6270" y="16510"/>
                  <a:pt x="6325" y="16470"/>
                </a:cubicBezTo>
                <a:cubicBezTo>
                  <a:pt x="6409" y="16504"/>
                  <a:pt x="6436" y="16575"/>
                  <a:pt x="6449" y="16669"/>
                </a:cubicBezTo>
                <a:cubicBezTo>
                  <a:pt x="6460" y="16748"/>
                  <a:pt x="6470" y="16864"/>
                  <a:pt x="6375" y="16892"/>
                </a:cubicBezTo>
                <a:cubicBezTo>
                  <a:pt x="6316" y="16909"/>
                  <a:pt x="6242" y="16854"/>
                  <a:pt x="6201" y="16818"/>
                </a:cubicBezTo>
                <a:cubicBezTo>
                  <a:pt x="6171" y="16788"/>
                  <a:pt x="6166" y="16774"/>
                  <a:pt x="6201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920" y="5823000"/>
            <a:ext cx="955440" cy="534960"/>
          </a:xfrm>
          <a:custGeom>
            <a:avLst/>
            <a:gdLst/>
            <a:ahLst/>
            <a:rect l="l" t="t" r="r" b="b"/>
            <a:pathLst>
              <a:path w="2655" h="1489">
                <a:moveTo>
                  <a:pt x="6970" y="16768"/>
                </a:moveTo>
                <a:cubicBezTo>
                  <a:pt x="6970" y="16743"/>
                  <a:pt x="6970" y="16735"/>
                  <a:pt x="6970" y="16718"/>
                </a:cubicBezTo>
                <a:cubicBezTo>
                  <a:pt x="7011" y="16718"/>
                  <a:pt x="7035" y="16709"/>
                  <a:pt x="7069" y="16694"/>
                </a:cubicBezTo>
                <a:cubicBezTo>
                  <a:pt x="7145" y="16662"/>
                  <a:pt x="7216" y="16673"/>
                  <a:pt x="7293" y="16644"/>
                </a:cubicBezTo>
              </a:path>
              <a:path w="2655" h="1489">
                <a:moveTo>
                  <a:pt x="7541" y="16570"/>
                </a:moveTo>
                <a:cubicBezTo>
                  <a:pt x="7570" y="16548"/>
                  <a:pt x="7622" y="16534"/>
                  <a:pt x="7640" y="16495"/>
                </a:cubicBezTo>
                <a:cubicBezTo>
                  <a:pt x="7658" y="16455"/>
                  <a:pt x="7621" y="16527"/>
                  <a:pt x="7615" y="16570"/>
                </a:cubicBezTo>
                <a:cubicBezTo>
                  <a:pt x="7605" y="16640"/>
                  <a:pt x="7600" y="16759"/>
                  <a:pt x="7640" y="16818"/>
                </a:cubicBezTo>
                <a:cubicBezTo>
                  <a:pt x="7691" y="16869"/>
                  <a:pt x="7711" y="16887"/>
                  <a:pt x="7764" y="16892"/>
                </a:cubicBezTo>
              </a:path>
              <a:path w="2655" h="1489">
                <a:moveTo>
                  <a:pt x="7938" y="16768"/>
                </a:moveTo>
                <a:cubicBezTo>
                  <a:pt x="7838" y="16688"/>
                  <a:pt x="7835" y="16694"/>
                  <a:pt x="7714" y="16694"/>
                </a:cubicBezTo>
                <a:cubicBezTo>
                  <a:pt x="7665" y="16694"/>
                  <a:pt x="7648" y="16694"/>
                  <a:pt x="7615" y="16694"/>
                </a:cubicBezTo>
              </a:path>
              <a:path w="2655" h="1489">
                <a:moveTo>
                  <a:pt x="7962" y="16321"/>
                </a:moveTo>
                <a:cubicBezTo>
                  <a:pt x="8023" y="16302"/>
                  <a:pt x="7980" y="16388"/>
                  <a:pt x="7962" y="16446"/>
                </a:cubicBezTo>
                <a:cubicBezTo>
                  <a:pt x="7926" y="16559"/>
                  <a:pt x="7938" y="16675"/>
                  <a:pt x="7938" y="16793"/>
                </a:cubicBezTo>
                <a:cubicBezTo>
                  <a:pt x="7938" y="16834"/>
                  <a:pt x="7938" y="16842"/>
                  <a:pt x="7938" y="16867"/>
                </a:cubicBezTo>
                <a:cubicBezTo>
                  <a:pt x="7961" y="16859"/>
                  <a:pt x="8013" y="16827"/>
                  <a:pt x="8037" y="16793"/>
                </a:cubicBezTo>
                <a:cubicBezTo>
                  <a:pt x="8072" y="16744"/>
                  <a:pt x="8057" y="16732"/>
                  <a:pt x="8111" y="16718"/>
                </a:cubicBezTo>
                <a:cubicBezTo>
                  <a:pt x="8136" y="16752"/>
                  <a:pt x="8151" y="16778"/>
                  <a:pt x="8161" y="16818"/>
                </a:cubicBezTo>
              </a:path>
              <a:path w="2655" h="1489">
                <a:moveTo>
                  <a:pt x="8186" y="16793"/>
                </a:moveTo>
                <a:cubicBezTo>
                  <a:pt x="8242" y="16778"/>
                  <a:pt x="8336" y="16772"/>
                  <a:pt x="8384" y="16743"/>
                </a:cubicBezTo>
                <a:cubicBezTo>
                  <a:pt x="8406" y="16721"/>
                  <a:pt x="8415" y="16716"/>
                  <a:pt x="8409" y="16694"/>
                </a:cubicBezTo>
                <a:cubicBezTo>
                  <a:pt x="8344" y="16694"/>
                  <a:pt x="8310" y="16673"/>
                  <a:pt x="8285" y="16743"/>
                </a:cubicBezTo>
                <a:cubicBezTo>
                  <a:pt x="8266" y="16794"/>
                  <a:pt x="8306" y="16879"/>
                  <a:pt x="8359" y="16892"/>
                </a:cubicBezTo>
                <a:cubicBezTo>
                  <a:pt x="8430" y="16910"/>
                  <a:pt x="8518" y="16891"/>
                  <a:pt x="8582" y="16867"/>
                </a:cubicBezTo>
              </a:path>
              <a:path w="2655" h="1489">
                <a:moveTo>
                  <a:pt x="8161" y="17289"/>
                </a:moveTo>
                <a:cubicBezTo>
                  <a:pt x="8161" y="17322"/>
                  <a:pt x="8161" y="17355"/>
                  <a:pt x="8161" y="17388"/>
                </a:cubicBezTo>
                <a:cubicBezTo>
                  <a:pt x="8129" y="17346"/>
                  <a:pt x="8136" y="17320"/>
                  <a:pt x="8136" y="17264"/>
                </a:cubicBezTo>
                <a:cubicBezTo>
                  <a:pt x="8136" y="17223"/>
                  <a:pt x="8136" y="17215"/>
                  <a:pt x="8136" y="17190"/>
                </a:cubicBezTo>
                <a:cubicBezTo>
                  <a:pt x="8183" y="17190"/>
                  <a:pt x="8216" y="17174"/>
                  <a:pt x="8260" y="17165"/>
                </a:cubicBezTo>
              </a:path>
              <a:path w="2655" h="1489">
                <a:moveTo>
                  <a:pt x="8384" y="17140"/>
                </a:moveTo>
                <a:cubicBezTo>
                  <a:pt x="8422" y="17169"/>
                  <a:pt x="8435" y="17165"/>
                  <a:pt x="8483" y="17165"/>
                </a:cubicBezTo>
                <a:cubicBezTo>
                  <a:pt x="8525" y="17165"/>
                  <a:pt x="8541" y="17173"/>
                  <a:pt x="8533" y="17140"/>
                </a:cubicBezTo>
                <a:cubicBezTo>
                  <a:pt x="8480" y="17153"/>
                  <a:pt x="8444" y="17201"/>
                  <a:pt x="8458" y="17264"/>
                </a:cubicBezTo>
                <a:cubicBezTo>
                  <a:pt x="8473" y="17330"/>
                  <a:pt x="8514" y="17383"/>
                  <a:pt x="8582" y="17388"/>
                </a:cubicBezTo>
                <a:cubicBezTo>
                  <a:pt x="8632" y="17388"/>
                  <a:pt x="8649" y="17388"/>
                  <a:pt x="8682" y="17388"/>
                </a:cubicBezTo>
              </a:path>
              <a:path w="2655" h="1489">
                <a:moveTo>
                  <a:pt x="8954" y="17115"/>
                </a:moveTo>
                <a:cubicBezTo>
                  <a:pt x="8962" y="17099"/>
                  <a:pt x="8971" y="17082"/>
                  <a:pt x="8979" y="17066"/>
                </a:cubicBezTo>
                <a:cubicBezTo>
                  <a:pt x="8916" y="17078"/>
                  <a:pt x="8877" y="17099"/>
                  <a:pt x="8855" y="17165"/>
                </a:cubicBezTo>
                <a:cubicBezTo>
                  <a:pt x="8839" y="17214"/>
                  <a:pt x="8927" y="17266"/>
                  <a:pt x="8954" y="17289"/>
                </a:cubicBezTo>
                <a:cubicBezTo>
                  <a:pt x="8993" y="17322"/>
                  <a:pt x="9050" y="17333"/>
                  <a:pt x="9054" y="17388"/>
                </a:cubicBezTo>
                <a:cubicBezTo>
                  <a:pt x="9054" y="17429"/>
                  <a:pt x="9054" y="17437"/>
                  <a:pt x="9054" y="17462"/>
                </a:cubicBezTo>
                <a:cubicBezTo>
                  <a:pt x="8987" y="17462"/>
                  <a:pt x="8942" y="17464"/>
                  <a:pt x="8880" y="17438"/>
                </a:cubicBezTo>
              </a:path>
              <a:path w="2655" h="1489">
                <a:moveTo>
                  <a:pt x="9153" y="17066"/>
                </a:moveTo>
                <a:cubicBezTo>
                  <a:pt x="9161" y="17058"/>
                  <a:pt x="9170" y="17049"/>
                  <a:pt x="9178" y="17041"/>
                </a:cubicBezTo>
                <a:cubicBezTo>
                  <a:pt x="9128" y="17066"/>
                  <a:pt x="9089" y="17149"/>
                  <a:pt x="9079" y="17214"/>
                </a:cubicBezTo>
                <a:cubicBezTo>
                  <a:pt x="9063" y="17320"/>
                  <a:pt x="9072" y="17380"/>
                  <a:pt x="9153" y="17438"/>
                </a:cubicBezTo>
              </a:path>
              <a:path w="2655" h="1489">
                <a:moveTo>
                  <a:pt x="9351" y="17363"/>
                </a:moveTo>
                <a:cubicBezTo>
                  <a:pt x="9340" y="17251"/>
                  <a:pt x="9342" y="17271"/>
                  <a:pt x="9252" y="17239"/>
                </a:cubicBezTo>
                <a:cubicBezTo>
                  <a:pt x="9203" y="17214"/>
                  <a:pt x="9186" y="17206"/>
                  <a:pt x="9153" y="17190"/>
                </a:cubicBezTo>
              </a:path>
              <a:path w="2655" h="1489">
                <a:moveTo>
                  <a:pt x="9302" y="16743"/>
                </a:moveTo>
                <a:cubicBezTo>
                  <a:pt x="9369" y="16667"/>
                  <a:pt x="9437" y="16631"/>
                  <a:pt x="9525" y="16743"/>
                </a:cubicBezTo>
                <a:cubicBezTo>
                  <a:pt x="9635" y="16884"/>
                  <a:pt x="9619" y="17102"/>
                  <a:pt x="9599" y="17264"/>
                </a:cubicBezTo>
                <a:cubicBezTo>
                  <a:pt x="9578" y="17430"/>
                  <a:pt x="9534" y="17538"/>
                  <a:pt x="9426" y="17661"/>
                </a:cubicBezTo>
              </a:path>
              <a:path w="2655" h="1489">
                <a:moveTo>
                  <a:pt x="7441" y="16222"/>
                </a:moveTo>
                <a:cubicBezTo>
                  <a:pt x="7466" y="16197"/>
                  <a:pt x="7474" y="16189"/>
                  <a:pt x="7491" y="16173"/>
                </a:cubicBezTo>
                <a:cubicBezTo>
                  <a:pt x="7421" y="16241"/>
                  <a:pt x="7391" y="16299"/>
                  <a:pt x="7367" y="16396"/>
                </a:cubicBezTo>
                <a:cubicBezTo>
                  <a:pt x="7320" y="16585"/>
                  <a:pt x="7312" y="16752"/>
                  <a:pt x="7367" y="16942"/>
                </a:cubicBezTo>
                <a:cubicBezTo>
                  <a:pt x="7398" y="17051"/>
                  <a:pt x="7457" y="17144"/>
                  <a:pt x="7516" y="17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63840" y="2509920"/>
            <a:ext cx="331920" cy="561960"/>
          </a:xfrm>
          <a:custGeom>
            <a:avLst/>
            <a:gdLst/>
            <a:ahLst/>
            <a:rect l="l" t="t" r="r" b="b"/>
            <a:pathLst>
              <a:path w="919" h="1564">
                <a:moveTo>
                  <a:pt x="7045" y="7119"/>
                </a:moveTo>
                <a:cubicBezTo>
                  <a:pt x="7067" y="7088"/>
                  <a:pt x="7090" y="7058"/>
                  <a:pt x="7094" y="7020"/>
                </a:cubicBezTo>
                <a:cubicBezTo>
                  <a:pt x="7098" y="6988"/>
                  <a:pt x="7117" y="6979"/>
                  <a:pt x="7144" y="6970"/>
                </a:cubicBezTo>
                <a:cubicBezTo>
                  <a:pt x="7144" y="7049"/>
                  <a:pt x="7116" y="7093"/>
                  <a:pt x="7094" y="7169"/>
                </a:cubicBezTo>
                <a:cubicBezTo>
                  <a:pt x="7069" y="7255"/>
                  <a:pt x="6998" y="7400"/>
                  <a:pt x="7020" y="7491"/>
                </a:cubicBezTo>
                <a:cubicBezTo>
                  <a:pt x="7033" y="7548"/>
                  <a:pt x="7129" y="7541"/>
                  <a:pt x="7169" y="7541"/>
                </a:cubicBezTo>
                <a:cubicBezTo>
                  <a:pt x="7251" y="7541"/>
                  <a:pt x="7322" y="7480"/>
                  <a:pt x="7392" y="7466"/>
                </a:cubicBezTo>
                <a:cubicBezTo>
                  <a:pt x="7436" y="7457"/>
                  <a:pt x="7495" y="7466"/>
                  <a:pt x="7541" y="7466"/>
                </a:cubicBezTo>
              </a:path>
              <a:path w="919" h="1564">
                <a:moveTo>
                  <a:pt x="7417" y="7417"/>
                </a:moveTo>
                <a:cubicBezTo>
                  <a:pt x="7373" y="7395"/>
                  <a:pt x="7361" y="7392"/>
                  <a:pt x="7342" y="7367"/>
                </a:cubicBezTo>
                <a:cubicBezTo>
                  <a:pt x="7309" y="7422"/>
                  <a:pt x="7317" y="7473"/>
                  <a:pt x="7317" y="7541"/>
                </a:cubicBezTo>
                <a:cubicBezTo>
                  <a:pt x="7317" y="7617"/>
                  <a:pt x="7316" y="7646"/>
                  <a:pt x="7342" y="7714"/>
                </a:cubicBezTo>
              </a:path>
              <a:path w="919" h="1564">
                <a:moveTo>
                  <a:pt x="7764" y="7863"/>
                </a:moveTo>
                <a:cubicBezTo>
                  <a:pt x="7685" y="7863"/>
                  <a:pt x="7616" y="7881"/>
                  <a:pt x="7541" y="7888"/>
                </a:cubicBezTo>
                <a:cubicBezTo>
                  <a:pt x="7401" y="7901"/>
                  <a:pt x="7257" y="7916"/>
                  <a:pt x="7119" y="7938"/>
                </a:cubicBezTo>
                <a:cubicBezTo>
                  <a:pt x="7072" y="7946"/>
                  <a:pt x="6913" y="7968"/>
                  <a:pt x="6871" y="7987"/>
                </a:cubicBezTo>
                <a:cubicBezTo>
                  <a:pt x="6863" y="7995"/>
                  <a:pt x="6854" y="8004"/>
                  <a:pt x="6846" y="8012"/>
                </a:cubicBezTo>
              </a:path>
              <a:path w="919" h="1564">
                <a:moveTo>
                  <a:pt x="6970" y="8210"/>
                </a:moveTo>
                <a:cubicBezTo>
                  <a:pt x="6993" y="8188"/>
                  <a:pt x="6998" y="8180"/>
                  <a:pt x="7020" y="8186"/>
                </a:cubicBezTo>
                <a:cubicBezTo>
                  <a:pt x="7020" y="8268"/>
                  <a:pt x="7042" y="8328"/>
                  <a:pt x="7045" y="8409"/>
                </a:cubicBezTo>
                <a:cubicBezTo>
                  <a:pt x="7045" y="8477"/>
                  <a:pt x="7042" y="8496"/>
                  <a:pt x="7069" y="8533"/>
                </a:cubicBezTo>
              </a:path>
              <a:path w="919" h="1564">
                <a:moveTo>
                  <a:pt x="7367" y="8310"/>
                </a:moveTo>
                <a:cubicBezTo>
                  <a:pt x="7367" y="8318"/>
                  <a:pt x="7367" y="8326"/>
                  <a:pt x="7367" y="8334"/>
                </a:cubicBezTo>
                <a:cubicBezTo>
                  <a:pt x="7325" y="8321"/>
                  <a:pt x="7355" y="8267"/>
                  <a:pt x="7392" y="8235"/>
                </a:cubicBezTo>
                <a:cubicBezTo>
                  <a:pt x="7449" y="8186"/>
                  <a:pt x="7552" y="8165"/>
                  <a:pt x="7615" y="8210"/>
                </a:cubicBezTo>
                <a:cubicBezTo>
                  <a:pt x="7709" y="8278"/>
                  <a:pt x="7700" y="8387"/>
                  <a:pt x="7665" y="8483"/>
                </a:cubicBezTo>
                <a:cubicBezTo>
                  <a:pt x="7634" y="8569"/>
                  <a:pt x="7535" y="8535"/>
                  <a:pt x="7466" y="8508"/>
                </a:cubicBezTo>
                <a:cubicBezTo>
                  <a:pt x="7358" y="8466"/>
                  <a:pt x="7367" y="8381"/>
                  <a:pt x="7367" y="8285"/>
                </a:cubicBezTo>
                <a:cubicBezTo>
                  <a:pt x="7367" y="8277"/>
                  <a:pt x="7367" y="8268"/>
                  <a:pt x="7367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36920" y="4160880"/>
            <a:ext cx="241200" cy="482400"/>
          </a:xfrm>
          <a:custGeom>
            <a:avLst/>
            <a:gdLst/>
            <a:ahLst/>
            <a:rect l="l" t="t" r="r" b="b"/>
            <a:pathLst>
              <a:path w="670" h="1340">
                <a:moveTo>
                  <a:pt x="7169" y="11658"/>
                </a:moveTo>
                <a:cubicBezTo>
                  <a:pt x="7213" y="11647"/>
                  <a:pt x="7224" y="11633"/>
                  <a:pt x="7243" y="11609"/>
                </a:cubicBezTo>
                <a:cubicBezTo>
                  <a:pt x="7266" y="11586"/>
                  <a:pt x="7274" y="11582"/>
                  <a:pt x="7268" y="11559"/>
                </a:cubicBezTo>
                <a:cubicBezTo>
                  <a:pt x="7193" y="11559"/>
                  <a:pt x="7183" y="11599"/>
                  <a:pt x="7144" y="11658"/>
                </a:cubicBezTo>
                <a:cubicBezTo>
                  <a:pt x="7091" y="11739"/>
                  <a:pt x="7012" y="11878"/>
                  <a:pt x="7045" y="11981"/>
                </a:cubicBezTo>
                <a:cubicBezTo>
                  <a:pt x="7078" y="12084"/>
                  <a:pt x="7176" y="12145"/>
                  <a:pt x="7268" y="12154"/>
                </a:cubicBezTo>
                <a:cubicBezTo>
                  <a:pt x="7343" y="12161"/>
                  <a:pt x="7362" y="12090"/>
                  <a:pt x="7367" y="12030"/>
                </a:cubicBezTo>
                <a:cubicBezTo>
                  <a:pt x="7372" y="11971"/>
                  <a:pt x="7311" y="11960"/>
                  <a:pt x="7268" y="11956"/>
                </a:cubicBezTo>
                <a:cubicBezTo>
                  <a:pt x="7220" y="11952"/>
                  <a:pt x="7205" y="11959"/>
                  <a:pt x="7169" y="11981"/>
                </a:cubicBezTo>
              </a:path>
              <a:path w="670" h="1340">
                <a:moveTo>
                  <a:pt x="7169" y="12477"/>
                </a:moveTo>
                <a:cubicBezTo>
                  <a:pt x="7139" y="12417"/>
                  <a:pt x="7144" y="12525"/>
                  <a:pt x="7144" y="12551"/>
                </a:cubicBezTo>
                <a:cubicBezTo>
                  <a:pt x="7144" y="12643"/>
                  <a:pt x="7155" y="12715"/>
                  <a:pt x="7169" y="12799"/>
                </a:cubicBezTo>
                <a:cubicBezTo>
                  <a:pt x="7169" y="12816"/>
                  <a:pt x="7169" y="12832"/>
                  <a:pt x="7169" y="12849"/>
                </a:cubicBezTo>
              </a:path>
              <a:path w="670" h="1340">
                <a:moveTo>
                  <a:pt x="7342" y="12675"/>
                </a:moveTo>
                <a:cubicBezTo>
                  <a:pt x="7342" y="12641"/>
                  <a:pt x="7349" y="12599"/>
                  <a:pt x="7367" y="12576"/>
                </a:cubicBezTo>
                <a:cubicBezTo>
                  <a:pt x="7422" y="12506"/>
                  <a:pt x="7475" y="12484"/>
                  <a:pt x="7565" y="12502"/>
                </a:cubicBezTo>
                <a:cubicBezTo>
                  <a:pt x="7689" y="12527"/>
                  <a:pt x="7731" y="12629"/>
                  <a:pt x="7714" y="12750"/>
                </a:cubicBezTo>
                <a:cubicBezTo>
                  <a:pt x="7700" y="12844"/>
                  <a:pt x="7646" y="12919"/>
                  <a:pt x="7541" y="12898"/>
                </a:cubicBezTo>
                <a:cubicBezTo>
                  <a:pt x="7430" y="12875"/>
                  <a:pt x="7385" y="12775"/>
                  <a:pt x="7367" y="12675"/>
                </a:cubicBezTo>
                <a:cubicBezTo>
                  <a:pt x="7356" y="12614"/>
                  <a:pt x="7387" y="12572"/>
                  <a:pt x="7417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6000" y="1581120"/>
            <a:ext cx="249120" cy="428760"/>
          </a:xfrm>
          <a:custGeom>
            <a:avLst/>
            <a:gdLst/>
            <a:ahLst/>
            <a:rect l="l" t="t" r="r" b="b"/>
            <a:pathLst>
              <a:path w="695" h="1192">
                <a:moveTo>
                  <a:pt x="13072" y="4614"/>
                </a:moveTo>
                <a:cubicBezTo>
                  <a:pt x="13040" y="4614"/>
                  <a:pt x="13006" y="4606"/>
                  <a:pt x="12998" y="4589"/>
                </a:cubicBezTo>
                <a:cubicBezTo>
                  <a:pt x="12979" y="4549"/>
                  <a:pt x="13017" y="4466"/>
                  <a:pt x="13047" y="4440"/>
                </a:cubicBezTo>
                <a:cubicBezTo>
                  <a:pt x="13108" y="4387"/>
                  <a:pt x="13203" y="4373"/>
                  <a:pt x="13271" y="4415"/>
                </a:cubicBezTo>
                <a:cubicBezTo>
                  <a:pt x="13333" y="4454"/>
                  <a:pt x="13330" y="4506"/>
                  <a:pt x="13295" y="4564"/>
                </a:cubicBezTo>
                <a:cubicBezTo>
                  <a:pt x="13261" y="4621"/>
                  <a:pt x="13237" y="4650"/>
                  <a:pt x="13171" y="4663"/>
                </a:cubicBezTo>
                <a:cubicBezTo>
                  <a:pt x="13186" y="4724"/>
                  <a:pt x="13222" y="4725"/>
                  <a:pt x="13271" y="4762"/>
                </a:cubicBezTo>
                <a:cubicBezTo>
                  <a:pt x="13292" y="4778"/>
                  <a:pt x="13358" y="4832"/>
                  <a:pt x="13345" y="4862"/>
                </a:cubicBezTo>
                <a:cubicBezTo>
                  <a:pt x="13325" y="4908"/>
                  <a:pt x="13237" y="4931"/>
                  <a:pt x="13196" y="4936"/>
                </a:cubicBezTo>
                <a:cubicBezTo>
                  <a:pt x="13130" y="4936"/>
                  <a:pt x="13113" y="4936"/>
                  <a:pt x="13072" y="4936"/>
                </a:cubicBezTo>
              </a:path>
              <a:path w="695" h="1192">
                <a:moveTo>
                  <a:pt x="13494" y="5035"/>
                </a:moveTo>
                <a:cubicBezTo>
                  <a:pt x="13510" y="5035"/>
                  <a:pt x="13527" y="5035"/>
                  <a:pt x="13543" y="5035"/>
                </a:cubicBezTo>
                <a:cubicBezTo>
                  <a:pt x="13516" y="5076"/>
                  <a:pt x="13434" y="5060"/>
                  <a:pt x="13370" y="5060"/>
                </a:cubicBezTo>
                <a:cubicBezTo>
                  <a:pt x="13250" y="5060"/>
                  <a:pt x="13140" y="5039"/>
                  <a:pt x="13022" y="5035"/>
                </a:cubicBezTo>
                <a:cubicBezTo>
                  <a:pt x="12953" y="5033"/>
                  <a:pt x="12913" y="5060"/>
                  <a:pt x="12849" y="5060"/>
                </a:cubicBezTo>
              </a:path>
              <a:path w="695" h="1192">
                <a:moveTo>
                  <a:pt x="13320" y="5259"/>
                </a:moveTo>
                <a:cubicBezTo>
                  <a:pt x="13349" y="5221"/>
                  <a:pt x="13345" y="5208"/>
                  <a:pt x="13345" y="5159"/>
                </a:cubicBezTo>
                <a:cubicBezTo>
                  <a:pt x="13271" y="5159"/>
                  <a:pt x="13208" y="5160"/>
                  <a:pt x="13146" y="5209"/>
                </a:cubicBezTo>
                <a:cubicBezTo>
                  <a:pt x="13120" y="5230"/>
                  <a:pt x="13050" y="5335"/>
                  <a:pt x="13122" y="5358"/>
                </a:cubicBezTo>
                <a:cubicBezTo>
                  <a:pt x="13199" y="5382"/>
                  <a:pt x="13245" y="5294"/>
                  <a:pt x="13295" y="5259"/>
                </a:cubicBezTo>
                <a:cubicBezTo>
                  <a:pt x="13338" y="5287"/>
                  <a:pt x="13342" y="5388"/>
                  <a:pt x="13345" y="5457"/>
                </a:cubicBezTo>
                <a:cubicBezTo>
                  <a:pt x="13345" y="5523"/>
                  <a:pt x="13345" y="5540"/>
                  <a:pt x="13345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10080" y="2874960"/>
            <a:ext cx="231840" cy="519120"/>
          </a:xfrm>
          <a:custGeom>
            <a:avLst/>
            <a:gdLst/>
            <a:ahLst/>
            <a:rect l="l" t="t" r="r" b="b"/>
            <a:pathLst>
              <a:path w="646" h="1440">
                <a:moveTo>
                  <a:pt x="12725" y="8062"/>
                </a:moveTo>
                <a:cubicBezTo>
                  <a:pt x="12725" y="8017"/>
                  <a:pt x="12722" y="8004"/>
                  <a:pt x="12750" y="7987"/>
                </a:cubicBezTo>
                <a:cubicBezTo>
                  <a:pt x="12672" y="8007"/>
                  <a:pt x="12653" y="8089"/>
                  <a:pt x="12626" y="8161"/>
                </a:cubicBezTo>
                <a:cubicBezTo>
                  <a:pt x="12584" y="8275"/>
                  <a:pt x="12586" y="8414"/>
                  <a:pt x="12675" y="8508"/>
                </a:cubicBezTo>
                <a:cubicBezTo>
                  <a:pt x="12739" y="8576"/>
                  <a:pt x="12816" y="8526"/>
                  <a:pt x="12824" y="8458"/>
                </a:cubicBezTo>
                <a:cubicBezTo>
                  <a:pt x="12833" y="8386"/>
                  <a:pt x="12792" y="8332"/>
                  <a:pt x="12725" y="8310"/>
                </a:cubicBezTo>
                <a:cubicBezTo>
                  <a:pt x="12680" y="8295"/>
                  <a:pt x="12641" y="8319"/>
                  <a:pt x="12601" y="8334"/>
                </a:cubicBezTo>
              </a:path>
              <a:path w="646" h="1440">
                <a:moveTo>
                  <a:pt x="13171" y="8682"/>
                </a:moveTo>
                <a:cubicBezTo>
                  <a:pt x="13115" y="8723"/>
                  <a:pt x="13044" y="8706"/>
                  <a:pt x="12973" y="8706"/>
                </a:cubicBezTo>
                <a:cubicBezTo>
                  <a:pt x="12824" y="8706"/>
                  <a:pt x="12675" y="8706"/>
                  <a:pt x="12526" y="8706"/>
                </a:cubicBezTo>
              </a:path>
              <a:path w="646" h="1440">
                <a:moveTo>
                  <a:pt x="12973" y="9004"/>
                </a:moveTo>
                <a:cubicBezTo>
                  <a:pt x="12999" y="8969"/>
                  <a:pt x="12998" y="8973"/>
                  <a:pt x="12998" y="8930"/>
                </a:cubicBezTo>
                <a:cubicBezTo>
                  <a:pt x="12941" y="8896"/>
                  <a:pt x="12863" y="8886"/>
                  <a:pt x="12799" y="8930"/>
                </a:cubicBezTo>
                <a:cubicBezTo>
                  <a:pt x="12735" y="8973"/>
                  <a:pt x="12716" y="9015"/>
                  <a:pt x="12700" y="9079"/>
                </a:cubicBezTo>
                <a:cubicBezTo>
                  <a:pt x="12753" y="9120"/>
                  <a:pt x="12792" y="9153"/>
                  <a:pt x="12849" y="9103"/>
                </a:cubicBezTo>
                <a:cubicBezTo>
                  <a:pt x="12890" y="9067"/>
                  <a:pt x="12912" y="9049"/>
                  <a:pt x="12923" y="9004"/>
                </a:cubicBezTo>
                <a:cubicBezTo>
                  <a:pt x="12941" y="9094"/>
                  <a:pt x="12933" y="9185"/>
                  <a:pt x="12948" y="9277"/>
                </a:cubicBezTo>
                <a:cubicBezTo>
                  <a:pt x="12973" y="9351"/>
                  <a:pt x="12982" y="9376"/>
                  <a:pt x="12998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0000" y="3741840"/>
            <a:ext cx="214200" cy="411120"/>
          </a:xfrm>
          <a:custGeom>
            <a:avLst/>
            <a:gdLst/>
            <a:ahLst/>
            <a:rect l="l" t="t" r="r" b="b"/>
            <a:pathLst>
              <a:path w="596" h="1142">
                <a:moveTo>
                  <a:pt x="13047" y="10443"/>
                </a:moveTo>
                <a:cubicBezTo>
                  <a:pt x="13047" y="10418"/>
                  <a:pt x="13047" y="10410"/>
                  <a:pt x="13047" y="10393"/>
                </a:cubicBezTo>
                <a:cubicBezTo>
                  <a:pt x="13072" y="10406"/>
                  <a:pt x="13045" y="10464"/>
                  <a:pt x="13022" y="10517"/>
                </a:cubicBezTo>
                <a:cubicBezTo>
                  <a:pt x="12995" y="10579"/>
                  <a:pt x="12998" y="10624"/>
                  <a:pt x="12998" y="10691"/>
                </a:cubicBezTo>
                <a:cubicBezTo>
                  <a:pt x="12998" y="10754"/>
                  <a:pt x="13050" y="10740"/>
                  <a:pt x="13097" y="10740"/>
                </a:cubicBezTo>
                <a:cubicBezTo>
                  <a:pt x="13188" y="10740"/>
                  <a:pt x="13346" y="10770"/>
                  <a:pt x="13419" y="10716"/>
                </a:cubicBezTo>
              </a:path>
              <a:path w="596" h="1142">
                <a:moveTo>
                  <a:pt x="13221" y="10567"/>
                </a:moveTo>
                <a:cubicBezTo>
                  <a:pt x="13213" y="10559"/>
                  <a:pt x="13204" y="10550"/>
                  <a:pt x="13196" y="10542"/>
                </a:cubicBezTo>
                <a:cubicBezTo>
                  <a:pt x="13196" y="10594"/>
                  <a:pt x="13178" y="10618"/>
                  <a:pt x="13171" y="10666"/>
                </a:cubicBezTo>
                <a:cubicBezTo>
                  <a:pt x="13161" y="10737"/>
                  <a:pt x="13171" y="10817"/>
                  <a:pt x="13171" y="10889"/>
                </a:cubicBezTo>
              </a:path>
              <a:path w="596" h="1142">
                <a:moveTo>
                  <a:pt x="13568" y="10988"/>
                </a:moveTo>
                <a:cubicBezTo>
                  <a:pt x="13635" y="10988"/>
                  <a:pt x="13531" y="10988"/>
                  <a:pt x="13519" y="10988"/>
                </a:cubicBezTo>
                <a:cubicBezTo>
                  <a:pt x="13353" y="10988"/>
                  <a:pt x="13188" y="10988"/>
                  <a:pt x="13022" y="10988"/>
                </a:cubicBezTo>
              </a:path>
              <a:path w="596" h="1142">
                <a:moveTo>
                  <a:pt x="13395" y="11212"/>
                </a:moveTo>
                <a:cubicBezTo>
                  <a:pt x="13403" y="11195"/>
                  <a:pt x="13411" y="11179"/>
                  <a:pt x="13419" y="11162"/>
                </a:cubicBezTo>
                <a:cubicBezTo>
                  <a:pt x="13367" y="11122"/>
                  <a:pt x="13333" y="11134"/>
                  <a:pt x="13271" y="11162"/>
                </a:cubicBezTo>
                <a:cubicBezTo>
                  <a:pt x="13206" y="11191"/>
                  <a:pt x="13171" y="11237"/>
                  <a:pt x="13196" y="11286"/>
                </a:cubicBezTo>
                <a:cubicBezTo>
                  <a:pt x="13264" y="11337"/>
                  <a:pt x="13291" y="11266"/>
                  <a:pt x="13345" y="11212"/>
                </a:cubicBezTo>
                <a:cubicBezTo>
                  <a:pt x="13381" y="11176"/>
                  <a:pt x="13363" y="11159"/>
                  <a:pt x="13395" y="11137"/>
                </a:cubicBezTo>
                <a:cubicBezTo>
                  <a:pt x="13395" y="11246"/>
                  <a:pt x="13426" y="11330"/>
                  <a:pt x="13444" y="11435"/>
                </a:cubicBezTo>
                <a:cubicBezTo>
                  <a:pt x="13444" y="11485"/>
                  <a:pt x="13444" y="11501"/>
                  <a:pt x="13444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5054760"/>
            <a:ext cx="233280" cy="482400"/>
          </a:xfrm>
          <a:custGeom>
            <a:avLst/>
            <a:gdLst/>
            <a:ahLst/>
            <a:rect l="l" t="t" r="r" b="b"/>
            <a:pathLst>
              <a:path w="646" h="1341">
                <a:moveTo>
                  <a:pt x="12402" y="14114"/>
                </a:moveTo>
                <a:cubicBezTo>
                  <a:pt x="12445" y="14038"/>
                  <a:pt x="12436" y="14012"/>
                  <a:pt x="12402" y="14089"/>
                </a:cubicBezTo>
                <a:cubicBezTo>
                  <a:pt x="12371" y="14158"/>
                  <a:pt x="12428" y="14187"/>
                  <a:pt x="12477" y="14213"/>
                </a:cubicBezTo>
                <a:cubicBezTo>
                  <a:pt x="12541" y="14247"/>
                  <a:pt x="12593" y="14237"/>
                  <a:pt x="12650" y="14288"/>
                </a:cubicBezTo>
                <a:cubicBezTo>
                  <a:pt x="12707" y="14339"/>
                  <a:pt x="12702" y="14354"/>
                  <a:pt x="12650" y="14412"/>
                </a:cubicBezTo>
                <a:cubicBezTo>
                  <a:pt x="12587" y="14482"/>
                  <a:pt x="12551" y="14453"/>
                  <a:pt x="12477" y="14436"/>
                </a:cubicBezTo>
                <a:cubicBezTo>
                  <a:pt x="12469" y="14436"/>
                  <a:pt x="12460" y="14436"/>
                  <a:pt x="12452" y="14436"/>
                </a:cubicBezTo>
              </a:path>
              <a:path w="646" h="1341">
                <a:moveTo>
                  <a:pt x="12700" y="14114"/>
                </a:moveTo>
                <a:cubicBezTo>
                  <a:pt x="12717" y="14089"/>
                  <a:pt x="12733" y="14064"/>
                  <a:pt x="12750" y="14039"/>
                </a:cubicBezTo>
                <a:cubicBezTo>
                  <a:pt x="12692" y="14051"/>
                  <a:pt x="12634" y="14079"/>
                  <a:pt x="12576" y="14089"/>
                </a:cubicBezTo>
                <a:cubicBezTo>
                  <a:pt x="12526" y="14089"/>
                  <a:pt x="12510" y="14089"/>
                  <a:pt x="12477" y="14089"/>
                </a:cubicBezTo>
              </a:path>
              <a:path w="646" h="1341">
                <a:moveTo>
                  <a:pt x="12874" y="14635"/>
                </a:moveTo>
                <a:cubicBezTo>
                  <a:pt x="12898" y="14635"/>
                  <a:pt x="12907" y="14635"/>
                  <a:pt x="12923" y="14635"/>
                </a:cubicBezTo>
                <a:cubicBezTo>
                  <a:pt x="12804" y="14635"/>
                  <a:pt x="12693" y="14650"/>
                  <a:pt x="12576" y="14660"/>
                </a:cubicBezTo>
                <a:cubicBezTo>
                  <a:pt x="12479" y="14668"/>
                  <a:pt x="12376" y="14660"/>
                  <a:pt x="12278" y="14660"/>
                </a:cubicBezTo>
              </a:path>
              <a:path w="646" h="1341">
                <a:moveTo>
                  <a:pt x="12626" y="14982"/>
                </a:moveTo>
                <a:cubicBezTo>
                  <a:pt x="12662" y="14954"/>
                  <a:pt x="12664" y="14965"/>
                  <a:pt x="12675" y="14932"/>
                </a:cubicBezTo>
                <a:cubicBezTo>
                  <a:pt x="12635" y="14903"/>
                  <a:pt x="12581" y="14895"/>
                  <a:pt x="12526" y="14908"/>
                </a:cubicBezTo>
                <a:cubicBezTo>
                  <a:pt x="12449" y="14927"/>
                  <a:pt x="12432" y="14988"/>
                  <a:pt x="12427" y="15056"/>
                </a:cubicBezTo>
                <a:cubicBezTo>
                  <a:pt x="12427" y="15064"/>
                  <a:pt x="12427" y="15073"/>
                  <a:pt x="12427" y="15081"/>
                </a:cubicBezTo>
                <a:cubicBezTo>
                  <a:pt x="12523" y="15081"/>
                  <a:pt x="12553" y="15074"/>
                  <a:pt x="12626" y="15007"/>
                </a:cubicBezTo>
                <a:cubicBezTo>
                  <a:pt x="12659" y="14977"/>
                  <a:pt x="12682" y="14966"/>
                  <a:pt x="12725" y="14957"/>
                </a:cubicBezTo>
                <a:cubicBezTo>
                  <a:pt x="12725" y="15070"/>
                  <a:pt x="12713" y="15169"/>
                  <a:pt x="12700" y="15280"/>
                </a:cubicBezTo>
                <a:cubicBezTo>
                  <a:pt x="12700" y="15329"/>
                  <a:pt x="12700" y="15346"/>
                  <a:pt x="12700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2040" y="3197160"/>
            <a:ext cx="241200" cy="169920"/>
          </a:xfrm>
          <a:custGeom>
            <a:avLst/>
            <a:gdLst/>
            <a:ahLst/>
            <a:rect l="l" t="t" r="r" b="b"/>
            <a:pathLst>
              <a:path w="671" h="472">
                <a:moveTo>
                  <a:pt x="17983" y="9054"/>
                </a:moveTo>
                <a:cubicBezTo>
                  <a:pt x="18006" y="9031"/>
                  <a:pt x="18014" y="9027"/>
                  <a:pt x="18008" y="9004"/>
                </a:cubicBezTo>
                <a:cubicBezTo>
                  <a:pt x="17959" y="9016"/>
                  <a:pt x="17909" y="9054"/>
                  <a:pt x="17859" y="9079"/>
                </a:cubicBezTo>
                <a:cubicBezTo>
                  <a:pt x="17796" y="9110"/>
                  <a:pt x="17719" y="9180"/>
                  <a:pt x="17661" y="9203"/>
                </a:cubicBezTo>
                <a:cubicBezTo>
                  <a:pt x="17655" y="9205"/>
                  <a:pt x="17548" y="9240"/>
                  <a:pt x="17537" y="9227"/>
                </a:cubicBezTo>
                <a:cubicBezTo>
                  <a:pt x="17537" y="9219"/>
                  <a:pt x="17537" y="9211"/>
                  <a:pt x="17537" y="9203"/>
                </a:cubicBezTo>
              </a:path>
              <a:path w="671" h="472">
                <a:moveTo>
                  <a:pt x="17785" y="9302"/>
                </a:moveTo>
                <a:cubicBezTo>
                  <a:pt x="17825" y="9322"/>
                  <a:pt x="17832" y="9331"/>
                  <a:pt x="17859" y="9327"/>
                </a:cubicBezTo>
                <a:cubicBezTo>
                  <a:pt x="17859" y="9278"/>
                  <a:pt x="17843" y="9243"/>
                  <a:pt x="17810" y="9203"/>
                </a:cubicBezTo>
                <a:cubicBezTo>
                  <a:pt x="17767" y="9151"/>
                  <a:pt x="17712" y="9064"/>
                  <a:pt x="17661" y="9029"/>
                </a:cubicBezTo>
                <a:cubicBezTo>
                  <a:pt x="17637" y="9012"/>
                  <a:pt x="17640" y="9014"/>
                  <a:pt x="17611" y="9004"/>
                </a:cubicBezTo>
              </a:path>
              <a:path w="671" h="472">
                <a:moveTo>
                  <a:pt x="17735" y="8905"/>
                </a:moveTo>
                <a:cubicBezTo>
                  <a:pt x="17758" y="8882"/>
                  <a:pt x="17762" y="8874"/>
                  <a:pt x="17785" y="8880"/>
                </a:cubicBezTo>
                <a:cubicBezTo>
                  <a:pt x="17774" y="8956"/>
                  <a:pt x="17760" y="9016"/>
                  <a:pt x="17760" y="9103"/>
                </a:cubicBezTo>
                <a:cubicBezTo>
                  <a:pt x="17760" y="9183"/>
                  <a:pt x="17735" y="9248"/>
                  <a:pt x="17735" y="9327"/>
                </a:cubicBezTo>
                <a:cubicBezTo>
                  <a:pt x="17735" y="9335"/>
                  <a:pt x="17735" y="9343"/>
                  <a:pt x="17735" y="9351"/>
                </a:cubicBezTo>
              </a:path>
              <a:path w="671" h="472">
                <a:moveTo>
                  <a:pt x="18008" y="9277"/>
                </a:moveTo>
                <a:cubicBezTo>
                  <a:pt x="17994" y="9235"/>
                  <a:pt x="17938" y="9229"/>
                  <a:pt x="17884" y="9227"/>
                </a:cubicBezTo>
                <a:cubicBezTo>
                  <a:pt x="17775" y="9222"/>
                  <a:pt x="17673" y="9203"/>
                  <a:pt x="17562" y="9203"/>
                </a:cubicBezTo>
                <a:cubicBezTo>
                  <a:pt x="17487" y="9203"/>
                  <a:pt x="17413" y="9203"/>
                  <a:pt x="17338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7760" y="3821040"/>
            <a:ext cx="295200" cy="162000"/>
          </a:xfrm>
          <a:custGeom>
            <a:avLst/>
            <a:gdLst/>
            <a:ahLst/>
            <a:rect l="l" t="t" r="r" b="b"/>
            <a:pathLst>
              <a:path w="820" h="448">
                <a:moveTo>
                  <a:pt x="17810" y="10840"/>
                </a:moveTo>
                <a:cubicBezTo>
                  <a:pt x="17737" y="10840"/>
                  <a:pt x="17702" y="10855"/>
                  <a:pt x="17636" y="10889"/>
                </a:cubicBezTo>
                <a:cubicBezTo>
                  <a:pt x="17593" y="10911"/>
                  <a:pt x="17553" y="10950"/>
                  <a:pt x="17512" y="10964"/>
                </a:cubicBezTo>
                <a:cubicBezTo>
                  <a:pt x="17487" y="10964"/>
                  <a:pt x="17479" y="10964"/>
                  <a:pt x="17487" y="10988"/>
                </a:cubicBezTo>
              </a:path>
              <a:path w="820" h="448">
                <a:moveTo>
                  <a:pt x="17760" y="11063"/>
                </a:moveTo>
                <a:cubicBezTo>
                  <a:pt x="17768" y="11063"/>
                  <a:pt x="17777" y="11063"/>
                  <a:pt x="17785" y="11063"/>
                </a:cubicBezTo>
                <a:cubicBezTo>
                  <a:pt x="17773" y="11016"/>
                  <a:pt x="17737" y="10982"/>
                  <a:pt x="17711" y="10939"/>
                </a:cubicBezTo>
                <a:cubicBezTo>
                  <a:pt x="17675" y="10879"/>
                  <a:pt x="17634" y="10818"/>
                  <a:pt x="17587" y="10765"/>
                </a:cubicBezTo>
                <a:cubicBezTo>
                  <a:pt x="17564" y="10742"/>
                  <a:pt x="17560" y="10734"/>
                  <a:pt x="17537" y="10740"/>
                </a:cubicBezTo>
              </a:path>
              <a:path w="820" h="448">
                <a:moveTo>
                  <a:pt x="17735" y="10641"/>
                </a:moveTo>
                <a:cubicBezTo>
                  <a:pt x="17735" y="10584"/>
                  <a:pt x="17689" y="10748"/>
                  <a:pt x="17686" y="10765"/>
                </a:cubicBezTo>
                <a:cubicBezTo>
                  <a:pt x="17673" y="10830"/>
                  <a:pt x="17661" y="10896"/>
                  <a:pt x="17661" y="10964"/>
                </a:cubicBezTo>
                <a:cubicBezTo>
                  <a:pt x="17661" y="10972"/>
                  <a:pt x="17661" y="10980"/>
                  <a:pt x="17661" y="10988"/>
                </a:cubicBezTo>
              </a:path>
              <a:path w="820" h="448">
                <a:moveTo>
                  <a:pt x="18033" y="11038"/>
                </a:moveTo>
                <a:cubicBezTo>
                  <a:pt x="18023" y="11008"/>
                  <a:pt x="17953" y="10995"/>
                  <a:pt x="17909" y="10988"/>
                </a:cubicBezTo>
                <a:cubicBezTo>
                  <a:pt x="17793" y="10969"/>
                  <a:pt x="17678" y="10943"/>
                  <a:pt x="17562" y="10914"/>
                </a:cubicBezTo>
                <a:cubicBezTo>
                  <a:pt x="17456" y="10887"/>
                  <a:pt x="17347" y="10847"/>
                  <a:pt x="17239" y="10840"/>
                </a:cubicBezTo>
                <a:cubicBezTo>
                  <a:pt x="17231" y="10840"/>
                  <a:pt x="17222" y="10840"/>
                  <a:pt x="17214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34120" y="2919240"/>
            <a:ext cx="1090800" cy="1206720"/>
          </a:xfrm>
          <a:custGeom>
            <a:avLst/>
            <a:gdLst/>
            <a:ahLst/>
            <a:rect l="l" t="t" r="r" b="b"/>
            <a:pathLst>
              <a:path w="3027" h="3350">
                <a:moveTo>
                  <a:pt x="19844" y="8235"/>
                </a:moveTo>
                <a:cubicBezTo>
                  <a:pt x="19844" y="8243"/>
                  <a:pt x="19844" y="8252"/>
                  <a:pt x="19844" y="8260"/>
                </a:cubicBezTo>
                <a:cubicBezTo>
                  <a:pt x="19809" y="8214"/>
                  <a:pt x="19811" y="8211"/>
                  <a:pt x="19844" y="8186"/>
                </a:cubicBezTo>
                <a:cubicBezTo>
                  <a:pt x="19905" y="8141"/>
                  <a:pt x="19910" y="8136"/>
                  <a:pt x="19993" y="8136"/>
                </a:cubicBezTo>
                <a:cubicBezTo>
                  <a:pt x="20041" y="8136"/>
                  <a:pt x="20080" y="8131"/>
                  <a:pt x="20092" y="8186"/>
                </a:cubicBezTo>
                <a:cubicBezTo>
                  <a:pt x="20106" y="8253"/>
                  <a:pt x="20045" y="8327"/>
                  <a:pt x="20017" y="8384"/>
                </a:cubicBezTo>
                <a:cubicBezTo>
                  <a:pt x="19994" y="8430"/>
                  <a:pt x="19948" y="8486"/>
                  <a:pt x="19943" y="8533"/>
                </a:cubicBezTo>
                <a:cubicBezTo>
                  <a:pt x="19943" y="8541"/>
                  <a:pt x="19943" y="8550"/>
                  <a:pt x="19943" y="8558"/>
                </a:cubicBezTo>
                <a:cubicBezTo>
                  <a:pt x="20026" y="8558"/>
                  <a:pt x="20108" y="8558"/>
                  <a:pt x="20191" y="8558"/>
                </a:cubicBezTo>
              </a:path>
              <a:path w="3027" h="3350">
                <a:moveTo>
                  <a:pt x="20588" y="8136"/>
                </a:moveTo>
                <a:cubicBezTo>
                  <a:pt x="20628" y="8123"/>
                  <a:pt x="20598" y="8124"/>
                  <a:pt x="20638" y="8111"/>
                </a:cubicBezTo>
                <a:cubicBezTo>
                  <a:pt x="20638" y="8168"/>
                  <a:pt x="20631" y="8233"/>
                  <a:pt x="20613" y="8285"/>
                </a:cubicBezTo>
                <a:cubicBezTo>
                  <a:pt x="20591" y="8351"/>
                  <a:pt x="20569" y="8393"/>
                  <a:pt x="20613" y="8458"/>
                </a:cubicBezTo>
                <a:cubicBezTo>
                  <a:pt x="20643" y="8503"/>
                  <a:pt x="20715" y="8483"/>
                  <a:pt x="20762" y="8483"/>
                </a:cubicBezTo>
                <a:cubicBezTo>
                  <a:pt x="20811" y="8483"/>
                  <a:pt x="21018" y="8483"/>
                  <a:pt x="20985" y="8483"/>
                </a:cubicBezTo>
              </a:path>
              <a:path w="3027" h="3350">
                <a:moveTo>
                  <a:pt x="20886" y="8384"/>
                </a:moveTo>
                <a:cubicBezTo>
                  <a:pt x="20886" y="8376"/>
                  <a:pt x="20886" y="8367"/>
                  <a:pt x="20886" y="8359"/>
                </a:cubicBezTo>
                <a:cubicBezTo>
                  <a:pt x="20847" y="8372"/>
                  <a:pt x="20838" y="8406"/>
                  <a:pt x="20836" y="8458"/>
                </a:cubicBezTo>
                <a:cubicBezTo>
                  <a:pt x="20833" y="8516"/>
                  <a:pt x="20836" y="8574"/>
                  <a:pt x="20836" y="8632"/>
                </a:cubicBezTo>
              </a:path>
              <a:path w="3027" h="3350">
                <a:moveTo>
                  <a:pt x="21332" y="8731"/>
                </a:moveTo>
                <a:cubicBezTo>
                  <a:pt x="21319" y="8693"/>
                  <a:pt x="21303" y="8706"/>
                  <a:pt x="21258" y="8706"/>
                </a:cubicBezTo>
                <a:cubicBezTo>
                  <a:pt x="21113" y="8706"/>
                  <a:pt x="20978" y="8695"/>
                  <a:pt x="20836" y="8682"/>
                </a:cubicBezTo>
                <a:cubicBezTo>
                  <a:pt x="20686" y="8668"/>
                  <a:pt x="20538" y="8675"/>
                  <a:pt x="20389" y="8657"/>
                </a:cubicBezTo>
                <a:cubicBezTo>
                  <a:pt x="20277" y="8643"/>
                  <a:pt x="20156" y="8657"/>
                  <a:pt x="20042" y="8657"/>
                </a:cubicBezTo>
              </a:path>
              <a:path w="3027" h="3350">
                <a:moveTo>
                  <a:pt x="20340" y="9054"/>
                </a:moveTo>
                <a:cubicBezTo>
                  <a:pt x="20365" y="9054"/>
                  <a:pt x="20373" y="9054"/>
                  <a:pt x="20389" y="9054"/>
                </a:cubicBezTo>
                <a:cubicBezTo>
                  <a:pt x="20376" y="9014"/>
                  <a:pt x="20342" y="9007"/>
                  <a:pt x="20290" y="9004"/>
                </a:cubicBezTo>
                <a:cubicBezTo>
                  <a:pt x="20217" y="9000"/>
                  <a:pt x="20145" y="9035"/>
                  <a:pt x="20117" y="9103"/>
                </a:cubicBezTo>
                <a:cubicBezTo>
                  <a:pt x="20103" y="9136"/>
                  <a:pt x="20125" y="9155"/>
                  <a:pt x="20141" y="9178"/>
                </a:cubicBezTo>
                <a:cubicBezTo>
                  <a:pt x="20219" y="9162"/>
                  <a:pt x="20251" y="9121"/>
                  <a:pt x="20315" y="9079"/>
                </a:cubicBezTo>
                <a:cubicBezTo>
                  <a:pt x="20359" y="9057"/>
                  <a:pt x="20370" y="9054"/>
                  <a:pt x="20389" y="9029"/>
                </a:cubicBezTo>
                <a:cubicBezTo>
                  <a:pt x="20418" y="9106"/>
                  <a:pt x="20414" y="9167"/>
                  <a:pt x="20414" y="9252"/>
                </a:cubicBezTo>
                <a:cubicBezTo>
                  <a:pt x="20414" y="9293"/>
                  <a:pt x="20414" y="9335"/>
                  <a:pt x="20414" y="9376"/>
                </a:cubicBezTo>
              </a:path>
              <a:path w="3027" h="3350">
                <a:moveTo>
                  <a:pt x="20712" y="9302"/>
                </a:moveTo>
                <a:cubicBezTo>
                  <a:pt x="20712" y="9246"/>
                  <a:pt x="20699" y="9194"/>
                  <a:pt x="20737" y="9153"/>
                </a:cubicBezTo>
                <a:cubicBezTo>
                  <a:pt x="20770" y="9117"/>
                  <a:pt x="20849" y="9032"/>
                  <a:pt x="20910" y="9079"/>
                </a:cubicBezTo>
                <a:cubicBezTo>
                  <a:pt x="20970" y="9125"/>
                  <a:pt x="20972" y="9263"/>
                  <a:pt x="20960" y="9327"/>
                </a:cubicBezTo>
                <a:cubicBezTo>
                  <a:pt x="20946" y="9401"/>
                  <a:pt x="20912" y="9446"/>
                  <a:pt x="20836" y="9451"/>
                </a:cubicBezTo>
                <a:cubicBezTo>
                  <a:pt x="20735" y="9458"/>
                  <a:pt x="20714" y="9355"/>
                  <a:pt x="20687" y="9277"/>
                </a:cubicBezTo>
                <a:cubicBezTo>
                  <a:pt x="20656" y="9188"/>
                  <a:pt x="20673" y="9182"/>
                  <a:pt x="20712" y="9103"/>
                </a:cubicBezTo>
              </a:path>
              <a:path w="3027" h="3350">
                <a:moveTo>
                  <a:pt x="19993" y="10071"/>
                </a:moveTo>
                <a:cubicBezTo>
                  <a:pt x="19970" y="10094"/>
                  <a:pt x="19966" y="10102"/>
                  <a:pt x="19943" y="10096"/>
                </a:cubicBezTo>
                <a:cubicBezTo>
                  <a:pt x="19952" y="10059"/>
                  <a:pt x="19980" y="10034"/>
                  <a:pt x="20017" y="10021"/>
                </a:cubicBezTo>
                <a:cubicBezTo>
                  <a:pt x="20056" y="10008"/>
                  <a:pt x="20128" y="10024"/>
                  <a:pt x="20141" y="10071"/>
                </a:cubicBezTo>
                <a:cubicBezTo>
                  <a:pt x="20163" y="10150"/>
                  <a:pt x="20118" y="10225"/>
                  <a:pt x="20092" y="10294"/>
                </a:cubicBezTo>
                <a:cubicBezTo>
                  <a:pt x="20061" y="10375"/>
                  <a:pt x="20009" y="10385"/>
                  <a:pt x="19993" y="10468"/>
                </a:cubicBezTo>
                <a:cubicBezTo>
                  <a:pt x="20076" y="10468"/>
                  <a:pt x="20158" y="10468"/>
                  <a:pt x="20241" y="10468"/>
                </a:cubicBezTo>
              </a:path>
              <a:path w="3027" h="3350">
                <a:moveTo>
                  <a:pt x="20464" y="10170"/>
                </a:moveTo>
                <a:cubicBezTo>
                  <a:pt x="20472" y="10153"/>
                  <a:pt x="20481" y="10137"/>
                  <a:pt x="20489" y="10120"/>
                </a:cubicBezTo>
                <a:cubicBezTo>
                  <a:pt x="20489" y="10201"/>
                  <a:pt x="20454" y="10239"/>
                  <a:pt x="20439" y="10319"/>
                </a:cubicBezTo>
                <a:cubicBezTo>
                  <a:pt x="20426" y="10387"/>
                  <a:pt x="20422" y="10468"/>
                  <a:pt x="20489" y="10492"/>
                </a:cubicBezTo>
                <a:cubicBezTo>
                  <a:pt x="20566" y="10520"/>
                  <a:pt x="20702" y="10492"/>
                  <a:pt x="20786" y="10492"/>
                </a:cubicBezTo>
              </a:path>
              <a:path w="3027" h="3350">
                <a:moveTo>
                  <a:pt x="20662" y="10418"/>
                </a:moveTo>
                <a:cubicBezTo>
                  <a:pt x="20642" y="10377"/>
                  <a:pt x="20645" y="10360"/>
                  <a:pt x="20613" y="10368"/>
                </a:cubicBezTo>
                <a:cubicBezTo>
                  <a:pt x="20599" y="10440"/>
                  <a:pt x="20588" y="10489"/>
                  <a:pt x="20588" y="10567"/>
                </a:cubicBezTo>
                <a:cubicBezTo>
                  <a:pt x="20588" y="10608"/>
                  <a:pt x="20588" y="10616"/>
                  <a:pt x="20588" y="10641"/>
                </a:cubicBezTo>
              </a:path>
              <a:path w="3027" h="3350">
                <a:moveTo>
                  <a:pt x="20985" y="10889"/>
                </a:moveTo>
                <a:cubicBezTo>
                  <a:pt x="20909" y="10889"/>
                  <a:pt x="20860" y="10883"/>
                  <a:pt x="20786" y="10864"/>
                </a:cubicBezTo>
                <a:cubicBezTo>
                  <a:pt x="20639" y="10827"/>
                  <a:pt x="20488" y="10838"/>
                  <a:pt x="20340" y="10815"/>
                </a:cubicBezTo>
                <a:cubicBezTo>
                  <a:pt x="20216" y="10796"/>
                  <a:pt x="20135" y="10789"/>
                  <a:pt x="20017" y="10815"/>
                </a:cubicBezTo>
                <a:cubicBezTo>
                  <a:pt x="19984" y="10815"/>
                  <a:pt x="19968" y="10815"/>
                  <a:pt x="19943" y="10815"/>
                </a:cubicBezTo>
              </a:path>
              <a:path w="3027" h="3350">
                <a:moveTo>
                  <a:pt x="20141" y="11038"/>
                </a:moveTo>
                <a:cubicBezTo>
                  <a:pt x="20164" y="11015"/>
                  <a:pt x="20172" y="11011"/>
                  <a:pt x="20166" y="10988"/>
                </a:cubicBezTo>
                <a:cubicBezTo>
                  <a:pt x="20110" y="10988"/>
                  <a:pt x="20067" y="10982"/>
                  <a:pt x="20017" y="11013"/>
                </a:cubicBezTo>
                <a:cubicBezTo>
                  <a:pt x="19979" y="11037"/>
                  <a:pt x="19946" y="11093"/>
                  <a:pt x="19968" y="11137"/>
                </a:cubicBezTo>
                <a:cubicBezTo>
                  <a:pt x="19995" y="11190"/>
                  <a:pt x="20082" y="11161"/>
                  <a:pt x="20117" y="11137"/>
                </a:cubicBezTo>
                <a:cubicBezTo>
                  <a:pt x="20150" y="11115"/>
                  <a:pt x="20166" y="11069"/>
                  <a:pt x="20191" y="11038"/>
                </a:cubicBezTo>
                <a:cubicBezTo>
                  <a:pt x="20233" y="11094"/>
                  <a:pt x="20202" y="11144"/>
                  <a:pt x="20216" y="11212"/>
                </a:cubicBezTo>
                <a:cubicBezTo>
                  <a:pt x="20238" y="11277"/>
                  <a:pt x="20246" y="11292"/>
                  <a:pt x="20241" y="11336"/>
                </a:cubicBezTo>
              </a:path>
              <a:path w="3027" h="3350">
                <a:moveTo>
                  <a:pt x="20588" y="11237"/>
                </a:moveTo>
                <a:cubicBezTo>
                  <a:pt x="20560" y="11209"/>
                  <a:pt x="20521" y="11183"/>
                  <a:pt x="20538" y="11137"/>
                </a:cubicBezTo>
                <a:cubicBezTo>
                  <a:pt x="20562" y="11071"/>
                  <a:pt x="20597" y="11042"/>
                  <a:pt x="20662" y="11038"/>
                </a:cubicBezTo>
                <a:cubicBezTo>
                  <a:pt x="20774" y="11031"/>
                  <a:pt x="20805" y="11148"/>
                  <a:pt x="20811" y="11237"/>
                </a:cubicBezTo>
                <a:cubicBezTo>
                  <a:pt x="20817" y="11317"/>
                  <a:pt x="20835" y="11431"/>
                  <a:pt x="20737" y="11460"/>
                </a:cubicBezTo>
                <a:cubicBezTo>
                  <a:pt x="20657" y="11484"/>
                  <a:pt x="20597" y="11365"/>
                  <a:pt x="20563" y="11311"/>
                </a:cubicBezTo>
              </a:path>
              <a:path w="3027" h="3350">
                <a:moveTo>
                  <a:pt x="22845" y="10071"/>
                </a:moveTo>
                <a:cubicBezTo>
                  <a:pt x="22836" y="10043"/>
                  <a:pt x="22788" y="10032"/>
                  <a:pt x="22746" y="10021"/>
                </a:cubicBezTo>
                <a:cubicBezTo>
                  <a:pt x="22685" y="10006"/>
                  <a:pt x="22587" y="10005"/>
                  <a:pt x="22523" y="9996"/>
                </a:cubicBezTo>
                <a:cubicBezTo>
                  <a:pt x="22442" y="9984"/>
                  <a:pt x="22370" y="9993"/>
                  <a:pt x="22299" y="9971"/>
                </a:cubicBezTo>
                <a:cubicBezTo>
                  <a:pt x="22279" y="9965"/>
                  <a:pt x="22246" y="9971"/>
                  <a:pt x="22225" y="9971"/>
                </a:cubicBezTo>
              </a:path>
              <a:path w="3027" h="3350">
                <a:moveTo>
                  <a:pt x="22572" y="9872"/>
                </a:moveTo>
                <a:cubicBezTo>
                  <a:pt x="22589" y="9864"/>
                  <a:pt x="22605" y="9855"/>
                  <a:pt x="22622" y="9847"/>
                </a:cubicBezTo>
                <a:cubicBezTo>
                  <a:pt x="22622" y="9913"/>
                  <a:pt x="22580" y="9962"/>
                  <a:pt x="22572" y="10021"/>
                </a:cubicBezTo>
                <a:cubicBezTo>
                  <a:pt x="22559" y="10116"/>
                  <a:pt x="22552" y="10225"/>
                  <a:pt x="22547" y="10319"/>
                </a:cubicBezTo>
                <a:cubicBezTo>
                  <a:pt x="22547" y="10335"/>
                  <a:pt x="22547" y="10352"/>
                  <a:pt x="22547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59720" y="4429080"/>
            <a:ext cx="911160" cy="519120"/>
          </a:xfrm>
          <a:custGeom>
            <a:avLst/>
            <a:gdLst/>
            <a:ahLst/>
            <a:rect l="l" t="t" r="r" b="b"/>
            <a:pathLst>
              <a:path w="2531" h="1440">
                <a:moveTo>
                  <a:pt x="19050" y="12675"/>
                </a:moveTo>
                <a:cubicBezTo>
                  <a:pt x="19008" y="12707"/>
                  <a:pt x="18982" y="12700"/>
                  <a:pt x="18926" y="12700"/>
                </a:cubicBezTo>
                <a:cubicBezTo>
                  <a:pt x="18869" y="12700"/>
                  <a:pt x="18833" y="12675"/>
                  <a:pt x="18777" y="12675"/>
                </a:cubicBezTo>
              </a:path>
              <a:path w="2531" h="1440">
                <a:moveTo>
                  <a:pt x="19000" y="12774"/>
                </a:moveTo>
                <a:cubicBezTo>
                  <a:pt x="19023" y="12797"/>
                  <a:pt x="19031" y="12801"/>
                  <a:pt x="19025" y="12824"/>
                </a:cubicBezTo>
                <a:cubicBezTo>
                  <a:pt x="18975" y="12837"/>
                  <a:pt x="18962" y="12849"/>
                  <a:pt x="18901" y="12849"/>
                </a:cubicBezTo>
                <a:cubicBezTo>
                  <a:pt x="18852" y="12849"/>
                  <a:pt x="18835" y="12849"/>
                  <a:pt x="18802" y="12849"/>
                </a:cubicBezTo>
              </a:path>
              <a:path w="2531" h="1440">
                <a:moveTo>
                  <a:pt x="20117" y="12378"/>
                </a:moveTo>
                <a:cubicBezTo>
                  <a:pt x="20156" y="12318"/>
                  <a:pt x="20141" y="12340"/>
                  <a:pt x="20191" y="12303"/>
                </a:cubicBezTo>
                <a:cubicBezTo>
                  <a:pt x="20178" y="12355"/>
                  <a:pt x="20140" y="12423"/>
                  <a:pt x="20117" y="12477"/>
                </a:cubicBezTo>
                <a:cubicBezTo>
                  <a:pt x="20096" y="12525"/>
                  <a:pt x="20072" y="12579"/>
                  <a:pt x="20067" y="12626"/>
                </a:cubicBezTo>
                <a:cubicBezTo>
                  <a:pt x="20060" y="12689"/>
                  <a:pt x="20124" y="12675"/>
                  <a:pt x="20166" y="12675"/>
                </a:cubicBezTo>
                <a:cubicBezTo>
                  <a:pt x="20239" y="12675"/>
                  <a:pt x="20543" y="12640"/>
                  <a:pt x="20563" y="12700"/>
                </a:cubicBezTo>
              </a:path>
              <a:path w="2531" h="1440">
                <a:moveTo>
                  <a:pt x="20439" y="12551"/>
                </a:moveTo>
                <a:cubicBezTo>
                  <a:pt x="20375" y="12551"/>
                  <a:pt x="20369" y="12558"/>
                  <a:pt x="20365" y="12626"/>
                </a:cubicBezTo>
                <a:cubicBezTo>
                  <a:pt x="20361" y="12698"/>
                  <a:pt x="20345" y="12755"/>
                  <a:pt x="20340" y="12824"/>
                </a:cubicBezTo>
                <a:cubicBezTo>
                  <a:pt x="20340" y="12832"/>
                  <a:pt x="20340" y="12841"/>
                  <a:pt x="20340" y="12849"/>
                </a:cubicBezTo>
              </a:path>
              <a:path w="2531" h="1440">
                <a:moveTo>
                  <a:pt x="21034" y="12477"/>
                </a:moveTo>
                <a:cubicBezTo>
                  <a:pt x="21087" y="12477"/>
                  <a:pt x="21096" y="12465"/>
                  <a:pt x="21134" y="12427"/>
                </a:cubicBezTo>
                <a:cubicBezTo>
                  <a:pt x="21072" y="12427"/>
                  <a:pt x="21015" y="12418"/>
                  <a:pt x="20960" y="12452"/>
                </a:cubicBezTo>
                <a:cubicBezTo>
                  <a:pt x="20927" y="12473"/>
                  <a:pt x="20854" y="12511"/>
                  <a:pt x="20836" y="12551"/>
                </a:cubicBezTo>
                <a:cubicBezTo>
                  <a:pt x="20836" y="12576"/>
                  <a:pt x="20836" y="12584"/>
                  <a:pt x="20836" y="12601"/>
                </a:cubicBezTo>
                <a:cubicBezTo>
                  <a:pt x="20888" y="12612"/>
                  <a:pt x="20933" y="12638"/>
                  <a:pt x="20985" y="12650"/>
                </a:cubicBezTo>
                <a:cubicBezTo>
                  <a:pt x="21017" y="12658"/>
                  <a:pt x="21068" y="12689"/>
                  <a:pt x="21084" y="12725"/>
                </a:cubicBezTo>
                <a:cubicBezTo>
                  <a:pt x="21084" y="12750"/>
                  <a:pt x="21084" y="12758"/>
                  <a:pt x="21084" y="12774"/>
                </a:cubicBezTo>
                <a:cubicBezTo>
                  <a:pt x="21054" y="12796"/>
                  <a:pt x="21003" y="12817"/>
                  <a:pt x="20960" y="12799"/>
                </a:cubicBezTo>
                <a:cubicBezTo>
                  <a:pt x="20931" y="12787"/>
                  <a:pt x="20891" y="12734"/>
                  <a:pt x="20910" y="12700"/>
                </a:cubicBezTo>
                <a:cubicBezTo>
                  <a:pt x="20947" y="12634"/>
                  <a:pt x="21047" y="12564"/>
                  <a:pt x="21109" y="12526"/>
                </a:cubicBezTo>
                <a:cubicBezTo>
                  <a:pt x="21168" y="12489"/>
                  <a:pt x="21218" y="12466"/>
                  <a:pt x="21282" y="12452"/>
                </a:cubicBezTo>
              </a:path>
              <a:path w="2531" h="1440">
                <a:moveTo>
                  <a:pt x="21258" y="13122"/>
                </a:moveTo>
                <a:cubicBezTo>
                  <a:pt x="21272" y="13127"/>
                  <a:pt x="21328" y="13165"/>
                  <a:pt x="21282" y="13146"/>
                </a:cubicBezTo>
                <a:cubicBezTo>
                  <a:pt x="21198" y="13112"/>
                  <a:pt x="21126" y="13100"/>
                  <a:pt x="21034" y="13097"/>
                </a:cubicBezTo>
                <a:cubicBezTo>
                  <a:pt x="20883" y="13093"/>
                  <a:pt x="20738" y="13058"/>
                  <a:pt x="20588" y="13047"/>
                </a:cubicBezTo>
                <a:cubicBezTo>
                  <a:pt x="20466" y="13038"/>
                  <a:pt x="20339" y="13047"/>
                  <a:pt x="20216" y="13047"/>
                </a:cubicBezTo>
              </a:path>
              <a:path w="2531" h="1440">
                <a:moveTo>
                  <a:pt x="20365" y="13345"/>
                </a:moveTo>
                <a:cubicBezTo>
                  <a:pt x="20387" y="13322"/>
                  <a:pt x="20395" y="13317"/>
                  <a:pt x="20389" y="13295"/>
                </a:cubicBezTo>
                <a:cubicBezTo>
                  <a:pt x="20349" y="13271"/>
                  <a:pt x="20268" y="13252"/>
                  <a:pt x="20216" y="13271"/>
                </a:cubicBezTo>
                <a:cubicBezTo>
                  <a:pt x="20164" y="13290"/>
                  <a:pt x="20145" y="13351"/>
                  <a:pt x="20141" y="13395"/>
                </a:cubicBezTo>
                <a:cubicBezTo>
                  <a:pt x="20136" y="13448"/>
                  <a:pt x="20200" y="13456"/>
                  <a:pt x="20241" y="13444"/>
                </a:cubicBezTo>
                <a:cubicBezTo>
                  <a:pt x="20284" y="13431"/>
                  <a:pt x="20368" y="13352"/>
                  <a:pt x="20414" y="13370"/>
                </a:cubicBezTo>
                <a:cubicBezTo>
                  <a:pt x="20478" y="13396"/>
                  <a:pt x="20476" y="13488"/>
                  <a:pt x="20464" y="13543"/>
                </a:cubicBezTo>
                <a:cubicBezTo>
                  <a:pt x="20449" y="13617"/>
                  <a:pt x="20439" y="13666"/>
                  <a:pt x="20439" y="13742"/>
                </a:cubicBezTo>
              </a:path>
              <a:path w="2531" h="1440">
                <a:moveTo>
                  <a:pt x="20762" y="13543"/>
                </a:moveTo>
                <a:cubicBezTo>
                  <a:pt x="20762" y="13498"/>
                  <a:pt x="20756" y="13479"/>
                  <a:pt x="20786" y="13444"/>
                </a:cubicBezTo>
                <a:cubicBezTo>
                  <a:pt x="20809" y="13417"/>
                  <a:pt x="20871" y="13343"/>
                  <a:pt x="20910" y="13345"/>
                </a:cubicBezTo>
                <a:cubicBezTo>
                  <a:pt x="21008" y="13351"/>
                  <a:pt x="21008" y="13478"/>
                  <a:pt x="21010" y="13543"/>
                </a:cubicBezTo>
                <a:cubicBezTo>
                  <a:pt x="21014" y="13650"/>
                  <a:pt x="20995" y="13725"/>
                  <a:pt x="20886" y="13742"/>
                </a:cubicBezTo>
                <a:cubicBezTo>
                  <a:pt x="20821" y="13752"/>
                  <a:pt x="20753" y="13674"/>
                  <a:pt x="20737" y="13618"/>
                </a:cubicBezTo>
                <a:cubicBezTo>
                  <a:pt x="20737" y="13568"/>
                  <a:pt x="20737" y="13552"/>
                  <a:pt x="20737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70800" y="5126040"/>
            <a:ext cx="706320" cy="509760"/>
          </a:xfrm>
          <a:custGeom>
            <a:avLst/>
            <a:gdLst/>
            <a:ahLst/>
            <a:rect l="l" t="t" r="r" b="b"/>
            <a:pathLst>
              <a:path w="1961" h="1415">
                <a:moveTo>
                  <a:pt x="18827" y="14436"/>
                </a:moveTo>
                <a:cubicBezTo>
                  <a:pt x="18827" y="14444"/>
                  <a:pt x="18827" y="14453"/>
                  <a:pt x="18827" y="14461"/>
                </a:cubicBezTo>
                <a:cubicBezTo>
                  <a:pt x="18773" y="14461"/>
                  <a:pt x="18745" y="14477"/>
                  <a:pt x="18703" y="14486"/>
                </a:cubicBezTo>
                <a:cubicBezTo>
                  <a:pt x="18653" y="14497"/>
                  <a:pt x="18606" y="14511"/>
                  <a:pt x="18554" y="14511"/>
                </a:cubicBezTo>
                <a:cubicBezTo>
                  <a:pt x="18546" y="14511"/>
                  <a:pt x="18537" y="14511"/>
                  <a:pt x="18529" y="14511"/>
                </a:cubicBezTo>
              </a:path>
              <a:path w="1961" h="1415">
                <a:moveTo>
                  <a:pt x="18728" y="14635"/>
                </a:moveTo>
                <a:cubicBezTo>
                  <a:pt x="18767" y="14674"/>
                  <a:pt x="18783" y="14675"/>
                  <a:pt x="18777" y="14709"/>
                </a:cubicBezTo>
                <a:cubicBezTo>
                  <a:pt x="18710" y="14709"/>
                  <a:pt x="18665" y="14707"/>
                  <a:pt x="18604" y="14734"/>
                </a:cubicBezTo>
              </a:path>
              <a:path w="1961" h="1415">
                <a:moveTo>
                  <a:pt x="20067" y="14312"/>
                </a:moveTo>
                <a:cubicBezTo>
                  <a:pt x="20117" y="14312"/>
                  <a:pt x="20166" y="14312"/>
                  <a:pt x="20216" y="14312"/>
                </a:cubicBezTo>
                <a:cubicBezTo>
                  <a:pt x="20216" y="14273"/>
                  <a:pt x="20210" y="14248"/>
                  <a:pt x="20166" y="14238"/>
                </a:cubicBezTo>
                <a:cubicBezTo>
                  <a:pt x="20101" y="14224"/>
                  <a:pt x="20026" y="14237"/>
                  <a:pt x="19968" y="14263"/>
                </a:cubicBezTo>
                <a:cubicBezTo>
                  <a:pt x="19894" y="14296"/>
                  <a:pt x="19850" y="14336"/>
                  <a:pt x="19844" y="14412"/>
                </a:cubicBezTo>
                <a:cubicBezTo>
                  <a:pt x="19840" y="14465"/>
                  <a:pt x="19903" y="14513"/>
                  <a:pt x="19943" y="14536"/>
                </a:cubicBezTo>
                <a:cubicBezTo>
                  <a:pt x="19995" y="14566"/>
                  <a:pt x="20095" y="14595"/>
                  <a:pt x="20117" y="14660"/>
                </a:cubicBezTo>
                <a:cubicBezTo>
                  <a:pt x="20134" y="14709"/>
                  <a:pt x="20117" y="14755"/>
                  <a:pt x="20067" y="14759"/>
                </a:cubicBezTo>
                <a:cubicBezTo>
                  <a:pt x="20019" y="14762"/>
                  <a:pt x="19966" y="14762"/>
                  <a:pt x="19943" y="14709"/>
                </a:cubicBezTo>
                <a:cubicBezTo>
                  <a:pt x="19918" y="14652"/>
                  <a:pt x="19970" y="14583"/>
                  <a:pt x="19993" y="14536"/>
                </a:cubicBezTo>
                <a:cubicBezTo>
                  <a:pt x="20033" y="14456"/>
                  <a:pt x="20092" y="14409"/>
                  <a:pt x="20166" y="14362"/>
                </a:cubicBezTo>
              </a:path>
              <a:path w="1961" h="1415">
                <a:moveTo>
                  <a:pt x="20489" y="15007"/>
                </a:moveTo>
                <a:cubicBezTo>
                  <a:pt x="20417" y="14993"/>
                  <a:pt x="20368" y="14982"/>
                  <a:pt x="20290" y="14982"/>
                </a:cubicBezTo>
                <a:cubicBezTo>
                  <a:pt x="20075" y="14982"/>
                  <a:pt x="19860" y="14982"/>
                  <a:pt x="19645" y="14982"/>
                </a:cubicBezTo>
              </a:path>
              <a:path w="1961" h="1415">
                <a:moveTo>
                  <a:pt x="19769" y="15205"/>
                </a:moveTo>
                <a:cubicBezTo>
                  <a:pt x="19769" y="15337"/>
                  <a:pt x="19769" y="15470"/>
                  <a:pt x="19769" y="15602"/>
                </a:cubicBezTo>
              </a:path>
              <a:path w="1961" h="1415">
                <a:moveTo>
                  <a:pt x="20141" y="15329"/>
                </a:moveTo>
                <a:cubicBezTo>
                  <a:pt x="20158" y="15313"/>
                  <a:pt x="20174" y="15296"/>
                  <a:pt x="20191" y="15280"/>
                </a:cubicBezTo>
                <a:cubicBezTo>
                  <a:pt x="20136" y="15288"/>
                  <a:pt x="20101" y="15302"/>
                  <a:pt x="20067" y="15354"/>
                </a:cubicBezTo>
                <a:cubicBezTo>
                  <a:pt x="20059" y="15371"/>
                  <a:pt x="20050" y="15387"/>
                  <a:pt x="20042" y="15404"/>
                </a:cubicBezTo>
                <a:cubicBezTo>
                  <a:pt x="20100" y="15450"/>
                  <a:pt x="20150" y="15448"/>
                  <a:pt x="20216" y="15478"/>
                </a:cubicBezTo>
                <a:cubicBezTo>
                  <a:pt x="20272" y="15503"/>
                  <a:pt x="20315" y="15516"/>
                  <a:pt x="20340" y="15577"/>
                </a:cubicBezTo>
                <a:cubicBezTo>
                  <a:pt x="20363" y="15634"/>
                  <a:pt x="20269" y="15650"/>
                  <a:pt x="20241" y="15652"/>
                </a:cubicBezTo>
                <a:cubicBezTo>
                  <a:pt x="20206" y="15652"/>
                  <a:pt x="20188" y="15647"/>
                  <a:pt x="20166" y="15627"/>
                </a:cubicBezTo>
              </a:path>
              <a:path w="1961" h="1415">
                <a:moveTo>
                  <a:pt x="19993" y="15429"/>
                </a:moveTo>
                <a:cubicBezTo>
                  <a:pt x="20105" y="15306"/>
                  <a:pt x="20156" y="15303"/>
                  <a:pt x="20315" y="15255"/>
                </a:cubicBezTo>
                <a:cubicBezTo>
                  <a:pt x="20388" y="15230"/>
                  <a:pt x="20412" y="15222"/>
                  <a:pt x="20464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6120" y="5680080"/>
            <a:ext cx="36720" cy="79200"/>
          </a:xfrm>
          <a:custGeom>
            <a:avLst/>
            <a:gdLst/>
            <a:ahLst/>
            <a:rect l="l" t="t" r="r" b="b"/>
            <a:pathLst>
              <a:path w="100" h="224">
                <a:moveTo>
                  <a:pt x="769" y="15999"/>
                </a:moveTo>
                <a:cubicBezTo>
                  <a:pt x="802" y="15925"/>
                  <a:pt x="835" y="15850"/>
                  <a:pt x="868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6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83120" y="3411360"/>
            <a:ext cx="330120" cy="160560"/>
          </a:xfrm>
          <a:custGeom>
            <a:avLst/>
            <a:gdLst/>
            <a:ahLst/>
            <a:rect l="l" t="t" r="r" b="b"/>
            <a:pathLst>
              <a:path w="919" h="448">
                <a:moveTo>
                  <a:pt x="13866" y="9624"/>
                </a:moveTo>
                <a:cubicBezTo>
                  <a:pt x="13844" y="9617"/>
                  <a:pt x="13821" y="9586"/>
                  <a:pt x="13841" y="9550"/>
                </a:cubicBezTo>
                <a:cubicBezTo>
                  <a:pt x="13873" y="9493"/>
                  <a:pt x="13932" y="9479"/>
                  <a:pt x="13990" y="9475"/>
                </a:cubicBezTo>
                <a:cubicBezTo>
                  <a:pt x="14042" y="9471"/>
                  <a:pt x="14085" y="9465"/>
                  <a:pt x="14089" y="9525"/>
                </a:cubicBezTo>
                <a:cubicBezTo>
                  <a:pt x="14096" y="9616"/>
                  <a:pt x="14035" y="9633"/>
                  <a:pt x="13990" y="9699"/>
                </a:cubicBezTo>
                <a:cubicBezTo>
                  <a:pt x="13965" y="9736"/>
                  <a:pt x="13918" y="9806"/>
                  <a:pt x="13915" y="9847"/>
                </a:cubicBezTo>
                <a:cubicBezTo>
                  <a:pt x="13911" y="9900"/>
                  <a:pt x="13938" y="9916"/>
                  <a:pt x="13990" y="9922"/>
                </a:cubicBezTo>
                <a:cubicBezTo>
                  <a:pt x="14045" y="9928"/>
                  <a:pt x="14069" y="9902"/>
                  <a:pt x="14114" y="9897"/>
                </a:cubicBezTo>
                <a:cubicBezTo>
                  <a:pt x="14139" y="9897"/>
                  <a:pt x="14147" y="9897"/>
                  <a:pt x="14163" y="9897"/>
                </a:cubicBezTo>
              </a:path>
              <a:path w="919" h="448">
                <a:moveTo>
                  <a:pt x="14337" y="9649"/>
                </a:moveTo>
                <a:cubicBezTo>
                  <a:pt x="14337" y="9624"/>
                  <a:pt x="14337" y="9616"/>
                  <a:pt x="14362" y="9624"/>
                </a:cubicBezTo>
                <a:cubicBezTo>
                  <a:pt x="14362" y="9697"/>
                  <a:pt x="14349" y="9763"/>
                  <a:pt x="14337" y="9823"/>
                </a:cubicBezTo>
                <a:cubicBezTo>
                  <a:pt x="14337" y="9864"/>
                  <a:pt x="14337" y="9872"/>
                  <a:pt x="14337" y="9897"/>
                </a:cubicBezTo>
              </a:path>
              <a:path w="919" h="448">
                <a:moveTo>
                  <a:pt x="14560" y="9624"/>
                </a:moveTo>
                <a:cubicBezTo>
                  <a:pt x="14560" y="9608"/>
                  <a:pt x="14560" y="9591"/>
                  <a:pt x="14560" y="9575"/>
                </a:cubicBezTo>
                <a:cubicBezTo>
                  <a:pt x="14517" y="9618"/>
                  <a:pt x="14496" y="9663"/>
                  <a:pt x="14486" y="9723"/>
                </a:cubicBezTo>
                <a:cubicBezTo>
                  <a:pt x="14476" y="9783"/>
                  <a:pt x="14473" y="9886"/>
                  <a:pt x="14536" y="9922"/>
                </a:cubicBezTo>
                <a:cubicBezTo>
                  <a:pt x="14573" y="9943"/>
                  <a:pt x="14629" y="9909"/>
                  <a:pt x="14660" y="9897"/>
                </a:cubicBezTo>
              </a:path>
              <a:path w="919" h="448">
                <a:moveTo>
                  <a:pt x="14759" y="9599"/>
                </a:moveTo>
                <a:cubicBezTo>
                  <a:pt x="14706" y="9547"/>
                  <a:pt x="14686" y="9550"/>
                  <a:pt x="14610" y="9550"/>
                </a:cubicBezTo>
                <a:cubicBezTo>
                  <a:pt x="14512" y="9550"/>
                  <a:pt x="14428" y="9545"/>
                  <a:pt x="14337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2120" y="4313160"/>
            <a:ext cx="26820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3643" y="12030"/>
                </a:moveTo>
                <a:cubicBezTo>
                  <a:pt x="13658" y="11970"/>
                  <a:pt x="13681" y="11981"/>
                  <a:pt x="13742" y="11981"/>
                </a:cubicBezTo>
                <a:cubicBezTo>
                  <a:pt x="13807" y="11981"/>
                  <a:pt x="13837" y="12018"/>
                  <a:pt x="13841" y="12080"/>
                </a:cubicBezTo>
                <a:cubicBezTo>
                  <a:pt x="13846" y="12160"/>
                  <a:pt x="13816" y="12210"/>
                  <a:pt x="13767" y="12254"/>
                </a:cubicBezTo>
                <a:cubicBezTo>
                  <a:pt x="13732" y="12286"/>
                  <a:pt x="13705" y="12275"/>
                  <a:pt x="13667" y="12303"/>
                </a:cubicBezTo>
                <a:cubicBezTo>
                  <a:pt x="13714" y="12312"/>
                  <a:pt x="13757" y="12322"/>
                  <a:pt x="13791" y="12353"/>
                </a:cubicBezTo>
                <a:cubicBezTo>
                  <a:pt x="13825" y="12384"/>
                  <a:pt x="13819" y="12437"/>
                  <a:pt x="13767" y="12452"/>
                </a:cubicBezTo>
                <a:cubicBezTo>
                  <a:pt x="13716" y="12467"/>
                  <a:pt x="13635" y="12452"/>
                  <a:pt x="13618" y="12427"/>
                </a:cubicBezTo>
              </a:path>
              <a:path w="745" h="1241">
                <a:moveTo>
                  <a:pt x="13965" y="12254"/>
                </a:moveTo>
                <a:cubicBezTo>
                  <a:pt x="13973" y="12246"/>
                  <a:pt x="13982" y="12237"/>
                  <a:pt x="13990" y="12229"/>
                </a:cubicBezTo>
                <a:cubicBezTo>
                  <a:pt x="14019" y="12267"/>
                  <a:pt x="14015" y="12280"/>
                  <a:pt x="14015" y="12328"/>
                </a:cubicBezTo>
                <a:cubicBezTo>
                  <a:pt x="14015" y="12361"/>
                  <a:pt x="14015" y="12394"/>
                  <a:pt x="14015" y="12427"/>
                </a:cubicBezTo>
              </a:path>
              <a:path w="745" h="1241">
                <a:moveTo>
                  <a:pt x="14188" y="12154"/>
                </a:moveTo>
                <a:cubicBezTo>
                  <a:pt x="14163" y="12195"/>
                  <a:pt x="14142" y="12251"/>
                  <a:pt x="14139" y="12303"/>
                </a:cubicBezTo>
                <a:cubicBezTo>
                  <a:pt x="14134" y="12378"/>
                  <a:pt x="14200" y="12398"/>
                  <a:pt x="14263" y="12402"/>
                </a:cubicBezTo>
                <a:cubicBezTo>
                  <a:pt x="14279" y="12402"/>
                  <a:pt x="14296" y="12402"/>
                  <a:pt x="14312" y="12402"/>
                </a:cubicBezTo>
              </a:path>
              <a:path w="745" h="1241">
                <a:moveTo>
                  <a:pt x="14362" y="12179"/>
                </a:moveTo>
                <a:cubicBezTo>
                  <a:pt x="14298" y="12151"/>
                  <a:pt x="14259" y="12154"/>
                  <a:pt x="14188" y="12154"/>
                </a:cubicBezTo>
                <a:cubicBezTo>
                  <a:pt x="14138" y="12154"/>
                  <a:pt x="14089" y="12154"/>
                  <a:pt x="14039" y="12154"/>
                </a:cubicBezTo>
              </a:path>
              <a:path w="745" h="1241">
                <a:moveTo>
                  <a:pt x="14288" y="12601"/>
                </a:moveTo>
                <a:cubicBezTo>
                  <a:pt x="14329" y="12601"/>
                  <a:pt x="14254" y="12601"/>
                  <a:pt x="14213" y="12601"/>
                </a:cubicBezTo>
                <a:cubicBezTo>
                  <a:pt x="14076" y="12601"/>
                  <a:pt x="13946" y="12597"/>
                  <a:pt x="13816" y="12576"/>
                </a:cubicBezTo>
                <a:cubicBezTo>
                  <a:pt x="13769" y="12568"/>
                  <a:pt x="13715" y="12576"/>
                  <a:pt x="13667" y="12576"/>
                </a:cubicBezTo>
              </a:path>
              <a:path w="745" h="1241">
                <a:moveTo>
                  <a:pt x="13816" y="12923"/>
                </a:moveTo>
                <a:cubicBezTo>
                  <a:pt x="13828" y="12876"/>
                  <a:pt x="13863" y="12841"/>
                  <a:pt x="13915" y="12824"/>
                </a:cubicBezTo>
                <a:cubicBezTo>
                  <a:pt x="13974" y="12804"/>
                  <a:pt x="14002" y="12837"/>
                  <a:pt x="14039" y="12874"/>
                </a:cubicBezTo>
                <a:cubicBezTo>
                  <a:pt x="14082" y="12917"/>
                  <a:pt x="14073" y="12979"/>
                  <a:pt x="14039" y="13022"/>
                </a:cubicBezTo>
                <a:cubicBezTo>
                  <a:pt x="14005" y="13064"/>
                  <a:pt x="13940" y="13078"/>
                  <a:pt x="13915" y="13122"/>
                </a:cubicBezTo>
                <a:cubicBezTo>
                  <a:pt x="13898" y="13151"/>
                  <a:pt x="13902" y="13138"/>
                  <a:pt x="13891" y="13171"/>
                </a:cubicBezTo>
                <a:cubicBezTo>
                  <a:pt x="13947" y="13214"/>
                  <a:pt x="13959" y="13182"/>
                  <a:pt x="14015" y="13171"/>
                </a:cubicBezTo>
                <a:cubicBezTo>
                  <a:pt x="14063" y="13161"/>
                  <a:pt x="14127" y="13172"/>
                  <a:pt x="14163" y="13196"/>
                </a:cubicBezTo>
                <a:cubicBezTo>
                  <a:pt x="14171" y="13204"/>
                  <a:pt x="14180" y="13213"/>
                  <a:pt x="14188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3652920"/>
            <a:ext cx="1170000" cy="606240"/>
          </a:xfrm>
          <a:custGeom>
            <a:avLst/>
            <a:gdLst/>
            <a:ahLst/>
            <a:rect l="l" t="t" r="r" b="b"/>
            <a:pathLst>
              <a:path w="3251" h="1688">
                <a:moveTo>
                  <a:pt x="14560" y="10393"/>
                </a:moveTo>
                <a:cubicBezTo>
                  <a:pt x="14560" y="10418"/>
                  <a:pt x="14560" y="10426"/>
                  <a:pt x="14585" y="10418"/>
                </a:cubicBezTo>
                <a:cubicBezTo>
                  <a:pt x="14601" y="10398"/>
                  <a:pt x="14624" y="10389"/>
                  <a:pt x="14635" y="10344"/>
                </a:cubicBezTo>
                <a:cubicBezTo>
                  <a:pt x="14645" y="10302"/>
                  <a:pt x="14629" y="10227"/>
                  <a:pt x="14610" y="10195"/>
                </a:cubicBezTo>
                <a:cubicBezTo>
                  <a:pt x="14588" y="10157"/>
                  <a:pt x="14554" y="10138"/>
                  <a:pt x="14511" y="10145"/>
                </a:cubicBezTo>
                <a:cubicBezTo>
                  <a:pt x="14483" y="10150"/>
                  <a:pt x="14431" y="10195"/>
                  <a:pt x="14412" y="10220"/>
                </a:cubicBezTo>
                <a:cubicBezTo>
                  <a:pt x="14377" y="10266"/>
                  <a:pt x="14366" y="10305"/>
                  <a:pt x="14362" y="10368"/>
                </a:cubicBezTo>
                <a:cubicBezTo>
                  <a:pt x="14359" y="10421"/>
                  <a:pt x="14340" y="10438"/>
                  <a:pt x="14337" y="10492"/>
                </a:cubicBezTo>
                <a:cubicBezTo>
                  <a:pt x="14331" y="10596"/>
                  <a:pt x="14328" y="10692"/>
                  <a:pt x="14312" y="10790"/>
                </a:cubicBezTo>
                <a:cubicBezTo>
                  <a:pt x="14287" y="10950"/>
                  <a:pt x="14308" y="11129"/>
                  <a:pt x="14288" y="11286"/>
                </a:cubicBezTo>
                <a:cubicBezTo>
                  <a:pt x="14269" y="11440"/>
                  <a:pt x="14343" y="11678"/>
                  <a:pt x="14263" y="11807"/>
                </a:cubicBezTo>
                <a:cubicBezTo>
                  <a:pt x="14263" y="11832"/>
                  <a:pt x="14263" y="11840"/>
                  <a:pt x="14238" y="11832"/>
                </a:cubicBezTo>
                <a:cubicBezTo>
                  <a:pt x="14217" y="11816"/>
                  <a:pt x="14198" y="11801"/>
                  <a:pt x="14163" y="11782"/>
                </a:cubicBezTo>
                <a:cubicBezTo>
                  <a:pt x="14104" y="11750"/>
                  <a:pt x="14059" y="11734"/>
                  <a:pt x="14015" y="11683"/>
                </a:cubicBezTo>
                <a:cubicBezTo>
                  <a:pt x="13975" y="11637"/>
                  <a:pt x="13952" y="11581"/>
                  <a:pt x="13915" y="11534"/>
                </a:cubicBezTo>
                <a:cubicBezTo>
                  <a:pt x="13891" y="11509"/>
                  <a:pt x="13883" y="11501"/>
                  <a:pt x="13866" y="11485"/>
                </a:cubicBezTo>
              </a:path>
              <a:path w="3251" h="1688">
                <a:moveTo>
                  <a:pt x="15081" y="10988"/>
                </a:moveTo>
                <a:cubicBezTo>
                  <a:pt x="15116" y="10963"/>
                  <a:pt x="15113" y="10964"/>
                  <a:pt x="15156" y="10964"/>
                </a:cubicBezTo>
                <a:cubicBezTo>
                  <a:pt x="15156" y="10918"/>
                  <a:pt x="15145" y="10887"/>
                  <a:pt x="15081" y="10914"/>
                </a:cubicBezTo>
                <a:cubicBezTo>
                  <a:pt x="15032" y="10934"/>
                  <a:pt x="14946" y="11037"/>
                  <a:pt x="14932" y="11088"/>
                </a:cubicBezTo>
                <a:cubicBezTo>
                  <a:pt x="14919" y="11134"/>
                  <a:pt x="14935" y="11260"/>
                  <a:pt x="14982" y="11286"/>
                </a:cubicBezTo>
                <a:cubicBezTo>
                  <a:pt x="15026" y="11311"/>
                  <a:pt x="15155" y="11286"/>
                  <a:pt x="15205" y="11286"/>
                </a:cubicBezTo>
              </a:path>
              <a:path w="3251" h="1688">
                <a:moveTo>
                  <a:pt x="15379" y="11137"/>
                </a:moveTo>
                <a:cubicBezTo>
                  <a:pt x="15391" y="11101"/>
                  <a:pt x="15414" y="11105"/>
                  <a:pt x="15453" y="11088"/>
                </a:cubicBezTo>
                <a:cubicBezTo>
                  <a:pt x="15500" y="11068"/>
                  <a:pt x="15594" y="11046"/>
                  <a:pt x="15627" y="11112"/>
                </a:cubicBezTo>
                <a:cubicBezTo>
                  <a:pt x="15655" y="11167"/>
                  <a:pt x="15661" y="11256"/>
                  <a:pt x="15627" y="11311"/>
                </a:cubicBezTo>
                <a:cubicBezTo>
                  <a:pt x="15590" y="11372"/>
                  <a:pt x="15478" y="11332"/>
                  <a:pt x="15429" y="11311"/>
                </a:cubicBezTo>
                <a:cubicBezTo>
                  <a:pt x="15378" y="11289"/>
                  <a:pt x="15366" y="11283"/>
                  <a:pt x="15354" y="11237"/>
                </a:cubicBezTo>
              </a:path>
              <a:path w="3251" h="1688">
                <a:moveTo>
                  <a:pt x="16073" y="11013"/>
                </a:moveTo>
                <a:cubicBezTo>
                  <a:pt x="16128" y="11013"/>
                  <a:pt x="16175" y="11013"/>
                  <a:pt x="16098" y="11013"/>
                </a:cubicBezTo>
                <a:cubicBezTo>
                  <a:pt x="16043" y="11013"/>
                  <a:pt x="15948" y="11033"/>
                  <a:pt x="15900" y="11063"/>
                </a:cubicBezTo>
                <a:cubicBezTo>
                  <a:pt x="15833" y="11105"/>
                  <a:pt x="15887" y="11145"/>
                  <a:pt x="15925" y="11162"/>
                </a:cubicBezTo>
                <a:cubicBezTo>
                  <a:pt x="15984" y="11188"/>
                  <a:pt x="16028" y="11216"/>
                  <a:pt x="16073" y="11261"/>
                </a:cubicBezTo>
                <a:cubicBezTo>
                  <a:pt x="16108" y="11296"/>
                  <a:pt x="16100" y="11338"/>
                  <a:pt x="16049" y="11361"/>
                </a:cubicBezTo>
                <a:cubicBezTo>
                  <a:pt x="16032" y="11369"/>
                  <a:pt x="15962" y="11361"/>
                  <a:pt x="15949" y="11361"/>
                </a:cubicBezTo>
              </a:path>
              <a:path w="3251" h="1688">
                <a:moveTo>
                  <a:pt x="12898" y="11212"/>
                </a:moveTo>
                <a:cubicBezTo>
                  <a:pt x="12911" y="11250"/>
                  <a:pt x="12928" y="11237"/>
                  <a:pt x="12973" y="11237"/>
                </a:cubicBezTo>
                <a:cubicBezTo>
                  <a:pt x="13221" y="11237"/>
                  <a:pt x="13469" y="11237"/>
                  <a:pt x="13717" y="11237"/>
                </a:cubicBezTo>
                <a:cubicBezTo>
                  <a:pt x="13679" y="11274"/>
                  <a:pt x="13659" y="11332"/>
                  <a:pt x="13618" y="11361"/>
                </a:cubicBezTo>
                <a:cubicBezTo>
                  <a:pt x="13566" y="11397"/>
                  <a:pt x="13534" y="11424"/>
                  <a:pt x="13519" y="11485"/>
                </a:cubicBezTo>
                <a:cubicBezTo>
                  <a:pt x="13532" y="11432"/>
                  <a:pt x="13577" y="11402"/>
                  <a:pt x="13618" y="11361"/>
                </a:cubicBezTo>
                <a:cubicBezTo>
                  <a:pt x="13658" y="11321"/>
                  <a:pt x="13701" y="11297"/>
                  <a:pt x="13742" y="11261"/>
                </a:cubicBezTo>
                <a:cubicBezTo>
                  <a:pt x="13781" y="11226"/>
                  <a:pt x="13776" y="11203"/>
                  <a:pt x="13742" y="11187"/>
                </a:cubicBezTo>
                <a:cubicBezTo>
                  <a:pt x="13651" y="11145"/>
                  <a:pt x="13561" y="11103"/>
                  <a:pt x="13469" y="11063"/>
                </a:cubicBezTo>
                <a:cubicBezTo>
                  <a:pt x="13425" y="11041"/>
                  <a:pt x="13414" y="11038"/>
                  <a:pt x="13395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65920" y="3929040"/>
            <a:ext cx="268200" cy="162000"/>
          </a:xfrm>
          <a:custGeom>
            <a:avLst/>
            <a:gdLst/>
            <a:ahLst/>
            <a:rect l="l" t="t" r="r" b="b"/>
            <a:pathLst>
              <a:path w="745" h="448">
                <a:moveTo>
                  <a:pt x="16644" y="11063"/>
                </a:moveTo>
                <a:cubicBezTo>
                  <a:pt x="16629" y="11034"/>
                  <a:pt x="16643" y="10995"/>
                  <a:pt x="16669" y="10988"/>
                </a:cubicBezTo>
                <a:cubicBezTo>
                  <a:pt x="16705" y="10978"/>
                  <a:pt x="16771" y="10981"/>
                  <a:pt x="16793" y="11013"/>
                </a:cubicBezTo>
                <a:cubicBezTo>
                  <a:pt x="16840" y="11081"/>
                  <a:pt x="16811" y="11127"/>
                  <a:pt x="16793" y="11187"/>
                </a:cubicBezTo>
                <a:cubicBezTo>
                  <a:pt x="16775" y="11247"/>
                  <a:pt x="16726" y="11237"/>
                  <a:pt x="16669" y="11237"/>
                </a:cubicBezTo>
                <a:cubicBezTo>
                  <a:pt x="16609" y="11237"/>
                  <a:pt x="16612" y="11244"/>
                  <a:pt x="16570" y="11212"/>
                </a:cubicBezTo>
              </a:path>
              <a:path w="745" h="448">
                <a:moveTo>
                  <a:pt x="17041" y="10964"/>
                </a:moveTo>
                <a:cubicBezTo>
                  <a:pt x="17084" y="10942"/>
                  <a:pt x="17096" y="10938"/>
                  <a:pt x="17115" y="10914"/>
                </a:cubicBezTo>
                <a:cubicBezTo>
                  <a:pt x="17071" y="10936"/>
                  <a:pt x="17016" y="11006"/>
                  <a:pt x="16991" y="11063"/>
                </a:cubicBezTo>
                <a:cubicBezTo>
                  <a:pt x="16947" y="11163"/>
                  <a:pt x="16954" y="11264"/>
                  <a:pt x="17041" y="11336"/>
                </a:cubicBezTo>
                <a:cubicBezTo>
                  <a:pt x="17105" y="11389"/>
                  <a:pt x="17153" y="11342"/>
                  <a:pt x="17214" y="11311"/>
                </a:cubicBezTo>
                <a:cubicBezTo>
                  <a:pt x="17268" y="11284"/>
                  <a:pt x="17288" y="11272"/>
                  <a:pt x="17314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45160" y="3857760"/>
            <a:ext cx="438120" cy="233280"/>
          </a:xfrm>
          <a:custGeom>
            <a:avLst/>
            <a:gdLst/>
            <a:ahLst/>
            <a:rect l="l" t="t" r="r" b="b"/>
            <a:pathLst>
              <a:path w="1216" h="646">
                <a:moveTo>
                  <a:pt x="18405" y="11013"/>
                </a:moveTo>
                <a:cubicBezTo>
                  <a:pt x="18459" y="11040"/>
                  <a:pt x="18341" y="11038"/>
                  <a:pt x="18306" y="11063"/>
                </a:cubicBezTo>
                <a:cubicBezTo>
                  <a:pt x="18231" y="11117"/>
                  <a:pt x="18193" y="11174"/>
                  <a:pt x="18182" y="11261"/>
                </a:cubicBezTo>
                <a:cubicBezTo>
                  <a:pt x="18274" y="11296"/>
                  <a:pt x="18321" y="11279"/>
                  <a:pt x="18380" y="11187"/>
                </a:cubicBezTo>
                <a:cubicBezTo>
                  <a:pt x="18440" y="11093"/>
                  <a:pt x="18512" y="10953"/>
                  <a:pt x="18529" y="10840"/>
                </a:cubicBezTo>
                <a:cubicBezTo>
                  <a:pt x="18536" y="10791"/>
                  <a:pt x="18529" y="10691"/>
                  <a:pt x="18529" y="10740"/>
                </a:cubicBezTo>
                <a:cubicBezTo>
                  <a:pt x="18529" y="10805"/>
                  <a:pt x="18515" y="10921"/>
                  <a:pt x="18504" y="10988"/>
                </a:cubicBezTo>
                <a:cubicBezTo>
                  <a:pt x="18486" y="11094"/>
                  <a:pt x="18453" y="11169"/>
                  <a:pt x="18529" y="11261"/>
                </a:cubicBezTo>
                <a:cubicBezTo>
                  <a:pt x="18537" y="11269"/>
                  <a:pt x="18546" y="11278"/>
                  <a:pt x="18554" y="11286"/>
                </a:cubicBezTo>
              </a:path>
              <a:path w="1216" h="646">
                <a:moveTo>
                  <a:pt x="18728" y="11212"/>
                </a:moveTo>
                <a:cubicBezTo>
                  <a:pt x="18737" y="11175"/>
                  <a:pt x="18765" y="11135"/>
                  <a:pt x="18802" y="11112"/>
                </a:cubicBezTo>
                <a:cubicBezTo>
                  <a:pt x="18850" y="11082"/>
                  <a:pt x="18931" y="11029"/>
                  <a:pt x="18976" y="11088"/>
                </a:cubicBezTo>
                <a:cubicBezTo>
                  <a:pt x="19010" y="11132"/>
                  <a:pt x="19015" y="11260"/>
                  <a:pt x="19000" y="11311"/>
                </a:cubicBezTo>
                <a:cubicBezTo>
                  <a:pt x="18976" y="11391"/>
                  <a:pt x="18872" y="11353"/>
                  <a:pt x="18827" y="11336"/>
                </a:cubicBezTo>
              </a:path>
              <a:path w="1216" h="646">
                <a:moveTo>
                  <a:pt x="19273" y="11013"/>
                </a:moveTo>
                <a:cubicBezTo>
                  <a:pt x="19281" y="10997"/>
                  <a:pt x="19290" y="10980"/>
                  <a:pt x="19298" y="10964"/>
                </a:cubicBezTo>
                <a:cubicBezTo>
                  <a:pt x="19259" y="10973"/>
                  <a:pt x="19201" y="11001"/>
                  <a:pt x="19174" y="11038"/>
                </a:cubicBezTo>
                <a:cubicBezTo>
                  <a:pt x="19122" y="11111"/>
                  <a:pt x="19149" y="11218"/>
                  <a:pt x="19199" y="11286"/>
                </a:cubicBezTo>
                <a:cubicBezTo>
                  <a:pt x="19255" y="11363"/>
                  <a:pt x="19312" y="11361"/>
                  <a:pt x="19397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49800" y="4633920"/>
            <a:ext cx="314280" cy="189000"/>
          </a:xfrm>
          <a:custGeom>
            <a:avLst/>
            <a:gdLst/>
            <a:ahLst/>
            <a:rect l="l" t="t" r="r" b="b"/>
            <a:pathLst>
              <a:path w="869" h="522">
                <a:moveTo>
                  <a:pt x="11857" y="12973"/>
                </a:moveTo>
                <a:cubicBezTo>
                  <a:pt x="11832" y="12973"/>
                  <a:pt x="11824" y="12973"/>
                  <a:pt x="11807" y="12973"/>
                </a:cubicBezTo>
                <a:cubicBezTo>
                  <a:pt x="11807" y="12917"/>
                  <a:pt x="11811" y="12918"/>
                  <a:pt x="11857" y="12898"/>
                </a:cubicBezTo>
                <a:cubicBezTo>
                  <a:pt x="11898" y="12881"/>
                  <a:pt x="11948" y="12849"/>
                  <a:pt x="11981" y="12898"/>
                </a:cubicBezTo>
                <a:cubicBezTo>
                  <a:pt x="12026" y="12964"/>
                  <a:pt x="12007" y="13053"/>
                  <a:pt x="11981" y="13122"/>
                </a:cubicBezTo>
                <a:cubicBezTo>
                  <a:pt x="11958" y="13183"/>
                  <a:pt x="11922" y="13262"/>
                  <a:pt x="11906" y="13320"/>
                </a:cubicBezTo>
                <a:cubicBezTo>
                  <a:pt x="11906" y="13337"/>
                  <a:pt x="11906" y="13353"/>
                  <a:pt x="11906" y="13370"/>
                </a:cubicBezTo>
                <a:cubicBezTo>
                  <a:pt x="11969" y="13370"/>
                  <a:pt x="12003" y="13362"/>
                  <a:pt x="12055" y="13345"/>
                </a:cubicBezTo>
                <a:cubicBezTo>
                  <a:pt x="12090" y="13345"/>
                  <a:pt x="12107" y="13340"/>
                  <a:pt x="12129" y="13320"/>
                </a:cubicBezTo>
              </a:path>
              <a:path w="869" h="522">
                <a:moveTo>
                  <a:pt x="12229" y="13146"/>
                </a:moveTo>
                <a:cubicBezTo>
                  <a:pt x="12264" y="13121"/>
                  <a:pt x="12260" y="13122"/>
                  <a:pt x="12303" y="13122"/>
                </a:cubicBezTo>
                <a:cubicBezTo>
                  <a:pt x="12303" y="13205"/>
                  <a:pt x="12303" y="13287"/>
                  <a:pt x="12303" y="13370"/>
                </a:cubicBezTo>
              </a:path>
              <a:path w="869" h="522">
                <a:moveTo>
                  <a:pt x="12427" y="13146"/>
                </a:moveTo>
                <a:cubicBezTo>
                  <a:pt x="12435" y="13130"/>
                  <a:pt x="12444" y="13113"/>
                  <a:pt x="12452" y="13097"/>
                </a:cubicBezTo>
                <a:cubicBezTo>
                  <a:pt x="12439" y="13162"/>
                  <a:pt x="12410" y="13223"/>
                  <a:pt x="12427" y="13295"/>
                </a:cubicBezTo>
                <a:cubicBezTo>
                  <a:pt x="12440" y="13351"/>
                  <a:pt x="12487" y="13363"/>
                  <a:pt x="12526" y="13395"/>
                </a:cubicBezTo>
              </a:path>
              <a:path w="869" h="522">
                <a:moveTo>
                  <a:pt x="12675" y="13171"/>
                </a:moveTo>
                <a:cubicBezTo>
                  <a:pt x="12566" y="13106"/>
                  <a:pt x="12588" y="13128"/>
                  <a:pt x="12477" y="13146"/>
                </a:cubicBezTo>
                <a:cubicBezTo>
                  <a:pt x="12425" y="13146"/>
                  <a:pt x="12407" y="13147"/>
                  <a:pt x="12378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17880" y="4705200"/>
            <a:ext cx="1046160" cy="430200"/>
          </a:xfrm>
          <a:custGeom>
            <a:avLst/>
            <a:gdLst/>
            <a:ahLst/>
            <a:rect l="l" t="t" r="r" b="b"/>
            <a:pathLst>
              <a:path w="2903" h="1192">
                <a:moveTo>
                  <a:pt x="8806" y="13097"/>
                </a:moveTo>
                <a:cubicBezTo>
                  <a:pt x="8830" y="13097"/>
                  <a:pt x="8839" y="13097"/>
                  <a:pt x="8855" y="13097"/>
                </a:cubicBezTo>
                <a:cubicBezTo>
                  <a:pt x="8788" y="13097"/>
                  <a:pt x="8737" y="13093"/>
                  <a:pt x="8682" y="13122"/>
                </a:cubicBezTo>
                <a:cubicBezTo>
                  <a:pt x="8618" y="13156"/>
                  <a:pt x="8592" y="13207"/>
                  <a:pt x="8558" y="13271"/>
                </a:cubicBezTo>
                <a:cubicBezTo>
                  <a:pt x="8524" y="13335"/>
                  <a:pt x="8530" y="13404"/>
                  <a:pt x="8508" y="13469"/>
                </a:cubicBezTo>
                <a:cubicBezTo>
                  <a:pt x="8478" y="13560"/>
                  <a:pt x="8485" y="13648"/>
                  <a:pt x="8458" y="13742"/>
                </a:cubicBezTo>
                <a:cubicBezTo>
                  <a:pt x="8429" y="13841"/>
                  <a:pt x="8437" y="13943"/>
                  <a:pt x="8409" y="14039"/>
                </a:cubicBezTo>
                <a:cubicBezTo>
                  <a:pt x="8396" y="14084"/>
                  <a:pt x="8359" y="14163"/>
                  <a:pt x="8384" y="14213"/>
                </a:cubicBezTo>
                <a:cubicBezTo>
                  <a:pt x="8416" y="14276"/>
                  <a:pt x="8493" y="14218"/>
                  <a:pt x="8533" y="14213"/>
                </a:cubicBezTo>
                <a:cubicBezTo>
                  <a:pt x="8611" y="14203"/>
                  <a:pt x="8676" y="14188"/>
                  <a:pt x="8756" y="14188"/>
                </a:cubicBezTo>
                <a:cubicBezTo>
                  <a:pt x="8801" y="14188"/>
                  <a:pt x="8814" y="14184"/>
                  <a:pt x="8830" y="14213"/>
                </a:cubicBezTo>
              </a:path>
              <a:path w="2903" h="1192">
                <a:moveTo>
                  <a:pt x="9327" y="13618"/>
                </a:moveTo>
                <a:cubicBezTo>
                  <a:pt x="9363" y="13590"/>
                  <a:pt x="9365" y="13601"/>
                  <a:pt x="9376" y="13568"/>
                </a:cubicBezTo>
                <a:cubicBezTo>
                  <a:pt x="9322" y="13568"/>
                  <a:pt x="9293" y="13580"/>
                  <a:pt x="9252" y="13618"/>
                </a:cubicBezTo>
                <a:cubicBezTo>
                  <a:pt x="9212" y="13655"/>
                  <a:pt x="9165" y="13719"/>
                  <a:pt x="9227" y="13767"/>
                </a:cubicBezTo>
                <a:cubicBezTo>
                  <a:pt x="9268" y="13798"/>
                  <a:pt x="9336" y="13792"/>
                  <a:pt x="9376" y="13816"/>
                </a:cubicBezTo>
                <a:cubicBezTo>
                  <a:pt x="9422" y="13844"/>
                  <a:pt x="9402" y="13886"/>
                  <a:pt x="9376" y="13915"/>
                </a:cubicBezTo>
                <a:cubicBezTo>
                  <a:pt x="9331" y="13965"/>
                  <a:pt x="9289" y="13965"/>
                  <a:pt x="9227" y="13965"/>
                </a:cubicBezTo>
              </a:path>
              <a:path w="2903" h="1192">
                <a:moveTo>
                  <a:pt x="9500" y="13742"/>
                </a:moveTo>
                <a:cubicBezTo>
                  <a:pt x="9580" y="13753"/>
                  <a:pt x="9575" y="13759"/>
                  <a:pt x="9575" y="13841"/>
                </a:cubicBezTo>
                <a:cubicBezTo>
                  <a:pt x="9575" y="13866"/>
                  <a:pt x="9575" y="13874"/>
                  <a:pt x="9550" y="13866"/>
                </a:cubicBezTo>
              </a:path>
              <a:path w="2903" h="1192">
                <a:moveTo>
                  <a:pt x="9550" y="13543"/>
                </a:moveTo>
                <a:cubicBezTo>
                  <a:pt x="9550" y="13479"/>
                  <a:pt x="9548" y="13494"/>
                  <a:pt x="9599" y="13494"/>
                </a:cubicBezTo>
              </a:path>
              <a:path w="2903" h="1192">
                <a:moveTo>
                  <a:pt x="9699" y="13692"/>
                </a:moveTo>
                <a:cubicBezTo>
                  <a:pt x="9699" y="13758"/>
                  <a:pt x="9699" y="13825"/>
                  <a:pt x="9699" y="13891"/>
                </a:cubicBezTo>
                <a:cubicBezTo>
                  <a:pt x="9738" y="13877"/>
                  <a:pt x="9730" y="13836"/>
                  <a:pt x="9748" y="13791"/>
                </a:cubicBezTo>
                <a:cubicBezTo>
                  <a:pt x="9773" y="13728"/>
                  <a:pt x="9821" y="13667"/>
                  <a:pt x="9897" y="13692"/>
                </a:cubicBezTo>
                <a:cubicBezTo>
                  <a:pt x="9950" y="13710"/>
                  <a:pt x="10001" y="13791"/>
                  <a:pt x="10021" y="13841"/>
                </a:cubicBezTo>
                <a:cubicBezTo>
                  <a:pt x="10021" y="13849"/>
                  <a:pt x="10021" y="13858"/>
                  <a:pt x="10021" y="13866"/>
                </a:cubicBezTo>
              </a:path>
              <a:path w="2903" h="1192">
                <a:moveTo>
                  <a:pt x="10393" y="13692"/>
                </a:moveTo>
                <a:cubicBezTo>
                  <a:pt x="10368" y="13692"/>
                  <a:pt x="10360" y="13692"/>
                  <a:pt x="10344" y="13692"/>
                </a:cubicBezTo>
                <a:cubicBezTo>
                  <a:pt x="10344" y="13652"/>
                  <a:pt x="10349" y="13612"/>
                  <a:pt x="10393" y="13593"/>
                </a:cubicBezTo>
                <a:cubicBezTo>
                  <a:pt x="10451" y="13567"/>
                  <a:pt x="10504" y="13611"/>
                  <a:pt x="10517" y="13667"/>
                </a:cubicBezTo>
                <a:cubicBezTo>
                  <a:pt x="10525" y="13702"/>
                  <a:pt x="10534" y="13825"/>
                  <a:pt x="10492" y="13841"/>
                </a:cubicBezTo>
                <a:cubicBezTo>
                  <a:pt x="10449" y="13858"/>
                  <a:pt x="10404" y="13831"/>
                  <a:pt x="10368" y="13816"/>
                </a:cubicBezTo>
              </a:path>
              <a:path w="2903" h="1192">
                <a:moveTo>
                  <a:pt x="10592" y="13519"/>
                </a:moveTo>
                <a:cubicBezTo>
                  <a:pt x="10608" y="13511"/>
                  <a:pt x="10625" y="13502"/>
                  <a:pt x="10641" y="13494"/>
                </a:cubicBezTo>
                <a:cubicBezTo>
                  <a:pt x="10628" y="13547"/>
                  <a:pt x="10595" y="13579"/>
                  <a:pt x="10592" y="13643"/>
                </a:cubicBezTo>
                <a:cubicBezTo>
                  <a:pt x="10590" y="13689"/>
                  <a:pt x="10579" y="13774"/>
                  <a:pt x="10641" y="13791"/>
                </a:cubicBezTo>
                <a:cubicBezTo>
                  <a:pt x="10686" y="13791"/>
                  <a:pt x="10699" y="13795"/>
                  <a:pt x="10716" y="13767"/>
                </a:cubicBezTo>
              </a:path>
              <a:path w="2903" h="1192">
                <a:moveTo>
                  <a:pt x="10864" y="13072"/>
                </a:moveTo>
                <a:cubicBezTo>
                  <a:pt x="10968" y="13072"/>
                  <a:pt x="11072" y="13067"/>
                  <a:pt x="11162" y="13097"/>
                </a:cubicBezTo>
                <a:cubicBezTo>
                  <a:pt x="11214" y="13114"/>
                  <a:pt x="11227" y="13161"/>
                  <a:pt x="11237" y="13221"/>
                </a:cubicBezTo>
                <a:cubicBezTo>
                  <a:pt x="11255" y="13327"/>
                  <a:pt x="11215" y="13437"/>
                  <a:pt x="11212" y="13543"/>
                </a:cubicBezTo>
                <a:cubicBezTo>
                  <a:pt x="11207" y="13707"/>
                  <a:pt x="11197" y="13880"/>
                  <a:pt x="11237" y="14039"/>
                </a:cubicBezTo>
                <a:cubicBezTo>
                  <a:pt x="11257" y="14117"/>
                  <a:pt x="11276" y="14186"/>
                  <a:pt x="11286" y="14263"/>
                </a:cubicBezTo>
                <a:cubicBezTo>
                  <a:pt x="11187" y="14263"/>
                  <a:pt x="11087" y="14263"/>
                  <a:pt x="10988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6160" y="4964040"/>
            <a:ext cx="295200" cy="304920"/>
          </a:xfrm>
          <a:custGeom>
            <a:avLst/>
            <a:gdLst/>
            <a:ahLst/>
            <a:rect l="l" t="t" r="r" b="b"/>
            <a:pathLst>
              <a:path w="820" h="845">
                <a:moveTo>
                  <a:pt x="11956" y="13940"/>
                </a:moveTo>
                <a:cubicBezTo>
                  <a:pt x="11931" y="13940"/>
                  <a:pt x="11923" y="13940"/>
                  <a:pt x="11906" y="13940"/>
                </a:cubicBezTo>
                <a:cubicBezTo>
                  <a:pt x="11906" y="13894"/>
                  <a:pt x="11900" y="13876"/>
                  <a:pt x="11931" y="13841"/>
                </a:cubicBezTo>
                <a:cubicBezTo>
                  <a:pt x="11974" y="13793"/>
                  <a:pt x="11992" y="13791"/>
                  <a:pt x="12055" y="13791"/>
                </a:cubicBezTo>
                <a:cubicBezTo>
                  <a:pt x="12098" y="13791"/>
                  <a:pt x="12125" y="13827"/>
                  <a:pt x="12129" y="13866"/>
                </a:cubicBezTo>
                <a:cubicBezTo>
                  <a:pt x="12134" y="13912"/>
                  <a:pt x="12087" y="13925"/>
                  <a:pt x="12080" y="13940"/>
                </a:cubicBezTo>
                <a:cubicBezTo>
                  <a:pt x="12067" y="13967"/>
                  <a:pt x="12079" y="14026"/>
                  <a:pt x="12105" y="14039"/>
                </a:cubicBezTo>
                <a:cubicBezTo>
                  <a:pt x="12113" y="14039"/>
                  <a:pt x="12121" y="14039"/>
                  <a:pt x="12129" y="14039"/>
                </a:cubicBezTo>
                <a:cubicBezTo>
                  <a:pt x="12120" y="14076"/>
                  <a:pt x="12093" y="14101"/>
                  <a:pt x="12055" y="14114"/>
                </a:cubicBezTo>
                <a:cubicBezTo>
                  <a:pt x="12030" y="14114"/>
                  <a:pt x="12022" y="14114"/>
                  <a:pt x="12005" y="14114"/>
                </a:cubicBezTo>
              </a:path>
              <a:path w="820" h="845">
                <a:moveTo>
                  <a:pt x="12254" y="14015"/>
                </a:moveTo>
                <a:cubicBezTo>
                  <a:pt x="12262" y="14007"/>
                  <a:pt x="12270" y="13998"/>
                  <a:pt x="12278" y="13990"/>
                </a:cubicBezTo>
                <a:cubicBezTo>
                  <a:pt x="12278" y="14048"/>
                  <a:pt x="12278" y="14105"/>
                  <a:pt x="12278" y="14163"/>
                </a:cubicBezTo>
              </a:path>
              <a:path w="820" h="845">
                <a:moveTo>
                  <a:pt x="12402" y="13990"/>
                </a:moveTo>
                <a:cubicBezTo>
                  <a:pt x="12466" y="13915"/>
                  <a:pt x="12452" y="13897"/>
                  <a:pt x="12452" y="13990"/>
                </a:cubicBezTo>
                <a:cubicBezTo>
                  <a:pt x="12452" y="14071"/>
                  <a:pt x="12456" y="14073"/>
                  <a:pt x="12526" y="14114"/>
                </a:cubicBezTo>
              </a:path>
              <a:path w="820" h="845">
                <a:moveTo>
                  <a:pt x="12626" y="13965"/>
                </a:moveTo>
                <a:cubicBezTo>
                  <a:pt x="12588" y="13917"/>
                  <a:pt x="12571" y="13867"/>
                  <a:pt x="12502" y="13891"/>
                </a:cubicBezTo>
                <a:cubicBezTo>
                  <a:pt x="12437" y="13914"/>
                  <a:pt x="12399" y="13915"/>
                  <a:pt x="12328" y="13915"/>
                </a:cubicBezTo>
              </a:path>
              <a:path w="820" h="845">
                <a:moveTo>
                  <a:pt x="12526" y="14263"/>
                </a:moveTo>
                <a:cubicBezTo>
                  <a:pt x="12582" y="14263"/>
                  <a:pt x="12496" y="14239"/>
                  <a:pt x="12477" y="14238"/>
                </a:cubicBezTo>
                <a:cubicBezTo>
                  <a:pt x="12381" y="14231"/>
                  <a:pt x="12286" y="14238"/>
                  <a:pt x="12204" y="14263"/>
                </a:cubicBezTo>
                <a:cubicBezTo>
                  <a:pt x="12196" y="14263"/>
                  <a:pt x="12187" y="14263"/>
                  <a:pt x="12179" y="14263"/>
                </a:cubicBezTo>
              </a:path>
              <a:path w="820" h="845">
                <a:moveTo>
                  <a:pt x="12353" y="14461"/>
                </a:moveTo>
                <a:cubicBezTo>
                  <a:pt x="12300" y="14461"/>
                  <a:pt x="12404" y="14418"/>
                  <a:pt x="12427" y="14412"/>
                </a:cubicBezTo>
                <a:cubicBezTo>
                  <a:pt x="12452" y="14405"/>
                  <a:pt x="12498" y="14412"/>
                  <a:pt x="12526" y="14412"/>
                </a:cubicBezTo>
                <a:cubicBezTo>
                  <a:pt x="12526" y="14472"/>
                  <a:pt x="12518" y="14511"/>
                  <a:pt x="12502" y="14560"/>
                </a:cubicBezTo>
                <a:cubicBezTo>
                  <a:pt x="12496" y="14579"/>
                  <a:pt x="12502" y="14615"/>
                  <a:pt x="12502" y="14635"/>
                </a:cubicBezTo>
                <a:cubicBezTo>
                  <a:pt x="12555" y="14635"/>
                  <a:pt x="12575" y="14634"/>
                  <a:pt x="12626" y="14610"/>
                </a:cubicBezTo>
                <a:cubicBezTo>
                  <a:pt x="12675" y="14585"/>
                  <a:pt x="12692" y="14576"/>
                  <a:pt x="12725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2040" y="4929120"/>
            <a:ext cx="135000" cy="71640"/>
          </a:xfrm>
          <a:custGeom>
            <a:avLst/>
            <a:gdLst/>
            <a:ahLst/>
            <a:rect l="l" t="t" r="r" b="b"/>
            <a:pathLst>
              <a:path w="373" h="200">
                <a:moveTo>
                  <a:pt x="14412" y="13717"/>
                </a:moveTo>
                <a:cubicBezTo>
                  <a:pt x="14412" y="13709"/>
                  <a:pt x="14412" y="13700"/>
                  <a:pt x="14412" y="13692"/>
                </a:cubicBezTo>
                <a:cubicBezTo>
                  <a:pt x="14338" y="13692"/>
                  <a:pt x="14281" y="13705"/>
                  <a:pt x="14213" y="13717"/>
                </a:cubicBezTo>
                <a:cubicBezTo>
                  <a:pt x="14151" y="13728"/>
                  <a:pt x="14139" y="13705"/>
                  <a:pt x="14089" y="13742"/>
                </a:cubicBezTo>
              </a:path>
              <a:path w="373" h="200">
                <a:moveTo>
                  <a:pt x="14387" y="13866"/>
                </a:moveTo>
                <a:cubicBezTo>
                  <a:pt x="14465" y="13900"/>
                  <a:pt x="14475" y="13891"/>
                  <a:pt x="14387" y="13891"/>
                </a:cubicBezTo>
                <a:cubicBezTo>
                  <a:pt x="14337" y="13891"/>
                  <a:pt x="14288" y="13891"/>
                  <a:pt x="14238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0800" y="4884840"/>
            <a:ext cx="330120" cy="133200"/>
          </a:xfrm>
          <a:custGeom>
            <a:avLst/>
            <a:gdLst/>
            <a:ahLst/>
            <a:rect l="l" t="t" r="r" b="b"/>
            <a:pathLst>
              <a:path w="918" h="373">
                <a:moveTo>
                  <a:pt x="15528" y="13618"/>
                </a:moveTo>
                <a:cubicBezTo>
                  <a:pt x="15544" y="13610"/>
                  <a:pt x="15561" y="13601"/>
                  <a:pt x="15577" y="13593"/>
                </a:cubicBezTo>
                <a:cubicBezTo>
                  <a:pt x="15539" y="13564"/>
                  <a:pt x="15481" y="13553"/>
                  <a:pt x="15429" y="13568"/>
                </a:cubicBezTo>
                <a:cubicBezTo>
                  <a:pt x="15360" y="13587"/>
                  <a:pt x="15312" y="13587"/>
                  <a:pt x="15304" y="13667"/>
                </a:cubicBezTo>
                <a:cubicBezTo>
                  <a:pt x="15299" y="13719"/>
                  <a:pt x="15367" y="13748"/>
                  <a:pt x="15404" y="13767"/>
                </a:cubicBezTo>
                <a:cubicBezTo>
                  <a:pt x="15475" y="13804"/>
                  <a:pt x="15514" y="13780"/>
                  <a:pt x="15528" y="13866"/>
                </a:cubicBezTo>
                <a:cubicBezTo>
                  <a:pt x="15535" y="13910"/>
                  <a:pt x="15463" y="13934"/>
                  <a:pt x="15429" y="13940"/>
                </a:cubicBezTo>
                <a:cubicBezTo>
                  <a:pt x="15382" y="13948"/>
                  <a:pt x="15328" y="13940"/>
                  <a:pt x="15280" y="13940"/>
                </a:cubicBezTo>
              </a:path>
              <a:path w="918" h="373">
                <a:moveTo>
                  <a:pt x="15652" y="13742"/>
                </a:moveTo>
                <a:cubicBezTo>
                  <a:pt x="15693" y="13742"/>
                  <a:pt x="15701" y="13742"/>
                  <a:pt x="15726" y="13742"/>
                </a:cubicBezTo>
                <a:cubicBezTo>
                  <a:pt x="15726" y="13783"/>
                  <a:pt x="15726" y="13825"/>
                  <a:pt x="15726" y="13866"/>
                </a:cubicBezTo>
              </a:path>
              <a:path w="918" h="373">
                <a:moveTo>
                  <a:pt x="15776" y="13593"/>
                </a:moveTo>
                <a:cubicBezTo>
                  <a:pt x="15776" y="13585"/>
                  <a:pt x="15776" y="13576"/>
                  <a:pt x="15776" y="13568"/>
                </a:cubicBezTo>
              </a:path>
              <a:path w="918" h="373">
                <a:moveTo>
                  <a:pt x="15900" y="13767"/>
                </a:moveTo>
                <a:cubicBezTo>
                  <a:pt x="15900" y="13825"/>
                  <a:pt x="15900" y="13882"/>
                  <a:pt x="15900" y="13940"/>
                </a:cubicBezTo>
                <a:cubicBezTo>
                  <a:pt x="15930" y="13930"/>
                  <a:pt x="15951" y="13880"/>
                  <a:pt x="15974" y="13841"/>
                </a:cubicBezTo>
                <a:cubicBezTo>
                  <a:pt x="15994" y="13807"/>
                  <a:pt x="16059" y="13689"/>
                  <a:pt x="16123" y="13742"/>
                </a:cubicBezTo>
                <a:cubicBezTo>
                  <a:pt x="16171" y="13781"/>
                  <a:pt x="16190" y="13886"/>
                  <a:pt x="16197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27840" y="4830840"/>
            <a:ext cx="401400" cy="206280"/>
          </a:xfrm>
          <a:custGeom>
            <a:avLst/>
            <a:gdLst/>
            <a:ahLst/>
            <a:rect l="l" t="t" r="r" b="b"/>
            <a:pathLst>
              <a:path w="1117" h="572">
                <a:moveTo>
                  <a:pt x="16743" y="13543"/>
                </a:moveTo>
                <a:cubicBezTo>
                  <a:pt x="16743" y="13503"/>
                  <a:pt x="16749" y="13463"/>
                  <a:pt x="16793" y="13444"/>
                </a:cubicBezTo>
                <a:cubicBezTo>
                  <a:pt x="16842" y="13422"/>
                  <a:pt x="16881" y="13419"/>
                  <a:pt x="16942" y="13419"/>
                </a:cubicBezTo>
                <a:cubicBezTo>
                  <a:pt x="17033" y="13419"/>
                  <a:pt x="17016" y="13474"/>
                  <a:pt x="17016" y="13543"/>
                </a:cubicBezTo>
                <a:cubicBezTo>
                  <a:pt x="17016" y="13659"/>
                  <a:pt x="16952" y="13704"/>
                  <a:pt x="16892" y="13791"/>
                </a:cubicBezTo>
                <a:cubicBezTo>
                  <a:pt x="16857" y="13842"/>
                  <a:pt x="16850" y="13859"/>
                  <a:pt x="16842" y="13915"/>
                </a:cubicBezTo>
                <a:cubicBezTo>
                  <a:pt x="16950" y="13915"/>
                  <a:pt x="17057" y="13915"/>
                  <a:pt x="17165" y="13915"/>
                </a:cubicBezTo>
              </a:path>
              <a:path w="1117" h="572">
                <a:moveTo>
                  <a:pt x="17388" y="13692"/>
                </a:moveTo>
                <a:cubicBezTo>
                  <a:pt x="17388" y="13667"/>
                  <a:pt x="17388" y="13659"/>
                  <a:pt x="17413" y="13667"/>
                </a:cubicBezTo>
                <a:cubicBezTo>
                  <a:pt x="17401" y="13729"/>
                  <a:pt x="17388" y="13774"/>
                  <a:pt x="17388" y="13841"/>
                </a:cubicBezTo>
                <a:cubicBezTo>
                  <a:pt x="17388" y="13912"/>
                  <a:pt x="17345" y="13933"/>
                  <a:pt x="17388" y="13990"/>
                </a:cubicBezTo>
              </a:path>
              <a:path w="1117" h="572">
                <a:moveTo>
                  <a:pt x="17636" y="13643"/>
                </a:moveTo>
                <a:cubicBezTo>
                  <a:pt x="17636" y="13599"/>
                  <a:pt x="17605" y="13708"/>
                  <a:pt x="17587" y="13742"/>
                </a:cubicBezTo>
                <a:cubicBezTo>
                  <a:pt x="17553" y="13807"/>
                  <a:pt x="17548" y="13875"/>
                  <a:pt x="17587" y="13940"/>
                </a:cubicBezTo>
                <a:cubicBezTo>
                  <a:pt x="17631" y="14013"/>
                  <a:pt x="17700" y="13988"/>
                  <a:pt x="17760" y="13965"/>
                </a:cubicBezTo>
              </a:path>
              <a:path w="1117" h="572">
                <a:moveTo>
                  <a:pt x="17859" y="13742"/>
                </a:moveTo>
                <a:cubicBezTo>
                  <a:pt x="17826" y="13682"/>
                  <a:pt x="17826" y="13667"/>
                  <a:pt x="17760" y="13667"/>
                </a:cubicBezTo>
                <a:cubicBezTo>
                  <a:pt x="17655" y="13667"/>
                  <a:pt x="17563" y="13657"/>
                  <a:pt x="17462" y="13643"/>
                </a:cubicBezTo>
                <a:cubicBezTo>
                  <a:pt x="17446" y="13643"/>
                  <a:pt x="17429" y="13643"/>
                  <a:pt x="17413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72160" y="4983120"/>
            <a:ext cx="125640" cy="34920"/>
          </a:xfrm>
          <a:custGeom>
            <a:avLst/>
            <a:gdLst/>
            <a:ahLst/>
            <a:rect l="l" t="t" r="r" b="b"/>
            <a:pathLst>
              <a:path w="349" h="100">
                <a:moveTo>
                  <a:pt x="18256" y="13940"/>
                </a:moveTo>
                <a:cubicBezTo>
                  <a:pt x="18273" y="13874"/>
                  <a:pt x="18288" y="13915"/>
                  <a:pt x="18331" y="13891"/>
                </a:cubicBezTo>
                <a:cubicBezTo>
                  <a:pt x="18372" y="13868"/>
                  <a:pt x="18427" y="13845"/>
                  <a:pt x="18479" y="13841"/>
                </a:cubicBezTo>
                <a:cubicBezTo>
                  <a:pt x="18520" y="13838"/>
                  <a:pt x="18563" y="13841"/>
                  <a:pt x="18604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19920" y="4929120"/>
            <a:ext cx="314280" cy="115920"/>
          </a:xfrm>
          <a:custGeom>
            <a:avLst/>
            <a:gdLst/>
            <a:ahLst/>
            <a:rect l="l" t="t" r="r" b="b"/>
            <a:pathLst>
              <a:path w="869" h="324">
                <a:moveTo>
                  <a:pt x="19372" y="13742"/>
                </a:moveTo>
                <a:cubicBezTo>
                  <a:pt x="19431" y="13717"/>
                  <a:pt x="19470" y="13717"/>
                  <a:pt x="19397" y="13717"/>
                </a:cubicBezTo>
                <a:cubicBezTo>
                  <a:pt x="19321" y="13717"/>
                  <a:pt x="19301" y="13714"/>
                  <a:pt x="19248" y="13767"/>
                </a:cubicBezTo>
                <a:cubicBezTo>
                  <a:pt x="19226" y="13789"/>
                  <a:pt x="19218" y="13794"/>
                  <a:pt x="19224" y="13816"/>
                </a:cubicBezTo>
                <a:cubicBezTo>
                  <a:pt x="19266" y="13850"/>
                  <a:pt x="19319" y="13898"/>
                  <a:pt x="19372" y="13915"/>
                </a:cubicBezTo>
                <a:cubicBezTo>
                  <a:pt x="19394" y="13922"/>
                  <a:pt x="19417" y="13954"/>
                  <a:pt x="19397" y="13990"/>
                </a:cubicBezTo>
                <a:cubicBezTo>
                  <a:pt x="19372" y="14036"/>
                  <a:pt x="19290" y="14015"/>
                  <a:pt x="19248" y="14015"/>
                </a:cubicBezTo>
                <a:cubicBezTo>
                  <a:pt x="19240" y="14015"/>
                  <a:pt x="19232" y="14015"/>
                  <a:pt x="19224" y="14015"/>
                </a:cubicBezTo>
              </a:path>
              <a:path w="869" h="324">
                <a:moveTo>
                  <a:pt x="19472" y="13915"/>
                </a:moveTo>
                <a:cubicBezTo>
                  <a:pt x="19602" y="13928"/>
                  <a:pt x="19530" y="13916"/>
                  <a:pt x="19571" y="13990"/>
                </a:cubicBezTo>
                <a:cubicBezTo>
                  <a:pt x="19579" y="13998"/>
                  <a:pt x="19588" y="14007"/>
                  <a:pt x="19596" y="14015"/>
                </a:cubicBezTo>
              </a:path>
              <a:path w="869" h="324">
                <a:moveTo>
                  <a:pt x="19645" y="13767"/>
                </a:moveTo>
                <a:cubicBezTo>
                  <a:pt x="19674" y="13716"/>
                  <a:pt x="19669" y="13705"/>
                  <a:pt x="19720" y="13692"/>
                </a:cubicBezTo>
              </a:path>
              <a:path w="869" h="324">
                <a:moveTo>
                  <a:pt x="19794" y="13841"/>
                </a:moveTo>
                <a:cubicBezTo>
                  <a:pt x="19794" y="13899"/>
                  <a:pt x="19794" y="13957"/>
                  <a:pt x="19794" y="14015"/>
                </a:cubicBezTo>
                <a:cubicBezTo>
                  <a:pt x="19851" y="14001"/>
                  <a:pt x="19853" y="13958"/>
                  <a:pt x="19893" y="13915"/>
                </a:cubicBezTo>
                <a:cubicBezTo>
                  <a:pt x="19914" y="13893"/>
                  <a:pt x="19996" y="13795"/>
                  <a:pt x="20042" y="13841"/>
                </a:cubicBezTo>
                <a:cubicBezTo>
                  <a:pt x="20073" y="13872"/>
                  <a:pt x="20077" y="13950"/>
                  <a:pt x="20092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73960" y="4749840"/>
            <a:ext cx="330120" cy="447480"/>
          </a:xfrm>
          <a:custGeom>
            <a:avLst/>
            <a:gdLst/>
            <a:ahLst/>
            <a:rect l="l" t="t" r="r" b="b"/>
            <a:pathLst>
              <a:path w="918" h="1241">
                <a:moveTo>
                  <a:pt x="20786" y="13246"/>
                </a:moveTo>
                <a:cubicBezTo>
                  <a:pt x="20778" y="13246"/>
                  <a:pt x="20770" y="13246"/>
                  <a:pt x="20762" y="13246"/>
                </a:cubicBezTo>
                <a:cubicBezTo>
                  <a:pt x="20776" y="13202"/>
                  <a:pt x="20832" y="13200"/>
                  <a:pt x="20886" y="13196"/>
                </a:cubicBezTo>
                <a:cubicBezTo>
                  <a:pt x="20946" y="13191"/>
                  <a:pt x="20992" y="13242"/>
                  <a:pt x="21010" y="13295"/>
                </a:cubicBezTo>
                <a:cubicBezTo>
                  <a:pt x="21030" y="13355"/>
                  <a:pt x="20966" y="13416"/>
                  <a:pt x="20935" y="13444"/>
                </a:cubicBezTo>
                <a:cubicBezTo>
                  <a:pt x="20899" y="13477"/>
                  <a:pt x="20882" y="13508"/>
                  <a:pt x="20836" y="13519"/>
                </a:cubicBezTo>
                <a:cubicBezTo>
                  <a:pt x="20877" y="13559"/>
                  <a:pt x="20915" y="13584"/>
                  <a:pt x="20960" y="13618"/>
                </a:cubicBezTo>
                <a:cubicBezTo>
                  <a:pt x="20986" y="13637"/>
                  <a:pt x="21031" y="13679"/>
                  <a:pt x="21010" y="13717"/>
                </a:cubicBezTo>
                <a:cubicBezTo>
                  <a:pt x="20991" y="13751"/>
                  <a:pt x="20945" y="13787"/>
                  <a:pt x="20910" y="13791"/>
                </a:cubicBezTo>
                <a:cubicBezTo>
                  <a:pt x="20877" y="13791"/>
                  <a:pt x="20861" y="13791"/>
                  <a:pt x="20836" y="13791"/>
                </a:cubicBezTo>
              </a:path>
              <a:path w="918" h="1241">
                <a:moveTo>
                  <a:pt x="21233" y="13543"/>
                </a:moveTo>
                <a:cubicBezTo>
                  <a:pt x="21241" y="13535"/>
                  <a:pt x="21250" y="13527"/>
                  <a:pt x="21258" y="13519"/>
                </a:cubicBezTo>
                <a:cubicBezTo>
                  <a:pt x="21258" y="13585"/>
                  <a:pt x="21258" y="13651"/>
                  <a:pt x="21258" y="13717"/>
                </a:cubicBezTo>
              </a:path>
              <a:path w="918" h="1241">
                <a:moveTo>
                  <a:pt x="21456" y="13469"/>
                </a:moveTo>
                <a:cubicBezTo>
                  <a:pt x="21421" y="13513"/>
                  <a:pt x="21367" y="13585"/>
                  <a:pt x="21357" y="13643"/>
                </a:cubicBezTo>
                <a:cubicBezTo>
                  <a:pt x="21342" y="13732"/>
                  <a:pt x="21346" y="13774"/>
                  <a:pt x="21431" y="13791"/>
                </a:cubicBezTo>
              </a:path>
              <a:path w="918" h="1241">
                <a:moveTo>
                  <a:pt x="21630" y="13593"/>
                </a:moveTo>
                <a:cubicBezTo>
                  <a:pt x="21592" y="13499"/>
                  <a:pt x="21601" y="13494"/>
                  <a:pt x="21506" y="13494"/>
                </a:cubicBezTo>
                <a:cubicBezTo>
                  <a:pt x="21402" y="13494"/>
                  <a:pt x="21304" y="13483"/>
                  <a:pt x="21208" y="13519"/>
                </a:cubicBezTo>
              </a:path>
              <a:path w="918" h="1241">
                <a:moveTo>
                  <a:pt x="21506" y="13965"/>
                </a:moveTo>
                <a:cubicBezTo>
                  <a:pt x="21514" y="13965"/>
                  <a:pt x="21522" y="13965"/>
                  <a:pt x="21530" y="13965"/>
                </a:cubicBezTo>
                <a:cubicBezTo>
                  <a:pt x="21516" y="13922"/>
                  <a:pt x="21460" y="13917"/>
                  <a:pt x="21406" y="13915"/>
                </a:cubicBezTo>
                <a:cubicBezTo>
                  <a:pt x="21296" y="13910"/>
                  <a:pt x="21197" y="13891"/>
                  <a:pt x="21084" y="13891"/>
                </a:cubicBezTo>
                <a:cubicBezTo>
                  <a:pt x="21010" y="13891"/>
                  <a:pt x="20959" y="13866"/>
                  <a:pt x="20886" y="13866"/>
                </a:cubicBezTo>
              </a:path>
              <a:path w="918" h="1241">
                <a:moveTo>
                  <a:pt x="21158" y="14064"/>
                </a:moveTo>
                <a:cubicBezTo>
                  <a:pt x="21093" y="14064"/>
                  <a:pt x="21244" y="14064"/>
                  <a:pt x="21258" y="14064"/>
                </a:cubicBezTo>
                <a:cubicBezTo>
                  <a:pt x="21291" y="14064"/>
                  <a:pt x="21324" y="14064"/>
                  <a:pt x="21357" y="14064"/>
                </a:cubicBezTo>
                <a:cubicBezTo>
                  <a:pt x="21357" y="14132"/>
                  <a:pt x="21348" y="14180"/>
                  <a:pt x="21307" y="14238"/>
                </a:cubicBezTo>
                <a:cubicBezTo>
                  <a:pt x="21267" y="14296"/>
                  <a:pt x="21237" y="14319"/>
                  <a:pt x="21282" y="14387"/>
                </a:cubicBezTo>
                <a:cubicBezTo>
                  <a:pt x="21326" y="14454"/>
                  <a:pt x="21413" y="14436"/>
                  <a:pt x="21481" y="14436"/>
                </a:cubicBezTo>
                <a:cubicBezTo>
                  <a:pt x="21547" y="14436"/>
                  <a:pt x="21613" y="14436"/>
                  <a:pt x="21679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89680" y="5268960"/>
            <a:ext cx="982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14387" y="14660"/>
                </a:moveTo>
                <a:cubicBezTo>
                  <a:pt x="14387" y="14635"/>
                  <a:pt x="14387" y="14627"/>
                  <a:pt x="14412" y="14635"/>
                </a:cubicBezTo>
                <a:cubicBezTo>
                  <a:pt x="14328" y="14635"/>
                  <a:pt x="14259" y="14636"/>
                  <a:pt x="14188" y="14660"/>
                </a:cubicBezTo>
                <a:cubicBezTo>
                  <a:pt x="14180" y="14660"/>
                  <a:pt x="14171" y="14660"/>
                  <a:pt x="14163" y="14660"/>
                </a:cubicBezTo>
              </a:path>
              <a:path w="274" h="224">
                <a:moveTo>
                  <a:pt x="14387" y="14858"/>
                </a:moveTo>
                <a:cubicBezTo>
                  <a:pt x="14304" y="14858"/>
                  <a:pt x="14222" y="14858"/>
                  <a:pt x="14139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0800" y="5224320"/>
            <a:ext cx="169920" cy="204840"/>
          </a:xfrm>
          <a:custGeom>
            <a:avLst/>
            <a:gdLst/>
            <a:ahLst/>
            <a:rect l="l" t="t" r="r" b="b"/>
            <a:pathLst>
              <a:path w="472" h="571">
                <a:moveTo>
                  <a:pt x="15329" y="14833"/>
                </a:moveTo>
                <a:cubicBezTo>
                  <a:pt x="15291" y="14795"/>
                  <a:pt x="15280" y="14787"/>
                  <a:pt x="15280" y="14734"/>
                </a:cubicBezTo>
                <a:cubicBezTo>
                  <a:pt x="15280" y="14663"/>
                  <a:pt x="15308" y="14614"/>
                  <a:pt x="15354" y="14560"/>
                </a:cubicBezTo>
                <a:cubicBezTo>
                  <a:pt x="15392" y="14516"/>
                  <a:pt x="15521" y="14485"/>
                  <a:pt x="15577" y="14511"/>
                </a:cubicBezTo>
                <a:cubicBezTo>
                  <a:pt x="15686" y="14562"/>
                  <a:pt x="15736" y="14669"/>
                  <a:pt x="15751" y="14784"/>
                </a:cubicBezTo>
                <a:cubicBezTo>
                  <a:pt x="15763" y="14871"/>
                  <a:pt x="15736" y="15007"/>
                  <a:pt x="15652" y="15056"/>
                </a:cubicBezTo>
                <a:cubicBezTo>
                  <a:pt x="15571" y="15104"/>
                  <a:pt x="15453" y="15086"/>
                  <a:pt x="15379" y="15032"/>
                </a:cubicBezTo>
                <a:cubicBezTo>
                  <a:pt x="15318" y="14987"/>
                  <a:pt x="15283" y="14909"/>
                  <a:pt x="15304" y="14833"/>
                </a:cubicBezTo>
                <a:cubicBezTo>
                  <a:pt x="15317" y="14787"/>
                  <a:pt x="15350" y="14745"/>
                  <a:pt x="15379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5224320"/>
            <a:ext cx="625320" cy="268560"/>
          </a:xfrm>
          <a:custGeom>
            <a:avLst/>
            <a:gdLst/>
            <a:ahLst/>
            <a:rect l="l" t="t" r="r" b="b"/>
            <a:pathLst>
              <a:path w="1738" h="745">
                <a:moveTo>
                  <a:pt x="16098" y="15106"/>
                </a:moveTo>
                <a:cubicBezTo>
                  <a:pt x="16098" y="15098"/>
                  <a:pt x="16098" y="15089"/>
                  <a:pt x="16098" y="15081"/>
                </a:cubicBezTo>
              </a:path>
              <a:path w="1738" h="745">
                <a:moveTo>
                  <a:pt x="16495" y="14560"/>
                </a:moveTo>
                <a:cubicBezTo>
                  <a:pt x="16495" y="14639"/>
                  <a:pt x="16479" y="14711"/>
                  <a:pt x="16470" y="14784"/>
                </a:cubicBezTo>
                <a:cubicBezTo>
                  <a:pt x="16461" y="14853"/>
                  <a:pt x="16446" y="14912"/>
                  <a:pt x="16446" y="14982"/>
                </a:cubicBezTo>
                <a:cubicBezTo>
                  <a:pt x="16446" y="14990"/>
                  <a:pt x="16446" y="14999"/>
                  <a:pt x="16446" y="15007"/>
                </a:cubicBezTo>
              </a:path>
              <a:path w="1738" h="745">
                <a:moveTo>
                  <a:pt x="16743" y="14709"/>
                </a:moveTo>
                <a:cubicBezTo>
                  <a:pt x="16743" y="14655"/>
                  <a:pt x="16731" y="14673"/>
                  <a:pt x="16718" y="14635"/>
                </a:cubicBezTo>
                <a:cubicBezTo>
                  <a:pt x="16759" y="14594"/>
                  <a:pt x="16790" y="14564"/>
                  <a:pt x="16842" y="14536"/>
                </a:cubicBezTo>
                <a:cubicBezTo>
                  <a:pt x="16888" y="14512"/>
                  <a:pt x="16984" y="14497"/>
                  <a:pt x="17016" y="14560"/>
                </a:cubicBezTo>
                <a:cubicBezTo>
                  <a:pt x="17036" y="14601"/>
                  <a:pt x="17025" y="14758"/>
                  <a:pt x="16991" y="14784"/>
                </a:cubicBezTo>
                <a:cubicBezTo>
                  <a:pt x="16961" y="14807"/>
                  <a:pt x="16900" y="14825"/>
                  <a:pt x="16867" y="14833"/>
                </a:cubicBezTo>
                <a:cubicBezTo>
                  <a:pt x="16920" y="14886"/>
                  <a:pt x="16954" y="14870"/>
                  <a:pt x="17016" y="14908"/>
                </a:cubicBezTo>
                <a:cubicBezTo>
                  <a:pt x="17062" y="14936"/>
                  <a:pt x="17066" y="14985"/>
                  <a:pt x="17066" y="15032"/>
                </a:cubicBezTo>
                <a:cubicBezTo>
                  <a:pt x="17066" y="15093"/>
                  <a:pt x="16989" y="15094"/>
                  <a:pt x="16942" y="15081"/>
                </a:cubicBezTo>
                <a:cubicBezTo>
                  <a:pt x="16894" y="15057"/>
                  <a:pt x="16879" y="15049"/>
                  <a:pt x="16842" y="15056"/>
                </a:cubicBezTo>
              </a:path>
              <a:path w="1738" h="745">
                <a:moveTo>
                  <a:pt x="17314" y="14610"/>
                </a:moveTo>
                <a:cubicBezTo>
                  <a:pt x="17354" y="14590"/>
                  <a:pt x="17360" y="14581"/>
                  <a:pt x="17388" y="14585"/>
                </a:cubicBezTo>
                <a:cubicBezTo>
                  <a:pt x="17397" y="14623"/>
                  <a:pt x="17433" y="14661"/>
                  <a:pt x="17413" y="14709"/>
                </a:cubicBezTo>
                <a:cubicBezTo>
                  <a:pt x="17390" y="14764"/>
                  <a:pt x="17368" y="14816"/>
                  <a:pt x="17363" y="14883"/>
                </a:cubicBezTo>
                <a:cubicBezTo>
                  <a:pt x="17363" y="14916"/>
                  <a:pt x="17363" y="14932"/>
                  <a:pt x="17363" y="14957"/>
                </a:cubicBezTo>
                <a:cubicBezTo>
                  <a:pt x="17417" y="14957"/>
                  <a:pt x="17433" y="14979"/>
                  <a:pt x="17487" y="14982"/>
                </a:cubicBezTo>
                <a:cubicBezTo>
                  <a:pt x="17549" y="14986"/>
                  <a:pt x="17597" y="14957"/>
                  <a:pt x="17661" y="14957"/>
                </a:cubicBezTo>
                <a:cubicBezTo>
                  <a:pt x="17691" y="14957"/>
                  <a:pt x="17860" y="14957"/>
                  <a:pt x="17810" y="14957"/>
                </a:cubicBezTo>
              </a:path>
              <a:path w="1738" h="745">
                <a:moveTo>
                  <a:pt x="17661" y="14808"/>
                </a:moveTo>
                <a:cubicBezTo>
                  <a:pt x="17653" y="14800"/>
                  <a:pt x="17644" y="14792"/>
                  <a:pt x="17636" y="14784"/>
                </a:cubicBezTo>
                <a:cubicBezTo>
                  <a:pt x="17571" y="14848"/>
                  <a:pt x="17602" y="14868"/>
                  <a:pt x="17587" y="14957"/>
                </a:cubicBezTo>
                <a:cubicBezTo>
                  <a:pt x="17571" y="15054"/>
                  <a:pt x="17562" y="15131"/>
                  <a:pt x="17562" y="15230"/>
                </a:cubicBezTo>
                <a:cubicBezTo>
                  <a:pt x="17562" y="15238"/>
                  <a:pt x="17562" y="15247"/>
                  <a:pt x="17562" y="15255"/>
                </a:cubicBezTo>
              </a:path>
              <a:path w="1738" h="745">
                <a:moveTo>
                  <a:pt x="16495" y="14560"/>
                </a:moveTo>
                <a:cubicBezTo>
                  <a:pt x="16384" y="14628"/>
                  <a:pt x="16269" y="14667"/>
                  <a:pt x="16247" y="14808"/>
                </a:cubicBezTo>
                <a:cubicBezTo>
                  <a:pt x="16247" y="14895"/>
                  <a:pt x="16252" y="14931"/>
                  <a:pt x="16297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06920" y="5500800"/>
            <a:ext cx="250920" cy="349200"/>
          </a:xfrm>
          <a:custGeom>
            <a:avLst/>
            <a:gdLst/>
            <a:ahLst/>
            <a:rect l="l" t="t" r="r" b="b"/>
            <a:pathLst>
              <a:path w="696" h="968">
                <a:moveTo>
                  <a:pt x="12824" y="15404"/>
                </a:moveTo>
                <a:cubicBezTo>
                  <a:pt x="12816" y="15404"/>
                  <a:pt x="12807" y="15404"/>
                  <a:pt x="12799" y="15404"/>
                </a:cubicBezTo>
                <a:cubicBezTo>
                  <a:pt x="12811" y="15356"/>
                  <a:pt x="12853" y="15330"/>
                  <a:pt x="12898" y="15304"/>
                </a:cubicBezTo>
                <a:cubicBezTo>
                  <a:pt x="12963" y="15265"/>
                  <a:pt x="13026" y="15275"/>
                  <a:pt x="13047" y="15354"/>
                </a:cubicBezTo>
                <a:cubicBezTo>
                  <a:pt x="13071" y="15445"/>
                  <a:pt x="13033" y="15458"/>
                  <a:pt x="12973" y="15503"/>
                </a:cubicBezTo>
                <a:cubicBezTo>
                  <a:pt x="12943" y="15533"/>
                  <a:pt x="12929" y="15544"/>
                  <a:pt x="12898" y="15553"/>
                </a:cubicBezTo>
                <a:cubicBezTo>
                  <a:pt x="12930" y="15615"/>
                  <a:pt x="12968" y="15600"/>
                  <a:pt x="13022" y="15627"/>
                </a:cubicBezTo>
                <a:cubicBezTo>
                  <a:pt x="13059" y="15646"/>
                  <a:pt x="13059" y="15707"/>
                  <a:pt x="13022" y="15726"/>
                </a:cubicBezTo>
                <a:cubicBezTo>
                  <a:pt x="12983" y="15746"/>
                  <a:pt x="12964" y="15720"/>
                  <a:pt x="12923" y="15751"/>
                </a:cubicBezTo>
              </a:path>
              <a:path w="696" h="968">
                <a:moveTo>
                  <a:pt x="13122" y="15577"/>
                </a:moveTo>
                <a:cubicBezTo>
                  <a:pt x="13138" y="15569"/>
                  <a:pt x="13155" y="15561"/>
                  <a:pt x="13171" y="15553"/>
                </a:cubicBezTo>
                <a:cubicBezTo>
                  <a:pt x="13171" y="15594"/>
                  <a:pt x="13171" y="15636"/>
                  <a:pt x="13171" y="15677"/>
                </a:cubicBezTo>
              </a:path>
              <a:path w="696" h="968">
                <a:moveTo>
                  <a:pt x="13295" y="15478"/>
                </a:moveTo>
                <a:cubicBezTo>
                  <a:pt x="13295" y="15415"/>
                  <a:pt x="13295" y="15533"/>
                  <a:pt x="13295" y="15553"/>
                </a:cubicBezTo>
                <a:cubicBezTo>
                  <a:pt x="13295" y="15603"/>
                  <a:pt x="13275" y="15726"/>
                  <a:pt x="13345" y="15751"/>
                </a:cubicBezTo>
                <a:cubicBezTo>
                  <a:pt x="13362" y="15751"/>
                  <a:pt x="13378" y="15751"/>
                  <a:pt x="13395" y="15751"/>
                </a:cubicBezTo>
              </a:path>
              <a:path w="696" h="968">
                <a:moveTo>
                  <a:pt x="13494" y="15553"/>
                </a:moveTo>
                <a:cubicBezTo>
                  <a:pt x="13406" y="15478"/>
                  <a:pt x="13423" y="15514"/>
                  <a:pt x="13320" y="15528"/>
                </a:cubicBezTo>
                <a:cubicBezTo>
                  <a:pt x="13295" y="15528"/>
                  <a:pt x="13271" y="15528"/>
                  <a:pt x="13246" y="15528"/>
                </a:cubicBezTo>
              </a:path>
              <a:path w="696" h="968">
                <a:moveTo>
                  <a:pt x="13320" y="15875"/>
                </a:moveTo>
                <a:cubicBezTo>
                  <a:pt x="13252" y="15901"/>
                  <a:pt x="13170" y="15915"/>
                  <a:pt x="13097" y="15925"/>
                </a:cubicBezTo>
                <a:cubicBezTo>
                  <a:pt x="13080" y="15925"/>
                  <a:pt x="13064" y="15925"/>
                  <a:pt x="13047" y="15925"/>
                </a:cubicBezTo>
              </a:path>
              <a:path w="696" h="968">
                <a:moveTo>
                  <a:pt x="13047" y="15925"/>
                </a:moveTo>
                <a:cubicBezTo>
                  <a:pt x="13087" y="15925"/>
                  <a:pt x="13199" y="15905"/>
                  <a:pt x="13221" y="15949"/>
                </a:cubicBezTo>
                <a:cubicBezTo>
                  <a:pt x="13250" y="16006"/>
                  <a:pt x="13196" y="16057"/>
                  <a:pt x="13171" y="16098"/>
                </a:cubicBezTo>
                <a:cubicBezTo>
                  <a:pt x="13139" y="16151"/>
                  <a:pt x="13146" y="16188"/>
                  <a:pt x="13146" y="16247"/>
                </a:cubicBezTo>
                <a:cubicBezTo>
                  <a:pt x="13219" y="16247"/>
                  <a:pt x="13278" y="16252"/>
                  <a:pt x="13345" y="16222"/>
                </a:cubicBezTo>
                <a:cubicBezTo>
                  <a:pt x="13362" y="16214"/>
                  <a:pt x="13378" y="16205"/>
                  <a:pt x="13395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81760" y="5991120"/>
            <a:ext cx="982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14387" y="16669"/>
                </a:moveTo>
                <a:cubicBezTo>
                  <a:pt x="14387" y="16661"/>
                  <a:pt x="14387" y="16652"/>
                  <a:pt x="14387" y="16644"/>
                </a:cubicBezTo>
                <a:cubicBezTo>
                  <a:pt x="14325" y="16644"/>
                  <a:pt x="14296" y="16681"/>
                  <a:pt x="14238" y="16694"/>
                </a:cubicBezTo>
                <a:cubicBezTo>
                  <a:pt x="14188" y="16705"/>
                  <a:pt x="14165" y="16711"/>
                  <a:pt x="14114" y="16718"/>
                </a:cubicBezTo>
              </a:path>
              <a:path w="274" h="224">
                <a:moveTo>
                  <a:pt x="14288" y="16768"/>
                </a:moveTo>
                <a:cubicBezTo>
                  <a:pt x="14304" y="16779"/>
                  <a:pt x="14390" y="16843"/>
                  <a:pt x="14312" y="16867"/>
                </a:cubicBezTo>
                <a:cubicBezTo>
                  <a:pt x="14263" y="16867"/>
                  <a:pt x="14246" y="16867"/>
                  <a:pt x="14213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0800" y="6045120"/>
            <a:ext cx="250560" cy="142920"/>
          </a:xfrm>
          <a:custGeom>
            <a:avLst/>
            <a:gdLst/>
            <a:ahLst/>
            <a:rect l="l" t="t" r="r" b="b"/>
            <a:pathLst>
              <a:path w="695" h="398">
                <a:moveTo>
                  <a:pt x="15627" y="16917"/>
                </a:moveTo>
                <a:cubicBezTo>
                  <a:pt x="15652" y="16917"/>
                  <a:pt x="15660" y="16917"/>
                  <a:pt x="15652" y="16892"/>
                </a:cubicBezTo>
                <a:cubicBezTo>
                  <a:pt x="15528" y="16892"/>
                  <a:pt x="15404" y="16892"/>
                  <a:pt x="15280" y="16892"/>
                </a:cubicBezTo>
              </a:path>
              <a:path w="695" h="398">
                <a:moveTo>
                  <a:pt x="15974" y="16793"/>
                </a:moveTo>
                <a:cubicBezTo>
                  <a:pt x="15974" y="16844"/>
                  <a:pt x="15961" y="16895"/>
                  <a:pt x="15949" y="16942"/>
                </a:cubicBezTo>
                <a:cubicBezTo>
                  <a:pt x="15929" y="17022"/>
                  <a:pt x="15925" y="17082"/>
                  <a:pt x="15925" y="17165"/>
                </a:cubicBezTo>
                <a:cubicBezTo>
                  <a:pt x="15925" y="17173"/>
                  <a:pt x="15925" y="17182"/>
                  <a:pt x="15925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1360" y="5653080"/>
            <a:ext cx="1527480" cy="938160"/>
          </a:xfrm>
          <a:custGeom>
            <a:avLst/>
            <a:gdLst/>
            <a:ahLst/>
            <a:rect l="l" t="t" r="r" b="b"/>
            <a:pathLst>
              <a:path w="4243" h="2606">
                <a:moveTo>
                  <a:pt x="9823" y="15726"/>
                </a:moveTo>
                <a:cubicBezTo>
                  <a:pt x="9925" y="15717"/>
                  <a:pt x="9879" y="15730"/>
                  <a:pt x="9947" y="15701"/>
                </a:cubicBezTo>
                <a:cubicBezTo>
                  <a:pt x="9914" y="15701"/>
                  <a:pt x="9930" y="15701"/>
                  <a:pt x="9897" y="15701"/>
                </a:cubicBezTo>
                <a:cubicBezTo>
                  <a:pt x="9824" y="15701"/>
                  <a:pt x="9742" y="15704"/>
                  <a:pt x="9674" y="15726"/>
                </a:cubicBezTo>
                <a:cubicBezTo>
                  <a:pt x="9590" y="15753"/>
                  <a:pt x="9561" y="15828"/>
                  <a:pt x="9525" y="15900"/>
                </a:cubicBezTo>
                <a:cubicBezTo>
                  <a:pt x="9489" y="15971"/>
                  <a:pt x="9482" y="16094"/>
                  <a:pt x="9475" y="16173"/>
                </a:cubicBezTo>
                <a:cubicBezTo>
                  <a:pt x="9460" y="16333"/>
                  <a:pt x="9489" y="16487"/>
                  <a:pt x="9500" y="16644"/>
                </a:cubicBezTo>
                <a:cubicBezTo>
                  <a:pt x="9509" y="16785"/>
                  <a:pt x="9520" y="16926"/>
                  <a:pt x="9525" y="17066"/>
                </a:cubicBezTo>
                <a:cubicBezTo>
                  <a:pt x="9528" y="17164"/>
                  <a:pt x="9504" y="17272"/>
                  <a:pt x="9550" y="17363"/>
                </a:cubicBezTo>
                <a:cubicBezTo>
                  <a:pt x="9579" y="17420"/>
                  <a:pt x="9643" y="17435"/>
                  <a:pt x="9699" y="17438"/>
                </a:cubicBezTo>
                <a:cubicBezTo>
                  <a:pt x="9773" y="17442"/>
                  <a:pt x="9855" y="17436"/>
                  <a:pt x="9922" y="17413"/>
                </a:cubicBezTo>
                <a:cubicBezTo>
                  <a:pt x="9938" y="17405"/>
                  <a:pt x="9955" y="17396"/>
                  <a:pt x="9971" y="17388"/>
                </a:cubicBezTo>
              </a:path>
              <a:path w="4243" h="2606">
                <a:moveTo>
                  <a:pt x="10443" y="16346"/>
                </a:moveTo>
                <a:cubicBezTo>
                  <a:pt x="10451" y="16338"/>
                  <a:pt x="10460" y="16329"/>
                  <a:pt x="10468" y="16321"/>
                </a:cubicBezTo>
                <a:cubicBezTo>
                  <a:pt x="10409" y="16380"/>
                  <a:pt x="10321" y="16440"/>
                  <a:pt x="10294" y="16520"/>
                </a:cubicBezTo>
                <a:cubicBezTo>
                  <a:pt x="10271" y="16590"/>
                  <a:pt x="10348" y="16616"/>
                  <a:pt x="10393" y="16619"/>
                </a:cubicBezTo>
                <a:cubicBezTo>
                  <a:pt x="10454" y="16623"/>
                  <a:pt x="10516" y="16639"/>
                  <a:pt x="10542" y="16669"/>
                </a:cubicBezTo>
                <a:cubicBezTo>
                  <a:pt x="10591" y="16725"/>
                  <a:pt x="10561" y="16749"/>
                  <a:pt x="10517" y="16793"/>
                </a:cubicBezTo>
                <a:cubicBezTo>
                  <a:pt x="10478" y="16832"/>
                  <a:pt x="10437" y="16810"/>
                  <a:pt x="10393" y="16842"/>
                </a:cubicBezTo>
              </a:path>
              <a:path w="4243" h="2606">
                <a:moveTo>
                  <a:pt x="10641" y="16594"/>
                </a:moveTo>
                <a:cubicBezTo>
                  <a:pt x="10666" y="16594"/>
                  <a:pt x="10691" y="16594"/>
                  <a:pt x="10716" y="16594"/>
                </a:cubicBezTo>
                <a:cubicBezTo>
                  <a:pt x="10725" y="16633"/>
                  <a:pt x="10740" y="16650"/>
                  <a:pt x="10740" y="16694"/>
                </a:cubicBezTo>
                <a:cubicBezTo>
                  <a:pt x="10740" y="16702"/>
                  <a:pt x="10740" y="16710"/>
                  <a:pt x="10740" y="16718"/>
                </a:cubicBezTo>
              </a:path>
              <a:path w="4243" h="2606">
                <a:moveTo>
                  <a:pt x="10666" y="16446"/>
                </a:moveTo>
                <a:cubicBezTo>
                  <a:pt x="10666" y="16388"/>
                  <a:pt x="10666" y="16379"/>
                  <a:pt x="10666" y="16346"/>
                </a:cubicBezTo>
              </a:path>
              <a:path w="4243" h="2606">
                <a:moveTo>
                  <a:pt x="10815" y="16570"/>
                </a:moveTo>
                <a:cubicBezTo>
                  <a:pt x="10833" y="16646"/>
                  <a:pt x="10827" y="16669"/>
                  <a:pt x="10864" y="16718"/>
                </a:cubicBezTo>
                <a:cubicBezTo>
                  <a:pt x="10893" y="16671"/>
                  <a:pt x="10892" y="16589"/>
                  <a:pt x="10939" y="16545"/>
                </a:cubicBezTo>
                <a:cubicBezTo>
                  <a:pt x="11007" y="16482"/>
                  <a:pt x="11063" y="16549"/>
                  <a:pt x="11112" y="16594"/>
                </a:cubicBezTo>
                <a:cubicBezTo>
                  <a:pt x="11142" y="16624"/>
                  <a:pt x="11153" y="16638"/>
                  <a:pt x="11162" y="16669"/>
                </a:cubicBezTo>
              </a:path>
              <a:path w="4243" h="2606">
                <a:moveTo>
                  <a:pt x="11460" y="16545"/>
                </a:moveTo>
                <a:cubicBezTo>
                  <a:pt x="11473" y="16507"/>
                  <a:pt x="11489" y="16520"/>
                  <a:pt x="11534" y="16520"/>
                </a:cubicBezTo>
                <a:cubicBezTo>
                  <a:pt x="11598" y="16520"/>
                  <a:pt x="11665" y="16551"/>
                  <a:pt x="11683" y="16619"/>
                </a:cubicBezTo>
                <a:cubicBezTo>
                  <a:pt x="11703" y="16692"/>
                  <a:pt x="11638" y="16715"/>
                  <a:pt x="11584" y="16718"/>
                </a:cubicBezTo>
                <a:cubicBezTo>
                  <a:pt x="11567" y="16718"/>
                  <a:pt x="11551" y="16718"/>
                  <a:pt x="11534" y="16718"/>
                </a:cubicBezTo>
              </a:path>
              <a:path w="4243" h="2606">
                <a:moveTo>
                  <a:pt x="11708" y="16421"/>
                </a:moveTo>
                <a:cubicBezTo>
                  <a:pt x="11733" y="16413"/>
                  <a:pt x="11757" y="16404"/>
                  <a:pt x="11782" y="16396"/>
                </a:cubicBezTo>
                <a:cubicBezTo>
                  <a:pt x="11772" y="16469"/>
                  <a:pt x="11723" y="16515"/>
                  <a:pt x="11708" y="16594"/>
                </a:cubicBezTo>
                <a:cubicBezTo>
                  <a:pt x="11695" y="16660"/>
                  <a:pt x="11766" y="16733"/>
                  <a:pt x="11832" y="16718"/>
                </a:cubicBezTo>
                <a:cubicBezTo>
                  <a:pt x="11848" y="16710"/>
                  <a:pt x="11865" y="16702"/>
                  <a:pt x="11881" y="16694"/>
                </a:cubicBezTo>
              </a:path>
              <a:path w="4243" h="2606">
                <a:moveTo>
                  <a:pt x="11956" y="15925"/>
                </a:moveTo>
                <a:cubicBezTo>
                  <a:pt x="12028" y="15925"/>
                  <a:pt x="12176" y="15897"/>
                  <a:pt x="12229" y="15949"/>
                </a:cubicBezTo>
                <a:cubicBezTo>
                  <a:pt x="12284" y="16003"/>
                  <a:pt x="12305" y="16128"/>
                  <a:pt x="12328" y="16197"/>
                </a:cubicBezTo>
                <a:cubicBezTo>
                  <a:pt x="12370" y="16323"/>
                  <a:pt x="12353" y="16462"/>
                  <a:pt x="12353" y="16594"/>
                </a:cubicBezTo>
                <a:cubicBezTo>
                  <a:pt x="12353" y="16744"/>
                  <a:pt x="12328" y="16889"/>
                  <a:pt x="12328" y="17041"/>
                </a:cubicBezTo>
                <a:cubicBezTo>
                  <a:pt x="12328" y="17162"/>
                  <a:pt x="12349" y="17270"/>
                  <a:pt x="12353" y="17388"/>
                </a:cubicBezTo>
                <a:cubicBezTo>
                  <a:pt x="12355" y="17438"/>
                  <a:pt x="12344" y="17543"/>
                  <a:pt x="12278" y="17562"/>
                </a:cubicBezTo>
                <a:cubicBezTo>
                  <a:pt x="12202" y="17584"/>
                  <a:pt x="12124" y="17553"/>
                  <a:pt x="12055" y="17537"/>
                </a:cubicBezTo>
                <a:cubicBezTo>
                  <a:pt x="12047" y="17537"/>
                  <a:pt x="12038" y="17537"/>
                  <a:pt x="12030" y="17537"/>
                </a:cubicBezTo>
              </a:path>
              <a:path w="4243" h="2606">
                <a:moveTo>
                  <a:pt x="12948" y="17289"/>
                </a:moveTo>
                <a:cubicBezTo>
                  <a:pt x="12948" y="17264"/>
                  <a:pt x="12948" y="17256"/>
                  <a:pt x="12973" y="17264"/>
                </a:cubicBezTo>
                <a:cubicBezTo>
                  <a:pt x="12960" y="17318"/>
                  <a:pt x="12927" y="17349"/>
                  <a:pt x="12923" y="17413"/>
                </a:cubicBezTo>
                <a:cubicBezTo>
                  <a:pt x="12921" y="17453"/>
                  <a:pt x="12923" y="17496"/>
                  <a:pt x="12923" y="17537"/>
                </a:cubicBezTo>
                <a:cubicBezTo>
                  <a:pt x="12998" y="17537"/>
                  <a:pt x="13080" y="17553"/>
                  <a:pt x="13146" y="17512"/>
                </a:cubicBezTo>
                <a:cubicBezTo>
                  <a:pt x="13173" y="17495"/>
                  <a:pt x="13234" y="17466"/>
                  <a:pt x="13271" y="17487"/>
                </a:cubicBezTo>
                <a:cubicBezTo>
                  <a:pt x="13293" y="17510"/>
                  <a:pt x="13298" y="17518"/>
                  <a:pt x="13320" y="17512"/>
                </a:cubicBezTo>
              </a:path>
              <a:path w="4243" h="2606">
                <a:moveTo>
                  <a:pt x="13171" y="17462"/>
                </a:moveTo>
                <a:cubicBezTo>
                  <a:pt x="13155" y="17454"/>
                  <a:pt x="13138" y="17446"/>
                  <a:pt x="13122" y="17438"/>
                </a:cubicBezTo>
                <a:cubicBezTo>
                  <a:pt x="13122" y="17512"/>
                  <a:pt x="13122" y="17587"/>
                  <a:pt x="13122" y="17661"/>
                </a:cubicBezTo>
              </a:path>
              <a:path w="4243" h="2606">
                <a:moveTo>
                  <a:pt x="13370" y="17413"/>
                </a:moveTo>
                <a:cubicBezTo>
                  <a:pt x="13378" y="17405"/>
                  <a:pt x="13387" y="17396"/>
                  <a:pt x="13395" y="17388"/>
                </a:cubicBezTo>
                <a:cubicBezTo>
                  <a:pt x="13395" y="17496"/>
                  <a:pt x="13395" y="17603"/>
                  <a:pt x="13395" y="17711"/>
                </a:cubicBezTo>
              </a:path>
              <a:path w="4243" h="2606">
                <a:moveTo>
                  <a:pt x="13519" y="17413"/>
                </a:moveTo>
                <a:cubicBezTo>
                  <a:pt x="13527" y="17405"/>
                  <a:pt x="13535" y="17396"/>
                  <a:pt x="13543" y="17388"/>
                </a:cubicBezTo>
                <a:cubicBezTo>
                  <a:pt x="13533" y="17431"/>
                  <a:pt x="13502" y="17465"/>
                  <a:pt x="13494" y="17512"/>
                </a:cubicBezTo>
                <a:cubicBezTo>
                  <a:pt x="13485" y="17565"/>
                  <a:pt x="13515" y="17691"/>
                  <a:pt x="13593" y="17686"/>
                </a:cubicBezTo>
                <a:cubicBezTo>
                  <a:pt x="13610" y="17678"/>
                  <a:pt x="13626" y="17669"/>
                  <a:pt x="13643" y="17661"/>
                </a:cubicBezTo>
              </a:path>
              <a:path w="4243" h="2606">
                <a:moveTo>
                  <a:pt x="13717" y="17388"/>
                </a:moveTo>
                <a:cubicBezTo>
                  <a:pt x="13689" y="17318"/>
                  <a:pt x="13683" y="17266"/>
                  <a:pt x="13593" y="17289"/>
                </a:cubicBezTo>
                <a:cubicBezTo>
                  <a:pt x="13531" y="17305"/>
                  <a:pt x="13476" y="17335"/>
                  <a:pt x="13419" y="17363"/>
                </a:cubicBezTo>
              </a:path>
              <a:path w="4243" h="2606">
                <a:moveTo>
                  <a:pt x="13667" y="17785"/>
                </a:moveTo>
                <a:cubicBezTo>
                  <a:pt x="13655" y="17862"/>
                  <a:pt x="13643" y="17839"/>
                  <a:pt x="13568" y="17859"/>
                </a:cubicBezTo>
                <a:cubicBezTo>
                  <a:pt x="13467" y="17887"/>
                  <a:pt x="13377" y="17884"/>
                  <a:pt x="13271" y="17884"/>
                </a:cubicBezTo>
                <a:cubicBezTo>
                  <a:pt x="13209" y="17884"/>
                  <a:pt x="13194" y="17875"/>
                  <a:pt x="13171" y="17909"/>
                </a:cubicBezTo>
              </a:path>
              <a:path w="4243" h="2606">
                <a:moveTo>
                  <a:pt x="13271" y="18033"/>
                </a:moveTo>
                <a:cubicBezTo>
                  <a:pt x="13250" y="18002"/>
                  <a:pt x="13281" y="17974"/>
                  <a:pt x="13345" y="17959"/>
                </a:cubicBezTo>
                <a:cubicBezTo>
                  <a:pt x="13398" y="17947"/>
                  <a:pt x="13479" y="17951"/>
                  <a:pt x="13519" y="17983"/>
                </a:cubicBezTo>
                <a:cubicBezTo>
                  <a:pt x="13574" y="18027"/>
                  <a:pt x="13526" y="18089"/>
                  <a:pt x="13494" y="18132"/>
                </a:cubicBezTo>
                <a:cubicBezTo>
                  <a:pt x="13460" y="18177"/>
                  <a:pt x="13459" y="18137"/>
                  <a:pt x="13444" y="18182"/>
                </a:cubicBezTo>
                <a:cubicBezTo>
                  <a:pt x="13456" y="18218"/>
                  <a:pt x="13488" y="18205"/>
                  <a:pt x="13494" y="18256"/>
                </a:cubicBezTo>
                <a:cubicBezTo>
                  <a:pt x="13498" y="18294"/>
                  <a:pt x="13408" y="18315"/>
                  <a:pt x="13370" y="18306"/>
                </a:cubicBezTo>
                <a:cubicBezTo>
                  <a:pt x="13353" y="18298"/>
                  <a:pt x="13337" y="18289"/>
                  <a:pt x="13320" y="18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9080" y="5045040"/>
            <a:ext cx="295200" cy="1376280"/>
          </a:xfrm>
          <a:custGeom>
            <a:avLst/>
            <a:gdLst/>
            <a:ahLst/>
            <a:rect l="l" t="t" r="r" b="b"/>
            <a:pathLst>
              <a:path w="819" h="3821">
                <a:moveTo>
                  <a:pt x="3175" y="15577"/>
                </a:moveTo>
                <a:cubicBezTo>
                  <a:pt x="3198" y="15587"/>
                  <a:pt x="3226" y="15592"/>
                  <a:pt x="3249" y="15602"/>
                </a:cubicBezTo>
                <a:cubicBezTo>
                  <a:pt x="3266" y="15528"/>
                  <a:pt x="3258" y="15559"/>
                  <a:pt x="3249" y="15478"/>
                </a:cubicBezTo>
                <a:cubicBezTo>
                  <a:pt x="3241" y="15408"/>
                  <a:pt x="3215" y="15394"/>
                  <a:pt x="3175" y="15354"/>
                </a:cubicBezTo>
                <a:cubicBezTo>
                  <a:pt x="3128" y="15307"/>
                  <a:pt x="3115" y="15340"/>
                  <a:pt x="3076" y="15379"/>
                </a:cubicBezTo>
                <a:cubicBezTo>
                  <a:pt x="3033" y="15422"/>
                  <a:pt x="3051" y="15494"/>
                  <a:pt x="3051" y="15553"/>
                </a:cubicBezTo>
                <a:cubicBezTo>
                  <a:pt x="3051" y="15653"/>
                  <a:pt x="3058" y="15753"/>
                  <a:pt x="3076" y="15850"/>
                </a:cubicBezTo>
                <a:cubicBezTo>
                  <a:pt x="3102" y="15990"/>
                  <a:pt x="3157" y="16131"/>
                  <a:pt x="3175" y="16272"/>
                </a:cubicBezTo>
                <a:cubicBezTo>
                  <a:pt x="3186" y="16359"/>
                  <a:pt x="3205" y="16576"/>
                  <a:pt x="3150" y="16644"/>
                </a:cubicBezTo>
                <a:cubicBezTo>
                  <a:pt x="3113" y="16690"/>
                  <a:pt x="3044" y="16674"/>
                  <a:pt x="3001" y="16644"/>
                </a:cubicBezTo>
                <a:cubicBezTo>
                  <a:pt x="2949" y="16608"/>
                  <a:pt x="2905" y="16571"/>
                  <a:pt x="2853" y="16545"/>
                </a:cubicBezTo>
                <a:cubicBezTo>
                  <a:pt x="2825" y="16545"/>
                  <a:pt x="2814" y="16543"/>
                  <a:pt x="2803" y="16520"/>
                </a:cubicBezTo>
              </a:path>
              <a:path w="819" h="3821">
                <a:moveTo>
                  <a:pt x="2654" y="16818"/>
                </a:moveTo>
                <a:cubicBezTo>
                  <a:pt x="2662" y="16810"/>
                  <a:pt x="2671" y="16801"/>
                  <a:pt x="2679" y="16793"/>
                </a:cubicBezTo>
                <a:cubicBezTo>
                  <a:pt x="2679" y="16852"/>
                  <a:pt x="2663" y="16896"/>
                  <a:pt x="2654" y="16942"/>
                </a:cubicBezTo>
                <a:cubicBezTo>
                  <a:pt x="2641" y="17006"/>
                  <a:pt x="2663" y="17042"/>
                  <a:pt x="2679" y="17090"/>
                </a:cubicBezTo>
                <a:cubicBezTo>
                  <a:pt x="2703" y="17162"/>
                  <a:pt x="2754" y="17077"/>
                  <a:pt x="2803" y="17066"/>
                </a:cubicBezTo>
                <a:cubicBezTo>
                  <a:pt x="2861" y="17053"/>
                  <a:pt x="2956" y="17057"/>
                  <a:pt x="3001" y="17090"/>
                </a:cubicBezTo>
              </a:path>
              <a:path w="819" h="3821">
                <a:moveTo>
                  <a:pt x="2853" y="16991"/>
                </a:moveTo>
                <a:cubicBezTo>
                  <a:pt x="2853" y="16949"/>
                  <a:pt x="2853" y="17024"/>
                  <a:pt x="2853" y="17066"/>
                </a:cubicBezTo>
                <a:cubicBezTo>
                  <a:pt x="2853" y="17115"/>
                  <a:pt x="2853" y="17165"/>
                  <a:pt x="2853" y="17214"/>
                </a:cubicBezTo>
              </a:path>
              <a:path w="819" h="3821">
                <a:moveTo>
                  <a:pt x="3026" y="16991"/>
                </a:moveTo>
                <a:cubicBezTo>
                  <a:pt x="3034" y="16983"/>
                  <a:pt x="3043" y="16974"/>
                  <a:pt x="3051" y="16966"/>
                </a:cubicBezTo>
                <a:cubicBezTo>
                  <a:pt x="3051" y="17033"/>
                  <a:pt x="3037" y="17106"/>
                  <a:pt x="3076" y="17165"/>
                </a:cubicBezTo>
                <a:cubicBezTo>
                  <a:pt x="3102" y="17205"/>
                  <a:pt x="3158" y="17190"/>
                  <a:pt x="3200" y="17190"/>
                </a:cubicBezTo>
              </a:path>
              <a:path w="819" h="3821">
                <a:moveTo>
                  <a:pt x="3225" y="16892"/>
                </a:moveTo>
                <a:cubicBezTo>
                  <a:pt x="3225" y="16851"/>
                  <a:pt x="3216" y="16834"/>
                  <a:pt x="3249" y="16842"/>
                </a:cubicBezTo>
                <a:cubicBezTo>
                  <a:pt x="3236" y="16894"/>
                  <a:pt x="3225" y="16929"/>
                  <a:pt x="3225" y="16991"/>
                </a:cubicBezTo>
                <a:cubicBezTo>
                  <a:pt x="3225" y="17075"/>
                  <a:pt x="3220" y="17093"/>
                  <a:pt x="3299" y="17115"/>
                </a:cubicBezTo>
              </a:path>
              <a:path w="819" h="3821">
                <a:moveTo>
                  <a:pt x="3373" y="16966"/>
                </a:moveTo>
                <a:cubicBezTo>
                  <a:pt x="3336" y="16871"/>
                  <a:pt x="3345" y="16867"/>
                  <a:pt x="3249" y="16867"/>
                </a:cubicBezTo>
                <a:cubicBezTo>
                  <a:pt x="3174" y="16867"/>
                  <a:pt x="3120" y="16881"/>
                  <a:pt x="3051" y="16892"/>
                </a:cubicBezTo>
                <a:cubicBezTo>
                  <a:pt x="3034" y="16892"/>
                  <a:pt x="3018" y="16892"/>
                  <a:pt x="3001" y="16892"/>
                </a:cubicBezTo>
              </a:path>
              <a:path w="819" h="3821">
                <a:moveTo>
                  <a:pt x="3324" y="17413"/>
                </a:moveTo>
                <a:cubicBezTo>
                  <a:pt x="3386" y="17413"/>
                  <a:pt x="3241" y="17391"/>
                  <a:pt x="3225" y="17388"/>
                </a:cubicBezTo>
                <a:cubicBezTo>
                  <a:pt x="3143" y="17374"/>
                  <a:pt x="3075" y="17396"/>
                  <a:pt x="3001" y="17413"/>
                </a:cubicBezTo>
                <a:cubicBezTo>
                  <a:pt x="2977" y="17413"/>
                  <a:pt x="2968" y="17413"/>
                  <a:pt x="2952" y="17413"/>
                </a:cubicBezTo>
              </a:path>
              <a:path w="819" h="3821">
                <a:moveTo>
                  <a:pt x="3076" y="17587"/>
                </a:moveTo>
                <a:cubicBezTo>
                  <a:pt x="3068" y="17595"/>
                  <a:pt x="3059" y="17603"/>
                  <a:pt x="3051" y="17611"/>
                </a:cubicBezTo>
                <a:cubicBezTo>
                  <a:pt x="3051" y="17565"/>
                  <a:pt x="3059" y="17540"/>
                  <a:pt x="3101" y="17512"/>
                </a:cubicBezTo>
                <a:cubicBezTo>
                  <a:pt x="3153" y="17478"/>
                  <a:pt x="3202" y="17474"/>
                  <a:pt x="3249" y="17512"/>
                </a:cubicBezTo>
                <a:cubicBezTo>
                  <a:pt x="3293" y="17548"/>
                  <a:pt x="3279" y="17597"/>
                  <a:pt x="3249" y="17636"/>
                </a:cubicBezTo>
                <a:cubicBezTo>
                  <a:pt x="3228" y="17663"/>
                  <a:pt x="3199" y="17687"/>
                  <a:pt x="3175" y="17711"/>
                </a:cubicBezTo>
                <a:cubicBezTo>
                  <a:pt x="3203" y="17739"/>
                  <a:pt x="3239" y="17773"/>
                  <a:pt x="3274" y="17785"/>
                </a:cubicBezTo>
                <a:cubicBezTo>
                  <a:pt x="3282" y="17785"/>
                  <a:pt x="3291" y="17785"/>
                  <a:pt x="3299" y="17785"/>
                </a:cubicBezTo>
                <a:cubicBezTo>
                  <a:pt x="3290" y="17812"/>
                  <a:pt x="3265" y="17832"/>
                  <a:pt x="3225" y="17835"/>
                </a:cubicBezTo>
                <a:cubicBezTo>
                  <a:pt x="3175" y="17835"/>
                  <a:pt x="3158" y="17835"/>
                  <a:pt x="3125" y="17835"/>
                </a:cubicBezTo>
              </a:path>
              <a:path w="819" h="3821">
                <a:moveTo>
                  <a:pt x="2555" y="14089"/>
                </a:moveTo>
                <a:cubicBezTo>
                  <a:pt x="2565" y="14049"/>
                  <a:pt x="2583" y="14018"/>
                  <a:pt x="2629" y="14015"/>
                </a:cubicBezTo>
                <a:cubicBezTo>
                  <a:pt x="2677" y="14012"/>
                  <a:pt x="2730" y="14011"/>
                  <a:pt x="2753" y="14064"/>
                </a:cubicBezTo>
                <a:cubicBezTo>
                  <a:pt x="2766" y="14094"/>
                  <a:pt x="2741" y="14188"/>
                  <a:pt x="2729" y="14213"/>
                </a:cubicBezTo>
                <a:cubicBezTo>
                  <a:pt x="2707" y="14256"/>
                  <a:pt x="2665" y="14281"/>
                  <a:pt x="2654" y="14312"/>
                </a:cubicBezTo>
                <a:cubicBezTo>
                  <a:pt x="2707" y="14382"/>
                  <a:pt x="2674" y="14329"/>
                  <a:pt x="2753" y="14362"/>
                </a:cubicBezTo>
                <a:cubicBezTo>
                  <a:pt x="2806" y="14384"/>
                  <a:pt x="2775" y="14458"/>
                  <a:pt x="2753" y="14486"/>
                </a:cubicBezTo>
                <a:cubicBezTo>
                  <a:pt x="2715" y="14535"/>
                  <a:pt x="2667" y="14514"/>
                  <a:pt x="2629" y="14486"/>
                </a:cubicBezTo>
              </a:path>
              <a:path w="819" h="3821">
                <a:moveTo>
                  <a:pt x="2853" y="14238"/>
                </a:moveTo>
                <a:cubicBezTo>
                  <a:pt x="2893" y="14218"/>
                  <a:pt x="2899" y="14209"/>
                  <a:pt x="2927" y="14213"/>
                </a:cubicBezTo>
                <a:cubicBezTo>
                  <a:pt x="2927" y="14279"/>
                  <a:pt x="2927" y="14346"/>
                  <a:pt x="2927" y="14412"/>
                </a:cubicBezTo>
              </a:path>
              <a:path w="819" h="3821">
                <a:moveTo>
                  <a:pt x="3051" y="14188"/>
                </a:moveTo>
                <a:cubicBezTo>
                  <a:pt x="3059" y="14172"/>
                  <a:pt x="3068" y="14155"/>
                  <a:pt x="3076" y="14139"/>
                </a:cubicBezTo>
                <a:cubicBezTo>
                  <a:pt x="3076" y="14211"/>
                  <a:pt x="3043" y="14368"/>
                  <a:pt x="3101" y="14412"/>
                </a:cubicBezTo>
                <a:cubicBezTo>
                  <a:pt x="3155" y="14453"/>
                  <a:pt x="3174" y="14416"/>
                  <a:pt x="3225" y="14387"/>
                </a:cubicBezTo>
              </a:path>
              <a:path w="819" h="3821">
                <a:moveTo>
                  <a:pt x="3249" y="14188"/>
                </a:moveTo>
                <a:cubicBezTo>
                  <a:pt x="3196" y="14142"/>
                  <a:pt x="3154" y="14118"/>
                  <a:pt x="3076" y="14139"/>
                </a:cubicBezTo>
                <a:cubicBezTo>
                  <a:pt x="3026" y="14152"/>
                  <a:pt x="2973" y="14190"/>
                  <a:pt x="2927" y="14213"/>
                </a:cubicBezTo>
              </a:path>
              <a:path w="819" h="3821">
                <a:moveTo>
                  <a:pt x="3175" y="14585"/>
                </a:moveTo>
                <a:cubicBezTo>
                  <a:pt x="3238" y="14585"/>
                  <a:pt x="3098" y="14609"/>
                  <a:pt x="3076" y="14610"/>
                </a:cubicBezTo>
                <a:cubicBezTo>
                  <a:pt x="2998" y="14614"/>
                  <a:pt x="2924" y="14594"/>
                  <a:pt x="2853" y="14635"/>
                </a:cubicBezTo>
                <a:cubicBezTo>
                  <a:pt x="2830" y="14658"/>
                  <a:pt x="2826" y="14666"/>
                  <a:pt x="2803" y="14660"/>
                </a:cubicBezTo>
              </a:path>
              <a:path w="819" h="3821">
                <a:moveTo>
                  <a:pt x="2952" y="14833"/>
                </a:moveTo>
                <a:cubicBezTo>
                  <a:pt x="2923" y="14818"/>
                  <a:pt x="2961" y="14785"/>
                  <a:pt x="3001" y="14759"/>
                </a:cubicBezTo>
                <a:cubicBezTo>
                  <a:pt x="3046" y="14730"/>
                  <a:pt x="3075" y="14734"/>
                  <a:pt x="3125" y="14734"/>
                </a:cubicBezTo>
                <a:cubicBezTo>
                  <a:pt x="3125" y="14807"/>
                  <a:pt x="3113" y="14822"/>
                  <a:pt x="3076" y="14883"/>
                </a:cubicBezTo>
                <a:cubicBezTo>
                  <a:pt x="3047" y="14931"/>
                  <a:pt x="3039" y="14979"/>
                  <a:pt x="3101" y="15007"/>
                </a:cubicBezTo>
                <a:cubicBezTo>
                  <a:pt x="3157" y="15033"/>
                  <a:pt x="3228" y="14980"/>
                  <a:pt x="3274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840" y="5581800"/>
            <a:ext cx="339480" cy="473040"/>
          </a:xfrm>
          <a:custGeom>
            <a:avLst/>
            <a:gdLst/>
            <a:ahLst/>
            <a:rect l="l" t="t" r="r" b="b"/>
            <a:pathLst>
              <a:path w="944" h="1316">
                <a:moveTo>
                  <a:pt x="893" y="15577"/>
                </a:moveTo>
                <a:cubicBezTo>
                  <a:pt x="893" y="15536"/>
                  <a:pt x="893" y="15528"/>
                  <a:pt x="893" y="15503"/>
                </a:cubicBezTo>
                <a:cubicBezTo>
                  <a:pt x="893" y="15562"/>
                  <a:pt x="911" y="15568"/>
                  <a:pt x="918" y="15627"/>
                </a:cubicBezTo>
                <a:cubicBezTo>
                  <a:pt x="934" y="15761"/>
                  <a:pt x="961" y="15891"/>
                  <a:pt x="992" y="16024"/>
                </a:cubicBezTo>
                <a:cubicBezTo>
                  <a:pt x="1020" y="16143"/>
                  <a:pt x="1034" y="16286"/>
                  <a:pt x="1091" y="16396"/>
                </a:cubicBezTo>
                <a:cubicBezTo>
                  <a:pt x="1127" y="16465"/>
                  <a:pt x="1138" y="16517"/>
                  <a:pt x="1191" y="16570"/>
                </a:cubicBezTo>
                <a:cubicBezTo>
                  <a:pt x="1209" y="16588"/>
                  <a:pt x="1236" y="16614"/>
                  <a:pt x="1290" y="16594"/>
                </a:cubicBezTo>
                <a:cubicBezTo>
                  <a:pt x="1358" y="16569"/>
                  <a:pt x="1413" y="16490"/>
                  <a:pt x="1488" y="16470"/>
                </a:cubicBezTo>
                <a:cubicBezTo>
                  <a:pt x="1553" y="16453"/>
                  <a:pt x="1621" y="16411"/>
                  <a:pt x="1687" y="16396"/>
                </a:cubicBezTo>
                <a:cubicBezTo>
                  <a:pt x="1735" y="16385"/>
                  <a:pt x="1762" y="16378"/>
                  <a:pt x="1811" y="16371"/>
                </a:cubicBezTo>
                <a:cubicBezTo>
                  <a:pt x="1811" y="16424"/>
                  <a:pt x="1810" y="16451"/>
                  <a:pt x="1786" y="16495"/>
                </a:cubicBezTo>
                <a:cubicBezTo>
                  <a:pt x="1745" y="16572"/>
                  <a:pt x="1658" y="16689"/>
                  <a:pt x="1637" y="16768"/>
                </a:cubicBezTo>
                <a:cubicBezTo>
                  <a:pt x="1624" y="16817"/>
                  <a:pt x="1634" y="16791"/>
                  <a:pt x="1612" y="16818"/>
                </a:cubicBezTo>
                <a:cubicBezTo>
                  <a:pt x="1619" y="16761"/>
                  <a:pt x="1650" y="16724"/>
                  <a:pt x="1662" y="16669"/>
                </a:cubicBezTo>
                <a:cubicBezTo>
                  <a:pt x="1677" y="16601"/>
                  <a:pt x="1693" y="16532"/>
                  <a:pt x="1736" y="16470"/>
                </a:cubicBezTo>
                <a:cubicBezTo>
                  <a:pt x="1764" y="16430"/>
                  <a:pt x="1754" y="16442"/>
                  <a:pt x="1761" y="16396"/>
                </a:cubicBezTo>
                <a:cubicBezTo>
                  <a:pt x="1743" y="16385"/>
                  <a:pt x="1699" y="16366"/>
                  <a:pt x="1662" y="16346"/>
                </a:cubicBezTo>
                <a:cubicBezTo>
                  <a:pt x="1593" y="16309"/>
                  <a:pt x="1513" y="16307"/>
                  <a:pt x="1439" y="16272"/>
                </a:cubicBezTo>
                <a:cubicBezTo>
                  <a:pt x="1422" y="16264"/>
                  <a:pt x="1406" y="16255"/>
                  <a:pt x="1389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20840" y="5697360"/>
            <a:ext cx="304920" cy="160560"/>
          </a:xfrm>
          <a:custGeom>
            <a:avLst/>
            <a:gdLst/>
            <a:ahLst/>
            <a:rect l="l" t="t" r="r" b="b"/>
            <a:pathLst>
              <a:path w="844" h="448">
                <a:moveTo>
                  <a:pt x="3770" y="16024"/>
                </a:moveTo>
                <a:cubicBezTo>
                  <a:pt x="3790" y="15983"/>
                  <a:pt x="3799" y="15977"/>
                  <a:pt x="3795" y="15949"/>
                </a:cubicBezTo>
                <a:cubicBezTo>
                  <a:pt x="3761" y="15949"/>
                  <a:pt x="3688" y="15965"/>
                  <a:pt x="3671" y="15999"/>
                </a:cubicBezTo>
                <a:cubicBezTo>
                  <a:pt x="3647" y="16046"/>
                  <a:pt x="3665" y="16179"/>
                  <a:pt x="3696" y="16222"/>
                </a:cubicBezTo>
                <a:cubicBezTo>
                  <a:pt x="3744" y="16288"/>
                  <a:pt x="3774" y="16272"/>
                  <a:pt x="3845" y="16272"/>
                </a:cubicBezTo>
              </a:path>
              <a:path w="844" h="448">
                <a:moveTo>
                  <a:pt x="3969" y="16024"/>
                </a:moveTo>
                <a:cubicBezTo>
                  <a:pt x="3963" y="16006"/>
                  <a:pt x="3999" y="15968"/>
                  <a:pt x="4043" y="15974"/>
                </a:cubicBezTo>
                <a:cubicBezTo>
                  <a:pt x="4132" y="15987"/>
                  <a:pt x="4160" y="16010"/>
                  <a:pt x="4167" y="16098"/>
                </a:cubicBezTo>
                <a:cubicBezTo>
                  <a:pt x="4170" y="16139"/>
                  <a:pt x="4130" y="16170"/>
                  <a:pt x="4093" y="16173"/>
                </a:cubicBezTo>
                <a:cubicBezTo>
                  <a:pt x="4048" y="16173"/>
                  <a:pt x="4035" y="16176"/>
                  <a:pt x="4018" y="16148"/>
                </a:cubicBezTo>
              </a:path>
              <a:path w="844" h="448">
                <a:moveTo>
                  <a:pt x="4366" y="15900"/>
                </a:moveTo>
                <a:cubicBezTo>
                  <a:pt x="4369" y="15898"/>
                  <a:pt x="4551" y="15800"/>
                  <a:pt x="4490" y="15825"/>
                </a:cubicBezTo>
                <a:cubicBezTo>
                  <a:pt x="4471" y="15833"/>
                  <a:pt x="4364" y="15895"/>
                  <a:pt x="4366" y="15925"/>
                </a:cubicBezTo>
                <a:cubicBezTo>
                  <a:pt x="4369" y="15967"/>
                  <a:pt x="4439" y="16044"/>
                  <a:pt x="4465" y="16073"/>
                </a:cubicBezTo>
                <a:cubicBezTo>
                  <a:pt x="4500" y="16111"/>
                  <a:pt x="4500" y="16135"/>
                  <a:pt x="4465" y="16173"/>
                </a:cubicBezTo>
                <a:cubicBezTo>
                  <a:pt x="4438" y="16203"/>
                  <a:pt x="4425" y="16213"/>
                  <a:pt x="4390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04960" y="5705640"/>
            <a:ext cx="135000" cy="14436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4812" y="15974"/>
                </a:moveTo>
                <a:cubicBezTo>
                  <a:pt x="4769" y="15974"/>
                  <a:pt x="4752" y="15969"/>
                  <a:pt x="4738" y="15925"/>
                </a:cubicBezTo>
                <a:cubicBezTo>
                  <a:pt x="4721" y="15873"/>
                  <a:pt x="4801" y="15843"/>
                  <a:pt x="4837" y="15850"/>
                </a:cubicBezTo>
                <a:cubicBezTo>
                  <a:pt x="4930" y="15867"/>
                  <a:pt x="4969" y="15961"/>
                  <a:pt x="4986" y="16049"/>
                </a:cubicBezTo>
                <a:cubicBezTo>
                  <a:pt x="5001" y="16128"/>
                  <a:pt x="4967" y="16192"/>
                  <a:pt x="4887" y="16197"/>
                </a:cubicBezTo>
                <a:cubicBezTo>
                  <a:pt x="4870" y="16197"/>
                  <a:pt x="4854" y="16197"/>
                  <a:pt x="4837" y="16197"/>
                </a:cubicBezTo>
              </a:path>
              <a:path w="373" h="398">
                <a:moveTo>
                  <a:pt x="5011" y="15925"/>
                </a:moveTo>
                <a:cubicBezTo>
                  <a:pt x="5068" y="15906"/>
                  <a:pt x="5075" y="15897"/>
                  <a:pt x="5110" y="15900"/>
                </a:cubicBezTo>
                <a:cubicBezTo>
                  <a:pt x="5097" y="15966"/>
                  <a:pt x="5046" y="16032"/>
                  <a:pt x="5035" y="16098"/>
                </a:cubicBezTo>
                <a:cubicBezTo>
                  <a:pt x="5032" y="16117"/>
                  <a:pt x="5013" y="16279"/>
                  <a:pt x="5085" y="16247"/>
                </a:cubicBezTo>
                <a:cubicBezTo>
                  <a:pt x="5093" y="16239"/>
                  <a:pt x="5102" y="16230"/>
                  <a:pt x="5110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17800" y="5607000"/>
            <a:ext cx="312480" cy="250920"/>
          </a:xfrm>
          <a:custGeom>
            <a:avLst/>
            <a:gdLst/>
            <a:ahLst/>
            <a:rect l="l" t="t" r="r" b="b"/>
            <a:pathLst>
              <a:path w="869" h="696">
                <a:moveTo>
                  <a:pt x="5606" y="16098"/>
                </a:moveTo>
                <a:cubicBezTo>
                  <a:pt x="5612" y="16092"/>
                  <a:pt x="5728" y="15997"/>
                  <a:pt x="5705" y="15974"/>
                </a:cubicBezTo>
                <a:cubicBezTo>
                  <a:pt x="5697" y="15974"/>
                  <a:pt x="5688" y="15974"/>
                  <a:pt x="5680" y="15974"/>
                </a:cubicBezTo>
                <a:cubicBezTo>
                  <a:pt x="5618" y="16024"/>
                  <a:pt x="5576" y="16051"/>
                  <a:pt x="5606" y="16148"/>
                </a:cubicBezTo>
                <a:cubicBezTo>
                  <a:pt x="5645" y="16273"/>
                  <a:pt x="5781" y="16152"/>
                  <a:pt x="5804" y="16098"/>
                </a:cubicBezTo>
                <a:cubicBezTo>
                  <a:pt x="5858" y="15974"/>
                  <a:pt x="5875" y="15810"/>
                  <a:pt x="5879" y="15677"/>
                </a:cubicBezTo>
                <a:cubicBezTo>
                  <a:pt x="5880" y="15650"/>
                  <a:pt x="5884" y="15543"/>
                  <a:pt x="5854" y="15602"/>
                </a:cubicBezTo>
                <a:cubicBezTo>
                  <a:pt x="5826" y="15724"/>
                  <a:pt x="5810" y="15872"/>
                  <a:pt x="5829" y="15999"/>
                </a:cubicBezTo>
                <a:cubicBezTo>
                  <a:pt x="5839" y="16068"/>
                  <a:pt x="5871" y="16127"/>
                  <a:pt x="5879" y="16197"/>
                </a:cubicBezTo>
              </a:path>
              <a:path w="869" h="696">
                <a:moveTo>
                  <a:pt x="5953" y="16123"/>
                </a:moveTo>
                <a:cubicBezTo>
                  <a:pt x="5962" y="16066"/>
                  <a:pt x="5963" y="16069"/>
                  <a:pt x="6003" y="16024"/>
                </a:cubicBezTo>
                <a:cubicBezTo>
                  <a:pt x="6035" y="15988"/>
                  <a:pt x="6094" y="15982"/>
                  <a:pt x="6127" y="16024"/>
                </a:cubicBezTo>
                <a:cubicBezTo>
                  <a:pt x="6175" y="16085"/>
                  <a:pt x="6193" y="16154"/>
                  <a:pt x="6152" y="16222"/>
                </a:cubicBezTo>
                <a:cubicBezTo>
                  <a:pt x="6126" y="16265"/>
                  <a:pt x="6097" y="16272"/>
                  <a:pt x="6052" y="16272"/>
                </a:cubicBezTo>
              </a:path>
              <a:path w="869" h="696">
                <a:moveTo>
                  <a:pt x="6251" y="15974"/>
                </a:moveTo>
                <a:cubicBezTo>
                  <a:pt x="6267" y="15958"/>
                  <a:pt x="6284" y="15941"/>
                  <a:pt x="6300" y="15925"/>
                </a:cubicBezTo>
                <a:cubicBezTo>
                  <a:pt x="6287" y="16004"/>
                  <a:pt x="6276" y="16066"/>
                  <a:pt x="6276" y="16148"/>
                </a:cubicBezTo>
                <a:cubicBezTo>
                  <a:pt x="6276" y="16233"/>
                  <a:pt x="6311" y="16267"/>
                  <a:pt x="6400" y="16247"/>
                </a:cubicBezTo>
                <a:cubicBezTo>
                  <a:pt x="6425" y="16239"/>
                  <a:pt x="6449" y="16230"/>
                  <a:pt x="6474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43120" y="5840280"/>
            <a:ext cx="7164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7516" y="16222"/>
                </a:moveTo>
                <a:cubicBezTo>
                  <a:pt x="7524" y="16222"/>
                  <a:pt x="7533" y="16222"/>
                  <a:pt x="7541" y="16222"/>
                </a:cubicBezTo>
                <a:cubicBezTo>
                  <a:pt x="7472" y="16222"/>
                  <a:pt x="7396" y="16207"/>
                  <a:pt x="7342" y="16247"/>
                </a:cubicBezTo>
              </a:path>
              <a:path w="200" h="175">
                <a:moveTo>
                  <a:pt x="7491" y="16321"/>
                </a:moveTo>
                <a:cubicBezTo>
                  <a:pt x="7514" y="16344"/>
                  <a:pt x="7518" y="16352"/>
                  <a:pt x="7541" y="16346"/>
                </a:cubicBezTo>
                <a:cubicBezTo>
                  <a:pt x="7533" y="16369"/>
                  <a:pt x="7498" y="16385"/>
                  <a:pt x="7466" y="16396"/>
                </a:cubicBezTo>
                <a:cubicBezTo>
                  <a:pt x="7458" y="16396"/>
                  <a:pt x="7449" y="16396"/>
                  <a:pt x="7441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0200" y="4741920"/>
            <a:ext cx="374760" cy="28584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6945" y="13345"/>
                </a:moveTo>
                <a:cubicBezTo>
                  <a:pt x="6945" y="13295"/>
                  <a:pt x="6945" y="13246"/>
                  <a:pt x="6945" y="13196"/>
                </a:cubicBezTo>
                <a:cubicBezTo>
                  <a:pt x="6945" y="13238"/>
                  <a:pt x="6945" y="13229"/>
                  <a:pt x="6945" y="13271"/>
                </a:cubicBezTo>
                <a:cubicBezTo>
                  <a:pt x="6945" y="13385"/>
                  <a:pt x="6955" y="13483"/>
                  <a:pt x="6970" y="13593"/>
                </a:cubicBezTo>
                <a:cubicBezTo>
                  <a:pt x="6978" y="13652"/>
                  <a:pt x="6989" y="13728"/>
                  <a:pt x="7045" y="13767"/>
                </a:cubicBezTo>
                <a:cubicBezTo>
                  <a:pt x="7105" y="13809"/>
                  <a:pt x="7199" y="13791"/>
                  <a:pt x="7268" y="13791"/>
                </a:cubicBezTo>
                <a:cubicBezTo>
                  <a:pt x="7358" y="13791"/>
                  <a:pt x="7454" y="13786"/>
                  <a:pt x="7541" y="13767"/>
                </a:cubicBezTo>
                <a:cubicBezTo>
                  <a:pt x="7619" y="13750"/>
                  <a:pt x="7715" y="13716"/>
                  <a:pt x="7789" y="13692"/>
                </a:cubicBezTo>
                <a:cubicBezTo>
                  <a:pt x="7841" y="13675"/>
                  <a:pt x="7894" y="13667"/>
                  <a:pt x="7938" y="13643"/>
                </a:cubicBezTo>
                <a:cubicBezTo>
                  <a:pt x="7966" y="13643"/>
                  <a:pt x="7976" y="13640"/>
                  <a:pt x="7987" y="13618"/>
                </a:cubicBezTo>
                <a:cubicBezTo>
                  <a:pt x="7969" y="13641"/>
                  <a:pt x="7961" y="13656"/>
                  <a:pt x="7938" y="13692"/>
                </a:cubicBezTo>
                <a:cubicBezTo>
                  <a:pt x="7917" y="13726"/>
                  <a:pt x="7887" y="13777"/>
                  <a:pt x="7863" y="13816"/>
                </a:cubicBezTo>
                <a:cubicBezTo>
                  <a:pt x="7839" y="13855"/>
                  <a:pt x="7824" y="13901"/>
                  <a:pt x="7813" y="13940"/>
                </a:cubicBezTo>
                <a:cubicBezTo>
                  <a:pt x="7813" y="13948"/>
                  <a:pt x="7813" y="13957"/>
                  <a:pt x="7813" y="13965"/>
                </a:cubicBezTo>
                <a:cubicBezTo>
                  <a:pt x="7831" y="13930"/>
                  <a:pt x="7834" y="13898"/>
                  <a:pt x="7863" y="13866"/>
                </a:cubicBezTo>
                <a:cubicBezTo>
                  <a:pt x="7897" y="13828"/>
                  <a:pt x="7888" y="13781"/>
                  <a:pt x="7913" y="13742"/>
                </a:cubicBezTo>
                <a:cubicBezTo>
                  <a:pt x="7939" y="13701"/>
                  <a:pt x="7940" y="13719"/>
                  <a:pt x="7913" y="13667"/>
                </a:cubicBezTo>
                <a:cubicBezTo>
                  <a:pt x="7880" y="13603"/>
                  <a:pt x="7824" y="13559"/>
                  <a:pt x="7764" y="13519"/>
                </a:cubicBezTo>
                <a:cubicBezTo>
                  <a:pt x="7705" y="13480"/>
                  <a:pt x="7666" y="13459"/>
                  <a:pt x="7615" y="13419"/>
                </a:cubicBezTo>
                <a:cubicBezTo>
                  <a:pt x="7590" y="13419"/>
                  <a:pt x="7582" y="13419"/>
                  <a:pt x="7590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86680" y="5670720"/>
            <a:ext cx="527040" cy="241200"/>
          </a:xfrm>
          <a:custGeom>
            <a:avLst/>
            <a:gdLst/>
            <a:ahLst/>
            <a:rect l="l" t="t" r="r" b="b"/>
            <a:pathLst>
              <a:path w="1465" h="671">
                <a:moveTo>
                  <a:pt x="17934" y="15751"/>
                </a:moveTo>
                <a:cubicBezTo>
                  <a:pt x="17959" y="15751"/>
                  <a:pt x="17967" y="15751"/>
                  <a:pt x="17983" y="15751"/>
                </a:cubicBezTo>
                <a:cubicBezTo>
                  <a:pt x="17896" y="15751"/>
                  <a:pt x="17819" y="15767"/>
                  <a:pt x="17735" y="15776"/>
                </a:cubicBezTo>
                <a:cubicBezTo>
                  <a:pt x="17655" y="15785"/>
                  <a:pt x="17568" y="15776"/>
                  <a:pt x="17487" y="15776"/>
                </a:cubicBezTo>
              </a:path>
              <a:path w="1465" h="671">
                <a:moveTo>
                  <a:pt x="17462" y="15776"/>
                </a:moveTo>
                <a:cubicBezTo>
                  <a:pt x="17534" y="15827"/>
                  <a:pt x="17575" y="15904"/>
                  <a:pt x="17587" y="15999"/>
                </a:cubicBezTo>
                <a:cubicBezTo>
                  <a:pt x="17599" y="16094"/>
                  <a:pt x="17587" y="16200"/>
                  <a:pt x="17587" y="16297"/>
                </a:cubicBezTo>
              </a:path>
              <a:path w="1465" h="671">
                <a:moveTo>
                  <a:pt x="17760" y="16123"/>
                </a:moveTo>
                <a:cubicBezTo>
                  <a:pt x="17847" y="16131"/>
                  <a:pt x="17905" y="16140"/>
                  <a:pt x="17959" y="16222"/>
                </a:cubicBezTo>
                <a:cubicBezTo>
                  <a:pt x="17979" y="16252"/>
                  <a:pt x="18013" y="16350"/>
                  <a:pt x="17959" y="16371"/>
                </a:cubicBezTo>
                <a:cubicBezTo>
                  <a:pt x="17906" y="16391"/>
                  <a:pt x="17797" y="16361"/>
                  <a:pt x="17760" y="16321"/>
                </a:cubicBezTo>
                <a:cubicBezTo>
                  <a:pt x="17752" y="16305"/>
                  <a:pt x="17743" y="16288"/>
                  <a:pt x="17735" y="16272"/>
                </a:cubicBezTo>
              </a:path>
              <a:path w="1465" h="671">
                <a:moveTo>
                  <a:pt x="17884" y="16049"/>
                </a:moveTo>
                <a:cubicBezTo>
                  <a:pt x="17992" y="16024"/>
                  <a:pt x="18032" y="15995"/>
                  <a:pt x="18058" y="16123"/>
                </a:cubicBezTo>
                <a:cubicBezTo>
                  <a:pt x="18075" y="16210"/>
                  <a:pt x="18063" y="16318"/>
                  <a:pt x="18107" y="16396"/>
                </a:cubicBezTo>
                <a:cubicBezTo>
                  <a:pt x="18115" y="16404"/>
                  <a:pt x="18124" y="16413"/>
                  <a:pt x="18132" y="16421"/>
                </a:cubicBezTo>
              </a:path>
              <a:path w="1465" h="671">
                <a:moveTo>
                  <a:pt x="18281" y="16321"/>
                </a:moveTo>
                <a:cubicBezTo>
                  <a:pt x="18274" y="16242"/>
                  <a:pt x="18292" y="16203"/>
                  <a:pt x="18207" y="16197"/>
                </a:cubicBezTo>
                <a:cubicBezTo>
                  <a:pt x="18138" y="16192"/>
                  <a:pt x="18096" y="16207"/>
                  <a:pt x="18033" y="16222"/>
                </a:cubicBezTo>
                <a:cubicBezTo>
                  <a:pt x="18025" y="16222"/>
                  <a:pt x="18016" y="16222"/>
                  <a:pt x="18008" y="16222"/>
                </a:cubicBezTo>
              </a:path>
              <a:path w="1465" h="671">
                <a:moveTo>
                  <a:pt x="18281" y="16173"/>
                </a:moveTo>
                <a:cubicBezTo>
                  <a:pt x="18368" y="16207"/>
                  <a:pt x="18284" y="16215"/>
                  <a:pt x="18256" y="16297"/>
                </a:cubicBezTo>
                <a:cubicBezTo>
                  <a:pt x="18256" y="16321"/>
                  <a:pt x="18256" y="16330"/>
                  <a:pt x="18256" y="16346"/>
                </a:cubicBezTo>
                <a:cubicBezTo>
                  <a:pt x="18295" y="16336"/>
                  <a:pt x="18345" y="16298"/>
                  <a:pt x="18380" y="16272"/>
                </a:cubicBezTo>
                <a:cubicBezTo>
                  <a:pt x="18447" y="16222"/>
                  <a:pt x="18460" y="16263"/>
                  <a:pt x="18529" y="16272"/>
                </a:cubicBezTo>
                <a:cubicBezTo>
                  <a:pt x="18657" y="16289"/>
                  <a:pt x="18727" y="16201"/>
                  <a:pt x="18777" y="16098"/>
                </a:cubicBezTo>
                <a:cubicBezTo>
                  <a:pt x="18798" y="16055"/>
                  <a:pt x="18927" y="15778"/>
                  <a:pt x="18802" y="15751"/>
                </a:cubicBezTo>
                <a:cubicBezTo>
                  <a:pt x="18794" y="15759"/>
                  <a:pt x="18785" y="15768"/>
                  <a:pt x="18777" y="15776"/>
                </a:cubicBezTo>
                <a:cubicBezTo>
                  <a:pt x="18738" y="15918"/>
                  <a:pt x="18771" y="16034"/>
                  <a:pt x="18827" y="16173"/>
                </a:cubicBezTo>
                <a:cubicBezTo>
                  <a:pt x="18873" y="16266"/>
                  <a:pt x="18885" y="16293"/>
                  <a:pt x="18926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9200" y="5813280"/>
            <a:ext cx="8892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9968" y="16173"/>
                </a:moveTo>
                <a:cubicBezTo>
                  <a:pt x="19906" y="16161"/>
                  <a:pt x="19861" y="16148"/>
                  <a:pt x="19794" y="16148"/>
                </a:cubicBezTo>
                <a:cubicBezTo>
                  <a:pt x="19750" y="16148"/>
                  <a:pt x="19736" y="16145"/>
                  <a:pt x="19720" y="16173"/>
                </a:cubicBezTo>
              </a:path>
              <a:path w="249" h="249">
                <a:moveTo>
                  <a:pt x="19893" y="16321"/>
                </a:moveTo>
                <a:cubicBezTo>
                  <a:pt x="19951" y="16340"/>
                  <a:pt x="19976" y="16331"/>
                  <a:pt x="19968" y="16371"/>
                </a:cubicBezTo>
                <a:cubicBezTo>
                  <a:pt x="19953" y="16415"/>
                  <a:pt x="19897" y="16396"/>
                  <a:pt x="19844" y="16396"/>
                </a:cubicBezTo>
                <a:cubicBezTo>
                  <a:pt x="19827" y="16396"/>
                  <a:pt x="19811" y="16396"/>
                  <a:pt x="19794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67760" y="5732640"/>
            <a:ext cx="776160" cy="268200"/>
          </a:xfrm>
          <a:custGeom>
            <a:avLst/>
            <a:gdLst/>
            <a:ahLst/>
            <a:rect l="l" t="t" r="r" b="b"/>
            <a:pathLst>
              <a:path w="2159" h="745">
                <a:moveTo>
                  <a:pt x="20464" y="16049"/>
                </a:moveTo>
                <a:cubicBezTo>
                  <a:pt x="20499" y="15989"/>
                  <a:pt x="20513" y="15888"/>
                  <a:pt x="20513" y="15974"/>
                </a:cubicBezTo>
                <a:cubicBezTo>
                  <a:pt x="20513" y="16115"/>
                  <a:pt x="20489" y="16252"/>
                  <a:pt x="20489" y="16396"/>
                </a:cubicBezTo>
                <a:cubicBezTo>
                  <a:pt x="20489" y="16493"/>
                  <a:pt x="20503" y="16556"/>
                  <a:pt x="20538" y="16644"/>
                </a:cubicBezTo>
              </a:path>
              <a:path w="2159" h="745">
                <a:moveTo>
                  <a:pt x="20811" y="16520"/>
                </a:moveTo>
                <a:cubicBezTo>
                  <a:pt x="20845" y="16505"/>
                  <a:pt x="20908" y="16466"/>
                  <a:pt x="20935" y="16520"/>
                </a:cubicBezTo>
                <a:cubicBezTo>
                  <a:pt x="20935" y="16528"/>
                  <a:pt x="20935" y="16537"/>
                  <a:pt x="20935" y="16545"/>
                </a:cubicBezTo>
              </a:path>
              <a:path w="2159" h="745">
                <a:moveTo>
                  <a:pt x="21307" y="16123"/>
                </a:moveTo>
                <a:cubicBezTo>
                  <a:pt x="21307" y="16106"/>
                  <a:pt x="21307" y="16090"/>
                  <a:pt x="21307" y="16073"/>
                </a:cubicBezTo>
                <a:cubicBezTo>
                  <a:pt x="21307" y="16203"/>
                  <a:pt x="21299" y="16321"/>
                  <a:pt x="21282" y="16446"/>
                </a:cubicBezTo>
                <a:cubicBezTo>
                  <a:pt x="21282" y="16462"/>
                  <a:pt x="21282" y="16479"/>
                  <a:pt x="21282" y="16495"/>
                </a:cubicBezTo>
              </a:path>
              <a:path w="2159" h="745">
                <a:moveTo>
                  <a:pt x="21580" y="16222"/>
                </a:moveTo>
                <a:cubicBezTo>
                  <a:pt x="21580" y="16171"/>
                  <a:pt x="21581" y="16164"/>
                  <a:pt x="21605" y="16123"/>
                </a:cubicBezTo>
                <a:cubicBezTo>
                  <a:pt x="21645" y="16054"/>
                  <a:pt x="21716" y="16007"/>
                  <a:pt x="21803" y="16024"/>
                </a:cubicBezTo>
                <a:cubicBezTo>
                  <a:pt x="21882" y="16039"/>
                  <a:pt x="21898" y="16108"/>
                  <a:pt x="21903" y="16173"/>
                </a:cubicBezTo>
                <a:cubicBezTo>
                  <a:pt x="21907" y="16228"/>
                  <a:pt x="21863" y="16263"/>
                  <a:pt x="21828" y="16297"/>
                </a:cubicBezTo>
                <a:cubicBezTo>
                  <a:pt x="21775" y="16349"/>
                  <a:pt x="21811" y="16379"/>
                  <a:pt x="21853" y="16421"/>
                </a:cubicBezTo>
                <a:cubicBezTo>
                  <a:pt x="21886" y="16454"/>
                  <a:pt x="21919" y="16487"/>
                  <a:pt x="21952" y="16520"/>
                </a:cubicBezTo>
                <a:cubicBezTo>
                  <a:pt x="21905" y="16548"/>
                  <a:pt x="21860" y="16567"/>
                  <a:pt x="21803" y="16570"/>
                </a:cubicBezTo>
                <a:cubicBezTo>
                  <a:pt x="21737" y="16570"/>
                  <a:pt x="21720" y="16570"/>
                  <a:pt x="21679" y="16570"/>
                </a:cubicBezTo>
              </a:path>
              <a:path w="2159" h="745">
                <a:moveTo>
                  <a:pt x="22151" y="16098"/>
                </a:moveTo>
                <a:cubicBezTo>
                  <a:pt x="22207" y="16061"/>
                  <a:pt x="22211" y="16044"/>
                  <a:pt x="22250" y="16049"/>
                </a:cubicBezTo>
                <a:cubicBezTo>
                  <a:pt x="22250" y="16113"/>
                  <a:pt x="22221" y="16161"/>
                  <a:pt x="22200" y="16222"/>
                </a:cubicBezTo>
                <a:cubicBezTo>
                  <a:pt x="22173" y="16299"/>
                  <a:pt x="22132" y="16366"/>
                  <a:pt x="22126" y="16446"/>
                </a:cubicBezTo>
                <a:cubicBezTo>
                  <a:pt x="22122" y="16502"/>
                  <a:pt x="22182" y="16506"/>
                  <a:pt x="22225" y="16495"/>
                </a:cubicBezTo>
                <a:cubicBezTo>
                  <a:pt x="22288" y="16479"/>
                  <a:pt x="22393" y="16446"/>
                  <a:pt x="22448" y="16421"/>
                </a:cubicBezTo>
                <a:cubicBezTo>
                  <a:pt x="22499" y="16397"/>
                  <a:pt x="22534" y="16396"/>
                  <a:pt x="22597" y="16396"/>
                </a:cubicBezTo>
                <a:cubicBezTo>
                  <a:pt x="22636" y="16396"/>
                  <a:pt x="22622" y="16441"/>
                  <a:pt x="22622" y="16396"/>
                </a:cubicBezTo>
              </a:path>
              <a:path w="2159" h="745">
                <a:moveTo>
                  <a:pt x="22498" y="16297"/>
                </a:moveTo>
                <a:cubicBezTo>
                  <a:pt x="22425" y="16333"/>
                  <a:pt x="22448" y="16415"/>
                  <a:pt x="22448" y="16495"/>
                </a:cubicBezTo>
                <a:cubicBezTo>
                  <a:pt x="22448" y="16586"/>
                  <a:pt x="22448" y="16611"/>
                  <a:pt x="22448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39120" y="5803920"/>
            <a:ext cx="392040" cy="223920"/>
          </a:xfrm>
          <a:custGeom>
            <a:avLst/>
            <a:gdLst/>
            <a:ahLst/>
            <a:rect l="l" t="t" r="r" b="b"/>
            <a:pathLst>
              <a:path w="1093" h="621">
                <a:moveTo>
                  <a:pt x="23465" y="16495"/>
                </a:moveTo>
                <a:cubicBezTo>
                  <a:pt x="23487" y="16473"/>
                  <a:pt x="23496" y="16468"/>
                  <a:pt x="23490" y="16446"/>
                </a:cubicBezTo>
                <a:cubicBezTo>
                  <a:pt x="23476" y="16500"/>
                  <a:pt x="23444" y="16507"/>
                  <a:pt x="23440" y="16570"/>
                </a:cubicBezTo>
                <a:cubicBezTo>
                  <a:pt x="23434" y="16670"/>
                  <a:pt x="23429" y="16731"/>
                  <a:pt x="23540" y="16743"/>
                </a:cubicBezTo>
                <a:cubicBezTo>
                  <a:pt x="23657" y="16756"/>
                  <a:pt x="23659" y="16658"/>
                  <a:pt x="23688" y="16570"/>
                </a:cubicBezTo>
                <a:cubicBezTo>
                  <a:pt x="23708" y="16509"/>
                  <a:pt x="23713" y="16481"/>
                  <a:pt x="23713" y="16421"/>
                </a:cubicBezTo>
                <a:cubicBezTo>
                  <a:pt x="23724" y="16474"/>
                  <a:pt x="23758" y="16573"/>
                  <a:pt x="23788" y="16619"/>
                </a:cubicBezTo>
                <a:cubicBezTo>
                  <a:pt x="23829" y="16661"/>
                  <a:pt x="23837" y="16669"/>
                  <a:pt x="23862" y="16694"/>
                </a:cubicBezTo>
              </a:path>
              <a:path w="1093" h="621">
                <a:moveTo>
                  <a:pt x="24110" y="16247"/>
                </a:moveTo>
                <a:cubicBezTo>
                  <a:pt x="24090" y="16207"/>
                  <a:pt x="24081" y="16200"/>
                  <a:pt x="24085" y="16173"/>
                </a:cubicBezTo>
                <a:cubicBezTo>
                  <a:pt x="24145" y="16161"/>
                  <a:pt x="24174" y="16127"/>
                  <a:pt x="24234" y="16123"/>
                </a:cubicBezTo>
                <a:cubicBezTo>
                  <a:pt x="24320" y="16118"/>
                  <a:pt x="24309" y="16182"/>
                  <a:pt x="24309" y="16247"/>
                </a:cubicBezTo>
                <a:cubicBezTo>
                  <a:pt x="24309" y="16308"/>
                  <a:pt x="24264" y="16357"/>
                  <a:pt x="24259" y="16421"/>
                </a:cubicBezTo>
                <a:cubicBezTo>
                  <a:pt x="24254" y="16491"/>
                  <a:pt x="24337" y="16470"/>
                  <a:pt x="24383" y="16470"/>
                </a:cubicBezTo>
                <a:cubicBezTo>
                  <a:pt x="24457" y="16470"/>
                  <a:pt x="24482" y="16470"/>
                  <a:pt x="24532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89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1680" y="3036960"/>
            <a:ext cx="169560" cy="320760"/>
          </a:xfrm>
          <a:custGeom>
            <a:avLst/>
            <a:gdLst/>
            <a:ahLst/>
            <a:rect l="l" t="t" r="r" b="b"/>
            <a:pathLst>
              <a:path w="472" h="894">
                <a:moveTo>
                  <a:pt x="1687" y="8781"/>
                </a:moveTo>
                <a:cubicBezTo>
                  <a:pt x="1714" y="8772"/>
                  <a:pt x="1732" y="8763"/>
                  <a:pt x="1736" y="8731"/>
                </a:cubicBezTo>
                <a:cubicBezTo>
                  <a:pt x="1736" y="8723"/>
                  <a:pt x="1736" y="8714"/>
                  <a:pt x="1736" y="8706"/>
                </a:cubicBezTo>
                <a:cubicBezTo>
                  <a:pt x="1672" y="8706"/>
                  <a:pt x="1669" y="8722"/>
                  <a:pt x="1637" y="8781"/>
                </a:cubicBezTo>
                <a:cubicBezTo>
                  <a:pt x="1607" y="8836"/>
                  <a:pt x="1563" y="8912"/>
                  <a:pt x="1588" y="8979"/>
                </a:cubicBezTo>
                <a:cubicBezTo>
                  <a:pt x="1596" y="8987"/>
                  <a:pt x="1604" y="8996"/>
                  <a:pt x="1612" y="9004"/>
                </a:cubicBezTo>
                <a:cubicBezTo>
                  <a:pt x="1667" y="8993"/>
                  <a:pt x="1724" y="8971"/>
                  <a:pt x="1736" y="8905"/>
                </a:cubicBezTo>
                <a:cubicBezTo>
                  <a:pt x="1749" y="8832"/>
                  <a:pt x="1726" y="8814"/>
                  <a:pt x="1761" y="8756"/>
                </a:cubicBezTo>
                <a:cubicBezTo>
                  <a:pt x="1761" y="8701"/>
                  <a:pt x="1774" y="8827"/>
                  <a:pt x="1786" y="8855"/>
                </a:cubicBezTo>
                <a:cubicBezTo>
                  <a:pt x="1813" y="8915"/>
                  <a:pt x="1864" y="8934"/>
                  <a:pt x="1910" y="8979"/>
                </a:cubicBezTo>
              </a:path>
              <a:path w="472" h="894">
                <a:moveTo>
                  <a:pt x="1687" y="8508"/>
                </a:moveTo>
                <a:cubicBezTo>
                  <a:pt x="1711" y="8471"/>
                  <a:pt x="1750" y="8418"/>
                  <a:pt x="1811" y="8434"/>
                </a:cubicBezTo>
                <a:cubicBezTo>
                  <a:pt x="1908" y="8459"/>
                  <a:pt x="1951" y="8520"/>
                  <a:pt x="1984" y="8607"/>
                </a:cubicBezTo>
                <a:cubicBezTo>
                  <a:pt x="2027" y="8719"/>
                  <a:pt x="2072" y="8858"/>
                  <a:pt x="2059" y="8979"/>
                </a:cubicBezTo>
                <a:cubicBezTo>
                  <a:pt x="2047" y="9087"/>
                  <a:pt x="1968" y="9208"/>
                  <a:pt x="1885" y="9277"/>
                </a:cubicBezTo>
                <a:cubicBezTo>
                  <a:pt x="1860" y="9294"/>
                  <a:pt x="1836" y="9310"/>
                  <a:pt x="1811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60640" y="2786040"/>
            <a:ext cx="358560" cy="536760"/>
          </a:xfrm>
          <a:custGeom>
            <a:avLst/>
            <a:gdLst/>
            <a:ahLst/>
            <a:rect l="l" t="t" r="r" b="b"/>
            <a:pathLst>
              <a:path w="993" h="1489">
                <a:moveTo>
                  <a:pt x="3249" y="7938"/>
                </a:moveTo>
                <a:cubicBezTo>
                  <a:pt x="3249" y="7905"/>
                  <a:pt x="3249" y="7871"/>
                  <a:pt x="3249" y="7838"/>
                </a:cubicBezTo>
                <a:cubicBezTo>
                  <a:pt x="3215" y="7896"/>
                  <a:pt x="3220" y="7924"/>
                  <a:pt x="3249" y="7987"/>
                </a:cubicBezTo>
                <a:cubicBezTo>
                  <a:pt x="3290" y="8074"/>
                  <a:pt x="3360" y="8081"/>
                  <a:pt x="3448" y="8086"/>
                </a:cubicBezTo>
                <a:cubicBezTo>
                  <a:pt x="3498" y="8089"/>
                  <a:pt x="3543" y="8109"/>
                  <a:pt x="3547" y="8161"/>
                </a:cubicBezTo>
                <a:cubicBezTo>
                  <a:pt x="3552" y="8227"/>
                  <a:pt x="3549" y="8303"/>
                  <a:pt x="3473" y="8334"/>
                </a:cubicBezTo>
                <a:cubicBezTo>
                  <a:pt x="3431" y="8351"/>
                  <a:pt x="3345" y="8334"/>
                  <a:pt x="3299" y="8334"/>
                </a:cubicBezTo>
              </a:path>
              <a:path w="993" h="1489">
                <a:moveTo>
                  <a:pt x="3547" y="7913"/>
                </a:moveTo>
                <a:cubicBezTo>
                  <a:pt x="3565" y="7852"/>
                  <a:pt x="3572" y="7842"/>
                  <a:pt x="3572" y="7789"/>
                </a:cubicBezTo>
                <a:cubicBezTo>
                  <a:pt x="3523" y="7801"/>
                  <a:pt x="3473" y="7838"/>
                  <a:pt x="3423" y="7863"/>
                </a:cubicBezTo>
                <a:cubicBezTo>
                  <a:pt x="3406" y="7871"/>
                  <a:pt x="3390" y="7880"/>
                  <a:pt x="3373" y="7888"/>
                </a:cubicBezTo>
              </a:path>
              <a:path w="993" h="1489">
                <a:moveTo>
                  <a:pt x="3671" y="7764"/>
                </a:moveTo>
                <a:cubicBezTo>
                  <a:pt x="3712" y="7744"/>
                  <a:pt x="3718" y="7735"/>
                  <a:pt x="3746" y="7739"/>
                </a:cubicBezTo>
                <a:cubicBezTo>
                  <a:pt x="3746" y="7811"/>
                  <a:pt x="3731" y="7869"/>
                  <a:pt x="3721" y="7938"/>
                </a:cubicBezTo>
                <a:cubicBezTo>
                  <a:pt x="3712" y="8003"/>
                  <a:pt x="3707" y="8087"/>
                  <a:pt x="3746" y="8136"/>
                </a:cubicBezTo>
                <a:cubicBezTo>
                  <a:pt x="3766" y="8161"/>
                  <a:pt x="3838" y="8179"/>
                  <a:pt x="3870" y="8161"/>
                </a:cubicBezTo>
                <a:cubicBezTo>
                  <a:pt x="3910" y="8139"/>
                  <a:pt x="3953" y="8100"/>
                  <a:pt x="3994" y="8086"/>
                </a:cubicBezTo>
                <a:cubicBezTo>
                  <a:pt x="4027" y="8075"/>
                  <a:pt x="4083" y="8086"/>
                  <a:pt x="4118" y="8086"/>
                </a:cubicBezTo>
              </a:path>
              <a:path w="993" h="1489">
                <a:moveTo>
                  <a:pt x="3994" y="8062"/>
                </a:moveTo>
                <a:cubicBezTo>
                  <a:pt x="3971" y="8039"/>
                  <a:pt x="3967" y="8031"/>
                  <a:pt x="3944" y="8037"/>
                </a:cubicBezTo>
                <a:cubicBezTo>
                  <a:pt x="3944" y="8118"/>
                  <a:pt x="3947" y="8181"/>
                  <a:pt x="3969" y="8260"/>
                </a:cubicBezTo>
              </a:path>
              <a:path w="993" h="1489">
                <a:moveTo>
                  <a:pt x="4217" y="8384"/>
                </a:moveTo>
                <a:cubicBezTo>
                  <a:pt x="4155" y="8384"/>
                  <a:pt x="4126" y="8416"/>
                  <a:pt x="4068" y="8434"/>
                </a:cubicBezTo>
                <a:cubicBezTo>
                  <a:pt x="3963" y="8467"/>
                  <a:pt x="3830" y="8520"/>
                  <a:pt x="3721" y="8533"/>
                </a:cubicBezTo>
                <a:cubicBezTo>
                  <a:pt x="3628" y="8544"/>
                  <a:pt x="3535" y="8553"/>
                  <a:pt x="3448" y="8582"/>
                </a:cubicBezTo>
                <a:cubicBezTo>
                  <a:pt x="3404" y="8597"/>
                  <a:pt x="3382" y="8607"/>
                  <a:pt x="3349" y="8632"/>
                </a:cubicBezTo>
              </a:path>
              <a:path w="993" h="1489">
                <a:moveTo>
                  <a:pt x="3423" y="8855"/>
                </a:moveTo>
                <a:cubicBezTo>
                  <a:pt x="3448" y="8863"/>
                  <a:pt x="3466" y="8914"/>
                  <a:pt x="3473" y="8954"/>
                </a:cubicBezTo>
                <a:cubicBezTo>
                  <a:pt x="3487" y="9032"/>
                  <a:pt x="3465" y="9129"/>
                  <a:pt x="3497" y="9203"/>
                </a:cubicBezTo>
                <a:cubicBezTo>
                  <a:pt x="3505" y="9211"/>
                  <a:pt x="3514" y="9219"/>
                  <a:pt x="3522" y="9227"/>
                </a:cubicBezTo>
              </a:path>
              <a:path w="993" h="1489">
                <a:moveTo>
                  <a:pt x="3795" y="8781"/>
                </a:moveTo>
                <a:cubicBezTo>
                  <a:pt x="3871" y="8758"/>
                  <a:pt x="3892" y="8758"/>
                  <a:pt x="3944" y="8706"/>
                </a:cubicBezTo>
                <a:cubicBezTo>
                  <a:pt x="3923" y="8645"/>
                  <a:pt x="3849" y="8718"/>
                  <a:pt x="3820" y="8756"/>
                </a:cubicBezTo>
                <a:cubicBezTo>
                  <a:pt x="3794" y="8790"/>
                  <a:pt x="3732" y="8886"/>
                  <a:pt x="3746" y="8930"/>
                </a:cubicBezTo>
                <a:cubicBezTo>
                  <a:pt x="3768" y="8998"/>
                  <a:pt x="3867" y="9002"/>
                  <a:pt x="3919" y="9004"/>
                </a:cubicBezTo>
                <a:cubicBezTo>
                  <a:pt x="3972" y="9007"/>
                  <a:pt x="4036" y="8996"/>
                  <a:pt x="4068" y="9054"/>
                </a:cubicBezTo>
                <a:cubicBezTo>
                  <a:pt x="4068" y="9062"/>
                  <a:pt x="4068" y="9071"/>
                  <a:pt x="4068" y="9079"/>
                </a:cubicBezTo>
                <a:cubicBezTo>
                  <a:pt x="4052" y="9142"/>
                  <a:pt x="4008" y="9149"/>
                  <a:pt x="3944" y="9153"/>
                </a:cubicBezTo>
                <a:cubicBezTo>
                  <a:pt x="3877" y="9157"/>
                  <a:pt x="3850" y="9155"/>
                  <a:pt x="3845" y="9079"/>
                </a:cubicBezTo>
                <a:cubicBezTo>
                  <a:pt x="3838" y="8971"/>
                  <a:pt x="3904" y="8897"/>
                  <a:pt x="3944" y="8806"/>
                </a:cubicBezTo>
                <a:cubicBezTo>
                  <a:pt x="3952" y="8781"/>
                  <a:pt x="3961" y="8756"/>
                  <a:pt x="3969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28880" y="2946240"/>
            <a:ext cx="90360" cy="907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5482" y="8210"/>
                </a:moveTo>
                <a:cubicBezTo>
                  <a:pt x="5535" y="8210"/>
                  <a:pt x="5518" y="8198"/>
                  <a:pt x="5556" y="8186"/>
                </a:cubicBezTo>
                <a:cubicBezTo>
                  <a:pt x="5521" y="8186"/>
                  <a:pt x="5483" y="8193"/>
                  <a:pt x="5457" y="8210"/>
                </a:cubicBezTo>
                <a:cubicBezTo>
                  <a:pt x="5421" y="8234"/>
                  <a:pt x="5402" y="8251"/>
                  <a:pt x="5358" y="8260"/>
                </a:cubicBezTo>
              </a:path>
              <a:path w="249" h="249">
                <a:moveTo>
                  <a:pt x="5531" y="8334"/>
                </a:moveTo>
                <a:cubicBezTo>
                  <a:pt x="5561" y="8326"/>
                  <a:pt x="5646" y="8311"/>
                  <a:pt x="5606" y="8384"/>
                </a:cubicBezTo>
                <a:cubicBezTo>
                  <a:pt x="5583" y="8425"/>
                  <a:pt x="5520" y="8405"/>
                  <a:pt x="5482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2687760"/>
            <a:ext cx="463680" cy="662040"/>
          </a:xfrm>
          <a:custGeom>
            <a:avLst/>
            <a:gdLst/>
            <a:ahLst/>
            <a:rect l="l" t="t" r="r" b="b"/>
            <a:pathLst>
              <a:path w="1291" h="1837">
                <a:moveTo>
                  <a:pt x="6697" y="7640"/>
                </a:moveTo>
                <a:cubicBezTo>
                  <a:pt x="6717" y="7599"/>
                  <a:pt x="6726" y="7593"/>
                  <a:pt x="6722" y="7565"/>
                </a:cubicBezTo>
                <a:cubicBezTo>
                  <a:pt x="6756" y="7588"/>
                  <a:pt x="6789" y="7728"/>
                  <a:pt x="6796" y="7789"/>
                </a:cubicBezTo>
                <a:cubicBezTo>
                  <a:pt x="6809" y="7905"/>
                  <a:pt x="6838" y="7979"/>
                  <a:pt x="6871" y="8086"/>
                </a:cubicBezTo>
                <a:cubicBezTo>
                  <a:pt x="6871" y="8094"/>
                  <a:pt x="6871" y="8103"/>
                  <a:pt x="6871" y="8111"/>
                </a:cubicBezTo>
              </a:path>
              <a:path w="1291" h="1837">
                <a:moveTo>
                  <a:pt x="7169" y="7491"/>
                </a:moveTo>
                <a:cubicBezTo>
                  <a:pt x="7239" y="7467"/>
                  <a:pt x="7160" y="7584"/>
                  <a:pt x="7144" y="7640"/>
                </a:cubicBezTo>
                <a:cubicBezTo>
                  <a:pt x="7108" y="7765"/>
                  <a:pt x="7106" y="7852"/>
                  <a:pt x="7218" y="7938"/>
                </a:cubicBezTo>
                <a:cubicBezTo>
                  <a:pt x="7260" y="7971"/>
                  <a:pt x="7327" y="7981"/>
                  <a:pt x="7342" y="7938"/>
                </a:cubicBezTo>
                <a:cubicBezTo>
                  <a:pt x="7322" y="7865"/>
                  <a:pt x="7289" y="7854"/>
                  <a:pt x="7218" y="7813"/>
                </a:cubicBezTo>
              </a:path>
              <a:path w="1291" h="1837">
                <a:moveTo>
                  <a:pt x="7516" y="7615"/>
                </a:moveTo>
                <a:cubicBezTo>
                  <a:pt x="7473" y="7583"/>
                  <a:pt x="7466" y="7596"/>
                  <a:pt x="7466" y="7541"/>
                </a:cubicBezTo>
                <a:cubicBezTo>
                  <a:pt x="7466" y="7500"/>
                  <a:pt x="7525" y="7493"/>
                  <a:pt x="7565" y="7491"/>
                </a:cubicBezTo>
                <a:cubicBezTo>
                  <a:pt x="7631" y="7487"/>
                  <a:pt x="7708" y="7489"/>
                  <a:pt x="7739" y="7565"/>
                </a:cubicBezTo>
                <a:cubicBezTo>
                  <a:pt x="7768" y="7634"/>
                  <a:pt x="7717" y="7730"/>
                  <a:pt x="7689" y="7789"/>
                </a:cubicBezTo>
                <a:cubicBezTo>
                  <a:pt x="7662" y="7846"/>
                  <a:pt x="7665" y="7852"/>
                  <a:pt x="7665" y="7913"/>
                </a:cubicBezTo>
                <a:cubicBezTo>
                  <a:pt x="7723" y="7913"/>
                  <a:pt x="7759" y="7912"/>
                  <a:pt x="7813" y="7888"/>
                </a:cubicBezTo>
                <a:cubicBezTo>
                  <a:pt x="7875" y="7860"/>
                  <a:pt x="7935" y="7830"/>
                  <a:pt x="7987" y="7789"/>
                </a:cubicBezTo>
              </a:path>
              <a:path w="1291" h="1837">
                <a:moveTo>
                  <a:pt x="7913" y="8210"/>
                </a:moveTo>
                <a:cubicBezTo>
                  <a:pt x="7938" y="8210"/>
                  <a:pt x="7946" y="8210"/>
                  <a:pt x="7938" y="8235"/>
                </a:cubicBezTo>
                <a:cubicBezTo>
                  <a:pt x="7802" y="8235"/>
                  <a:pt x="7675" y="8234"/>
                  <a:pt x="7541" y="8260"/>
                </a:cubicBezTo>
                <a:cubicBezTo>
                  <a:pt x="7383" y="8291"/>
                  <a:pt x="7225" y="8323"/>
                  <a:pt x="7069" y="8359"/>
                </a:cubicBezTo>
                <a:cubicBezTo>
                  <a:pt x="6974" y="8381"/>
                  <a:pt x="6905" y="8426"/>
                  <a:pt x="6821" y="8458"/>
                </a:cubicBezTo>
                <a:cubicBezTo>
                  <a:pt x="6795" y="8468"/>
                  <a:pt x="6775" y="8476"/>
                  <a:pt x="6747" y="8483"/>
                </a:cubicBezTo>
              </a:path>
              <a:path w="1291" h="1837">
                <a:moveTo>
                  <a:pt x="6697" y="8756"/>
                </a:moveTo>
                <a:cubicBezTo>
                  <a:pt x="6697" y="8714"/>
                  <a:pt x="6689" y="8698"/>
                  <a:pt x="6722" y="8706"/>
                </a:cubicBezTo>
                <a:cubicBezTo>
                  <a:pt x="6722" y="8763"/>
                  <a:pt x="6738" y="8803"/>
                  <a:pt x="6747" y="8855"/>
                </a:cubicBezTo>
                <a:cubicBezTo>
                  <a:pt x="6757" y="8914"/>
                  <a:pt x="6728" y="8991"/>
                  <a:pt x="6796" y="9029"/>
                </a:cubicBezTo>
                <a:cubicBezTo>
                  <a:pt x="6826" y="9046"/>
                  <a:pt x="6897" y="9014"/>
                  <a:pt x="6921" y="9004"/>
                </a:cubicBezTo>
                <a:cubicBezTo>
                  <a:pt x="6979" y="8980"/>
                  <a:pt x="7005" y="8979"/>
                  <a:pt x="7069" y="8979"/>
                </a:cubicBezTo>
                <a:cubicBezTo>
                  <a:pt x="7102" y="8979"/>
                  <a:pt x="7136" y="8979"/>
                  <a:pt x="7169" y="8979"/>
                </a:cubicBezTo>
              </a:path>
              <a:path w="1291" h="1837">
                <a:moveTo>
                  <a:pt x="6945" y="8905"/>
                </a:moveTo>
                <a:cubicBezTo>
                  <a:pt x="6945" y="8970"/>
                  <a:pt x="6960" y="9018"/>
                  <a:pt x="6970" y="9079"/>
                </a:cubicBezTo>
                <a:cubicBezTo>
                  <a:pt x="6979" y="9133"/>
                  <a:pt x="6987" y="9149"/>
                  <a:pt x="6995" y="9203"/>
                </a:cubicBezTo>
              </a:path>
              <a:path w="1291" h="1837">
                <a:moveTo>
                  <a:pt x="6821" y="9079"/>
                </a:moveTo>
                <a:cubicBezTo>
                  <a:pt x="6858" y="9067"/>
                  <a:pt x="6859" y="9040"/>
                  <a:pt x="6921" y="9029"/>
                </a:cubicBezTo>
                <a:cubicBezTo>
                  <a:pt x="6967" y="9021"/>
                  <a:pt x="7059" y="9019"/>
                  <a:pt x="7094" y="9054"/>
                </a:cubicBezTo>
                <a:cubicBezTo>
                  <a:pt x="7124" y="9084"/>
                  <a:pt x="7163" y="9157"/>
                  <a:pt x="7144" y="9203"/>
                </a:cubicBezTo>
                <a:cubicBezTo>
                  <a:pt x="7126" y="9245"/>
                  <a:pt x="7035" y="9293"/>
                  <a:pt x="6995" y="9302"/>
                </a:cubicBezTo>
                <a:cubicBezTo>
                  <a:pt x="6938" y="9315"/>
                  <a:pt x="6896" y="9296"/>
                  <a:pt x="6846" y="9277"/>
                </a:cubicBezTo>
              </a:path>
              <a:path w="1291" h="1837">
                <a:moveTo>
                  <a:pt x="7069" y="8682"/>
                </a:moveTo>
                <a:cubicBezTo>
                  <a:pt x="7086" y="8674"/>
                  <a:pt x="7102" y="8665"/>
                  <a:pt x="7119" y="8657"/>
                </a:cubicBezTo>
                <a:cubicBezTo>
                  <a:pt x="7077" y="8667"/>
                  <a:pt x="7039" y="8686"/>
                  <a:pt x="6995" y="8706"/>
                </a:cubicBezTo>
                <a:cubicBezTo>
                  <a:pt x="6936" y="8733"/>
                  <a:pt x="6883" y="8769"/>
                  <a:pt x="6821" y="8781"/>
                </a:cubicBezTo>
              </a:path>
              <a:path w="1291" h="1837">
                <a:moveTo>
                  <a:pt x="7243" y="8607"/>
                </a:moveTo>
                <a:cubicBezTo>
                  <a:pt x="7276" y="8607"/>
                  <a:pt x="7309" y="8607"/>
                  <a:pt x="7342" y="8607"/>
                </a:cubicBezTo>
                <a:cubicBezTo>
                  <a:pt x="7342" y="8712"/>
                  <a:pt x="7342" y="8814"/>
                  <a:pt x="7367" y="8905"/>
                </a:cubicBezTo>
                <a:cubicBezTo>
                  <a:pt x="7379" y="8947"/>
                  <a:pt x="7410" y="8977"/>
                  <a:pt x="7466" y="8954"/>
                </a:cubicBezTo>
                <a:cubicBezTo>
                  <a:pt x="7519" y="8933"/>
                  <a:pt x="7555" y="8910"/>
                  <a:pt x="7615" y="8905"/>
                </a:cubicBezTo>
                <a:cubicBezTo>
                  <a:pt x="7656" y="8902"/>
                  <a:pt x="7698" y="8905"/>
                  <a:pt x="7739" y="8905"/>
                </a:cubicBezTo>
              </a:path>
              <a:path w="1291" h="1837">
                <a:moveTo>
                  <a:pt x="7590" y="8806"/>
                </a:moveTo>
                <a:cubicBezTo>
                  <a:pt x="7544" y="8865"/>
                  <a:pt x="7579" y="8886"/>
                  <a:pt x="7590" y="8954"/>
                </a:cubicBezTo>
                <a:cubicBezTo>
                  <a:pt x="7597" y="8998"/>
                  <a:pt x="7606" y="9036"/>
                  <a:pt x="7615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5880" y="2963880"/>
            <a:ext cx="115920" cy="54000"/>
          </a:xfrm>
          <a:custGeom>
            <a:avLst/>
            <a:gdLst/>
            <a:ahLst/>
            <a:rect l="l" t="t" r="r" b="b"/>
            <a:pathLst>
              <a:path w="323" h="150">
                <a:moveTo>
                  <a:pt x="8954" y="8235"/>
                </a:moveTo>
                <a:cubicBezTo>
                  <a:pt x="8863" y="8235"/>
                  <a:pt x="8773" y="8235"/>
                  <a:pt x="8682" y="8235"/>
                </a:cubicBezTo>
              </a:path>
              <a:path w="323" h="150">
                <a:moveTo>
                  <a:pt x="8930" y="8310"/>
                </a:moveTo>
                <a:cubicBezTo>
                  <a:pt x="8970" y="8330"/>
                  <a:pt x="8977" y="8338"/>
                  <a:pt x="9004" y="8334"/>
                </a:cubicBezTo>
                <a:cubicBezTo>
                  <a:pt x="8992" y="8383"/>
                  <a:pt x="8980" y="8384"/>
                  <a:pt x="8930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27280" y="2741760"/>
            <a:ext cx="544680" cy="517320"/>
          </a:xfrm>
          <a:custGeom>
            <a:avLst/>
            <a:gdLst/>
            <a:ahLst/>
            <a:rect l="l" t="t" r="r" b="b"/>
            <a:pathLst>
              <a:path w="1514" h="1440">
                <a:moveTo>
                  <a:pt x="9798" y="7764"/>
                </a:moveTo>
                <a:cubicBezTo>
                  <a:pt x="9823" y="7739"/>
                  <a:pt x="9831" y="7731"/>
                  <a:pt x="9847" y="7714"/>
                </a:cubicBezTo>
                <a:cubicBezTo>
                  <a:pt x="9847" y="7785"/>
                  <a:pt x="9826" y="7843"/>
                  <a:pt x="9823" y="7913"/>
                </a:cubicBezTo>
                <a:cubicBezTo>
                  <a:pt x="9821" y="7958"/>
                  <a:pt x="9801" y="8082"/>
                  <a:pt x="9847" y="8111"/>
                </a:cubicBezTo>
                <a:cubicBezTo>
                  <a:pt x="9888" y="8137"/>
                  <a:pt x="9962" y="8092"/>
                  <a:pt x="9996" y="8086"/>
                </a:cubicBezTo>
                <a:cubicBezTo>
                  <a:pt x="10097" y="8069"/>
                  <a:pt x="10215" y="8086"/>
                  <a:pt x="10319" y="8086"/>
                </a:cubicBezTo>
              </a:path>
              <a:path w="1514" h="1440">
                <a:moveTo>
                  <a:pt x="10120" y="7962"/>
                </a:moveTo>
                <a:cubicBezTo>
                  <a:pt x="10077" y="8022"/>
                  <a:pt x="10109" y="8043"/>
                  <a:pt x="10120" y="8111"/>
                </a:cubicBezTo>
                <a:cubicBezTo>
                  <a:pt x="10126" y="8146"/>
                  <a:pt x="10120" y="8199"/>
                  <a:pt x="10120" y="8235"/>
                </a:cubicBezTo>
              </a:path>
              <a:path w="1514" h="1440">
                <a:moveTo>
                  <a:pt x="10616" y="7789"/>
                </a:moveTo>
                <a:cubicBezTo>
                  <a:pt x="10659" y="7757"/>
                  <a:pt x="10666" y="7770"/>
                  <a:pt x="10666" y="7714"/>
                </a:cubicBezTo>
                <a:cubicBezTo>
                  <a:pt x="10611" y="7728"/>
                  <a:pt x="10588" y="7747"/>
                  <a:pt x="10542" y="7789"/>
                </a:cubicBezTo>
                <a:cubicBezTo>
                  <a:pt x="10510" y="7818"/>
                  <a:pt x="10471" y="7871"/>
                  <a:pt x="10468" y="7913"/>
                </a:cubicBezTo>
                <a:cubicBezTo>
                  <a:pt x="10464" y="7973"/>
                  <a:pt x="10505" y="7983"/>
                  <a:pt x="10567" y="7987"/>
                </a:cubicBezTo>
                <a:cubicBezTo>
                  <a:pt x="10622" y="7991"/>
                  <a:pt x="10687" y="7972"/>
                  <a:pt x="10716" y="8037"/>
                </a:cubicBezTo>
                <a:cubicBezTo>
                  <a:pt x="10735" y="8080"/>
                  <a:pt x="10702" y="8107"/>
                  <a:pt x="10666" y="8111"/>
                </a:cubicBezTo>
                <a:cubicBezTo>
                  <a:pt x="10632" y="8115"/>
                  <a:pt x="10594" y="8087"/>
                  <a:pt x="10592" y="8062"/>
                </a:cubicBezTo>
                <a:cubicBezTo>
                  <a:pt x="10588" y="8009"/>
                  <a:pt x="10597" y="7959"/>
                  <a:pt x="10616" y="7913"/>
                </a:cubicBezTo>
                <a:cubicBezTo>
                  <a:pt x="10638" y="7869"/>
                  <a:pt x="10641" y="7857"/>
                  <a:pt x="10666" y="7838"/>
                </a:cubicBezTo>
              </a:path>
              <a:path w="1514" h="1440">
                <a:moveTo>
                  <a:pt x="10964" y="7714"/>
                </a:moveTo>
                <a:cubicBezTo>
                  <a:pt x="10999" y="7679"/>
                  <a:pt x="11033" y="7625"/>
                  <a:pt x="11063" y="7615"/>
                </a:cubicBezTo>
                <a:cubicBezTo>
                  <a:pt x="11029" y="7626"/>
                  <a:pt x="11006" y="7692"/>
                  <a:pt x="10988" y="7739"/>
                </a:cubicBezTo>
                <a:cubicBezTo>
                  <a:pt x="10957" y="7819"/>
                  <a:pt x="10944" y="7943"/>
                  <a:pt x="11013" y="8012"/>
                </a:cubicBezTo>
                <a:cubicBezTo>
                  <a:pt x="11056" y="8055"/>
                  <a:pt x="11118" y="8076"/>
                  <a:pt x="11162" y="8037"/>
                </a:cubicBezTo>
                <a:cubicBezTo>
                  <a:pt x="11188" y="8014"/>
                  <a:pt x="11213" y="7929"/>
                  <a:pt x="11162" y="7913"/>
                </a:cubicBezTo>
                <a:cubicBezTo>
                  <a:pt x="11137" y="7905"/>
                  <a:pt x="11064" y="7913"/>
                  <a:pt x="11038" y="7913"/>
                </a:cubicBezTo>
              </a:path>
              <a:path w="1514" h="1440">
                <a:moveTo>
                  <a:pt x="11286" y="8260"/>
                </a:moveTo>
                <a:cubicBezTo>
                  <a:pt x="11245" y="8260"/>
                  <a:pt x="11253" y="8260"/>
                  <a:pt x="11212" y="8260"/>
                </a:cubicBezTo>
                <a:cubicBezTo>
                  <a:pt x="11068" y="8260"/>
                  <a:pt x="10931" y="8275"/>
                  <a:pt x="10790" y="8285"/>
                </a:cubicBezTo>
                <a:cubicBezTo>
                  <a:pt x="10621" y="8297"/>
                  <a:pt x="10461" y="8321"/>
                  <a:pt x="10294" y="8359"/>
                </a:cubicBezTo>
                <a:cubicBezTo>
                  <a:pt x="10189" y="8383"/>
                  <a:pt x="10093" y="8436"/>
                  <a:pt x="9996" y="8483"/>
                </a:cubicBezTo>
                <a:cubicBezTo>
                  <a:pt x="9923" y="8518"/>
                  <a:pt x="9925" y="8523"/>
                  <a:pt x="9847" y="8533"/>
                </a:cubicBezTo>
              </a:path>
              <a:path w="1514" h="1440">
                <a:moveTo>
                  <a:pt x="10021" y="8731"/>
                </a:moveTo>
                <a:cubicBezTo>
                  <a:pt x="10021" y="8706"/>
                  <a:pt x="10021" y="8698"/>
                  <a:pt x="10046" y="8706"/>
                </a:cubicBezTo>
                <a:cubicBezTo>
                  <a:pt x="10046" y="8772"/>
                  <a:pt x="10063" y="8821"/>
                  <a:pt x="10071" y="8880"/>
                </a:cubicBezTo>
                <a:cubicBezTo>
                  <a:pt x="10080" y="8951"/>
                  <a:pt x="10080" y="8998"/>
                  <a:pt x="10120" y="9054"/>
                </a:cubicBezTo>
              </a:path>
              <a:path w="1514" h="1440">
                <a:moveTo>
                  <a:pt x="10368" y="8558"/>
                </a:moveTo>
                <a:cubicBezTo>
                  <a:pt x="10376" y="8550"/>
                  <a:pt x="10385" y="8541"/>
                  <a:pt x="10393" y="8533"/>
                </a:cubicBezTo>
                <a:cubicBezTo>
                  <a:pt x="10380" y="8599"/>
                  <a:pt x="10342" y="8665"/>
                  <a:pt x="10319" y="8731"/>
                </a:cubicBezTo>
                <a:cubicBezTo>
                  <a:pt x="10292" y="8809"/>
                  <a:pt x="10273" y="8913"/>
                  <a:pt x="10344" y="8979"/>
                </a:cubicBezTo>
                <a:cubicBezTo>
                  <a:pt x="10374" y="9007"/>
                  <a:pt x="10480" y="9023"/>
                  <a:pt x="10517" y="9004"/>
                </a:cubicBezTo>
                <a:cubicBezTo>
                  <a:pt x="10540" y="8981"/>
                  <a:pt x="10548" y="8977"/>
                  <a:pt x="10542" y="8954"/>
                </a:cubicBezTo>
                <a:cubicBezTo>
                  <a:pt x="10498" y="8922"/>
                  <a:pt x="10446" y="8913"/>
                  <a:pt x="10393" y="8905"/>
                </a:cubicBezTo>
              </a:path>
              <a:path w="1514" h="1440">
                <a:moveTo>
                  <a:pt x="10765" y="8632"/>
                </a:moveTo>
                <a:cubicBezTo>
                  <a:pt x="10740" y="8632"/>
                  <a:pt x="10732" y="8632"/>
                  <a:pt x="10716" y="8632"/>
                </a:cubicBezTo>
                <a:cubicBezTo>
                  <a:pt x="10731" y="8571"/>
                  <a:pt x="10766" y="8570"/>
                  <a:pt x="10815" y="8533"/>
                </a:cubicBezTo>
                <a:cubicBezTo>
                  <a:pt x="10871" y="8491"/>
                  <a:pt x="10903" y="8547"/>
                  <a:pt x="10914" y="8607"/>
                </a:cubicBezTo>
                <a:cubicBezTo>
                  <a:pt x="10929" y="8694"/>
                  <a:pt x="10881" y="8730"/>
                  <a:pt x="10864" y="8806"/>
                </a:cubicBezTo>
                <a:cubicBezTo>
                  <a:pt x="10858" y="8833"/>
                  <a:pt x="10864" y="8876"/>
                  <a:pt x="10864" y="8905"/>
                </a:cubicBezTo>
                <a:cubicBezTo>
                  <a:pt x="10922" y="8905"/>
                  <a:pt x="10958" y="8905"/>
                  <a:pt x="11013" y="8880"/>
                </a:cubicBezTo>
                <a:cubicBezTo>
                  <a:pt x="11072" y="8853"/>
                  <a:pt x="11126" y="8851"/>
                  <a:pt x="11187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84800" y="292896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2378" y="8136"/>
                </a:moveTo>
                <a:cubicBezTo>
                  <a:pt x="12402" y="8136"/>
                  <a:pt x="12411" y="8136"/>
                  <a:pt x="12427" y="8136"/>
                </a:cubicBezTo>
                <a:cubicBezTo>
                  <a:pt x="12380" y="8136"/>
                  <a:pt x="12364" y="8153"/>
                  <a:pt x="12328" y="8161"/>
                </a:cubicBezTo>
                <a:cubicBezTo>
                  <a:pt x="12273" y="8173"/>
                  <a:pt x="12239" y="8186"/>
                  <a:pt x="12179" y="8186"/>
                </a:cubicBezTo>
              </a:path>
              <a:path w="249" h="150">
                <a:moveTo>
                  <a:pt x="12402" y="8260"/>
                </a:moveTo>
                <a:cubicBezTo>
                  <a:pt x="12410" y="8260"/>
                  <a:pt x="12419" y="8260"/>
                  <a:pt x="12427" y="8260"/>
                </a:cubicBezTo>
                <a:cubicBezTo>
                  <a:pt x="12403" y="8297"/>
                  <a:pt x="12360" y="8285"/>
                  <a:pt x="12303" y="8285"/>
                </a:cubicBezTo>
                <a:cubicBezTo>
                  <a:pt x="12254" y="8285"/>
                  <a:pt x="12237" y="8285"/>
                  <a:pt x="12204" y="82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0000" y="2884320"/>
            <a:ext cx="150840" cy="133560"/>
          </a:xfrm>
          <a:custGeom>
            <a:avLst/>
            <a:gdLst/>
            <a:ahLst/>
            <a:rect l="l" t="t" r="r" b="b"/>
            <a:pathLst>
              <a:path w="422" h="373">
                <a:moveTo>
                  <a:pt x="13022" y="8186"/>
                </a:moveTo>
                <a:cubicBezTo>
                  <a:pt x="13034" y="8246"/>
                  <a:pt x="13067" y="8274"/>
                  <a:pt x="13072" y="8334"/>
                </a:cubicBezTo>
                <a:cubicBezTo>
                  <a:pt x="13072" y="8359"/>
                  <a:pt x="13072" y="8367"/>
                  <a:pt x="13072" y="8384"/>
                </a:cubicBezTo>
                <a:cubicBezTo>
                  <a:pt x="13061" y="8330"/>
                  <a:pt x="13039" y="8262"/>
                  <a:pt x="13022" y="8210"/>
                </a:cubicBezTo>
                <a:cubicBezTo>
                  <a:pt x="13004" y="8155"/>
                  <a:pt x="12971" y="8090"/>
                  <a:pt x="13022" y="8062"/>
                </a:cubicBezTo>
                <a:cubicBezTo>
                  <a:pt x="13087" y="8027"/>
                  <a:pt x="13149" y="8037"/>
                  <a:pt x="13221" y="8037"/>
                </a:cubicBezTo>
                <a:cubicBezTo>
                  <a:pt x="13303" y="8037"/>
                  <a:pt x="13347" y="8023"/>
                  <a:pt x="13419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18040" y="2919240"/>
            <a:ext cx="81000" cy="46080"/>
          </a:xfrm>
          <a:custGeom>
            <a:avLst/>
            <a:gdLst/>
            <a:ahLst/>
            <a:rect l="l" t="t" r="r" b="b"/>
            <a:pathLst>
              <a:path w="224" h="125">
                <a:moveTo>
                  <a:pt x="14163" y="8111"/>
                </a:moveTo>
                <a:cubicBezTo>
                  <a:pt x="14089" y="8111"/>
                  <a:pt x="14014" y="8111"/>
                  <a:pt x="13940" y="8111"/>
                </a:cubicBezTo>
              </a:path>
              <a:path w="224" h="125">
                <a:moveTo>
                  <a:pt x="14139" y="8186"/>
                </a:moveTo>
                <a:cubicBezTo>
                  <a:pt x="14163" y="8186"/>
                  <a:pt x="14171" y="8186"/>
                  <a:pt x="14163" y="8210"/>
                </a:cubicBezTo>
                <a:cubicBezTo>
                  <a:pt x="14104" y="8210"/>
                  <a:pt x="14045" y="8247"/>
                  <a:pt x="13990" y="8235"/>
                </a:cubicBezTo>
                <a:cubicBezTo>
                  <a:pt x="13973" y="8227"/>
                  <a:pt x="13957" y="8218"/>
                  <a:pt x="13940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0240" y="2768760"/>
            <a:ext cx="177840" cy="223560"/>
          </a:xfrm>
          <a:custGeom>
            <a:avLst/>
            <a:gdLst/>
            <a:ahLst/>
            <a:rect l="l" t="t" r="r" b="b"/>
            <a:pathLst>
              <a:path w="497" h="622">
                <a:moveTo>
                  <a:pt x="14932" y="7863"/>
                </a:moveTo>
                <a:cubicBezTo>
                  <a:pt x="14925" y="7885"/>
                  <a:pt x="14894" y="7908"/>
                  <a:pt x="14858" y="7888"/>
                </a:cubicBezTo>
                <a:cubicBezTo>
                  <a:pt x="14850" y="7880"/>
                  <a:pt x="14841" y="7871"/>
                  <a:pt x="14833" y="7863"/>
                </a:cubicBezTo>
                <a:cubicBezTo>
                  <a:pt x="14833" y="7798"/>
                  <a:pt x="14848" y="7796"/>
                  <a:pt x="14908" y="7764"/>
                </a:cubicBezTo>
                <a:cubicBezTo>
                  <a:pt x="14963" y="7735"/>
                  <a:pt x="15041" y="7675"/>
                  <a:pt x="15106" y="7689"/>
                </a:cubicBezTo>
                <a:cubicBezTo>
                  <a:pt x="15173" y="7704"/>
                  <a:pt x="15202" y="7755"/>
                  <a:pt x="15205" y="7813"/>
                </a:cubicBezTo>
                <a:cubicBezTo>
                  <a:pt x="15209" y="7884"/>
                  <a:pt x="15156" y="7947"/>
                  <a:pt x="15106" y="7987"/>
                </a:cubicBezTo>
                <a:cubicBezTo>
                  <a:pt x="15052" y="8030"/>
                  <a:pt x="15032" y="8015"/>
                  <a:pt x="15032" y="8086"/>
                </a:cubicBezTo>
                <a:cubicBezTo>
                  <a:pt x="15091" y="8122"/>
                  <a:pt x="15156" y="8111"/>
                  <a:pt x="15230" y="8111"/>
                </a:cubicBezTo>
                <a:cubicBezTo>
                  <a:pt x="15283" y="8111"/>
                  <a:pt x="15286" y="8125"/>
                  <a:pt x="15329" y="8136"/>
                </a:cubicBezTo>
                <a:cubicBezTo>
                  <a:pt x="15317" y="8222"/>
                  <a:pt x="15306" y="8214"/>
                  <a:pt x="15230" y="8235"/>
                </a:cubicBezTo>
                <a:cubicBezTo>
                  <a:pt x="15129" y="8263"/>
                  <a:pt x="15034" y="8296"/>
                  <a:pt x="14932" y="8310"/>
                </a:cubicBezTo>
                <a:cubicBezTo>
                  <a:pt x="14891" y="8310"/>
                  <a:pt x="14883" y="8310"/>
                  <a:pt x="14858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4920" y="2928960"/>
            <a:ext cx="44280" cy="88920"/>
          </a:xfrm>
          <a:custGeom>
            <a:avLst/>
            <a:gdLst/>
            <a:ahLst/>
            <a:rect l="l" t="t" r="r" b="b"/>
            <a:pathLst>
              <a:path w="125" h="249">
                <a:moveTo>
                  <a:pt x="16421" y="8136"/>
                </a:moveTo>
                <a:cubicBezTo>
                  <a:pt x="16446" y="8136"/>
                  <a:pt x="16454" y="8136"/>
                  <a:pt x="16470" y="8136"/>
                </a:cubicBezTo>
                <a:cubicBezTo>
                  <a:pt x="16470" y="8192"/>
                  <a:pt x="16475" y="8234"/>
                  <a:pt x="16446" y="8285"/>
                </a:cubicBezTo>
                <a:cubicBezTo>
                  <a:pt x="16402" y="8350"/>
                  <a:pt x="16396" y="8369"/>
                  <a:pt x="16346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62800" y="2633760"/>
            <a:ext cx="384120" cy="403200"/>
          </a:xfrm>
          <a:custGeom>
            <a:avLst/>
            <a:gdLst/>
            <a:ahLst/>
            <a:rect l="l" t="t" r="r" b="b"/>
            <a:pathLst>
              <a:path w="1068" h="1118">
                <a:moveTo>
                  <a:pt x="18554" y="7789"/>
                </a:moveTo>
                <a:cubicBezTo>
                  <a:pt x="18554" y="7844"/>
                  <a:pt x="18532" y="7883"/>
                  <a:pt x="18529" y="7938"/>
                </a:cubicBezTo>
                <a:cubicBezTo>
                  <a:pt x="18524" y="8027"/>
                  <a:pt x="18526" y="8065"/>
                  <a:pt x="18604" y="8111"/>
                </a:cubicBezTo>
                <a:cubicBezTo>
                  <a:pt x="18655" y="8141"/>
                  <a:pt x="18753" y="8159"/>
                  <a:pt x="18802" y="8111"/>
                </a:cubicBezTo>
                <a:cubicBezTo>
                  <a:pt x="18851" y="8062"/>
                  <a:pt x="18867" y="7952"/>
                  <a:pt x="18852" y="7888"/>
                </a:cubicBezTo>
                <a:cubicBezTo>
                  <a:pt x="18844" y="7871"/>
                  <a:pt x="18835" y="7855"/>
                  <a:pt x="18827" y="7838"/>
                </a:cubicBezTo>
                <a:cubicBezTo>
                  <a:pt x="18827" y="7796"/>
                  <a:pt x="18818" y="7872"/>
                  <a:pt x="18827" y="7913"/>
                </a:cubicBezTo>
                <a:cubicBezTo>
                  <a:pt x="18846" y="7995"/>
                  <a:pt x="18886" y="8107"/>
                  <a:pt x="18951" y="8161"/>
                </a:cubicBezTo>
                <a:cubicBezTo>
                  <a:pt x="18967" y="8169"/>
                  <a:pt x="18984" y="8178"/>
                  <a:pt x="19000" y="8186"/>
                </a:cubicBezTo>
              </a:path>
              <a:path w="1068" h="1118">
                <a:moveTo>
                  <a:pt x="19298" y="8111"/>
                </a:moveTo>
                <a:cubicBezTo>
                  <a:pt x="19298" y="8169"/>
                  <a:pt x="19298" y="8227"/>
                  <a:pt x="19298" y="8285"/>
                </a:cubicBezTo>
              </a:path>
              <a:path w="1068" h="1118">
                <a:moveTo>
                  <a:pt x="18579" y="7367"/>
                </a:moveTo>
                <a:cubicBezTo>
                  <a:pt x="18579" y="7342"/>
                  <a:pt x="18579" y="7334"/>
                  <a:pt x="18579" y="7317"/>
                </a:cubicBezTo>
                <a:cubicBezTo>
                  <a:pt x="18520" y="7341"/>
                  <a:pt x="18420" y="7409"/>
                  <a:pt x="18380" y="7466"/>
                </a:cubicBezTo>
                <a:cubicBezTo>
                  <a:pt x="18283" y="7605"/>
                  <a:pt x="18213" y="7738"/>
                  <a:pt x="18231" y="7913"/>
                </a:cubicBezTo>
                <a:cubicBezTo>
                  <a:pt x="18244" y="8041"/>
                  <a:pt x="18305" y="8170"/>
                  <a:pt x="18355" y="8285"/>
                </a:cubicBezTo>
                <a:cubicBezTo>
                  <a:pt x="18380" y="8342"/>
                  <a:pt x="18421" y="8389"/>
                  <a:pt x="18455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34120" y="2643120"/>
            <a:ext cx="689040" cy="420840"/>
          </a:xfrm>
          <a:custGeom>
            <a:avLst/>
            <a:gdLst/>
            <a:ahLst/>
            <a:rect l="l" t="t" r="r" b="b"/>
            <a:pathLst>
              <a:path w="1911" h="1167">
                <a:moveTo>
                  <a:pt x="19943" y="7987"/>
                </a:moveTo>
                <a:cubicBezTo>
                  <a:pt x="19943" y="7979"/>
                  <a:pt x="19943" y="7970"/>
                  <a:pt x="19943" y="7962"/>
                </a:cubicBezTo>
                <a:cubicBezTo>
                  <a:pt x="19997" y="7980"/>
                  <a:pt x="19949" y="7985"/>
                  <a:pt x="19918" y="8012"/>
                </a:cubicBezTo>
                <a:cubicBezTo>
                  <a:pt x="19888" y="8039"/>
                  <a:pt x="19857" y="8053"/>
                  <a:pt x="19819" y="8062"/>
                </a:cubicBezTo>
              </a:path>
              <a:path w="1911" h="1167">
                <a:moveTo>
                  <a:pt x="20017" y="8111"/>
                </a:moveTo>
                <a:cubicBezTo>
                  <a:pt x="20040" y="8134"/>
                  <a:pt x="20090" y="8170"/>
                  <a:pt x="20067" y="8210"/>
                </a:cubicBezTo>
                <a:cubicBezTo>
                  <a:pt x="20039" y="8238"/>
                  <a:pt x="20026" y="8247"/>
                  <a:pt x="19993" y="8235"/>
                </a:cubicBezTo>
              </a:path>
              <a:path w="1911" h="1167">
                <a:moveTo>
                  <a:pt x="20489" y="7863"/>
                </a:moveTo>
                <a:cubicBezTo>
                  <a:pt x="20489" y="7855"/>
                  <a:pt x="20489" y="7846"/>
                  <a:pt x="20489" y="7838"/>
                </a:cubicBezTo>
                <a:cubicBezTo>
                  <a:pt x="20526" y="7864"/>
                  <a:pt x="20513" y="7927"/>
                  <a:pt x="20513" y="7987"/>
                </a:cubicBezTo>
                <a:cubicBezTo>
                  <a:pt x="20513" y="8067"/>
                  <a:pt x="20499" y="8146"/>
                  <a:pt x="20538" y="8210"/>
                </a:cubicBezTo>
              </a:path>
              <a:path w="1911" h="1167">
                <a:moveTo>
                  <a:pt x="21134" y="7813"/>
                </a:moveTo>
                <a:cubicBezTo>
                  <a:pt x="21175" y="7778"/>
                  <a:pt x="21240" y="7755"/>
                  <a:pt x="21208" y="7739"/>
                </a:cubicBezTo>
                <a:cubicBezTo>
                  <a:pt x="21151" y="7696"/>
                  <a:pt x="21122" y="7732"/>
                  <a:pt x="21059" y="7764"/>
                </a:cubicBezTo>
                <a:cubicBezTo>
                  <a:pt x="20994" y="7797"/>
                  <a:pt x="20957" y="7840"/>
                  <a:pt x="20935" y="7913"/>
                </a:cubicBezTo>
                <a:cubicBezTo>
                  <a:pt x="20920" y="7961"/>
                  <a:pt x="21026" y="8005"/>
                  <a:pt x="21059" y="8012"/>
                </a:cubicBezTo>
                <a:cubicBezTo>
                  <a:pt x="21136" y="8029"/>
                  <a:pt x="21212" y="8038"/>
                  <a:pt x="21282" y="8086"/>
                </a:cubicBezTo>
                <a:cubicBezTo>
                  <a:pt x="21320" y="8112"/>
                  <a:pt x="21307" y="8145"/>
                  <a:pt x="21307" y="8186"/>
                </a:cubicBezTo>
                <a:cubicBezTo>
                  <a:pt x="21263" y="8218"/>
                  <a:pt x="21191" y="8223"/>
                  <a:pt x="21134" y="8210"/>
                </a:cubicBezTo>
                <a:cubicBezTo>
                  <a:pt x="21061" y="8193"/>
                  <a:pt x="21028" y="8161"/>
                  <a:pt x="20985" y="8111"/>
                </a:cubicBezTo>
                <a:cubicBezTo>
                  <a:pt x="21005" y="8014"/>
                  <a:pt x="21064" y="8000"/>
                  <a:pt x="21134" y="7938"/>
                </a:cubicBezTo>
                <a:cubicBezTo>
                  <a:pt x="21216" y="7865"/>
                  <a:pt x="21235" y="7832"/>
                  <a:pt x="21332" y="7789"/>
                </a:cubicBezTo>
              </a:path>
              <a:path w="1911" h="1167">
                <a:moveTo>
                  <a:pt x="21134" y="7417"/>
                </a:moveTo>
                <a:cubicBezTo>
                  <a:pt x="21152" y="7402"/>
                  <a:pt x="21172" y="7386"/>
                  <a:pt x="21208" y="7367"/>
                </a:cubicBezTo>
                <a:cubicBezTo>
                  <a:pt x="21233" y="7353"/>
                  <a:pt x="21272" y="7334"/>
                  <a:pt x="21307" y="7342"/>
                </a:cubicBezTo>
                <a:cubicBezTo>
                  <a:pt x="21418" y="7368"/>
                  <a:pt x="21537" y="7480"/>
                  <a:pt x="21605" y="7565"/>
                </a:cubicBezTo>
                <a:cubicBezTo>
                  <a:pt x="21704" y="7688"/>
                  <a:pt x="21725" y="7782"/>
                  <a:pt x="21729" y="7938"/>
                </a:cubicBezTo>
                <a:cubicBezTo>
                  <a:pt x="21733" y="8099"/>
                  <a:pt x="21654" y="8236"/>
                  <a:pt x="21555" y="8359"/>
                </a:cubicBezTo>
                <a:cubicBezTo>
                  <a:pt x="21512" y="8413"/>
                  <a:pt x="21455" y="8460"/>
                  <a:pt x="21406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4960" y="3795840"/>
            <a:ext cx="171360" cy="303120"/>
          </a:xfrm>
          <a:custGeom>
            <a:avLst/>
            <a:gdLst/>
            <a:ahLst/>
            <a:rect l="l" t="t" r="r" b="b"/>
            <a:pathLst>
              <a:path w="473" h="844">
                <a:moveTo>
                  <a:pt x="1488" y="10666"/>
                </a:moveTo>
                <a:cubicBezTo>
                  <a:pt x="1488" y="10740"/>
                  <a:pt x="1501" y="10796"/>
                  <a:pt x="1513" y="10864"/>
                </a:cubicBezTo>
                <a:cubicBezTo>
                  <a:pt x="1526" y="10937"/>
                  <a:pt x="1532" y="11016"/>
                  <a:pt x="1538" y="11088"/>
                </a:cubicBezTo>
                <a:cubicBezTo>
                  <a:pt x="1538" y="11116"/>
                  <a:pt x="1541" y="11126"/>
                  <a:pt x="1563" y="11137"/>
                </a:cubicBezTo>
                <a:cubicBezTo>
                  <a:pt x="1563" y="11081"/>
                  <a:pt x="1553" y="11032"/>
                  <a:pt x="1588" y="10988"/>
                </a:cubicBezTo>
                <a:cubicBezTo>
                  <a:pt x="1621" y="10946"/>
                  <a:pt x="1669" y="10908"/>
                  <a:pt x="1712" y="10964"/>
                </a:cubicBezTo>
                <a:cubicBezTo>
                  <a:pt x="1742" y="11003"/>
                  <a:pt x="1778" y="11060"/>
                  <a:pt x="1761" y="11112"/>
                </a:cubicBezTo>
                <a:cubicBezTo>
                  <a:pt x="1741" y="11171"/>
                  <a:pt x="1697" y="11201"/>
                  <a:pt x="1637" y="11212"/>
                </a:cubicBezTo>
                <a:cubicBezTo>
                  <a:pt x="1586" y="11221"/>
                  <a:pt x="1555" y="11186"/>
                  <a:pt x="1513" y="11162"/>
                </a:cubicBezTo>
              </a:path>
              <a:path w="473" h="844">
                <a:moveTo>
                  <a:pt x="1588" y="10567"/>
                </a:moveTo>
                <a:cubicBezTo>
                  <a:pt x="1643" y="10525"/>
                  <a:pt x="1634" y="10549"/>
                  <a:pt x="1687" y="10567"/>
                </a:cubicBezTo>
                <a:cubicBezTo>
                  <a:pt x="1735" y="10583"/>
                  <a:pt x="1740" y="10587"/>
                  <a:pt x="1786" y="10616"/>
                </a:cubicBezTo>
                <a:cubicBezTo>
                  <a:pt x="1866" y="10667"/>
                  <a:pt x="1899" y="10697"/>
                  <a:pt x="1935" y="10790"/>
                </a:cubicBezTo>
                <a:cubicBezTo>
                  <a:pt x="1981" y="10907"/>
                  <a:pt x="1947" y="10997"/>
                  <a:pt x="1910" y="11112"/>
                </a:cubicBezTo>
                <a:cubicBezTo>
                  <a:pt x="1875" y="11221"/>
                  <a:pt x="1811" y="11301"/>
                  <a:pt x="1736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82800" y="3929040"/>
            <a:ext cx="241200" cy="277920"/>
          </a:xfrm>
          <a:custGeom>
            <a:avLst/>
            <a:gdLst/>
            <a:ahLst/>
            <a:rect l="l" t="t" r="r" b="b"/>
            <a:pathLst>
              <a:path w="670" h="770">
                <a:moveTo>
                  <a:pt x="2977" y="11261"/>
                </a:moveTo>
                <a:cubicBezTo>
                  <a:pt x="2977" y="11253"/>
                  <a:pt x="2977" y="11245"/>
                  <a:pt x="2977" y="11237"/>
                </a:cubicBezTo>
                <a:cubicBezTo>
                  <a:pt x="2946" y="11257"/>
                  <a:pt x="2940" y="11330"/>
                  <a:pt x="2952" y="11385"/>
                </a:cubicBezTo>
                <a:cubicBezTo>
                  <a:pt x="2974" y="11450"/>
                  <a:pt x="2982" y="11465"/>
                  <a:pt x="2977" y="11509"/>
                </a:cubicBezTo>
              </a:path>
              <a:path w="670" h="770">
                <a:moveTo>
                  <a:pt x="2753" y="11137"/>
                </a:moveTo>
                <a:cubicBezTo>
                  <a:pt x="2753" y="11121"/>
                  <a:pt x="2753" y="11104"/>
                  <a:pt x="2753" y="11088"/>
                </a:cubicBezTo>
              </a:path>
              <a:path w="670" h="770">
                <a:moveTo>
                  <a:pt x="2729" y="10964"/>
                </a:moveTo>
                <a:cubicBezTo>
                  <a:pt x="2760" y="10940"/>
                  <a:pt x="2789" y="10918"/>
                  <a:pt x="2828" y="10914"/>
                </a:cubicBezTo>
                <a:cubicBezTo>
                  <a:pt x="2936" y="10902"/>
                  <a:pt x="3102" y="10894"/>
                  <a:pt x="3200" y="10939"/>
                </a:cubicBezTo>
                <a:cubicBezTo>
                  <a:pt x="3317" y="10993"/>
                  <a:pt x="3418" y="11129"/>
                  <a:pt x="3398" y="11261"/>
                </a:cubicBezTo>
                <a:cubicBezTo>
                  <a:pt x="3385" y="11350"/>
                  <a:pt x="3302" y="11488"/>
                  <a:pt x="3249" y="11559"/>
                </a:cubicBezTo>
                <a:cubicBezTo>
                  <a:pt x="3215" y="11604"/>
                  <a:pt x="3165" y="11643"/>
                  <a:pt x="3125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54120" y="4010040"/>
            <a:ext cx="428760" cy="160200"/>
          </a:xfrm>
          <a:custGeom>
            <a:avLst/>
            <a:gdLst/>
            <a:ahLst/>
            <a:rect l="l" t="t" r="r" b="b"/>
            <a:pathLst>
              <a:path w="1192" h="448">
                <a:moveTo>
                  <a:pt x="4316" y="11187"/>
                </a:moveTo>
                <a:cubicBezTo>
                  <a:pt x="4323" y="11166"/>
                  <a:pt x="4341" y="11119"/>
                  <a:pt x="4341" y="11162"/>
                </a:cubicBezTo>
                <a:cubicBezTo>
                  <a:pt x="4341" y="11260"/>
                  <a:pt x="4314" y="11400"/>
                  <a:pt x="4366" y="11485"/>
                </a:cubicBezTo>
                <a:cubicBezTo>
                  <a:pt x="4392" y="11528"/>
                  <a:pt x="4441" y="11550"/>
                  <a:pt x="4490" y="11534"/>
                </a:cubicBezTo>
                <a:cubicBezTo>
                  <a:pt x="4541" y="11517"/>
                  <a:pt x="4601" y="11465"/>
                  <a:pt x="4614" y="11410"/>
                </a:cubicBezTo>
                <a:cubicBezTo>
                  <a:pt x="4636" y="11319"/>
                  <a:pt x="4583" y="11214"/>
                  <a:pt x="4638" y="11137"/>
                </a:cubicBezTo>
                <a:cubicBezTo>
                  <a:pt x="4638" y="11192"/>
                  <a:pt x="4643" y="11208"/>
                  <a:pt x="4663" y="11261"/>
                </a:cubicBezTo>
                <a:cubicBezTo>
                  <a:pt x="4700" y="11363"/>
                  <a:pt x="4720" y="11432"/>
                  <a:pt x="4837" y="11460"/>
                </a:cubicBezTo>
                <a:cubicBezTo>
                  <a:pt x="4900" y="11475"/>
                  <a:pt x="4941" y="11446"/>
                  <a:pt x="4986" y="11410"/>
                </a:cubicBezTo>
              </a:path>
              <a:path w="1192" h="448">
                <a:moveTo>
                  <a:pt x="5159" y="11385"/>
                </a:moveTo>
                <a:cubicBezTo>
                  <a:pt x="5159" y="11332"/>
                  <a:pt x="5183" y="11416"/>
                  <a:pt x="5184" y="11435"/>
                </a:cubicBezTo>
                <a:cubicBezTo>
                  <a:pt x="5188" y="11495"/>
                  <a:pt x="5200" y="11539"/>
                  <a:pt x="5234" y="11584"/>
                </a:cubicBezTo>
                <a:cubicBezTo>
                  <a:pt x="5246" y="11537"/>
                  <a:pt x="5266" y="11455"/>
                  <a:pt x="5283" y="11410"/>
                </a:cubicBezTo>
                <a:cubicBezTo>
                  <a:pt x="5291" y="11390"/>
                  <a:pt x="5358" y="11334"/>
                  <a:pt x="5383" y="11361"/>
                </a:cubicBezTo>
                <a:cubicBezTo>
                  <a:pt x="5441" y="11425"/>
                  <a:pt x="5440" y="11491"/>
                  <a:pt x="5482" y="11559"/>
                </a:cubicBezTo>
                <a:cubicBezTo>
                  <a:pt x="5490" y="11567"/>
                  <a:pt x="5499" y="11576"/>
                  <a:pt x="5507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43080" y="4054320"/>
            <a:ext cx="98640" cy="6192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6077" y="11261"/>
                </a:moveTo>
                <a:cubicBezTo>
                  <a:pt x="6119" y="11261"/>
                  <a:pt x="6127" y="11261"/>
                  <a:pt x="6152" y="11261"/>
                </a:cubicBezTo>
                <a:cubicBezTo>
                  <a:pt x="6106" y="11261"/>
                  <a:pt x="6093" y="11281"/>
                  <a:pt x="6052" y="11286"/>
                </a:cubicBezTo>
                <a:cubicBezTo>
                  <a:pt x="6047" y="11287"/>
                  <a:pt x="5954" y="11310"/>
                  <a:pt x="5953" y="11311"/>
                </a:cubicBezTo>
                <a:cubicBezTo>
                  <a:pt x="5953" y="11319"/>
                  <a:pt x="5953" y="11328"/>
                  <a:pt x="5953" y="11336"/>
                </a:cubicBezTo>
              </a:path>
              <a:path w="274" h="175">
                <a:moveTo>
                  <a:pt x="6176" y="11385"/>
                </a:moveTo>
                <a:cubicBezTo>
                  <a:pt x="6201" y="11410"/>
                  <a:pt x="6209" y="11418"/>
                  <a:pt x="6226" y="11435"/>
                </a:cubicBezTo>
                <a:cubicBezTo>
                  <a:pt x="6201" y="11435"/>
                  <a:pt x="6177" y="11435"/>
                  <a:pt x="6152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36920" y="3983040"/>
            <a:ext cx="338040" cy="160200"/>
          </a:xfrm>
          <a:custGeom>
            <a:avLst/>
            <a:gdLst/>
            <a:ahLst/>
            <a:rect l="l" t="t" r="r" b="b"/>
            <a:pathLst>
              <a:path w="943" h="447">
                <a:moveTo>
                  <a:pt x="7045" y="11112"/>
                </a:moveTo>
                <a:cubicBezTo>
                  <a:pt x="7058" y="11073"/>
                  <a:pt x="7056" y="11103"/>
                  <a:pt x="7069" y="11063"/>
                </a:cubicBezTo>
                <a:cubicBezTo>
                  <a:pt x="7054" y="11109"/>
                  <a:pt x="7045" y="11087"/>
                  <a:pt x="7045" y="11162"/>
                </a:cubicBezTo>
                <a:cubicBezTo>
                  <a:pt x="7045" y="11259"/>
                  <a:pt x="7085" y="11358"/>
                  <a:pt x="7144" y="11435"/>
                </a:cubicBezTo>
                <a:cubicBezTo>
                  <a:pt x="7190" y="11495"/>
                  <a:pt x="7261" y="11509"/>
                  <a:pt x="7317" y="11460"/>
                </a:cubicBezTo>
                <a:cubicBezTo>
                  <a:pt x="7391" y="11395"/>
                  <a:pt x="7412" y="11331"/>
                  <a:pt x="7417" y="11237"/>
                </a:cubicBezTo>
                <a:cubicBezTo>
                  <a:pt x="7419" y="11188"/>
                  <a:pt x="7417" y="11137"/>
                  <a:pt x="7417" y="11088"/>
                </a:cubicBezTo>
                <a:cubicBezTo>
                  <a:pt x="7376" y="11101"/>
                  <a:pt x="7392" y="11136"/>
                  <a:pt x="7392" y="11187"/>
                </a:cubicBezTo>
                <a:cubicBezTo>
                  <a:pt x="7392" y="11261"/>
                  <a:pt x="7429" y="11318"/>
                  <a:pt x="7491" y="11361"/>
                </a:cubicBezTo>
                <a:cubicBezTo>
                  <a:pt x="7553" y="11404"/>
                  <a:pt x="7604" y="11386"/>
                  <a:pt x="7665" y="11361"/>
                </a:cubicBezTo>
              </a:path>
              <a:path w="943" h="447">
                <a:moveTo>
                  <a:pt x="7938" y="11361"/>
                </a:moveTo>
                <a:cubicBezTo>
                  <a:pt x="7938" y="11320"/>
                  <a:pt x="7929" y="11303"/>
                  <a:pt x="7962" y="11311"/>
                </a:cubicBezTo>
                <a:cubicBezTo>
                  <a:pt x="7962" y="11385"/>
                  <a:pt x="7961" y="11440"/>
                  <a:pt x="7987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27240" y="4000680"/>
            <a:ext cx="81000" cy="80640"/>
          </a:xfrm>
          <a:custGeom>
            <a:avLst/>
            <a:gdLst/>
            <a:ahLst/>
            <a:rect l="l" t="t" r="r" b="b"/>
            <a:pathLst>
              <a:path w="224" h="225">
                <a:moveTo>
                  <a:pt x="8632" y="11112"/>
                </a:moveTo>
                <a:cubicBezTo>
                  <a:pt x="8622" y="11150"/>
                  <a:pt x="8584" y="11203"/>
                  <a:pt x="8558" y="11237"/>
                </a:cubicBezTo>
                <a:cubicBezTo>
                  <a:pt x="8528" y="11277"/>
                  <a:pt x="8478" y="11325"/>
                  <a:pt x="8434" y="11336"/>
                </a:cubicBezTo>
              </a:path>
              <a:path w="224" h="225">
                <a:moveTo>
                  <a:pt x="8632" y="11336"/>
                </a:moveTo>
                <a:cubicBezTo>
                  <a:pt x="8616" y="11255"/>
                  <a:pt x="8580" y="11248"/>
                  <a:pt x="8508" y="11212"/>
                </a:cubicBezTo>
                <a:cubicBezTo>
                  <a:pt x="8458" y="11187"/>
                  <a:pt x="8442" y="11179"/>
                  <a:pt x="8409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32080" y="3956040"/>
            <a:ext cx="117720" cy="125280"/>
          </a:xfrm>
          <a:custGeom>
            <a:avLst/>
            <a:gdLst/>
            <a:ahLst/>
            <a:rect l="l" t="t" r="r" b="b"/>
            <a:pathLst>
              <a:path w="324" h="349">
                <a:moveTo>
                  <a:pt x="9004" y="11187"/>
                </a:moveTo>
                <a:cubicBezTo>
                  <a:pt x="9027" y="11240"/>
                  <a:pt x="9029" y="11257"/>
                  <a:pt x="9029" y="11311"/>
                </a:cubicBezTo>
                <a:cubicBezTo>
                  <a:pt x="9029" y="11319"/>
                  <a:pt x="9029" y="11328"/>
                  <a:pt x="9029" y="11336"/>
                </a:cubicBezTo>
                <a:cubicBezTo>
                  <a:pt x="9007" y="11285"/>
                  <a:pt x="8969" y="11219"/>
                  <a:pt x="8979" y="11162"/>
                </a:cubicBezTo>
                <a:cubicBezTo>
                  <a:pt x="8990" y="11102"/>
                  <a:pt x="9041" y="11006"/>
                  <a:pt x="9103" y="10988"/>
                </a:cubicBezTo>
                <a:cubicBezTo>
                  <a:pt x="9166" y="10969"/>
                  <a:pt x="9245" y="10992"/>
                  <a:pt x="9302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73280" y="3902040"/>
            <a:ext cx="90720" cy="9036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9649" y="10840"/>
                </a:moveTo>
                <a:cubicBezTo>
                  <a:pt x="9682" y="10894"/>
                  <a:pt x="9674" y="10945"/>
                  <a:pt x="9674" y="11013"/>
                </a:cubicBezTo>
                <a:cubicBezTo>
                  <a:pt x="9674" y="11046"/>
                  <a:pt x="9674" y="11063"/>
                  <a:pt x="9674" y="11088"/>
                </a:cubicBezTo>
                <a:cubicBezTo>
                  <a:pt x="9687" y="11035"/>
                  <a:pt x="9718" y="11002"/>
                  <a:pt x="9723" y="10939"/>
                </a:cubicBezTo>
                <a:cubicBezTo>
                  <a:pt x="9726" y="10901"/>
                  <a:pt x="9746" y="10891"/>
                  <a:pt x="9773" y="10864"/>
                </a:cubicBezTo>
                <a:cubicBezTo>
                  <a:pt x="9819" y="10910"/>
                  <a:pt x="9812" y="10936"/>
                  <a:pt x="9847" y="10988"/>
                </a:cubicBezTo>
                <a:cubicBezTo>
                  <a:pt x="9872" y="11013"/>
                  <a:pt x="9880" y="11021"/>
                  <a:pt x="9897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3884760"/>
            <a:ext cx="160200" cy="107640"/>
          </a:xfrm>
          <a:custGeom>
            <a:avLst/>
            <a:gdLst/>
            <a:ahLst/>
            <a:rect l="l" t="t" r="r" b="b"/>
            <a:pathLst>
              <a:path w="447" h="299">
                <a:moveTo>
                  <a:pt x="10220" y="11013"/>
                </a:moveTo>
                <a:cubicBezTo>
                  <a:pt x="10232" y="10963"/>
                  <a:pt x="10244" y="10964"/>
                  <a:pt x="10294" y="10964"/>
                </a:cubicBezTo>
                <a:cubicBezTo>
                  <a:pt x="10319" y="10964"/>
                  <a:pt x="10327" y="10964"/>
                  <a:pt x="10344" y="10964"/>
                </a:cubicBezTo>
              </a:path>
              <a:path w="447" h="299">
                <a:moveTo>
                  <a:pt x="10666" y="10815"/>
                </a:moveTo>
                <a:cubicBezTo>
                  <a:pt x="10666" y="10756"/>
                  <a:pt x="10644" y="10920"/>
                  <a:pt x="10641" y="10939"/>
                </a:cubicBezTo>
                <a:cubicBezTo>
                  <a:pt x="10633" y="10986"/>
                  <a:pt x="10641" y="11040"/>
                  <a:pt x="10641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78000" y="4438800"/>
            <a:ext cx="90360" cy="619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6276" y="12328"/>
                </a:moveTo>
                <a:cubicBezTo>
                  <a:pt x="6284" y="12328"/>
                  <a:pt x="6292" y="12328"/>
                  <a:pt x="6300" y="12328"/>
                </a:cubicBezTo>
                <a:cubicBezTo>
                  <a:pt x="6215" y="12328"/>
                  <a:pt x="6156" y="12333"/>
                  <a:pt x="6077" y="12353"/>
                </a:cubicBezTo>
                <a:cubicBezTo>
                  <a:pt x="6069" y="12353"/>
                  <a:pt x="6060" y="12353"/>
                  <a:pt x="6052" y="12353"/>
                </a:cubicBezTo>
              </a:path>
              <a:path w="249" h="175">
                <a:moveTo>
                  <a:pt x="6251" y="12452"/>
                </a:moveTo>
                <a:cubicBezTo>
                  <a:pt x="6251" y="12460"/>
                  <a:pt x="6251" y="12469"/>
                  <a:pt x="6251" y="12477"/>
                </a:cubicBezTo>
                <a:cubicBezTo>
                  <a:pt x="6206" y="12477"/>
                  <a:pt x="6191" y="12492"/>
                  <a:pt x="6152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89120" y="4303800"/>
            <a:ext cx="19080" cy="189000"/>
          </a:xfrm>
          <a:custGeom>
            <a:avLst/>
            <a:gdLst/>
            <a:ahLst/>
            <a:rect l="l" t="t" r="r" b="b"/>
            <a:pathLst>
              <a:path w="51" h="522">
                <a:moveTo>
                  <a:pt x="7193" y="11981"/>
                </a:moveTo>
                <a:cubicBezTo>
                  <a:pt x="7193" y="11956"/>
                  <a:pt x="7193" y="11948"/>
                  <a:pt x="7218" y="11956"/>
                </a:cubicBezTo>
                <a:cubicBezTo>
                  <a:pt x="7218" y="12125"/>
                  <a:pt x="7190" y="12319"/>
                  <a:pt x="7243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59040" y="4357800"/>
            <a:ext cx="108000" cy="160200"/>
          </a:xfrm>
          <a:custGeom>
            <a:avLst/>
            <a:gdLst/>
            <a:ahLst/>
            <a:rect l="l" t="t" r="r" b="b"/>
            <a:pathLst>
              <a:path w="298" h="447">
                <a:moveTo>
                  <a:pt x="7764" y="12254"/>
                </a:moveTo>
                <a:cubicBezTo>
                  <a:pt x="7794" y="12250"/>
                  <a:pt x="7872" y="12228"/>
                  <a:pt x="7888" y="12204"/>
                </a:cubicBezTo>
                <a:cubicBezTo>
                  <a:pt x="7903" y="12181"/>
                  <a:pt x="7933" y="12170"/>
                  <a:pt x="7938" y="12129"/>
                </a:cubicBezTo>
                <a:cubicBezTo>
                  <a:pt x="7938" y="12121"/>
                  <a:pt x="7938" y="12113"/>
                  <a:pt x="7938" y="12105"/>
                </a:cubicBezTo>
                <a:cubicBezTo>
                  <a:pt x="7874" y="12105"/>
                  <a:pt x="7818" y="12112"/>
                  <a:pt x="7764" y="12154"/>
                </a:cubicBezTo>
                <a:cubicBezTo>
                  <a:pt x="7717" y="12191"/>
                  <a:pt x="7645" y="12259"/>
                  <a:pt x="7665" y="12328"/>
                </a:cubicBezTo>
                <a:cubicBezTo>
                  <a:pt x="7680" y="12379"/>
                  <a:pt x="7753" y="12388"/>
                  <a:pt x="7789" y="12402"/>
                </a:cubicBezTo>
                <a:cubicBezTo>
                  <a:pt x="7825" y="12417"/>
                  <a:pt x="7895" y="12463"/>
                  <a:pt x="7913" y="12502"/>
                </a:cubicBezTo>
                <a:cubicBezTo>
                  <a:pt x="7936" y="12552"/>
                  <a:pt x="7897" y="12551"/>
                  <a:pt x="7863" y="12551"/>
                </a:cubicBezTo>
                <a:cubicBezTo>
                  <a:pt x="7822" y="12551"/>
                  <a:pt x="7814" y="12551"/>
                  <a:pt x="7789" y="12551"/>
                </a:cubicBezTo>
                <a:cubicBezTo>
                  <a:pt x="7789" y="12486"/>
                  <a:pt x="7831" y="12459"/>
                  <a:pt x="7863" y="12402"/>
                </a:cubicBezTo>
                <a:cubicBezTo>
                  <a:pt x="7892" y="12351"/>
                  <a:pt x="7922" y="12320"/>
                  <a:pt x="7962" y="12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27240" y="4411800"/>
            <a:ext cx="81000" cy="810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8582" y="12278"/>
                </a:moveTo>
                <a:cubicBezTo>
                  <a:pt x="8582" y="12254"/>
                  <a:pt x="8582" y="12246"/>
                  <a:pt x="8607" y="12254"/>
                </a:cubicBezTo>
                <a:cubicBezTo>
                  <a:pt x="8567" y="12274"/>
                  <a:pt x="8524" y="12338"/>
                  <a:pt x="8483" y="12378"/>
                </a:cubicBezTo>
                <a:cubicBezTo>
                  <a:pt x="8445" y="12416"/>
                  <a:pt x="8434" y="12424"/>
                  <a:pt x="8434" y="12477"/>
                </a:cubicBezTo>
              </a:path>
              <a:path w="224" h="224">
                <a:moveTo>
                  <a:pt x="8632" y="12427"/>
                </a:moveTo>
                <a:cubicBezTo>
                  <a:pt x="8618" y="12333"/>
                  <a:pt x="8597" y="12364"/>
                  <a:pt x="8508" y="12328"/>
                </a:cubicBezTo>
                <a:cubicBezTo>
                  <a:pt x="8460" y="12304"/>
                  <a:pt x="8446" y="12296"/>
                  <a:pt x="8409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14800" y="4259160"/>
            <a:ext cx="322200" cy="241560"/>
          </a:xfrm>
          <a:custGeom>
            <a:avLst/>
            <a:gdLst/>
            <a:ahLst/>
            <a:rect l="l" t="t" r="r" b="b"/>
            <a:pathLst>
              <a:path w="894" h="671">
                <a:moveTo>
                  <a:pt x="9029" y="12080"/>
                </a:moveTo>
                <a:cubicBezTo>
                  <a:pt x="8999" y="12067"/>
                  <a:pt x="8937" y="12045"/>
                  <a:pt x="8930" y="12030"/>
                </a:cubicBezTo>
                <a:cubicBezTo>
                  <a:pt x="8930" y="12022"/>
                  <a:pt x="8930" y="12013"/>
                  <a:pt x="8930" y="12005"/>
                </a:cubicBezTo>
                <a:cubicBezTo>
                  <a:pt x="8981" y="11954"/>
                  <a:pt x="9014" y="11960"/>
                  <a:pt x="9079" y="11931"/>
                </a:cubicBezTo>
                <a:cubicBezTo>
                  <a:pt x="9143" y="11902"/>
                  <a:pt x="9203" y="11888"/>
                  <a:pt x="9252" y="11956"/>
                </a:cubicBezTo>
                <a:cubicBezTo>
                  <a:pt x="9297" y="12019"/>
                  <a:pt x="9280" y="12091"/>
                  <a:pt x="9252" y="12154"/>
                </a:cubicBezTo>
                <a:cubicBezTo>
                  <a:pt x="9232" y="12199"/>
                  <a:pt x="9183" y="12232"/>
                  <a:pt x="9178" y="12278"/>
                </a:cubicBezTo>
                <a:cubicBezTo>
                  <a:pt x="9174" y="12318"/>
                  <a:pt x="9268" y="12347"/>
                  <a:pt x="9302" y="12353"/>
                </a:cubicBezTo>
                <a:cubicBezTo>
                  <a:pt x="9375" y="12366"/>
                  <a:pt x="9394" y="12372"/>
                  <a:pt x="9401" y="12452"/>
                </a:cubicBezTo>
                <a:cubicBezTo>
                  <a:pt x="9406" y="12515"/>
                  <a:pt x="9345" y="12502"/>
                  <a:pt x="9302" y="12502"/>
                </a:cubicBezTo>
                <a:cubicBezTo>
                  <a:pt x="9277" y="12502"/>
                  <a:pt x="9252" y="12502"/>
                  <a:pt x="9227" y="12502"/>
                </a:cubicBezTo>
              </a:path>
              <a:path w="894" h="671">
                <a:moveTo>
                  <a:pt x="9624" y="11857"/>
                </a:moveTo>
                <a:cubicBezTo>
                  <a:pt x="9613" y="11912"/>
                  <a:pt x="9599" y="11946"/>
                  <a:pt x="9599" y="12005"/>
                </a:cubicBezTo>
                <a:cubicBezTo>
                  <a:pt x="9599" y="12030"/>
                  <a:pt x="9599" y="12038"/>
                  <a:pt x="9599" y="12055"/>
                </a:cubicBezTo>
                <a:cubicBezTo>
                  <a:pt x="9640" y="12004"/>
                  <a:pt x="9647" y="11957"/>
                  <a:pt x="9674" y="11906"/>
                </a:cubicBezTo>
                <a:cubicBezTo>
                  <a:pt x="9696" y="11863"/>
                  <a:pt x="9700" y="11852"/>
                  <a:pt x="9723" y="11832"/>
                </a:cubicBezTo>
                <a:cubicBezTo>
                  <a:pt x="9756" y="11848"/>
                  <a:pt x="9811" y="11907"/>
                  <a:pt x="9823" y="11956"/>
                </a:cubicBezTo>
                <a:cubicBezTo>
                  <a:pt x="9823" y="12005"/>
                  <a:pt x="9823" y="12022"/>
                  <a:pt x="9823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2920" y="4276800"/>
            <a:ext cx="61920" cy="9360"/>
          </a:xfrm>
          <a:custGeom>
            <a:avLst/>
            <a:gdLst/>
            <a:ahLst/>
            <a:rect l="l" t="t" r="r" b="b"/>
            <a:pathLst>
              <a:path w="175" h="26">
                <a:moveTo>
                  <a:pt x="10145" y="11906"/>
                </a:moveTo>
                <a:cubicBezTo>
                  <a:pt x="10145" y="11898"/>
                  <a:pt x="10145" y="11889"/>
                  <a:pt x="10145" y="11881"/>
                </a:cubicBezTo>
                <a:cubicBezTo>
                  <a:pt x="10203" y="11881"/>
                  <a:pt x="10261" y="11881"/>
                  <a:pt x="10319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30760" y="4197240"/>
            <a:ext cx="9360" cy="115920"/>
          </a:xfrm>
          <a:custGeom>
            <a:avLst/>
            <a:gdLst/>
            <a:ahLst/>
            <a:rect l="l" t="t" r="r" b="b"/>
            <a:pathLst>
              <a:path w="26" h="324">
                <a:moveTo>
                  <a:pt x="10666" y="11658"/>
                </a:moveTo>
                <a:cubicBezTo>
                  <a:pt x="10666" y="11723"/>
                  <a:pt x="10645" y="11769"/>
                  <a:pt x="10641" y="11832"/>
                </a:cubicBezTo>
                <a:cubicBezTo>
                  <a:pt x="10638" y="11881"/>
                  <a:pt x="10641" y="11932"/>
                  <a:pt x="10641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2200" y="6259680"/>
            <a:ext cx="349560" cy="169560"/>
          </a:xfrm>
          <a:custGeom>
            <a:avLst/>
            <a:gdLst/>
            <a:ahLst/>
            <a:rect l="l" t="t" r="r" b="b"/>
            <a:pathLst>
              <a:path w="968" h="472">
                <a:moveTo>
                  <a:pt x="9971" y="17587"/>
                </a:moveTo>
                <a:cubicBezTo>
                  <a:pt x="9971" y="17570"/>
                  <a:pt x="9971" y="17554"/>
                  <a:pt x="9971" y="17537"/>
                </a:cubicBezTo>
                <a:cubicBezTo>
                  <a:pt x="9959" y="17586"/>
                  <a:pt x="9934" y="17632"/>
                  <a:pt x="9922" y="17686"/>
                </a:cubicBezTo>
                <a:cubicBezTo>
                  <a:pt x="9922" y="17721"/>
                  <a:pt x="9917" y="17738"/>
                  <a:pt x="9897" y="17760"/>
                </a:cubicBezTo>
                <a:cubicBezTo>
                  <a:pt x="9913" y="17679"/>
                  <a:pt x="9945" y="17593"/>
                  <a:pt x="9971" y="17512"/>
                </a:cubicBezTo>
                <a:cubicBezTo>
                  <a:pt x="9995" y="17438"/>
                  <a:pt x="10004" y="17415"/>
                  <a:pt x="10071" y="17388"/>
                </a:cubicBezTo>
                <a:cubicBezTo>
                  <a:pt x="10113" y="17471"/>
                  <a:pt x="10117" y="17586"/>
                  <a:pt x="10120" y="17686"/>
                </a:cubicBezTo>
                <a:cubicBezTo>
                  <a:pt x="10122" y="17750"/>
                  <a:pt x="10135" y="17798"/>
                  <a:pt x="10145" y="17859"/>
                </a:cubicBezTo>
              </a:path>
              <a:path w="968" h="472">
                <a:moveTo>
                  <a:pt x="10368" y="17711"/>
                </a:moveTo>
                <a:cubicBezTo>
                  <a:pt x="10302" y="17711"/>
                  <a:pt x="10410" y="17714"/>
                  <a:pt x="10418" y="17711"/>
                </a:cubicBezTo>
                <a:cubicBezTo>
                  <a:pt x="10461" y="17696"/>
                  <a:pt x="10542" y="17665"/>
                  <a:pt x="10592" y="17686"/>
                </a:cubicBezTo>
                <a:cubicBezTo>
                  <a:pt x="10600" y="17694"/>
                  <a:pt x="10608" y="17703"/>
                  <a:pt x="10616" y="17711"/>
                </a:cubicBezTo>
              </a:path>
              <a:path w="968" h="472">
                <a:moveTo>
                  <a:pt x="10790" y="17462"/>
                </a:moveTo>
                <a:cubicBezTo>
                  <a:pt x="10807" y="17446"/>
                  <a:pt x="10823" y="17429"/>
                  <a:pt x="10840" y="17413"/>
                </a:cubicBezTo>
                <a:cubicBezTo>
                  <a:pt x="10840" y="17564"/>
                  <a:pt x="10831" y="17713"/>
                  <a:pt x="10864" y="17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8080" y="6205680"/>
            <a:ext cx="1635120" cy="430200"/>
          </a:xfrm>
          <a:custGeom>
            <a:avLst/>
            <a:gdLst/>
            <a:ahLst/>
            <a:rect l="l" t="t" r="r" b="b"/>
            <a:pathLst>
              <a:path w="4540" h="1192">
                <a:moveTo>
                  <a:pt x="12254" y="17562"/>
                </a:moveTo>
                <a:cubicBezTo>
                  <a:pt x="12262" y="17562"/>
                  <a:pt x="12270" y="17562"/>
                  <a:pt x="12278" y="17562"/>
                </a:cubicBezTo>
                <a:cubicBezTo>
                  <a:pt x="12266" y="17600"/>
                  <a:pt x="12249" y="17587"/>
                  <a:pt x="12204" y="17587"/>
                </a:cubicBezTo>
                <a:cubicBezTo>
                  <a:pt x="12140" y="17587"/>
                  <a:pt x="12139" y="17586"/>
                  <a:pt x="12080" y="17611"/>
                </a:cubicBezTo>
              </a:path>
              <a:path w="4540" h="1192">
                <a:moveTo>
                  <a:pt x="12254" y="17661"/>
                </a:moveTo>
                <a:cubicBezTo>
                  <a:pt x="12254" y="17701"/>
                  <a:pt x="12275" y="17787"/>
                  <a:pt x="12229" y="17810"/>
                </a:cubicBezTo>
                <a:cubicBezTo>
                  <a:pt x="12221" y="17810"/>
                  <a:pt x="12212" y="17810"/>
                  <a:pt x="12204" y="17810"/>
                </a:cubicBezTo>
              </a:path>
              <a:path w="4540" h="1192">
                <a:moveTo>
                  <a:pt x="13022" y="17686"/>
                </a:moveTo>
                <a:cubicBezTo>
                  <a:pt x="13022" y="17711"/>
                  <a:pt x="13022" y="17719"/>
                  <a:pt x="13022" y="17735"/>
                </a:cubicBezTo>
                <a:cubicBezTo>
                  <a:pt x="13075" y="17722"/>
                  <a:pt x="13105" y="17677"/>
                  <a:pt x="13146" y="17636"/>
                </a:cubicBezTo>
                <a:cubicBezTo>
                  <a:pt x="13213" y="17569"/>
                  <a:pt x="13317" y="17482"/>
                  <a:pt x="13345" y="17388"/>
                </a:cubicBezTo>
                <a:cubicBezTo>
                  <a:pt x="13356" y="17350"/>
                  <a:pt x="13345" y="17281"/>
                  <a:pt x="13345" y="17239"/>
                </a:cubicBezTo>
                <a:cubicBezTo>
                  <a:pt x="13254" y="17257"/>
                  <a:pt x="13251" y="17303"/>
                  <a:pt x="13221" y="17388"/>
                </a:cubicBezTo>
                <a:cubicBezTo>
                  <a:pt x="13184" y="17493"/>
                  <a:pt x="13180" y="17609"/>
                  <a:pt x="13221" y="17711"/>
                </a:cubicBezTo>
                <a:cubicBezTo>
                  <a:pt x="13229" y="17727"/>
                  <a:pt x="13238" y="17744"/>
                  <a:pt x="13246" y="17760"/>
                </a:cubicBezTo>
                <a:cubicBezTo>
                  <a:pt x="13307" y="17744"/>
                  <a:pt x="13330" y="17709"/>
                  <a:pt x="13370" y="17661"/>
                </a:cubicBezTo>
                <a:cubicBezTo>
                  <a:pt x="13407" y="17616"/>
                  <a:pt x="13423" y="17595"/>
                  <a:pt x="13469" y="17636"/>
                </a:cubicBezTo>
                <a:cubicBezTo>
                  <a:pt x="13509" y="17672"/>
                  <a:pt x="13514" y="17686"/>
                  <a:pt x="13568" y="17686"/>
                </a:cubicBezTo>
                <a:cubicBezTo>
                  <a:pt x="13627" y="17686"/>
                  <a:pt x="13662" y="17705"/>
                  <a:pt x="13717" y="17711"/>
                </a:cubicBezTo>
                <a:cubicBezTo>
                  <a:pt x="13725" y="17711"/>
                  <a:pt x="13734" y="17711"/>
                  <a:pt x="13742" y="17711"/>
                </a:cubicBezTo>
              </a:path>
              <a:path w="4540" h="1192">
                <a:moveTo>
                  <a:pt x="14263" y="17413"/>
                </a:moveTo>
                <a:cubicBezTo>
                  <a:pt x="14244" y="17376"/>
                  <a:pt x="14217" y="17423"/>
                  <a:pt x="14213" y="17462"/>
                </a:cubicBezTo>
                <a:cubicBezTo>
                  <a:pt x="14209" y="17499"/>
                  <a:pt x="14205" y="17539"/>
                  <a:pt x="14238" y="17562"/>
                </a:cubicBezTo>
                <a:cubicBezTo>
                  <a:pt x="14295" y="17602"/>
                  <a:pt x="14367" y="17572"/>
                  <a:pt x="14412" y="17636"/>
                </a:cubicBezTo>
                <a:cubicBezTo>
                  <a:pt x="14449" y="17689"/>
                  <a:pt x="14449" y="17763"/>
                  <a:pt x="14412" y="17810"/>
                </a:cubicBezTo>
                <a:cubicBezTo>
                  <a:pt x="14372" y="17860"/>
                  <a:pt x="14340" y="17876"/>
                  <a:pt x="14288" y="17835"/>
                </a:cubicBezTo>
                <a:cubicBezTo>
                  <a:pt x="14280" y="17827"/>
                  <a:pt x="14271" y="17818"/>
                  <a:pt x="14263" y="17810"/>
                </a:cubicBezTo>
              </a:path>
              <a:path w="4540" h="1192">
                <a:moveTo>
                  <a:pt x="14560" y="17363"/>
                </a:moveTo>
                <a:cubicBezTo>
                  <a:pt x="14496" y="17400"/>
                  <a:pt x="14485" y="17413"/>
                  <a:pt x="14412" y="17413"/>
                </a:cubicBezTo>
              </a:path>
              <a:path w="4540" h="1192">
                <a:moveTo>
                  <a:pt x="14908" y="17487"/>
                </a:moveTo>
                <a:cubicBezTo>
                  <a:pt x="14943" y="17460"/>
                  <a:pt x="14938" y="17462"/>
                  <a:pt x="14982" y="17462"/>
                </a:cubicBezTo>
                <a:cubicBezTo>
                  <a:pt x="14973" y="17436"/>
                  <a:pt x="14930" y="17397"/>
                  <a:pt x="14883" y="17413"/>
                </a:cubicBezTo>
                <a:cubicBezTo>
                  <a:pt x="14814" y="17436"/>
                  <a:pt x="14787" y="17526"/>
                  <a:pt x="14784" y="17587"/>
                </a:cubicBezTo>
                <a:cubicBezTo>
                  <a:pt x="14784" y="17631"/>
                  <a:pt x="14781" y="17644"/>
                  <a:pt x="14808" y="17661"/>
                </a:cubicBezTo>
                <a:cubicBezTo>
                  <a:pt x="14888" y="17645"/>
                  <a:pt x="14887" y="17622"/>
                  <a:pt x="14932" y="17562"/>
                </a:cubicBezTo>
                <a:cubicBezTo>
                  <a:pt x="14940" y="17554"/>
                  <a:pt x="14949" y="17545"/>
                  <a:pt x="14957" y="17537"/>
                </a:cubicBezTo>
                <a:cubicBezTo>
                  <a:pt x="15007" y="17570"/>
                  <a:pt x="14988" y="17666"/>
                  <a:pt x="15007" y="17735"/>
                </a:cubicBezTo>
                <a:cubicBezTo>
                  <a:pt x="15021" y="17785"/>
                  <a:pt x="15032" y="17805"/>
                  <a:pt x="15032" y="17859"/>
                </a:cubicBezTo>
              </a:path>
              <a:path w="4540" h="1192">
                <a:moveTo>
                  <a:pt x="15280" y="17611"/>
                </a:moveTo>
                <a:cubicBezTo>
                  <a:pt x="15280" y="17557"/>
                  <a:pt x="15268" y="17503"/>
                  <a:pt x="15304" y="17462"/>
                </a:cubicBezTo>
                <a:cubicBezTo>
                  <a:pt x="15348" y="17413"/>
                  <a:pt x="15422" y="17432"/>
                  <a:pt x="15453" y="17487"/>
                </a:cubicBezTo>
                <a:cubicBezTo>
                  <a:pt x="15495" y="17562"/>
                  <a:pt x="15494" y="17687"/>
                  <a:pt x="15453" y="17760"/>
                </a:cubicBezTo>
                <a:cubicBezTo>
                  <a:pt x="15419" y="17821"/>
                  <a:pt x="15339" y="17764"/>
                  <a:pt x="15304" y="17735"/>
                </a:cubicBezTo>
                <a:cubicBezTo>
                  <a:pt x="15288" y="17719"/>
                  <a:pt x="15271" y="17702"/>
                  <a:pt x="15255" y="17686"/>
                </a:cubicBezTo>
              </a:path>
              <a:path w="4540" h="1192">
                <a:moveTo>
                  <a:pt x="15627" y="17388"/>
                </a:moveTo>
                <a:cubicBezTo>
                  <a:pt x="15693" y="17397"/>
                  <a:pt x="15701" y="17395"/>
                  <a:pt x="15701" y="17462"/>
                </a:cubicBezTo>
                <a:cubicBezTo>
                  <a:pt x="15701" y="17543"/>
                  <a:pt x="15665" y="17611"/>
                  <a:pt x="15652" y="17686"/>
                </a:cubicBezTo>
                <a:cubicBezTo>
                  <a:pt x="15643" y="17738"/>
                  <a:pt x="15676" y="17781"/>
                  <a:pt x="15726" y="17785"/>
                </a:cubicBezTo>
                <a:cubicBezTo>
                  <a:pt x="15824" y="17792"/>
                  <a:pt x="15926" y="17785"/>
                  <a:pt x="16024" y="17785"/>
                </a:cubicBezTo>
              </a:path>
              <a:path w="4540" h="1192">
                <a:moveTo>
                  <a:pt x="15925" y="17661"/>
                </a:moveTo>
                <a:cubicBezTo>
                  <a:pt x="15823" y="17632"/>
                  <a:pt x="15850" y="17687"/>
                  <a:pt x="15850" y="17785"/>
                </a:cubicBezTo>
                <a:cubicBezTo>
                  <a:pt x="15850" y="17843"/>
                  <a:pt x="15847" y="17863"/>
                  <a:pt x="15875" y="17909"/>
                </a:cubicBezTo>
              </a:path>
              <a:path w="4540" h="1192">
                <a:moveTo>
                  <a:pt x="16297" y="17537"/>
                </a:moveTo>
                <a:cubicBezTo>
                  <a:pt x="16364" y="17526"/>
                  <a:pt x="16346" y="17528"/>
                  <a:pt x="16346" y="17462"/>
                </a:cubicBezTo>
                <a:cubicBezTo>
                  <a:pt x="16296" y="17472"/>
                  <a:pt x="16220" y="17508"/>
                  <a:pt x="16197" y="17562"/>
                </a:cubicBezTo>
                <a:cubicBezTo>
                  <a:pt x="16184" y="17594"/>
                  <a:pt x="16197" y="17742"/>
                  <a:pt x="16272" y="17686"/>
                </a:cubicBezTo>
                <a:cubicBezTo>
                  <a:pt x="16294" y="17642"/>
                  <a:pt x="16297" y="17631"/>
                  <a:pt x="16321" y="17611"/>
                </a:cubicBezTo>
                <a:cubicBezTo>
                  <a:pt x="16390" y="17628"/>
                  <a:pt x="16398" y="17694"/>
                  <a:pt x="16421" y="17760"/>
                </a:cubicBezTo>
                <a:cubicBezTo>
                  <a:pt x="16429" y="17785"/>
                  <a:pt x="16438" y="17810"/>
                  <a:pt x="16446" y="17835"/>
                </a:cubicBezTo>
              </a:path>
              <a:path w="4540" h="1192">
                <a:moveTo>
                  <a:pt x="16619" y="18058"/>
                </a:moveTo>
                <a:cubicBezTo>
                  <a:pt x="16385" y="18058"/>
                  <a:pt x="16156" y="18047"/>
                  <a:pt x="15925" y="18033"/>
                </a:cubicBezTo>
                <a:cubicBezTo>
                  <a:pt x="15725" y="18021"/>
                  <a:pt x="15530" y="18008"/>
                  <a:pt x="15329" y="18008"/>
                </a:cubicBezTo>
                <a:cubicBezTo>
                  <a:pt x="15127" y="18008"/>
                  <a:pt x="14932" y="17999"/>
                  <a:pt x="14734" y="17983"/>
                </a:cubicBezTo>
                <a:cubicBezTo>
                  <a:pt x="14555" y="17968"/>
                  <a:pt x="14368" y="17983"/>
                  <a:pt x="14188" y="17983"/>
                </a:cubicBezTo>
              </a:path>
              <a:path w="4540" h="1192">
                <a:moveTo>
                  <a:pt x="14064" y="18306"/>
                </a:moveTo>
                <a:cubicBezTo>
                  <a:pt x="14064" y="18351"/>
                  <a:pt x="14062" y="18376"/>
                  <a:pt x="14114" y="18380"/>
                </a:cubicBezTo>
                <a:cubicBezTo>
                  <a:pt x="14206" y="18387"/>
                  <a:pt x="14281" y="18290"/>
                  <a:pt x="14337" y="18231"/>
                </a:cubicBezTo>
                <a:cubicBezTo>
                  <a:pt x="14385" y="18181"/>
                  <a:pt x="14403" y="18166"/>
                  <a:pt x="14436" y="18107"/>
                </a:cubicBezTo>
                <a:cubicBezTo>
                  <a:pt x="14385" y="18120"/>
                  <a:pt x="14358" y="18155"/>
                  <a:pt x="14337" y="18207"/>
                </a:cubicBezTo>
                <a:cubicBezTo>
                  <a:pt x="14313" y="18265"/>
                  <a:pt x="14286" y="18347"/>
                  <a:pt x="14362" y="18380"/>
                </a:cubicBezTo>
                <a:cubicBezTo>
                  <a:pt x="14389" y="18392"/>
                  <a:pt x="14478" y="18316"/>
                  <a:pt x="14511" y="18306"/>
                </a:cubicBezTo>
                <a:cubicBezTo>
                  <a:pt x="14547" y="18295"/>
                  <a:pt x="14582" y="18320"/>
                  <a:pt x="14610" y="18331"/>
                </a:cubicBezTo>
                <a:cubicBezTo>
                  <a:pt x="14662" y="18353"/>
                  <a:pt x="14681" y="18359"/>
                  <a:pt x="14709" y="18380"/>
                </a:cubicBezTo>
                <a:cubicBezTo>
                  <a:pt x="14743" y="18405"/>
                  <a:pt x="14745" y="18420"/>
                  <a:pt x="14784" y="18430"/>
                </a:cubicBezTo>
              </a:path>
              <a:path w="4540" h="1192">
                <a:moveTo>
                  <a:pt x="15032" y="18256"/>
                </a:moveTo>
                <a:cubicBezTo>
                  <a:pt x="15054" y="18223"/>
                  <a:pt x="15089" y="18176"/>
                  <a:pt x="15131" y="18157"/>
                </a:cubicBezTo>
                <a:cubicBezTo>
                  <a:pt x="15161" y="18144"/>
                  <a:pt x="15217" y="18113"/>
                  <a:pt x="15255" y="18132"/>
                </a:cubicBezTo>
                <a:cubicBezTo>
                  <a:pt x="15312" y="18160"/>
                  <a:pt x="15259" y="18195"/>
                  <a:pt x="15255" y="18231"/>
                </a:cubicBezTo>
                <a:cubicBezTo>
                  <a:pt x="15249" y="18287"/>
                  <a:pt x="15283" y="18304"/>
                  <a:pt x="15329" y="18331"/>
                </a:cubicBezTo>
                <a:cubicBezTo>
                  <a:pt x="15373" y="18352"/>
                  <a:pt x="15385" y="18355"/>
                  <a:pt x="15404" y="18380"/>
                </a:cubicBezTo>
                <a:cubicBezTo>
                  <a:pt x="15358" y="18407"/>
                  <a:pt x="15338" y="18405"/>
                  <a:pt x="15280" y="184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96080" y="5160960"/>
            <a:ext cx="1490760" cy="1241280"/>
          </a:xfrm>
          <a:custGeom>
            <a:avLst/>
            <a:gdLst/>
            <a:ahLst/>
            <a:rect l="l" t="t" r="r" b="b"/>
            <a:pathLst>
              <a:path w="4144" h="3449">
                <a:moveTo>
                  <a:pt x="19298" y="14337"/>
                </a:moveTo>
                <a:cubicBezTo>
                  <a:pt x="19292" y="14421"/>
                  <a:pt x="19289" y="14503"/>
                  <a:pt x="19273" y="14585"/>
                </a:cubicBezTo>
                <a:cubicBezTo>
                  <a:pt x="19246" y="14729"/>
                  <a:pt x="19219" y="14863"/>
                  <a:pt x="19199" y="15007"/>
                </a:cubicBezTo>
                <a:cubicBezTo>
                  <a:pt x="19176" y="15173"/>
                  <a:pt x="19150" y="15338"/>
                  <a:pt x="19124" y="15503"/>
                </a:cubicBezTo>
                <a:cubicBezTo>
                  <a:pt x="19094" y="15693"/>
                  <a:pt x="19062" y="15881"/>
                  <a:pt x="19050" y="16073"/>
                </a:cubicBezTo>
                <a:cubicBezTo>
                  <a:pt x="19039" y="16255"/>
                  <a:pt x="19049" y="16438"/>
                  <a:pt x="19025" y="16619"/>
                </a:cubicBezTo>
                <a:cubicBezTo>
                  <a:pt x="19001" y="16803"/>
                  <a:pt x="18941" y="16981"/>
                  <a:pt x="18926" y="17165"/>
                </a:cubicBezTo>
                <a:cubicBezTo>
                  <a:pt x="18915" y="17298"/>
                  <a:pt x="18888" y="17432"/>
                  <a:pt x="18876" y="17562"/>
                </a:cubicBezTo>
                <a:cubicBezTo>
                  <a:pt x="18869" y="17634"/>
                  <a:pt x="18876" y="17712"/>
                  <a:pt x="18876" y="17785"/>
                </a:cubicBezTo>
              </a:path>
              <a:path w="4144" h="3449">
                <a:moveTo>
                  <a:pt x="19670" y="14759"/>
                </a:moveTo>
                <a:cubicBezTo>
                  <a:pt x="19713" y="14816"/>
                  <a:pt x="19676" y="14790"/>
                  <a:pt x="19670" y="14858"/>
                </a:cubicBezTo>
                <a:cubicBezTo>
                  <a:pt x="19666" y="14902"/>
                  <a:pt x="19655" y="14918"/>
                  <a:pt x="19645" y="14957"/>
                </a:cubicBezTo>
                <a:cubicBezTo>
                  <a:pt x="19676" y="14916"/>
                  <a:pt x="19700" y="14860"/>
                  <a:pt x="19720" y="14808"/>
                </a:cubicBezTo>
                <a:cubicBezTo>
                  <a:pt x="19753" y="14725"/>
                  <a:pt x="19759" y="14668"/>
                  <a:pt x="19844" y="14635"/>
                </a:cubicBezTo>
                <a:cubicBezTo>
                  <a:pt x="19902" y="14707"/>
                  <a:pt x="19894" y="14751"/>
                  <a:pt x="19918" y="14833"/>
                </a:cubicBezTo>
                <a:cubicBezTo>
                  <a:pt x="19938" y="14902"/>
                  <a:pt x="19968" y="14932"/>
                  <a:pt x="19968" y="15007"/>
                </a:cubicBezTo>
              </a:path>
              <a:path w="4144" h="3449">
                <a:moveTo>
                  <a:pt x="20241" y="14833"/>
                </a:moveTo>
                <a:cubicBezTo>
                  <a:pt x="20241" y="14841"/>
                  <a:pt x="20241" y="14850"/>
                  <a:pt x="20241" y="14858"/>
                </a:cubicBezTo>
                <a:cubicBezTo>
                  <a:pt x="20331" y="14858"/>
                  <a:pt x="20404" y="14863"/>
                  <a:pt x="20489" y="14883"/>
                </a:cubicBezTo>
                <a:cubicBezTo>
                  <a:pt x="20497" y="14883"/>
                  <a:pt x="20505" y="14883"/>
                  <a:pt x="20513" y="14883"/>
                </a:cubicBezTo>
              </a:path>
              <a:path w="4144" h="3449">
                <a:moveTo>
                  <a:pt x="20836" y="14709"/>
                </a:moveTo>
                <a:cubicBezTo>
                  <a:pt x="20844" y="14701"/>
                  <a:pt x="20853" y="14692"/>
                  <a:pt x="20861" y="14684"/>
                </a:cubicBezTo>
                <a:cubicBezTo>
                  <a:pt x="20861" y="14833"/>
                  <a:pt x="20861" y="14982"/>
                  <a:pt x="20861" y="15131"/>
                </a:cubicBezTo>
              </a:path>
              <a:path w="4144" h="3449">
                <a:moveTo>
                  <a:pt x="21803" y="14908"/>
                </a:moveTo>
                <a:cubicBezTo>
                  <a:pt x="21811" y="14908"/>
                  <a:pt x="21820" y="14908"/>
                  <a:pt x="21828" y="14908"/>
                </a:cubicBezTo>
                <a:cubicBezTo>
                  <a:pt x="21762" y="14908"/>
                  <a:pt x="21696" y="14908"/>
                  <a:pt x="21630" y="14908"/>
                </a:cubicBezTo>
              </a:path>
              <a:path w="4144" h="3449">
                <a:moveTo>
                  <a:pt x="21779" y="15007"/>
                </a:moveTo>
                <a:cubicBezTo>
                  <a:pt x="21867" y="15046"/>
                  <a:pt x="21853" y="15025"/>
                  <a:pt x="21853" y="15106"/>
                </a:cubicBezTo>
                <a:cubicBezTo>
                  <a:pt x="21786" y="15106"/>
                  <a:pt x="21734" y="15114"/>
                  <a:pt x="21679" y="15081"/>
                </a:cubicBezTo>
              </a:path>
              <a:path w="4144" h="3449">
                <a:moveTo>
                  <a:pt x="22275" y="14858"/>
                </a:moveTo>
                <a:cubicBezTo>
                  <a:pt x="22300" y="14841"/>
                  <a:pt x="22324" y="14825"/>
                  <a:pt x="22349" y="14808"/>
                </a:cubicBezTo>
                <a:cubicBezTo>
                  <a:pt x="22349" y="14888"/>
                  <a:pt x="22311" y="14929"/>
                  <a:pt x="22299" y="15007"/>
                </a:cubicBezTo>
                <a:cubicBezTo>
                  <a:pt x="22291" y="15060"/>
                  <a:pt x="22299" y="15126"/>
                  <a:pt x="22299" y="15180"/>
                </a:cubicBezTo>
              </a:path>
              <a:path w="4144" h="3449">
                <a:moveTo>
                  <a:pt x="22671" y="15056"/>
                </a:moveTo>
                <a:cubicBezTo>
                  <a:pt x="22628" y="14998"/>
                  <a:pt x="22662" y="15009"/>
                  <a:pt x="22696" y="14957"/>
                </a:cubicBezTo>
                <a:cubicBezTo>
                  <a:pt x="22723" y="14915"/>
                  <a:pt x="22831" y="14826"/>
                  <a:pt x="22895" y="14858"/>
                </a:cubicBezTo>
                <a:cubicBezTo>
                  <a:pt x="22991" y="14907"/>
                  <a:pt x="23033" y="15031"/>
                  <a:pt x="23019" y="15131"/>
                </a:cubicBezTo>
                <a:cubicBezTo>
                  <a:pt x="23004" y="15234"/>
                  <a:pt x="22953" y="15255"/>
                  <a:pt x="22870" y="15230"/>
                </a:cubicBezTo>
                <a:cubicBezTo>
                  <a:pt x="22792" y="15204"/>
                  <a:pt x="22765" y="15193"/>
                  <a:pt x="22721" y="15156"/>
                </a:cubicBezTo>
              </a:path>
              <a:path w="4144" h="3449">
                <a:moveTo>
                  <a:pt x="20811" y="15453"/>
                </a:moveTo>
                <a:cubicBezTo>
                  <a:pt x="20797" y="15458"/>
                  <a:pt x="20745" y="15500"/>
                  <a:pt x="20737" y="15528"/>
                </a:cubicBezTo>
                <a:cubicBezTo>
                  <a:pt x="20720" y="15586"/>
                  <a:pt x="20720" y="15594"/>
                  <a:pt x="20687" y="15652"/>
                </a:cubicBezTo>
                <a:cubicBezTo>
                  <a:pt x="20733" y="15594"/>
                  <a:pt x="20756" y="15549"/>
                  <a:pt x="20811" y="15503"/>
                </a:cubicBezTo>
                <a:cubicBezTo>
                  <a:pt x="20857" y="15464"/>
                  <a:pt x="20917" y="15457"/>
                  <a:pt x="20935" y="15528"/>
                </a:cubicBezTo>
                <a:cubicBezTo>
                  <a:pt x="20948" y="15580"/>
                  <a:pt x="20935" y="15647"/>
                  <a:pt x="20935" y="15701"/>
                </a:cubicBezTo>
              </a:path>
              <a:path w="4144" h="3449">
                <a:moveTo>
                  <a:pt x="21530" y="15627"/>
                </a:moveTo>
                <a:cubicBezTo>
                  <a:pt x="21456" y="15627"/>
                  <a:pt x="21381" y="15627"/>
                  <a:pt x="21307" y="15627"/>
                </a:cubicBezTo>
              </a:path>
              <a:path w="4144" h="3449">
                <a:moveTo>
                  <a:pt x="21431" y="15652"/>
                </a:moveTo>
                <a:cubicBezTo>
                  <a:pt x="21489" y="15671"/>
                  <a:pt x="21514" y="15661"/>
                  <a:pt x="21506" y="15701"/>
                </a:cubicBezTo>
                <a:cubicBezTo>
                  <a:pt x="21461" y="15728"/>
                  <a:pt x="21424" y="15719"/>
                  <a:pt x="21382" y="15751"/>
                </a:cubicBezTo>
              </a:path>
              <a:path w="4144" h="3449">
                <a:moveTo>
                  <a:pt x="21903" y="15553"/>
                </a:moveTo>
                <a:cubicBezTo>
                  <a:pt x="21919" y="15553"/>
                  <a:pt x="21936" y="15553"/>
                  <a:pt x="21952" y="15553"/>
                </a:cubicBezTo>
                <a:cubicBezTo>
                  <a:pt x="21952" y="15606"/>
                  <a:pt x="21936" y="15627"/>
                  <a:pt x="21927" y="15677"/>
                </a:cubicBezTo>
                <a:cubicBezTo>
                  <a:pt x="21918" y="15728"/>
                  <a:pt x="21909" y="15773"/>
                  <a:pt x="21903" y="15825"/>
                </a:cubicBezTo>
              </a:path>
              <a:path w="4144" h="3449">
                <a:moveTo>
                  <a:pt x="22250" y="15577"/>
                </a:moveTo>
                <a:cubicBezTo>
                  <a:pt x="22275" y="15552"/>
                  <a:pt x="22299" y="15528"/>
                  <a:pt x="22324" y="15503"/>
                </a:cubicBezTo>
                <a:cubicBezTo>
                  <a:pt x="22324" y="15573"/>
                  <a:pt x="22297" y="15634"/>
                  <a:pt x="22275" y="15701"/>
                </a:cubicBezTo>
                <a:cubicBezTo>
                  <a:pt x="22248" y="15782"/>
                  <a:pt x="22240" y="15814"/>
                  <a:pt x="22250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5240" y="5062680"/>
            <a:ext cx="258840" cy="312480"/>
          </a:xfrm>
          <a:custGeom>
            <a:avLst/>
            <a:gdLst/>
            <a:ahLst/>
            <a:rect l="l" t="t" r="r" b="b"/>
            <a:pathLst>
              <a:path w="720" h="869">
                <a:moveTo>
                  <a:pt x="2332" y="14362"/>
                </a:moveTo>
                <a:cubicBezTo>
                  <a:pt x="2332" y="14321"/>
                  <a:pt x="2332" y="14395"/>
                  <a:pt x="2332" y="14436"/>
                </a:cubicBezTo>
                <a:cubicBezTo>
                  <a:pt x="2332" y="14527"/>
                  <a:pt x="2338" y="14599"/>
                  <a:pt x="2356" y="14684"/>
                </a:cubicBezTo>
                <a:cubicBezTo>
                  <a:pt x="2356" y="14709"/>
                  <a:pt x="2356" y="14717"/>
                  <a:pt x="2356" y="14734"/>
                </a:cubicBezTo>
              </a:path>
              <a:path w="720" h="869">
                <a:moveTo>
                  <a:pt x="2505" y="14362"/>
                </a:moveTo>
                <a:cubicBezTo>
                  <a:pt x="2525" y="14321"/>
                  <a:pt x="2523" y="14305"/>
                  <a:pt x="2555" y="14312"/>
                </a:cubicBezTo>
                <a:cubicBezTo>
                  <a:pt x="2555" y="14417"/>
                  <a:pt x="2553" y="14519"/>
                  <a:pt x="2580" y="14610"/>
                </a:cubicBezTo>
                <a:cubicBezTo>
                  <a:pt x="2580" y="14618"/>
                  <a:pt x="2580" y="14627"/>
                  <a:pt x="2580" y="14635"/>
                </a:cubicBezTo>
              </a:path>
              <a:path w="720" h="869">
                <a:moveTo>
                  <a:pt x="2580" y="14238"/>
                </a:moveTo>
                <a:cubicBezTo>
                  <a:pt x="2580" y="14221"/>
                  <a:pt x="2580" y="14205"/>
                  <a:pt x="2580" y="14188"/>
                </a:cubicBezTo>
              </a:path>
              <a:path w="720" h="869">
                <a:moveTo>
                  <a:pt x="2232" y="14089"/>
                </a:moveTo>
                <a:cubicBezTo>
                  <a:pt x="2225" y="14118"/>
                  <a:pt x="2215" y="14134"/>
                  <a:pt x="2208" y="14163"/>
                </a:cubicBezTo>
              </a:path>
              <a:path w="720" h="869">
                <a:moveTo>
                  <a:pt x="2604" y="14064"/>
                </a:moveTo>
                <a:cubicBezTo>
                  <a:pt x="2660" y="14064"/>
                  <a:pt x="2683" y="14063"/>
                  <a:pt x="2729" y="14089"/>
                </a:cubicBezTo>
                <a:cubicBezTo>
                  <a:pt x="2796" y="14128"/>
                  <a:pt x="2866" y="14216"/>
                  <a:pt x="2902" y="14288"/>
                </a:cubicBezTo>
                <a:cubicBezTo>
                  <a:pt x="2943" y="14369"/>
                  <a:pt x="2944" y="14520"/>
                  <a:pt x="2927" y="14610"/>
                </a:cubicBezTo>
                <a:cubicBezTo>
                  <a:pt x="2906" y="14722"/>
                  <a:pt x="2855" y="14781"/>
                  <a:pt x="2778" y="14858"/>
                </a:cubicBezTo>
                <a:cubicBezTo>
                  <a:pt x="2737" y="14900"/>
                  <a:pt x="2729" y="14908"/>
                  <a:pt x="2704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7120" y="5197320"/>
            <a:ext cx="393840" cy="187560"/>
          </a:xfrm>
          <a:custGeom>
            <a:avLst/>
            <a:gdLst/>
            <a:ahLst/>
            <a:rect l="l" t="t" r="r" b="b"/>
            <a:pathLst>
              <a:path w="1092" h="522">
                <a:moveTo>
                  <a:pt x="4291" y="14511"/>
                </a:moveTo>
                <a:cubicBezTo>
                  <a:pt x="4291" y="14457"/>
                  <a:pt x="4279" y="14474"/>
                  <a:pt x="4266" y="14436"/>
                </a:cubicBezTo>
                <a:cubicBezTo>
                  <a:pt x="4253" y="14488"/>
                  <a:pt x="4242" y="14523"/>
                  <a:pt x="4242" y="14585"/>
                </a:cubicBezTo>
                <a:cubicBezTo>
                  <a:pt x="4242" y="14684"/>
                  <a:pt x="4261" y="14792"/>
                  <a:pt x="4341" y="14858"/>
                </a:cubicBezTo>
                <a:cubicBezTo>
                  <a:pt x="4411" y="14916"/>
                  <a:pt x="4470" y="14870"/>
                  <a:pt x="4514" y="14808"/>
                </a:cubicBezTo>
                <a:cubicBezTo>
                  <a:pt x="4563" y="14739"/>
                  <a:pt x="4564" y="14665"/>
                  <a:pt x="4564" y="14585"/>
                </a:cubicBezTo>
                <a:cubicBezTo>
                  <a:pt x="4564" y="14569"/>
                  <a:pt x="4564" y="14552"/>
                  <a:pt x="4564" y="14536"/>
                </a:cubicBezTo>
                <a:cubicBezTo>
                  <a:pt x="4564" y="14485"/>
                  <a:pt x="4578" y="14655"/>
                  <a:pt x="4589" y="14684"/>
                </a:cubicBezTo>
                <a:cubicBezTo>
                  <a:pt x="4621" y="14768"/>
                  <a:pt x="4677" y="14803"/>
                  <a:pt x="4762" y="14808"/>
                </a:cubicBezTo>
                <a:cubicBezTo>
                  <a:pt x="4779" y="14808"/>
                  <a:pt x="4795" y="14808"/>
                  <a:pt x="4812" y="14808"/>
                </a:cubicBezTo>
              </a:path>
              <a:path w="1092" h="522">
                <a:moveTo>
                  <a:pt x="5060" y="14759"/>
                </a:moveTo>
                <a:cubicBezTo>
                  <a:pt x="5060" y="14825"/>
                  <a:pt x="5060" y="14891"/>
                  <a:pt x="5060" y="14957"/>
                </a:cubicBezTo>
                <a:cubicBezTo>
                  <a:pt x="5110" y="14933"/>
                  <a:pt x="5109" y="14888"/>
                  <a:pt x="5135" y="14833"/>
                </a:cubicBezTo>
                <a:cubicBezTo>
                  <a:pt x="5166" y="14766"/>
                  <a:pt x="5156" y="14715"/>
                  <a:pt x="5234" y="14684"/>
                </a:cubicBezTo>
                <a:cubicBezTo>
                  <a:pt x="5242" y="14684"/>
                  <a:pt x="5251" y="14684"/>
                  <a:pt x="5259" y="14684"/>
                </a:cubicBezTo>
                <a:cubicBezTo>
                  <a:pt x="5268" y="14732"/>
                  <a:pt x="5290" y="14788"/>
                  <a:pt x="5308" y="14833"/>
                </a:cubicBezTo>
                <a:cubicBezTo>
                  <a:pt x="5316" y="14850"/>
                  <a:pt x="5325" y="14866"/>
                  <a:pt x="5333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5232240"/>
            <a:ext cx="73080" cy="4608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6028" y="14536"/>
                </a:moveTo>
                <a:cubicBezTo>
                  <a:pt x="6083" y="14536"/>
                  <a:pt x="6128" y="14536"/>
                  <a:pt x="6052" y="14536"/>
                </a:cubicBezTo>
                <a:cubicBezTo>
                  <a:pt x="6003" y="14536"/>
                  <a:pt x="5993" y="14547"/>
                  <a:pt x="5953" y="14560"/>
                </a:cubicBezTo>
                <a:cubicBezTo>
                  <a:pt x="5945" y="14560"/>
                  <a:pt x="5936" y="14560"/>
                  <a:pt x="5928" y="14560"/>
                </a:cubicBezTo>
              </a:path>
              <a:path w="200" h="125">
                <a:moveTo>
                  <a:pt x="6127" y="14635"/>
                </a:moveTo>
                <a:cubicBezTo>
                  <a:pt x="6127" y="14678"/>
                  <a:pt x="6065" y="14660"/>
                  <a:pt x="6028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36920" y="5224320"/>
            <a:ext cx="222120" cy="187560"/>
          </a:xfrm>
          <a:custGeom>
            <a:avLst/>
            <a:gdLst/>
            <a:ahLst/>
            <a:rect l="l" t="t" r="r" b="b"/>
            <a:pathLst>
              <a:path w="621" h="522">
                <a:moveTo>
                  <a:pt x="7069" y="14585"/>
                </a:moveTo>
                <a:cubicBezTo>
                  <a:pt x="7069" y="14552"/>
                  <a:pt x="7059" y="14482"/>
                  <a:pt x="7045" y="14511"/>
                </a:cubicBezTo>
                <a:cubicBezTo>
                  <a:pt x="7013" y="14578"/>
                  <a:pt x="7062" y="14696"/>
                  <a:pt x="7069" y="14759"/>
                </a:cubicBezTo>
                <a:cubicBezTo>
                  <a:pt x="7078" y="14844"/>
                  <a:pt x="7088" y="14925"/>
                  <a:pt x="7094" y="15007"/>
                </a:cubicBezTo>
                <a:cubicBezTo>
                  <a:pt x="7094" y="15015"/>
                  <a:pt x="7094" y="15024"/>
                  <a:pt x="7094" y="15032"/>
                </a:cubicBezTo>
              </a:path>
              <a:path w="621" h="522">
                <a:moveTo>
                  <a:pt x="7417" y="14734"/>
                </a:moveTo>
                <a:cubicBezTo>
                  <a:pt x="7388" y="14696"/>
                  <a:pt x="7392" y="14683"/>
                  <a:pt x="7392" y="14635"/>
                </a:cubicBezTo>
                <a:cubicBezTo>
                  <a:pt x="7392" y="14568"/>
                  <a:pt x="7420" y="14541"/>
                  <a:pt x="7491" y="14536"/>
                </a:cubicBezTo>
                <a:cubicBezTo>
                  <a:pt x="7607" y="14529"/>
                  <a:pt x="7606" y="14651"/>
                  <a:pt x="7640" y="14734"/>
                </a:cubicBezTo>
                <a:cubicBezTo>
                  <a:pt x="7668" y="14802"/>
                  <a:pt x="7688" y="14862"/>
                  <a:pt x="7615" y="14908"/>
                </a:cubicBezTo>
                <a:cubicBezTo>
                  <a:pt x="7560" y="14943"/>
                  <a:pt x="7472" y="14934"/>
                  <a:pt x="7417" y="14908"/>
                </a:cubicBezTo>
                <a:cubicBezTo>
                  <a:pt x="7363" y="14883"/>
                  <a:pt x="7367" y="14833"/>
                  <a:pt x="7367" y="14784"/>
                </a:cubicBezTo>
                <a:cubicBezTo>
                  <a:pt x="7367" y="14767"/>
                  <a:pt x="7367" y="14751"/>
                  <a:pt x="7367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4960" y="5214960"/>
            <a:ext cx="295200" cy="187200"/>
          </a:xfrm>
          <a:custGeom>
            <a:avLst/>
            <a:gdLst/>
            <a:ahLst/>
            <a:rect l="l" t="t" r="r" b="b"/>
            <a:pathLst>
              <a:path w="820" h="522">
                <a:moveTo>
                  <a:pt x="8062" y="14560"/>
                </a:moveTo>
                <a:cubicBezTo>
                  <a:pt x="8086" y="14536"/>
                  <a:pt x="8095" y="14527"/>
                  <a:pt x="8111" y="14511"/>
                </a:cubicBezTo>
                <a:cubicBezTo>
                  <a:pt x="8042" y="14528"/>
                  <a:pt x="8035" y="14595"/>
                  <a:pt x="8012" y="14660"/>
                </a:cubicBezTo>
                <a:cubicBezTo>
                  <a:pt x="7986" y="14735"/>
                  <a:pt x="7966" y="14852"/>
                  <a:pt x="7987" y="14932"/>
                </a:cubicBezTo>
                <a:cubicBezTo>
                  <a:pt x="8005" y="14999"/>
                  <a:pt x="8069" y="15033"/>
                  <a:pt x="8136" y="15007"/>
                </a:cubicBezTo>
                <a:cubicBezTo>
                  <a:pt x="8187" y="14987"/>
                  <a:pt x="8204" y="14903"/>
                  <a:pt x="8186" y="14858"/>
                </a:cubicBezTo>
                <a:cubicBezTo>
                  <a:pt x="8166" y="14807"/>
                  <a:pt x="8106" y="14788"/>
                  <a:pt x="8062" y="14784"/>
                </a:cubicBezTo>
                <a:cubicBezTo>
                  <a:pt x="8034" y="14784"/>
                  <a:pt x="8023" y="14786"/>
                  <a:pt x="8012" y="14808"/>
                </a:cubicBezTo>
              </a:path>
              <a:path w="820" h="522">
                <a:moveTo>
                  <a:pt x="8483" y="14610"/>
                </a:moveTo>
                <a:cubicBezTo>
                  <a:pt x="8475" y="14618"/>
                  <a:pt x="8466" y="14627"/>
                  <a:pt x="8458" y="14635"/>
                </a:cubicBezTo>
                <a:cubicBezTo>
                  <a:pt x="8458" y="14589"/>
                  <a:pt x="8452" y="14571"/>
                  <a:pt x="8483" y="14536"/>
                </a:cubicBezTo>
                <a:cubicBezTo>
                  <a:pt x="8515" y="14501"/>
                  <a:pt x="8581" y="14465"/>
                  <a:pt x="8632" y="14486"/>
                </a:cubicBezTo>
                <a:cubicBezTo>
                  <a:pt x="8683" y="14507"/>
                  <a:pt x="8703" y="14565"/>
                  <a:pt x="8706" y="14610"/>
                </a:cubicBezTo>
                <a:cubicBezTo>
                  <a:pt x="8710" y="14675"/>
                  <a:pt x="8670" y="14734"/>
                  <a:pt x="8632" y="14784"/>
                </a:cubicBezTo>
                <a:cubicBezTo>
                  <a:pt x="8607" y="14817"/>
                  <a:pt x="8592" y="14843"/>
                  <a:pt x="8582" y="14883"/>
                </a:cubicBezTo>
                <a:cubicBezTo>
                  <a:pt x="8658" y="14883"/>
                  <a:pt x="8717" y="14879"/>
                  <a:pt x="8781" y="14858"/>
                </a:cubicBezTo>
                <a:cubicBezTo>
                  <a:pt x="8789" y="14858"/>
                  <a:pt x="8798" y="14858"/>
                  <a:pt x="8806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86080" y="5205240"/>
            <a:ext cx="571680" cy="179640"/>
          </a:xfrm>
          <a:custGeom>
            <a:avLst/>
            <a:gdLst/>
            <a:ahLst/>
            <a:rect l="l" t="t" r="r" b="b"/>
            <a:pathLst>
              <a:path w="1589" h="497">
                <a:moveTo>
                  <a:pt x="9327" y="14461"/>
                </a:moveTo>
                <a:cubicBezTo>
                  <a:pt x="9315" y="14497"/>
                  <a:pt x="9266" y="14501"/>
                  <a:pt x="9227" y="14536"/>
                </a:cubicBezTo>
                <a:cubicBezTo>
                  <a:pt x="9190" y="14569"/>
                  <a:pt x="9133" y="14612"/>
                  <a:pt x="9128" y="14660"/>
                </a:cubicBezTo>
                <a:cubicBezTo>
                  <a:pt x="9123" y="14702"/>
                  <a:pt x="9138" y="14721"/>
                  <a:pt x="9178" y="14734"/>
                </a:cubicBezTo>
                <a:cubicBezTo>
                  <a:pt x="9224" y="14749"/>
                  <a:pt x="9266" y="14753"/>
                  <a:pt x="9302" y="14784"/>
                </a:cubicBezTo>
                <a:cubicBezTo>
                  <a:pt x="9330" y="14808"/>
                  <a:pt x="9347" y="14860"/>
                  <a:pt x="9302" y="14883"/>
                </a:cubicBezTo>
                <a:cubicBezTo>
                  <a:pt x="9287" y="14890"/>
                  <a:pt x="9244" y="14883"/>
                  <a:pt x="9227" y="14883"/>
                </a:cubicBezTo>
                <a:cubicBezTo>
                  <a:pt x="9227" y="14829"/>
                  <a:pt x="9228" y="14810"/>
                  <a:pt x="9252" y="14759"/>
                </a:cubicBezTo>
                <a:cubicBezTo>
                  <a:pt x="9280" y="14699"/>
                  <a:pt x="9307" y="14634"/>
                  <a:pt x="9351" y="14585"/>
                </a:cubicBezTo>
                <a:cubicBezTo>
                  <a:pt x="9376" y="14560"/>
                  <a:pt x="9384" y="14552"/>
                  <a:pt x="9401" y="14536"/>
                </a:cubicBezTo>
              </a:path>
              <a:path w="1589" h="497">
                <a:moveTo>
                  <a:pt x="9897" y="14536"/>
                </a:moveTo>
                <a:cubicBezTo>
                  <a:pt x="9870" y="14516"/>
                  <a:pt x="9837" y="14497"/>
                  <a:pt x="9798" y="14511"/>
                </a:cubicBezTo>
                <a:cubicBezTo>
                  <a:pt x="9742" y="14531"/>
                  <a:pt x="9693" y="14578"/>
                  <a:pt x="9674" y="14635"/>
                </a:cubicBezTo>
                <a:cubicBezTo>
                  <a:pt x="9661" y="14673"/>
                  <a:pt x="9676" y="14708"/>
                  <a:pt x="9699" y="14734"/>
                </a:cubicBezTo>
                <a:cubicBezTo>
                  <a:pt x="9737" y="14777"/>
                  <a:pt x="9778" y="14762"/>
                  <a:pt x="9823" y="14784"/>
                </a:cubicBezTo>
                <a:cubicBezTo>
                  <a:pt x="9835" y="14790"/>
                  <a:pt x="9919" y="14829"/>
                  <a:pt x="9922" y="14833"/>
                </a:cubicBezTo>
                <a:cubicBezTo>
                  <a:pt x="9922" y="14841"/>
                  <a:pt x="9922" y="14850"/>
                  <a:pt x="9922" y="14858"/>
                </a:cubicBezTo>
                <a:cubicBezTo>
                  <a:pt x="9912" y="14887"/>
                  <a:pt x="9888" y="14903"/>
                  <a:pt x="9847" y="14908"/>
                </a:cubicBezTo>
                <a:cubicBezTo>
                  <a:pt x="9825" y="14910"/>
                  <a:pt x="9759" y="14880"/>
                  <a:pt x="9748" y="14858"/>
                </a:cubicBezTo>
                <a:cubicBezTo>
                  <a:pt x="9727" y="14815"/>
                  <a:pt x="9773" y="14784"/>
                  <a:pt x="9798" y="14759"/>
                </a:cubicBezTo>
                <a:cubicBezTo>
                  <a:pt x="9861" y="14695"/>
                  <a:pt x="9900" y="14640"/>
                  <a:pt x="9971" y="14585"/>
                </a:cubicBezTo>
                <a:cubicBezTo>
                  <a:pt x="9994" y="14562"/>
                  <a:pt x="9998" y="14554"/>
                  <a:pt x="10021" y="14560"/>
                </a:cubicBezTo>
              </a:path>
              <a:path w="1589" h="497">
                <a:moveTo>
                  <a:pt x="10319" y="14635"/>
                </a:moveTo>
                <a:cubicBezTo>
                  <a:pt x="10297" y="14628"/>
                  <a:pt x="10274" y="14596"/>
                  <a:pt x="10294" y="14560"/>
                </a:cubicBezTo>
                <a:cubicBezTo>
                  <a:pt x="10325" y="14505"/>
                  <a:pt x="10387" y="14466"/>
                  <a:pt x="10443" y="14461"/>
                </a:cubicBezTo>
                <a:cubicBezTo>
                  <a:pt x="10451" y="14461"/>
                  <a:pt x="10460" y="14461"/>
                  <a:pt x="10468" y="14461"/>
                </a:cubicBezTo>
                <a:cubicBezTo>
                  <a:pt x="10479" y="14555"/>
                  <a:pt x="10503" y="14611"/>
                  <a:pt x="10468" y="14709"/>
                </a:cubicBezTo>
                <a:cubicBezTo>
                  <a:pt x="10441" y="14783"/>
                  <a:pt x="10399" y="14828"/>
                  <a:pt x="10393" y="14908"/>
                </a:cubicBezTo>
                <a:cubicBezTo>
                  <a:pt x="10389" y="14961"/>
                  <a:pt x="10429" y="14957"/>
                  <a:pt x="10468" y="14957"/>
                </a:cubicBezTo>
                <a:cubicBezTo>
                  <a:pt x="10539" y="14957"/>
                  <a:pt x="10577" y="14937"/>
                  <a:pt x="10641" y="14932"/>
                </a:cubicBezTo>
                <a:cubicBezTo>
                  <a:pt x="10666" y="14930"/>
                  <a:pt x="10691" y="14932"/>
                  <a:pt x="10716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6240" y="5303880"/>
            <a:ext cx="125640" cy="7128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11733" y="14759"/>
                </a:moveTo>
                <a:cubicBezTo>
                  <a:pt x="11741" y="14759"/>
                  <a:pt x="11749" y="14759"/>
                  <a:pt x="11757" y="14759"/>
                </a:cubicBezTo>
                <a:cubicBezTo>
                  <a:pt x="11689" y="14759"/>
                  <a:pt x="11453" y="14788"/>
                  <a:pt x="11435" y="14734"/>
                </a:cubicBezTo>
              </a:path>
              <a:path w="348" h="199">
                <a:moveTo>
                  <a:pt x="11757" y="14883"/>
                </a:moveTo>
                <a:cubicBezTo>
                  <a:pt x="11765" y="14891"/>
                  <a:pt x="11774" y="14900"/>
                  <a:pt x="11782" y="14908"/>
                </a:cubicBezTo>
                <a:cubicBezTo>
                  <a:pt x="11730" y="14908"/>
                  <a:pt x="11711" y="14928"/>
                  <a:pt x="11658" y="14932"/>
                </a:cubicBezTo>
                <a:cubicBezTo>
                  <a:pt x="11633" y="14932"/>
                  <a:pt x="11625" y="14932"/>
                  <a:pt x="11609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26000" y="5224320"/>
            <a:ext cx="17280" cy="177840"/>
          </a:xfrm>
          <a:custGeom>
            <a:avLst/>
            <a:gdLst/>
            <a:ahLst/>
            <a:rect l="l" t="t" r="r" b="b"/>
            <a:pathLst>
              <a:path w="50" h="497">
                <a:moveTo>
                  <a:pt x="12898" y="14610"/>
                </a:moveTo>
                <a:cubicBezTo>
                  <a:pt x="12898" y="14577"/>
                  <a:pt x="12898" y="14544"/>
                  <a:pt x="12898" y="14511"/>
                </a:cubicBezTo>
                <a:cubicBezTo>
                  <a:pt x="12898" y="14566"/>
                  <a:pt x="12880" y="14609"/>
                  <a:pt x="12874" y="14660"/>
                </a:cubicBezTo>
                <a:cubicBezTo>
                  <a:pt x="12862" y="14753"/>
                  <a:pt x="12849" y="14837"/>
                  <a:pt x="12849" y="14932"/>
                </a:cubicBezTo>
                <a:cubicBezTo>
                  <a:pt x="12849" y="14965"/>
                  <a:pt x="12849" y="14982"/>
                  <a:pt x="12849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49840" y="5249880"/>
            <a:ext cx="152280" cy="1890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3519" y="14684"/>
                </a:moveTo>
                <a:cubicBezTo>
                  <a:pt x="13564" y="14684"/>
                  <a:pt x="13587" y="14686"/>
                  <a:pt x="13593" y="14635"/>
                </a:cubicBezTo>
                <a:cubicBezTo>
                  <a:pt x="13593" y="14627"/>
                  <a:pt x="13593" y="14618"/>
                  <a:pt x="13593" y="14610"/>
                </a:cubicBezTo>
                <a:cubicBezTo>
                  <a:pt x="13555" y="14581"/>
                  <a:pt x="13515" y="14587"/>
                  <a:pt x="13469" y="14610"/>
                </a:cubicBezTo>
                <a:cubicBezTo>
                  <a:pt x="13409" y="14640"/>
                  <a:pt x="13360" y="14701"/>
                  <a:pt x="13295" y="14734"/>
                </a:cubicBezTo>
                <a:cubicBezTo>
                  <a:pt x="13240" y="14762"/>
                  <a:pt x="13210" y="14803"/>
                  <a:pt x="13196" y="14858"/>
                </a:cubicBezTo>
                <a:cubicBezTo>
                  <a:pt x="13255" y="14883"/>
                  <a:pt x="13312" y="14889"/>
                  <a:pt x="13370" y="14908"/>
                </a:cubicBezTo>
                <a:cubicBezTo>
                  <a:pt x="13444" y="14932"/>
                  <a:pt x="13478" y="14956"/>
                  <a:pt x="13519" y="15007"/>
                </a:cubicBezTo>
                <a:cubicBezTo>
                  <a:pt x="13541" y="15029"/>
                  <a:pt x="13549" y="15034"/>
                  <a:pt x="13543" y="15056"/>
                </a:cubicBezTo>
                <a:cubicBezTo>
                  <a:pt x="13510" y="15082"/>
                  <a:pt x="13468" y="15118"/>
                  <a:pt x="13419" y="15106"/>
                </a:cubicBezTo>
                <a:cubicBezTo>
                  <a:pt x="13378" y="15096"/>
                  <a:pt x="13329" y="15057"/>
                  <a:pt x="13320" y="15032"/>
                </a:cubicBezTo>
                <a:cubicBezTo>
                  <a:pt x="13376" y="14953"/>
                  <a:pt x="13422" y="14901"/>
                  <a:pt x="13494" y="14833"/>
                </a:cubicBezTo>
                <a:cubicBezTo>
                  <a:pt x="13546" y="14784"/>
                  <a:pt x="13562" y="14749"/>
                  <a:pt x="13618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2040" y="5357880"/>
            <a:ext cx="71640" cy="90360"/>
          </a:xfrm>
          <a:custGeom>
            <a:avLst/>
            <a:gdLst/>
            <a:ahLst/>
            <a:rect l="l" t="t" r="r" b="b"/>
            <a:pathLst>
              <a:path w="200" h="249">
                <a:moveTo>
                  <a:pt x="14213" y="14908"/>
                </a:moveTo>
                <a:cubicBezTo>
                  <a:pt x="14248" y="14882"/>
                  <a:pt x="14244" y="14883"/>
                  <a:pt x="14288" y="14883"/>
                </a:cubicBezTo>
                <a:cubicBezTo>
                  <a:pt x="14278" y="14913"/>
                  <a:pt x="14223" y="14947"/>
                  <a:pt x="14188" y="14982"/>
                </a:cubicBezTo>
                <a:cubicBezTo>
                  <a:pt x="14161" y="15009"/>
                  <a:pt x="14105" y="15071"/>
                  <a:pt x="14089" y="15106"/>
                </a:cubicBezTo>
                <a:cubicBezTo>
                  <a:pt x="14089" y="15114"/>
                  <a:pt x="14089" y="15123"/>
                  <a:pt x="14089" y="15131"/>
                </a:cubicBezTo>
              </a:path>
              <a:path w="200" h="249">
                <a:moveTo>
                  <a:pt x="14288" y="15106"/>
                </a:moveTo>
                <a:cubicBezTo>
                  <a:pt x="14288" y="15067"/>
                  <a:pt x="14299" y="15032"/>
                  <a:pt x="14263" y="15007"/>
                </a:cubicBezTo>
                <a:cubicBezTo>
                  <a:pt x="14213" y="14982"/>
                  <a:pt x="14196" y="14974"/>
                  <a:pt x="14163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0880" y="5259240"/>
            <a:ext cx="142920" cy="24156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14808" y="14734"/>
                </a:moveTo>
                <a:cubicBezTo>
                  <a:pt x="14822" y="14679"/>
                  <a:pt x="14856" y="14663"/>
                  <a:pt x="14908" y="14635"/>
                </a:cubicBezTo>
                <a:cubicBezTo>
                  <a:pt x="14980" y="14597"/>
                  <a:pt x="15040" y="14610"/>
                  <a:pt x="15106" y="14660"/>
                </a:cubicBezTo>
                <a:cubicBezTo>
                  <a:pt x="15167" y="14707"/>
                  <a:pt x="15201" y="14781"/>
                  <a:pt x="15180" y="14858"/>
                </a:cubicBezTo>
                <a:cubicBezTo>
                  <a:pt x="15159" y="14935"/>
                  <a:pt x="15110" y="14928"/>
                  <a:pt x="15056" y="14957"/>
                </a:cubicBezTo>
                <a:cubicBezTo>
                  <a:pt x="15003" y="14986"/>
                  <a:pt x="14995" y="14967"/>
                  <a:pt x="14982" y="15007"/>
                </a:cubicBezTo>
                <a:cubicBezTo>
                  <a:pt x="15007" y="15056"/>
                  <a:pt x="15074" y="15077"/>
                  <a:pt x="15131" y="15106"/>
                </a:cubicBezTo>
                <a:cubicBezTo>
                  <a:pt x="15193" y="15138"/>
                  <a:pt x="15205" y="15164"/>
                  <a:pt x="15205" y="15230"/>
                </a:cubicBezTo>
                <a:cubicBezTo>
                  <a:pt x="15205" y="15293"/>
                  <a:pt x="15125" y="15280"/>
                  <a:pt x="15081" y="15280"/>
                </a:cubicBezTo>
                <a:cubicBezTo>
                  <a:pt x="15011" y="15280"/>
                  <a:pt x="14985" y="15287"/>
                  <a:pt x="14932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9720" y="5241960"/>
            <a:ext cx="81000" cy="81000"/>
          </a:xfrm>
          <a:custGeom>
            <a:avLst/>
            <a:gdLst/>
            <a:ahLst/>
            <a:rect l="l" t="t" r="r" b="b"/>
            <a:pathLst>
              <a:path w="224" h="225">
                <a:moveTo>
                  <a:pt x="15577" y="14585"/>
                </a:moveTo>
                <a:cubicBezTo>
                  <a:pt x="15636" y="14605"/>
                  <a:pt x="15565" y="14633"/>
                  <a:pt x="15553" y="14684"/>
                </a:cubicBezTo>
                <a:cubicBezTo>
                  <a:pt x="15538" y="14750"/>
                  <a:pt x="15566" y="14733"/>
                  <a:pt x="15528" y="14784"/>
                </a:cubicBezTo>
                <a:cubicBezTo>
                  <a:pt x="15554" y="14738"/>
                  <a:pt x="15590" y="14644"/>
                  <a:pt x="15627" y="14610"/>
                </a:cubicBezTo>
                <a:cubicBezTo>
                  <a:pt x="15671" y="14588"/>
                  <a:pt x="15682" y="14585"/>
                  <a:pt x="15701" y="14560"/>
                </a:cubicBezTo>
                <a:cubicBezTo>
                  <a:pt x="15735" y="14605"/>
                  <a:pt x="15748" y="14649"/>
                  <a:pt x="15751" y="14709"/>
                </a:cubicBezTo>
                <a:cubicBezTo>
                  <a:pt x="15751" y="14751"/>
                  <a:pt x="15751" y="14759"/>
                  <a:pt x="1575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76920" y="5197320"/>
            <a:ext cx="179280" cy="13356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16098" y="14709"/>
                </a:moveTo>
                <a:cubicBezTo>
                  <a:pt x="16082" y="14709"/>
                  <a:pt x="16065" y="14709"/>
                  <a:pt x="16049" y="14709"/>
                </a:cubicBezTo>
                <a:cubicBezTo>
                  <a:pt x="16095" y="14689"/>
                  <a:pt x="16146" y="14663"/>
                  <a:pt x="16197" y="14660"/>
                </a:cubicBezTo>
                <a:cubicBezTo>
                  <a:pt x="16249" y="14657"/>
                  <a:pt x="16255" y="14674"/>
                  <a:pt x="16297" y="14684"/>
                </a:cubicBezTo>
              </a:path>
              <a:path w="497" h="373">
                <a:moveTo>
                  <a:pt x="16520" y="14486"/>
                </a:moveTo>
                <a:cubicBezTo>
                  <a:pt x="16528" y="14469"/>
                  <a:pt x="16537" y="14453"/>
                  <a:pt x="16545" y="14436"/>
                </a:cubicBezTo>
                <a:cubicBezTo>
                  <a:pt x="16545" y="14549"/>
                  <a:pt x="16537" y="14653"/>
                  <a:pt x="16520" y="14759"/>
                </a:cubicBezTo>
                <a:cubicBezTo>
                  <a:pt x="16520" y="14775"/>
                  <a:pt x="16520" y="14792"/>
                  <a:pt x="16520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98880" y="5554800"/>
            <a:ext cx="973080" cy="241200"/>
          </a:xfrm>
          <a:custGeom>
            <a:avLst/>
            <a:gdLst/>
            <a:ahLst/>
            <a:rect l="l" t="t" r="r" b="b"/>
            <a:pathLst>
              <a:path w="2705" h="670">
                <a:moveTo>
                  <a:pt x="8632" y="15553"/>
                </a:moveTo>
                <a:cubicBezTo>
                  <a:pt x="8632" y="15528"/>
                  <a:pt x="8632" y="15520"/>
                  <a:pt x="8657" y="15528"/>
                </a:cubicBezTo>
                <a:cubicBezTo>
                  <a:pt x="8647" y="15567"/>
                  <a:pt x="8619" y="15590"/>
                  <a:pt x="8607" y="15627"/>
                </a:cubicBezTo>
                <a:cubicBezTo>
                  <a:pt x="8592" y="15671"/>
                  <a:pt x="8604" y="15720"/>
                  <a:pt x="8632" y="15751"/>
                </a:cubicBezTo>
                <a:cubicBezTo>
                  <a:pt x="8682" y="15807"/>
                  <a:pt x="8764" y="15759"/>
                  <a:pt x="8830" y="15776"/>
                </a:cubicBezTo>
                <a:cubicBezTo>
                  <a:pt x="8904" y="15796"/>
                  <a:pt x="8962" y="15849"/>
                  <a:pt x="8979" y="15925"/>
                </a:cubicBezTo>
                <a:cubicBezTo>
                  <a:pt x="8995" y="15998"/>
                  <a:pt x="8925" y="16083"/>
                  <a:pt x="8855" y="16098"/>
                </a:cubicBezTo>
                <a:cubicBezTo>
                  <a:pt x="8806" y="16109"/>
                  <a:pt x="8734" y="16098"/>
                  <a:pt x="8682" y="16098"/>
                </a:cubicBezTo>
              </a:path>
              <a:path w="2705" h="670">
                <a:moveTo>
                  <a:pt x="8979" y="15577"/>
                </a:moveTo>
                <a:cubicBezTo>
                  <a:pt x="8964" y="15534"/>
                  <a:pt x="8907" y="15553"/>
                  <a:pt x="8855" y="15553"/>
                </a:cubicBezTo>
                <a:cubicBezTo>
                  <a:pt x="8839" y="15553"/>
                  <a:pt x="8822" y="15553"/>
                  <a:pt x="8806" y="15553"/>
                </a:cubicBezTo>
              </a:path>
              <a:path w="2705" h="670">
                <a:moveTo>
                  <a:pt x="9327" y="15553"/>
                </a:moveTo>
                <a:cubicBezTo>
                  <a:pt x="9358" y="15529"/>
                  <a:pt x="9369" y="15527"/>
                  <a:pt x="9401" y="15503"/>
                </a:cubicBezTo>
                <a:cubicBezTo>
                  <a:pt x="9352" y="15503"/>
                  <a:pt x="9309" y="15509"/>
                  <a:pt x="9277" y="15553"/>
                </a:cubicBezTo>
                <a:cubicBezTo>
                  <a:pt x="9233" y="15615"/>
                  <a:pt x="9211" y="15692"/>
                  <a:pt x="9277" y="15751"/>
                </a:cubicBezTo>
                <a:cubicBezTo>
                  <a:pt x="9285" y="15751"/>
                  <a:pt x="9294" y="15751"/>
                  <a:pt x="9302" y="15751"/>
                </a:cubicBezTo>
                <a:cubicBezTo>
                  <a:pt x="9335" y="15718"/>
                  <a:pt x="9368" y="15685"/>
                  <a:pt x="9401" y="15652"/>
                </a:cubicBezTo>
                <a:cubicBezTo>
                  <a:pt x="9409" y="15644"/>
                  <a:pt x="9418" y="15635"/>
                  <a:pt x="9426" y="15627"/>
                </a:cubicBezTo>
                <a:cubicBezTo>
                  <a:pt x="9440" y="15695"/>
                  <a:pt x="9476" y="15785"/>
                  <a:pt x="9500" y="15850"/>
                </a:cubicBezTo>
                <a:cubicBezTo>
                  <a:pt x="9521" y="15905"/>
                  <a:pt x="9526" y="15951"/>
                  <a:pt x="9550" y="15999"/>
                </a:cubicBezTo>
              </a:path>
              <a:path w="2705" h="670">
                <a:moveTo>
                  <a:pt x="9823" y="15801"/>
                </a:moveTo>
                <a:cubicBezTo>
                  <a:pt x="9815" y="15801"/>
                  <a:pt x="9806" y="15801"/>
                  <a:pt x="9798" y="15801"/>
                </a:cubicBezTo>
                <a:cubicBezTo>
                  <a:pt x="9785" y="15763"/>
                  <a:pt x="9775" y="15766"/>
                  <a:pt x="9798" y="15701"/>
                </a:cubicBezTo>
                <a:cubicBezTo>
                  <a:pt x="9811" y="15666"/>
                  <a:pt x="9900" y="15574"/>
                  <a:pt x="9947" y="15602"/>
                </a:cubicBezTo>
                <a:cubicBezTo>
                  <a:pt x="10010" y="15640"/>
                  <a:pt x="10061" y="15779"/>
                  <a:pt x="10046" y="15850"/>
                </a:cubicBezTo>
                <a:cubicBezTo>
                  <a:pt x="10029" y="15931"/>
                  <a:pt x="9979" y="15971"/>
                  <a:pt x="9897" y="15949"/>
                </a:cubicBezTo>
                <a:cubicBezTo>
                  <a:pt x="9880" y="15941"/>
                  <a:pt x="9864" y="15933"/>
                  <a:pt x="9847" y="15925"/>
                </a:cubicBezTo>
              </a:path>
              <a:path w="2705" h="670">
                <a:moveTo>
                  <a:pt x="10220" y="15478"/>
                </a:moveTo>
                <a:cubicBezTo>
                  <a:pt x="10287" y="15524"/>
                  <a:pt x="10269" y="15542"/>
                  <a:pt x="10269" y="15627"/>
                </a:cubicBezTo>
                <a:cubicBezTo>
                  <a:pt x="10269" y="15696"/>
                  <a:pt x="10244" y="15755"/>
                  <a:pt x="10244" y="15825"/>
                </a:cubicBezTo>
                <a:cubicBezTo>
                  <a:pt x="10244" y="15842"/>
                  <a:pt x="10244" y="15858"/>
                  <a:pt x="10244" y="15875"/>
                </a:cubicBezTo>
                <a:cubicBezTo>
                  <a:pt x="10319" y="15875"/>
                  <a:pt x="10350" y="15840"/>
                  <a:pt x="10418" y="15825"/>
                </a:cubicBezTo>
                <a:cubicBezTo>
                  <a:pt x="10472" y="15813"/>
                  <a:pt x="10508" y="15801"/>
                  <a:pt x="10567" y="15801"/>
                </a:cubicBezTo>
                <a:cubicBezTo>
                  <a:pt x="10605" y="15801"/>
                  <a:pt x="10636" y="15786"/>
                  <a:pt x="10641" y="15825"/>
                </a:cubicBezTo>
                <a:cubicBezTo>
                  <a:pt x="10641" y="15833"/>
                  <a:pt x="10641" y="15842"/>
                  <a:pt x="10641" y="15850"/>
                </a:cubicBezTo>
              </a:path>
              <a:path w="2705" h="670">
                <a:moveTo>
                  <a:pt x="10468" y="15677"/>
                </a:moveTo>
                <a:cubicBezTo>
                  <a:pt x="10428" y="15782"/>
                  <a:pt x="10476" y="15817"/>
                  <a:pt x="10492" y="15925"/>
                </a:cubicBezTo>
                <a:cubicBezTo>
                  <a:pt x="10498" y="15966"/>
                  <a:pt x="10492" y="16029"/>
                  <a:pt x="10492" y="16073"/>
                </a:cubicBezTo>
              </a:path>
              <a:path w="2705" h="670">
                <a:moveTo>
                  <a:pt x="11112" y="15478"/>
                </a:moveTo>
                <a:cubicBezTo>
                  <a:pt x="11120" y="15470"/>
                  <a:pt x="11129" y="15461"/>
                  <a:pt x="11137" y="15453"/>
                </a:cubicBezTo>
                <a:cubicBezTo>
                  <a:pt x="11065" y="15401"/>
                  <a:pt x="11057" y="15445"/>
                  <a:pt x="10988" y="15478"/>
                </a:cubicBezTo>
                <a:cubicBezTo>
                  <a:pt x="10910" y="15515"/>
                  <a:pt x="10841" y="15569"/>
                  <a:pt x="10864" y="15677"/>
                </a:cubicBezTo>
                <a:cubicBezTo>
                  <a:pt x="10885" y="15775"/>
                  <a:pt x="10961" y="15725"/>
                  <a:pt x="10988" y="15677"/>
                </a:cubicBezTo>
                <a:cubicBezTo>
                  <a:pt x="11015" y="15628"/>
                  <a:pt x="11033" y="15528"/>
                  <a:pt x="11112" y="15553"/>
                </a:cubicBezTo>
                <a:cubicBezTo>
                  <a:pt x="11201" y="15582"/>
                  <a:pt x="11217" y="15727"/>
                  <a:pt x="11237" y="15801"/>
                </a:cubicBezTo>
                <a:cubicBezTo>
                  <a:pt x="11258" y="15880"/>
                  <a:pt x="11276" y="15928"/>
                  <a:pt x="11311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1800" y="5680080"/>
            <a:ext cx="106200" cy="79200"/>
          </a:xfrm>
          <a:custGeom>
            <a:avLst/>
            <a:gdLst/>
            <a:ahLst/>
            <a:rect l="l" t="t" r="r" b="b"/>
            <a:pathLst>
              <a:path w="298" h="224">
                <a:moveTo>
                  <a:pt x="12378" y="15801"/>
                </a:moveTo>
                <a:cubicBezTo>
                  <a:pt x="12400" y="15778"/>
                  <a:pt x="12405" y="15770"/>
                  <a:pt x="12427" y="15776"/>
                </a:cubicBezTo>
                <a:cubicBezTo>
                  <a:pt x="12391" y="15776"/>
                  <a:pt x="12355" y="15783"/>
                  <a:pt x="12328" y="15801"/>
                </a:cubicBezTo>
                <a:cubicBezTo>
                  <a:pt x="12296" y="15821"/>
                  <a:pt x="12284" y="15827"/>
                  <a:pt x="12254" y="15850"/>
                </a:cubicBezTo>
              </a:path>
              <a:path w="298" h="224">
                <a:moveTo>
                  <a:pt x="12452" y="15925"/>
                </a:moveTo>
                <a:cubicBezTo>
                  <a:pt x="12499" y="15945"/>
                  <a:pt x="12515" y="15946"/>
                  <a:pt x="12551" y="15974"/>
                </a:cubicBezTo>
                <a:cubicBezTo>
                  <a:pt x="12506" y="15985"/>
                  <a:pt x="12481" y="15999"/>
                  <a:pt x="12427" y="15999"/>
                </a:cubicBezTo>
                <a:cubicBezTo>
                  <a:pt x="12419" y="15999"/>
                  <a:pt x="12410" y="15999"/>
                  <a:pt x="12402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41920" y="5599080"/>
            <a:ext cx="588960" cy="258840"/>
          </a:xfrm>
          <a:custGeom>
            <a:avLst/>
            <a:gdLst/>
            <a:ahLst/>
            <a:rect l="l" t="t" r="r" b="b"/>
            <a:pathLst>
              <a:path w="1638" h="720">
                <a:moveTo>
                  <a:pt x="13246" y="15850"/>
                </a:moveTo>
                <a:cubicBezTo>
                  <a:pt x="13207" y="15889"/>
                  <a:pt x="13205" y="15906"/>
                  <a:pt x="13171" y="15900"/>
                </a:cubicBezTo>
                <a:cubicBezTo>
                  <a:pt x="13183" y="15838"/>
                  <a:pt x="13216" y="15790"/>
                  <a:pt x="13271" y="15751"/>
                </a:cubicBezTo>
                <a:cubicBezTo>
                  <a:pt x="13332" y="15708"/>
                  <a:pt x="13402" y="15678"/>
                  <a:pt x="13469" y="15726"/>
                </a:cubicBezTo>
                <a:cubicBezTo>
                  <a:pt x="13533" y="15772"/>
                  <a:pt x="13583" y="15870"/>
                  <a:pt x="13568" y="15949"/>
                </a:cubicBezTo>
                <a:cubicBezTo>
                  <a:pt x="13556" y="16010"/>
                  <a:pt x="13462" y="16054"/>
                  <a:pt x="13419" y="16098"/>
                </a:cubicBezTo>
                <a:cubicBezTo>
                  <a:pt x="13395" y="16123"/>
                  <a:pt x="13387" y="16132"/>
                  <a:pt x="13370" y="16148"/>
                </a:cubicBezTo>
                <a:cubicBezTo>
                  <a:pt x="13418" y="16184"/>
                  <a:pt x="13463" y="16178"/>
                  <a:pt x="13519" y="16197"/>
                </a:cubicBezTo>
                <a:cubicBezTo>
                  <a:pt x="13565" y="16212"/>
                  <a:pt x="13632" y="16240"/>
                  <a:pt x="13643" y="16272"/>
                </a:cubicBezTo>
                <a:cubicBezTo>
                  <a:pt x="13577" y="16272"/>
                  <a:pt x="13510" y="16272"/>
                  <a:pt x="13444" y="16272"/>
                </a:cubicBezTo>
              </a:path>
              <a:path w="1638" h="720">
                <a:moveTo>
                  <a:pt x="13816" y="15602"/>
                </a:moveTo>
                <a:cubicBezTo>
                  <a:pt x="13856" y="15655"/>
                  <a:pt x="13818" y="15692"/>
                  <a:pt x="13841" y="15751"/>
                </a:cubicBezTo>
                <a:cubicBezTo>
                  <a:pt x="13855" y="15787"/>
                  <a:pt x="13869" y="15811"/>
                  <a:pt x="13891" y="15825"/>
                </a:cubicBezTo>
                <a:cubicBezTo>
                  <a:pt x="13902" y="15768"/>
                  <a:pt x="13925" y="15721"/>
                  <a:pt x="13965" y="15677"/>
                </a:cubicBezTo>
                <a:cubicBezTo>
                  <a:pt x="13990" y="15652"/>
                  <a:pt x="13998" y="15644"/>
                  <a:pt x="14015" y="15627"/>
                </a:cubicBezTo>
                <a:cubicBezTo>
                  <a:pt x="14053" y="15666"/>
                  <a:pt x="14096" y="15698"/>
                  <a:pt x="14114" y="15751"/>
                </a:cubicBezTo>
                <a:cubicBezTo>
                  <a:pt x="14114" y="15759"/>
                  <a:pt x="14114" y="15768"/>
                  <a:pt x="14114" y="15776"/>
                </a:cubicBezTo>
              </a:path>
              <a:path w="1638" h="720">
                <a:moveTo>
                  <a:pt x="14412" y="15701"/>
                </a:moveTo>
                <a:cubicBezTo>
                  <a:pt x="14404" y="15701"/>
                  <a:pt x="14395" y="15701"/>
                  <a:pt x="14387" y="15701"/>
                </a:cubicBezTo>
                <a:cubicBezTo>
                  <a:pt x="14430" y="15691"/>
                  <a:pt x="14470" y="15664"/>
                  <a:pt x="14511" y="15652"/>
                </a:cubicBezTo>
                <a:cubicBezTo>
                  <a:pt x="14544" y="15652"/>
                  <a:pt x="14560" y="15652"/>
                  <a:pt x="14585" y="15652"/>
                </a:cubicBezTo>
              </a:path>
              <a:path w="1638" h="720">
                <a:moveTo>
                  <a:pt x="14784" y="15553"/>
                </a:moveTo>
                <a:cubicBezTo>
                  <a:pt x="14822" y="15579"/>
                  <a:pt x="14808" y="15641"/>
                  <a:pt x="14808" y="15701"/>
                </a:cubicBezTo>
                <a:cubicBezTo>
                  <a:pt x="14808" y="15718"/>
                  <a:pt x="14808" y="15734"/>
                  <a:pt x="14808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14760" y="5867280"/>
            <a:ext cx="374400" cy="258840"/>
          </a:xfrm>
          <a:custGeom>
            <a:avLst/>
            <a:gdLst/>
            <a:ahLst/>
            <a:rect l="l" t="t" r="r" b="b"/>
            <a:pathLst>
              <a:path w="1042" h="720">
                <a:moveTo>
                  <a:pt x="7565" y="16917"/>
                </a:moveTo>
                <a:cubicBezTo>
                  <a:pt x="7565" y="16942"/>
                  <a:pt x="7565" y="16950"/>
                  <a:pt x="7541" y="16942"/>
                </a:cubicBezTo>
                <a:cubicBezTo>
                  <a:pt x="7614" y="16931"/>
                  <a:pt x="7590" y="16928"/>
                  <a:pt x="7640" y="16867"/>
                </a:cubicBezTo>
                <a:cubicBezTo>
                  <a:pt x="7712" y="16779"/>
                  <a:pt x="7758" y="16682"/>
                  <a:pt x="7789" y="16570"/>
                </a:cubicBezTo>
                <a:cubicBezTo>
                  <a:pt x="7814" y="16480"/>
                  <a:pt x="7839" y="16386"/>
                  <a:pt x="7863" y="16297"/>
                </a:cubicBezTo>
                <a:cubicBezTo>
                  <a:pt x="7809" y="16343"/>
                  <a:pt x="7789" y="16383"/>
                  <a:pt x="7764" y="16470"/>
                </a:cubicBezTo>
                <a:cubicBezTo>
                  <a:pt x="7730" y="16592"/>
                  <a:pt x="7685" y="16717"/>
                  <a:pt x="7739" y="16842"/>
                </a:cubicBezTo>
                <a:cubicBezTo>
                  <a:pt x="7769" y="16912"/>
                  <a:pt x="7823" y="16990"/>
                  <a:pt x="7888" y="17016"/>
                </a:cubicBezTo>
                <a:cubicBezTo>
                  <a:pt x="7964" y="17046"/>
                  <a:pt x="7978" y="16987"/>
                  <a:pt x="8012" y="16942"/>
                </a:cubicBezTo>
                <a:cubicBezTo>
                  <a:pt x="8042" y="16903"/>
                  <a:pt x="8031" y="16842"/>
                  <a:pt x="8086" y="16818"/>
                </a:cubicBezTo>
                <a:cubicBezTo>
                  <a:pt x="8094" y="16818"/>
                  <a:pt x="8103" y="16818"/>
                  <a:pt x="8111" y="16818"/>
                </a:cubicBezTo>
                <a:cubicBezTo>
                  <a:pt x="8141" y="16877"/>
                  <a:pt x="8171" y="16939"/>
                  <a:pt x="8210" y="16991"/>
                </a:cubicBezTo>
                <a:cubicBezTo>
                  <a:pt x="8233" y="17014"/>
                  <a:pt x="8237" y="17022"/>
                  <a:pt x="8260" y="17016"/>
                </a:cubicBezTo>
                <a:cubicBezTo>
                  <a:pt x="8270" y="16939"/>
                  <a:pt x="8270" y="16882"/>
                  <a:pt x="8334" y="16842"/>
                </a:cubicBezTo>
                <a:cubicBezTo>
                  <a:pt x="8422" y="16788"/>
                  <a:pt x="8475" y="16884"/>
                  <a:pt x="8533" y="16942"/>
                </a:cubicBezTo>
                <a:cubicBezTo>
                  <a:pt x="8549" y="16958"/>
                  <a:pt x="8566" y="16975"/>
                  <a:pt x="8582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86080" y="5919840"/>
            <a:ext cx="928800" cy="196920"/>
          </a:xfrm>
          <a:custGeom>
            <a:avLst/>
            <a:gdLst/>
            <a:ahLst/>
            <a:rect l="l" t="t" r="r" b="b"/>
            <a:pathLst>
              <a:path w="2581" h="546">
                <a:moveTo>
                  <a:pt x="9178" y="16545"/>
                </a:moveTo>
                <a:cubicBezTo>
                  <a:pt x="9178" y="16494"/>
                  <a:pt x="9168" y="16591"/>
                  <a:pt x="9153" y="16619"/>
                </a:cubicBezTo>
                <a:cubicBezTo>
                  <a:pt x="9129" y="16664"/>
                  <a:pt x="9105" y="16747"/>
                  <a:pt x="9178" y="16768"/>
                </a:cubicBezTo>
                <a:cubicBezTo>
                  <a:pt x="9237" y="16785"/>
                  <a:pt x="9315" y="16779"/>
                  <a:pt x="9376" y="16793"/>
                </a:cubicBezTo>
                <a:cubicBezTo>
                  <a:pt x="9416" y="16802"/>
                  <a:pt x="9465" y="16838"/>
                  <a:pt x="9451" y="16892"/>
                </a:cubicBezTo>
                <a:cubicBezTo>
                  <a:pt x="9431" y="16968"/>
                  <a:pt x="9344" y="16987"/>
                  <a:pt x="9277" y="16991"/>
                </a:cubicBezTo>
                <a:cubicBezTo>
                  <a:pt x="9236" y="16991"/>
                  <a:pt x="9228" y="16991"/>
                  <a:pt x="9203" y="16991"/>
                </a:cubicBezTo>
              </a:path>
              <a:path w="2581" h="546">
                <a:moveTo>
                  <a:pt x="9475" y="16495"/>
                </a:moveTo>
                <a:cubicBezTo>
                  <a:pt x="9475" y="16487"/>
                  <a:pt x="9475" y="16478"/>
                  <a:pt x="9475" y="16470"/>
                </a:cubicBezTo>
                <a:cubicBezTo>
                  <a:pt x="9433" y="16481"/>
                  <a:pt x="9399" y="16512"/>
                  <a:pt x="9351" y="16520"/>
                </a:cubicBezTo>
                <a:cubicBezTo>
                  <a:pt x="9307" y="16520"/>
                  <a:pt x="9293" y="16517"/>
                  <a:pt x="9277" y="16545"/>
                </a:cubicBezTo>
              </a:path>
              <a:path w="2581" h="546">
                <a:moveTo>
                  <a:pt x="9872" y="16594"/>
                </a:moveTo>
                <a:cubicBezTo>
                  <a:pt x="9913" y="16584"/>
                  <a:pt x="9936" y="16577"/>
                  <a:pt x="9947" y="16545"/>
                </a:cubicBezTo>
                <a:cubicBezTo>
                  <a:pt x="9870" y="16499"/>
                  <a:pt x="9837" y="16534"/>
                  <a:pt x="9773" y="16594"/>
                </a:cubicBezTo>
                <a:cubicBezTo>
                  <a:pt x="9737" y="16628"/>
                  <a:pt x="9640" y="16742"/>
                  <a:pt x="9723" y="16793"/>
                </a:cubicBezTo>
                <a:cubicBezTo>
                  <a:pt x="9786" y="16832"/>
                  <a:pt x="9865" y="16763"/>
                  <a:pt x="9897" y="16718"/>
                </a:cubicBezTo>
                <a:cubicBezTo>
                  <a:pt x="9928" y="16675"/>
                  <a:pt x="9922" y="16643"/>
                  <a:pt x="9922" y="16594"/>
                </a:cubicBezTo>
                <a:cubicBezTo>
                  <a:pt x="9958" y="16618"/>
                  <a:pt x="9975" y="16731"/>
                  <a:pt x="9996" y="16793"/>
                </a:cubicBezTo>
                <a:cubicBezTo>
                  <a:pt x="10018" y="16858"/>
                  <a:pt x="10038" y="16901"/>
                  <a:pt x="10046" y="16966"/>
                </a:cubicBezTo>
              </a:path>
              <a:path w="2581" h="546">
                <a:moveTo>
                  <a:pt x="10319" y="16718"/>
                </a:moveTo>
                <a:cubicBezTo>
                  <a:pt x="10296" y="16741"/>
                  <a:pt x="10292" y="16749"/>
                  <a:pt x="10269" y="16743"/>
                </a:cubicBezTo>
                <a:cubicBezTo>
                  <a:pt x="10248" y="16715"/>
                  <a:pt x="10217" y="16629"/>
                  <a:pt x="10244" y="16594"/>
                </a:cubicBezTo>
                <a:cubicBezTo>
                  <a:pt x="10306" y="16514"/>
                  <a:pt x="10363" y="16567"/>
                  <a:pt x="10418" y="16619"/>
                </a:cubicBezTo>
                <a:cubicBezTo>
                  <a:pt x="10485" y="16682"/>
                  <a:pt x="10519" y="16758"/>
                  <a:pt x="10468" y="16842"/>
                </a:cubicBezTo>
                <a:cubicBezTo>
                  <a:pt x="10432" y="16902"/>
                  <a:pt x="10340" y="16859"/>
                  <a:pt x="10294" y="16842"/>
                </a:cubicBezTo>
              </a:path>
              <a:path w="2581" h="546">
                <a:moveTo>
                  <a:pt x="10616" y="16446"/>
                </a:moveTo>
                <a:cubicBezTo>
                  <a:pt x="10655" y="16497"/>
                  <a:pt x="10641" y="16551"/>
                  <a:pt x="10641" y="16619"/>
                </a:cubicBezTo>
                <a:cubicBezTo>
                  <a:pt x="10641" y="16685"/>
                  <a:pt x="10641" y="16752"/>
                  <a:pt x="10641" y="16818"/>
                </a:cubicBezTo>
                <a:cubicBezTo>
                  <a:pt x="10731" y="16818"/>
                  <a:pt x="10805" y="16814"/>
                  <a:pt x="10889" y="16793"/>
                </a:cubicBezTo>
                <a:cubicBezTo>
                  <a:pt x="10936" y="16781"/>
                  <a:pt x="11027" y="16785"/>
                  <a:pt x="11038" y="16818"/>
                </a:cubicBezTo>
              </a:path>
              <a:path w="2581" h="546">
                <a:moveTo>
                  <a:pt x="10914" y="16694"/>
                </a:moveTo>
                <a:cubicBezTo>
                  <a:pt x="10906" y="16686"/>
                  <a:pt x="10897" y="16677"/>
                  <a:pt x="10889" y="16669"/>
                </a:cubicBezTo>
                <a:cubicBezTo>
                  <a:pt x="10889" y="16759"/>
                  <a:pt x="10901" y="16830"/>
                  <a:pt x="10914" y="16917"/>
                </a:cubicBezTo>
                <a:cubicBezTo>
                  <a:pt x="10914" y="16933"/>
                  <a:pt x="10914" y="16950"/>
                  <a:pt x="10914" y="16966"/>
                </a:cubicBezTo>
              </a:path>
              <a:path w="2581" h="546">
                <a:moveTo>
                  <a:pt x="11609" y="16570"/>
                </a:moveTo>
                <a:cubicBezTo>
                  <a:pt x="11658" y="16536"/>
                  <a:pt x="11669" y="16527"/>
                  <a:pt x="11683" y="16470"/>
                </a:cubicBezTo>
                <a:cubicBezTo>
                  <a:pt x="11633" y="16434"/>
                  <a:pt x="11618" y="16443"/>
                  <a:pt x="11559" y="16470"/>
                </a:cubicBezTo>
                <a:cubicBezTo>
                  <a:pt x="11477" y="16508"/>
                  <a:pt x="11465" y="16609"/>
                  <a:pt x="11460" y="16694"/>
                </a:cubicBezTo>
                <a:cubicBezTo>
                  <a:pt x="11460" y="16710"/>
                  <a:pt x="11460" y="16727"/>
                  <a:pt x="11460" y="16743"/>
                </a:cubicBezTo>
                <a:cubicBezTo>
                  <a:pt x="11528" y="16743"/>
                  <a:pt x="11536" y="16695"/>
                  <a:pt x="11584" y="16644"/>
                </a:cubicBezTo>
                <a:cubicBezTo>
                  <a:pt x="11609" y="16619"/>
                  <a:pt x="11617" y="16611"/>
                  <a:pt x="11633" y="16594"/>
                </a:cubicBezTo>
                <a:cubicBezTo>
                  <a:pt x="11693" y="16684"/>
                  <a:pt x="11701" y="16760"/>
                  <a:pt x="11708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5892840"/>
            <a:ext cx="884520" cy="223920"/>
          </a:xfrm>
          <a:custGeom>
            <a:avLst/>
            <a:gdLst/>
            <a:ahLst/>
            <a:rect l="l" t="t" r="r" b="b"/>
            <a:pathLst>
              <a:path w="2457" h="621">
                <a:moveTo>
                  <a:pt x="13047" y="16842"/>
                </a:moveTo>
                <a:cubicBezTo>
                  <a:pt x="13055" y="16834"/>
                  <a:pt x="13064" y="16826"/>
                  <a:pt x="13072" y="16818"/>
                </a:cubicBezTo>
                <a:cubicBezTo>
                  <a:pt x="13014" y="16818"/>
                  <a:pt x="12956" y="16818"/>
                  <a:pt x="12898" y="16818"/>
                </a:cubicBezTo>
              </a:path>
              <a:path w="2457" h="621">
                <a:moveTo>
                  <a:pt x="13097" y="16867"/>
                </a:moveTo>
                <a:cubicBezTo>
                  <a:pt x="13127" y="16907"/>
                  <a:pt x="13134" y="16935"/>
                  <a:pt x="13072" y="16942"/>
                </a:cubicBezTo>
                <a:cubicBezTo>
                  <a:pt x="13037" y="16946"/>
                  <a:pt x="13007" y="16959"/>
                  <a:pt x="12973" y="16966"/>
                </a:cubicBezTo>
              </a:path>
              <a:path w="2457" h="621">
                <a:moveTo>
                  <a:pt x="13742" y="16718"/>
                </a:moveTo>
                <a:cubicBezTo>
                  <a:pt x="13742" y="16783"/>
                  <a:pt x="13730" y="16933"/>
                  <a:pt x="13742" y="16917"/>
                </a:cubicBezTo>
                <a:cubicBezTo>
                  <a:pt x="13788" y="16852"/>
                  <a:pt x="13809" y="16791"/>
                  <a:pt x="13841" y="16718"/>
                </a:cubicBezTo>
                <a:cubicBezTo>
                  <a:pt x="13861" y="16671"/>
                  <a:pt x="13931" y="16599"/>
                  <a:pt x="13990" y="16619"/>
                </a:cubicBezTo>
                <a:cubicBezTo>
                  <a:pt x="14076" y="16648"/>
                  <a:pt x="14069" y="16780"/>
                  <a:pt x="14089" y="16842"/>
                </a:cubicBezTo>
                <a:cubicBezTo>
                  <a:pt x="14109" y="16883"/>
                  <a:pt x="14118" y="16889"/>
                  <a:pt x="14114" y="16917"/>
                </a:cubicBezTo>
              </a:path>
              <a:path w="2457" h="621">
                <a:moveTo>
                  <a:pt x="14436" y="16743"/>
                </a:moveTo>
                <a:cubicBezTo>
                  <a:pt x="14412" y="16743"/>
                  <a:pt x="14404" y="16743"/>
                  <a:pt x="14412" y="16768"/>
                </a:cubicBezTo>
                <a:cubicBezTo>
                  <a:pt x="14470" y="16768"/>
                  <a:pt x="14506" y="16756"/>
                  <a:pt x="14560" y="16743"/>
                </a:cubicBezTo>
                <a:cubicBezTo>
                  <a:pt x="14605" y="16733"/>
                  <a:pt x="14663" y="16743"/>
                  <a:pt x="14709" y="16743"/>
                </a:cubicBezTo>
              </a:path>
              <a:path w="2457" h="621">
                <a:moveTo>
                  <a:pt x="14932" y="16594"/>
                </a:moveTo>
                <a:cubicBezTo>
                  <a:pt x="14940" y="16578"/>
                  <a:pt x="14949" y="16561"/>
                  <a:pt x="14957" y="16545"/>
                </a:cubicBezTo>
                <a:cubicBezTo>
                  <a:pt x="14957" y="16652"/>
                  <a:pt x="14957" y="16760"/>
                  <a:pt x="14957" y="16867"/>
                </a:cubicBezTo>
              </a:path>
              <a:path w="2457" h="621">
                <a:moveTo>
                  <a:pt x="14982" y="16421"/>
                </a:moveTo>
                <a:cubicBezTo>
                  <a:pt x="15031" y="16362"/>
                  <a:pt x="15096" y="16344"/>
                  <a:pt x="15180" y="16396"/>
                </a:cubicBezTo>
                <a:cubicBezTo>
                  <a:pt x="15290" y="16465"/>
                  <a:pt x="15345" y="16541"/>
                  <a:pt x="15354" y="16669"/>
                </a:cubicBezTo>
                <a:cubicBezTo>
                  <a:pt x="15363" y="16792"/>
                  <a:pt x="15357" y="16828"/>
                  <a:pt x="15255" y="16892"/>
                </a:cubicBezTo>
              </a:path>
              <a:path w="2457" h="621">
                <a:moveTo>
                  <a:pt x="13519" y="16495"/>
                </a:moveTo>
                <a:cubicBezTo>
                  <a:pt x="13539" y="16455"/>
                  <a:pt x="13547" y="16448"/>
                  <a:pt x="13543" y="16421"/>
                </a:cubicBezTo>
                <a:cubicBezTo>
                  <a:pt x="13510" y="16489"/>
                  <a:pt x="13454" y="16568"/>
                  <a:pt x="13444" y="16644"/>
                </a:cubicBezTo>
                <a:cubicBezTo>
                  <a:pt x="13427" y="16774"/>
                  <a:pt x="13450" y="16889"/>
                  <a:pt x="13568" y="16966"/>
                </a:cubicBezTo>
                <a:cubicBezTo>
                  <a:pt x="13593" y="16974"/>
                  <a:pt x="13618" y="16983"/>
                  <a:pt x="13643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5840280"/>
            <a:ext cx="660600" cy="204840"/>
          </a:xfrm>
          <a:custGeom>
            <a:avLst/>
            <a:gdLst/>
            <a:ahLst/>
            <a:rect l="l" t="t" r="r" b="b"/>
            <a:pathLst>
              <a:path w="1836" h="572">
                <a:moveTo>
                  <a:pt x="15900" y="16694"/>
                </a:moveTo>
                <a:cubicBezTo>
                  <a:pt x="15910" y="16733"/>
                  <a:pt x="15918" y="16757"/>
                  <a:pt x="15949" y="16768"/>
                </a:cubicBezTo>
                <a:cubicBezTo>
                  <a:pt x="16020" y="16748"/>
                  <a:pt x="16092" y="16663"/>
                  <a:pt x="16148" y="16594"/>
                </a:cubicBezTo>
                <a:cubicBezTo>
                  <a:pt x="16206" y="16522"/>
                  <a:pt x="16259" y="16407"/>
                  <a:pt x="16272" y="16321"/>
                </a:cubicBezTo>
                <a:cubicBezTo>
                  <a:pt x="16272" y="16313"/>
                  <a:pt x="16272" y="16305"/>
                  <a:pt x="16272" y="16297"/>
                </a:cubicBezTo>
                <a:cubicBezTo>
                  <a:pt x="16218" y="16335"/>
                  <a:pt x="16161" y="16396"/>
                  <a:pt x="16148" y="16470"/>
                </a:cubicBezTo>
                <a:cubicBezTo>
                  <a:pt x="16133" y="16556"/>
                  <a:pt x="16141" y="16665"/>
                  <a:pt x="16173" y="16743"/>
                </a:cubicBezTo>
                <a:cubicBezTo>
                  <a:pt x="16181" y="16760"/>
                  <a:pt x="16189" y="16776"/>
                  <a:pt x="16197" y="16793"/>
                </a:cubicBezTo>
                <a:cubicBezTo>
                  <a:pt x="16255" y="16793"/>
                  <a:pt x="16267" y="16768"/>
                  <a:pt x="16297" y="16718"/>
                </a:cubicBezTo>
                <a:cubicBezTo>
                  <a:pt x="16323" y="16675"/>
                  <a:pt x="16336" y="16654"/>
                  <a:pt x="16371" y="16619"/>
                </a:cubicBezTo>
                <a:cubicBezTo>
                  <a:pt x="16398" y="16637"/>
                  <a:pt x="16407" y="16679"/>
                  <a:pt x="16446" y="16718"/>
                </a:cubicBezTo>
                <a:cubicBezTo>
                  <a:pt x="16468" y="16741"/>
                  <a:pt x="16473" y="16749"/>
                  <a:pt x="16495" y="16743"/>
                </a:cubicBezTo>
                <a:cubicBezTo>
                  <a:pt x="16543" y="16684"/>
                  <a:pt x="16556" y="16650"/>
                  <a:pt x="16644" y="16669"/>
                </a:cubicBezTo>
                <a:cubicBezTo>
                  <a:pt x="16736" y="16689"/>
                  <a:pt x="16791" y="16745"/>
                  <a:pt x="16867" y="16793"/>
                </a:cubicBezTo>
              </a:path>
              <a:path w="1836" h="572">
                <a:moveTo>
                  <a:pt x="17338" y="16371"/>
                </a:moveTo>
                <a:cubicBezTo>
                  <a:pt x="17314" y="16371"/>
                  <a:pt x="17305" y="16371"/>
                  <a:pt x="17289" y="16371"/>
                </a:cubicBezTo>
                <a:cubicBezTo>
                  <a:pt x="17304" y="16310"/>
                  <a:pt x="17357" y="16281"/>
                  <a:pt x="17413" y="16247"/>
                </a:cubicBezTo>
                <a:cubicBezTo>
                  <a:pt x="17466" y="16215"/>
                  <a:pt x="17585" y="16196"/>
                  <a:pt x="17636" y="16247"/>
                </a:cubicBezTo>
                <a:cubicBezTo>
                  <a:pt x="17691" y="16303"/>
                  <a:pt x="17650" y="16395"/>
                  <a:pt x="17611" y="16446"/>
                </a:cubicBezTo>
                <a:cubicBezTo>
                  <a:pt x="17562" y="16510"/>
                  <a:pt x="17507" y="16512"/>
                  <a:pt x="17562" y="16594"/>
                </a:cubicBezTo>
                <a:cubicBezTo>
                  <a:pt x="17587" y="16631"/>
                  <a:pt x="17738" y="16667"/>
                  <a:pt x="17735" y="16718"/>
                </a:cubicBezTo>
                <a:cubicBezTo>
                  <a:pt x="17729" y="16802"/>
                  <a:pt x="17593" y="16788"/>
                  <a:pt x="17537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30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106800" y="1133640"/>
            <a:ext cx="322200" cy="304560"/>
          </a:xfrm>
          <a:custGeom>
            <a:avLst/>
            <a:gdLst/>
            <a:ahLst/>
            <a:rect l="l" t="t" r="r" b="b"/>
            <a:pathLst>
              <a:path w="894" h="845">
                <a:moveTo>
                  <a:pt x="8632" y="3324"/>
                </a:moveTo>
                <a:cubicBezTo>
                  <a:pt x="8644" y="3289"/>
                  <a:pt x="8658" y="3292"/>
                  <a:pt x="8682" y="3249"/>
                </a:cubicBezTo>
                <a:cubicBezTo>
                  <a:pt x="8729" y="3166"/>
                  <a:pt x="8787" y="3154"/>
                  <a:pt x="8880" y="3150"/>
                </a:cubicBezTo>
                <a:cubicBezTo>
                  <a:pt x="8977" y="3145"/>
                  <a:pt x="9012" y="3208"/>
                  <a:pt x="9029" y="3299"/>
                </a:cubicBezTo>
                <a:cubicBezTo>
                  <a:pt x="9049" y="3405"/>
                  <a:pt x="8969" y="3438"/>
                  <a:pt x="8905" y="3497"/>
                </a:cubicBezTo>
                <a:cubicBezTo>
                  <a:pt x="8875" y="3527"/>
                  <a:pt x="8861" y="3538"/>
                  <a:pt x="8830" y="3547"/>
                </a:cubicBezTo>
                <a:cubicBezTo>
                  <a:pt x="8866" y="3618"/>
                  <a:pt x="8908" y="3582"/>
                  <a:pt x="8979" y="3597"/>
                </a:cubicBezTo>
                <a:cubicBezTo>
                  <a:pt x="9020" y="3606"/>
                  <a:pt x="9161" y="3647"/>
                  <a:pt x="9178" y="3696"/>
                </a:cubicBezTo>
                <a:cubicBezTo>
                  <a:pt x="9204" y="3769"/>
                  <a:pt x="9108" y="3831"/>
                  <a:pt x="9054" y="3845"/>
                </a:cubicBezTo>
                <a:cubicBezTo>
                  <a:pt x="8982" y="3863"/>
                  <a:pt x="8906" y="3870"/>
                  <a:pt x="8830" y="3870"/>
                </a:cubicBezTo>
              </a:path>
              <a:path w="894" h="845">
                <a:moveTo>
                  <a:pt x="9376" y="3746"/>
                </a:moveTo>
                <a:cubicBezTo>
                  <a:pt x="9431" y="3756"/>
                  <a:pt x="9552" y="3771"/>
                  <a:pt x="9525" y="3870"/>
                </a:cubicBezTo>
                <a:cubicBezTo>
                  <a:pt x="9513" y="3916"/>
                  <a:pt x="9479" y="3958"/>
                  <a:pt x="9451" y="39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62200" y="1108080"/>
            <a:ext cx="482760" cy="276120"/>
          </a:xfrm>
          <a:custGeom>
            <a:avLst/>
            <a:gdLst/>
            <a:ahLst/>
            <a:rect l="l" t="t" r="r" b="b"/>
            <a:pathLst>
              <a:path w="1341" h="770">
                <a:moveTo>
                  <a:pt x="9996" y="3274"/>
                </a:moveTo>
                <a:cubicBezTo>
                  <a:pt x="10018" y="3252"/>
                  <a:pt x="10027" y="3247"/>
                  <a:pt x="10021" y="3225"/>
                </a:cubicBezTo>
                <a:cubicBezTo>
                  <a:pt x="9971" y="3286"/>
                  <a:pt x="9910" y="3366"/>
                  <a:pt x="9897" y="3448"/>
                </a:cubicBezTo>
                <a:cubicBezTo>
                  <a:pt x="9881" y="3553"/>
                  <a:pt x="9882" y="3714"/>
                  <a:pt x="9996" y="3770"/>
                </a:cubicBezTo>
                <a:cubicBezTo>
                  <a:pt x="10063" y="3803"/>
                  <a:pt x="10125" y="3757"/>
                  <a:pt x="10145" y="3696"/>
                </a:cubicBezTo>
                <a:cubicBezTo>
                  <a:pt x="10165" y="3636"/>
                  <a:pt x="10114" y="3621"/>
                  <a:pt x="10071" y="3621"/>
                </a:cubicBezTo>
                <a:cubicBezTo>
                  <a:pt x="10054" y="3621"/>
                  <a:pt x="10038" y="3621"/>
                  <a:pt x="10021" y="3621"/>
                </a:cubicBezTo>
              </a:path>
              <a:path w="1341" h="770">
                <a:moveTo>
                  <a:pt x="10517" y="3646"/>
                </a:moveTo>
                <a:cubicBezTo>
                  <a:pt x="10540" y="3684"/>
                  <a:pt x="10557" y="3744"/>
                  <a:pt x="10542" y="3795"/>
                </a:cubicBezTo>
                <a:cubicBezTo>
                  <a:pt x="10534" y="3812"/>
                  <a:pt x="10525" y="3828"/>
                  <a:pt x="10517" y="3845"/>
                </a:cubicBezTo>
              </a:path>
              <a:path w="1341" h="770">
                <a:moveTo>
                  <a:pt x="11187" y="3200"/>
                </a:moveTo>
                <a:cubicBezTo>
                  <a:pt x="11209" y="3156"/>
                  <a:pt x="11212" y="3144"/>
                  <a:pt x="11237" y="3125"/>
                </a:cubicBezTo>
                <a:cubicBezTo>
                  <a:pt x="11201" y="3078"/>
                  <a:pt x="11187" y="3059"/>
                  <a:pt x="11112" y="3076"/>
                </a:cubicBezTo>
                <a:cubicBezTo>
                  <a:pt x="10993" y="3102"/>
                  <a:pt x="10913" y="3145"/>
                  <a:pt x="10889" y="3274"/>
                </a:cubicBezTo>
                <a:cubicBezTo>
                  <a:pt x="10870" y="3377"/>
                  <a:pt x="10880" y="3425"/>
                  <a:pt x="10964" y="3473"/>
                </a:cubicBezTo>
                <a:cubicBezTo>
                  <a:pt x="11050" y="3438"/>
                  <a:pt x="11080" y="3362"/>
                  <a:pt x="11112" y="3274"/>
                </a:cubicBezTo>
                <a:cubicBezTo>
                  <a:pt x="11135" y="3212"/>
                  <a:pt x="11147" y="3175"/>
                  <a:pt x="11187" y="3125"/>
                </a:cubicBezTo>
                <a:cubicBezTo>
                  <a:pt x="11220" y="3281"/>
                  <a:pt x="11212" y="3436"/>
                  <a:pt x="11212" y="3597"/>
                </a:cubicBezTo>
                <a:cubicBezTo>
                  <a:pt x="11212" y="3689"/>
                  <a:pt x="11210" y="3715"/>
                  <a:pt x="11237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0240" y="3463920"/>
            <a:ext cx="268560" cy="314280"/>
          </a:xfrm>
          <a:custGeom>
            <a:avLst/>
            <a:gdLst/>
            <a:ahLst/>
            <a:rect l="l" t="t" r="r" b="b"/>
            <a:pathLst>
              <a:path w="745" h="869">
                <a:moveTo>
                  <a:pt x="2282" y="9971"/>
                </a:moveTo>
                <a:cubicBezTo>
                  <a:pt x="2282" y="10079"/>
                  <a:pt x="2282" y="10186"/>
                  <a:pt x="2282" y="10294"/>
                </a:cubicBezTo>
              </a:path>
              <a:path w="745" h="869">
                <a:moveTo>
                  <a:pt x="2108" y="9723"/>
                </a:moveTo>
                <a:cubicBezTo>
                  <a:pt x="2108" y="9699"/>
                  <a:pt x="2108" y="9691"/>
                  <a:pt x="2108" y="9723"/>
                </a:cubicBezTo>
              </a:path>
              <a:path w="745" h="869">
                <a:moveTo>
                  <a:pt x="2108" y="9723"/>
                </a:moveTo>
                <a:cubicBezTo>
                  <a:pt x="2233" y="9666"/>
                  <a:pt x="2232" y="9670"/>
                  <a:pt x="2356" y="9723"/>
                </a:cubicBezTo>
                <a:cubicBezTo>
                  <a:pt x="2453" y="9764"/>
                  <a:pt x="2500" y="9851"/>
                  <a:pt x="2530" y="9947"/>
                </a:cubicBezTo>
                <a:cubicBezTo>
                  <a:pt x="2567" y="10067"/>
                  <a:pt x="2608" y="10197"/>
                  <a:pt x="2555" y="10319"/>
                </a:cubicBezTo>
                <a:cubicBezTo>
                  <a:pt x="2527" y="10383"/>
                  <a:pt x="2476" y="10441"/>
                  <a:pt x="2431" y="10492"/>
                </a:cubicBezTo>
              </a:path>
              <a:path w="745" h="869">
                <a:moveTo>
                  <a:pt x="1935" y="9649"/>
                </a:moveTo>
                <a:cubicBezTo>
                  <a:pt x="1922" y="9636"/>
                  <a:pt x="1848" y="9763"/>
                  <a:pt x="1836" y="9823"/>
                </a:cubicBezTo>
                <a:cubicBezTo>
                  <a:pt x="1807" y="9963"/>
                  <a:pt x="1836" y="10162"/>
                  <a:pt x="1885" y="10294"/>
                </a:cubicBezTo>
                <a:cubicBezTo>
                  <a:pt x="1902" y="10327"/>
                  <a:pt x="1918" y="10360"/>
                  <a:pt x="1935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9920" y="3510000"/>
            <a:ext cx="276120" cy="2221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3746" y="10096"/>
                </a:moveTo>
                <a:cubicBezTo>
                  <a:pt x="3746" y="10166"/>
                  <a:pt x="3740" y="10212"/>
                  <a:pt x="3721" y="10269"/>
                </a:cubicBezTo>
                <a:cubicBezTo>
                  <a:pt x="3715" y="10288"/>
                  <a:pt x="3721" y="10324"/>
                  <a:pt x="3721" y="10344"/>
                </a:cubicBezTo>
                <a:cubicBezTo>
                  <a:pt x="3721" y="10407"/>
                  <a:pt x="3745" y="10175"/>
                  <a:pt x="3746" y="10170"/>
                </a:cubicBezTo>
                <a:cubicBezTo>
                  <a:pt x="3768" y="10044"/>
                  <a:pt x="3772" y="9919"/>
                  <a:pt x="3820" y="9798"/>
                </a:cubicBezTo>
                <a:cubicBezTo>
                  <a:pt x="3828" y="9781"/>
                  <a:pt x="3837" y="9765"/>
                  <a:pt x="3845" y="9748"/>
                </a:cubicBezTo>
                <a:cubicBezTo>
                  <a:pt x="3910" y="9814"/>
                  <a:pt x="3920" y="9880"/>
                  <a:pt x="3944" y="9971"/>
                </a:cubicBezTo>
                <a:cubicBezTo>
                  <a:pt x="3975" y="10090"/>
                  <a:pt x="3993" y="10206"/>
                  <a:pt x="4043" y="10319"/>
                </a:cubicBezTo>
              </a:path>
              <a:path w="770" h="621">
                <a:moveTo>
                  <a:pt x="4043" y="10220"/>
                </a:moveTo>
                <a:cubicBezTo>
                  <a:pt x="3997" y="10133"/>
                  <a:pt x="4007" y="10096"/>
                  <a:pt x="3919" y="10096"/>
                </a:cubicBezTo>
                <a:cubicBezTo>
                  <a:pt x="3855" y="10096"/>
                  <a:pt x="3828" y="10151"/>
                  <a:pt x="3770" y="10170"/>
                </a:cubicBezTo>
                <a:cubicBezTo>
                  <a:pt x="3762" y="10170"/>
                  <a:pt x="3754" y="10170"/>
                  <a:pt x="3746" y="10170"/>
                </a:cubicBezTo>
              </a:path>
              <a:path w="770" h="621">
                <a:moveTo>
                  <a:pt x="4118" y="9897"/>
                </a:moveTo>
                <a:cubicBezTo>
                  <a:pt x="4158" y="9877"/>
                  <a:pt x="4164" y="9868"/>
                  <a:pt x="4192" y="9872"/>
                </a:cubicBezTo>
                <a:cubicBezTo>
                  <a:pt x="4192" y="9992"/>
                  <a:pt x="4204" y="10104"/>
                  <a:pt x="4217" y="10220"/>
                </a:cubicBezTo>
                <a:cubicBezTo>
                  <a:pt x="4217" y="10281"/>
                  <a:pt x="4208" y="10297"/>
                  <a:pt x="4242" y="10319"/>
                </a:cubicBezTo>
              </a:path>
              <a:path w="770" h="621">
                <a:moveTo>
                  <a:pt x="4217" y="9971"/>
                </a:moveTo>
                <a:cubicBezTo>
                  <a:pt x="4217" y="9860"/>
                  <a:pt x="4211" y="9883"/>
                  <a:pt x="4291" y="9823"/>
                </a:cubicBezTo>
                <a:cubicBezTo>
                  <a:pt x="4334" y="9791"/>
                  <a:pt x="4418" y="9777"/>
                  <a:pt x="4465" y="9823"/>
                </a:cubicBezTo>
                <a:cubicBezTo>
                  <a:pt x="4536" y="9893"/>
                  <a:pt x="4473" y="9966"/>
                  <a:pt x="4440" y="10021"/>
                </a:cubicBezTo>
                <a:cubicBezTo>
                  <a:pt x="4432" y="10038"/>
                  <a:pt x="4423" y="10054"/>
                  <a:pt x="441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1840" y="3911760"/>
            <a:ext cx="955440" cy="928440"/>
          </a:xfrm>
          <a:custGeom>
            <a:avLst/>
            <a:gdLst/>
            <a:ahLst/>
            <a:rect l="l" t="t" r="r" b="b"/>
            <a:pathLst>
              <a:path w="2655" h="2581">
                <a:moveTo>
                  <a:pt x="4539" y="11088"/>
                </a:moveTo>
                <a:cubicBezTo>
                  <a:pt x="4511" y="11097"/>
                  <a:pt x="4493" y="11121"/>
                  <a:pt x="4490" y="11162"/>
                </a:cubicBezTo>
                <a:cubicBezTo>
                  <a:pt x="4483" y="11257"/>
                  <a:pt x="4528" y="11320"/>
                  <a:pt x="4589" y="11385"/>
                </a:cubicBezTo>
                <a:cubicBezTo>
                  <a:pt x="4649" y="11449"/>
                  <a:pt x="4705" y="11393"/>
                  <a:pt x="4738" y="11336"/>
                </a:cubicBezTo>
                <a:cubicBezTo>
                  <a:pt x="4777" y="11268"/>
                  <a:pt x="4762" y="11188"/>
                  <a:pt x="4762" y="11112"/>
                </a:cubicBezTo>
                <a:cubicBezTo>
                  <a:pt x="4805" y="11209"/>
                  <a:pt x="4840" y="11281"/>
                  <a:pt x="4911" y="11361"/>
                </a:cubicBezTo>
              </a:path>
              <a:path w="2655" h="2581">
                <a:moveTo>
                  <a:pt x="5159" y="11385"/>
                </a:moveTo>
                <a:cubicBezTo>
                  <a:pt x="5184" y="11452"/>
                  <a:pt x="5200" y="11513"/>
                  <a:pt x="5209" y="11584"/>
                </a:cubicBezTo>
              </a:path>
              <a:path w="2655" h="2581">
                <a:moveTo>
                  <a:pt x="5730" y="11212"/>
                </a:moveTo>
                <a:cubicBezTo>
                  <a:pt x="5746" y="11212"/>
                  <a:pt x="5763" y="11212"/>
                  <a:pt x="5779" y="11212"/>
                </a:cubicBezTo>
                <a:cubicBezTo>
                  <a:pt x="5726" y="11212"/>
                  <a:pt x="5705" y="11228"/>
                  <a:pt x="5655" y="11237"/>
                </a:cubicBezTo>
                <a:cubicBezTo>
                  <a:pt x="5618" y="11244"/>
                  <a:pt x="5570" y="11237"/>
                  <a:pt x="5531" y="11237"/>
                </a:cubicBezTo>
              </a:path>
              <a:path w="2655" h="2581">
                <a:moveTo>
                  <a:pt x="5730" y="11311"/>
                </a:moveTo>
                <a:cubicBezTo>
                  <a:pt x="5746" y="11311"/>
                  <a:pt x="5763" y="11311"/>
                  <a:pt x="5779" y="11311"/>
                </a:cubicBezTo>
                <a:cubicBezTo>
                  <a:pt x="5779" y="11350"/>
                  <a:pt x="5774" y="11376"/>
                  <a:pt x="5730" y="11385"/>
                </a:cubicBezTo>
                <a:cubicBezTo>
                  <a:pt x="5679" y="11395"/>
                  <a:pt x="5651" y="11399"/>
                  <a:pt x="5606" y="11410"/>
                </a:cubicBezTo>
              </a:path>
              <a:path w="2655" h="2581">
                <a:moveTo>
                  <a:pt x="6077" y="10964"/>
                </a:moveTo>
                <a:cubicBezTo>
                  <a:pt x="6069" y="10964"/>
                  <a:pt x="6060" y="10964"/>
                  <a:pt x="6052" y="10964"/>
                </a:cubicBezTo>
                <a:cubicBezTo>
                  <a:pt x="6060" y="10941"/>
                  <a:pt x="6094" y="10910"/>
                  <a:pt x="6127" y="10889"/>
                </a:cubicBezTo>
                <a:cubicBezTo>
                  <a:pt x="6181" y="10854"/>
                  <a:pt x="6238" y="10864"/>
                  <a:pt x="6300" y="10864"/>
                </a:cubicBezTo>
                <a:cubicBezTo>
                  <a:pt x="6371" y="10864"/>
                  <a:pt x="6404" y="10914"/>
                  <a:pt x="6375" y="10988"/>
                </a:cubicBezTo>
                <a:cubicBezTo>
                  <a:pt x="6353" y="11044"/>
                  <a:pt x="6288" y="11093"/>
                  <a:pt x="6251" y="11137"/>
                </a:cubicBezTo>
                <a:cubicBezTo>
                  <a:pt x="6228" y="11160"/>
                  <a:pt x="6220" y="11164"/>
                  <a:pt x="6226" y="11187"/>
                </a:cubicBezTo>
                <a:cubicBezTo>
                  <a:pt x="6270" y="11220"/>
                  <a:pt x="6292" y="11212"/>
                  <a:pt x="6350" y="11212"/>
                </a:cubicBezTo>
                <a:cubicBezTo>
                  <a:pt x="6391" y="11212"/>
                  <a:pt x="6399" y="11212"/>
                  <a:pt x="6424" y="11212"/>
                </a:cubicBezTo>
                <a:cubicBezTo>
                  <a:pt x="6424" y="11252"/>
                  <a:pt x="6434" y="11305"/>
                  <a:pt x="6400" y="11336"/>
                </a:cubicBezTo>
                <a:cubicBezTo>
                  <a:pt x="6372" y="11362"/>
                  <a:pt x="6309" y="11391"/>
                  <a:pt x="6276" y="11410"/>
                </a:cubicBezTo>
              </a:path>
              <a:path w="2655" h="2581">
                <a:moveTo>
                  <a:pt x="4713" y="12105"/>
                </a:moveTo>
                <a:cubicBezTo>
                  <a:pt x="4721" y="12105"/>
                  <a:pt x="4730" y="12105"/>
                  <a:pt x="4738" y="12105"/>
                </a:cubicBezTo>
              </a:path>
              <a:path w="2655" h="2581">
                <a:moveTo>
                  <a:pt x="4713" y="12105"/>
                </a:moveTo>
                <a:cubicBezTo>
                  <a:pt x="4775" y="12094"/>
                  <a:pt x="4762" y="12113"/>
                  <a:pt x="4762" y="12055"/>
                </a:cubicBezTo>
                <a:cubicBezTo>
                  <a:pt x="4712" y="12068"/>
                  <a:pt x="4675" y="12124"/>
                  <a:pt x="4663" y="12179"/>
                </a:cubicBezTo>
                <a:cubicBezTo>
                  <a:pt x="4649" y="12242"/>
                  <a:pt x="4691" y="12320"/>
                  <a:pt x="4762" y="12303"/>
                </a:cubicBezTo>
                <a:cubicBezTo>
                  <a:pt x="4865" y="12279"/>
                  <a:pt x="4859" y="12109"/>
                  <a:pt x="4862" y="12030"/>
                </a:cubicBezTo>
                <a:cubicBezTo>
                  <a:pt x="4864" y="11960"/>
                  <a:pt x="4879" y="11901"/>
                  <a:pt x="4887" y="11832"/>
                </a:cubicBezTo>
                <a:cubicBezTo>
                  <a:pt x="4856" y="11770"/>
                  <a:pt x="4856" y="11902"/>
                  <a:pt x="4862" y="11931"/>
                </a:cubicBezTo>
                <a:cubicBezTo>
                  <a:pt x="4885" y="12037"/>
                  <a:pt x="4942" y="12132"/>
                  <a:pt x="4986" y="12229"/>
                </a:cubicBezTo>
                <a:cubicBezTo>
                  <a:pt x="4994" y="12245"/>
                  <a:pt x="5003" y="12262"/>
                  <a:pt x="5011" y="12278"/>
                </a:cubicBezTo>
              </a:path>
              <a:path w="2655" h="2581">
                <a:moveTo>
                  <a:pt x="5556" y="12005"/>
                </a:moveTo>
                <a:cubicBezTo>
                  <a:pt x="5573" y="11997"/>
                  <a:pt x="5589" y="11989"/>
                  <a:pt x="5606" y="11981"/>
                </a:cubicBezTo>
                <a:cubicBezTo>
                  <a:pt x="5567" y="12009"/>
                  <a:pt x="5507" y="12040"/>
                  <a:pt x="5457" y="12055"/>
                </a:cubicBezTo>
                <a:cubicBezTo>
                  <a:pt x="5429" y="12055"/>
                  <a:pt x="5418" y="12057"/>
                  <a:pt x="5407" y="12080"/>
                </a:cubicBezTo>
              </a:path>
              <a:path w="2655" h="2581">
                <a:moveTo>
                  <a:pt x="5606" y="12080"/>
                </a:moveTo>
                <a:cubicBezTo>
                  <a:pt x="5622" y="12080"/>
                  <a:pt x="5639" y="12080"/>
                  <a:pt x="5655" y="12080"/>
                </a:cubicBezTo>
                <a:cubicBezTo>
                  <a:pt x="5638" y="12132"/>
                  <a:pt x="5604" y="12105"/>
                  <a:pt x="5556" y="12129"/>
                </a:cubicBezTo>
                <a:cubicBezTo>
                  <a:pt x="5528" y="12157"/>
                  <a:pt x="5515" y="12166"/>
                  <a:pt x="5482" y="12154"/>
                </a:cubicBezTo>
              </a:path>
              <a:path w="2655" h="2581">
                <a:moveTo>
                  <a:pt x="6176" y="11832"/>
                </a:moveTo>
                <a:cubicBezTo>
                  <a:pt x="6176" y="11776"/>
                  <a:pt x="6175" y="11754"/>
                  <a:pt x="6201" y="11708"/>
                </a:cubicBezTo>
                <a:cubicBezTo>
                  <a:pt x="6242" y="11636"/>
                  <a:pt x="6293" y="11613"/>
                  <a:pt x="6375" y="11609"/>
                </a:cubicBezTo>
                <a:cubicBezTo>
                  <a:pt x="6420" y="11607"/>
                  <a:pt x="6506" y="11597"/>
                  <a:pt x="6524" y="11658"/>
                </a:cubicBezTo>
                <a:cubicBezTo>
                  <a:pt x="6543" y="11726"/>
                  <a:pt x="6474" y="11798"/>
                  <a:pt x="6424" y="11832"/>
                </a:cubicBezTo>
                <a:cubicBezTo>
                  <a:pt x="6375" y="11865"/>
                  <a:pt x="6363" y="11854"/>
                  <a:pt x="6350" y="11906"/>
                </a:cubicBezTo>
                <a:cubicBezTo>
                  <a:pt x="6405" y="11906"/>
                  <a:pt x="6444" y="11927"/>
                  <a:pt x="6499" y="11931"/>
                </a:cubicBezTo>
                <a:cubicBezTo>
                  <a:pt x="6523" y="11933"/>
                  <a:pt x="6582" y="11975"/>
                  <a:pt x="6548" y="12005"/>
                </a:cubicBezTo>
                <a:cubicBezTo>
                  <a:pt x="6513" y="12037"/>
                  <a:pt x="6422" y="12097"/>
                  <a:pt x="6375" y="12105"/>
                </a:cubicBezTo>
                <a:cubicBezTo>
                  <a:pt x="6350" y="12105"/>
                  <a:pt x="6325" y="12105"/>
                  <a:pt x="6300" y="12105"/>
                </a:cubicBezTo>
              </a:path>
              <a:path w="2655" h="2581">
                <a:moveTo>
                  <a:pt x="3894" y="13221"/>
                </a:moveTo>
                <a:cubicBezTo>
                  <a:pt x="3894" y="13179"/>
                  <a:pt x="3894" y="13154"/>
                  <a:pt x="3894" y="13196"/>
                </a:cubicBezTo>
                <a:cubicBezTo>
                  <a:pt x="3894" y="13270"/>
                  <a:pt x="3913" y="13324"/>
                  <a:pt x="3919" y="13395"/>
                </a:cubicBezTo>
                <a:cubicBezTo>
                  <a:pt x="3920" y="13404"/>
                  <a:pt x="3919" y="13485"/>
                  <a:pt x="3919" y="13419"/>
                </a:cubicBezTo>
                <a:cubicBezTo>
                  <a:pt x="3950" y="13339"/>
                  <a:pt x="3960" y="13254"/>
                  <a:pt x="3994" y="13171"/>
                </a:cubicBezTo>
                <a:cubicBezTo>
                  <a:pt x="4016" y="13117"/>
                  <a:pt x="4065" y="13053"/>
                  <a:pt x="4118" y="13122"/>
                </a:cubicBezTo>
                <a:cubicBezTo>
                  <a:pt x="4167" y="13186"/>
                  <a:pt x="4188" y="13293"/>
                  <a:pt x="4192" y="13370"/>
                </a:cubicBezTo>
                <a:cubicBezTo>
                  <a:pt x="4192" y="13386"/>
                  <a:pt x="4192" y="13403"/>
                  <a:pt x="4192" y="13419"/>
                </a:cubicBezTo>
              </a:path>
              <a:path w="2655" h="2581">
                <a:moveTo>
                  <a:pt x="4787" y="13097"/>
                </a:moveTo>
                <a:cubicBezTo>
                  <a:pt x="4812" y="13097"/>
                  <a:pt x="4820" y="13097"/>
                  <a:pt x="4837" y="13097"/>
                </a:cubicBezTo>
                <a:cubicBezTo>
                  <a:pt x="4789" y="13097"/>
                  <a:pt x="4728" y="13103"/>
                  <a:pt x="4688" y="13122"/>
                </a:cubicBezTo>
                <a:cubicBezTo>
                  <a:pt x="4665" y="13144"/>
                  <a:pt x="4660" y="13152"/>
                  <a:pt x="4638" y="13146"/>
                </a:cubicBezTo>
              </a:path>
              <a:path w="2655" h="2581">
                <a:moveTo>
                  <a:pt x="4787" y="13196"/>
                </a:moveTo>
                <a:cubicBezTo>
                  <a:pt x="4829" y="13196"/>
                  <a:pt x="4837" y="13196"/>
                  <a:pt x="4862" y="13196"/>
                </a:cubicBezTo>
                <a:cubicBezTo>
                  <a:pt x="4862" y="13262"/>
                  <a:pt x="4860" y="13229"/>
                  <a:pt x="4812" y="13246"/>
                </a:cubicBezTo>
                <a:cubicBezTo>
                  <a:pt x="4772" y="13266"/>
                  <a:pt x="4765" y="13275"/>
                  <a:pt x="4738" y="13271"/>
                </a:cubicBezTo>
              </a:path>
              <a:path w="2655" h="2581">
                <a:moveTo>
                  <a:pt x="5457" y="13072"/>
                </a:moveTo>
                <a:cubicBezTo>
                  <a:pt x="5444" y="13034"/>
                  <a:pt x="5432" y="13051"/>
                  <a:pt x="5432" y="12998"/>
                </a:cubicBezTo>
                <a:cubicBezTo>
                  <a:pt x="5432" y="12962"/>
                  <a:pt x="5476" y="12918"/>
                  <a:pt x="5507" y="12898"/>
                </a:cubicBezTo>
                <a:cubicBezTo>
                  <a:pt x="5550" y="12871"/>
                  <a:pt x="5655" y="12855"/>
                  <a:pt x="5705" y="12874"/>
                </a:cubicBezTo>
                <a:cubicBezTo>
                  <a:pt x="5770" y="12898"/>
                  <a:pt x="5721" y="13033"/>
                  <a:pt x="5705" y="13072"/>
                </a:cubicBezTo>
                <a:cubicBezTo>
                  <a:pt x="5670" y="13155"/>
                  <a:pt x="5613" y="13204"/>
                  <a:pt x="5606" y="13295"/>
                </a:cubicBezTo>
                <a:cubicBezTo>
                  <a:pt x="5602" y="13348"/>
                  <a:pt x="5641" y="13345"/>
                  <a:pt x="5680" y="13345"/>
                </a:cubicBezTo>
                <a:cubicBezTo>
                  <a:pt x="5732" y="13345"/>
                  <a:pt x="5811" y="13316"/>
                  <a:pt x="5854" y="13295"/>
                </a:cubicBezTo>
                <a:cubicBezTo>
                  <a:pt x="5877" y="13273"/>
                  <a:pt x="5882" y="13265"/>
                  <a:pt x="5904" y="13271"/>
                </a:cubicBezTo>
              </a:path>
              <a:path w="2655" h="2581">
                <a:moveTo>
                  <a:pt x="6127" y="13047"/>
                </a:moveTo>
                <a:cubicBezTo>
                  <a:pt x="6160" y="13003"/>
                  <a:pt x="6136" y="12995"/>
                  <a:pt x="6152" y="12948"/>
                </a:cubicBezTo>
                <a:cubicBezTo>
                  <a:pt x="6176" y="12877"/>
                  <a:pt x="6169" y="12826"/>
                  <a:pt x="6251" y="12799"/>
                </a:cubicBezTo>
                <a:cubicBezTo>
                  <a:pt x="6333" y="12772"/>
                  <a:pt x="6381" y="12899"/>
                  <a:pt x="6400" y="12948"/>
                </a:cubicBezTo>
                <a:cubicBezTo>
                  <a:pt x="6450" y="13079"/>
                  <a:pt x="6436" y="13167"/>
                  <a:pt x="6325" y="13246"/>
                </a:cubicBezTo>
                <a:cubicBezTo>
                  <a:pt x="6245" y="13303"/>
                  <a:pt x="6154" y="13307"/>
                  <a:pt x="6077" y="13246"/>
                </a:cubicBezTo>
                <a:cubicBezTo>
                  <a:pt x="6013" y="13196"/>
                  <a:pt x="6028" y="13168"/>
                  <a:pt x="6028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3080" y="5187960"/>
            <a:ext cx="465120" cy="233280"/>
          </a:xfrm>
          <a:custGeom>
            <a:avLst/>
            <a:gdLst/>
            <a:ahLst/>
            <a:rect l="l" t="t" r="r" b="b"/>
            <a:pathLst>
              <a:path w="1291" h="645">
                <a:moveTo>
                  <a:pt x="3051" y="14412"/>
                </a:moveTo>
                <a:cubicBezTo>
                  <a:pt x="3076" y="14412"/>
                  <a:pt x="3084" y="14412"/>
                  <a:pt x="3101" y="14412"/>
                </a:cubicBezTo>
                <a:cubicBezTo>
                  <a:pt x="3036" y="14412"/>
                  <a:pt x="2992" y="14416"/>
                  <a:pt x="2927" y="14436"/>
                </a:cubicBezTo>
                <a:cubicBezTo>
                  <a:pt x="2855" y="14458"/>
                  <a:pt x="2728" y="14504"/>
                  <a:pt x="2704" y="14585"/>
                </a:cubicBezTo>
                <a:cubicBezTo>
                  <a:pt x="2684" y="14654"/>
                  <a:pt x="2773" y="14697"/>
                  <a:pt x="2828" y="14709"/>
                </a:cubicBezTo>
                <a:cubicBezTo>
                  <a:pt x="2903" y="14726"/>
                  <a:pt x="2937" y="14701"/>
                  <a:pt x="3001" y="14759"/>
                </a:cubicBezTo>
                <a:cubicBezTo>
                  <a:pt x="3042" y="14797"/>
                  <a:pt x="3079" y="14859"/>
                  <a:pt x="3026" y="14908"/>
                </a:cubicBezTo>
                <a:cubicBezTo>
                  <a:pt x="2979" y="14951"/>
                  <a:pt x="2888" y="14979"/>
                  <a:pt x="2828" y="14982"/>
                </a:cubicBezTo>
                <a:cubicBezTo>
                  <a:pt x="2811" y="14982"/>
                  <a:pt x="2795" y="14982"/>
                  <a:pt x="2778" y="14982"/>
                </a:cubicBezTo>
              </a:path>
              <a:path w="1291" h="645">
                <a:moveTo>
                  <a:pt x="3324" y="14808"/>
                </a:moveTo>
                <a:cubicBezTo>
                  <a:pt x="3334" y="14780"/>
                  <a:pt x="3358" y="14763"/>
                  <a:pt x="3398" y="14759"/>
                </a:cubicBezTo>
                <a:cubicBezTo>
                  <a:pt x="3442" y="14754"/>
                  <a:pt x="3465" y="14756"/>
                  <a:pt x="3497" y="14784"/>
                </a:cubicBezTo>
                <a:cubicBezTo>
                  <a:pt x="3558" y="14838"/>
                  <a:pt x="3514" y="14887"/>
                  <a:pt x="3473" y="14932"/>
                </a:cubicBezTo>
                <a:cubicBezTo>
                  <a:pt x="3436" y="14973"/>
                  <a:pt x="3414" y="15017"/>
                  <a:pt x="3373" y="15056"/>
                </a:cubicBezTo>
                <a:cubicBezTo>
                  <a:pt x="3418" y="15056"/>
                  <a:pt x="3439" y="15063"/>
                  <a:pt x="3473" y="15032"/>
                </a:cubicBezTo>
                <a:cubicBezTo>
                  <a:pt x="3506" y="15002"/>
                  <a:pt x="3555" y="14992"/>
                  <a:pt x="3597" y="14982"/>
                </a:cubicBezTo>
              </a:path>
              <a:path w="1291" h="645">
                <a:moveTo>
                  <a:pt x="3746" y="14908"/>
                </a:moveTo>
                <a:cubicBezTo>
                  <a:pt x="3780" y="14861"/>
                  <a:pt x="3774" y="14830"/>
                  <a:pt x="3820" y="14784"/>
                </a:cubicBezTo>
                <a:cubicBezTo>
                  <a:pt x="3866" y="14738"/>
                  <a:pt x="3900" y="14767"/>
                  <a:pt x="3944" y="14808"/>
                </a:cubicBezTo>
                <a:cubicBezTo>
                  <a:pt x="3993" y="14853"/>
                  <a:pt x="4030" y="14946"/>
                  <a:pt x="3969" y="15007"/>
                </a:cubicBezTo>
                <a:cubicBezTo>
                  <a:pt x="3926" y="15050"/>
                  <a:pt x="3859" y="15038"/>
                  <a:pt x="3820" y="15007"/>
                </a:cubicBezTo>
                <a:cubicBezTo>
                  <a:pt x="3812" y="14999"/>
                  <a:pt x="3803" y="14990"/>
                  <a:pt x="3795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7960" y="5286240"/>
            <a:ext cx="108000" cy="7164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4862" y="14684"/>
                </a:moveTo>
                <a:cubicBezTo>
                  <a:pt x="4799" y="14684"/>
                  <a:pt x="4771" y="14704"/>
                  <a:pt x="4713" y="14709"/>
                </a:cubicBezTo>
                <a:cubicBezTo>
                  <a:pt x="4685" y="14709"/>
                  <a:pt x="4674" y="14711"/>
                  <a:pt x="4663" y="14734"/>
                </a:cubicBezTo>
              </a:path>
              <a:path w="299" h="200">
                <a:moveTo>
                  <a:pt x="4936" y="14784"/>
                </a:moveTo>
                <a:cubicBezTo>
                  <a:pt x="4944" y="14784"/>
                  <a:pt x="4953" y="14784"/>
                  <a:pt x="4961" y="14784"/>
                </a:cubicBezTo>
                <a:cubicBezTo>
                  <a:pt x="4946" y="14842"/>
                  <a:pt x="4914" y="14837"/>
                  <a:pt x="4862" y="14858"/>
                </a:cubicBezTo>
                <a:cubicBezTo>
                  <a:pt x="4821" y="14878"/>
                  <a:pt x="4815" y="14887"/>
                  <a:pt x="4787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09880" y="5143680"/>
            <a:ext cx="79200" cy="304560"/>
          </a:xfrm>
          <a:custGeom>
            <a:avLst/>
            <a:gdLst/>
            <a:ahLst/>
            <a:rect l="l" t="t" r="r" b="b"/>
            <a:pathLst>
              <a:path w="224" h="844">
                <a:moveTo>
                  <a:pt x="5705" y="14337"/>
                </a:moveTo>
                <a:cubicBezTo>
                  <a:pt x="5726" y="14306"/>
                  <a:pt x="5774" y="14251"/>
                  <a:pt x="5705" y="14288"/>
                </a:cubicBezTo>
                <a:cubicBezTo>
                  <a:pt x="5633" y="14326"/>
                  <a:pt x="5590" y="14436"/>
                  <a:pt x="5581" y="14511"/>
                </a:cubicBezTo>
                <a:cubicBezTo>
                  <a:pt x="5563" y="14654"/>
                  <a:pt x="5631" y="14781"/>
                  <a:pt x="5680" y="14908"/>
                </a:cubicBezTo>
                <a:cubicBezTo>
                  <a:pt x="5712" y="14992"/>
                  <a:pt x="5761" y="15054"/>
                  <a:pt x="5804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32000" y="5205240"/>
            <a:ext cx="98280" cy="189000"/>
          </a:xfrm>
          <a:custGeom>
            <a:avLst/>
            <a:gdLst/>
            <a:ahLst/>
            <a:rect l="l" t="t" r="r" b="b"/>
            <a:pathLst>
              <a:path w="274" h="522">
                <a:moveTo>
                  <a:pt x="6251" y="14536"/>
                </a:moveTo>
                <a:cubicBezTo>
                  <a:pt x="6256" y="14514"/>
                  <a:pt x="6308" y="14467"/>
                  <a:pt x="6300" y="14461"/>
                </a:cubicBezTo>
                <a:cubicBezTo>
                  <a:pt x="6292" y="14461"/>
                  <a:pt x="6284" y="14461"/>
                  <a:pt x="6276" y="14461"/>
                </a:cubicBezTo>
                <a:cubicBezTo>
                  <a:pt x="6247" y="14509"/>
                  <a:pt x="6210" y="14599"/>
                  <a:pt x="6201" y="14660"/>
                </a:cubicBezTo>
                <a:cubicBezTo>
                  <a:pt x="6185" y="14764"/>
                  <a:pt x="6204" y="14828"/>
                  <a:pt x="6251" y="14908"/>
                </a:cubicBezTo>
                <a:cubicBezTo>
                  <a:pt x="6299" y="14991"/>
                  <a:pt x="6339" y="14995"/>
                  <a:pt x="6424" y="14957"/>
                </a:cubicBezTo>
                <a:cubicBezTo>
                  <a:pt x="6473" y="14935"/>
                  <a:pt x="6503" y="14865"/>
                  <a:pt x="6474" y="14808"/>
                </a:cubicBezTo>
                <a:cubicBezTo>
                  <a:pt x="6441" y="14743"/>
                  <a:pt x="6378" y="14752"/>
                  <a:pt x="6325" y="14784"/>
                </a:cubicBezTo>
                <a:cubicBezTo>
                  <a:pt x="6317" y="14792"/>
                  <a:pt x="6308" y="14800"/>
                  <a:pt x="6300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90840" y="5276880"/>
            <a:ext cx="98280" cy="27000"/>
          </a:xfrm>
          <a:custGeom>
            <a:avLst/>
            <a:gdLst/>
            <a:ahLst/>
            <a:rect l="l" t="t" r="r" b="b"/>
            <a:pathLst>
              <a:path w="273" h="75">
                <a:moveTo>
                  <a:pt x="6921" y="14734"/>
                </a:moveTo>
                <a:cubicBezTo>
                  <a:pt x="6984" y="14734"/>
                  <a:pt x="7012" y="14736"/>
                  <a:pt x="7069" y="14709"/>
                </a:cubicBezTo>
                <a:cubicBezTo>
                  <a:pt x="7115" y="14687"/>
                  <a:pt x="7147" y="14679"/>
                  <a:pt x="7193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0040" y="5214960"/>
            <a:ext cx="1764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7888" y="14536"/>
                </a:moveTo>
                <a:cubicBezTo>
                  <a:pt x="7888" y="14511"/>
                  <a:pt x="7888" y="14503"/>
                  <a:pt x="7888" y="14486"/>
                </a:cubicBezTo>
                <a:cubicBezTo>
                  <a:pt x="7888" y="14557"/>
                  <a:pt x="7904" y="14615"/>
                  <a:pt x="7913" y="14684"/>
                </a:cubicBezTo>
                <a:cubicBezTo>
                  <a:pt x="7922" y="14752"/>
                  <a:pt x="7938" y="14814"/>
                  <a:pt x="7938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17880" y="5089680"/>
            <a:ext cx="741240" cy="312480"/>
          </a:xfrm>
          <a:custGeom>
            <a:avLst/>
            <a:gdLst/>
            <a:ahLst/>
            <a:rect l="l" t="t" r="r" b="b"/>
            <a:pathLst>
              <a:path w="2060" h="869">
                <a:moveTo>
                  <a:pt x="8508" y="14436"/>
                </a:moveTo>
                <a:cubicBezTo>
                  <a:pt x="8552" y="14429"/>
                  <a:pt x="8569" y="14415"/>
                  <a:pt x="8582" y="14387"/>
                </a:cubicBezTo>
                <a:cubicBezTo>
                  <a:pt x="8582" y="14379"/>
                  <a:pt x="8582" y="14370"/>
                  <a:pt x="8582" y="14362"/>
                </a:cubicBezTo>
                <a:cubicBezTo>
                  <a:pt x="8510" y="14362"/>
                  <a:pt x="8483" y="14347"/>
                  <a:pt x="8434" y="14412"/>
                </a:cubicBezTo>
                <a:cubicBezTo>
                  <a:pt x="8397" y="14461"/>
                  <a:pt x="8352" y="14529"/>
                  <a:pt x="8409" y="14585"/>
                </a:cubicBezTo>
                <a:cubicBezTo>
                  <a:pt x="8456" y="14631"/>
                  <a:pt x="8536" y="14533"/>
                  <a:pt x="8558" y="14511"/>
                </a:cubicBezTo>
                <a:cubicBezTo>
                  <a:pt x="8589" y="14479"/>
                  <a:pt x="8584" y="14449"/>
                  <a:pt x="8607" y="14412"/>
                </a:cubicBezTo>
                <a:cubicBezTo>
                  <a:pt x="8644" y="14484"/>
                  <a:pt x="8660" y="14596"/>
                  <a:pt x="8682" y="14684"/>
                </a:cubicBezTo>
                <a:cubicBezTo>
                  <a:pt x="8700" y="14757"/>
                  <a:pt x="8722" y="14812"/>
                  <a:pt x="8731" y="14883"/>
                </a:cubicBezTo>
              </a:path>
              <a:path w="2060" h="869">
                <a:moveTo>
                  <a:pt x="9153" y="14536"/>
                </a:moveTo>
                <a:cubicBezTo>
                  <a:pt x="9178" y="14536"/>
                  <a:pt x="9186" y="14536"/>
                  <a:pt x="9203" y="14536"/>
                </a:cubicBezTo>
                <a:cubicBezTo>
                  <a:pt x="9162" y="14586"/>
                  <a:pt x="9115" y="14639"/>
                  <a:pt x="9079" y="14684"/>
                </a:cubicBezTo>
                <a:cubicBezTo>
                  <a:pt x="9047" y="14724"/>
                  <a:pt x="9029" y="14759"/>
                  <a:pt x="9029" y="14808"/>
                </a:cubicBezTo>
              </a:path>
              <a:path w="2060" h="869">
                <a:moveTo>
                  <a:pt x="9227" y="14808"/>
                </a:moveTo>
                <a:cubicBezTo>
                  <a:pt x="9250" y="14786"/>
                  <a:pt x="9258" y="14781"/>
                  <a:pt x="9252" y="14759"/>
                </a:cubicBezTo>
                <a:cubicBezTo>
                  <a:pt x="9209" y="14748"/>
                  <a:pt x="9176" y="14718"/>
                  <a:pt x="9128" y="14709"/>
                </a:cubicBezTo>
                <a:cubicBezTo>
                  <a:pt x="9082" y="14701"/>
                  <a:pt x="9069" y="14694"/>
                  <a:pt x="9029" y="14684"/>
                </a:cubicBezTo>
              </a:path>
              <a:path w="2060" h="869">
                <a:moveTo>
                  <a:pt x="9426" y="14461"/>
                </a:moveTo>
                <a:cubicBezTo>
                  <a:pt x="9418" y="14453"/>
                  <a:pt x="9409" y="14444"/>
                  <a:pt x="9401" y="14436"/>
                </a:cubicBezTo>
                <a:cubicBezTo>
                  <a:pt x="9408" y="14415"/>
                  <a:pt x="9444" y="14382"/>
                  <a:pt x="9475" y="14362"/>
                </a:cubicBezTo>
                <a:cubicBezTo>
                  <a:pt x="9514" y="14337"/>
                  <a:pt x="9676" y="14308"/>
                  <a:pt x="9723" y="14312"/>
                </a:cubicBezTo>
                <a:cubicBezTo>
                  <a:pt x="9749" y="14315"/>
                  <a:pt x="9840" y="14374"/>
                  <a:pt x="9823" y="14412"/>
                </a:cubicBezTo>
                <a:cubicBezTo>
                  <a:pt x="9804" y="14454"/>
                  <a:pt x="9730" y="14519"/>
                  <a:pt x="9699" y="14560"/>
                </a:cubicBezTo>
                <a:cubicBezTo>
                  <a:pt x="9673" y="14595"/>
                  <a:pt x="9674" y="14591"/>
                  <a:pt x="9674" y="14635"/>
                </a:cubicBezTo>
                <a:cubicBezTo>
                  <a:pt x="9717" y="14635"/>
                  <a:pt x="9759" y="14647"/>
                  <a:pt x="9798" y="14660"/>
                </a:cubicBezTo>
                <a:cubicBezTo>
                  <a:pt x="9842" y="14675"/>
                  <a:pt x="9914" y="14721"/>
                  <a:pt x="9922" y="14759"/>
                </a:cubicBezTo>
                <a:cubicBezTo>
                  <a:pt x="9935" y="14817"/>
                  <a:pt x="9859" y="14831"/>
                  <a:pt x="9823" y="14833"/>
                </a:cubicBezTo>
                <a:cubicBezTo>
                  <a:pt x="9766" y="14836"/>
                  <a:pt x="9721" y="14854"/>
                  <a:pt x="9674" y="14883"/>
                </a:cubicBezTo>
              </a:path>
              <a:path w="2060" h="869">
                <a:moveTo>
                  <a:pt x="9922" y="14163"/>
                </a:moveTo>
                <a:cubicBezTo>
                  <a:pt x="9956" y="14138"/>
                  <a:pt x="9999" y="14124"/>
                  <a:pt x="10046" y="14139"/>
                </a:cubicBezTo>
                <a:cubicBezTo>
                  <a:pt x="10130" y="14166"/>
                  <a:pt x="10226" y="14205"/>
                  <a:pt x="10294" y="14263"/>
                </a:cubicBezTo>
                <a:cubicBezTo>
                  <a:pt x="10414" y="14365"/>
                  <a:pt x="10439" y="14459"/>
                  <a:pt x="10443" y="14610"/>
                </a:cubicBezTo>
                <a:cubicBezTo>
                  <a:pt x="10447" y="14736"/>
                  <a:pt x="10393" y="14850"/>
                  <a:pt x="10294" y="14932"/>
                </a:cubicBezTo>
                <a:cubicBezTo>
                  <a:pt x="10235" y="14972"/>
                  <a:pt x="10223" y="14976"/>
                  <a:pt x="10195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87680" y="5680080"/>
            <a:ext cx="9828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4787" y="15776"/>
                </a:moveTo>
                <a:cubicBezTo>
                  <a:pt x="4818" y="15799"/>
                  <a:pt x="4830" y="15802"/>
                  <a:pt x="4862" y="15825"/>
                </a:cubicBezTo>
                <a:cubicBezTo>
                  <a:pt x="4798" y="15825"/>
                  <a:pt x="4737" y="15813"/>
                  <a:pt x="4688" y="15850"/>
                </a:cubicBezTo>
              </a:path>
              <a:path w="274" h="373">
                <a:moveTo>
                  <a:pt x="4911" y="15999"/>
                </a:moveTo>
                <a:cubicBezTo>
                  <a:pt x="4971" y="16039"/>
                  <a:pt x="4982" y="16062"/>
                  <a:pt x="4911" y="16098"/>
                </a:cubicBezTo>
                <a:cubicBezTo>
                  <a:pt x="4868" y="16120"/>
                  <a:pt x="4856" y="16124"/>
                  <a:pt x="4837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71800" y="5661000"/>
            <a:ext cx="563400" cy="241200"/>
          </a:xfrm>
          <a:custGeom>
            <a:avLst/>
            <a:gdLst/>
            <a:ahLst/>
            <a:rect l="l" t="t" r="r" b="b"/>
            <a:pathLst>
              <a:path w="1563" h="671">
                <a:moveTo>
                  <a:pt x="5928" y="15776"/>
                </a:moveTo>
                <a:cubicBezTo>
                  <a:pt x="5951" y="15753"/>
                  <a:pt x="5959" y="15749"/>
                  <a:pt x="5953" y="15726"/>
                </a:cubicBezTo>
                <a:cubicBezTo>
                  <a:pt x="5900" y="15726"/>
                  <a:pt x="5892" y="15738"/>
                  <a:pt x="5854" y="15776"/>
                </a:cubicBezTo>
                <a:cubicBezTo>
                  <a:pt x="5831" y="15799"/>
                  <a:pt x="5787" y="15871"/>
                  <a:pt x="5779" y="15900"/>
                </a:cubicBezTo>
                <a:cubicBezTo>
                  <a:pt x="5762" y="15964"/>
                  <a:pt x="5755" y="16029"/>
                  <a:pt x="5755" y="16098"/>
                </a:cubicBezTo>
                <a:cubicBezTo>
                  <a:pt x="5755" y="16156"/>
                  <a:pt x="5770" y="16201"/>
                  <a:pt x="5779" y="16247"/>
                </a:cubicBezTo>
                <a:cubicBezTo>
                  <a:pt x="5792" y="16317"/>
                  <a:pt x="5808" y="16321"/>
                  <a:pt x="5879" y="16321"/>
                </a:cubicBezTo>
                <a:cubicBezTo>
                  <a:pt x="5931" y="16321"/>
                  <a:pt x="5997" y="16327"/>
                  <a:pt x="6028" y="16272"/>
                </a:cubicBezTo>
                <a:cubicBezTo>
                  <a:pt x="6044" y="16243"/>
                  <a:pt x="6052" y="16210"/>
                  <a:pt x="6052" y="16173"/>
                </a:cubicBezTo>
                <a:cubicBezTo>
                  <a:pt x="5983" y="16173"/>
                  <a:pt x="5908" y="16158"/>
                  <a:pt x="5854" y="16197"/>
                </a:cubicBezTo>
              </a:path>
              <a:path w="1563" h="671">
                <a:moveTo>
                  <a:pt x="6226" y="15974"/>
                </a:moveTo>
                <a:cubicBezTo>
                  <a:pt x="6239" y="15935"/>
                  <a:pt x="6248" y="15946"/>
                  <a:pt x="6276" y="15925"/>
                </a:cubicBezTo>
                <a:cubicBezTo>
                  <a:pt x="6328" y="15885"/>
                  <a:pt x="6356" y="15866"/>
                  <a:pt x="6424" y="15850"/>
                </a:cubicBezTo>
                <a:cubicBezTo>
                  <a:pt x="6486" y="15836"/>
                  <a:pt x="6509" y="15860"/>
                  <a:pt x="6548" y="15900"/>
                </a:cubicBezTo>
                <a:cubicBezTo>
                  <a:pt x="6587" y="15939"/>
                  <a:pt x="6579" y="15976"/>
                  <a:pt x="6548" y="16024"/>
                </a:cubicBezTo>
                <a:cubicBezTo>
                  <a:pt x="6522" y="16064"/>
                  <a:pt x="6480" y="16073"/>
                  <a:pt x="6474" y="16123"/>
                </a:cubicBezTo>
                <a:cubicBezTo>
                  <a:pt x="6467" y="16186"/>
                  <a:pt x="6514" y="16161"/>
                  <a:pt x="6548" y="16173"/>
                </a:cubicBezTo>
                <a:cubicBezTo>
                  <a:pt x="6596" y="16190"/>
                  <a:pt x="6642" y="16194"/>
                  <a:pt x="6648" y="16247"/>
                </a:cubicBezTo>
                <a:cubicBezTo>
                  <a:pt x="6652" y="16287"/>
                  <a:pt x="6612" y="16354"/>
                  <a:pt x="6573" y="16371"/>
                </a:cubicBezTo>
                <a:cubicBezTo>
                  <a:pt x="6536" y="16387"/>
                  <a:pt x="6492" y="16396"/>
                  <a:pt x="6449" y="16396"/>
                </a:cubicBezTo>
              </a:path>
              <a:path w="1563" h="671">
                <a:moveTo>
                  <a:pt x="6945" y="16123"/>
                </a:moveTo>
                <a:cubicBezTo>
                  <a:pt x="6945" y="16061"/>
                  <a:pt x="6941" y="16024"/>
                  <a:pt x="6970" y="15974"/>
                </a:cubicBezTo>
                <a:cubicBezTo>
                  <a:pt x="7005" y="15914"/>
                  <a:pt x="7045" y="15866"/>
                  <a:pt x="7119" y="15850"/>
                </a:cubicBezTo>
                <a:cubicBezTo>
                  <a:pt x="7225" y="15826"/>
                  <a:pt x="7252" y="15866"/>
                  <a:pt x="7293" y="15949"/>
                </a:cubicBezTo>
                <a:cubicBezTo>
                  <a:pt x="7346" y="16057"/>
                  <a:pt x="7319" y="16134"/>
                  <a:pt x="7268" y="16222"/>
                </a:cubicBezTo>
                <a:cubicBezTo>
                  <a:pt x="7224" y="16299"/>
                  <a:pt x="7139" y="16338"/>
                  <a:pt x="7045" y="16321"/>
                </a:cubicBezTo>
                <a:cubicBezTo>
                  <a:pt x="6968" y="16308"/>
                  <a:pt x="6948" y="16211"/>
                  <a:pt x="6945" y="16148"/>
                </a:cubicBezTo>
                <a:cubicBezTo>
                  <a:pt x="6941" y="16072"/>
                  <a:pt x="6972" y="16053"/>
                  <a:pt x="7020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0760" y="3490920"/>
            <a:ext cx="330120" cy="339840"/>
          </a:xfrm>
          <a:custGeom>
            <a:avLst/>
            <a:gdLst/>
            <a:ahLst/>
            <a:rect l="l" t="t" r="r" b="b"/>
            <a:pathLst>
              <a:path w="918" h="943">
                <a:moveTo>
                  <a:pt x="13891" y="10021"/>
                </a:moveTo>
                <a:cubicBezTo>
                  <a:pt x="13942" y="10003"/>
                  <a:pt x="13915" y="10100"/>
                  <a:pt x="13915" y="10170"/>
                </a:cubicBezTo>
                <a:cubicBezTo>
                  <a:pt x="13915" y="10277"/>
                  <a:pt x="13915" y="10385"/>
                  <a:pt x="13915" y="10492"/>
                </a:cubicBezTo>
              </a:path>
              <a:path w="918" h="943">
                <a:moveTo>
                  <a:pt x="14188" y="10170"/>
                </a:moveTo>
                <a:cubicBezTo>
                  <a:pt x="14211" y="10147"/>
                  <a:pt x="14215" y="10139"/>
                  <a:pt x="14238" y="10145"/>
                </a:cubicBezTo>
                <a:cubicBezTo>
                  <a:pt x="14238" y="10269"/>
                  <a:pt x="14238" y="10393"/>
                  <a:pt x="14238" y="10517"/>
                </a:cubicBezTo>
              </a:path>
              <a:path w="918" h="943">
                <a:moveTo>
                  <a:pt x="14288" y="9872"/>
                </a:moveTo>
                <a:cubicBezTo>
                  <a:pt x="14288" y="9847"/>
                  <a:pt x="14288" y="9839"/>
                  <a:pt x="14288" y="9872"/>
                </a:cubicBezTo>
              </a:path>
              <a:path w="918" h="943">
                <a:moveTo>
                  <a:pt x="14064" y="9773"/>
                </a:moveTo>
                <a:cubicBezTo>
                  <a:pt x="14023" y="9773"/>
                  <a:pt x="13981" y="9773"/>
                  <a:pt x="13940" y="9773"/>
                </a:cubicBezTo>
              </a:path>
              <a:path w="918" h="943">
                <a:moveTo>
                  <a:pt x="14337" y="9723"/>
                </a:moveTo>
                <a:cubicBezTo>
                  <a:pt x="14393" y="9683"/>
                  <a:pt x="14405" y="9712"/>
                  <a:pt x="14461" y="9723"/>
                </a:cubicBezTo>
                <a:cubicBezTo>
                  <a:pt x="14541" y="9738"/>
                  <a:pt x="14595" y="9769"/>
                  <a:pt x="14660" y="9823"/>
                </a:cubicBezTo>
                <a:cubicBezTo>
                  <a:pt x="14749" y="9897"/>
                  <a:pt x="14793" y="10008"/>
                  <a:pt x="14808" y="10120"/>
                </a:cubicBezTo>
                <a:cubicBezTo>
                  <a:pt x="14824" y="10244"/>
                  <a:pt x="14791" y="10314"/>
                  <a:pt x="14734" y="10418"/>
                </a:cubicBezTo>
                <a:cubicBezTo>
                  <a:pt x="14691" y="10497"/>
                  <a:pt x="14624" y="10552"/>
                  <a:pt x="14560" y="10616"/>
                </a:cubicBezTo>
                <a:cubicBezTo>
                  <a:pt x="14552" y="10624"/>
                  <a:pt x="14544" y="10633"/>
                  <a:pt x="14536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18080" y="3554280"/>
            <a:ext cx="376200" cy="21456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5329" y="10368"/>
                </a:moveTo>
                <a:cubicBezTo>
                  <a:pt x="15329" y="10401"/>
                  <a:pt x="15329" y="10435"/>
                  <a:pt x="15329" y="10468"/>
                </a:cubicBezTo>
                <a:cubicBezTo>
                  <a:pt x="15378" y="10452"/>
                  <a:pt x="15362" y="10396"/>
                  <a:pt x="15379" y="10344"/>
                </a:cubicBezTo>
                <a:cubicBezTo>
                  <a:pt x="15409" y="10255"/>
                  <a:pt x="15442" y="10159"/>
                  <a:pt x="15478" y="10071"/>
                </a:cubicBezTo>
                <a:cubicBezTo>
                  <a:pt x="15494" y="10031"/>
                  <a:pt x="15559" y="9966"/>
                  <a:pt x="15602" y="9947"/>
                </a:cubicBezTo>
                <a:cubicBezTo>
                  <a:pt x="15610" y="9947"/>
                  <a:pt x="15619" y="9947"/>
                  <a:pt x="15627" y="9947"/>
                </a:cubicBezTo>
                <a:cubicBezTo>
                  <a:pt x="15641" y="10013"/>
                  <a:pt x="15678" y="10079"/>
                  <a:pt x="15701" y="10145"/>
                </a:cubicBezTo>
                <a:cubicBezTo>
                  <a:pt x="15730" y="10230"/>
                  <a:pt x="15758" y="10308"/>
                  <a:pt x="15776" y="10393"/>
                </a:cubicBezTo>
                <a:cubicBezTo>
                  <a:pt x="15776" y="10401"/>
                  <a:pt x="15776" y="10410"/>
                  <a:pt x="15776" y="10418"/>
                </a:cubicBezTo>
              </a:path>
              <a:path w="1043" h="597">
                <a:moveTo>
                  <a:pt x="15776" y="10244"/>
                </a:moveTo>
                <a:cubicBezTo>
                  <a:pt x="15684" y="10162"/>
                  <a:pt x="15708" y="10170"/>
                  <a:pt x="15602" y="10170"/>
                </a:cubicBezTo>
                <a:cubicBezTo>
                  <a:pt x="15536" y="10170"/>
                  <a:pt x="15505" y="10202"/>
                  <a:pt x="15453" y="10220"/>
                </a:cubicBezTo>
                <a:cubicBezTo>
                  <a:pt x="15445" y="10220"/>
                  <a:pt x="15437" y="10220"/>
                  <a:pt x="15429" y="10220"/>
                </a:cubicBezTo>
              </a:path>
              <a:path w="1043" h="597">
                <a:moveTo>
                  <a:pt x="15949" y="10046"/>
                </a:moveTo>
                <a:cubicBezTo>
                  <a:pt x="16001" y="10046"/>
                  <a:pt x="15999" y="10044"/>
                  <a:pt x="15999" y="10096"/>
                </a:cubicBezTo>
                <a:cubicBezTo>
                  <a:pt x="15999" y="10216"/>
                  <a:pt x="15995" y="10338"/>
                  <a:pt x="16024" y="10443"/>
                </a:cubicBezTo>
                <a:cubicBezTo>
                  <a:pt x="16024" y="10451"/>
                  <a:pt x="16024" y="10460"/>
                  <a:pt x="16024" y="10468"/>
                </a:cubicBezTo>
                <a:cubicBezTo>
                  <a:pt x="16024" y="10387"/>
                  <a:pt x="16010" y="10322"/>
                  <a:pt x="15999" y="10244"/>
                </a:cubicBezTo>
                <a:cubicBezTo>
                  <a:pt x="15989" y="10177"/>
                  <a:pt x="15986" y="10078"/>
                  <a:pt x="16024" y="10021"/>
                </a:cubicBezTo>
                <a:cubicBezTo>
                  <a:pt x="16076" y="9945"/>
                  <a:pt x="16127" y="9890"/>
                  <a:pt x="16222" y="9872"/>
                </a:cubicBezTo>
                <a:cubicBezTo>
                  <a:pt x="16302" y="9857"/>
                  <a:pt x="16355" y="9925"/>
                  <a:pt x="16371" y="9996"/>
                </a:cubicBezTo>
                <a:cubicBezTo>
                  <a:pt x="16390" y="10082"/>
                  <a:pt x="16291" y="10165"/>
                  <a:pt x="16222" y="10195"/>
                </a:cubicBezTo>
                <a:cubicBezTo>
                  <a:pt x="16197" y="10203"/>
                  <a:pt x="16173" y="10212"/>
                  <a:pt x="16148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22960" y="3990960"/>
            <a:ext cx="544320" cy="287280"/>
          </a:xfrm>
          <a:custGeom>
            <a:avLst/>
            <a:gdLst/>
            <a:ahLst/>
            <a:rect l="l" t="t" r="r" b="b"/>
            <a:pathLst>
              <a:path w="1514" h="794">
                <a:moveTo>
                  <a:pt x="15106" y="11112"/>
                </a:moveTo>
                <a:cubicBezTo>
                  <a:pt x="15147" y="11112"/>
                  <a:pt x="15189" y="11112"/>
                  <a:pt x="15230" y="11112"/>
                </a:cubicBezTo>
                <a:cubicBezTo>
                  <a:pt x="15215" y="11069"/>
                  <a:pt x="15158" y="11088"/>
                  <a:pt x="15106" y="11088"/>
                </a:cubicBezTo>
                <a:cubicBezTo>
                  <a:pt x="15039" y="11088"/>
                  <a:pt x="14918" y="11121"/>
                  <a:pt x="14883" y="11187"/>
                </a:cubicBezTo>
                <a:cubicBezTo>
                  <a:pt x="14852" y="11247"/>
                  <a:pt x="14905" y="11333"/>
                  <a:pt x="14957" y="11361"/>
                </a:cubicBezTo>
                <a:cubicBezTo>
                  <a:pt x="15019" y="11394"/>
                  <a:pt x="15129" y="11406"/>
                  <a:pt x="15180" y="11460"/>
                </a:cubicBezTo>
                <a:cubicBezTo>
                  <a:pt x="15241" y="11526"/>
                  <a:pt x="15198" y="11603"/>
                  <a:pt x="15131" y="11633"/>
                </a:cubicBezTo>
                <a:cubicBezTo>
                  <a:pt x="15039" y="11675"/>
                  <a:pt x="14932" y="11658"/>
                  <a:pt x="14833" y="11658"/>
                </a:cubicBezTo>
                <a:cubicBezTo>
                  <a:pt x="14817" y="11658"/>
                  <a:pt x="14800" y="11658"/>
                  <a:pt x="14784" y="11658"/>
                </a:cubicBezTo>
              </a:path>
              <a:path w="1514" h="794">
                <a:moveTo>
                  <a:pt x="15453" y="11559"/>
                </a:moveTo>
                <a:cubicBezTo>
                  <a:pt x="15489" y="11571"/>
                  <a:pt x="15491" y="11635"/>
                  <a:pt x="15478" y="11683"/>
                </a:cubicBezTo>
                <a:cubicBezTo>
                  <a:pt x="15464" y="11733"/>
                  <a:pt x="15453" y="11753"/>
                  <a:pt x="15453" y="11807"/>
                </a:cubicBezTo>
              </a:path>
              <a:path w="1514" h="794">
                <a:moveTo>
                  <a:pt x="15751" y="11633"/>
                </a:moveTo>
                <a:cubicBezTo>
                  <a:pt x="15722" y="11624"/>
                  <a:pt x="15704" y="11583"/>
                  <a:pt x="15751" y="11559"/>
                </a:cubicBezTo>
                <a:cubicBezTo>
                  <a:pt x="15814" y="11528"/>
                  <a:pt x="15872" y="11565"/>
                  <a:pt x="15900" y="11609"/>
                </a:cubicBezTo>
                <a:cubicBezTo>
                  <a:pt x="15933" y="11661"/>
                  <a:pt x="15942" y="11794"/>
                  <a:pt x="15875" y="11832"/>
                </a:cubicBezTo>
                <a:cubicBezTo>
                  <a:pt x="15811" y="11868"/>
                  <a:pt x="15738" y="11789"/>
                  <a:pt x="15701" y="11757"/>
                </a:cubicBezTo>
              </a:path>
              <a:path w="1514" h="794">
                <a:moveTo>
                  <a:pt x="16123" y="11708"/>
                </a:moveTo>
                <a:cubicBezTo>
                  <a:pt x="16133" y="11669"/>
                  <a:pt x="16151" y="11636"/>
                  <a:pt x="16197" y="11633"/>
                </a:cubicBezTo>
                <a:cubicBezTo>
                  <a:pt x="16294" y="11626"/>
                  <a:pt x="16293" y="11704"/>
                  <a:pt x="16297" y="11782"/>
                </a:cubicBezTo>
                <a:cubicBezTo>
                  <a:pt x="16299" y="11818"/>
                  <a:pt x="16278" y="11897"/>
                  <a:pt x="16222" y="11881"/>
                </a:cubicBezTo>
                <a:cubicBezTo>
                  <a:pt x="16168" y="11855"/>
                  <a:pt x="16148" y="11843"/>
                  <a:pt x="16123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62760" y="4081320"/>
            <a:ext cx="108000" cy="7956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17140" y="11361"/>
                </a:moveTo>
                <a:cubicBezTo>
                  <a:pt x="17093" y="11326"/>
                  <a:pt x="17053" y="11336"/>
                  <a:pt x="16991" y="11336"/>
                </a:cubicBezTo>
                <a:cubicBezTo>
                  <a:pt x="16941" y="11336"/>
                  <a:pt x="16892" y="11336"/>
                  <a:pt x="16842" y="11336"/>
                </a:cubicBezTo>
              </a:path>
              <a:path w="299" h="224">
                <a:moveTo>
                  <a:pt x="17090" y="11509"/>
                </a:moveTo>
                <a:cubicBezTo>
                  <a:pt x="17090" y="11534"/>
                  <a:pt x="17090" y="11542"/>
                  <a:pt x="17090" y="11559"/>
                </a:cubicBezTo>
                <a:cubicBezTo>
                  <a:pt x="17057" y="11559"/>
                  <a:pt x="17024" y="11559"/>
                  <a:pt x="16991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29240" y="3946680"/>
            <a:ext cx="108000" cy="366480"/>
          </a:xfrm>
          <a:custGeom>
            <a:avLst/>
            <a:gdLst/>
            <a:ahLst/>
            <a:rect l="l" t="t" r="r" b="b"/>
            <a:pathLst>
              <a:path w="299" h="1018">
                <a:moveTo>
                  <a:pt x="18107" y="11013"/>
                </a:moveTo>
                <a:cubicBezTo>
                  <a:pt x="18147" y="10993"/>
                  <a:pt x="18164" y="10995"/>
                  <a:pt x="18157" y="10964"/>
                </a:cubicBezTo>
                <a:cubicBezTo>
                  <a:pt x="18100" y="11009"/>
                  <a:pt x="18024" y="11048"/>
                  <a:pt x="17983" y="11112"/>
                </a:cubicBezTo>
                <a:cubicBezTo>
                  <a:pt x="17891" y="11257"/>
                  <a:pt x="17845" y="11412"/>
                  <a:pt x="17859" y="11584"/>
                </a:cubicBezTo>
                <a:cubicBezTo>
                  <a:pt x="17870" y="11717"/>
                  <a:pt x="17898" y="11831"/>
                  <a:pt x="17934" y="11956"/>
                </a:cubicBezTo>
                <a:cubicBezTo>
                  <a:pt x="17934" y="11964"/>
                  <a:pt x="17934" y="11973"/>
                  <a:pt x="17934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61080" y="4017960"/>
            <a:ext cx="90720" cy="223920"/>
          </a:xfrm>
          <a:custGeom>
            <a:avLst/>
            <a:gdLst/>
            <a:ahLst/>
            <a:rect l="l" t="t" r="r" b="b"/>
            <a:pathLst>
              <a:path w="249" h="621">
                <a:moveTo>
                  <a:pt x="18703" y="11237"/>
                </a:moveTo>
                <a:cubicBezTo>
                  <a:pt x="18742" y="11190"/>
                  <a:pt x="18780" y="11180"/>
                  <a:pt x="18728" y="11162"/>
                </a:cubicBezTo>
                <a:cubicBezTo>
                  <a:pt x="18629" y="11224"/>
                  <a:pt x="18603" y="11281"/>
                  <a:pt x="18554" y="11385"/>
                </a:cubicBezTo>
                <a:cubicBezTo>
                  <a:pt x="18500" y="11500"/>
                  <a:pt x="18484" y="11585"/>
                  <a:pt x="18529" y="11708"/>
                </a:cubicBezTo>
                <a:cubicBezTo>
                  <a:pt x="18567" y="11811"/>
                  <a:pt x="18639" y="11790"/>
                  <a:pt x="18703" y="11733"/>
                </a:cubicBezTo>
                <a:cubicBezTo>
                  <a:pt x="18760" y="11682"/>
                  <a:pt x="18776" y="11620"/>
                  <a:pt x="18728" y="11559"/>
                </a:cubicBezTo>
                <a:cubicBezTo>
                  <a:pt x="18691" y="11512"/>
                  <a:pt x="18622" y="11530"/>
                  <a:pt x="18579" y="11559"/>
                </a:cubicBezTo>
                <a:cubicBezTo>
                  <a:pt x="18571" y="11567"/>
                  <a:pt x="18562" y="11576"/>
                  <a:pt x="18554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29280" y="4125960"/>
            <a:ext cx="9864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19273" y="11534"/>
                </a:moveTo>
                <a:cubicBezTo>
                  <a:pt x="19265" y="11534"/>
                  <a:pt x="19256" y="11534"/>
                  <a:pt x="19248" y="11534"/>
                </a:cubicBezTo>
                <a:cubicBezTo>
                  <a:pt x="19296" y="11498"/>
                  <a:pt x="19342" y="11503"/>
                  <a:pt x="19397" y="11485"/>
                </a:cubicBezTo>
                <a:cubicBezTo>
                  <a:pt x="19448" y="11468"/>
                  <a:pt x="19467" y="11460"/>
                  <a:pt x="19521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15120" y="4017960"/>
            <a:ext cx="330120" cy="223920"/>
          </a:xfrm>
          <a:custGeom>
            <a:avLst/>
            <a:gdLst/>
            <a:ahLst/>
            <a:rect l="l" t="t" r="r" b="b"/>
            <a:pathLst>
              <a:path w="919" h="621">
                <a:moveTo>
                  <a:pt x="20365" y="11311"/>
                </a:moveTo>
                <a:cubicBezTo>
                  <a:pt x="20386" y="11304"/>
                  <a:pt x="20408" y="11272"/>
                  <a:pt x="20389" y="11237"/>
                </a:cubicBezTo>
                <a:cubicBezTo>
                  <a:pt x="20359" y="11182"/>
                  <a:pt x="20269" y="11175"/>
                  <a:pt x="20216" y="11187"/>
                </a:cubicBezTo>
                <a:cubicBezTo>
                  <a:pt x="20130" y="11206"/>
                  <a:pt x="20062" y="11273"/>
                  <a:pt x="20042" y="11361"/>
                </a:cubicBezTo>
                <a:cubicBezTo>
                  <a:pt x="20028" y="11424"/>
                  <a:pt x="20070" y="11502"/>
                  <a:pt x="20141" y="11485"/>
                </a:cubicBezTo>
                <a:cubicBezTo>
                  <a:pt x="20239" y="11462"/>
                  <a:pt x="20253" y="11363"/>
                  <a:pt x="20290" y="11286"/>
                </a:cubicBezTo>
                <a:cubicBezTo>
                  <a:pt x="20310" y="11246"/>
                  <a:pt x="20319" y="11240"/>
                  <a:pt x="20315" y="11212"/>
                </a:cubicBezTo>
                <a:cubicBezTo>
                  <a:pt x="20315" y="11356"/>
                  <a:pt x="20325" y="11494"/>
                  <a:pt x="20340" y="11633"/>
                </a:cubicBezTo>
                <a:cubicBezTo>
                  <a:pt x="20348" y="11706"/>
                  <a:pt x="20331" y="11725"/>
                  <a:pt x="20365" y="11782"/>
                </a:cubicBezTo>
              </a:path>
              <a:path w="919" h="621">
                <a:moveTo>
                  <a:pt x="20861" y="11311"/>
                </a:moveTo>
                <a:cubicBezTo>
                  <a:pt x="20892" y="11311"/>
                  <a:pt x="20927" y="11303"/>
                  <a:pt x="20935" y="11286"/>
                </a:cubicBezTo>
                <a:cubicBezTo>
                  <a:pt x="20947" y="11261"/>
                  <a:pt x="20941" y="11172"/>
                  <a:pt x="20910" y="11162"/>
                </a:cubicBezTo>
                <a:cubicBezTo>
                  <a:pt x="20847" y="11142"/>
                  <a:pt x="20748" y="11154"/>
                  <a:pt x="20712" y="11212"/>
                </a:cubicBezTo>
                <a:cubicBezTo>
                  <a:pt x="20664" y="11289"/>
                  <a:pt x="20641" y="11405"/>
                  <a:pt x="20687" y="11485"/>
                </a:cubicBezTo>
                <a:cubicBezTo>
                  <a:pt x="20695" y="11493"/>
                  <a:pt x="20704" y="11501"/>
                  <a:pt x="20712" y="11509"/>
                </a:cubicBezTo>
                <a:cubicBezTo>
                  <a:pt x="20776" y="11473"/>
                  <a:pt x="20819" y="11423"/>
                  <a:pt x="20861" y="11361"/>
                </a:cubicBezTo>
                <a:cubicBezTo>
                  <a:pt x="20881" y="11320"/>
                  <a:pt x="20890" y="11314"/>
                  <a:pt x="20886" y="11286"/>
                </a:cubicBezTo>
                <a:cubicBezTo>
                  <a:pt x="20931" y="11390"/>
                  <a:pt x="20957" y="11470"/>
                  <a:pt x="20960" y="11584"/>
                </a:cubicBezTo>
                <a:cubicBezTo>
                  <a:pt x="20960" y="11617"/>
                  <a:pt x="20960" y="11650"/>
                  <a:pt x="20960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32800" y="3973680"/>
            <a:ext cx="509400" cy="349200"/>
          </a:xfrm>
          <a:custGeom>
            <a:avLst/>
            <a:gdLst/>
            <a:ahLst/>
            <a:rect l="l" t="t" r="r" b="b"/>
            <a:pathLst>
              <a:path w="1415" h="968">
                <a:moveTo>
                  <a:pt x="21654" y="11361"/>
                </a:moveTo>
                <a:cubicBezTo>
                  <a:pt x="21677" y="11338"/>
                  <a:pt x="21681" y="11330"/>
                  <a:pt x="21704" y="11336"/>
                </a:cubicBezTo>
                <a:cubicBezTo>
                  <a:pt x="21660" y="11369"/>
                  <a:pt x="21645" y="11391"/>
                  <a:pt x="21605" y="11435"/>
                </a:cubicBezTo>
                <a:cubicBezTo>
                  <a:pt x="21568" y="11476"/>
                  <a:pt x="21512" y="11504"/>
                  <a:pt x="21506" y="11559"/>
                </a:cubicBezTo>
                <a:cubicBezTo>
                  <a:pt x="21506" y="11567"/>
                  <a:pt x="21506" y="11576"/>
                  <a:pt x="21506" y="11584"/>
                </a:cubicBezTo>
              </a:path>
              <a:path w="1415" h="968">
                <a:moveTo>
                  <a:pt x="21704" y="11559"/>
                </a:moveTo>
                <a:cubicBezTo>
                  <a:pt x="21704" y="11513"/>
                  <a:pt x="21697" y="11488"/>
                  <a:pt x="21654" y="11460"/>
                </a:cubicBezTo>
                <a:cubicBezTo>
                  <a:pt x="21597" y="11423"/>
                  <a:pt x="21535" y="11403"/>
                  <a:pt x="21481" y="11361"/>
                </a:cubicBezTo>
              </a:path>
              <a:path w="1415" h="968">
                <a:moveTo>
                  <a:pt x="22002" y="11187"/>
                </a:moveTo>
                <a:cubicBezTo>
                  <a:pt x="21935" y="11187"/>
                  <a:pt x="22039" y="11187"/>
                  <a:pt x="22051" y="11187"/>
                </a:cubicBezTo>
                <a:cubicBezTo>
                  <a:pt x="22139" y="11187"/>
                  <a:pt x="22218" y="11178"/>
                  <a:pt x="22299" y="11212"/>
                </a:cubicBezTo>
                <a:cubicBezTo>
                  <a:pt x="22371" y="11243"/>
                  <a:pt x="22416" y="11284"/>
                  <a:pt x="22374" y="11361"/>
                </a:cubicBezTo>
                <a:cubicBezTo>
                  <a:pt x="22349" y="11407"/>
                  <a:pt x="22287" y="11427"/>
                  <a:pt x="22250" y="11460"/>
                </a:cubicBezTo>
                <a:cubicBezTo>
                  <a:pt x="22207" y="11499"/>
                  <a:pt x="22231" y="11530"/>
                  <a:pt x="22275" y="11559"/>
                </a:cubicBezTo>
                <a:cubicBezTo>
                  <a:pt x="22305" y="11578"/>
                  <a:pt x="22387" y="11617"/>
                  <a:pt x="22399" y="11658"/>
                </a:cubicBezTo>
                <a:cubicBezTo>
                  <a:pt x="22410" y="11695"/>
                  <a:pt x="22397" y="11772"/>
                  <a:pt x="22349" y="11782"/>
                </a:cubicBezTo>
                <a:cubicBezTo>
                  <a:pt x="22269" y="11799"/>
                  <a:pt x="22173" y="11781"/>
                  <a:pt x="22101" y="11757"/>
                </a:cubicBezTo>
              </a:path>
              <a:path w="1415" h="968">
                <a:moveTo>
                  <a:pt x="22399" y="11088"/>
                </a:moveTo>
                <a:cubicBezTo>
                  <a:pt x="22462" y="11040"/>
                  <a:pt x="22558" y="11005"/>
                  <a:pt x="22647" y="11038"/>
                </a:cubicBezTo>
                <a:cubicBezTo>
                  <a:pt x="22777" y="11087"/>
                  <a:pt x="22838" y="11185"/>
                  <a:pt x="22870" y="11311"/>
                </a:cubicBezTo>
                <a:cubicBezTo>
                  <a:pt x="22905" y="11448"/>
                  <a:pt x="22927" y="11646"/>
                  <a:pt x="22870" y="11782"/>
                </a:cubicBezTo>
                <a:cubicBezTo>
                  <a:pt x="22825" y="11889"/>
                  <a:pt x="22690" y="11952"/>
                  <a:pt x="22597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1840" y="4554360"/>
            <a:ext cx="125280" cy="44640"/>
          </a:xfrm>
          <a:custGeom>
            <a:avLst/>
            <a:gdLst/>
            <a:ahLst/>
            <a:rect l="l" t="t" r="r" b="b"/>
            <a:pathLst>
              <a:path w="348" h="125">
                <a:moveTo>
                  <a:pt x="17214" y="12650"/>
                </a:moveTo>
                <a:cubicBezTo>
                  <a:pt x="17255" y="12650"/>
                  <a:pt x="17181" y="12650"/>
                  <a:pt x="17140" y="12650"/>
                </a:cubicBezTo>
                <a:cubicBezTo>
                  <a:pt x="17057" y="12650"/>
                  <a:pt x="16975" y="12650"/>
                  <a:pt x="16892" y="12650"/>
                </a:cubicBezTo>
              </a:path>
              <a:path w="348" h="125">
                <a:moveTo>
                  <a:pt x="17115" y="12725"/>
                </a:moveTo>
                <a:cubicBezTo>
                  <a:pt x="17189" y="12725"/>
                  <a:pt x="17222" y="12700"/>
                  <a:pt x="17214" y="12750"/>
                </a:cubicBezTo>
                <a:cubicBezTo>
                  <a:pt x="17201" y="12789"/>
                  <a:pt x="17164" y="12774"/>
                  <a:pt x="17115" y="12774"/>
                </a:cubicBezTo>
                <a:cubicBezTo>
                  <a:pt x="17107" y="12774"/>
                  <a:pt x="17098" y="12774"/>
                  <a:pt x="17090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83240" y="4510080"/>
            <a:ext cx="972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8033" y="12526"/>
                </a:moveTo>
                <a:cubicBezTo>
                  <a:pt x="18033" y="12622"/>
                  <a:pt x="18022" y="12709"/>
                  <a:pt x="18008" y="12799"/>
                </a:cubicBezTo>
                <a:cubicBezTo>
                  <a:pt x="17999" y="12854"/>
                  <a:pt x="18008" y="12917"/>
                  <a:pt x="18008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53160" y="4527720"/>
            <a:ext cx="241200" cy="152280"/>
          </a:xfrm>
          <a:custGeom>
            <a:avLst/>
            <a:gdLst/>
            <a:ahLst/>
            <a:rect l="l" t="t" r="r" b="b"/>
            <a:pathLst>
              <a:path w="671" h="423">
                <a:moveTo>
                  <a:pt x="18479" y="12626"/>
                </a:moveTo>
                <a:cubicBezTo>
                  <a:pt x="18502" y="12603"/>
                  <a:pt x="18506" y="12595"/>
                  <a:pt x="18529" y="12601"/>
                </a:cubicBezTo>
                <a:cubicBezTo>
                  <a:pt x="18506" y="12624"/>
                  <a:pt x="18456" y="12659"/>
                  <a:pt x="18479" y="12700"/>
                </a:cubicBezTo>
                <a:cubicBezTo>
                  <a:pt x="18503" y="12744"/>
                  <a:pt x="18563" y="12777"/>
                  <a:pt x="18604" y="12799"/>
                </a:cubicBezTo>
                <a:cubicBezTo>
                  <a:pt x="18648" y="12822"/>
                  <a:pt x="18729" y="12846"/>
                  <a:pt x="18752" y="12898"/>
                </a:cubicBezTo>
                <a:cubicBezTo>
                  <a:pt x="18776" y="12952"/>
                  <a:pt x="18720" y="12970"/>
                  <a:pt x="18678" y="12973"/>
                </a:cubicBezTo>
                <a:cubicBezTo>
                  <a:pt x="18609" y="12978"/>
                  <a:pt x="18566" y="12974"/>
                  <a:pt x="18504" y="12948"/>
                </a:cubicBezTo>
              </a:path>
              <a:path w="671" h="423">
                <a:moveTo>
                  <a:pt x="18876" y="12626"/>
                </a:moveTo>
                <a:cubicBezTo>
                  <a:pt x="18876" y="12609"/>
                  <a:pt x="18876" y="12593"/>
                  <a:pt x="18876" y="12576"/>
                </a:cubicBezTo>
                <a:cubicBezTo>
                  <a:pt x="18803" y="12576"/>
                  <a:pt x="18745" y="12590"/>
                  <a:pt x="18678" y="12601"/>
                </a:cubicBezTo>
                <a:cubicBezTo>
                  <a:pt x="18661" y="12601"/>
                  <a:pt x="18645" y="12601"/>
                  <a:pt x="18628" y="12601"/>
                </a:cubicBezTo>
              </a:path>
              <a:path w="671" h="423">
                <a:moveTo>
                  <a:pt x="19075" y="12576"/>
                </a:moveTo>
                <a:cubicBezTo>
                  <a:pt x="19118" y="12583"/>
                  <a:pt x="19146" y="12583"/>
                  <a:pt x="19149" y="12626"/>
                </a:cubicBezTo>
                <a:cubicBezTo>
                  <a:pt x="19157" y="12722"/>
                  <a:pt x="19138" y="12809"/>
                  <a:pt x="19124" y="12898"/>
                </a:cubicBezTo>
                <a:cubicBezTo>
                  <a:pt x="19119" y="12928"/>
                  <a:pt x="19124" y="12967"/>
                  <a:pt x="19124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18200" y="4473720"/>
            <a:ext cx="312840" cy="179280"/>
          </a:xfrm>
          <a:custGeom>
            <a:avLst/>
            <a:gdLst/>
            <a:ahLst/>
            <a:rect l="l" t="t" r="r" b="b"/>
            <a:pathLst>
              <a:path w="870" h="497">
                <a:moveTo>
                  <a:pt x="19496" y="12502"/>
                </a:moveTo>
                <a:cubicBezTo>
                  <a:pt x="19519" y="12479"/>
                  <a:pt x="19523" y="12471"/>
                  <a:pt x="19546" y="12477"/>
                </a:cubicBezTo>
                <a:cubicBezTo>
                  <a:pt x="19532" y="12531"/>
                  <a:pt x="19501" y="12538"/>
                  <a:pt x="19496" y="12601"/>
                </a:cubicBezTo>
                <a:cubicBezTo>
                  <a:pt x="19493" y="12637"/>
                  <a:pt x="19504" y="12688"/>
                  <a:pt x="19546" y="12700"/>
                </a:cubicBezTo>
                <a:cubicBezTo>
                  <a:pt x="19612" y="12719"/>
                  <a:pt x="19676" y="12728"/>
                  <a:pt x="19745" y="12750"/>
                </a:cubicBezTo>
                <a:cubicBezTo>
                  <a:pt x="19781" y="12761"/>
                  <a:pt x="19792" y="12791"/>
                  <a:pt x="19819" y="12824"/>
                </a:cubicBezTo>
                <a:cubicBezTo>
                  <a:pt x="19800" y="12861"/>
                  <a:pt x="19746" y="12889"/>
                  <a:pt x="19695" y="12898"/>
                </a:cubicBezTo>
                <a:cubicBezTo>
                  <a:pt x="19661" y="12904"/>
                  <a:pt x="19606" y="12898"/>
                  <a:pt x="19571" y="12898"/>
                </a:cubicBezTo>
              </a:path>
              <a:path w="870" h="497">
                <a:moveTo>
                  <a:pt x="19918" y="12502"/>
                </a:moveTo>
                <a:cubicBezTo>
                  <a:pt x="19905" y="12450"/>
                  <a:pt x="19850" y="12434"/>
                  <a:pt x="19794" y="12427"/>
                </a:cubicBezTo>
                <a:cubicBezTo>
                  <a:pt x="19719" y="12417"/>
                  <a:pt x="19631" y="12422"/>
                  <a:pt x="19571" y="12452"/>
                </a:cubicBezTo>
              </a:path>
              <a:path w="870" h="497">
                <a:moveTo>
                  <a:pt x="20141" y="12650"/>
                </a:moveTo>
                <a:cubicBezTo>
                  <a:pt x="20149" y="12620"/>
                  <a:pt x="20162" y="12571"/>
                  <a:pt x="20191" y="12551"/>
                </a:cubicBezTo>
                <a:cubicBezTo>
                  <a:pt x="20241" y="12517"/>
                  <a:pt x="20268" y="12485"/>
                  <a:pt x="20315" y="12526"/>
                </a:cubicBezTo>
                <a:cubicBezTo>
                  <a:pt x="20376" y="12579"/>
                  <a:pt x="20379" y="12674"/>
                  <a:pt x="20365" y="12750"/>
                </a:cubicBezTo>
                <a:cubicBezTo>
                  <a:pt x="20349" y="12833"/>
                  <a:pt x="20317" y="12910"/>
                  <a:pt x="20241" y="12923"/>
                </a:cubicBezTo>
                <a:cubicBezTo>
                  <a:pt x="20158" y="12937"/>
                  <a:pt x="20144" y="12858"/>
                  <a:pt x="20141" y="12799"/>
                </a:cubicBezTo>
                <a:cubicBezTo>
                  <a:pt x="20137" y="12732"/>
                  <a:pt x="20145" y="12687"/>
                  <a:pt x="20166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14960" y="4759200"/>
            <a:ext cx="349200" cy="536760"/>
          </a:xfrm>
          <a:custGeom>
            <a:avLst/>
            <a:gdLst/>
            <a:ahLst/>
            <a:rect l="l" t="t" r="r" b="b"/>
            <a:pathLst>
              <a:path w="968" h="1489">
                <a:moveTo>
                  <a:pt x="15354" y="13692"/>
                </a:moveTo>
                <a:cubicBezTo>
                  <a:pt x="15396" y="13692"/>
                  <a:pt x="15404" y="13692"/>
                  <a:pt x="15429" y="13692"/>
                </a:cubicBezTo>
                <a:cubicBezTo>
                  <a:pt x="15508" y="13692"/>
                  <a:pt x="15331" y="13692"/>
                  <a:pt x="15329" y="13692"/>
                </a:cubicBezTo>
                <a:cubicBezTo>
                  <a:pt x="15236" y="13692"/>
                  <a:pt x="15147" y="13732"/>
                  <a:pt x="15056" y="13742"/>
                </a:cubicBezTo>
                <a:cubicBezTo>
                  <a:pt x="15014" y="13747"/>
                  <a:pt x="14908" y="13742"/>
                  <a:pt x="14883" y="13791"/>
                </a:cubicBezTo>
                <a:cubicBezTo>
                  <a:pt x="14883" y="13799"/>
                  <a:pt x="14883" y="13808"/>
                  <a:pt x="14883" y="13816"/>
                </a:cubicBezTo>
                <a:cubicBezTo>
                  <a:pt x="14963" y="13816"/>
                  <a:pt x="15033" y="13808"/>
                  <a:pt x="15106" y="13841"/>
                </a:cubicBezTo>
                <a:cubicBezTo>
                  <a:pt x="15150" y="13863"/>
                  <a:pt x="15161" y="13866"/>
                  <a:pt x="15180" y="13891"/>
                </a:cubicBezTo>
                <a:cubicBezTo>
                  <a:pt x="15159" y="13943"/>
                  <a:pt x="15087" y="14033"/>
                  <a:pt x="15032" y="14064"/>
                </a:cubicBezTo>
                <a:cubicBezTo>
                  <a:pt x="14934" y="14119"/>
                  <a:pt x="14866" y="14156"/>
                  <a:pt x="14784" y="14238"/>
                </a:cubicBezTo>
                <a:cubicBezTo>
                  <a:pt x="14754" y="14268"/>
                  <a:pt x="14759" y="14272"/>
                  <a:pt x="14759" y="14312"/>
                </a:cubicBezTo>
                <a:cubicBezTo>
                  <a:pt x="14832" y="14312"/>
                  <a:pt x="14887" y="14296"/>
                  <a:pt x="14957" y="14288"/>
                </a:cubicBezTo>
                <a:cubicBezTo>
                  <a:pt x="15054" y="14277"/>
                  <a:pt x="15141" y="14301"/>
                  <a:pt x="15230" y="14312"/>
                </a:cubicBezTo>
                <a:cubicBezTo>
                  <a:pt x="15294" y="14320"/>
                  <a:pt x="15364" y="14312"/>
                  <a:pt x="15429" y="14312"/>
                </a:cubicBezTo>
              </a:path>
              <a:path w="968" h="1489">
                <a:moveTo>
                  <a:pt x="15379" y="13717"/>
                </a:moveTo>
                <a:cubicBezTo>
                  <a:pt x="15379" y="13771"/>
                  <a:pt x="15381" y="13788"/>
                  <a:pt x="15404" y="13841"/>
                </a:cubicBezTo>
              </a:path>
              <a:path w="968" h="1489">
                <a:moveTo>
                  <a:pt x="14536" y="14412"/>
                </a:moveTo>
                <a:cubicBezTo>
                  <a:pt x="14496" y="14425"/>
                  <a:pt x="14526" y="14423"/>
                  <a:pt x="14486" y="14436"/>
                </a:cubicBezTo>
                <a:cubicBezTo>
                  <a:pt x="14486" y="14381"/>
                  <a:pt x="14490" y="14382"/>
                  <a:pt x="14536" y="14362"/>
                </a:cubicBezTo>
                <a:cubicBezTo>
                  <a:pt x="14624" y="14324"/>
                  <a:pt x="14640" y="14329"/>
                  <a:pt x="14684" y="14412"/>
                </a:cubicBezTo>
                <a:cubicBezTo>
                  <a:pt x="14720" y="14481"/>
                  <a:pt x="14710" y="14538"/>
                  <a:pt x="14684" y="14610"/>
                </a:cubicBezTo>
                <a:cubicBezTo>
                  <a:pt x="14668" y="14654"/>
                  <a:pt x="14645" y="14669"/>
                  <a:pt x="14635" y="14709"/>
                </a:cubicBezTo>
                <a:cubicBezTo>
                  <a:pt x="14683" y="14709"/>
                  <a:pt x="14696" y="14713"/>
                  <a:pt x="14734" y="14684"/>
                </a:cubicBezTo>
              </a:path>
              <a:path w="968" h="1489">
                <a:moveTo>
                  <a:pt x="14982" y="14486"/>
                </a:moveTo>
                <a:cubicBezTo>
                  <a:pt x="15018" y="14546"/>
                  <a:pt x="15007" y="14610"/>
                  <a:pt x="15007" y="14684"/>
                </a:cubicBezTo>
                <a:cubicBezTo>
                  <a:pt x="15007" y="14692"/>
                  <a:pt x="15007" y="14701"/>
                  <a:pt x="15007" y="14709"/>
                </a:cubicBezTo>
              </a:path>
              <a:path w="968" h="1489">
                <a:moveTo>
                  <a:pt x="14585" y="13221"/>
                </a:moveTo>
                <a:cubicBezTo>
                  <a:pt x="14585" y="13307"/>
                  <a:pt x="14561" y="13428"/>
                  <a:pt x="14610" y="13494"/>
                </a:cubicBezTo>
              </a:path>
              <a:path w="968" h="1489">
                <a:moveTo>
                  <a:pt x="14808" y="13370"/>
                </a:moveTo>
                <a:cubicBezTo>
                  <a:pt x="14817" y="13333"/>
                  <a:pt x="14845" y="13308"/>
                  <a:pt x="14883" y="13295"/>
                </a:cubicBezTo>
                <a:cubicBezTo>
                  <a:pt x="14930" y="13279"/>
                  <a:pt x="14972" y="13332"/>
                  <a:pt x="14982" y="13370"/>
                </a:cubicBezTo>
                <a:cubicBezTo>
                  <a:pt x="15002" y="13443"/>
                  <a:pt x="14982" y="13486"/>
                  <a:pt x="14908" y="13494"/>
                </a:cubicBezTo>
                <a:cubicBezTo>
                  <a:pt x="14875" y="13494"/>
                  <a:pt x="14858" y="13494"/>
                  <a:pt x="14833" y="13494"/>
                </a:cubicBezTo>
              </a:path>
              <a:path w="968" h="1489">
                <a:moveTo>
                  <a:pt x="15131" y="13320"/>
                </a:moveTo>
                <a:cubicBezTo>
                  <a:pt x="15122" y="13380"/>
                  <a:pt x="15137" y="13381"/>
                  <a:pt x="15081" y="13395"/>
                </a:cubicBezTo>
                <a:cubicBezTo>
                  <a:pt x="15125" y="13351"/>
                  <a:pt x="15162" y="13326"/>
                  <a:pt x="15230" y="13345"/>
                </a:cubicBezTo>
                <a:cubicBezTo>
                  <a:pt x="15274" y="13357"/>
                  <a:pt x="15368" y="13437"/>
                  <a:pt x="15329" y="13494"/>
                </a:cubicBezTo>
                <a:cubicBezTo>
                  <a:pt x="15301" y="13535"/>
                  <a:pt x="15220" y="13538"/>
                  <a:pt x="15180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91120" y="5054760"/>
            <a:ext cx="54000" cy="6192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16768" y="14039"/>
                </a:moveTo>
                <a:cubicBezTo>
                  <a:pt x="16776" y="14039"/>
                  <a:pt x="16785" y="14039"/>
                  <a:pt x="16793" y="14039"/>
                </a:cubicBezTo>
                <a:cubicBezTo>
                  <a:pt x="16780" y="14077"/>
                  <a:pt x="16763" y="14064"/>
                  <a:pt x="16718" y="14064"/>
                </a:cubicBezTo>
                <a:cubicBezTo>
                  <a:pt x="16677" y="14064"/>
                  <a:pt x="16669" y="14064"/>
                  <a:pt x="16644" y="14064"/>
                </a:cubicBezTo>
              </a:path>
              <a:path w="150" h="175">
                <a:moveTo>
                  <a:pt x="16718" y="14163"/>
                </a:moveTo>
                <a:cubicBezTo>
                  <a:pt x="16770" y="14185"/>
                  <a:pt x="16781" y="14177"/>
                  <a:pt x="16793" y="14213"/>
                </a:cubicBezTo>
                <a:cubicBezTo>
                  <a:pt x="16743" y="14213"/>
                  <a:pt x="16694" y="14213"/>
                  <a:pt x="16644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59680" y="4973760"/>
            <a:ext cx="857160" cy="223560"/>
          </a:xfrm>
          <a:custGeom>
            <a:avLst/>
            <a:gdLst/>
            <a:ahLst/>
            <a:rect l="l" t="t" r="r" b="b"/>
            <a:pathLst>
              <a:path w="2382" h="621">
                <a:moveTo>
                  <a:pt x="17388" y="13940"/>
                </a:moveTo>
                <a:cubicBezTo>
                  <a:pt x="17388" y="13899"/>
                  <a:pt x="17380" y="13883"/>
                  <a:pt x="17413" y="13891"/>
                </a:cubicBezTo>
                <a:cubicBezTo>
                  <a:pt x="17431" y="13977"/>
                  <a:pt x="17438" y="14045"/>
                  <a:pt x="17438" y="14139"/>
                </a:cubicBezTo>
                <a:cubicBezTo>
                  <a:pt x="17438" y="14213"/>
                  <a:pt x="17438" y="14288"/>
                  <a:pt x="17438" y="14362"/>
                </a:cubicBezTo>
              </a:path>
              <a:path w="2382" h="621">
                <a:moveTo>
                  <a:pt x="17859" y="13915"/>
                </a:moveTo>
                <a:cubicBezTo>
                  <a:pt x="17867" y="13915"/>
                  <a:pt x="17876" y="13915"/>
                  <a:pt x="17884" y="13915"/>
                </a:cubicBezTo>
                <a:cubicBezTo>
                  <a:pt x="17878" y="13903"/>
                  <a:pt x="17805" y="13925"/>
                  <a:pt x="17785" y="13965"/>
                </a:cubicBezTo>
                <a:cubicBezTo>
                  <a:pt x="17773" y="13989"/>
                  <a:pt x="17784" y="14100"/>
                  <a:pt x="17810" y="14114"/>
                </a:cubicBezTo>
                <a:cubicBezTo>
                  <a:pt x="17865" y="14144"/>
                  <a:pt x="17975" y="14136"/>
                  <a:pt x="18033" y="14163"/>
                </a:cubicBezTo>
                <a:cubicBezTo>
                  <a:pt x="18052" y="14172"/>
                  <a:pt x="18112" y="14237"/>
                  <a:pt x="18083" y="14263"/>
                </a:cubicBezTo>
                <a:cubicBezTo>
                  <a:pt x="18034" y="14307"/>
                  <a:pt x="17944" y="14288"/>
                  <a:pt x="17884" y="14288"/>
                </a:cubicBezTo>
              </a:path>
              <a:path w="2382" h="621">
                <a:moveTo>
                  <a:pt x="17785" y="14039"/>
                </a:moveTo>
                <a:cubicBezTo>
                  <a:pt x="17854" y="13945"/>
                  <a:pt x="17899" y="13883"/>
                  <a:pt x="18008" y="13841"/>
                </a:cubicBezTo>
                <a:cubicBezTo>
                  <a:pt x="18085" y="13811"/>
                  <a:pt x="18150" y="13816"/>
                  <a:pt x="18231" y="13816"/>
                </a:cubicBezTo>
              </a:path>
              <a:path w="2382" h="621">
                <a:moveTo>
                  <a:pt x="18479" y="13940"/>
                </a:moveTo>
                <a:cubicBezTo>
                  <a:pt x="18491" y="14034"/>
                  <a:pt x="18504" y="14112"/>
                  <a:pt x="18504" y="14213"/>
                </a:cubicBezTo>
                <a:cubicBezTo>
                  <a:pt x="18504" y="14304"/>
                  <a:pt x="18504" y="14329"/>
                  <a:pt x="18504" y="14387"/>
                </a:cubicBezTo>
              </a:path>
              <a:path w="2382" h="621">
                <a:moveTo>
                  <a:pt x="18901" y="13915"/>
                </a:moveTo>
                <a:cubicBezTo>
                  <a:pt x="18913" y="13921"/>
                  <a:pt x="18915" y="13979"/>
                  <a:pt x="18876" y="14015"/>
                </a:cubicBezTo>
                <a:cubicBezTo>
                  <a:pt x="18830" y="14058"/>
                  <a:pt x="18816" y="14046"/>
                  <a:pt x="18802" y="14114"/>
                </a:cubicBezTo>
                <a:cubicBezTo>
                  <a:pt x="18869" y="14155"/>
                  <a:pt x="18922" y="14121"/>
                  <a:pt x="19000" y="14139"/>
                </a:cubicBezTo>
                <a:cubicBezTo>
                  <a:pt x="19038" y="14148"/>
                  <a:pt x="19106" y="14172"/>
                  <a:pt x="19124" y="14213"/>
                </a:cubicBezTo>
                <a:cubicBezTo>
                  <a:pt x="19124" y="14221"/>
                  <a:pt x="19124" y="14230"/>
                  <a:pt x="19124" y="14238"/>
                </a:cubicBezTo>
                <a:cubicBezTo>
                  <a:pt x="19060" y="14291"/>
                  <a:pt x="19035" y="14288"/>
                  <a:pt x="18951" y="14288"/>
                </a:cubicBezTo>
                <a:cubicBezTo>
                  <a:pt x="18915" y="14288"/>
                  <a:pt x="18886" y="14270"/>
                  <a:pt x="18852" y="14263"/>
                </a:cubicBezTo>
              </a:path>
              <a:path w="2382" h="621">
                <a:moveTo>
                  <a:pt x="19248" y="14015"/>
                </a:moveTo>
                <a:cubicBezTo>
                  <a:pt x="19265" y="13998"/>
                  <a:pt x="19281" y="13982"/>
                  <a:pt x="19298" y="13965"/>
                </a:cubicBezTo>
                <a:cubicBezTo>
                  <a:pt x="19191" y="13965"/>
                  <a:pt x="19083" y="13965"/>
                  <a:pt x="18976" y="13965"/>
                </a:cubicBezTo>
              </a:path>
              <a:path w="2382" h="621">
                <a:moveTo>
                  <a:pt x="19397" y="14114"/>
                </a:moveTo>
                <a:cubicBezTo>
                  <a:pt x="19430" y="14103"/>
                  <a:pt x="19447" y="14065"/>
                  <a:pt x="19496" y="14039"/>
                </a:cubicBezTo>
                <a:cubicBezTo>
                  <a:pt x="19582" y="13994"/>
                  <a:pt x="19644" y="13955"/>
                  <a:pt x="19720" y="14039"/>
                </a:cubicBezTo>
                <a:cubicBezTo>
                  <a:pt x="19776" y="14102"/>
                  <a:pt x="19815" y="14317"/>
                  <a:pt x="19745" y="14387"/>
                </a:cubicBezTo>
                <a:cubicBezTo>
                  <a:pt x="19687" y="14445"/>
                  <a:pt x="19538" y="14451"/>
                  <a:pt x="19472" y="14412"/>
                </a:cubicBezTo>
                <a:cubicBezTo>
                  <a:pt x="19408" y="14374"/>
                  <a:pt x="19405" y="14325"/>
                  <a:pt x="19397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46960" y="5106960"/>
            <a:ext cx="12528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21010" y="14213"/>
                </a:moveTo>
                <a:cubicBezTo>
                  <a:pt x="21018" y="14205"/>
                  <a:pt x="21026" y="14196"/>
                  <a:pt x="21034" y="14188"/>
                </a:cubicBezTo>
                <a:cubicBezTo>
                  <a:pt x="20918" y="14188"/>
                  <a:pt x="20803" y="14188"/>
                  <a:pt x="20687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15160" y="5027760"/>
            <a:ext cx="581040" cy="250560"/>
          </a:xfrm>
          <a:custGeom>
            <a:avLst/>
            <a:gdLst/>
            <a:ahLst/>
            <a:rect l="l" t="t" r="r" b="b"/>
            <a:pathLst>
              <a:path w="1614" h="696">
                <a:moveTo>
                  <a:pt x="21530" y="14015"/>
                </a:moveTo>
                <a:cubicBezTo>
                  <a:pt x="21608" y="13992"/>
                  <a:pt x="21610" y="13980"/>
                  <a:pt x="21654" y="13965"/>
                </a:cubicBezTo>
                <a:cubicBezTo>
                  <a:pt x="21571" y="13977"/>
                  <a:pt x="21522" y="14032"/>
                  <a:pt x="21481" y="14114"/>
                </a:cubicBezTo>
                <a:cubicBezTo>
                  <a:pt x="21432" y="14211"/>
                  <a:pt x="21413" y="14319"/>
                  <a:pt x="21481" y="14412"/>
                </a:cubicBezTo>
                <a:cubicBezTo>
                  <a:pt x="21549" y="14504"/>
                  <a:pt x="21632" y="14467"/>
                  <a:pt x="21679" y="14387"/>
                </a:cubicBezTo>
                <a:cubicBezTo>
                  <a:pt x="21707" y="14340"/>
                  <a:pt x="21729" y="14252"/>
                  <a:pt x="21679" y="14213"/>
                </a:cubicBezTo>
                <a:cubicBezTo>
                  <a:pt x="21638" y="14181"/>
                  <a:pt x="21603" y="14188"/>
                  <a:pt x="21555" y="14188"/>
                </a:cubicBezTo>
              </a:path>
              <a:path w="1614" h="696">
                <a:moveTo>
                  <a:pt x="22051" y="14114"/>
                </a:moveTo>
                <a:cubicBezTo>
                  <a:pt x="22000" y="14092"/>
                  <a:pt x="21989" y="14100"/>
                  <a:pt x="21977" y="14064"/>
                </a:cubicBezTo>
                <a:cubicBezTo>
                  <a:pt x="21985" y="14040"/>
                  <a:pt x="22035" y="13998"/>
                  <a:pt x="22076" y="13990"/>
                </a:cubicBezTo>
                <a:cubicBezTo>
                  <a:pt x="22167" y="13974"/>
                  <a:pt x="22230" y="13987"/>
                  <a:pt x="22275" y="14064"/>
                </a:cubicBezTo>
                <a:cubicBezTo>
                  <a:pt x="22315" y="14132"/>
                  <a:pt x="22298" y="14201"/>
                  <a:pt x="22250" y="14263"/>
                </a:cubicBezTo>
                <a:cubicBezTo>
                  <a:pt x="22205" y="14321"/>
                  <a:pt x="22128" y="14332"/>
                  <a:pt x="22101" y="14387"/>
                </a:cubicBezTo>
                <a:cubicBezTo>
                  <a:pt x="22154" y="14429"/>
                  <a:pt x="22214" y="14455"/>
                  <a:pt x="22275" y="14486"/>
                </a:cubicBezTo>
                <a:cubicBezTo>
                  <a:pt x="22338" y="14518"/>
                  <a:pt x="22374" y="14539"/>
                  <a:pt x="22374" y="14610"/>
                </a:cubicBezTo>
                <a:cubicBezTo>
                  <a:pt x="22294" y="14656"/>
                  <a:pt x="22267" y="14674"/>
                  <a:pt x="22175" y="14635"/>
                </a:cubicBezTo>
                <a:cubicBezTo>
                  <a:pt x="22159" y="14627"/>
                  <a:pt x="22142" y="14618"/>
                  <a:pt x="22126" y="14610"/>
                </a:cubicBezTo>
              </a:path>
              <a:path w="1614" h="696">
                <a:moveTo>
                  <a:pt x="22746" y="14412"/>
                </a:moveTo>
                <a:cubicBezTo>
                  <a:pt x="22709" y="14363"/>
                  <a:pt x="22718" y="14361"/>
                  <a:pt x="22746" y="14312"/>
                </a:cubicBezTo>
                <a:cubicBezTo>
                  <a:pt x="22780" y="14253"/>
                  <a:pt x="22856" y="14146"/>
                  <a:pt x="22944" y="14188"/>
                </a:cubicBezTo>
                <a:cubicBezTo>
                  <a:pt x="23029" y="14228"/>
                  <a:pt x="23067" y="14432"/>
                  <a:pt x="23044" y="14511"/>
                </a:cubicBezTo>
                <a:cubicBezTo>
                  <a:pt x="23015" y="14611"/>
                  <a:pt x="22913" y="14674"/>
                  <a:pt x="22820" y="14610"/>
                </a:cubicBezTo>
                <a:cubicBezTo>
                  <a:pt x="22716" y="14538"/>
                  <a:pt x="22665" y="14424"/>
                  <a:pt x="22647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6840" y="5464080"/>
            <a:ext cx="98280" cy="90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16644" y="15180"/>
                </a:moveTo>
                <a:cubicBezTo>
                  <a:pt x="16661" y="15188"/>
                  <a:pt x="16677" y="15197"/>
                  <a:pt x="16694" y="15205"/>
                </a:cubicBezTo>
                <a:cubicBezTo>
                  <a:pt x="16656" y="15234"/>
                  <a:pt x="16643" y="15230"/>
                  <a:pt x="16594" y="15230"/>
                </a:cubicBezTo>
                <a:cubicBezTo>
                  <a:pt x="16561" y="15230"/>
                  <a:pt x="16545" y="15230"/>
                  <a:pt x="16520" y="15230"/>
                </a:cubicBezTo>
              </a:path>
              <a:path w="274" h="250">
                <a:moveTo>
                  <a:pt x="16718" y="15379"/>
                </a:moveTo>
                <a:cubicBezTo>
                  <a:pt x="16765" y="15399"/>
                  <a:pt x="16824" y="15411"/>
                  <a:pt x="16743" y="15429"/>
                </a:cubicBezTo>
                <a:cubicBezTo>
                  <a:pt x="16706" y="15437"/>
                  <a:pt x="16657" y="15429"/>
                  <a:pt x="16619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40320" y="5438880"/>
            <a:ext cx="295560" cy="258480"/>
          </a:xfrm>
          <a:custGeom>
            <a:avLst/>
            <a:gdLst/>
            <a:ahLst/>
            <a:rect l="l" t="t" r="r" b="b"/>
            <a:pathLst>
              <a:path w="820" h="720">
                <a:moveTo>
                  <a:pt x="17611" y="15106"/>
                </a:moveTo>
                <a:cubicBezTo>
                  <a:pt x="17611" y="15247"/>
                  <a:pt x="17611" y="15387"/>
                  <a:pt x="17611" y="15528"/>
                </a:cubicBezTo>
              </a:path>
              <a:path w="820" h="720">
                <a:moveTo>
                  <a:pt x="17835" y="15255"/>
                </a:moveTo>
                <a:cubicBezTo>
                  <a:pt x="17875" y="15235"/>
                  <a:pt x="17881" y="15226"/>
                  <a:pt x="17909" y="15230"/>
                </a:cubicBezTo>
                <a:cubicBezTo>
                  <a:pt x="17909" y="15281"/>
                  <a:pt x="17876" y="15535"/>
                  <a:pt x="17934" y="15553"/>
                </a:cubicBezTo>
                <a:cubicBezTo>
                  <a:pt x="18017" y="15579"/>
                  <a:pt x="18098" y="15540"/>
                  <a:pt x="18182" y="15577"/>
                </a:cubicBezTo>
                <a:cubicBezTo>
                  <a:pt x="18233" y="15600"/>
                  <a:pt x="18301" y="15640"/>
                  <a:pt x="18355" y="15652"/>
                </a:cubicBezTo>
                <a:cubicBezTo>
                  <a:pt x="18414" y="15665"/>
                  <a:pt x="18414" y="15629"/>
                  <a:pt x="18430" y="15677"/>
                </a:cubicBezTo>
              </a:path>
              <a:path w="820" h="720">
                <a:moveTo>
                  <a:pt x="18256" y="15528"/>
                </a:moveTo>
                <a:cubicBezTo>
                  <a:pt x="18205" y="15545"/>
                  <a:pt x="18243" y="15597"/>
                  <a:pt x="18231" y="15652"/>
                </a:cubicBezTo>
                <a:cubicBezTo>
                  <a:pt x="18217" y="15720"/>
                  <a:pt x="18207" y="15756"/>
                  <a:pt x="18207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31000" y="5500800"/>
            <a:ext cx="625320" cy="312480"/>
          </a:xfrm>
          <a:custGeom>
            <a:avLst/>
            <a:gdLst/>
            <a:ahLst/>
            <a:rect l="l" t="t" r="r" b="b"/>
            <a:pathLst>
              <a:path w="1737" h="869">
                <a:moveTo>
                  <a:pt x="19075" y="15329"/>
                </a:moveTo>
                <a:cubicBezTo>
                  <a:pt x="19083" y="15313"/>
                  <a:pt x="19092" y="15296"/>
                  <a:pt x="19100" y="15280"/>
                </a:cubicBezTo>
                <a:cubicBezTo>
                  <a:pt x="19062" y="15327"/>
                  <a:pt x="19028" y="15375"/>
                  <a:pt x="19000" y="15429"/>
                </a:cubicBezTo>
                <a:cubicBezTo>
                  <a:pt x="18960" y="15505"/>
                  <a:pt x="18977" y="15515"/>
                  <a:pt x="19050" y="15553"/>
                </a:cubicBezTo>
                <a:cubicBezTo>
                  <a:pt x="19104" y="15581"/>
                  <a:pt x="19183" y="15575"/>
                  <a:pt x="19224" y="15627"/>
                </a:cubicBezTo>
                <a:cubicBezTo>
                  <a:pt x="19241" y="15649"/>
                  <a:pt x="19221" y="15715"/>
                  <a:pt x="19199" y="15726"/>
                </a:cubicBezTo>
                <a:cubicBezTo>
                  <a:pt x="19166" y="15742"/>
                  <a:pt x="19088" y="15726"/>
                  <a:pt x="19050" y="15726"/>
                </a:cubicBezTo>
              </a:path>
              <a:path w="1737" h="869">
                <a:moveTo>
                  <a:pt x="19447" y="15429"/>
                </a:moveTo>
                <a:cubicBezTo>
                  <a:pt x="19463" y="15421"/>
                  <a:pt x="19480" y="15412"/>
                  <a:pt x="19496" y="15404"/>
                </a:cubicBezTo>
                <a:cubicBezTo>
                  <a:pt x="19422" y="15404"/>
                  <a:pt x="19367" y="15406"/>
                  <a:pt x="19298" y="15429"/>
                </a:cubicBezTo>
                <a:cubicBezTo>
                  <a:pt x="19273" y="15437"/>
                  <a:pt x="19249" y="15445"/>
                  <a:pt x="19224" y="15453"/>
                </a:cubicBezTo>
              </a:path>
              <a:path w="1737" h="869">
                <a:moveTo>
                  <a:pt x="19844" y="15478"/>
                </a:moveTo>
                <a:cubicBezTo>
                  <a:pt x="19799" y="15478"/>
                  <a:pt x="19786" y="15481"/>
                  <a:pt x="19769" y="15453"/>
                </a:cubicBezTo>
                <a:cubicBezTo>
                  <a:pt x="19789" y="15424"/>
                  <a:pt x="19841" y="15407"/>
                  <a:pt x="19893" y="15404"/>
                </a:cubicBezTo>
                <a:cubicBezTo>
                  <a:pt x="19946" y="15401"/>
                  <a:pt x="20015" y="15393"/>
                  <a:pt x="20042" y="15453"/>
                </a:cubicBezTo>
                <a:cubicBezTo>
                  <a:pt x="20073" y="15522"/>
                  <a:pt x="19997" y="15601"/>
                  <a:pt x="19968" y="15652"/>
                </a:cubicBezTo>
                <a:cubicBezTo>
                  <a:pt x="19934" y="15711"/>
                  <a:pt x="19869" y="15764"/>
                  <a:pt x="19844" y="15825"/>
                </a:cubicBezTo>
                <a:cubicBezTo>
                  <a:pt x="19844" y="15833"/>
                  <a:pt x="19844" y="15842"/>
                  <a:pt x="19844" y="15850"/>
                </a:cubicBezTo>
                <a:cubicBezTo>
                  <a:pt x="19862" y="15877"/>
                  <a:pt x="19917" y="15887"/>
                  <a:pt x="19968" y="15875"/>
                </a:cubicBezTo>
                <a:cubicBezTo>
                  <a:pt x="20063" y="15853"/>
                  <a:pt x="20115" y="15825"/>
                  <a:pt x="20216" y="15825"/>
                </a:cubicBezTo>
                <a:cubicBezTo>
                  <a:pt x="20282" y="15825"/>
                  <a:pt x="20299" y="15825"/>
                  <a:pt x="20340" y="15825"/>
                </a:cubicBezTo>
              </a:path>
              <a:path w="1737" h="869">
                <a:moveTo>
                  <a:pt x="20439" y="15701"/>
                </a:moveTo>
                <a:cubicBezTo>
                  <a:pt x="20489" y="15614"/>
                  <a:pt x="20529" y="15528"/>
                  <a:pt x="20638" y="15503"/>
                </a:cubicBezTo>
                <a:cubicBezTo>
                  <a:pt x="20654" y="15503"/>
                  <a:pt x="20671" y="15503"/>
                  <a:pt x="20687" y="15503"/>
                </a:cubicBezTo>
                <a:cubicBezTo>
                  <a:pt x="20725" y="15631"/>
                  <a:pt x="20711" y="15742"/>
                  <a:pt x="20687" y="15875"/>
                </a:cubicBezTo>
                <a:cubicBezTo>
                  <a:pt x="20662" y="16013"/>
                  <a:pt x="20629" y="16076"/>
                  <a:pt x="20513" y="16148"/>
                </a:cubicBezTo>
                <a:cubicBezTo>
                  <a:pt x="20414" y="16076"/>
                  <a:pt x="20422" y="15997"/>
                  <a:pt x="20414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178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419640" y="0"/>
            <a:ext cx="5724360" cy="5629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59000" y="1303200"/>
            <a:ext cx="536760" cy="349560"/>
          </a:xfrm>
          <a:custGeom>
            <a:avLst/>
            <a:gdLst/>
            <a:ahLst/>
            <a:rect l="l" t="t" r="r" b="b"/>
            <a:pathLst>
              <a:path w="1489" h="969">
                <a:moveTo>
                  <a:pt x="6300" y="3696"/>
                </a:moveTo>
                <a:cubicBezTo>
                  <a:pt x="6266" y="3684"/>
                  <a:pt x="6276" y="3688"/>
                  <a:pt x="6276" y="3646"/>
                </a:cubicBezTo>
                <a:cubicBezTo>
                  <a:pt x="6276" y="3577"/>
                  <a:pt x="6276" y="3785"/>
                  <a:pt x="6276" y="3795"/>
                </a:cubicBezTo>
                <a:cubicBezTo>
                  <a:pt x="6276" y="3913"/>
                  <a:pt x="6300" y="4023"/>
                  <a:pt x="6300" y="4142"/>
                </a:cubicBezTo>
                <a:cubicBezTo>
                  <a:pt x="6300" y="4150"/>
                  <a:pt x="6300" y="4159"/>
                  <a:pt x="6300" y="4167"/>
                </a:cubicBezTo>
              </a:path>
              <a:path w="1489" h="969">
                <a:moveTo>
                  <a:pt x="6524" y="4018"/>
                </a:moveTo>
                <a:cubicBezTo>
                  <a:pt x="6485" y="3968"/>
                  <a:pt x="6503" y="3943"/>
                  <a:pt x="6548" y="3894"/>
                </a:cubicBezTo>
                <a:cubicBezTo>
                  <a:pt x="6595" y="3842"/>
                  <a:pt x="6687" y="3862"/>
                  <a:pt x="6722" y="3919"/>
                </a:cubicBezTo>
                <a:cubicBezTo>
                  <a:pt x="6744" y="3955"/>
                  <a:pt x="6808" y="4128"/>
                  <a:pt x="6772" y="4167"/>
                </a:cubicBezTo>
                <a:cubicBezTo>
                  <a:pt x="6716" y="4228"/>
                  <a:pt x="6606" y="4168"/>
                  <a:pt x="6573" y="4118"/>
                </a:cubicBezTo>
                <a:cubicBezTo>
                  <a:pt x="6551" y="4084"/>
                  <a:pt x="6532" y="4010"/>
                  <a:pt x="6524" y="3969"/>
                </a:cubicBezTo>
              </a:path>
              <a:path w="1489" h="969">
                <a:moveTo>
                  <a:pt x="7144" y="3870"/>
                </a:moveTo>
                <a:cubicBezTo>
                  <a:pt x="7152" y="3870"/>
                  <a:pt x="7161" y="3870"/>
                  <a:pt x="7169" y="3870"/>
                </a:cubicBezTo>
                <a:cubicBezTo>
                  <a:pt x="7152" y="3820"/>
                  <a:pt x="7085" y="3863"/>
                  <a:pt x="7045" y="3894"/>
                </a:cubicBezTo>
                <a:cubicBezTo>
                  <a:pt x="6974" y="3949"/>
                  <a:pt x="6963" y="4055"/>
                  <a:pt x="7045" y="4093"/>
                </a:cubicBezTo>
                <a:cubicBezTo>
                  <a:pt x="7123" y="4129"/>
                  <a:pt x="7137" y="3998"/>
                  <a:pt x="7169" y="3969"/>
                </a:cubicBezTo>
                <a:cubicBezTo>
                  <a:pt x="7177" y="3969"/>
                  <a:pt x="7185" y="3969"/>
                  <a:pt x="7193" y="3969"/>
                </a:cubicBezTo>
                <a:cubicBezTo>
                  <a:pt x="7298" y="4047"/>
                  <a:pt x="7332" y="4162"/>
                  <a:pt x="7367" y="4291"/>
                </a:cubicBezTo>
                <a:cubicBezTo>
                  <a:pt x="7394" y="4388"/>
                  <a:pt x="7432" y="4553"/>
                  <a:pt x="7293" y="4589"/>
                </a:cubicBezTo>
                <a:cubicBezTo>
                  <a:pt x="7183" y="4618"/>
                  <a:pt x="7052" y="4546"/>
                  <a:pt x="6970" y="4490"/>
                </a:cubicBezTo>
              </a:path>
              <a:path w="1489" h="969">
                <a:moveTo>
                  <a:pt x="7689" y="4118"/>
                </a:moveTo>
                <a:cubicBezTo>
                  <a:pt x="7689" y="4093"/>
                  <a:pt x="7689" y="4085"/>
                  <a:pt x="7689" y="4068"/>
                </a:cubicBezTo>
                <a:cubicBezTo>
                  <a:pt x="7639" y="4075"/>
                  <a:pt x="7594" y="4080"/>
                  <a:pt x="7590" y="4142"/>
                </a:cubicBezTo>
                <a:cubicBezTo>
                  <a:pt x="7590" y="4184"/>
                  <a:pt x="7590" y="4192"/>
                  <a:pt x="7590" y="4217"/>
                </a:cubicBezTo>
                <a:cubicBezTo>
                  <a:pt x="7635" y="4206"/>
                  <a:pt x="7655" y="4176"/>
                  <a:pt x="7689" y="4142"/>
                </a:cubicBezTo>
                <a:cubicBezTo>
                  <a:pt x="7736" y="4095"/>
                  <a:pt x="7734" y="4128"/>
                  <a:pt x="7764" y="41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84320" y="1320840"/>
            <a:ext cx="142920" cy="15228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8186" y="3770"/>
                </a:moveTo>
                <a:cubicBezTo>
                  <a:pt x="8229" y="3738"/>
                  <a:pt x="8235" y="3752"/>
                  <a:pt x="8235" y="3696"/>
                </a:cubicBezTo>
                <a:cubicBezTo>
                  <a:pt x="8176" y="3651"/>
                  <a:pt x="8134" y="3688"/>
                  <a:pt x="8086" y="3746"/>
                </a:cubicBezTo>
                <a:cubicBezTo>
                  <a:pt x="8024" y="3822"/>
                  <a:pt x="7968" y="3977"/>
                  <a:pt x="8037" y="4068"/>
                </a:cubicBezTo>
                <a:cubicBezTo>
                  <a:pt x="8053" y="4076"/>
                  <a:pt x="8070" y="4085"/>
                  <a:pt x="8086" y="4093"/>
                </a:cubicBezTo>
                <a:cubicBezTo>
                  <a:pt x="8175" y="4057"/>
                  <a:pt x="8180" y="3984"/>
                  <a:pt x="8210" y="3894"/>
                </a:cubicBezTo>
                <a:cubicBezTo>
                  <a:pt x="8233" y="3827"/>
                  <a:pt x="8238" y="3809"/>
                  <a:pt x="8260" y="3770"/>
                </a:cubicBezTo>
                <a:cubicBezTo>
                  <a:pt x="8314" y="3797"/>
                  <a:pt x="8358" y="3907"/>
                  <a:pt x="8384" y="3969"/>
                </a:cubicBezTo>
                <a:cubicBezTo>
                  <a:pt x="8392" y="3994"/>
                  <a:pt x="8401" y="4018"/>
                  <a:pt x="8409" y="40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1357200"/>
            <a:ext cx="117360" cy="6372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9500" y="3770"/>
                </a:moveTo>
                <a:cubicBezTo>
                  <a:pt x="9525" y="3770"/>
                  <a:pt x="9533" y="3770"/>
                  <a:pt x="9550" y="3770"/>
                </a:cubicBezTo>
                <a:cubicBezTo>
                  <a:pt x="9495" y="3770"/>
                  <a:pt x="9456" y="3791"/>
                  <a:pt x="9401" y="3795"/>
                </a:cubicBezTo>
                <a:cubicBezTo>
                  <a:pt x="9365" y="3798"/>
                  <a:pt x="9337" y="3813"/>
                  <a:pt x="9302" y="3820"/>
                </a:cubicBezTo>
              </a:path>
              <a:path w="323" h="175">
                <a:moveTo>
                  <a:pt x="9575" y="3894"/>
                </a:moveTo>
                <a:cubicBezTo>
                  <a:pt x="9591" y="3894"/>
                  <a:pt x="9608" y="3894"/>
                  <a:pt x="9624" y="3894"/>
                </a:cubicBezTo>
                <a:cubicBezTo>
                  <a:pt x="9581" y="3894"/>
                  <a:pt x="9538" y="3903"/>
                  <a:pt x="9500" y="3919"/>
                </a:cubicBezTo>
                <a:cubicBezTo>
                  <a:pt x="9460" y="3939"/>
                  <a:pt x="9454" y="3948"/>
                  <a:pt x="9426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19680" y="1143000"/>
            <a:ext cx="19080" cy="214200"/>
          </a:xfrm>
          <a:custGeom>
            <a:avLst/>
            <a:gdLst/>
            <a:ahLst/>
            <a:rect l="l" t="t" r="r" b="b"/>
            <a:pathLst>
              <a:path w="51" h="596">
                <a:moveTo>
                  <a:pt x="10889" y="3274"/>
                </a:moveTo>
                <a:cubicBezTo>
                  <a:pt x="10909" y="3228"/>
                  <a:pt x="10912" y="3211"/>
                  <a:pt x="10939" y="3175"/>
                </a:cubicBezTo>
                <a:cubicBezTo>
                  <a:pt x="10939" y="3373"/>
                  <a:pt x="10939" y="3572"/>
                  <a:pt x="10939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32000" y="1919160"/>
            <a:ext cx="430200" cy="339840"/>
          </a:xfrm>
          <a:custGeom>
            <a:avLst/>
            <a:gdLst/>
            <a:ahLst/>
            <a:rect l="l" t="t" r="r" b="b"/>
            <a:pathLst>
              <a:path w="1192" h="944">
                <a:moveTo>
                  <a:pt x="6201" y="5358"/>
                </a:moveTo>
                <a:cubicBezTo>
                  <a:pt x="6226" y="5358"/>
                  <a:pt x="6234" y="5358"/>
                  <a:pt x="6226" y="5333"/>
                </a:cubicBezTo>
                <a:cubicBezTo>
                  <a:pt x="6226" y="5403"/>
                  <a:pt x="6243" y="5467"/>
                  <a:pt x="6251" y="5531"/>
                </a:cubicBezTo>
                <a:cubicBezTo>
                  <a:pt x="6267" y="5658"/>
                  <a:pt x="6241" y="5789"/>
                  <a:pt x="6276" y="5904"/>
                </a:cubicBezTo>
                <a:cubicBezTo>
                  <a:pt x="6276" y="5912"/>
                  <a:pt x="6276" y="5920"/>
                  <a:pt x="6276" y="5928"/>
                </a:cubicBezTo>
              </a:path>
              <a:path w="1192" h="944">
                <a:moveTo>
                  <a:pt x="6499" y="5730"/>
                </a:moveTo>
                <a:cubicBezTo>
                  <a:pt x="6499" y="5676"/>
                  <a:pt x="6489" y="5646"/>
                  <a:pt x="6524" y="5606"/>
                </a:cubicBezTo>
                <a:cubicBezTo>
                  <a:pt x="6564" y="5560"/>
                  <a:pt x="6650" y="5573"/>
                  <a:pt x="6697" y="5606"/>
                </a:cubicBezTo>
                <a:cubicBezTo>
                  <a:pt x="6759" y="5650"/>
                  <a:pt x="6793" y="5729"/>
                  <a:pt x="6772" y="5804"/>
                </a:cubicBezTo>
                <a:cubicBezTo>
                  <a:pt x="6757" y="5857"/>
                  <a:pt x="6707" y="5918"/>
                  <a:pt x="6648" y="5904"/>
                </a:cubicBezTo>
                <a:cubicBezTo>
                  <a:pt x="6583" y="5889"/>
                  <a:pt x="6553" y="5831"/>
                  <a:pt x="6524" y="5779"/>
                </a:cubicBezTo>
              </a:path>
              <a:path w="1192" h="944">
                <a:moveTo>
                  <a:pt x="7119" y="5631"/>
                </a:moveTo>
                <a:cubicBezTo>
                  <a:pt x="7158" y="5631"/>
                  <a:pt x="7188" y="5647"/>
                  <a:pt x="7193" y="5606"/>
                </a:cubicBezTo>
                <a:cubicBezTo>
                  <a:pt x="7193" y="5581"/>
                  <a:pt x="7193" y="5573"/>
                  <a:pt x="7193" y="5556"/>
                </a:cubicBezTo>
                <a:cubicBezTo>
                  <a:pt x="7143" y="5556"/>
                  <a:pt x="7144" y="5562"/>
                  <a:pt x="7119" y="5606"/>
                </a:cubicBezTo>
                <a:cubicBezTo>
                  <a:pt x="7078" y="5677"/>
                  <a:pt x="7091" y="5721"/>
                  <a:pt x="7144" y="5779"/>
                </a:cubicBezTo>
                <a:cubicBezTo>
                  <a:pt x="7189" y="5828"/>
                  <a:pt x="7203" y="5765"/>
                  <a:pt x="7218" y="5730"/>
                </a:cubicBezTo>
                <a:cubicBezTo>
                  <a:pt x="7226" y="5713"/>
                  <a:pt x="7235" y="5697"/>
                  <a:pt x="7243" y="5680"/>
                </a:cubicBezTo>
                <a:cubicBezTo>
                  <a:pt x="7251" y="5680"/>
                  <a:pt x="7260" y="5680"/>
                  <a:pt x="7268" y="5680"/>
                </a:cubicBezTo>
                <a:cubicBezTo>
                  <a:pt x="7326" y="5785"/>
                  <a:pt x="7376" y="5880"/>
                  <a:pt x="7392" y="6003"/>
                </a:cubicBezTo>
                <a:cubicBezTo>
                  <a:pt x="7400" y="6061"/>
                  <a:pt x="7415" y="6204"/>
                  <a:pt x="7367" y="6251"/>
                </a:cubicBezTo>
                <a:cubicBezTo>
                  <a:pt x="7326" y="6292"/>
                  <a:pt x="7195" y="6289"/>
                  <a:pt x="7144" y="6276"/>
                </a:cubicBezTo>
                <a:cubicBezTo>
                  <a:pt x="7073" y="6257"/>
                  <a:pt x="7036" y="6207"/>
                  <a:pt x="7020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76680" y="2054160"/>
            <a:ext cx="90360" cy="7164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7813" y="5755"/>
                </a:moveTo>
                <a:cubicBezTo>
                  <a:pt x="7813" y="5730"/>
                  <a:pt x="7813" y="5722"/>
                  <a:pt x="7813" y="5705"/>
                </a:cubicBezTo>
                <a:cubicBezTo>
                  <a:pt x="7787" y="5712"/>
                  <a:pt x="7724" y="5745"/>
                  <a:pt x="7714" y="5779"/>
                </a:cubicBezTo>
                <a:cubicBezTo>
                  <a:pt x="7705" y="5812"/>
                  <a:pt x="7714" y="5869"/>
                  <a:pt x="7714" y="5904"/>
                </a:cubicBezTo>
                <a:cubicBezTo>
                  <a:pt x="7756" y="5862"/>
                  <a:pt x="7779" y="5825"/>
                  <a:pt x="7813" y="5779"/>
                </a:cubicBezTo>
                <a:cubicBezTo>
                  <a:pt x="7821" y="5771"/>
                  <a:pt x="7830" y="5763"/>
                  <a:pt x="7838" y="5755"/>
                </a:cubicBezTo>
                <a:cubicBezTo>
                  <a:pt x="7867" y="5769"/>
                  <a:pt x="7914" y="5816"/>
                  <a:pt x="7938" y="5854"/>
                </a:cubicBezTo>
                <a:cubicBezTo>
                  <a:pt x="7946" y="5871"/>
                  <a:pt x="7954" y="5887"/>
                  <a:pt x="7962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27240" y="1919160"/>
            <a:ext cx="36720" cy="162000"/>
          </a:xfrm>
          <a:custGeom>
            <a:avLst/>
            <a:gdLst/>
            <a:ahLst/>
            <a:rect l="l" t="t" r="r" b="b"/>
            <a:pathLst>
              <a:path w="100" h="447">
                <a:moveTo>
                  <a:pt x="8409" y="5383"/>
                </a:moveTo>
                <a:cubicBezTo>
                  <a:pt x="8409" y="5358"/>
                  <a:pt x="8409" y="5350"/>
                  <a:pt x="8409" y="5333"/>
                </a:cubicBezTo>
                <a:cubicBezTo>
                  <a:pt x="8409" y="5405"/>
                  <a:pt x="8427" y="5462"/>
                  <a:pt x="8434" y="5531"/>
                </a:cubicBezTo>
                <a:cubicBezTo>
                  <a:pt x="8445" y="5640"/>
                  <a:pt x="8459" y="5683"/>
                  <a:pt x="8508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84720" y="1911240"/>
            <a:ext cx="98280" cy="6192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9550" y="5308"/>
                </a:moveTo>
                <a:cubicBezTo>
                  <a:pt x="9566" y="5308"/>
                  <a:pt x="9583" y="5308"/>
                  <a:pt x="9599" y="5308"/>
                </a:cubicBezTo>
                <a:cubicBezTo>
                  <a:pt x="9542" y="5308"/>
                  <a:pt x="9521" y="5317"/>
                  <a:pt x="9475" y="5333"/>
                </a:cubicBezTo>
                <a:cubicBezTo>
                  <a:pt x="9448" y="5342"/>
                  <a:pt x="9429" y="5351"/>
                  <a:pt x="9401" y="5358"/>
                </a:cubicBezTo>
              </a:path>
              <a:path w="274" h="175">
                <a:moveTo>
                  <a:pt x="9649" y="5457"/>
                </a:moveTo>
                <a:cubicBezTo>
                  <a:pt x="9657" y="5465"/>
                  <a:pt x="9666" y="5474"/>
                  <a:pt x="9674" y="5482"/>
                </a:cubicBezTo>
                <a:cubicBezTo>
                  <a:pt x="9616" y="5482"/>
                  <a:pt x="9558" y="5482"/>
                  <a:pt x="9500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6120" y="1785960"/>
            <a:ext cx="241200" cy="241200"/>
          </a:xfrm>
          <a:custGeom>
            <a:avLst/>
            <a:gdLst/>
            <a:ahLst/>
            <a:rect l="l" t="t" r="r" b="b"/>
            <a:pathLst>
              <a:path w="671" h="671">
                <a:moveTo>
                  <a:pt x="10592" y="5283"/>
                </a:moveTo>
                <a:cubicBezTo>
                  <a:pt x="10550" y="5283"/>
                  <a:pt x="10532" y="5278"/>
                  <a:pt x="10517" y="5234"/>
                </a:cubicBezTo>
                <a:cubicBezTo>
                  <a:pt x="10504" y="5196"/>
                  <a:pt x="10522" y="5140"/>
                  <a:pt x="10542" y="5110"/>
                </a:cubicBezTo>
                <a:cubicBezTo>
                  <a:pt x="10570" y="5069"/>
                  <a:pt x="10625" y="5035"/>
                  <a:pt x="10666" y="5011"/>
                </a:cubicBezTo>
                <a:cubicBezTo>
                  <a:pt x="10717" y="4981"/>
                  <a:pt x="10785" y="4964"/>
                  <a:pt x="10840" y="4961"/>
                </a:cubicBezTo>
                <a:cubicBezTo>
                  <a:pt x="10912" y="4957"/>
                  <a:pt x="10975" y="5004"/>
                  <a:pt x="11038" y="5035"/>
                </a:cubicBezTo>
                <a:cubicBezTo>
                  <a:pt x="11117" y="5074"/>
                  <a:pt x="11114" y="5115"/>
                  <a:pt x="11162" y="5184"/>
                </a:cubicBezTo>
                <a:cubicBezTo>
                  <a:pt x="11198" y="5236"/>
                  <a:pt x="11187" y="5292"/>
                  <a:pt x="11187" y="5358"/>
                </a:cubicBezTo>
                <a:cubicBezTo>
                  <a:pt x="11187" y="5421"/>
                  <a:pt x="11143" y="5471"/>
                  <a:pt x="11088" y="5507"/>
                </a:cubicBezTo>
                <a:cubicBezTo>
                  <a:pt x="11034" y="5543"/>
                  <a:pt x="10968" y="5573"/>
                  <a:pt x="10914" y="5606"/>
                </a:cubicBezTo>
                <a:cubicBezTo>
                  <a:pt x="10828" y="5658"/>
                  <a:pt x="10790" y="5621"/>
                  <a:pt x="10716" y="5581"/>
                </a:cubicBezTo>
                <a:cubicBezTo>
                  <a:pt x="10643" y="5542"/>
                  <a:pt x="10621" y="5488"/>
                  <a:pt x="10616" y="5407"/>
                </a:cubicBezTo>
                <a:cubicBezTo>
                  <a:pt x="10612" y="5334"/>
                  <a:pt x="10612" y="5275"/>
                  <a:pt x="10641" y="5209"/>
                </a:cubicBezTo>
                <a:cubicBezTo>
                  <a:pt x="10665" y="5156"/>
                  <a:pt x="10700" y="5126"/>
                  <a:pt x="10740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13000" y="785880"/>
            <a:ext cx="4946760" cy="2135160"/>
          </a:xfrm>
          <a:custGeom>
            <a:avLst/>
            <a:gdLst/>
            <a:ahLst/>
            <a:rect l="l" t="t" r="r" b="b"/>
            <a:pathLst>
              <a:path w="13743" h="5929">
                <a:moveTo>
                  <a:pt x="6424" y="7020"/>
                </a:moveTo>
                <a:cubicBezTo>
                  <a:pt x="6424" y="7139"/>
                  <a:pt x="6438" y="7252"/>
                  <a:pt x="6449" y="7367"/>
                </a:cubicBezTo>
                <a:cubicBezTo>
                  <a:pt x="6458" y="7467"/>
                  <a:pt x="6452" y="7546"/>
                  <a:pt x="6474" y="7640"/>
                </a:cubicBezTo>
                <a:cubicBezTo>
                  <a:pt x="6474" y="7648"/>
                  <a:pt x="6474" y="7657"/>
                  <a:pt x="6474" y="7665"/>
                </a:cubicBezTo>
              </a:path>
              <a:path w="13743" h="5929">
                <a:moveTo>
                  <a:pt x="6747" y="7466"/>
                </a:moveTo>
                <a:cubicBezTo>
                  <a:pt x="6747" y="7474"/>
                  <a:pt x="6747" y="7483"/>
                  <a:pt x="6747" y="7491"/>
                </a:cubicBezTo>
                <a:cubicBezTo>
                  <a:pt x="6714" y="7447"/>
                  <a:pt x="6711" y="7420"/>
                  <a:pt x="6747" y="7367"/>
                </a:cubicBezTo>
                <a:cubicBezTo>
                  <a:pt x="6780" y="7317"/>
                  <a:pt x="6854" y="7341"/>
                  <a:pt x="6896" y="7367"/>
                </a:cubicBezTo>
                <a:cubicBezTo>
                  <a:pt x="6972" y="7414"/>
                  <a:pt x="6970" y="7463"/>
                  <a:pt x="6970" y="7541"/>
                </a:cubicBezTo>
                <a:cubicBezTo>
                  <a:pt x="6970" y="7598"/>
                  <a:pt x="6941" y="7657"/>
                  <a:pt x="6871" y="7640"/>
                </a:cubicBezTo>
                <a:cubicBezTo>
                  <a:pt x="6807" y="7625"/>
                  <a:pt x="6776" y="7567"/>
                  <a:pt x="6747" y="7516"/>
                </a:cubicBezTo>
              </a:path>
              <a:path w="13743" h="5929">
                <a:moveTo>
                  <a:pt x="7317" y="7417"/>
                </a:moveTo>
                <a:cubicBezTo>
                  <a:pt x="7376" y="7383"/>
                  <a:pt x="7392" y="7383"/>
                  <a:pt x="7392" y="7317"/>
                </a:cubicBezTo>
                <a:cubicBezTo>
                  <a:pt x="7327" y="7330"/>
                  <a:pt x="7281" y="7368"/>
                  <a:pt x="7268" y="7441"/>
                </a:cubicBezTo>
                <a:cubicBezTo>
                  <a:pt x="7257" y="7504"/>
                  <a:pt x="7265" y="7543"/>
                  <a:pt x="7293" y="7590"/>
                </a:cubicBezTo>
                <a:cubicBezTo>
                  <a:pt x="7336" y="7579"/>
                  <a:pt x="7359" y="7549"/>
                  <a:pt x="7392" y="7516"/>
                </a:cubicBezTo>
                <a:cubicBezTo>
                  <a:pt x="7417" y="7491"/>
                  <a:pt x="7425" y="7483"/>
                  <a:pt x="7441" y="7466"/>
                </a:cubicBezTo>
                <a:cubicBezTo>
                  <a:pt x="7506" y="7492"/>
                  <a:pt x="7585" y="7568"/>
                  <a:pt x="7615" y="7640"/>
                </a:cubicBezTo>
                <a:cubicBezTo>
                  <a:pt x="7654" y="7733"/>
                  <a:pt x="7688" y="7885"/>
                  <a:pt x="7665" y="7987"/>
                </a:cubicBezTo>
                <a:cubicBezTo>
                  <a:pt x="7646" y="8072"/>
                  <a:pt x="7567" y="8108"/>
                  <a:pt x="7491" y="8111"/>
                </a:cubicBezTo>
                <a:cubicBezTo>
                  <a:pt x="7421" y="8114"/>
                  <a:pt x="7296" y="8094"/>
                  <a:pt x="7243" y="8037"/>
                </a:cubicBezTo>
                <a:cubicBezTo>
                  <a:pt x="7221" y="7993"/>
                  <a:pt x="7218" y="7981"/>
                  <a:pt x="7193" y="7962"/>
                </a:cubicBezTo>
              </a:path>
              <a:path w="13743" h="5929">
                <a:moveTo>
                  <a:pt x="8012" y="7516"/>
                </a:moveTo>
                <a:cubicBezTo>
                  <a:pt x="8057" y="7516"/>
                  <a:pt x="7988" y="7518"/>
                  <a:pt x="7962" y="7541"/>
                </a:cubicBezTo>
                <a:cubicBezTo>
                  <a:pt x="7913" y="7585"/>
                  <a:pt x="7949" y="7619"/>
                  <a:pt x="7962" y="7665"/>
                </a:cubicBezTo>
                <a:cubicBezTo>
                  <a:pt x="7969" y="7689"/>
                  <a:pt x="8022" y="7714"/>
                  <a:pt x="8037" y="7665"/>
                </a:cubicBezTo>
                <a:cubicBezTo>
                  <a:pt x="8050" y="7623"/>
                  <a:pt x="8039" y="7571"/>
                  <a:pt x="8086" y="7565"/>
                </a:cubicBezTo>
                <a:cubicBezTo>
                  <a:pt x="8127" y="7560"/>
                  <a:pt x="8159" y="7613"/>
                  <a:pt x="8186" y="7640"/>
                </a:cubicBezTo>
              </a:path>
              <a:path w="13743" h="5929">
                <a:moveTo>
                  <a:pt x="8682" y="7144"/>
                </a:moveTo>
                <a:cubicBezTo>
                  <a:pt x="8721" y="7157"/>
                  <a:pt x="8692" y="7156"/>
                  <a:pt x="8731" y="7169"/>
                </a:cubicBezTo>
                <a:cubicBezTo>
                  <a:pt x="8722" y="7143"/>
                  <a:pt x="8713" y="7123"/>
                  <a:pt x="8682" y="7119"/>
                </a:cubicBezTo>
                <a:cubicBezTo>
                  <a:pt x="8629" y="7112"/>
                  <a:pt x="8596" y="7135"/>
                  <a:pt x="8558" y="7169"/>
                </a:cubicBezTo>
                <a:cubicBezTo>
                  <a:pt x="8507" y="7215"/>
                  <a:pt x="8488" y="7277"/>
                  <a:pt x="8483" y="7342"/>
                </a:cubicBezTo>
                <a:cubicBezTo>
                  <a:pt x="8480" y="7385"/>
                  <a:pt x="8521" y="7413"/>
                  <a:pt x="8558" y="7417"/>
                </a:cubicBezTo>
                <a:cubicBezTo>
                  <a:pt x="8630" y="7425"/>
                  <a:pt x="8642" y="7391"/>
                  <a:pt x="8682" y="7342"/>
                </a:cubicBezTo>
                <a:cubicBezTo>
                  <a:pt x="8711" y="7306"/>
                  <a:pt x="8726" y="7241"/>
                  <a:pt x="8731" y="7193"/>
                </a:cubicBezTo>
                <a:cubicBezTo>
                  <a:pt x="8731" y="7185"/>
                  <a:pt x="8731" y="7177"/>
                  <a:pt x="8731" y="7169"/>
                </a:cubicBezTo>
                <a:cubicBezTo>
                  <a:pt x="8759" y="7187"/>
                  <a:pt x="8781" y="7266"/>
                  <a:pt x="8806" y="7317"/>
                </a:cubicBezTo>
                <a:cubicBezTo>
                  <a:pt x="8844" y="7394"/>
                  <a:pt x="8856" y="7424"/>
                  <a:pt x="8930" y="7466"/>
                </a:cubicBezTo>
              </a:path>
              <a:path w="13743" h="5929">
                <a:moveTo>
                  <a:pt x="9128" y="6821"/>
                </a:moveTo>
                <a:cubicBezTo>
                  <a:pt x="9128" y="6796"/>
                  <a:pt x="9128" y="6788"/>
                  <a:pt x="9128" y="6772"/>
                </a:cubicBezTo>
                <a:cubicBezTo>
                  <a:pt x="9162" y="6794"/>
                  <a:pt x="9153" y="6820"/>
                  <a:pt x="9153" y="6871"/>
                </a:cubicBezTo>
                <a:cubicBezTo>
                  <a:pt x="9153" y="6912"/>
                  <a:pt x="9153" y="6954"/>
                  <a:pt x="9153" y="6995"/>
                </a:cubicBezTo>
                <a:cubicBezTo>
                  <a:pt x="9204" y="6995"/>
                  <a:pt x="9211" y="6984"/>
                  <a:pt x="9252" y="6970"/>
                </a:cubicBezTo>
                <a:cubicBezTo>
                  <a:pt x="9282" y="6960"/>
                  <a:pt x="9322" y="6948"/>
                  <a:pt x="9351" y="6945"/>
                </a:cubicBezTo>
                <a:cubicBezTo>
                  <a:pt x="9376" y="6945"/>
                  <a:pt x="9384" y="6945"/>
                  <a:pt x="9401" y="6945"/>
                </a:cubicBezTo>
              </a:path>
              <a:path w="13743" h="5929">
                <a:moveTo>
                  <a:pt x="9351" y="6846"/>
                </a:moveTo>
                <a:cubicBezTo>
                  <a:pt x="9320" y="6890"/>
                  <a:pt x="9327" y="6913"/>
                  <a:pt x="9327" y="6970"/>
                </a:cubicBezTo>
                <a:cubicBezTo>
                  <a:pt x="9327" y="7043"/>
                  <a:pt x="9343" y="7099"/>
                  <a:pt x="9351" y="7169"/>
                </a:cubicBezTo>
              </a:path>
              <a:path w="13743" h="5929">
                <a:moveTo>
                  <a:pt x="10269" y="7094"/>
                </a:moveTo>
                <a:cubicBezTo>
                  <a:pt x="10277" y="7094"/>
                  <a:pt x="10286" y="7094"/>
                  <a:pt x="10294" y="7094"/>
                </a:cubicBezTo>
                <a:cubicBezTo>
                  <a:pt x="10281" y="7132"/>
                  <a:pt x="10265" y="7119"/>
                  <a:pt x="10220" y="7119"/>
                </a:cubicBezTo>
                <a:cubicBezTo>
                  <a:pt x="10174" y="7119"/>
                  <a:pt x="10161" y="7139"/>
                  <a:pt x="10120" y="7144"/>
                </a:cubicBezTo>
                <a:cubicBezTo>
                  <a:pt x="10112" y="7144"/>
                  <a:pt x="10104" y="7144"/>
                  <a:pt x="10096" y="7144"/>
                </a:cubicBezTo>
              </a:path>
              <a:path w="13743" h="5929">
                <a:moveTo>
                  <a:pt x="10344" y="7243"/>
                </a:moveTo>
                <a:cubicBezTo>
                  <a:pt x="10344" y="7251"/>
                  <a:pt x="10344" y="7260"/>
                  <a:pt x="10344" y="7268"/>
                </a:cubicBezTo>
                <a:cubicBezTo>
                  <a:pt x="10286" y="7268"/>
                  <a:pt x="10228" y="7268"/>
                  <a:pt x="10170" y="7268"/>
                </a:cubicBezTo>
              </a:path>
              <a:path w="13743" h="5929">
                <a:moveTo>
                  <a:pt x="10790" y="6871"/>
                </a:moveTo>
                <a:cubicBezTo>
                  <a:pt x="10825" y="6859"/>
                  <a:pt x="10817" y="6833"/>
                  <a:pt x="10864" y="6821"/>
                </a:cubicBezTo>
                <a:cubicBezTo>
                  <a:pt x="10864" y="6908"/>
                  <a:pt x="10848" y="6983"/>
                  <a:pt x="10840" y="7069"/>
                </a:cubicBezTo>
                <a:cubicBezTo>
                  <a:pt x="10833" y="7140"/>
                  <a:pt x="10799" y="7277"/>
                  <a:pt x="10815" y="7342"/>
                </a:cubicBezTo>
                <a:cubicBezTo>
                  <a:pt x="10830" y="7401"/>
                  <a:pt x="10882" y="7414"/>
                  <a:pt x="10939" y="7417"/>
                </a:cubicBezTo>
                <a:cubicBezTo>
                  <a:pt x="11002" y="7421"/>
                  <a:pt x="11099" y="7406"/>
                  <a:pt x="11162" y="7392"/>
                </a:cubicBezTo>
                <a:cubicBezTo>
                  <a:pt x="11252" y="7372"/>
                  <a:pt x="11317" y="7367"/>
                  <a:pt x="11410" y="7367"/>
                </a:cubicBezTo>
                <a:cubicBezTo>
                  <a:pt x="11447" y="7367"/>
                  <a:pt x="11514" y="7345"/>
                  <a:pt x="11485" y="7367"/>
                </a:cubicBezTo>
                <a:cubicBezTo>
                  <a:pt x="11477" y="7367"/>
                  <a:pt x="11468" y="7367"/>
                  <a:pt x="11460" y="7367"/>
                </a:cubicBezTo>
              </a:path>
              <a:path w="13743" h="5929">
                <a:moveTo>
                  <a:pt x="11212" y="7144"/>
                </a:moveTo>
                <a:cubicBezTo>
                  <a:pt x="11170" y="7144"/>
                  <a:pt x="11162" y="7144"/>
                  <a:pt x="11137" y="7144"/>
                </a:cubicBezTo>
                <a:cubicBezTo>
                  <a:pt x="11137" y="7264"/>
                  <a:pt x="11149" y="7375"/>
                  <a:pt x="11162" y="7491"/>
                </a:cubicBezTo>
                <a:cubicBezTo>
                  <a:pt x="11162" y="7552"/>
                  <a:pt x="11153" y="7568"/>
                  <a:pt x="11187" y="7590"/>
                </a:cubicBezTo>
              </a:path>
              <a:path w="13743" h="5929">
                <a:moveTo>
                  <a:pt x="18604" y="7714"/>
                </a:moveTo>
                <a:cubicBezTo>
                  <a:pt x="18604" y="7706"/>
                  <a:pt x="18604" y="7697"/>
                  <a:pt x="18604" y="7689"/>
                </a:cubicBezTo>
              </a:path>
              <a:path w="13743" h="5929">
                <a:moveTo>
                  <a:pt x="18852" y="7516"/>
                </a:moveTo>
                <a:cubicBezTo>
                  <a:pt x="18887" y="7489"/>
                  <a:pt x="18882" y="7491"/>
                  <a:pt x="18926" y="7491"/>
                </a:cubicBezTo>
              </a:path>
              <a:path w="13743" h="5929">
                <a:moveTo>
                  <a:pt x="19124" y="7243"/>
                </a:moveTo>
                <a:cubicBezTo>
                  <a:pt x="19173" y="7215"/>
                  <a:pt x="19193" y="7193"/>
                  <a:pt x="19248" y="7193"/>
                </a:cubicBezTo>
              </a:path>
              <a:path w="13743" h="5929">
                <a:moveTo>
                  <a:pt x="19521" y="6995"/>
                </a:moveTo>
                <a:cubicBezTo>
                  <a:pt x="19572" y="6957"/>
                  <a:pt x="19567" y="6981"/>
                  <a:pt x="19621" y="6995"/>
                </a:cubicBezTo>
              </a:path>
              <a:path w="13743" h="5929">
                <a:moveTo>
                  <a:pt x="19893" y="6772"/>
                </a:moveTo>
                <a:cubicBezTo>
                  <a:pt x="19928" y="6746"/>
                  <a:pt x="19924" y="6747"/>
                  <a:pt x="19968" y="6747"/>
                </a:cubicBezTo>
              </a:path>
              <a:path w="13743" h="5929">
                <a:moveTo>
                  <a:pt x="20141" y="6623"/>
                </a:moveTo>
                <a:cubicBezTo>
                  <a:pt x="20141" y="6582"/>
                  <a:pt x="20154" y="6610"/>
                  <a:pt x="20166" y="6573"/>
                </a:cubicBezTo>
              </a:path>
              <a:path w="13743" h="5929">
                <a:moveTo>
                  <a:pt x="18703" y="5234"/>
                </a:moveTo>
                <a:cubicBezTo>
                  <a:pt x="18703" y="5226"/>
                  <a:pt x="18703" y="5217"/>
                  <a:pt x="18703" y="5209"/>
                </a:cubicBezTo>
                <a:cubicBezTo>
                  <a:pt x="18745" y="5209"/>
                  <a:pt x="18741" y="5219"/>
                  <a:pt x="18752" y="5184"/>
                </a:cubicBezTo>
                <a:cubicBezTo>
                  <a:pt x="18716" y="5212"/>
                  <a:pt x="18689" y="5224"/>
                  <a:pt x="18653" y="5259"/>
                </a:cubicBezTo>
                <a:cubicBezTo>
                  <a:pt x="18603" y="5308"/>
                  <a:pt x="18569" y="5354"/>
                  <a:pt x="18529" y="5407"/>
                </a:cubicBezTo>
                <a:cubicBezTo>
                  <a:pt x="18487" y="5463"/>
                  <a:pt x="18448" y="5505"/>
                  <a:pt x="18405" y="5556"/>
                </a:cubicBezTo>
                <a:cubicBezTo>
                  <a:pt x="18368" y="5600"/>
                  <a:pt x="18322" y="5639"/>
                  <a:pt x="18281" y="5680"/>
                </a:cubicBezTo>
                <a:cubicBezTo>
                  <a:pt x="18252" y="5709"/>
                  <a:pt x="18240" y="5718"/>
                  <a:pt x="18231" y="5755"/>
                </a:cubicBezTo>
                <a:cubicBezTo>
                  <a:pt x="18196" y="5767"/>
                  <a:pt x="18196" y="5767"/>
                  <a:pt x="18231" y="5779"/>
                </a:cubicBezTo>
              </a:path>
              <a:path w="13743" h="5929">
                <a:moveTo>
                  <a:pt x="18678" y="5655"/>
                </a:moveTo>
                <a:cubicBezTo>
                  <a:pt x="18644" y="5611"/>
                  <a:pt x="18645" y="5618"/>
                  <a:pt x="18604" y="5581"/>
                </a:cubicBezTo>
                <a:cubicBezTo>
                  <a:pt x="18565" y="5546"/>
                  <a:pt x="18502" y="5513"/>
                  <a:pt x="18455" y="5482"/>
                </a:cubicBezTo>
                <a:cubicBezTo>
                  <a:pt x="18360" y="5419"/>
                  <a:pt x="18256" y="5364"/>
                  <a:pt x="18157" y="5308"/>
                </a:cubicBezTo>
                <a:cubicBezTo>
                  <a:pt x="18097" y="5274"/>
                  <a:pt x="18032" y="5182"/>
                  <a:pt x="17983" y="5159"/>
                </a:cubicBezTo>
                <a:cubicBezTo>
                  <a:pt x="17954" y="5145"/>
                  <a:pt x="17891" y="5121"/>
                  <a:pt x="17859" y="5110"/>
                </a:cubicBezTo>
                <a:cubicBezTo>
                  <a:pt x="17851" y="5110"/>
                  <a:pt x="17843" y="5110"/>
                  <a:pt x="17835" y="5110"/>
                </a:cubicBezTo>
              </a:path>
              <a:path w="13743" h="5929">
                <a:moveTo>
                  <a:pt x="12055" y="7689"/>
                </a:moveTo>
                <a:lnTo>
                  <a:pt x="12055" y="7689"/>
                </a:lnTo>
                <a:lnTo>
                  <a:pt x="12055" y="7689"/>
                </a:lnTo>
              </a:path>
              <a:path w="13743" h="5929">
                <a:moveTo>
                  <a:pt x="11857" y="7789"/>
                </a:moveTo>
                <a:cubicBezTo>
                  <a:pt x="11849" y="7789"/>
                  <a:pt x="11840" y="7789"/>
                  <a:pt x="11832" y="7789"/>
                </a:cubicBezTo>
                <a:cubicBezTo>
                  <a:pt x="11989" y="7789"/>
                  <a:pt x="12146" y="7789"/>
                  <a:pt x="12303" y="7789"/>
                </a:cubicBezTo>
                <a:cubicBezTo>
                  <a:pt x="12318" y="7785"/>
                  <a:pt x="12355" y="7766"/>
                  <a:pt x="12402" y="7764"/>
                </a:cubicBezTo>
                <a:cubicBezTo>
                  <a:pt x="12427" y="7764"/>
                  <a:pt x="12435" y="7764"/>
                  <a:pt x="12452" y="7764"/>
                </a:cubicBezTo>
                <a:cubicBezTo>
                  <a:pt x="12457" y="7762"/>
                  <a:pt x="12524" y="7719"/>
                  <a:pt x="12551" y="7714"/>
                </a:cubicBezTo>
                <a:cubicBezTo>
                  <a:pt x="12591" y="7707"/>
                  <a:pt x="12613" y="7696"/>
                  <a:pt x="12650" y="7689"/>
                </a:cubicBezTo>
                <a:cubicBezTo>
                  <a:pt x="12721" y="7676"/>
                  <a:pt x="12779" y="7679"/>
                  <a:pt x="12849" y="7665"/>
                </a:cubicBezTo>
                <a:cubicBezTo>
                  <a:pt x="12885" y="7658"/>
                  <a:pt x="12910" y="7649"/>
                  <a:pt x="12948" y="7640"/>
                </a:cubicBezTo>
                <a:cubicBezTo>
                  <a:pt x="12991" y="7630"/>
                  <a:pt x="13023" y="7623"/>
                  <a:pt x="13072" y="7615"/>
                </a:cubicBezTo>
                <a:cubicBezTo>
                  <a:pt x="13136" y="7605"/>
                  <a:pt x="13220" y="7599"/>
                  <a:pt x="13295" y="7590"/>
                </a:cubicBezTo>
                <a:cubicBezTo>
                  <a:pt x="13348" y="7583"/>
                  <a:pt x="13394" y="7571"/>
                  <a:pt x="13444" y="7565"/>
                </a:cubicBezTo>
                <a:cubicBezTo>
                  <a:pt x="13550" y="7553"/>
                  <a:pt x="13640" y="7554"/>
                  <a:pt x="13742" y="7541"/>
                </a:cubicBezTo>
                <a:cubicBezTo>
                  <a:pt x="13819" y="7532"/>
                  <a:pt x="13896" y="7519"/>
                  <a:pt x="13965" y="7516"/>
                </a:cubicBezTo>
                <a:cubicBezTo>
                  <a:pt x="14090" y="7510"/>
                  <a:pt x="14198" y="7510"/>
                  <a:pt x="14312" y="7491"/>
                </a:cubicBezTo>
                <a:cubicBezTo>
                  <a:pt x="14396" y="7477"/>
                  <a:pt x="14479" y="7454"/>
                  <a:pt x="14560" y="7441"/>
                </a:cubicBezTo>
                <a:cubicBezTo>
                  <a:pt x="14632" y="7429"/>
                  <a:pt x="14693" y="7440"/>
                  <a:pt x="14759" y="7417"/>
                </a:cubicBezTo>
                <a:cubicBezTo>
                  <a:pt x="14815" y="7397"/>
                  <a:pt x="14857" y="7360"/>
                  <a:pt x="14908" y="7342"/>
                </a:cubicBezTo>
                <a:cubicBezTo>
                  <a:pt x="14954" y="7325"/>
                  <a:pt x="14991" y="7308"/>
                  <a:pt x="15032" y="7293"/>
                </a:cubicBezTo>
                <a:cubicBezTo>
                  <a:pt x="15092" y="7271"/>
                  <a:pt x="15145" y="7245"/>
                  <a:pt x="15205" y="7218"/>
                </a:cubicBezTo>
                <a:cubicBezTo>
                  <a:pt x="15239" y="7202"/>
                  <a:pt x="15269" y="7187"/>
                  <a:pt x="15304" y="7169"/>
                </a:cubicBezTo>
                <a:cubicBezTo>
                  <a:pt x="15338" y="7151"/>
                  <a:pt x="15369" y="7143"/>
                  <a:pt x="15404" y="7119"/>
                </a:cubicBezTo>
                <a:cubicBezTo>
                  <a:pt x="15428" y="7103"/>
                  <a:pt x="15467" y="7053"/>
                  <a:pt x="15478" y="7045"/>
                </a:cubicBezTo>
                <a:cubicBezTo>
                  <a:pt x="15511" y="7028"/>
                  <a:pt x="15543" y="7014"/>
                  <a:pt x="15577" y="6995"/>
                </a:cubicBezTo>
                <a:cubicBezTo>
                  <a:pt x="15613" y="6975"/>
                  <a:pt x="15661" y="6942"/>
                  <a:pt x="15701" y="6921"/>
                </a:cubicBezTo>
                <a:cubicBezTo>
                  <a:pt x="15731" y="6905"/>
                  <a:pt x="15769" y="6885"/>
                  <a:pt x="15801" y="6871"/>
                </a:cubicBezTo>
                <a:cubicBezTo>
                  <a:pt x="15851" y="6848"/>
                  <a:pt x="15893" y="6822"/>
                  <a:pt x="15949" y="6796"/>
                </a:cubicBezTo>
                <a:cubicBezTo>
                  <a:pt x="16023" y="6762"/>
                  <a:pt x="16101" y="6731"/>
                  <a:pt x="16173" y="6697"/>
                </a:cubicBezTo>
                <a:cubicBezTo>
                  <a:pt x="16216" y="6677"/>
                  <a:pt x="16260" y="6667"/>
                  <a:pt x="16297" y="6648"/>
                </a:cubicBezTo>
                <a:cubicBezTo>
                  <a:pt x="16335" y="6628"/>
                  <a:pt x="16381" y="6616"/>
                  <a:pt x="16421" y="6598"/>
                </a:cubicBezTo>
                <a:cubicBezTo>
                  <a:pt x="16467" y="6577"/>
                  <a:pt x="16497" y="6567"/>
                  <a:pt x="16545" y="6548"/>
                </a:cubicBezTo>
                <a:cubicBezTo>
                  <a:pt x="16590" y="6530"/>
                  <a:pt x="16621" y="6515"/>
                  <a:pt x="16669" y="6499"/>
                </a:cubicBezTo>
                <a:cubicBezTo>
                  <a:pt x="16724" y="6481"/>
                  <a:pt x="16790" y="6440"/>
                  <a:pt x="16842" y="6424"/>
                </a:cubicBezTo>
                <a:cubicBezTo>
                  <a:pt x="16894" y="6408"/>
                  <a:pt x="16941" y="6418"/>
                  <a:pt x="16991" y="6400"/>
                </a:cubicBezTo>
                <a:cubicBezTo>
                  <a:pt x="17022" y="6389"/>
                  <a:pt x="17059" y="6388"/>
                  <a:pt x="17090" y="6375"/>
                </a:cubicBezTo>
                <a:cubicBezTo>
                  <a:pt x="17120" y="6363"/>
                  <a:pt x="17163" y="6340"/>
                  <a:pt x="17190" y="6325"/>
                </a:cubicBezTo>
                <a:cubicBezTo>
                  <a:pt x="17226" y="6305"/>
                  <a:pt x="17251" y="6273"/>
                  <a:pt x="17289" y="6251"/>
                </a:cubicBezTo>
                <a:cubicBezTo>
                  <a:pt x="17312" y="6238"/>
                  <a:pt x="17344" y="6213"/>
                  <a:pt x="17363" y="6201"/>
                </a:cubicBezTo>
                <a:cubicBezTo>
                  <a:pt x="17373" y="6194"/>
                  <a:pt x="17417" y="6166"/>
                  <a:pt x="17438" y="6152"/>
                </a:cubicBezTo>
                <a:cubicBezTo>
                  <a:pt x="17476" y="6126"/>
                  <a:pt x="17498" y="6099"/>
                  <a:pt x="17537" y="6077"/>
                </a:cubicBezTo>
                <a:cubicBezTo>
                  <a:pt x="17565" y="6062"/>
                  <a:pt x="17609" y="6044"/>
                  <a:pt x="17636" y="6028"/>
                </a:cubicBezTo>
                <a:cubicBezTo>
                  <a:pt x="17666" y="5987"/>
                  <a:pt x="17696" y="5959"/>
                  <a:pt x="17735" y="5928"/>
                </a:cubicBezTo>
                <a:cubicBezTo>
                  <a:pt x="17751" y="5913"/>
                  <a:pt x="17779" y="5881"/>
                  <a:pt x="17810" y="5854"/>
                </a:cubicBezTo>
                <a:cubicBezTo>
                  <a:pt x="17829" y="5837"/>
                  <a:pt x="17856" y="5803"/>
                  <a:pt x="17884" y="5779"/>
                </a:cubicBezTo>
                <a:cubicBezTo>
                  <a:pt x="17910" y="5757"/>
                  <a:pt x="17942" y="5719"/>
                  <a:pt x="17959" y="5705"/>
                </a:cubicBezTo>
                <a:cubicBezTo>
                  <a:pt x="17980" y="5688"/>
                  <a:pt x="18019" y="5667"/>
                  <a:pt x="18033" y="5655"/>
                </a:cubicBezTo>
                <a:cubicBezTo>
                  <a:pt x="18061" y="5619"/>
                  <a:pt x="18094" y="5571"/>
                  <a:pt x="18132" y="5531"/>
                </a:cubicBezTo>
                <a:cubicBezTo>
                  <a:pt x="18146" y="5516"/>
                  <a:pt x="18194" y="5471"/>
                  <a:pt x="18207" y="5457"/>
                </a:cubicBezTo>
                <a:cubicBezTo>
                  <a:pt x="18227" y="5442"/>
                  <a:pt x="18221" y="5405"/>
                  <a:pt x="18256" y="5383"/>
                </a:cubicBezTo>
                <a:cubicBezTo>
                  <a:pt x="18286" y="5364"/>
                  <a:pt x="18322" y="5354"/>
                  <a:pt x="18355" y="5333"/>
                </a:cubicBezTo>
                <a:cubicBezTo>
                  <a:pt x="18385" y="5313"/>
                  <a:pt x="18423" y="5307"/>
                  <a:pt x="18455" y="5283"/>
                </a:cubicBezTo>
                <a:cubicBezTo>
                  <a:pt x="18489" y="5258"/>
                  <a:pt x="18517" y="5235"/>
                  <a:pt x="18554" y="5209"/>
                </a:cubicBezTo>
                <a:cubicBezTo>
                  <a:pt x="18583" y="5189"/>
                  <a:pt x="18598" y="5154"/>
                  <a:pt x="18628" y="5135"/>
                </a:cubicBezTo>
                <a:cubicBezTo>
                  <a:pt x="18636" y="5135"/>
                  <a:pt x="18645" y="5135"/>
                  <a:pt x="18653" y="5135"/>
                </a:cubicBezTo>
                <a:cubicBezTo>
                  <a:pt x="18678" y="5098"/>
                  <a:pt x="18701" y="5050"/>
                  <a:pt x="18728" y="5011"/>
                </a:cubicBezTo>
                <a:cubicBezTo>
                  <a:pt x="18755" y="4972"/>
                  <a:pt x="18780" y="4949"/>
                  <a:pt x="18802" y="4911"/>
                </a:cubicBezTo>
                <a:cubicBezTo>
                  <a:pt x="18825" y="4872"/>
                  <a:pt x="18855" y="4828"/>
                  <a:pt x="18876" y="4787"/>
                </a:cubicBezTo>
                <a:cubicBezTo>
                  <a:pt x="18876" y="4779"/>
                  <a:pt x="18876" y="4770"/>
                  <a:pt x="18876" y="4762"/>
                </a:cubicBezTo>
                <a:cubicBezTo>
                  <a:pt x="18925" y="4711"/>
                  <a:pt x="18978" y="4650"/>
                  <a:pt x="19025" y="4589"/>
                </a:cubicBezTo>
                <a:cubicBezTo>
                  <a:pt x="19063" y="4570"/>
                  <a:pt x="19053" y="4572"/>
                  <a:pt x="19075" y="4539"/>
                </a:cubicBezTo>
                <a:cubicBezTo>
                  <a:pt x="19103" y="4515"/>
                  <a:pt x="19130" y="4509"/>
                  <a:pt x="19149" y="4465"/>
                </a:cubicBezTo>
                <a:cubicBezTo>
                  <a:pt x="19149" y="4457"/>
                  <a:pt x="19149" y="4448"/>
                  <a:pt x="19149" y="4440"/>
                </a:cubicBezTo>
                <a:cubicBezTo>
                  <a:pt x="19153" y="4431"/>
                  <a:pt x="19187" y="4395"/>
                  <a:pt x="19199" y="4366"/>
                </a:cubicBezTo>
                <a:cubicBezTo>
                  <a:pt x="19212" y="4334"/>
                  <a:pt x="19208" y="4297"/>
                  <a:pt x="19224" y="4266"/>
                </a:cubicBezTo>
                <a:cubicBezTo>
                  <a:pt x="19243" y="4230"/>
                  <a:pt x="19259" y="4204"/>
                  <a:pt x="19273" y="4167"/>
                </a:cubicBezTo>
                <a:cubicBezTo>
                  <a:pt x="19286" y="4133"/>
                  <a:pt x="19309" y="4102"/>
                  <a:pt x="19323" y="4068"/>
                </a:cubicBezTo>
                <a:cubicBezTo>
                  <a:pt x="19336" y="4037"/>
                  <a:pt x="19335" y="4001"/>
                  <a:pt x="19348" y="3969"/>
                </a:cubicBezTo>
                <a:cubicBezTo>
                  <a:pt x="19370" y="3946"/>
                  <a:pt x="19378" y="3941"/>
                  <a:pt x="19372" y="3919"/>
                </a:cubicBezTo>
                <a:cubicBezTo>
                  <a:pt x="19381" y="3903"/>
                  <a:pt x="19430" y="3856"/>
                  <a:pt x="19447" y="3820"/>
                </a:cubicBezTo>
                <a:cubicBezTo>
                  <a:pt x="19447" y="3812"/>
                  <a:pt x="19447" y="3803"/>
                  <a:pt x="19447" y="3795"/>
                </a:cubicBezTo>
                <a:cubicBezTo>
                  <a:pt x="19467" y="3775"/>
                  <a:pt x="19495" y="3780"/>
                  <a:pt x="19521" y="3746"/>
                </a:cubicBezTo>
                <a:cubicBezTo>
                  <a:pt x="19521" y="3738"/>
                  <a:pt x="19521" y="3729"/>
                  <a:pt x="19521" y="3721"/>
                </a:cubicBezTo>
                <a:cubicBezTo>
                  <a:pt x="19535" y="3704"/>
                  <a:pt x="19553" y="3677"/>
                  <a:pt x="19571" y="3646"/>
                </a:cubicBezTo>
                <a:cubicBezTo>
                  <a:pt x="19606" y="3623"/>
                  <a:pt x="19588" y="3646"/>
                  <a:pt x="19596" y="3597"/>
                </a:cubicBezTo>
                <a:cubicBezTo>
                  <a:pt x="19609" y="3572"/>
                  <a:pt x="19616" y="3551"/>
                  <a:pt x="19621" y="3497"/>
                </a:cubicBezTo>
                <a:cubicBezTo>
                  <a:pt x="19641" y="3459"/>
                  <a:pt x="19673" y="3408"/>
                  <a:pt x="19695" y="3349"/>
                </a:cubicBezTo>
                <a:cubicBezTo>
                  <a:pt x="19707" y="3315"/>
                  <a:pt x="19732" y="3283"/>
                  <a:pt x="19745" y="3249"/>
                </a:cubicBezTo>
                <a:cubicBezTo>
                  <a:pt x="19758" y="3217"/>
                  <a:pt x="19757" y="3183"/>
                  <a:pt x="19769" y="3150"/>
                </a:cubicBezTo>
                <a:cubicBezTo>
                  <a:pt x="19784" y="3108"/>
                  <a:pt x="19806" y="3070"/>
                  <a:pt x="19819" y="3026"/>
                </a:cubicBezTo>
                <a:cubicBezTo>
                  <a:pt x="19838" y="2959"/>
                  <a:pt x="19858" y="2865"/>
                  <a:pt x="19869" y="2803"/>
                </a:cubicBezTo>
                <a:cubicBezTo>
                  <a:pt x="19883" y="2725"/>
                  <a:pt x="19883" y="2663"/>
                  <a:pt x="19893" y="2580"/>
                </a:cubicBezTo>
                <a:cubicBezTo>
                  <a:pt x="19899" y="2529"/>
                  <a:pt x="19911" y="2484"/>
                  <a:pt x="19918" y="2431"/>
                </a:cubicBezTo>
                <a:cubicBezTo>
                  <a:pt x="19928" y="2356"/>
                  <a:pt x="19935" y="2273"/>
                  <a:pt x="19943" y="2208"/>
                </a:cubicBezTo>
                <a:cubicBezTo>
                  <a:pt x="19968" y="2208"/>
                  <a:pt x="19976" y="2208"/>
                  <a:pt x="19968" y="2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37120" y="4375080"/>
            <a:ext cx="54000" cy="6372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14139" y="12154"/>
                </a:moveTo>
                <a:cubicBezTo>
                  <a:pt x="14079" y="12214"/>
                  <a:pt x="14034" y="12258"/>
                  <a:pt x="13990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2800" y="4089240"/>
            <a:ext cx="19080" cy="19080"/>
          </a:xfrm>
          <a:custGeom>
            <a:avLst/>
            <a:gdLst/>
            <a:ahLst/>
            <a:rect l="l" t="t" r="r" b="b"/>
            <a:pathLst>
              <a:path w="51" h="50">
                <a:moveTo>
                  <a:pt x="15032" y="11361"/>
                </a:moveTo>
                <a:cubicBezTo>
                  <a:pt x="15015" y="11377"/>
                  <a:pt x="14999" y="11394"/>
                  <a:pt x="14982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91080" y="3660840"/>
            <a:ext cx="339840" cy="366480"/>
          </a:xfrm>
          <a:custGeom>
            <a:avLst/>
            <a:gdLst/>
            <a:ahLst/>
            <a:rect l="l" t="t" r="r" b="b"/>
            <a:pathLst>
              <a:path w="943" h="1018">
                <a:moveTo>
                  <a:pt x="16197" y="10170"/>
                </a:moveTo>
                <a:cubicBezTo>
                  <a:pt x="16141" y="10257"/>
                  <a:pt x="16130" y="10335"/>
                  <a:pt x="16073" y="10418"/>
                </a:cubicBezTo>
                <a:cubicBezTo>
                  <a:pt x="16065" y="10426"/>
                  <a:pt x="16057" y="10435"/>
                  <a:pt x="16049" y="10443"/>
                </a:cubicBezTo>
              </a:path>
              <a:path w="943" h="1018">
                <a:moveTo>
                  <a:pt x="15900" y="10517"/>
                </a:moveTo>
                <a:cubicBezTo>
                  <a:pt x="15851" y="10573"/>
                  <a:pt x="15811" y="10625"/>
                  <a:pt x="15776" y="10691"/>
                </a:cubicBezTo>
                <a:cubicBezTo>
                  <a:pt x="15768" y="10707"/>
                  <a:pt x="15759" y="10724"/>
                  <a:pt x="15751" y="10740"/>
                </a:cubicBezTo>
              </a:path>
              <a:path w="943" h="1018">
                <a:moveTo>
                  <a:pt x="15627" y="10889"/>
                </a:moveTo>
                <a:cubicBezTo>
                  <a:pt x="15550" y="10928"/>
                  <a:pt x="15538" y="10954"/>
                  <a:pt x="15478" y="11013"/>
                </a:cubicBezTo>
              </a:path>
              <a:path w="943" h="1018">
                <a:moveTo>
                  <a:pt x="15329" y="11112"/>
                </a:moveTo>
                <a:cubicBezTo>
                  <a:pt x="15271" y="11151"/>
                  <a:pt x="15292" y="11138"/>
                  <a:pt x="15255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19840" y="3571920"/>
            <a:ext cx="1908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16470" y="9947"/>
                </a:moveTo>
                <a:cubicBezTo>
                  <a:pt x="16478" y="9939"/>
                  <a:pt x="16487" y="9930"/>
                  <a:pt x="16495" y="9922"/>
                </a:cubicBezTo>
                <a:cubicBezTo>
                  <a:pt x="16485" y="9961"/>
                  <a:pt x="16477" y="9985"/>
                  <a:pt x="16446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91120" y="3402000"/>
            <a:ext cx="81000" cy="98280"/>
          </a:xfrm>
          <a:custGeom>
            <a:avLst/>
            <a:gdLst/>
            <a:ahLst/>
            <a:rect l="l" t="t" r="r" b="b"/>
            <a:pathLst>
              <a:path w="224" h="273">
                <a:moveTo>
                  <a:pt x="16867" y="9451"/>
                </a:moveTo>
                <a:cubicBezTo>
                  <a:pt x="16838" y="9480"/>
                  <a:pt x="16827" y="9488"/>
                  <a:pt x="16818" y="9525"/>
                </a:cubicBezTo>
              </a:path>
              <a:path w="224" h="273">
                <a:moveTo>
                  <a:pt x="16718" y="9624"/>
                </a:moveTo>
                <a:cubicBezTo>
                  <a:pt x="16666" y="9668"/>
                  <a:pt x="16678" y="9668"/>
                  <a:pt x="16644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59680" y="3106800"/>
            <a:ext cx="18720" cy="28440"/>
          </a:xfrm>
          <a:custGeom>
            <a:avLst/>
            <a:gdLst/>
            <a:ahLst/>
            <a:rect l="l" t="t" r="r" b="b"/>
            <a:pathLst>
              <a:path w="51" h="75">
                <a:moveTo>
                  <a:pt x="17438" y="8632"/>
                </a:moveTo>
                <a:cubicBezTo>
                  <a:pt x="17421" y="8657"/>
                  <a:pt x="17405" y="8681"/>
                  <a:pt x="17388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40320" y="2963880"/>
            <a:ext cx="36720" cy="63360"/>
          </a:xfrm>
          <a:custGeom>
            <a:avLst/>
            <a:gdLst/>
            <a:ahLst/>
            <a:rect l="l" t="t" r="r" b="b"/>
            <a:pathLst>
              <a:path w="101" h="175">
                <a:moveTo>
                  <a:pt x="17711" y="8235"/>
                </a:moveTo>
                <a:cubicBezTo>
                  <a:pt x="17642" y="8324"/>
                  <a:pt x="17623" y="8322"/>
                  <a:pt x="17611" y="8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83240" y="2857680"/>
            <a:ext cx="1800" cy="17280"/>
          </a:xfrm>
          <a:custGeom>
            <a:avLst/>
            <a:gdLst/>
            <a:ahLst/>
            <a:rect l="l" t="t" r="r" b="b"/>
            <a:pathLst>
              <a:path w="1" h="50">
                <a:moveTo>
                  <a:pt x="18008" y="7962"/>
                </a:moveTo>
                <a:cubicBezTo>
                  <a:pt x="18008" y="7897"/>
                  <a:pt x="18008" y="7980"/>
                  <a:pt x="18008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2374920"/>
            <a:ext cx="12528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19224" y="6945"/>
                </a:moveTo>
                <a:cubicBezTo>
                  <a:pt x="19224" y="6937"/>
                  <a:pt x="19224" y="6929"/>
                  <a:pt x="19224" y="6921"/>
                </a:cubicBezTo>
                <a:cubicBezTo>
                  <a:pt x="19239" y="6916"/>
                  <a:pt x="19285" y="6897"/>
                  <a:pt x="19298" y="6871"/>
                </a:cubicBezTo>
                <a:cubicBezTo>
                  <a:pt x="19317" y="6833"/>
                  <a:pt x="19337" y="6807"/>
                  <a:pt x="19372" y="6772"/>
                </a:cubicBezTo>
                <a:cubicBezTo>
                  <a:pt x="19380" y="6764"/>
                  <a:pt x="19389" y="6755"/>
                  <a:pt x="19397" y="6747"/>
                </a:cubicBezTo>
              </a:path>
              <a:path w="348" h="348">
                <a:moveTo>
                  <a:pt x="19521" y="6648"/>
                </a:moveTo>
                <a:cubicBezTo>
                  <a:pt x="19541" y="6607"/>
                  <a:pt x="19539" y="6591"/>
                  <a:pt x="19571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16840" y="2268360"/>
            <a:ext cx="44280" cy="36720"/>
          </a:xfrm>
          <a:custGeom>
            <a:avLst/>
            <a:gdLst/>
            <a:ahLst/>
            <a:rect l="l" t="t" r="r" b="b"/>
            <a:pathLst>
              <a:path w="125" h="101">
                <a:moveTo>
                  <a:pt x="19769" y="6400"/>
                </a:moveTo>
                <a:cubicBezTo>
                  <a:pt x="19809" y="6360"/>
                  <a:pt x="19842" y="6313"/>
                  <a:pt x="19893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42120" y="2160720"/>
            <a:ext cx="17640" cy="19080"/>
          </a:xfrm>
          <a:custGeom>
            <a:avLst/>
            <a:gdLst/>
            <a:ahLst/>
            <a:rect l="l" t="t" r="r" b="b"/>
            <a:pathLst>
              <a:path w="50" h="50">
                <a:moveTo>
                  <a:pt x="20117" y="6052"/>
                </a:moveTo>
                <a:cubicBezTo>
                  <a:pt x="20144" y="6016"/>
                  <a:pt x="20132" y="6014"/>
                  <a:pt x="20166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0760" y="2017800"/>
            <a:ext cx="17280" cy="19080"/>
          </a:xfrm>
          <a:custGeom>
            <a:avLst/>
            <a:gdLst/>
            <a:ahLst/>
            <a:rect l="l" t="t" r="r" b="b"/>
            <a:pathLst>
              <a:path w="51" h="50">
                <a:moveTo>
                  <a:pt x="20389" y="5655"/>
                </a:moveTo>
                <a:cubicBezTo>
                  <a:pt x="20406" y="5639"/>
                  <a:pt x="20422" y="5622"/>
                  <a:pt x="20439" y="56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29680" y="1901880"/>
            <a:ext cx="44280" cy="36360"/>
          </a:xfrm>
          <a:custGeom>
            <a:avLst/>
            <a:gdLst/>
            <a:ahLst/>
            <a:rect l="l" t="t" r="r" b="b"/>
            <a:pathLst>
              <a:path w="125" h="101">
                <a:moveTo>
                  <a:pt x="20638" y="5383"/>
                </a:moveTo>
                <a:cubicBezTo>
                  <a:pt x="20679" y="5340"/>
                  <a:pt x="20710" y="5313"/>
                  <a:pt x="20762" y="5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08960" y="1741320"/>
            <a:ext cx="133200" cy="8100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21134" y="5060"/>
                </a:moveTo>
                <a:cubicBezTo>
                  <a:pt x="21189" y="5019"/>
                  <a:pt x="21220" y="5002"/>
                  <a:pt x="21282" y="4986"/>
                </a:cubicBezTo>
              </a:path>
              <a:path w="373" h="224">
                <a:moveTo>
                  <a:pt x="21357" y="4911"/>
                </a:moveTo>
                <a:cubicBezTo>
                  <a:pt x="21397" y="4891"/>
                  <a:pt x="21413" y="4893"/>
                  <a:pt x="21406" y="4862"/>
                </a:cubicBezTo>
                <a:cubicBezTo>
                  <a:pt x="21445" y="4852"/>
                  <a:pt x="21461" y="4837"/>
                  <a:pt x="21506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85080" y="1670040"/>
            <a:ext cx="27000" cy="27000"/>
          </a:xfrm>
          <a:custGeom>
            <a:avLst/>
            <a:gdLst/>
            <a:ahLst/>
            <a:rect l="l" t="t" r="r" b="b"/>
            <a:pathLst>
              <a:path w="75" h="76">
                <a:moveTo>
                  <a:pt x="21903" y="4713"/>
                </a:moveTo>
                <a:cubicBezTo>
                  <a:pt x="21942" y="4653"/>
                  <a:pt x="21927" y="4675"/>
                  <a:pt x="21977" y="46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018640" y="1544760"/>
            <a:ext cx="45720" cy="3636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22275" y="4390"/>
                </a:moveTo>
                <a:cubicBezTo>
                  <a:pt x="22312" y="4369"/>
                  <a:pt x="22337" y="4350"/>
                  <a:pt x="22374" y="4341"/>
                </a:cubicBezTo>
                <a:cubicBezTo>
                  <a:pt x="22387" y="4301"/>
                  <a:pt x="22386" y="4331"/>
                  <a:pt x="22399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099280" y="1251000"/>
            <a:ext cx="98640" cy="17784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22498" y="3969"/>
                </a:moveTo>
                <a:cubicBezTo>
                  <a:pt x="22517" y="3911"/>
                  <a:pt x="22526" y="3905"/>
                  <a:pt x="22523" y="3870"/>
                </a:cubicBezTo>
                <a:cubicBezTo>
                  <a:pt x="22544" y="3865"/>
                  <a:pt x="22614" y="3847"/>
                  <a:pt x="22622" y="3820"/>
                </a:cubicBezTo>
                <a:cubicBezTo>
                  <a:pt x="22622" y="3803"/>
                  <a:pt x="22622" y="3787"/>
                  <a:pt x="22622" y="3770"/>
                </a:cubicBezTo>
              </a:path>
              <a:path w="274" h="497">
                <a:moveTo>
                  <a:pt x="22696" y="3572"/>
                </a:moveTo>
                <a:cubicBezTo>
                  <a:pt x="22707" y="3528"/>
                  <a:pt x="22736" y="3507"/>
                  <a:pt x="22771" y="3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59840" y="1089000"/>
            <a:ext cx="44280" cy="3636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22944" y="3125"/>
                </a:moveTo>
                <a:cubicBezTo>
                  <a:pt x="22980" y="3090"/>
                  <a:pt x="23010" y="3081"/>
                  <a:pt x="23044" y="3051"/>
                </a:cubicBezTo>
                <a:cubicBezTo>
                  <a:pt x="23052" y="3043"/>
                  <a:pt x="23060" y="3034"/>
                  <a:pt x="23068" y="3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75760" y="866880"/>
            <a:ext cx="46080" cy="71280"/>
          </a:xfrm>
          <a:custGeom>
            <a:avLst/>
            <a:gdLst/>
            <a:ahLst/>
            <a:rect l="l" t="t" r="r" b="b"/>
            <a:pathLst>
              <a:path w="125" h="199">
                <a:moveTo>
                  <a:pt x="23267" y="2604"/>
                </a:moveTo>
                <a:cubicBezTo>
                  <a:pt x="23307" y="2529"/>
                  <a:pt x="23337" y="2470"/>
                  <a:pt x="23391" y="24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680" y="3857760"/>
            <a:ext cx="822240" cy="322200"/>
          </a:xfrm>
          <a:custGeom>
            <a:avLst/>
            <a:gdLst/>
            <a:ahLst/>
            <a:rect l="l" t="t" r="r" b="b"/>
            <a:pathLst>
              <a:path w="2283" h="894">
                <a:moveTo>
                  <a:pt x="1588" y="10840"/>
                </a:moveTo>
                <a:cubicBezTo>
                  <a:pt x="1588" y="10765"/>
                  <a:pt x="1576" y="10764"/>
                  <a:pt x="1612" y="10716"/>
                </a:cubicBezTo>
                <a:cubicBezTo>
                  <a:pt x="1612" y="10868"/>
                  <a:pt x="1624" y="11013"/>
                  <a:pt x="1637" y="11162"/>
                </a:cubicBezTo>
                <a:cubicBezTo>
                  <a:pt x="1645" y="11262"/>
                  <a:pt x="1657" y="11338"/>
                  <a:pt x="1687" y="11435"/>
                </a:cubicBezTo>
              </a:path>
              <a:path w="2283" h="894">
                <a:moveTo>
                  <a:pt x="1811" y="11336"/>
                </a:moveTo>
                <a:cubicBezTo>
                  <a:pt x="1833" y="11314"/>
                  <a:pt x="1838" y="11305"/>
                  <a:pt x="1860" y="11311"/>
                </a:cubicBezTo>
                <a:cubicBezTo>
                  <a:pt x="1860" y="11377"/>
                  <a:pt x="1880" y="11421"/>
                  <a:pt x="1885" y="11485"/>
                </a:cubicBezTo>
                <a:cubicBezTo>
                  <a:pt x="1885" y="11493"/>
                  <a:pt x="1885" y="11501"/>
                  <a:pt x="1885" y="11509"/>
                </a:cubicBezTo>
                <a:cubicBezTo>
                  <a:pt x="1910" y="11501"/>
                  <a:pt x="1960" y="11443"/>
                  <a:pt x="1984" y="11410"/>
                </a:cubicBezTo>
                <a:cubicBezTo>
                  <a:pt x="2015" y="11366"/>
                  <a:pt x="2029" y="11265"/>
                  <a:pt x="2108" y="11286"/>
                </a:cubicBezTo>
                <a:cubicBezTo>
                  <a:pt x="2173" y="11304"/>
                  <a:pt x="2241" y="11423"/>
                  <a:pt x="2257" y="11485"/>
                </a:cubicBezTo>
                <a:cubicBezTo>
                  <a:pt x="2268" y="11525"/>
                  <a:pt x="2273" y="11547"/>
                  <a:pt x="2282" y="11584"/>
                </a:cubicBezTo>
              </a:path>
              <a:path w="2283" h="894">
                <a:moveTo>
                  <a:pt x="2232" y="11410"/>
                </a:moveTo>
                <a:cubicBezTo>
                  <a:pt x="2251" y="11354"/>
                  <a:pt x="2310" y="11412"/>
                  <a:pt x="2356" y="11435"/>
                </a:cubicBezTo>
                <a:cubicBezTo>
                  <a:pt x="2395" y="11454"/>
                  <a:pt x="2483" y="11516"/>
                  <a:pt x="2530" y="11485"/>
                </a:cubicBezTo>
                <a:cubicBezTo>
                  <a:pt x="2575" y="11440"/>
                  <a:pt x="2592" y="11430"/>
                  <a:pt x="2580" y="11385"/>
                </a:cubicBezTo>
              </a:path>
              <a:path w="2283" h="894">
                <a:moveTo>
                  <a:pt x="2555" y="11212"/>
                </a:moveTo>
                <a:cubicBezTo>
                  <a:pt x="2563" y="11244"/>
                  <a:pt x="2593" y="11278"/>
                  <a:pt x="2629" y="11286"/>
                </a:cubicBezTo>
                <a:cubicBezTo>
                  <a:pt x="2677" y="11296"/>
                  <a:pt x="2778" y="11257"/>
                  <a:pt x="2803" y="11212"/>
                </a:cubicBezTo>
                <a:cubicBezTo>
                  <a:pt x="2803" y="11187"/>
                  <a:pt x="2803" y="11179"/>
                  <a:pt x="2803" y="11162"/>
                </a:cubicBezTo>
                <a:cubicBezTo>
                  <a:pt x="2718" y="11162"/>
                  <a:pt x="2708" y="11174"/>
                  <a:pt x="2704" y="11261"/>
                </a:cubicBezTo>
                <a:cubicBezTo>
                  <a:pt x="2700" y="11363"/>
                  <a:pt x="2748" y="11474"/>
                  <a:pt x="2853" y="11509"/>
                </a:cubicBezTo>
                <a:cubicBezTo>
                  <a:pt x="2878" y="11509"/>
                  <a:pt x="2902" y="11509"/>
                  <a:pt x="2927" y="11509"/>
                </a:cubicBezTo>
              </a:path>
              <a:path w="2283" h="894">
                <a:moveTo>
                  <a:pt x="3200" y="11336"/>
                </a:moveTo>
                <a:cubicBezTo>
                  <a:pt x="3172" y="11336"/>
                  <a:pt x="3161" y="11338"/>
                  <a:pt x="3150" y="11361"/>
                </a:cubicBezTo>
                <a:cubicBezTo>
                  <a:pt x="3116" y="11316"/>
                  <a:pt x="3105" y="11272"/>
                  <a:pt x="3101" y="11212"/>
                </a:cubicBezTo>
                <a:cubicBezTo>
                  <a:pt x="3095" y="11131"/>
                  <a:pt x="3107" y="11126"/>
                  <a:pt x="3175" y="11088"/>
                </a:cubicBezTo>
              </a:path>
              <a:path w="2283" h="894">
                <a:moveTo>
                  <a:pt x="3423" y="11162"/>
                </a:moveTo>
                <a:cubicBezTo>
                  <a:pt x="3382" y="11162"/>
                  <a:pt x="3343" y="11168"/>
                  <a:pt x="3324" y="11212"/>
                </a:cubicBezTo>
                <a:cubicBezTo>
                  <a:pt x="3308" y="11249"/>
                  <a:pt x="3330" y="11324"/>
                  <a:pt x="3373" y="11336"/>
                </a:cubicBezTo>
                <a:cubicBezTo>
                  <a:pt x="3437" y="11355"/>
                  <a:pt x="3511" y="11348"/>
                  <a:pt x="3572" y="11385"/>
                </a:cubicBezTo>
                <a:cubicBezTo>
                  <a:pt x="3603" y="11404"/>
                  <a:pt x="3611" y="11500"/>
                  <a:pt x="3597" y="11534"/>
                </a:cubicBezTo>
                <a:cubicBezTo>
                  <a:pt x="3567" y="11605"/>
                  <a:pt x="3495" y="11564"/>
                  <a:pt x="3448" y="11584"/>
                </a:cubicBezTo>
                <a:cubicBezTo>
                  <a:pt x="3440" y="11592"/>
                  <a:pt x="3431" y="11601"/>
                  <a:pt x="3423" y="11609"/>
                </a:cubicBezTo>
              </a:path>
              <a:path w="2283" h="894">
                <a:moveTo>
                  <a:pt x="3423" y="11584"/>
                </a:moveTo>
                <a:cubicBezTo>
                  <a:pt x="3486" y="11526"/>
                  <a:pt x="3592" y="11472"/>
                  <a:pt x="3646" y="11410"/>
                </a:cubicBezTo>
                <a:cubicBezTo>
                  <a:pt x="3676" y="11375"/>
                  <a:pt x="3671" y="11350"/>
                  <a:pt x="3671" y="11311"/>
                </a:cubicBezTo>
                <a:cubicBezTo>
                  <a:pt x="3655" y="11322"/>
                  <a:pt x="3616" y="11421"/>
                  <a:pt x="3646" y="11460"/>
                </a:cubicBezTo>
                <a:cubicBezTo>
                  <a:pt x="3670" y="11491"/>
                  <a:pt x="3774" y="11564"/>
                  <a:pt x="3820" y="11534"/>
                </a:cubicBezTo>
                <a:cubicBezTo>
                  <a:pt x="3837" y="11518"/>
                  <a:pt x="3853" y="11501"/>
                  <a:pt x="3870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35040" y="3919680"/>
            <a:ext cx="223920" cy="179280"/>
          </a:xfrm>
          <a:custGeom>
            <a:avLst/>
            <a:gdLst/>
            <a:ahLst/>
            <a:rect l="l" t="t" r="r" b="b"/>
            <a:pathLst>
              <a:path w="622" h="497">
                <a:moveTo>
                  <a:pt x="4266" y="11261"/>
                </a:moveTo>
                <a:cubicBezTo>
                  <a:pt x="4305" y="11248"/>
                  <a:pt x="4282" y="11225"/>
                  <a:pt x="4316" y="11187"/>
                </a:cubicBezTo>
                <a:cubicBezTo>
                  <a:pt x="4354" y="11144"/>
                  <a:pt x="4457" y="11139"/>
                  <a:pt x="4514" y="11137"/>
                </a:cubicBezTo>
                <a:cubicBezTo>
                  <a:pt x="4604" y="11133"/>
                  <a:pt x="4679" y="11126"/>
                  <a:pt x="4762" y="11112"/>
                </a:cubicBezTo>
                <a:cubicBezTo>
                  <a:pt x="4792" y="11107"/>
                  <a:pt x="4831" y="11112"/>
                  <a:pt x="4862" y="11112"/>
                </a:cubicBezTo>
                <a:cubicBezTo>
                  <a:pt x="4815" y="11159"/>
                  <a:pt x="4687" y="11238"/>
                  <a:pt x="4663" y="11286"/>
                </a:cubicBezTo>
                <a:cubicBezTo>
                  <a:pt x="4643" y="11326"/>
                  <a:pt x="4629" y="11374"/>
                  <a:pt x="4663" y="11385"/>
                </a:cubicBezTo>
                <a:cubicBezTo>
                  <a:pt x="4712" y="11378"/>
                  <a:pt x="4799" y="11352"/>
                  <a:pt x="4837" y="11311"/>
                </a:cubicBezTo>
                <a:cubicBezTo>
                  <a:pt x="4869" y="11276"/>
                  <a:pt x="4903" y="11211"/>
                  <a:pt x="4887" y="11162"/>
                </a:cubicBezTo>
                <a:cubicBezTo>
                  <a:pt x="4862" y="11087"/>
                  <a:pt x="4754" y="11000"/>
                  <a:pt x="4688" y="10964"/>
                </a:cubicBezTo>
                <a:cubicBezTo>
                  <a:pt x="4610" y="10938"/>
                  <a:pt x="4582" y="10927"/>
                  <a:pt x="4539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43080" y="3840120"/>
            <a:ext cx="1268280" cy="303120"/>
          </a:xfrm>
          <a:custGeom>
            <a:avLst/>
            <a:gdLst/>
            <a:ahLst/>
            <a:rect l="l" t="t" r="r" b="b"/>
            <a:pathLst>
              <a:path w="3523" h="844">
                <a:moveTo>
                  <a:pt x="6052" y="10939"/>
                </a:moveTo>
                <a:cubicBezTo>
                  <a:pt x="6032" y="10898"/>
                  <a:pt x="6024" y="10892"/>
                  <a:pt x="6028" y="10864"/>
                </a:cubicBezTo>
                <a:cubicBezTo>
                  <a:pt x="6028" y="11079"/>
                  <a:pt x="6028" y="11294"/>
                  <a:pt x="6028" y="11509"/>
                </a:cubicBezTo>
              </a:path>
              <a:path w="3523" h="844">
                <a:moveTo>
                  <a:pt x="5953" y="11013"/>
                </a:moveTo>
                <a:cubicBezTo>
                  <a:pt x="5953" y="10949"/>
                  <a:pt x="5960" y="10916"/>
                  <a:pt x="6003" y="10864"/>
                </a:cubicBezTo>
                <a:cubicBezTo>
                  <a:pt x="6074" y="10778"/>
                  <a:pt x="6132" y="10688"/>
                  <a:pt x="6251" y="10666"/>
                </a:cubicBezTo>
                <a:cubicBezTo>
                  <a:pt x="6374" y="10643"/>
                  <a:pt x="6396" y="10746"/>
                  <a:pt x="6400" y="10840"/>
                </a:cubicBezTo>
                <a:cubicBezTo>
                  <a:pt x="6405" y="10980"/>
                  <a:pt x="6305" y="11022"/>
                  <a:pt x="6226" y="11112"/>
                </a:cubicBezTo>
                <a:cubicBezTo>
                  <a:pt x="6165" y="11181"/>
                  <a:pt x="6107" y="11270"/>
                  <a:pt x="6102" y="11361"/>
                </a:cubicBezTo>
                <a:cubicBezTo>
                  <a:pt x="6097" y="11446"/>
                  <a:pt x="6116" y="11455"/>
                  <a:pt x="6201" y="11460"/>
                </a:cubicBezTo>
                <a:cubicBezTo>
                  <a:pt x="6266" y="11464"/>
                  <a:pt x="6369" y="11444"/>
                  <a:pt x="6424" y="11410"/>
                </a:cubicBezTo>
                <a:cubicBezTo>
                  <a:pt x="6432" y="11402"/>
                  <a:pt x="6441" y="11393"/>
                  <a:pt x="6449" y="11385"/>
                </a:cubicBezTo>
              </a:path>
              <a:path w="3523" h="844">
                <a:moveTo>
                  <a:pt x="6449" y="11286"/>
                </a:moveTo>
                <a:cubicBezTo>
                  <a:pt x="6511" y="11303"/>
                  <a:pt x="6614" y="11343"/>
                  <a:pt x="6672" y="11286"/>
                </a:cubicBezTo>
                <a:cubicBezTo>
                  <a:pt x="6708" y="11250"/>
                  <a:pt x="6754" y="11148"/>
                  <a:pt x="6697" y="11112"/>
                </a:cubicBezTo>
                <a:cubicBezTo>
                  <a:pt x="6664" y="11112"/>
                  <a:pt x="6648" y="11112"/>
                  <a:pt x="6623" y="11112"/>
                </a:cubicBezTo>
                <a:cubicBezTo>
                  <a:pt x="6582" y="11236"/>
                  <a:pt x="6603" y="11294"/>
                  <a:pt x="6648" y="11410"/>
                </a:cubicBezTo>
                <a:cubicBezTo>
                  <a:pt x="6684" y="11504"/>
                  <a:pt x="6679" y="11498"/>
                  <a:pt x="6772" y="11509"/>
                </a:cubicBezTo>
              </a:path>
              <a:path w="3523" h="844">
                <a:moveTo>
                  <a:pt x="7193" y="10964"/>
                </a:moveTo>
                <a:cubicBezTo>
                  <a:pt x="7225" y="10932"/>
                  <a:pt x="7263" y="10908"/>
                  <a:pt x="7268" y="10864"/>
                </a:cubicBezTo>
                <a:cubicBezTo>
                  <a:pt x="7273" y="10817"/>
                  <a:pt x="7250" y="10775"/>
                  <a:pt x="7193" y="10790"/>
                </a:cubicBezTo>
                <a:cubicBezTo>
                  <a:pt x="7066" y="10824"/>
                  <a:pt x="7050" y="10988"/>
                  <a:pt x="7045" y="11088"/>
                </a:cubicBezTo>
                <a:cubicBezTo>
                  <a:pt x="7039" y="11224"/>
                  <a:pt x="7044" y="11357"/>
                  <a:pt x="7069" y="11485"/>
                </a:cubicBezTo>
                <a:cubicBezTo>
                  <a:pt x="7069" y="11493"/>
                  <a:pt x="7069" y="11501"/>
                  <a:pt x="7069" y="11509"/>
                </a:cubicBezTo>
              </a:path>
              <a:path w="3523" h="844">
                <a:moveTo>
                  <a:pt x="7193" y="11212"/>
                </a:moveTo>
                <a:cubicBezTo>
                  <a:pt x="7212" y="11154"/>
                  <a:pt x="7221" y="11147"/>
                  <a:pt x="7218" y="11112"/>
                </a:cubicBezTo>
                <a:cubicBezTo>
                  <a:pt x="7168" y="11125"/>
                  <a:pt x="7149" y="11174"/>
                  <a:pt x="7094" y="11187"/>
                </a:cubicBezTo>
                <a:cubicBezTo>
                  <a:pt x="7078" y="11187"/>
                  <a:pt x="7061" y="11187"/>
                  <a:pt x="7045" y="11187"/>
                </a:cubicBezTo>
              </a:path>
              <a:path w="3523" h="844">
                <a:moveTo>
                  <a:pt x="7317" y="10964"/>
                </a:moveTo>
                <a:cubicBezTo>
                  <a:pt x="7373" y="10871"/>
                  <a:pt x="7372" y="10856"/>
                  <a:pt x="7417" y="10815"/>
                </a:cubicBezTo>
                <a:cubicBezTo>
                  <a:pt x="7417" y="10911"/>
                  <a:pt x="7399" y="10995"/>
                  <a:pt x="7392" y="11088"/>
                </a:cubicBezTo>
                <a:cubicBezTo>
                  <a:pt x="7384" y="11189"/>
                  <a:pt x="7397" y="11245"/>
                  <a:pt x="7367" y="11336"/>
                </a:cubicBezTo>
              </a:path>
              <a:path w="3523" h="844">
                <a:moveTo>
                  <a:pt x="7367" y="11286"/>
                </a:moveTo>
                <a:cubicBezTo>
                  <a:pt x="7444" y="11286"/>
                  <a:pt x="7556" y="11308"/>
                  <a:pt x="7615" y="11261"/>
                </a:cubicBezTo>
                <a:cubicBezTo>
                  <a:pt x="7662" y="11223"/>
                  <a:pt x="7705" y="11125"/>
                  <a:pt x="7615" y="11112"/>
                </a:cubicBezTo>
                <a:cubicBezTo>
                  <a:pt x="7520" y="11098"/>
                  <a:pt x="7516" y="11218"/>
                  <a:pt x="7541" y="11286"/>
                </a:cubicBezTo>
                <a:cubicBezTo>
                  <a:pt x="7559" y="11336"/>
                  <a:pt x="7671" y="11490"/>
                  <a:pt x="7739" y="11460"/>
                </a:cubicBezTo>
                <a:cubicBezTo>
                  <a:pt x="7818" y="11425"/>
                  <a:pt x="7880" y="11298"/>
                  <a:pt x="7938" y="11237"/>
                </a:cubicBezTo>
                <a:cubicBezTo>
                  <a:pt x="7986" y="11186"/>
                  <a:pt x="8052" y="11131"/>
                  <a:pt x="8086" y="11088"/>
                </a:cubicBezTo>
                <a:cubicBezTo>
                  <a:pt x="8094" y="11080"/>
                  <a:pt x="8103" y="11071"/>
                  <a:pt x="8111" y="11063"/>
                </a:cubicBezTo>
                <a:cubicBezTo>
                  <a:pt x="8058" y="11076"/>
                  <a:pt x="8046" y="11131"/>
                  <a:pt x="8037" y="11187"/>
                </a:cubicBezTo>
                <a:cubicBezTo>
                  <a:pt x="8024" y="11267"/>
                  <a:pt x="8086" y="11311"/>
                  <a:pt x="8136" y="11361"/>
                </a:cubicBezTo>
                <a:cubicBezTo>
                  <a:pt x="8202" y="11342"/>
                  <a:pt x="8251" y="11289"/>
                  <a:pt x="8285" y="11212"/>
                </a:cubicBezTo>
                <a:cubicBezTo>
                  <a:pt x="8319" y="11135"/>
                  <a:pt x="8315" y="11036"/>
                  <a:pt x="8334" y="10964"/>
                </a:cubicBezTo>
                <a:cubicBezTo>
                  <a:pt x="8334" y="10956"/>
                  <a:pt x="8334" y="10947"/>
                  <a:pt x="8334" y="10939"/>
                </a:cubicBezTo>
                <a:cubicBezTo>
                  <a:pt x="8334" y="11049"/>
                  <a:pt x="8326" y="11115"/>
                  <a:pt x="8384" y="11212"/>
                </a:cubicBezTo>
                <a:cubicBezTo>
                  <a:pt x="8401" y="11237"/>
                  <a:pt x="8417" y="11261"/>
                  <a:pt x="8434" y="11286"/>
                </a:cubicBezTo>
              </a:path>
              <a:path w="3523" h="844">
                <a:moveTo>
                  <a:pt x="8682" y="11187"/>
                </a:moveTo>
                <a:cubicBezTo>
                  <a:pt x="8603" y="11128"/>
                  <a:pt x="8572" y="11125"/>
                  <a:pt x="8483" y="11187"/>
                </a:cubicBezTo>
                <a:cubicBezTo>
                  <a:pt x="8458" y="11212"/>
                  <a:pt x="8450" y="11220"/>
                  <a:pt x="8434" y="11237"/>
                </a:cubicBezTo>
              </a:path>
              <a:path w="3523" h="844">
                <a:moveTo>
                  <a:pt x="8533" y="11137"/>
                </a:moveTo>
                <a:cubicBezTo>
                  <a:pt x="8670" y="11127"/>
                  <a:pt x="8693" y="11136"/>
                  <a:pt x="8756" y="11261"/>
                </a:cubicBezTo>
              </a:path>
              <a:path w="3523" h="844">
                <a:moveTo>
                  <a:pt x="8756" y="10939"/>
                </a:moveTo>
                <a:cubicBezTo>
                  <a:pt x="8722" y="10871"/>
                  <a:pt x="8727" y="10889"/>
                  <a:pt x="8781" y="10889"/>
                </a:cubicBezTo>
              </a:path>
              <a:path w="3523" h="844">
                <a:moveTo>
                  <a:pt x="8930" y="11137"/>
                </a:moveTo>
                <a:cubicBezTo>
                  <a:pt x="8955" y="11131"/>
                  <a:pt x="9007" y="11124"/>
                  <a:pt x="9029" y="11112"/>
                </a:cubicBezTo>
                <a:cubicBezTo>
                  <a:pt x="9037" y="11104"/>
                  <a:pt x="9046" y="11096"/>
                  <a:pt x="9054" y="11088"/>
                </a:cubicBezTo>
                <a:cubicBezTo>
                  <a:pt x="9103" y="11136"/>
                  <a:pt x="9103" y="11143"/>
                  <a:pt x="9103" y="11212"/>
                </a:cubicBezTo>
                <a:cubicBezTo>
                  <a:pt x="9103" y="11266"/>
                  <a:pt x="9086" y="11305"/>
                  <a:pt x="9029" y="11311"/>
                </a:cubicBezTo>
                <a:cubicBezTo>
                  <a:pt x="8977" y="11317"/>
                  <a:pt x="8964" y="11297"/>
                  <a:pt x="8930" y="11261"/>
                </a:cubicBezTo>
              </a:path>
              <a:path w="3523" h="844">
                <a:moveTo>
                  <a:pt x="9054" y="11088"/>
                </a:moveTo>
                <a:cubicBezTo>
                  <a:pt x="9165" y="11054"/>
                  <a:pt x="9119" y="11078"/>
                  <a:pt x="9203" y="11088"/>
                </a:cubicBezTo>
                <a:cubicBezTo>
                  <a:pt x="9245" y="11093"/>
                  <a:pt x="9262" y="11017"/>
                  <a:pt x="9327" y="11013"/>
                </a:cubicBezTo>
                <a:cubicBezTo>
                  <a:pt x="9402" y="11008"/>
                  <a:pt x="9422" y="11041"/>
                  <a:pt x="9475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57760" y="3857760"/>
            <a:ext cx="233280" cy="187200"/>
          </a:xfrm>
          <a:custGeom>
            <a:avLst/>
            <a:gdLst/>
            <a:ahLst/>
            <a:rect l="l" t="t" r="r" b="b"/>
            <a:pathLst>
              <a:path w="646" h="522">
                <a:moveTo>
                  <a:pt x="10740" y="11112"/>
                </a:moveTo>
                <a:cubicBezTo>
                  <a:pt x="10740" y="11104"/>
                  <a:pt x="10740" y="11096"/>
                  <a:pt x="10740" y="11088"/>
                </a:cubicBezTo>
                <a:cubicBezTo>
                  <a:pt x="10751" y="11144"/>
                  <a:pt x="10765" y="11178"/>
                  <a:pt x="10765" y="11237"/>
                </a:cubicBezTo>
              </a:path>
              <a:path w="646" h="522">
                <a:moveTo>
                  <a:pt x="10716" y="10889"/>
                </a:moveTo>
                <a:cubicBezTo>
                  <a:pt x="10753" y="10737"/>
                  <a:pt x="10728" y="10779"/>
                  <a:pt x="10815" y="10716"/>
                </a:cubicBezTo>
              </a:path>
              <a:path w="646" h="522">
                <a:moveTo>
                  <a:pt x="10914" y="10914"/>
                </a:moveTo>
                <a:cubicBezTo>
                  <a:pt x="10921" y="11008"/>
                  <a:pt x="10941" y="11059"/>
                  <a:pt x="10964" y="11137"/>
                </a:cubicBezTo>
                <a:cubicBezTo>
                  <a:pt x="10964" y="11162"/>
                  <a:pt x="10964" y="11170"/>
                  <a:pt x="10988" y="11162"/>
                </a:cubicBezTo>
                <a:cubicBezTo>
                  <a:pt x="11018" y="11112"/>
                  <a:pt x="11018" y="11062"/>
                  <a:pt x="11063" y="11013"/>
                </a:cubicBezTo>
                <a:cubicBezTo>
                  <a:pt x="11130" y="10941"/>
                  <a:pt x="11166" y="10949"/>
                  <a:pt x="11237" y="11013"/>
                </a:cubicBezTo>
                <a:cubicBezTo>
                  <a:pt x="11286" y="11057"/>
                  <a:pt x="11339" y="11132"/>
                  <a:pt x="11361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78080" y="4313160"/>
            <a:ext cx="206640" cy="268200"/>
          </a:xfrm>
          <a:custGeom>
            <a:avLst/>
            <a:gdLst/>
            <a:ahLst/>
            <a:rect l="l" t="t" r="r" b="b"/>
            <a:pathLst>
              <a:path w="572" h="745">
                <a:moveTo>
                  <a:pt x="8855" y="12055"/>
                </a:moveTo>
                <a:cubicBezTo>
                  <a:pt x="8836" y="11998"/>
                  <a:pt x="8827" y="11955"/>
                  <a:pt x="8830" y="12005"/>
                </a:cubicBezTo>
                <a:cubicBezTo>
                  <a:pt x="8879" y="12079"/>
                  <a:pt x="8902" y="12169"/>
                  <a:pt x="8979" y="12229"/>
                </a:cubicBezTo>
                <a:cubicBezTo>
                  <a:pt x="9050" y="12285"/>
                  <a:pt x="9111" y="12238"/>
                  <a:pt x="9178" y="12204"/>
                </a:cubicBezTo>
                <a:cubicBezTo>
                  <a:pt x="9287" y="12149"/>
                  <a:pt x="9346" y="12285"/>
                  <a:pt x="9376" y="12378"/>
                </a:cubicBezTo>
                <a:cubicBezTo>
                  <a:pt x="9408" y="12478"/>
                  <a:pt x="9435" y="12625"/>
                  <a:pt x="9351" y="12700"/>
                </a:cubicBezTo>
                <a:cubicBezTo>
                  <a:pt x="9272" y="12770"/>
                  <a:pt x="9148" y="12701"/>
                  <a:pt x="9079" y="12650"/>
                </a:cubicBezTo>
                <a:cubicBezTo>
                  <a:pt x="9062" y="12634"/>
                  <a:pt x="9046" y="12617"/>
                  <a:pt x="9029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90920" y="4259160"/>
            <a:ext cx="420840" cy="152640"/>
          </a:xfrm>
          <a:custGeom>
            <a:avLst/>
            <a:gdLst/>
            <a:ahLst/>
            <a:rect l="l" t="t" r="r" b="b"/>
            <a:pathLst>
              <a:path w="1166" h="423">
                <a:moveTo>
                  <a:pt x="9847" y="12055"/>
                </a:moveTo>
                <a:cubicBezTo>
                  <a:pt x="9905" y="12036"/>
                  <a:pt x="9912" y="12027"/>
                  <a:pt x="9947" y="12030"/>
                </a:cubicBezTo>
                <a:cubicBezTo>
                  <a:pt x="9869" y="12040"/>
                  <a:pt x="9802" y="12065"/>
                  <a:pt x="9723" y="12080"/>
                </a:cubicBezTo>
                <a:cubicBezTo>
                  <a:pt x="9715" y="12080"/>
                  <a:pt x="9707" y="12080"/>
                  <a:pt x="9699" y="12080"/>
                </a:cubicBezTo>
              </a:path>
              <a:path w="1166" h="423">
                <a:moveTo>
                  <a:pt x="9847" y="12154"/>
                </a:moveTo>
                <a:cubicBezTo>
                  <a:pt x="9905" y="12173"/>
                  <a:pt x="9930" y="12164"/>
                  <a:pt x="9922" y="12204"/>
                </a:cubicBezTo>
                <a:cubicBezTo>
                  <a:pt x="9905" y="12272"/>
                  <a:pt x="9863" y="12254"/>
                  <a:pt x="9798" y="12254"/>
                </a:cubicBezTo>
                <a:cubicBezTo>
                  <a:pt x="9781" y="12254"/>
                  <a:pt x="9765" y="12254"/>
                  <a:pt x="9748" y="12254"/>
                </a:cubicBezTo>
              </a:path>
              <a:path w="1166" h="423">
                <a:moveTo>
                  <a:pt x="10244" y="12105"/>
                </a:moveTo>
                <a:cubicBezTo>
                  <a:pt x="10237" y="12054"/>
                  <a:pt x="10220" y="12032"/>
                  <a:pt x="10220" y="11981"/>
                </a:cubicBezTo>
                <a:cubicBezTo>
                  <a:pt x="10220" y="11927"/>
                  <a:pt x="10230" y="11896"/>
                  <a:pt x="10294" y="11881"/>
                </a:cubicBezTo>
                <a:cubicBezTo>
                  <a:pt x="10365" y="11864"/>
                  <a:pt x="10442" y="11922"/>
                  <a:pt x="10468" y="11981"/>
                </a:cubicBezTo>
                <a:cubicBezTo>
                  <a:pt x="10500" y="12052"/>
                  <a:pt x="10474" y="12165"/>
                  <a:pt x="10393" y="12204"/>
                </a:cubicBezTo>
                <a:cubicBezTo>
                  <a:pt x="10345" y="12227"/>
                  <a:pt x="10256" y="12201"/>
                  <a:pt x="10220" y="12179"/>
                </a:cubicBezTo>
              </a:path>
              <a:path w="1166" h="423">
                <a:moveTo>
                  <a:pt x="10592" y="11857"/>
                </a:moveTo>
                <a:cubicBezTo>
                  <a:pt x="10592" y="11849"/>
                  <a:pt x="10592" y="11840"/>
                  <a:pt x="10592" y="11832"/>
                </a:cubicBezTo>
                <a:cubicBezTo>
                  <a:pt x="10571" y="11874"/>
                  <a:pt x="10541" y="12001"/>
                  <a:pt x="10567" y="12055"/>
                </a:cubicBezTo>
                <a:cubicBezTo>
                  <a:pt x="10601" y="12128"/>
                  <a:pt x="10733" y="12213"/>
                  <a:pt x="10815" y="12179"/>
                </a:cubicBezTo>
                <a:cubicBezTo>
                  <a:pt x="10831" y="12162"/>
                  <a:pt x="10848" y="12146"/>
                  <a:pt x="10864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69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46040" y="1500120"/>
            <a:ext cx="1768680" cy="438120"/>
          </a:xfrm>
          <a:custGeom>
            <a:avLst/>
            <a:gdLst/>
            <a:ahLst/>
            <a:rect l="l" t="t" r="r" b="b"/>
            <a:pathLst>
              <a:path w="4913" h="1217">
                <a:moveTo>
                  <a:pt x="1290" y="4936"/>
                </a:moveTo>
                <a:cubicBezTo>
                  <a:pt x="1292" y="4948"/>
                  <a:pt x="1305" y="5052"/>
                  <a:pt x="1315" y="5060"/>
                </a:cubicBezTo>
                <a:cubicBezTo>
                  <a:pt x="1339" y="5060"/>
                  <a:pt x="1347" y="5060"/>
                  <a:pt x="1339" y="5085"/>
                </a:cubicBezTo>
                <a:cubicBezTo>
                  <a:pt x="1339" y="5009"/>
                  <a:pt x="1323" y="4956"/>
                  <a:pt x="1290" y="4887"/>
                </a:cubicBezTo>
                <a:cubicBezTo>
                  <a:pt x="1265" y="4837"/>
                  <a:pt x="1257" y="4820"/>
                  <a:pt x="1240" y="4787"/>
                </a:cubicBezTo>
                <a:cubicBezTo>
                  <a:pt x="1306" y="4804"/>
                  <a:pt x="1376" y="4848"/>
                  <a:pt x="1439" y="4887"/>
                </a:cubicBezTo>
                <a:cubicBezTo>
                  <a:pt x="1512" y="4933"/>
                  <a:pt x="1557" y="4968"/>
                  <a:pt x="1637" y="4986"/>
                </a:cubicBezTo>
                <a:cubicBezTo>
                  <a:pt x="1668" y="4903"/>
                  <a:pt x="1664" y="4820"/>
                  <a:pt x="1612" y="4738"/>
                </a:cubicBezTo>
                <a:cubicBezTo>
                  <a:pt x="1586" y="4697"/>
                  <a:pt x="1544" y="4652"/>
                  <a:pt x="1513" y="4614"/>
                </a:cubicBezTo>
              </a:path>
              <a:path w="4913" h="1217">
                <a:moveTo>
                  <a:pt x="1811" y="4936"/>
                </a:moveTo>
                <a:cubicBezTo>
                  <a:pt x="1836" y="4903"/>
                  <a:pt x="1844" y="4876"/>
                  <a:pt x="1885" y="4862"/>
                </a:cubicBezTo>
                <a:cubicBezTo>
                  <a:pt x="1936" y="4845"/>
                  <a:pt x="1973" y="4890"/>
                  <a:pt x="1984" y="4936"/>
                </a:cubicBezTo>
                <a:cubicBezTo>
                  <a:pt x="1992" y="4973"/>
                  <a:pt x="1984" y="5022"/>
                  <a:pt x="1984" y="5060"/>
                </a:cubicBezTo>
                <a:cubicBezTo>
                  <a:pt x="1910" y="5060"/>
                  <a:pt x="1835" y="5060"/>
                  <a:pt x="1761" y="5060"/>
                </a:cubicBezTo>
              </a:path>
              <a:path w="4913" h="1217">
                <a:moveTo>
                  <a:pt x="2009" y="4936"/>
                </a:moveTo>
                <a:cubicBezTo>
                  <a:pt x="2053" y="4958"/>
                  <a:pt x="2065" y="4961"/>
                  <a:pt x="2084" y="4986"/>
                </a:cubicBezTo>
                <a:cubicBezTo>
                  <a:pt x="2084" y="4943"/>
                  <a:pt x="2049" y="4899"/>
                  <a:pt x="2059" y="4862"/>
                </a:cubicBezTo>
                <a:cubicBezTo>
                  <a:pt x="2079" y="4821"/>
                  <a:pt x="2088" y="4815"/>
                  <a:pt x="2084" y="4787"/>
                </a:cubicBezTo>
              </a:path>
              <a:path w="4913" h="1217">
                <a:moveTo>
                  <a:pt x="2257" y="4887"/>
                </a:moveTo>
                <a:cubicBezTo>
                  <a:pt x="2278" y="4942"/>
                  <a:pt x="2282" y="4976"/>
                  <a:pt x="2282" y="5035"/>
                </a:cubicBezTo>
                <a:cubicBezTo>
                  <a:pt x="2282" y="5117"/>
                  <a:pt x="2281" y="4938"/>
                  <a:pt x="2282" y="4936"/>
                </a:cubicBezTo>
                <a:cubicBezTo>
                  <a:pt x="2293" y="4897"/>
                  <a:pt x="2337" y="4863"/>
                  <a:pt x="2381" y="4887"/>
                </a:cubicBezTo>
                <a:cubicBezTo>
                  <a:pt x="2431" y="4914"/>
                  <a:pt x="2384" y="4920"/>
                  <a:pt x="2431" y="4936"/>
                </a:cubicBezTo>
                <a:cubicBezTo>
                  <a:pt x="2474" y="4922"/>
                  <a:pt x="2455" y="4879"/>
                  <a:pt x="2480" y="4837"/>
                </a:cubicBezTo>
                <a:cubicBezTo>
                  <a:pt x="2507" y="4791"/>
                  <a:pt x="2551" y="4811"/>
                  <a:pt x="2580" y="4837"/>
                </a:cubicBezTo>
                <a:cubicBezTo>
                  <a:pt x="2588" y="4845"/>
                  <a:pt x="2596" y="4854"/>
                  <a:pt x="2604" y="4862"/>
                </a:cubicBezTo>
              </a:path>
              <a:path w="4913" h="1217">
                <a:moveTo>
                  <a:pt x="2753" y="4787"/>
                </a:moveTo>
                <a:cubicBezTo>
                  <a:pt x="2729" y="4821"/>
                  <a:pt x="2701" y="4879"/>
                  <a:pt x="2753" y="4911"/>
                </a:cubicBezTo>
                <a:cubicBezTo>
                  <a:pt x="2798" y="4939"/>
                  <a:pt x="2824" y="4875"/>
                  <a:pt x="2853" y="4862"/>
                </a:cubicBezTo>
                <a:cubicBezTo>
                  <a:pt x="2934" y="4826"/>
                  <a:pt x="2997" y="4909"/>
                  <a:pt x="3051" y="4812"/>
                </a:cubicBezTo>
                <a:cubicBezTo>
                  <a:pt x="3103" y="4720"/>
                  <a:pt x="3101" y="4641"/>
                  <a:pt x="3101" y="4539"/>
                </a:cubicBezTo>
                <a:cubicBezTo>
                  <a:pt x="3101" y="4480"/>
                  <a:pt x="3097" y="4463"/>
                  <a:pt x="3051" y="4440"/>
                </a:cubicBezTo>
                <a:cubicBezTo>
                  <a:pt x="3017" y="4474"/>
                  <a:pt x="3009" y="4495"/>
                  <a:pt x="3026" y="4539"/>
                </a:cubicBezTo>
              </a:path>
              <a:path w="4913" h="1217">
                <a:moveTo>
                  <a:pt x="3076" y="4738"/>
                </a:moveTo>
                <a:cubicBezTo>
                  <a:pt x="3159" y="4837"/>
                  <a:pt x="3205" y="4877"/>
                  <a:pt x="3324" y="4911"/>
                </a:cubicBezTo>
              </a:path>
              <a:path w="4913" h="1217">
                <a:moveTo>
                  <a:pt x="4862" y="4242"/>
                </a:moveTo>
                <a:cubicBezTo>
                  <a:pt x="4862" y="4200"/>
                  <a:pt x="4862" y="4192"/>
                  <a:pt x="4862" y="4167"/>
                </a:cubicBezTo>
                <a:cubicBezTo>
                  <a:pt x="4862" y="4335"/>
                  <a:pt x="4860" y="4496"/>
                  <a:pt x="4887" y="4663"/>
                </a:cubicBezTo>
                <a:cubicBezTo>
                  <a:pt x="4910" y="4803"/>
                  <a:pt x="4928" y="4944"/>
                  <a:pt x="4936" y="5085"/>
                </a:cubicBezTo>
                <a:cubicBezTo>
                  <a:pt x="4936" y="5093"/>
                  <a:pt x="4936" y="5102"/>
                  <a:pt x="4936" y="5110"/>
                </a:cubicBezTo>
              </a:path>
              <a:path w="4913" h="1217">
                <a:moveTo>
                  <a:pt x="6152" y="5060"/>
                </a:moveTo>
                <a:cubicBezTo>
                  <a:pt x="5992" y="5060"/>
                  <a:pt x="5837" y="5054"/>
                  <a:pt x="5680" y="5085"/>
                </a:cubicBezTo>
                <a:cubicBezTo>
                  <a:pt x="5541" y="5112"/>
                  <a:pt x="5399" y="5166"/>
                  <a:pt x="5259" y="5184"/>
                </a:cubicBezTo>
                <a:cubicBezTo>
                  <a:pt x="5134" y="5200"/>
                  <a:pt x="5012" y="5247"/>
                  <a:pt x="4887" y="5259"/>
                </a:cubicBezTo>
                <a:cubicBezTo>
                  <a:pt x="4785" y="5269"/>
                  <a:pt x="4686" y="5296"/>
                  <a:pt x="4589" y="5308"/>
                </a:cubicBezTo>
                <a:cubicBezTo>
                  <a:pt x="4525" y="5316"/>
                  <a:pt x="4451" y="5315"/>
                  <a:pt x="4390" y="5333"/>
                </a:cubicBezTo>
                <a:cubicBezTo>
                  <a:pt x="4319" y="5354"/>
                  <a:pt x="4269" y="5358"/>
                  <a:pt x="4192" y="5358"/>
                </a:cubicBezTo>
                <a:cubicBezTo>
                  <a:pt x="4134" y="5358"/>
                  <a:pt x="4126" y="5377"/>
                  <a:pt x="4068" y="5383"/>
                </a:cubicBezTo>
              </a:path>
              <a:path w="4913" h="1217">
                <a:moveTo>
                  <a:pt x="4911" y="4837"/>
                </a:moveTo>
                <a:cubicBezTo>
                  <a:pt x="4930" y="4893"/>
                  <a:pt x="4989" y="4835"/>
                  <a:pt x="5035" y="4812"/>
                </a:cubicBezTo>
                <a:cubicBezTo>
                  <a:pt x="5090" y="4784"/>
                  <a:pt x="5148" y="4744"/>
                  <a:pt x="5209" y="4738"/>
                </a:cubicBezTo>
                <a:cubicBezTo>
                  <a:pt x="5269" y="4732"/>
                  <a:pt x="5281" y="4844"/>
                  <a:pt x="5283" y="4887"/>
                </a:cubicBezTo>
                <a:cubicBezTo>
                  <a:pt x="5287" y="4970"/>
                  <a:pt x="5290" y="5033"/>
                  <a:pt x="5308" y="5110"/>
                </a:cubicBezTo>
                <a:cubicBezTo>
                  <a:pt x="5308" y="5118"/>
                  <a:pt x="5308" y="5127"/>
                  <a:pt x="5308" y="51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87760" y="509760"/>
            <a:ext cx="3448080" cy="2062080"/>
          </a:xfrm>
          <a:custGeom>
            <a:avLst/>
            <a:gdLst/>
            <a:ahLst/>
            <a:rect l="l" t="t" r="r" b="b"/>
            <a:pathLst>
              <a:path w="9576" h="5731">
                <a:moveTo>
                  <a:pt x="7541" y="4589"/>
                </a:moveTo>
                <a:cubicBezTo>
                  <a:pt x="7541" y="4564"/>
                  <a:pt x="7541" y="4556"/>
                  <a:pt x="7516" y="4564"/>
                </a:cubicBezTo>
                <a:cubicBezTo>
                  <a:pt x="7516" y="4606"/>
                  <a:pt x="7506" y="4629"/>
                  <a:pt x="7491" y="4663"/>
                </a:cubicBezTo>
                <a:cubicBezTo>
                  <a:pt x="7452" y="4753"/>
                  <a:pt x="7448" y="4869"/>
                  <a:pt x="7491" y="4961"/>
                </a:cubicBezTo>
                <a:cubicBezTo>
                  <a:pt x="7523" y="5029"/>
                  <a:pt x="7574" y="5131"/>
                  <a:pt x="7665" y="5110"/>
                </a:cubicBezTo>
                <a:cubicBezTo>
                  <a:pt x="7681" y="5102"/>
                  <a:pt x="7698" y="5093"/>
                  <a:pt x="7714" y="5085"/>
                </a:cubicBezTo>
              </a:path>
              <a:path w="9576" h="5731">
                <a:moveTo>
                  <a:pt x="7838" y="4961"/>
                </a:moveTo>
                <a:cubicBezTo>
                  <a:pt x="7860" y="4911"/>
                  <a:pt x="7863" y="4910"/>
                  <a:pt x="7863" y="4862"/>
                </a:cubicBezTo>
                <a:cubicBezTo>
                  <a:pt x="7797" y="4862"/>
                  <a:pt x="7731" y="4862"/>
                  <a:pt x="7665" y="4862"/>
                </a:cubicBezTo>
              </a:path>
              <a:path w="9576" h="5731">
                <a:moveTo>
                  <a:pt x="7962" y="4837"/>
                </a:moveTo>
                <a:cubicBezTo>
                  <a:pt x="8002" y="4837"/>
                  <a:pt x="8108" y="4792"/>
                  <a:pt x="8136" y="4812"/>
                </a:cubicBezTo>
                <a:cubicBezTo>
                  <a:pt x="8164" y="4832"/>
                  <a:pt x="8246" y="4945"/>
                  <a:pt x="8235" y="4986"/>
                </a:cubicBezTo>
                <a:cubicBezTo>
                  <a:pt x="8209" y="5082"/>
                  <a:pt x="8134" y="5027"/>
                  <a:pt x="8086" y="4986"/>
                </a:cubicBezTo>
                <a:cubicBezTo>
                  <a:pt x="8058" y="4957"/>
                  <a:pt x="8050" y="4944"/>
                  <a:pt x="8062" y="4911"/>
                </a:cubicBezTo>
              </a:path>
              <a:path w="9576" h="5731">
                <a:moveTo>
                  <a:pt x="8806" y="4465"/>
                </a:moveTo>
                <a:cubicBezTo>
                  <a:pt x="8806" y="4457"/>
                  <a:pt x="8806" y="4448"/>
                  <a:pt x="8806" y="4440"/>
                </a:cubicBezTo>
                <a:cubicBezTo>
                  <a:pt x="8784" y="4455"/>
                  <a:pt x="8747" y="4540"/>
                  <a:pt x="8731" y="4589"/>
                </a:cubicBezTo>
                <a:cubicBezTo>
                  <a:pt x="8697" y="4695"/>
                  <a:pt x="8692" y="4804"/>
                  <a:pt x="8781" y="4887"/>
                </a:cubicBezTo>
                <a:cubicBezTo>
                  <a:pt x="8836" y="4914"/>
                  <a:pt x="8859" y="4922"/>
                  <a:pt x="8905" y="4911"/>
                </a:cubicBezTo>
              </a:path>
              <a:path w="9576" h="5731">
                <a:moveTo>
                  <a:pt x="9029" y="4762"/>
                </a:moveTo>
                <a:cubicBezTo>
                  <a:pt x="8967" y="4716"/>
                  <a:pt x="8909" y="4701"/>
                  <a:pt x="8830" y="4688"/>
                </a:cubicBezTo>
                <a:cubicBezTo>
                  <a:pt x="8778" y="4679"/>
                  <a:pt x="8718" y="4702"/>
                  <a:pt x="8706" y="4738"/>
                </a:cubicBezTo>
              </a:path>
              <a:path w="9576" h="5731">
                <a:moveTo>
                  <a:pt x="9178" y="4663"/>
                </a:moveTo>
                <a:cubicBezTo>
                  <a:pt x="9128" y="4675"/>
                  <a:pt x="9089" y="4731"/>
                  <a:pt x="9079" y="4787"/>
                </a:cubicBezTo>
                <a:cubicBezTo>
                  <a:pt x="9070" y="4840"/>
                  <a:pt x="9066" y="4939"/>
                  <a:pt x="9153" y="4911"/>
                </a:cubicBezTo>
                <a:cubicBezTo>
                  <a:pt x="9197" y="4897"/>
                  <a:pt x="9201" y="4843"/>
                  <a:pt x="9252" y="4837"/>
                </a:cubicBezTo>
                <a:cubicBezTo>
                  <a:pt x="9276" y="4834"/>
                  <a:pt x="9303" y="4837"/>
                  <a:pt x="9327" y="4837"/>
                </a:cubicBezTo>
              </a:path>
              <a:path w="9576" h="5731">
                <a:moveTo>
                  <a:pt x="9426" y="4738"/>
                </a:moveTo>
                <a:cubicBezTo>
                  <a:pt x="9426" y="4785"/>
                  <a:pt x="9448" y="4817"/>
                  <a:pt x="9451" y="4862"/>
                </a:cubicBezTo>
                <a:cubicBezTo>
                  <a:pt x="9451" y="4878"/>
                  <a:pt x="9451" y="4895"/>
                  <a:pt x="9451" y="4911"/>
                </a:cubicBezTo>
                <a:cubicBezTo>
                  <a:pt x="9456" y="4874"/>
                  <a:pt x="9458" y="4794"/>
                  <a:pt x="9475" y="4762"/>
                </a:cubicBezTo>
                <a:cubicBezTo>
                  <a:pt x="9483" y="4754"/>
                  <a:pt x="9492" y="4746"/>
                  <a:pt x="9500" y="4738"/>
                </a:cubicBezTo>
                <a:cubicBezTo>
                  <a:pt x="9546" y="4749"/>
                  <a:pt x="9585" y="4780"/>
                  <a:pt x="9624" y="4812"/>
                </a:cubicBezTo>
              </a:path>
              <a:path w="9576" h="5731">
                <a:moveTo>
                  <a:pt x="9773" y="4762"/>
                </a:moveTo>
                <a:cubicBezTo>
                  <a:pt x="9792" y="4705"/>
                  <a:pt x="9783" y="4680"/>
                  <a:pt x="9823" y="4688"/>
                </a:cubicBezTo>
                <a:cubicBezTo>
                  <a:pt x="9838" y="4750"/>
                  <a:pt x="9890" y="4759"/>
                  <a:pt x="9947" y="4787"/>
                </a:cubicBezTo>
                <a:cubicBezTo>
                  <a:pt x="10033" y="4830"/>
                  <a:pt x="10050" y="4763"/>
                  <a:pt x="10120" y="4787"/>
                </a:cubicBezTo>
                <a:cubicBezTo>
                  <a:pt x="10193" y="4811"/>
                  <a:pt x="10165" y="4893"/>
                  <a:pt x="10145" y="4936"/>
                </a:cubicBezTo>
                <a:cubicBezTo>
                  <a:pt x="10107" y="5016"/>
                  <a:pt x="10027" y="5023"/>
                  <a:pt x="9947" y="5035"/>
                </a:cubicBezTo>
                <a:cubicBezTo>
                  <a:pt x="9930" y="5035"/>
                  <a:pt x="9914" y="5035"/>
                  <a:pt x="9897" y="5035"/>
                </a:cubicBezTo>
              </a:path>
              <a:path w="9576" h="5731">
                <a:moveTo>
                  <a:pt x="10021" y="4787"/>
                </a:moveTo>
                <a:cubicBezTo>
                  <a:pt x="10101" y="4728"/>
                  <a:pt x="10232" y="4669"/>
                  <a:pt x="10294" y="4589"/>
                </a:cubicBezTo>
                <a:cubicBezTo>
                  <a:pt x="10302" y="4572"/>
                  <a:pt x="10311" y="4556"/>
                  <a:pt x="10319" y="4539"/>
                </a:cubicBezTo>
                <a:cubicBezTo>
                  <a:pt x="10270" y="4510"/>
                  <a:pt x="10190" y="4480"/>
                  <a:pt x="10170" y="4564"/>
                </a:cubicBezTo>
                <a:cubicBezTo>
                  <a:pt x="10145" y="4670"/>
                  <a:pt x="10223" y="4775"/>
                  <a:pt x="10319" y="4812"/>
                </a:cubicBezTo>
                <a:cubicBezTo>
                  <a:pt x="10408" y="4846"/>
                  <a:pt x="10482" y="4793"/>
                  <a:pt x="10542" y="4738"/>
                </a:cubicBezTo>
                <a:cubicBezTo>
                  <a:pt x="10577" y="4706"/>
                  <a:pt x="10567" y="4682"/>
                  <a:pt x="10567" y="4638"/>
                </a:cubicBezTo>
                <a:cubicBezTo>
                  <a:pt x="10567" y="4683"/>
                  <a:pt x="10542" y="4782"/>
                  <a:pt x="10592" y="4738"/>
                </a:cubicBezTo>
                <a:cubicBezTo>
                  <a:pt x="10616" y="4713"/>
                  <a:pt x="10624" y="4704"/>
                  <a:pt x="10641" y="4688"/>
                </a:cubicBezTo>
                <a:cubicBezTo>
                  <a:pt x="10703" y="4703"/>
                  <a:pt x="10719" y="4754"/>
                  <a:pt x="10790" y="4762"/>
                </a:cubicBezTo>
                <a:cubicBezTo>
                  <a:pt x="10881" y="4772"/>
                  <a:pt x="10926" y="4750"/>
                  <a:pt x="10964" y="4663"/>
                </a:cubicBezTo>
                <a:cubicBezTo>
                  <a:pt x="11000" y="4580"/>
                  <a:pt x="11013" y="4505"/>
                  <a:pt x="11013" y="4415"/>
                </a:cubicBezTo>
                <a:cubicBezTo>
                  <a:pt x="10956" y="4434"/>
                  <a:pt x="11016" y="4539"/>
                  <a:pt x="11038" y="4589"/>
                </a:cubicBezTo>
                <a:cubicBezTo>
                  <a:pt x="11055" y="4622"/>
                  <a:pt x="11071" y="4655"/>
                  <a:pt x="11088" y="4688"/>
                </a:cubicBezTo>
              </a:path>
              <a:path w="9576" h="5731">
                <a:moveTo>
                  <a:pt x="11361" y="4762"/>
                </a:moveTo>
                <a:cubicBezTo>
                  <a:pt x="11308" y="4688"/>
                  <a:pt x="11239" y="4534"/>
                  <a:pt x="11112" y="4589"/>
                </a:cubicBezTo>
                <a:cubicBezTo>
                  <a:pt x="11042" y="4635"/>
                  <a:pt x="11022" y="4652"/>
                  <a:pt x="10964" y="4638"/>
                </a:cubicBezTo>
              </a:path>
              <a:path w="9576" h="5731">
                <a:moveTo>
                  <a:pt x="14709" y="4018"/>
                </a:moveTo>
                <a:cubicBezTo>
                  <a:pt x="14709" y="4042"/>
                  <a:pt x="14709" y="4272"/>
                  <a:pt x="14709" y="4142"/>
                </a:cubicBezTo>
                <a:cubicBezTo>
                  <a:pt x="14709" y="4032"/>
                  <a:pt x="14674" y="3927"/>
                  <a:pt x="14660" y="3820"/>
                </a:cubicBezTo>
                <a:cubicBezTo>
                  <a:pt x="14660" y="3803"/>
                  <a:pt x="14660" y="3787"/>
                  <a:pt x="14660" y="3770"/>
                </a:cubicBezTo>
                <a:cubicBezTo>
                  <a:pt x="14715" y="3784"/>
                  <a:pt x="14771" y="3847"/>
                  <a:pt x="14808" y="3894"/>
                </a:cubicBezTo>
                <a:cubicBezTo>
                  <a:pt x="14874" y="3979"/>
                  <a:pt x="14932" y="4043"/>
                  <a:pt x="15032" y="4068"/>
                </a:cubicBezTo>
                <a:cubicBezTo>
                  <a:pt x="15072" y="3944"/>
                  <a:pt x="15051" y="3891"/>
                  <a:pt x="15007" y="3770"/>
                </a:cubicBezTo>
                <a:cubicBezTo>
                  <a:pt x="14984" y="3703"/>
                  <a:pt x="14979" y="3685"/>
                  <a:pt x="14957" y="3646"/>
                </a:cubicBezTo>
              </a:path>
              <a:path w="9576" h="5731">
                <a:moveTo>
                  <a:pt x="15230" y="3919"/>
                </a:moveTo>
                <a:cubicBezTo>
                  <a:pt x="15163" y="3919"/>
                  <a:pt x="15269" y="3919"/>
                  <a:pt x="15280" y="3919"/>
                </a:cubicBezTo>
                <a:cubicBezTo>
                  <a:pt x="15348" y="3919"/>
                  <a:pt x="15409" y="3973"/>
                  <a:pt x="15429" y="4043"/>
                </a:cubicBezTo>
                <a:cubicBezTo>
                  <a:pt x="15436" y="4067"/>
                  <a:pt x="15429" y="4114"/>
                  <a:pt x="15429" y="4142"/>
                </a:cubicBezTo>
                <a:cubicBezTo>
                  <a:pt x="15361" y="4133"/>
                  <a:pt x="15339" y="4104"/>
                  <a:pt x="15280" y="4068"/>
                </a:cubicBezTo>
                <a:cubicBezTo>
                  <a:pt x="15263" y="4060"/>
                  <a:pt x="15247" y="4051"/>
                  <a:pt x="15230" y="4043"/>
                </a:cubicBezTo>
              </a:path>
              <a:path w="9576" h="5731">
                <a:moveTo>
                  <a:pt x="15553" y="4068"/>
                </a:moveTo>
                <a:cubicBezTo>
                  <a:pt x="15593" y="4088"/>
                  <a:pt x="15609" y="4087"/>
                  <a:pt x="15602" y="4118"/>
                </a:cubicBezTo>
                <a:cubicBezTo>
                  <a:pt x="15648" y="4087"/>
                  <a:pt x="15602" y="4063"/>
                  <a:pt x="15627" y="4018"/>
                </a:cubicBezTo>
                <a:cubicBezTo>
                  <a:pt x="15646" y="3985"/>
                  <a:pt x="15670" y="3994"/>
                  <a:pt x="15701" y="3994"/>
                </a:cubicBezTo>
              </a:path>
              <a:path w="9576" h="5731">
                <a:moveTo>
                  <a:pt x="15850" y="4043"/>
                </a:moveTo>
                <a:cubicBezTo>
                  <a:pt x="15889" y="4095"/>
                  <a:pt x="15851" y="4110"/>
                  <a:pt x="15875" y="4167"/>
                </a:cubicBezTo>
                <a:cubicBezTo>
                  <a:pt x="15883" y="4175"/>
                  <a:pt x="15892" y="4184"/>
                  <a:pt x="15900" y="4192"/>
                </a:cubicBezTo>
                <a:cubicBezTo>
                  <a:pt x="15909" y="4147"/>
                  <a:pt x="15923" y="4083"/>
                  <a:pt x="15949" y="4043"/>
                </a:cubicBezTo>
                <a:cubicBezTo>
                  <a:pt x="15986" y="3986"/>
                  <a:pt x="16018" y="4037"/>
                  <a:pt x="16049" y="4068"/>
                </a:cubicBezTo>
                <a:cubicBezTo>
                  <a:pt x="16071" y="4091"/>
                  <a:pt x="16079" y="4096"/>
                  <a:pt x="16073" y="4118"/>
                </a:cubicBezTo>
                <a:cubicBezTo>
                  <a:pt x="16102" y="4108"/>
                  <a:pt x="16133" y="4062"/>
                  <a:pt x="16148" y="4018"/>
                </a:cubicBezTo>
                <a:cubicBezTo>
                  <a:pt x="16165" y="3967"/>
                  <a:pt x="16176" y="3954"/>
                  <a:pt x="16222" y="3994"/>
                </a:cubicBezTo>
                <a:cubicBezTo>
                  <a:pt x="16259" y="4026"/>
                  <a:pt x="16272" y="4050"/>
                  <a:pt x="16297" y="4093"/>
                </a:cubicBezTo>
              </a:path>
              <a:path w="9576" h="5731">
                <a:moveTo>
                  <a:pt x="16446" y="4018"/>
                </a:moveTo>
                <a:cubicBezTo>
                  <a:pt x="16500" y="3964"/>
                  <a:pt x="16424" y="4037"/>
                  <a:pt x="16421" y="4068"/>
                </a:cubicBezTo>
                <a:cubicBezTo>
                  <a:pt x="16416" y="4109"/>
                  <a:pt x="16422" y="4111"/>
                  <a:pt x="16446" y="4142"/>
                </a:cubicBezTo>
                <a:cubicBezTo>
                  <a:pt x="16518" y="4128"/>
                  <a:pt x="16542" y="4095"/>
                  <a:pt x="16594" y="4043"/>
                </a:cubicBezTo>
                <a:cubicBezTo>
                  <a:pt x="16628" y="4009"/>
                  <a:pt x="16656" y="3991"/>
                  <a:pt x="16694" y="3969"/>
                </a:cubicBezTo>
                <a:cubicBezTo>
                  <a:pt x="16753" y="3935"/>
                  <a:pt x="16825" y="3900"/>
                  <a:pt x="16867" y="3845"/>
                </a:cubicBezTo>
                <a:cubicBezTo>
                  <a:pt x="16902" y="3799"/>
                  <a:pt x="16892" y="3749"/>
                  <a:pt x="16892" y="3696"/>
                </a:cubicBezTo>
                <a:cubicBezTo>
                  <a:pt x="16862" y="3706"/>
                  <a:pt x="16844" y="3779"/>
                  <a:pt x="16867" y="3820"/>
                </a:cubicBezTo>
                <a:cubicBezTo>
                  <a:pt x="16906" y="3890"/>
                  <a:pt x="16957" y="3959"/>
                  <a:pt x="17016" y="4018"/>
                </a:cubicBezTo>
                <a:cubicBezTo>
                  <a:pt x="17024" y="4026"/>
                  <a:pt x="17033" y="4035"/>
                  <a:pt x="17041" y="4043"/>
                </a:cubicBezTo>
              </a:path>
              <a:path w="9576" h="5731">
                <a:moveTo>
                  <a:pt x="13767" y="3125"/>
                </a:moveTo>
                <a:cubicBezTo>
                  <a:pt x="13757" y="3158"/>
                  <a:pt x="13751" y="3187"/>
                  <a:pt x="13742" y="3225"/>
                </a:cubicBezTo>
                <a:cubicBezTo>
                  <a:pt x="13727" y="3289"/>
                  <a:pt x="13717" y="3345"/>
                  <a:pt x="13717" y="3423"/>
                </a:cubicBezTo>
                <a:cubicBezTo>
                  <a:pt x="13717" y="4164"/>
                  <a:pt x="13680" y="4920"/>
                  <a:pt x="13742" y="5655"/>
                </a:cubicBezTo>
                <a:cubicBezTo>
                  <a:pt x="13753" y="5787"/>
                  <a:pt x="13743" y="5922"/>
                  <a:pt x="13767" y="6052"/>
                </a:cubicBezTo>
                <a:cubicBezTo>
                  <a:pt x="13796" y="6207"/>
                  <a:pt x="13790" y="6368"/>
                  <a:pt x="13816" y="6524"/>
                </a:cubicBezTo>
                <a:cubicBezTo>
                  <a:pt x="13843" y="6683"/>
                  <a:pt x="13872" y="6835"/>
                  <a:pt x="13891" y="6995"/>
                </a:cubicBezTo>
                <a:cubicBezTo>
                  <a:pt x="13899" y="7045"/>
                  <a:pt x="13907" y="7094"/>
                  <a:pt x="13915" y="7144"/>
                </a:cubicBezTo>
              </a:path>
              <a:path w="9576" h="5731">
                <a:moveTo>
                  <a:pt x="10418" y="1463"/>
                </a:moveTo>
                <a:cubicBezTo>
                  <a:pt x="10418" y="1439"/>
                  <a:pt x="10418" y="1430"/>
                  <a:pt x="10418" y="1414"/>
                </a:cubicBezTo>
                <a:cubicBezTo>
                  <a:pt x="10439" y="1448"/>
                  <a:pt x="10420" y="1456"/>
                  <a:pt x="10443" y="1488"/>
                </a:cubicBezTo>
                <a:cubicBezTo>
                  <a:pt x="10474" y="1531"/>
                  <a:pt x="10510" y="1571"/>
                  <a:pt x="10542" y="1612"/>
                </a:cubicBezTo>
                <a:cubicBezTo>
                  <a:pt x="10601" y="1686"/>
                  <a:pt x="10656" y="1761"/>
                  <a:pt x="10716" y="1836"/>
                </a:cubicBezTo>
                <a:cubicBezTo>
                  <a:pt x="10780" y="1916"/>
                  <a:pt x="10844" y="2009"/>
                  <a:pt x="10914" y="2084"/>
                </a:cubicBezTo>
                <a:cubicBezTo>
                  <a:pt x="11041" y="2222"/>
                  <a:pt x="11178" y="2353"/>
                  <a:pt x="11286" y="2505"/>
                </a:cubicBezTo>
                <a:cubicBezTo>
                  <a:pt x="11339" y="2579"/>
                  <a:pt x="11386" y="2654"/>
                  <a:pt x="11435" y="2729"/>
                </a:cubicBezTo>
                <a:cubicBezTo>
                  <a:pt x="11493" y="2817"/>
                  <a:pt x="11547" y="2915"/>
                  <a:pt x="11609" y="3001"/>
                </a:cubicBezTo>
                <a:cubicBezTo>
                  <a:pt x="11655" y="3065"/>
                  <a:pt x="11682" y="3118"/>
                  <a:pt x="11733" y="3175"/>
                </a:cubicBezTo>
                <a:cubicBezTo>
                  <a:pt x="11808" y="3259"/>
                  <a:pt x="11891" y="3332"/>
                  <a:pt x="11956" y="3423"/>
                </a:cubicBezTo>
                <a:cubicBezTo>
                  <a:pt x="12006" y="3493"/>
                  <a:pt x="12053" y="3574"/>
                  <a:pt x="12105" y="3646"/>
                </a:cubicBezTo>
                <a:cubicBezTo>
                  <a:pt x="12153" y="3713"/>
                  <a:pt x="12205" y="3778"/>
                  <a:pt x="12254" y="3845"/>
                </a:cubicBezTo>
                <a:cubicBezTo>
                  <a:pt x="12302" y="3912"/>
                  <a:pt x="12354" y="3976"/>
                  <a:pt x="12402" y="4043"/>
                </a:cubicBezTo>
                <a:cubicBezTo>
                  <a:pt x="12459" y="4122"/>
                  <a:pt x="12503" y="4205"/>
                  <a:pt x="12576" y="4266"/>
                </a:cubicBezTo>
                <a:cubicBezTo>
                  <a:pt x="12634" y="4315"/>
                  <a:pt x="12696" y="4369"/>
                  <a:pt x="12750" y="4415"/>
                </a:cubicBezTo>
                <a:cubicBezTo>
                  <a:pt x="12805" y="4463"/>
                  <a:pt x="12868" y="4495"/>
                  <a:pt x="12923" y="4539"/>
                </a:cubicBezTo>
                <a:cubicBezTo>
                  <a:pt x="13002" y="4602"/>
                  <a:pt x="13090" y="4653"/>
                  <a:pt x="13171" y="4713"/>
                </a:cubicBezTo>
                <a:cubicBezTo>
                  <a:pt x="13234" y="4759"/>
                  <a:pt x="13302" y="4833"/>
                  <a:pt x="13370" y="4887"/>
                </a:cubicBezTo>
                <a:cubicBezTo>
                  <a:pt x="13411" y="4920"/>
                  <a:pt x="13452" y="4956"/>
                  <a:pt x="13494" y="4986"/>
                </a:cubicBezTo>
                <a:cubicBezTo>
                  <a:pt x="13552" y="5028"/>
                  <a:pt x="13611" y="5066"/>
                  <a:pt x="13667" y="5110"/>
                </a:cubicBezTo>
                <a:cubicBezTo>
                  <a:pt x="13729" y="5159"/>
                  <a:pt x="13799" y="5218"/>
                  <a:pt x="13866" y="5259"/>
                </a:cubicBezTo>
                <a:cubicBezTo>
                  <a:pt x="13910" y="5285"/>
                  <a:pt x="13970" y="5311"/>
                  <a:pt x="14015" y="5333"/>
                </a:cubicBezTo>
                <a:cubicBezTo>
                  <a:pt x="14072" y="5360"/>
                  <a:pt x="14129" y="5381"/>
                  <a:pt x="14188" y="5407"/>
                </a:cubicBezTo>
                <a:cubicBezTo>
                  <a:pt x="14242" y="5431"/>
                  <a:pt x="14301" y="5451"/>
                  <a:pt x="14362" y="5482"/>
                </a:cubicBezTo>
                <a:cubicBezTo>
                  <a:pt x="14413" y="5508"/>
                  <a:pt x="14455" y="5535"/>
                  <a:pt x="14511" y="5556"/>
                </a:cubicBezTo>
                <a:cubicBezTo>
                  <a:pt x="14568" y="5578"/>
                  <a:pt x="14622" y="5580"/>
                  <a:pt x="14684" y="5606"/>
                </a:cubicBezTo>
                <a:cubicBezTo>
                  <a:pt x="14735" y="5627"/>
                  <a:pt x="14777" y="5656"/>
                  <a:pt x="14833" y="5680"/>
                </a:cubicBezTo>
                <a:cubicBezTo>
                  <a:pt x="14868" y="5695"/>
                  <a:pt x="14898" y="5715"/>
                  <a:pt x="14932" y="5730"/>
                </a:cubicBezTo>
                <a:cubicBezTo>
                  <a:pt x="14963" y="5744"/>
                  <a:pt x="15002" y="5738"/>
                  <a:pt x="15032" y="5755"/>
                </a:cubicBezTo>
                <a:cubicBezTo>
                  <a:pt x="15068" y="5776"/>
                  <a:pt x="15093" y="5790"/>
                  <a:pt x="15131" y="5804"/>
                </a:cubicBezTo>
                <a:cubicBezTo>
                  <a:pt x="15162" y="5816"/>
                  <a:pt x="15174" y="5817"/>
                  <a:pt x="15205" y="5829"/>
                </a:cubicBezTo>
                <a:cubicBezTo>
                  <a:pt x="15148" y="5905"/>
                  <a:pt x="15082" y="5971"/>
                  <a:pt x="15032" y="6052"/>
                </a:cubicBezTo>
                <a:cubicBezTo>
                  <a:pt x="15016" y="6079"/>
                  <a:pt x="14998" y="6125"/>
                  <a:pt x="14982" y="6152"/>
                </a:cubicBezTo>
                <a:cubicBezTo>
                  <a:pt x="15014" y="6109"/>
                  <a:pt x="15051" y="6072"/>
                  <a:pt x="15081" y="6028"/>
                </a:cubicBezTo>
                <a:cubicBezTo>
                  <a:pt x="15100" y="6000"/>
                  <a:pt x="15187" y="5882"/>
                  <a:pt x="15180" y="5854"/>
                </a:cubicBezTo>
                <a:cubicBezTo>
                  <a:pt x="15165" y="5791"/>
                  <a:pt x="15090" y="5740"/>
                  <a:pt x="15056" y="5680"/>
                </a:cubicBezTo>
                <a:cubicBezTo>
                  <a:pt x="15023" y="5622"/>
                  <a:pt x="14991" y="5564"/>
                  <a:pt x="14957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72160" y="1241280"/>
            <a:ext cx="750960" cy="330480"/>
          </a:xfrm>
          <a:custGeom>
            <a:avLst/>
            <a:gdLst/>
            <a:ahLst/>
            <a:rect l="l" t="t" r="r" b="b"/>
            <a:pathLst>
              <a:path w="2085" h="919">
                <a:moveTo>
                  <a:pt x="18380" y="3721"/>
                </a:moveTo>
                <a:cubicBezTo>
                  <a:pt x="18380" y="3667"/>
                  <a:pt x="18392" y="3684"/>
                  <a:pt x="18405" y="3646"/>
                </a:cubicBezTo>
                <a:cubicBezTo>
                  <a:pt x="18332" y="3705"/>
                  <a:pt x="18314" y="3725"/>
                  <a:pt x="18281" y="3820"/>
                </a:cubicBezTo>
                <a:cubicBezTo>
                  <a:pt x="18251" y="3906"/>
                  <a:pt x="18230" y="4033"/>
                  <a:pt x="18281" y="4118"/>
                </a:cubicBezTo>
                <a:cubicBezTo>
                  <a:pt x="18325" y="4192"/>
                  <a:pt x="18382" y="4185"/>
                  <a:pt x="18455" y="4192"/>
                </a:cubicBezTo>
              </a:path>
              <a:path w="2085" h="919">
                <a:moveTo>
                  <a:pt x="18579" y="3919"/>
                </a:moveTo>
                <a:cubicBezTo>
                  <a:pt x="18459" y="3883"/>
                  <a:pt x="18490" y="3919"/>
                  <a:pt x="18380" y="3944"/>
                </a:cubicBezTo>
                <a:cubicBezTo>
                  <a:pt x="18364" y="3944"/>
                  <a:pt x="18347" y="3944"/>
                  <a:pt x="18331" y="3944"/>
                </a:cubicBezTo>
              </a:path>
              <a:path w="2085" h="919">
                <a:moveTo>
                  <a:pt x="18678" y="3448"/>
                </a:moveTo>
                <a:cubicBezTo>
                  <a:pt x="18705" y="3457"/>
                  <a:pt x="18717" y="3483"/>
                  <a:pt x="18703" y="3522"/>
                </a:cubicBezTo>
                <a:cubicBezTo>
                  <a:pt x="18671" y="3611"/>
                  <a:pt x="18674" y="3703"/>
                  <a:pt x="18653" y="3795"/>
                </a:cubicBezTo>
                <a:cubicBezTo>
                  <a:pt x="18632" y="3891"/>
                  <a:pt x="18628" y="3969"/>
                  <a:pt x="18628" y="4068"/>
                </a:cubicBezTo>
                <a:cubicBezTo>
                  <a:pt x="18628" y="4093"/>
                  <a:pt x="18628" y="4101"/>
                  <a:pt x="18628" y="4118"/>
                </a:cubicBezTo>
                <a:cubicBezTo>
                  <a:pt x="18658" y="4057"/>
                  <a:pt x="18683" y="3995"/>
                  <a:pt x="18728" y="3944"/>
                </a:cubicBezTo>
                <a:cubicBezTo>
                  <a:pt x="18736" y="3936"/>
                  <a:pt x="18744" y="3927"/>
                  <a:pt x="18752" y="3919"/>
                </a:cubicBezTo>
                <a:cubicBezTo>
                  <a:pt x="18792" y="3989"/>
                  <a:pt x="18803" y="4044"/>
                  <a:pt x="18827" y="4118"/>
                </a:cubicBezTo>
                <a:cubicBezTo>
                  <a:pt x="18840" y="4159"/>
                  <a:pt x="18853" y="4185"/>
                  <a:pt x="18876" y="4217"/>
                </a:cubicBezTo>
              </a:path>
              <a:path w="2085" h="919">
                <a:moveTo>
                  <a:pt x="19025" y="4068"/>
                </a:moveTo>
                <a:cubicBezTo>
                  <a:pt x="19045" y="4108"/>
                  <a:pt x="19054" y="4115"/>
                  <a:pt x="19050" y="4142"/>
                </a:cubicBezTo>
                <a:cubicBezTo>
                  <a:pt x="19050" y="4086"/>
                  <a:pt x="19040" y="4038"/>
                  <a:pt x="19075" y="3994"/>
                </a:cubicBezTo>
                <a:cubicBezTo>
                  <a:pt x="19100" y="3963"/>
                  <a:pt x="19115" y="3953"/>
                  <a:pt x="19149" y="3944"/>
                </a:cubicBezTo>
              </a:path>
              <a:path w="2085" h="919">
                <a:moveTo>
                  <a:pt x="19248" y="4018"/>
                </a:moveTo>
                <a:cubicBezTo>
                  <a:pt x="19289" y="4018"/>
                  <a:pt x="19331" y="4018"/>
                  <a:pt x="19372" y="4018"/>
                </a:cubicBezTo>
                <a:cubicBezTo>
                  <a:pt x="19372" y="4055"/>
                  <a:pt x="19390" y="4146"/>
                  <a:pt x="19348" y="4167"/>
                </a:cubicBezTo>
                <a:cubicBezTo>
                  <a:pt x="19316" y="4183"/>
                  <a:pt x="19293" y="4157"/>
                  <a:pt x="19273" y="4142"/>
                </a:cubicBezTo>
              </a:path>
              <a:path w="2085" h="919">
                <a:moveTo>
                  <a:pt x="19422" y="3969"/>
                </a:moveTo>
                <a:cubicBezTo>
                  <a:pt x="19446" y="4000"/>
                  <a:pt x="19465" y="4068"/>
                  <a:pt x="19496" y="4093"/>
                </a:cubicBezTo>
                <a:cubicBezTo>
                  <a:pt x="19516" y="4109"/>
                  <a:pt x="19611" y="4100"/>
                  <a:pt x="19621" y="4068"/>
                </a:cubicBezTo>
                <a:cubicBezTo>
                  <a:pt x="19635" y="4023"/>
                  <a:pt x="19639" y="3967"/>
                  <a:pt x="19645" y="3919"/>
                </a:cubicBezTo>
              </a:path>
              <a:path w="2085" h="919">
                <a:moveTo>
                  <a:pt x="19769" y="3944"/>
                </a:moveTo>
                <a:cubicBezTo>
                  <a:pt x="19769" y="4004"/>
                  <a:pt x="19788" y="4018"/>
                  <a:pt x="19794" y="4068"/>
                </a:cubicBezTo>
                <a:cubicBezTo>
                  <a:pt x="19799" y="4113"/>
                  <a:pt x="19790" y="4104"/>
                  <a:pt x="19819" y="4142"/>
                </a:cubicBezTo>
                <a:cubicBezTo>
                  <a:pt x="19854" y="4133"/>
                  <a:pt x="19900" y="4097"/>
                  <a:pt x="19943" y="4118"/>
                </a:cubicBezTo>
                <a:cubicBezTo>
                  <a:pt x="20014" y="4152"/>
                  <a:pt x="19993" y="4255"/>
                  <a:pt x="19993" y="4316"/>
                </a:cubicBezTo>
                <a:cubicBezTo>
                  <a:pt x="19993" y="4333"/>
                  <a:pt x="19993" y="4349"/>
                  <a:pt x="19993" y="4366"/>
                </a:cubicBezTo>
                <a:cubicBezTo>
                  <a:pt x="19930" y="4366"/>
                  <a:pt x="19875" y="4376"/>
                  <a:pt x="19819" y="4341"/>
                </a:cubicBezTo>
                <a:cubicBezTo>
                  <a:pt x="19759" y="4304"/>
                  <a:pt x="19747" y="4251"/>
                  <a:pt x="19720" y="4192"/>
                </a:cubicBezTo>
              </a:path>
              <a:path w="2085" h="919">
                <a:moveTo>
                  <a:pt x="19869" y="3870"/>
                </a:moveTo>
                <a:cubicBezTo>
                  <a:pt x="19903" y="3809"/>
                  <a:pt x="19953" y="3679"/>
                  <a:pt x="20017" y="3646"/>
                </a:cubicBezTo>
                <a:cubicBezTo>
                  <a:pt x="20061" y="3719"/>
                  <a:pt x="20047" y="3829"/>
                  <a:pt x="20067" y="3919"/>
                </a:cubicBezTo>
                <a:cubicBezTo>
                  <a:pt x="20078" y="3967"/>
                  <a:pt x="20102" y="4144"/>
                  <a:pt x="20166" y="4167"/>
                </a:cubicBezTo>
                <a:cubicBezTo>
                  <a:pt x="20261" y="4201"/>
                  <a:pt x="20255" y="4144"/>
                  <a:pt x="20340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37160" y="2527200"/>
            <a:ext cx="401760" cy="295200"/>
          </a:xfrm>
          <a:custGeom>
            <a:avLst/>
            <a:gdLst/>
            <a:ahLst/>
            <a:rect l="l" t="t" r="r" b="b"/>
            <a:pathLst>
              <a:path w="1117" h="819">
                <a:moveTo>
                  <a:pt x="15379" y="7193"/>
                </a:moveTo>
                <a:cubicBezTo>
                  <a:pt x="15379" y="7152"/>
                  <a:pt x="15379" y="7128"/>
                  <a:pt x="15379" y="7169"/>
                </a:cubicBezTo>
                <a:cubicBezTo>
                  <a:pt x="15379" y="7251"/>
                  <a:pt x="15363" y="7369"/>
                  <a:pt x="15453" y="7417"/>
                </a:cubicBezTo>
                <a:cubicBezTo>
                  <a:pt x="15529" y="7457"/>
                  <a:pt x="15590" y="7332"/>
                  <a:pt x="15627" y="7293"/>
                </a:cubicBezTo>
                <a:cubicBezTo>
                  <a:pt x="15644" y="7276"/>
                  <a:pt x="15660" y="7260"/>
                  <a:pt x="15677" y="7243"/>
                </a:cubicBezTo>
                <a:cubicBezTo>
                  <a:pt x="15781" y="7285"/>
                  <a:pt x="15841" y="7409"/>
                  <a:pt x="15875" y="7516"/>
                </a:cubicBezTo>
                <a:cubicBezTo>
                  <a:pt x="15907" y="7616"/>
                  <a:pt x="15935" y="7755"/>
                  <a:pt x="15850" y="7813"/>
                </a:cubicBezTo>
                <a:cubicBezTo>
                  <a:pt x="15774" y="7865"/>
                  <a:pt x="15657" y="7842"/>
                  <a:pt x="15577" y="7813"/>
                </a:cubicBezTo>
                <a:cubicBezTo>
                  <a:pt x="15528" y="7789"/>
                  <a:pt x="15511" y="7781"/>
                  <a:pt x="15478" y="7764"/>
                </a:cubicBezTo>
              </a:path>
              <a:path w="1117" h="819">
                <a:moveTo>
                  <a:pt x="16470" y="7193"/>
                </a:moveTo>
                <a:cubicBezTo>
                  <a:pt x="16470" y="7201"/>
                  <a:pt x="16470" y="7210"/>
                  <a:pt x="16470" y="7218"/>
                </a:cubicBezTo>
                <a:cubicBezTo>
                  <a:pt x="16396" y="7218"/>
                  <a:pt x="16321" y="7218"/>
                  <a:pt x="16247" y="7218"/>
                </a:cubicBezTo>
              </a:path>
              <a:path w="1117" h="819">
                <a:moveTo>
                  <a:pt x="16470" y="7342"/>
                </a:moveTo>
                <a:cubicBezTo>
                  <a:pt x="16478" y="7350"/>
                  <a:pt x="16487" y="7359"/>
                  <a:pt x="16495" y="7367"/>
                </a:cubicBezTo>
                <a:cubicBezTo>
                  <a:pt x="16454" y="7367"/>
                  <a:pt x="16412" y="7367"/>
                  <a:pt x="16371" y="7367"/>
                </a:cubicBezTo>
              </a:path>
              <a:path w="1117" h="819">
                <a:moveTo>
                  <a:pt x="16073" y="7020"/>
                </a:moveTo>
                <a:cubicBezTo>
                  <a:pt x="16172" y="7118"/>
                  <a:pt x="16200" y="7208"/>
                  <a:pt x="16247" y="7342"/>
                </a:cubicBezTo>
                <a:cubicBezTo>
                  <a:pt x="16286" y="7455"/>
                  <a:pt x="16311" y="7548"/>
                  <a:pt x="16321" y="7665"/>
                </a:cubicBezTo>
                <a:cubicBezTo>
                  <a:pt x="16226" y="7626"/>
                  <a:pt x="16131" y="7477"/>
                  <a:pt x="16073" y="7392"/>
                </a:cubicBezTo>
                <a:cubicBezTo>
                  <a:pt x="16012" y="7303"/>
                  <a:pt x="15965" y="7217"/>
                  <a:pt x="15925" y="7119"/>
                </a:cubicBezTo>
                <a:cubicBezTo>
                  <a:pt x="15936" y="7271"/>
                  <a:pt x="15992" y="7376"/>
                  <a:pt x="16049" y="7516"/>
                </a:cubicBezTo>
                <a:cubicBezTo>
                  <a:pt x="16068" y="7573"/>
                  <a:pt x="16076" y="7580"/>
                  <a:pt x="16073" y="7615"/>
                </a:cubicBezTo>
                <a:cubicBezTo>
                  <a:pt x="15981" y="7581"/>
                  <a:pt x="15905" y="7472"/>
                  <a:pt x="15825" y="7392"/>
                </a:cubicBezTo>
                <a:cubicBezTo>
                  <a:pt x="15763" y="7329"/>
                  <a:pt x="15753" y="7311"/>
                  <a:pt x="15701" y="7293"/>
                </a:cubicBezTo>
                <a:cubicBezTo>
                  <a:pt x="15664" y="7368"/>
                  <a:pt x="15663" y="7500"/>
                  <a:pt x="15677" y="7590"/>
                </a:cubicBezTo>
                <a:cubicBezTo>
                  <a:pt x="15690" y="7674"/>
                  <a:pt x="15716" y="7672"/>
                  <a:pt x="15677" y="7739"/>
                </a:cubicBezTo>
                <a:cubicBezTo>
                  <a:pt x="15616" y="7667"/>
                  <a:pt x="15563" y="7589"/>
                  <a:pt x="15503" y="7516"/>
                </a:cubicBezTo>
                <a:cubicBezTo>
                  <a:pt x="15495" y="7508"/>
                  <a:pt x="15486" y="7499"/>
                  <a:pt x="15478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75200" y="1660680"/>
            <a:ext cx="625680" cy="536400"/>
          </a:xfrm>
          <a:custGeom>
            <a:avLst/>
            <a:gdLst/>
            <a:ahLst/>
            <a:rect l="l" t="t" r="r" b="b"/>
            <a:pathLst>
              <a:path w="1738" h="1489">
                <a:moveTo>
                  <a:pt x="16396" y="4688"/>
                </a:moveTo>
                <a:cubicBezTo>
                  <a:pt x="16352" y="4710"/>
                  <a:pt x="16340" y="4713"/>
                  <a:pt x="16321" y="4738"/>
                </a:cubicBezTo>
                <a:cubicBezTo>
                  <a:pt x="16336" y="4679"/>
                  <a:pt x="16360" y="4667"/>
                  <a:pt x="16421" y="4663"/>
                </a:cubicBezTo>
                <a:cubicBezTo>
                  <a:pt x="16549" y="4655"/>
                  <a:pt x="16552" y="4713"/>
                  <a:pt x="16594" y="4812"/>
                </a:cubicBezTo>
                <a:cubicBezTo>
                  <a:pt x="16615" y="4861"/>
                  <a:pt x="16617" y="4985"/>
                  <a:pt x="16545" y="5011"/>
                </a:cubicBezTo>
                <a:cubicBezTo>
                  <a:pt x="16497" y="5028"/>
                  <a:pt x="16456" y="5007"/>
                  <a:pt x="16421" y="4986"/>
                </a:cubicBezTo>
              </a:path>
              <a:path w="1738" h="1489">
                <a:moveTo>
                  <a:pt x="16768" y="4713"/>
                </a:moveTo>
                <a:cubicBezTo>
                  <a:pt x="16776" y="4705"/>
                  <a:pt x="16785" y="4696"/>
                  <a:pt x="16793" y="4688"/>
                </a:cubicBezTo>
                <a:cubicBezTo>
                  <a:pt x="16780" y="4739"/>
                  <a:pt x="16730" y="4781"/>
                  <a:pt x="16718" y="4837"/>
                </a:cubicBezTo>
                <a:cubicBezTo>
                  <a:pt x="16708" y="4883"/>
                  <a:pt x="16712" y="4991"/>
                  <a:pt x="16768" y="5011"/>
                </a:cubicBezTo>
                <a:cubicBezTo>
                  <a:pt x="16827" y="5011"/>
                  <a:pt x="16853" y="5008"/>
                  <a:pt x="16892" y="4986"/>
                </a:cubicBezTo>
              </a:path>
              <a:path w="1738" h="1489">
                <a:moveTo>
                  <a:pt x="17413" y="4837"/>
                </a:moveTo>
                <a:cubicBezTo>
                  <a:pt x="17489" y="4837"/>
                  <a:pt x="17442" y="4837"/>
                  <a:pt x="17388" y="4837"/>
                </a:cubicBezTo>
                <a:cubicBezTo>
                  <a:pt x="17329" y="4837"/>
                  <a:pt x="17294" y="4856"/>
                  <a:pt x="17239" y="4862"/>
                </a:cubicBezTo>
                <a:cubicBezTo>
                  <a:pt x="17214" y="4862"/>
                  <a:pt x="17206" y="4862"/>
                  <a:pt x="17190" y="4862"/>
                </a:cubicBezTo>
              </a:path>
              <a:path w="1738" h="1489">
                <a:moveTo>
                  <a:pt x="17363" y="4936"/>
                </a:moveTo>
                <a:cubicBezTo>
                  <a:pt x="17380" y="4936"/>
                  <a:pt x="17396" y="4936"/>
                  <a:pt x="17413" y="4936"/>
                </a:cubicBezTo>
                <a:cubicBezTo>
                  <a:pt x="17371" y="4968"/>
                  <a:pt x="17345" y="4961"/>
                  <a:pt x="17289" y="4961"/>
                </a:cubicBezTo>
                <a:cubicBezTo>
                  <a:pt x="17272" y="4961"/>
                  <a:pt x="17256" y="4961"/>
                  <a:pt x="17239" y="4961"/>
                </a:cubicBezTo>
              </a:path>
              <a:path w="1738" h="1489">
                <a:moveTo>
                  <a:pt x="17735" y="4663"/>
                </a:moveTo>
                <a:cubicBezTo>
                  <a:pt x="17743" y="4647"/>
                  <a:pt x="17752" y="4630"/>
                  <a:pt x="17760" y="4614"/>
                </a:cubicBezTo>
                <a:cubicBezTo>
                  <a:pt x="17760" y="4771"/>
                  <a:pt x="17760" y="4928"/>
                  <a:pt x="17760" y="5085"/>
                </a:cubicBezTo>
              </a:path>
              <a:path w="1738" h="1489">
                <a:moveTo>
                  <a:pt x="16594" y="5457"/>
                </a:moveTo>
                <a:cubicBezTo>
                  <a:pt x="16556" y="5470"/>
                  <a:pt x="16548" y="5505"/>
                  <a:pt x="16545" y="5556"/>
                </a:cubicBezTo>
                <a:cubicBezTo>
                  <a:pt x="16540" y="5637"/>
                  <a:pt x="16531" y="5695"/>
                  <a:pt x="16619" y="5705"/>
                </a:cubicBezTo>
                <a:cubicBezTo>
                  <a:pt x="16701" y="5715"/>
                  <a:pt x="16720" y="5630"/>
                  <a:pt x="16793" y="5606"/>
                </a:cubicBezTo>
                <a:cubicBezTo>
                  <a:pt x="16876" y="5579"/>
                  <a:pt x="16912" y="5789"/>
                  <a:pt x="16917" y="5829"/>
                </a:cubicBezTo>
                <a:cubicBezTo>
                  <a:pt x="16929" y="5936"/>
                  <a:pt x="16936" y="6021"/>
                  <a:pt x="16842" y="6077"/>
                </a:cubicBezTo>
                <a:cubicBezTo>
                  <a:pt x="16756" y="6128"/>
                  <a:pt x="16699" y="6092"/>
                  <a:pt x="16619" y="6052"/>
                </a:cubicBezTo>
              </a:path>
              <a:path w="1738" h="1489">
                <a:moveTo>
                  <a:pt x="17388" y="5556"/>
                </a:moveTo>
                <a:cubicBezTo>
                  <a:pt x="17331" y="5556"/>
                  <a:pt x="17310" y="5566"/>
                  <a:pt x="17264" y="5581"/>
                </a:cubicBezTo>
                <a:cubicBezTo>
                  <a:pt x="17236" y="5581"/>
                  <a:pt x="17225" y="5583"/>
                  <a:pt x="17214" y="5606"/>
                </a:cubicBezTo>
              </a:path>
              <a:path w="1738" h="1489">
                <a:moveTo>
                  <a:pt x="17363" y="5655"/>
                </a:moveTo>
                <a:cubicBezTo>
                  <a:pt x="17386" y="5678"/>
                  <a:pt x="17394" y="5682"/>
                  <a:pt x="17388" y="5705"/>
                </a:cubicBezTo>
                <a:cubicBezTo>
                  <a:pt x="17338" y="5705"/>
                  <a:pt x="17289" y="5705"/>
                  <a:pt x="17239" y="5705"/>
                </a:cubicBezTo>
              </a:path>
              <a:path w="1738" h="1489">
                <a:moveTo>
                  <a:pt x="17909" y="5358"/>
                </a:moveTo>
                <a:cubicBezTo>
                  <a:pt x="17909" y="5333"/>
                  <a:pt x="17909" y="5325"/>
                  <a:pt x="17909" y="5308"/>
                </a:cubicBezTo>
                <a:cubicBezTo>
                  <a:pt x="17871" y="5321"/>
                  <a:pt x="17879" y="5330"/>
                  <a:pt x="17859" y="5358"/>
                </a:cubicBezTo>
                <a:cubicBezTo>
                  <a:pt x="17818" y="5414"/>
                  <a:pt x="17815" y="5441"/>
                  <a:pt x="17785" y="5507"/>
                </a:cubicBezTo>
                <a:cubicBezTo>
                  <a:pt x="17753" y="5579"/>
                  <a:pt x="17739" y="5650"/>
                  <a:pt x="17735" y="5730"/>
                </a:cubicBezTo>
                <a:cubicBezTo>
                  <a:pt x="17733" y="5770"/>
                  <a:pt x="17735" y="5877"/>
                  <a:pt x="17760" y="5904"/>
                </a:cubicBezTo>
                <a:cubicBezTo>
                  <a:pt x="17800" y="5947"/>
                  <a:pt x="17878" y="5975"/>
                  <a:pt x="17934" y="5978"/>
                </a:cubicBezTo>
                <a:cubicBezTo>
                  <a:pt x="17990" y="5981"/>
                  <a:pt x="18043" y="5934"/>
                  <a:pt x="18058" y="5879"/>
                </a:cubicBezTo>
                <a:cubicBezTo>
                  <a:pt x="18072" y="5826"/>
                  <a:pt x="18065" y="5744"/>
                  <a:pt x="18033" y="5705"/>
                </a:cubicBezTo>
                <a:cubicBezTo>
                  <a:pt x="17980" y="5639"/>
                  <a:pt x="17970" y="5668"/>
                  <a:pt x="17909" y="5680"/>
                </a:cubicBezTo>
                <a:cubicBezTo>
                  <a:pt x="17847" y="5692"/>
                  <a:pt x="17855" y="5685"/>
                  <a:pt x="17810" y="57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2232000"/>
            <a:ext cx="17640" cy="9720"/>
          </a:xfrm>
          <a:custGeom>
            <a:avLst/>
            <a:gdLst/>
            <a:ahLst/>
            <a:rect l="l" t="t" r="r" b="b"/>
            <a:pathLst>
              <a:path w="50" h="26">
                <a:moveTo>
                  <a:pt x="6772" y="6226"/>
                </a:moveTo>
                <a:cubicBezTo>
                  <a:pt x="6792" y="6219"/>
                  <a:pt x="6839" y="6201"/>
                  <a:pt x="6796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3240" y="2438280"/>
            <a:ext cx="349560" cy="633600"/>
          </a:xfrm>
          <a:custGeom>
            <a:avLst/>
            <a:gdLst/>
            <a:ahLst/>
            <a:rect l="l" t="t" r="r" b="b"/>
            <a:pathLst>
              <a:path w="969" h="1762">
                <a:moveTo>
                  <a:pt x="1935" y="7268"/>
                </a:moveTo>
                <a:cubicBezTo>
                  <a:pt x="1950" y="7241"/>
                  <a:pt x="2004" y="7181"/>
                  <a:pt x="1984" y="7144"/>
                </a:cubicBezTo>
                <a:cubicBezTo>
                  <a:pt x="1976" y="7136"/>
                  <a:pt x="1968" y="7127"/>
                  <a:pt x="1960" y="7119"/>
                </a:cubicBezTo>
                <a:cubicBezTo>
                  <a:pt x="1909" y="7119"/>
                  <a:pt x="1879" y="7137"/>
                  <a:pt x="1836" y="7169"/>
                </a:cubicBezTo>
                <a:cubicBezTo>
                  <a:pt x="1795" y="7199"/>
                  <a:pt x="1749" y="7314"/>
                  <a:pt x="1761" y="7367"/>
                </a:cubicBezTo>
                <a:cubicBezTo>
                  <a:pt x="1773" y="7419"/>
                  <a:pt x="1795" y="7431"/>
                  <a:pt x="1836" y="7441"/>
                </a:cubicBezTo>
                <a:cubicBezTo>
                  <a:pt x="1929" y="7423"/>
                  <a:pt x="1908" y="7380"/>
                  <a:pt x="1935" y="7293"/>
                </a:cubicBezTo>
                <a:cubicBezTo>
                  <a:pt x="1970" y="7179"/>
                  <a:pt x="1960" y="7064"/>
                  <a:pt x="1960" y="6945"/>
                </a:cubicBezTo>
                <a:cubicBezTo>
                  <a:pt x="1960" y="6887"/>
                  <a:pt x="1960" y="6862"/>
                  <a:pt x="1960" y="6821"/>
                </a:cubicBezTo>
                <a:cubicBezTo>
                  <a:pt x="1960" y="6745"/>
                  <a:pt x="1960" y="6792"/>
                  <a:pt x="1960" y="6846"/>
                </a:cubicBezTo>
                <a:cubicBezTo>
                  <a:pt x="1960" y="6975"/>
                  <a:pt x="1971" y="7094"/>
                  <a:pt x="1984" y="7218"/>
                </a:cubicBezTo>
                <a:cubicBezTo>
                  <a:pt x="1994" y="7312"/>
                  <a:pt x="2032" y="7353"/>
                  <a:pt x="2059" y="7441"/>
                </a:cubicBezTo>
                <a:cubicBezTo>
                  <a:pt x="2059" y="7449"/>
                  <a:pt x="2059" y="7458"/>
                  <a:pt x="2059" y="7466"/>
                </a:cubicBezTo>
              </a:path>
              <a:path w="969" h="1762">
                <a:moveTo>
                  <a:pt x="2183" y="7268"/>
                </a:moveTo>
                <a:cubicBezTo>
                  <a:pt x="2183" y="7243"/>
                  <a:pt x="2183" y="7235"/>
                  <a:pt x="2208" y="7243"/>
                </a:cubicBezTo>
                <a:cubicBezTo>
                  <a:pt x="2208" y="7307"/>
                  <a:pt x="2218" y="7339"/>
                  <a:pt x="2257" y="7392"/>
                </a:cubicBezTo>
                <a:cubicBezTo>
                  <a:pt x="2286" y="7431"/>
                  <a:pt x="2353" y="7432"/>
                  <a:pt x="2381" y="7392"/>
                </a:cubicBezTo>
                <a:cubicBezTo>
                  <a:pt x="2389" y="7375"/>
                  <a:pt x="2398" y="7359"/>
                  <a:pt x="2406" y="7342"/>
                </a:cubicBezTo>
                <a:cubicBezTo>
                  <a:pt x="2473" y="7375"/>
                  <a:pt x="2475" y="7439"/>
                  <a:pt x="2480" y="7516"/>
                </a:cubicBezTo>
                <a:cubicBezTo>
                  <a:pt x="2480" y="7549"/>
                  <a:pt x="2480" y="7565"/>
                  <a:pt x="2480" y="7590"/>
                </a:cubicBezTo>
                <a:cubicBezTo>
                  <a:pt x="2401" y="7590"/>
                  <a:pt x="2334" y="7606"/>
                  <a:pt x="2257" y="7615"/>
                </a:cubicBezTo>
              </a:path>
              <a:path w="969" h="1762">
                <a:moveTo>
                  <a:pt x="2555" y="7863"/>
                </a:moveTo>
                <a:cubicBezTo>
                  <a:pt x="2563" y="7855"/>
                  <a:pt x="2572" y="7846"/>
                  <a:pt x="2580" y="7838"/>
                </a:cubicBezTo>
                <a:cubicBezTo>
                  <a:pt x="2503" y="7838"/>
                  <a:pt x="2455" y="7862"/>
                  <a:pt x="2381" y="7888"/>
                </a:cubicBezTo>
                <a:cubicBezTo>
                  <a:pt x="2294" y="7919"/>
                  <a:pt x="2199" y="7934"/>
                  <a:pt x="2108" y="7938"/>
                </a:cubicBezTo>
                <a:cubicBezTo>
                  <a:pt x="2055" y="7941"/>
                  <a:pt x="2000" y="7960"/>
                  <a:pt x="1960" y="7987"/>
                </a:cubicBezTo>
                <a:cubicBezTo>
                  <a:pt x="1920" y="8014"/>
                  <a:pt x="1910" y="8012"/>
                  <a:pt x="1860" y="8012"/>
                </a:cubicBezTo>
              </a:path>
              <a:path w="969" h="1762">
                <a:moveTo>
                  <a:pt x="2034" y="8359"/>
                </a:moveTo>
                <a:cubicBezTo>
                  <a:pt x="2083" y="8286"/>
                  <a:pt x="1997" y="8363"/>
                  <a:pt x="1984" y="8384"/>
                </a:cubicBezTo>
                <a:cubicBezTo>
                  <a:pt x="1956" y="8429"/>
                  <a:pt x="1960" y="8458"/>
                  <a:pt x="1960" y="8508"/>
                </a:cubicBezTo>
                <a:cubicBezTo>
                  <a:pt x="2064" y="8548"/>
                  <a:pt x="2083" y="8517"/>
                  <a:pt x="2133" y="8409"/>
                </a:cubicBezTo>
                <a:cubicBezTo>
                  <a:pt x="2170" y="8328"/>
                  <a:pt x="2178" y="8174"/>
                  <a:pt x="2158" y="8086"/>
                </a:cubicBezTo>
                <a:cubicBezTo>
                  <a:pt x="2150" y="8070"/>
                  <a:pt x="2141" y="8053"/>
                  <a:pt x="2133" y="8037"/>
                </a:cubicBezTo>
                <a:cubicBezTo>
                  <a:pt x="2092" y="8064"/>
                  <a:pt x="2108" y="8146"/>
                  <a:pt x="2108" y="8210"/>
                </a:cubicBezTo>
                <a:cubicBezTo>
                  <a:pt x="2108" y="8318"/>
                  <a:pt x="2145" y="8375"/>
                  <a:pt x="2208" y="8458"/>
                </a:cubicBezTo>
                <a:cubicBezTo>
                  <a:pt x="2216" y="8466"/>
                  <a:pt x="2224" y="8475"/>
                  <a:pt x="2232" y="8483"/>
                </a:cubicBezTo>
              </a:path>
              <a:path w="969" h="1762">
                <a:moveTo>
                  <a:pt x="2332" y="8359"/>
                </a:moveTo>
                <a:cubicBezTo>
                  <a:pt x="2369" y="8346"/>
                  <a:pt x="2369" y="8325"/>
                  <a:pt x="2431" y="8310"/>
                </a:cubicBezTo>
                <a:cubicBezTo>
                  <a:pt x="2497" y="8294"/>
                  <a:pt x="2552" y="8299"/>
                  <a:pt x="2580" y="8359"/>
                </a:cubicBezTo>
                <a:cubicBezTo>
                  <a:pt x="2618" y="8441"/>
                  <a:pt x="2626" y="8522"/>
                  <a:pt x="2530" y="8533"/>
                </a:cubicBezTo>
                <a:cubicBezTo>
                  <a:pt x="2471" y="8533"/>
                  <a:pt x="2445" y="8530"/>
                  <a:pt x="2406" y="8508"/>
                </a:cubicBezTo>
              </a:path>
              <a:path w="969" h="1762">
                <a:moveTo>
                  <a:pt x="2530" y="8310"/>
                </a:moveTo>
                <a:cubicBezTo>
                  <a:pt x="2555" y="8293"/>
                  <a:pt x="2579" y="8277"/>
                  <a:pt x="2604" y="8260"/>
                </a:cubicBezTo>
                <a:cubicBezTo>
                  <a:pt x="2604" y="8322"/>
                  <a:pt x="2588" y="8387"/>
                  <a:pt x="2629" y="8434"/>
                </a:cubicBezTo>
                <a:cubicBezTo>
                  <a:pt x="2674" y="8478"/>
                  <a:pt x="2684" y="8495"/>
                  <a:pt x="2729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04920" y="2751120"/>
            <a:ext cx="63360" cy="71280"/>
          </a:xfrm>
          <a:custGeom>
            <a:avLst/>
            <a:gdLst/>
            <a:ahLst/>
            <a:rect l="l" t="t" r="r" b="b"/>
            <a:pathLst>
              <a:path w="174" h="199">
                <a:moveTo>
                  <a:pt x="3497" y="7640"/>
                </a:moveTo>
                <a:cubicBezTo>
                  <a:pt x="3439" y="7640"/>
                  <a:pt x="3394" y="7630"/>
                  <a:pt x="3349" y="7665"/>
                </a:cubicBezTo>
              </a:path>
              <a:path w="174" h="199">
                <a:moveTo>
                  <a:pt x="3497" y="7764"/>
                </a:moveTo>
                <a:cubicBezTo>
                  <a:pt x="3505" y="7764"/>
                  <a:pt x="3514" y="7764"/>
                  <a:pt x="3522" y="7764"/>
                </a:cubicBezTo>
                <a:cubicBezTo>
                  <a:pt x="3483" y="7788"/>
                  <a:pt x="3434" y="7789"/>
                  <a:pt x="3398" y="7813"/>
                </a:cubicBezTo>
                <a:cubicBezTo>
                  <a:pt x="3390" y="7821"/>
                  <a:pt x="3381" y="7830"/>
                  <a:pt x="3373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55840" y="2652840"/>
            <a:ext cx="874440" cy="214200"/>
          </a:xfrm>
          <a:custGeom>
            <a:avLst/>
            <a:gdLst/>
            <a:ahLst/>
            <a:rect l="l" t="t" r="r" b="b"/>
            <a:pathLst>
              <a:path w="2432" h="596">
                <a:moveTo>
                  <a:pt x="4043" y="7516"/>
                </a:moveTo>
                <a:cubicBezTo>
                  <a:pt x="4051" y="7508"/>
                  <a:pt x="4060" y="7499"/>
                  <a:pt x="4068" y="7491"/>
                </a:cubicBezTo>
                <a:cubicBezTo>
                  <a:pt x="4068" y="7611"/>
                  <a:pt x="4078" y="7722"/>
                  <a:pt x="4093" y="7838"/>
                </a:cubicBezTo>
                <a:cubicBezTo>
                  <a:pt x="4093" y="7890"/>
                  <a:pt x="4094" y="7908"/>
                  <a:pt x="4118" y="7938"/>
                </a:cubicBezTo>
              </a:path>
              <a:path w="2432" h="596">
                <a:moveTo>
                  <a:pt x="4366" y="7615"/>
                </a:moveTo>
                <a:cubicBezTo>
                  <a:pt x="4345" y="7587"/>
                  <a:pt x="4315" y="7542"/>
                  <a:pt x="4366" y="7516"/>
                </a:cubicBezTo>
                <a:cubicBezTo>
                  <a:pt x="4411" y="7493"/>
                  <a:pt x="4469" y="7506"/>
                  <a:pt x="4514" y="7491"/>
                </a:cubicBezTo>
                <a:cubicBezTo>
                  <a:pt x="4531" y="7483"/>
                  <a:pt x="4547" y="7474"/>
                  <a:pt x="4564" y="7466"/>
                </a:cubicBezTo>
                <a:cubicBezTo>
                  <a:pt x="4597" y="7511"/>
                  <a:pt x="4627" y="7550"/>
                  <a:pt x="4614" y="7615"/>
                </a:cubicBezTo>
                <a:cubicBezTo>
                  <a:pt x="4602" y="7674"/>
                  <a:pt x="4558" y="7757"/>
                  <a:pt x="4539" y="7813"/>
                </a:cubicBezTo>
                <a:cubicBezTo>
                  <a:pt x="4522" y="7865"/>
                  <a:pt x="4514" y="7864"/>
                  <a:pt x="4514" y="7913"/>
                </a:cubicBezTo>
                <a:cubicBezTo>
                  <a:pt x="4597" y="7913"/>
                  <a:pt x="4724" y="7938"/>
                  <a:pt x="4787" y="7888"/>
                </a:cubicBezTo>
                <a:cubicBezTo>
                  <a:pt x="4812" y="7863"/>
                  <a:pt x="4820" y="7855"/>
                  <a:pt x="4837" y="7838"/>
                </a:cubicBezTo>
              </a:path>
              <a:path w="2432" h="596">
                <a:moveTo>
                  <a:pt x="5011" y="7764"/>
                </a:moveTo>
                <a:cubicBezTo>
                  <a:pt x="5011" y="7722"/>
                  <a:pt x="5017" y="7713"/>
                  <a:pt x="5035" y="7689"/>
                </a:cubicBezTo>
                <a:cubicBezTo>
                  <a:pt x="5056" y="7661"/>
                  <a:pt x="5126" y="7652"/>
                  <a:pt x="5159" y="7665"/>
                </a:cubicBezTo>
                <a:cubicBezTo>
                  <a:pt x="5214" y="7687"/>
                  <a:pt x="5230" y="7790"/>
                  <a:pt x="5234" y="7838"/>
                </a:cubicBezTo>
                <a:cubicBezTo>
                  <a:pt x="5241" y="7929"/>
                  <a:pt x="5184" y="7914"/>
                  <a:pt x="5135" y="7938"/>
                </a:cubicBezTo>
                <a:cubicBezTo>
                  <a:pt x="5127" y="7946"/>
                  <a:pt x="5118" y="7954"/>
                  <a:pt x="5110" y="7962"/>
                </a:cubicBezTo>
              </a:path>
              <a:path w="2432" h="596">
                <a:moveTo>
                  <a:pt x="5308" y="7640"/>
                </a:moveTo>
                <a:cubicBezTo>
                  <a:pt x="5308" y="7623"/>
                  <a:pt x="5308" y="7607"/>
                  <a:pt x="5308" y="7590"/>
                </a:cubicBezTo>
                <a:cubicBezTo>
                  <a:pt x="5279" y="7667"/>
                  <a:pt x="5283" y="7728"/>
                  <a:pt x="5283" y="7813"/>
                </a:cubicBezTo>
                <a:cubicBezTo>
                  <a:pt x="5283" y="7870"/>
                  <a:pt x="5312" y="7930"/>
                  <a:pt x="5383" y="7913"/>
                </a:cubicBezTo>
                <a:cubicBezTo>
                  <a:pt x="5421" y="7904"/>
                  <a:pt x="5473" y="7857"/>
                  <a:pt x="5507" y="7838"/>
                </a:cubicBezTo>
              </a:path>
              <a:path w="2432" h="596">
                <a:moveTo>
                  <a:pt x="5655" y="7392"/>
                </a:moveTo>
                <a:cubicBezTo>
                  <a:pt x="5631" y="7392"/>
                  <a:pt x="5623" y="7392"/>
                  <a:pt x="5631" y="7417"/>
                </a:cubicBezTo>
                <a:cubicBezTo>
                  <a:pt x="5664" y="7406"/>
                  <a:pt x="5662" y="7381"/>
                  <a:pt x="5705" y="7367"/>
                </a:cubicBezTo>
                <a:cubicBezTo>
                  <a:pt x="5731" y="7358"/>
                  <a:pt x="5776" y="7367"/>
                  <a:pt x="5804" y="7367"/>
                </a:cubicBezTo>
                <a:cubicBezTo>
                  <a:pt x="5804" y="7395"/>
                  <a:pt x="5792" y="7475"/>
                  <a:pt x="5779" y="7491"/>
                </a:cubicBezTo>
                <a:cubicBezTo>
                  <a:pt x="5770" y="7502"/>
                  <a:pt x="5720" y="7536"/>
                  <a:pt x="5779" y="7565"/>
                </a:cubicBezTo>
                <a:cubicBezTo>
                  <a:pt x="5823" y="7587"/>
                  <a:pt x="5834" y="7542"/>
                  <a:pt x="5854" y="7516"/>
                </a:cubicBezTo>
              </a:path>
              <a:path w="2432" h="596">
                <a:moveTo>
                  <a:pt x="6474" y="7590"/>
                </a:moveTo>
                <a:cubicBezTo>
                  <a:pt x="6474" y="7582"/>
                  <a:pt x="6474" y="7573"/>
                  <a:pt x="6474" y="7565"/>
                </a:cubicBezTo>
                <a:cubicBezTo>
                  <a:pt x="6426" y="7577"/>
                  <a:pt x="6378" y="7606"/>
                  <a:pt x="6325" y="7615"/>
                </a:cubicBezTo>
                <a:cubicBezTo>
                  <a:pt x="6278" y="7623"/>
                  <a:pt x="6224" y="7615"/>
                  <a:pt x="6176" y="7615"/>
                </a:cubicBezTo>
              </a:path>
              <a:path w="2432" h="596">
                <a:moveTo>
                  <a:pt x="6300" y="7491"/>
                </a:moveTo>
                <a:cubicBezTo>
                  <a:pt x="6313" y="7544"/>
                  <a:pt x="6325" y="7576"/>
                  <a:pt x="6325" y="7640"/>
                </a:cubicBezTo>
                <a:cubicBezTo>
                  <a:pt x="6325" y="7691"/>
                  <a:pt x="6326" y="7710"/>
                  <a:pt x="6350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63840" y="2581200"/>
            <a:ext cx="260280" cy="25884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6945" y="7466"/>
                </a:moveTo>
                <a:cubicBezTo>
                  <a:pt x="6918" y="7448"/>
                  <a:pt x="6861" y="7421"/>
                  <a:pt x="6846" y="7392"/>
                </a:cubicBezTo>
                <a:cubicBezTo>
                  <a:pt x="6828" y="7355"/>
                  <a:pt x="6852" y="7271"/>
                  <a:pt x="6871" y="7243"/>
                </a:cubicBezTo>
                <a:cubicBezTo>
                  <a:pt x="6892" y="7212"/>
                  <a:pt x="6954" y="7153"/>
                  <a:pt x="6995" y="7169"/>
                </a:cubicBezTo>
                <a:cubicBezTo>
                  <a:pt x="7064" y="7196"/>
                  <a:pt x="7108" y="7269"/>
                  <a:pt x="7119" y="7342"/>
                </a:cubicBezTo>
                <a:cubicBezTo>
                  <a:pt x="7141" y="7482"/>
                  <a:pt x="7113" y="7630"/>
                  <a:pt x="7094" y="7764"/>
                </a:cubicBezTo>
                <a:cubicBezTo>
                  <a:pt x="7090" y="7794"/>
                  <a:pt x="7094" y="7832"/>
                  <a:pt x="7094" y="7863"/>
                </a:cubicBezTo>
                <a:cubicBezTo>
                  <a:pt x="7138" y="7881"/>
                  <a:pt x="7191" y="7873"/>
                  <a:pt x="7243" y="7838"/>
                </a:cubicBezTo>
                <a:cubicBezTo>
                  <a:pt x="7299" y="7800"/>
                  <a:pt x="7322" y="7789"/>
                  <a:pt x="7392" y="7789"/>
                </a:cubicBezTo>
                <a:cubicBezTo>
                  <a:pt x="7448" y="7789"/>
                  <a:pt x="7485" y="7764"/>
                  <a:pt x="7541" y="7764"/>
                </a:cubicBezTo>
                <a:cubicBezTo>
                  <a:pt x="7549" y="7764"/>
                  <a:pt x="7557" y="7764"/>
                  <a:pt x="7565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1040" y="3411360"/>
            <a:ext cx="615960" cy="223920"/>
          </a:xfrm>
          <a:custGeom>
            <a:avLst/>
            <a:gdLst/>
            <a:ahLst/>
            <a:rect l="l" t="t" r="r" b="b"/>
            <a:pathLst>
              <a:path w="1713" h="622">
                <a:moveTo>
                  <a:pt x="1612" y="9699"/>
                </a:moveTo>
                <a:cubicBezTo>
                  <a:pt x="1667" y="9699"/>
                  <a:pt x="1775" y="9677"/>
                  <a:pt x="1811" y="9723"/>
                </a:cubicBezTo>
                <a:cubicBezTo>
                  <a:pt x="1849" y="9772"/>
                  <a:pt x="1877" y="9833"/>
                  <a:pt x="1860" y="9897"/>
                </a:cubicBezTo>
                <a:cubicBezTo>
                  <a:pt x="1847" y="9945"/>
                  <a:pt x="1782" y="10009"/>
                  <a:pt x="1736" y="10021"/>
                </a:cubicBezTo>
                <a:cubicBezTo>
                  <a:pt x="1720" y="10021"/>
                  <a:pt x="1703" y="10021"/>
                  <a:pt x="1687" y="10021"/>
                </a:cubicBezTo>
              </a:path>
              <a:path w="1713" h="622">
                <a:moveTo>
                  <a:pt x="1984" y="9649"/>
                </a:moveTo>
                <a:cubicBezTo>
                  <a:pt x="2041" y="9611"/>
                  <a:pt x="2066" y="9573"/>
                  <a:pt x="2059" y="9624"/>
                </a:cubicBezTo>
                <a:cubicBezTo>
                  <a:pt x="2046" y="9675"/>
                  <a:pt x="1996" y="9717"/>
                  <a:pt x="1984" y="9773"/>
                </a:cubicBezTo>
                <a:cubicBezTo>
                  <a:pt x="1963" y="9867"/>
                  <a:pt x="2028" y="9922"/>
                  <a:pt x="2108" y="9947"/>
                </a:cubicBezTo>
                <a:cubicBezTo>
                  <a:pt x="2143" y="9947"/>
                  <a:pt x="2161" y="9942"/>
                  <a:pt x="2183" y="9922"/>
                </a:cubicBezTo>
              </a:path>
              <a:path w="1713" h="622">
                <a:moveTo>
                  <a:pt x="2629" y="9674"/>
                </a:moveTo>
                <a:cubicBezTo>
                  <a:pt x="2637" y="9666"/>
                  <a:pt x="2646" y="9657"/>
                  <a:pt x="2654" y="9649"/>
                </a:cubicBezTo>
                <a:cubicBezTo>
                  <a:pt x="2608" y="9660"/>
                  <a:pt x="2553" y="9683"/>
                  <a:pt x="2505" y="9699"/>
                </a:cubicBezTo>
                <a:cubicBezTo>
                  <a:pt x="2458" y="9714"/>
                  <a:pt x="2418" y="9743"/>
                  <a:pt x="2381" y="9773"/>
                </a:cubicBezTo>
              </a:path>
              <a:path w="1713" h="622">
                <a:moveTo>
                  <a:pt x="2555" y="9798"/>
                </a:moveTo>
                <a:cubicBezTo>
                  <a:pt x="2631" y="9806"/>
                  <a:pt x="2637" y="9782"/>
                  <a:pt x="2654" y="9847"/>
                </a:cubicBezTo>
                <a:cubicBezTo>
                  <a:pt x="2590" y="9856"/>
                  <a:pt x="2546" y="9881"/>
                  <a:pt x="2480" y="9897"/>
                </a:cubicBezTo>
                <a:cubicBezTo>
                  <a:pt x="2472" y="9897"/>
                  <a:pt x="2464" y="9897"/>
                  <a:pt x="2456" y="9897"/>
                </a:cubicBezTo>
              </a:path>
              <a:path w="1713" h="622">
                <a:moveTo>
                  <a:pt x="2853" y="9550"/>
                </a:moveTo>
                <a:cubicBezTo>
                  <a:pt x="2874" y="9506"/>
                  <a:pt x="2877" y="9494"/>
                  <a:pt x="2902" y="9475"/>
                </a:cubicBezTo>
                <a:cubicBezTo>
                  <a:pt x="2902" y="9549"/>
                  <a:pt x="2904" y="9604"/>
                  <a:pt x="2927" y="9674"/>
                </a:cubicBezTo>
                <a:cubicBezTo>
                  <a:pt x="2952" y="9748"/>
                  <a:pt x="2962" y="9823"/>
                  <a:pt x="2977" y="9897"/>
                </a:cubicBezTo>
              </a:path>
              <a:path w="1713" h="622">
                <a:moveTo>
                  <a:pt x="3299" y="9872"/>
                </a:moveTo>
                <a:cubicBezTo>
                  <a:pt x="3330" y="9944"/>
                  <a:pt x="3332" y="9972"/>
                  <a:pt x="3299" y="10046"/>
                </a:cubicBezTo>
                <a:cubicBezTo>
                  <a:pt x="3291" y="10063"/>
                  <a:pt x="3282" y="10079"/>
                  <a:pt x="3274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71760" y="3259080"/>
            <a:ext cx="295200" cy="500040"/>
          </a:xfrm>
          <a:custGeom>
            <a:avLst/>
            <a:gdLst/>
            <a:ahLst/>
            <a:rect l="l" t="t" r="r" b="b"/>
            <a:pathLst>
              <a:path w="819" h="1390">
                <a:moveTo>
                  <a:pt x="4440" y="9475"/>
                </a:moveTo>
                <a:cubicBezTo>
                  <a:pt x="4457" y="9475"/>
                  <a:pt x="4473" y="9475"/>
                  <a:pt x="4490" y="9475"/>
                </a:cubicBezTo>
                <a:cubicBezTo>
                  <a:pt x="4474" y="9430"/>
                  <a:pt x="4440" y="9461"/>
                  <a:pt x="4415" y="9500"/>
                </a:cubicBezTo>
                <a:cubicBezTo>
                  <a:pt x="4373" y="9566"/>
                  <a:pt x="4353" y="9610"/>
                  <a:pt x="4390" y="9674"/>
                </a:cubicBezTo>
                <a:cubicBezTo>
                  <a:pt x="4499" y="9660"/>
                  <a:pt x="4525" y="9619"/>
                  <a:pt x="4539" y="9500"/>
                </a:cubicBezTo>
                <a:cubicBezTo>
                  <a:pt x="4555" y="9361"/>
                  <a:pt x="4557" y="9183"/>
                  <a:pt x="4514" y="9054"/>
                </a:cubicBezTo>
                <a:cubicBezTo>
                  <a:pt x="4514" y="9144"/>
                  <a:pt x="4517" y="9215"/>
                  <a:pt x="4539" y="9302"/>
                </a:cubicBezTo>
                <a:cubicBezTo>
                  <a:pt x="4562" y="9393"/>
                  <a:pt x="4609" y="9468"/>
                  <a:pt x="4638" y="9550"/>
                </a:cubicBezTo>
                <a:cubicBezTo>
                  <a:pt x="4638" y="9558"/>
                  <a:pt x="4638" y="9567"/>
                  <a:pt x="4638" y="9575"/>
                </a:cubicBezTo>
              </a:path>
              <a:path w="819" h="1390">
                <a:moveTo>
                  <a:pt x="4762" y="9426"/>
                </a:moveTo>
                <a:cubicBezTo>
                  <a:pt x="4776" y="9481"/>
                  <a:pt x="4820" y="9487"/>
                  <a:pt x="4862" y="9525"/>
                </a:cubicBezTo>
                <a:cubicBezTo>
                  <a:pt x="4870" y="9533"/>
                  <a:pt x="4879" y="9542"/>
                  <a:pt x="4887" y="9550"/>
                </a:cubicBezTo>
                <a:cubicBezTo>
                  <a:pt x="4916" y="9510"/>
                  <a:pt x="4911" y="9461"/>
                  <a:pt x="4961" y="9500"/>
                </a:cubicBezTo>
                <a:cubicBezTo>
                  <a:pt x="5013" y="9540"/>
                  <a:pt x="5011" y="9590"/>
                  <a:pt x="5011" y="9649"/>
                </a:cubicBezTo>
                <a:cubicBezTo>
                  <a:pt x="4947" y="9649"/>
                  <a:pt x="4872" y="9643"/>
                  <a:pt x="4812" y="9624"/>
                </a:cubicBezTo>
                <a:cubicBezTo>
                  <a:pt x="4772" y="9604"/>
                  <a:pt x="4765" y="9595"/>
                  <a:pt x="4738" y="9599"/>
                </a:cubicBezTo>
              </a:path>
              <a:path w="819" h="1390">
                <a:moveTo>
                  <a:pt x="5085" y="9723"/>
                </a:moveTo>
                <a:cubicBezTo>
                  <a:pt x="5127" y="9723"/>
                  <a:pt x="5143" y="9715"/>
                  <a:pt x="5135" y="9748"/>
                </a:cubicBezTo>
                <a:cubicBezTo>
                  <a:pt x="5081" y="9780"/>
                  <a:pt x="4978" y="9792"/>
                  <a:pt x="4911" y="9798"/>
                </a:cubicBezTo>
                <a:cubicBezTo>
                  <a:pt x="4781" y="9810"/>
                  <a:pt x="4645" y="9798"/>
                  <a:pt x="4514" y="9798"/>
                </a:cubicBezTo>
              </a:path>
              <a:path w="819" h="1390">
                <a:moveTo>
                  <a:pt x="4564" y="10244"/>
                </a:moveTo>
                <a:cubicBezTo>
                  <a:pt x="4564" y="10220"/>
                  <a:pt x="4564" y="10211"/>
                  <a:pt x="4564" y="10195"/>
                </a:cubicBezTo>
                <a:cubicBezTo>
                  <a:pt x="4514" y="10245"/>
                  <a:pt x="4494" y="10271"/>
                  <a:pt x="4490" y="10344"/>
                </a:cubicBezTo>
                <a:cubicBezTo>
                  <a:pt x="4490" y="10388"/>
                  <a:pt x="4487" y="10401"/>
                  <a:pt x="4514" y="10418"/>
                </a:cubicBezTo>
                <a:cubicBezTo>
                  <a:pt x="4616" y="10403"/>
                  <a:pt x="4611" y="10345"/>
                  <a:pt x="4614" y="10244"/>
                </a:cubicBezTo>
                <a:cubicBezTo>
                  <a:pt x="4617" y="10144"/>
                  <a:pt x="4605" y="10066"/>
                  <a:pt x="4589" y="9971"/>
                </a:cubicBezTo>
                <a:cubicBezTo>
                  <a:pt x="4589" y="10083"/>
                  <a:pt x="4597" y="10120"/>
                  <a:pt x="4638" y="10220"/>
                </a:cubicBezTo>
                <a:cubicBezTo>
                  <a:pt x="4671" y="10302"/>
                  <a:pt x="4700" y="10331"/>
                  <a:pt x="4762" y="10393"/>
                </a:cubicBezTo>
              </a:path>
              <a:path w="819" h="1390">
                <a:moveTo>
                  <a:pt x="4862" y="10294"/>
                </a:moveTo>
                <a:cubicBezTo>
                  <a:pt x="4863" y="10284"/>
                  <a:pt x="4890" y="10164"/>
                  <a:pt x="4936" y="10220"/>
                </a:cubicBezTo>
                <a:cubicBezTo>
                  <a:pt x="4965" y="10255"/>
                  <a:pt x="4982" y="10319"/>
                  <a:pt x="4986" y="10368"/>
                </a:cubicBezTo>
                <a:cubicBezTo>
                  <a:pt x="4990" y="10414"/>
                  <a:pt x="4946" y="10434"/>
                  <a:pt x="4911" y="10443"/>
                </a:cubicBezTo>
              </a:path>
              <a:path w="819" h="1390">
                <a:moveTo>
                  <a:pt x="4986" y="10220"/>
                </a:moveTo>
                <a:cubicBezTo>
                  <a:pt x="4986" y="10161"/>
                  <a:pt x="5008" y="10280"/>
                  <a:pt x="5011" y="10294"/>
                </a:cubicBezTo>
                <a:cubicBezTo>
                  <a:pt x="5020" y="10340"/>
                  <a:pt x="5032" y="10414"/>
                  <a:pt x="5110" y="10393"/>
                </a:cubicBezTo>
                <a:cubicBezTo>
                  <a:pt x="5153" y="10371"/>
                  <a:pt x="5164" y="10367"/>
                  <a:pt x="5184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89080" y="3490920"/>
            <a:ext cx="54000" cy="5400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5928" y="9699"/>
                </a:moveTo>
                <a:cubicBezTo>
                  <a:pt x="5936" y="9699"/>
                  <a:pt x="5945" y="9699"/>
                  <a:pt x="5953" y="9699"/>
                </a:cubicBezTo>
                <a:cubicBezTo>
                  <a:pt x="5943" y="9727"/>
                  <a:pt x="5919" y="9744"/>
                  <a:pt x="5879" y="9748"/>
                </a:cubicBezTo>
                <a:cubicBezTo>
                  <a:pt x="5834" y="9753"/>
                  <a:pt x="5843" y="9744"/>
                  <a:pt x="5804" y="9773"/>
                </a:cubicBezTo>
              </a:path>
              <a:path w="150" h="149">
                <a:moveTo>
                  <a:pt x="5928" y="9773"/>
                </a:moveTo>
                <a:cubicBezTo>
                  <a:pt x="5971" y="9830"/>
                  <a:pt x="5945" y="9834"/>
                  <a:pt x="5879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03640" y="3429000"/>
            <a:ext cx="277560" cy="16992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6424" y="9575"/>
                </a:moveTo>
                <a:cubicBezTo>
                  <a:pt x="6424" y="9533"/>
                  <a:pt x="6434" y="9537"/>
                  <a:pt x="6400" y="9525"/>
                </a:cubicBezTo>
                <a:cubicBezTo>
                  <a:pt x="6414" y="9582"/>
                  <a:pt x="6412" y="9635"/>
                  <a:pt x="6424" y="9699"/>
                </a:cubicBezTo>
                <a:cubicBezTo>
                  <a:pt x="6441" y="9784"/>
                  <a:pt x="6463" y="9862"/>
                  <a:pt x="6474" y="9947"/>
                </a:cubicBezTo>
              </a:path>
              <a:path w="770" h="472">
                <a:moveTo>
                  <a:pt x="6623" y="9550"/>
                </a:moveTo>
                <a:cubicBezTo>
                  <a:pt x="6631" y="9542"/>
                  <a:pt x="6640" y="9533"/>
                  <a:pt x="6648" y="9525"/>
                </a:cubicBezTo>
                <a:cubicBezTo>
                  <a:pt x="6680" y="9580"/>
                  <a:pt x="6672" y="9632"/>
                  <a:pt x="6672" y="9699"/>
                </a:cubicBezTo>
                <a:cubicBezTo>
                  <a:pt x="6672" y="9760"/>
                  <a:pt x="6693" y="9812"/>
                  <a:pt x="6747" y="9847"/>
                </a:cubicBezTo>
                <a:cubicBezTo>
                  <a:pt x="6809" y="9887"/>
                  <a:pt x="6881" y="9868"/>
                  <a:pt x="6945" y="9847"/>
                </a:cubicBezTo>
                <a:cubicBezTo>
                  <a:pt x="6996" y="9830"/>
                  <a:pt x="7046" y="9803"/>
                  <a:pt x="7094" y="9798"/>
                </a:cubicBezTo>
                <a:cubicBezTo>
                  <a:pt x="7137" y="9793"/>
                  <a:pt x="7165" y="9769"/>
                  <a:pt x="7169" y="9798"/>
                </a:cubicBezTo>
                <a:cubicBezTo>
                  <a:pt x="7169" y="9806"/>
                  <a:pt x="7169" y="9815"/>
                  <a:pt x="7169" y="9823"/>
                </a:cubicBezTo>
              </a:path>
              <a:path w="770" h="472">
                <a:moveTo>
                  <a:pt x="6921" y="9699"/>
                </a:moveTo>
                <a:cubicBezTo>
                  <a:pt x="6880" y="9712"/>
                  <a:pt x="6896" y="9747"/>
                  <a:pt x="6896" y="9798"/>
                </a:cubicBezTo>
                <a:cubicBezTo>
                  <a:pt x="6896" y="9868"/>
                  <a:pt x="6934" y="9926"/>
                  <a:pt x="6945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3581280"/>
            <a:ext cx="1800" cy="17640"/>
          </a:xfrm>
          <a:custGeom>
            <a:avLst/>
            <a:gdLst/>
            <a:ahLst/>
            <a:rect l="l" t="t" r="r" b="b"/>
            <a:pathLst>
              <a:path w="1" h="50">
                <a:moveTo>
                  <a:pt x="7491" y="9947"/>
                </a:moveTo>
                <a:cubicBezTo>
                  <a:pt x="7491" y="9971"/>
                  <a:pt x="7491" y="9980"/>
                  <a:pt x="7491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680" y="4000680"/>
            <a:ext cx="277560" cy="223560"/>
          </a:xfrm>
          <a:custGeom>
            <a:avLst/>
            <a:gdLst/>
            <a:ahLst/>
            <a:rect l="l" t="t" r="r" b="b"/>
            <a:pathLst>
              <a:path w="769" h="622">
                <a:moveTo>
                  <a:pt x="1588" y="11212"/>
                </a:moveTo>
                <a:cubicBezTo>
                  <a:pt x="1588" y="11142"/>
                  <a:pt x="1612" y="11334"/>
                  <a:pt x="1612" y="11336"/>
                </a:cubicBezTo>
                <a:cubicBezTo>
                  <a:pt x="1622" y="11430"/>
                  <a:pt x="1648" y="11520"/>
                  <a:pt x="1662" y="11609"/>
                </a:cubicBezTo>
                <a:cubicBezTo>
                  <a:pt x="1662" y="11625"/>
                  <a:pt x="1662" y="11642"/>
                  <a:pt x="1662" y="11658"/>
                </a:cubicBezTo>
              </a:path>
              <a:path w="769" h="622">
                <a:moveTo>
                  <a:pt x="1836" y="11137"/>
                </a:moveTo>
                <a:cubicBezTo>
                  <a:pt x="1852" y="11129"/>
                  <a:pt x="1869" y="11120"/>
                  <a:pt x="1885" y="11112"/>
                </a:cubicBezTo>
                <a:cubicBezTo>
                  <a:pt x="1836" y="11124"/>
                  <a:pt x="1788" y="11139"/>
                  <a:pt x="1736" y="11162"/>
                </a:cubicBezTo>
                <a:cubicBezTo>
                  <a:pt x="1686" y="11185"/>
                  <a:pt x="1637" y="11212"/>
                  <a:pt x="1588" y="11237"/>
                </a:cubicBezTo>
              </a:path>
              <a:path w="769" h="622">
                <a:moveTo>
                  <a:pt x="1736" y="11336"/>
                </a:moveTo>
                <a:cubicBezTo>
                  <a:pt x="1767" y="11348"/>
                  <a:pt x="1873" y="11369"/>
                  <a:pt x="1836" y="11435"/>
                </a:cubicBezTo>
                <a:cubicBezTo>
                  <a:pt x="1796" y="11508"/>
                  <a:pt x="1747" y="11463"/>
                  <a:pt x="1687" y="11485"/>
                </a:cubicBezTo>
                <a:cubicBezTo>
                  <a:pt x="1664" y="11507"/>
                  <a:pt x="1659" y="11515"/>
                  <a:pt x="1637" y="11509"/>
                </a:cubicBezTo>
              </a:path>
              <a:path w="769" h="622">
                <a:moveTo>
                  <a:pt x="2034" y="11559"/>
                </a:moveTo>
                <a:cubicBezTo>
                  <a:pt x="1999" y="11585"/>
                  <a:pt x="2003" y="11584"/>
                  <a:pt x="1960" y="11584"/>
                </a:cubicBezTo>
                <a:cubicBezTo>
                  <a:pt x="1960" y="11556"/>
                  <a:pt x="1946" y="11496"/>
                  <a:pt x="1984" y="11485"/>
                </a:cubicBezTo>
                <a:cubicBezTo>
                  <a:pt x="2062" y="11461"/>
                  <a:pt x="2104" y="11529"/>
                  <a:pt x="2133" y="11584"/>
                </a:cubicBezTo>
                <a:cubicBezTo>
                  <a:pt x="2153" y="11621"/>
                  <a:pt x="2188" y="11705"/>
                  <a:pt x="2133" y="11733"/>
                </a:cubicBezTo>
                <a:cubicBezTo>
                  <a:pt x="2080" y="11759"/>
                  <a:pt x="2041" y="11715"/>
                  <a:pt x="2009" y="11683"/>
                </a:cubicBezTo>
                <a:cubicBezTo>
                  <a:pt x="2001" y="11675"/>
                  <a:pt x="1992" y="11666"/>
                  <a:pt x="1984" y="11658"/>
                </a:cubicBezTo>
              </a:path>
              <a:path w="769" h="622">
                <a:moveTo>
                  <a:pt x="2183" y="11584"/>
                </a:moveTo>
                <a:cubicBezTo>
                  <a:pt x="2224" y="11584"/>
                  <a:pt x="2232" y="11584"/>
                  <a:pt x="2257" y="11584"/>
                </a:cubicBezTo>
                <a:cubicBezTo>
                  <a:pt x="2257" y="11551"/>
                  <a:pt x="2262" y="11478"/>
                  <a:pt x="2282" y="11460"/>
                </a:cubicBezTo>
                <a:cubicBezTo>
                  <a:pt x="2326" y="11438"/>
                  <a:pt x="2337" y="11435"/>
                  <a:pt x="2356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77920" y="4010040"/>
            <a:ext cx="841320" cy="222120"/>
          </a:xfrm>
          <a:custGeom>
            <a:avLst/>
            <a:gdLst/>
            <a:ahLst/>
            <a:rect l="l" t="t" r="r" b="b"/>
            <a:pathLst>
              <a:path w="2333" h="621">
                <a:moveTo>
                  <a:pt x="3299" y="11559"/>
                </a:moveTo>
                <a:cubicBezTo>
                  <a:pt x="3299" y="11534"/>
                  <a:pt x="3299" y="11526"/>
                  <a:pt x="3274" y="11534"/>
                </a:cubicBezTo>
                <a:cubicBezTo>
                  <a:pt x="3274" y="11601"/>
                  <a:pt x="3289" y="11647"/>
                  <a:pt x="3299" y="11708"/>
                </a:cubicBezTo>
                <a:cubicBezTo>
                  <a:pt x="3299" y="11724"/>
                  <a:pt x="3299" y="11741"/>
                  <a:pt x="3299" y="11757"/>
                </a:cubicBezTo>
                <a:cubicBezTo>
                  <a:pt x="3373" y="11721"/>
                  <a:pt x="3355" y="11660"/>
                  <a:pt x="3373" y="11584"/>
                </a:cubicBezTo>
                <a:cubicBezTo>
                  <a:pt x="3386" y="11526"/>
                  <a:pt x="3408" y="11442"/>
                  <a:pt x="3473" y="11435"/>
                </a:cubicBezTo>
                <a:cubicBezTo>
                  <a:pt x="3532" y="11428"/>
                  <a:pt x="3532" y="11497"/>
                  <a:pt x="3547" y="11534"/>
                </a:cubicBezTo>
                <a:cubicBezTo>
                  <a:pt x="3568" y="11586"/>
                  <a:pt x="3562" y="11597"/>
                  <a:pt x="3597" y="11609"/>
                </a:cubicBezTo>
              </a:path>
              <a:path w="2333" h="621">
                <a:moveTo>
                  <a:pt x="3696" y="11435"/>
                </a:moveTo>
                <a:cubicBezTo>
                  <a:pt x="3742" y="11435"/>
                  <a:pt x="3760" y="11429"/>
                  <a:pt x="3795" y="11460"/>
                </a:cubicBezTo>
                <a:cubicBezTo>
                  <a:pt x="3821" y="11483"/>
                  <a:pt x="3841" y="11526"/>
                  <a:pt x="3845" y="11559"/>
                </a:cubicBezTo>
                <a:cubicBezTo>
                  <a:pt x="3851" y="11612"/>
                  <a:pt x="3808" y="11609"/>
                  <a:pt x="3770" y="11609"/>
                </a:cubicBezTo>
                <a:cubicBezTo>
                  <a:pt x="3709" y="11609"/>
                  <a:pt x="3686" y="11619"/>
                  <a:pt x="3671" y="11559"/>
                </a:cubicBezTo>
              </a:path>
              <a:path w="2333" h="621">
                <a:moveTo>
                  <a:pt x="3696" y="11435"/>
                </a:moveTo>
                <a:cubicBezTo>
                  <a:pt x="3812" y="11472"/>
                  <a:pt x="3826" y="11485"/>
                  <a:pt x="3919" y="11485"/>
                </a:cubicBezTo>
                <a:cubicBezTo>
                  <a:pt x="3927" y="11485"/>
                  <a:pt x="3936" y="11485"/>
                  <a:pt x="3944" y="11485"/>
                </a:cubicBezTo>
                <a:cubicBezTo>
                  <a:pt x="3944" y="11420"/>
                  <a:pt x="3931" y="11361"/>
                  <a:pt x="3969" y="11311"/>
                </a:cubicBezTo>
              </a:path>
              <a:path w="2333" h="621">
                <a:moveTo>
                  <a:pt x="4167" y="11361"/>
                </a:moveTo>
                <a:cubicBezTo>
                  <a:pt x="4167" y="11371"/>
                  <a:pt x="4167" y="11577"/>
                  <a:pt x="4167" y="11509"/>
                </a:cubicBezTo>
                <a:cubicBezTo>
                  <a:pt x="4167" y="11464"/>
                  <a:pt x="4165" y="11439"/>
                  <a:pt x="4217" y="11435"/>
                </a:cubicBezTo>
                <a:cubicBezTo>
                  <a:pt x="4237" y="11434"/>
                  <a:pt x="4325" y="11479"/>
                  <a:pt x="4341" y="11460"/>
                </a:cubicBezTo>
                <a:cubicBezTo>
                  <a:pt x="4366" y="11429"/>
                  <a:pt x="4351" y="11398"/>
                  <a:pt x="4390" y="11385"/>
                </a:cubicBezTo>
                <a:cubicBezTo>
                  <a:pt x="4415" y="11403"/>
                  <a:pt x="4452" y="11451"/>
                  <a:pt x="4465" y="11460"/>
                </a:cubicBezTo>
                <a:cubicBezTo>
                  <a:pt x="4476" y="11467"/>
                  <a:pt x="4526" y="11460"/>
                  <a:pt x="4539" y="11460"/>
                </a:cubicBezTo>
              </a:path>
              <a:path w="2333" h="621">
                <a:moveTo>
                  <a:pt x="4663" y="11361"/>
                </a:moveTo>
                <a:cubicBezTo>
                  <a:pt x="4706" y="11361"/>
                  <a:pt x="4642" y="11359"/>
                  <a:pt x="4638" y="11410"/>
                </a:cubicBezTo>
                <a:cubicBezTo>
                  <a:pt x="4634" y="11467"/>
                  <a:pt x="4633" y="11470"/>
                  <a:pt x="4663" y="11509"/>
                </a:cubicBezTo>
                <a:cubicBezTo>
                  <a:pt x="4703" y="11499"/>
                  <a:pt x="4722" y="11468"/>
                  <a:pt x="4738" y="11460"/>
                </a:cubicBezTo>
                <a:cubicBezTo>
                  <a:pt x="4757" y="11450"/>
                  <a:pt x="4840" y="11504"/>
                  <a:pt x="4862" y="11509"/>
                </a:cubicBezTo>
                <a:cubicBezTo>
                  <a:pt x="4957" y="11532"/>
                  <a:pt x="4977" y="11409"/>
                  <a:pt x="5011" y="11361"/>
                </a:cubicBezTo>
                <a:cubicBezTo>
                  <a:pt x="5068" y="11281"/>
                  <a:pt x="5060" y="11236"/>
                  <a:pt x="5060" y="11137"/>
                </a:cubicBezTo>
                <a:cubicBezTo>
                  <a:pt x="5011" y="11170"/>
                  <a:pt x="5039" y="11225"/>
                  <a:pt x="5060" y="11286"/>
                </a:cubicBezTo>
                <a:cubicBezTo>
                  <a:pt x="5099" y="11396"/>
                  <a:pt x="5159" y="11429"/>
                  <a:pt x="5259" y="11485"/>
                </a:cubicBezTo>
              </a:path>
              <a:path w="2333" h="621">
                <a:moveTo>
                  <a:pt x="5556" y="11485"/>
                </a:moveTo>
                <a:cubicBezTo>
                  <a:pt x="5621" y="11527"/>
                  <a:pt x="5616" y="11523"/>
                  <a:pt x="5581" y="11584"/>
                </a:cubicBezTo>
                <a:cubicBezTo>
                  <a:pt x="5573" y="11600"/>
                  <a:pt x="5564" y="11617"/>
                  <a:pt x="5556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1280" y="3983040"/>
            <a:ext cx="463680" cy="384120"/>
          </a:xfrm>
          <a:custGeom>
            <a:avLst/>
            <a:gdLst/>
            <a:ahLst/>
            <a:rect l="l" t="t" r="r" b="b"/>
            <a:pathLst>
              <a:path w="1291" h="1067">
                <a:moveTo>
                  <a:pt x="6846" y="11509"/>
                </a:moveTo>
                <a:cubicBezTo>
                  <a:pt x="6886" y="11457"/>
                  <a:pt x="6859" y="11439"/>
                  <a:pt x="6796" y="11460"/>
                </a:cubicBezTo>
                <a:cubicBezTo>
                  <a:pt x="6745" y="11477"/>
                  <a:pt x="6692" y="11523"/>
                  <a:pt x="6722" y="11584"/>
                </a:cubicBezTo>
                <a:cubicBezTo>
                  <a:pt x="6730" y="11592"/>
                  <a:pt x="6739" y="11601"/>
                  <a:pt x="6747" y="11609"/>
                </a:cubicBezTo>
                <a:cubicBezTo>
                  <a:pt x="6783" y="11588"/>
                  <a:pt x="6851" y="11522"/>
                  <a:pt x="6896" y="11534"/>
                </a:cubicBezTo>
                <a:cubicBezTo>
                  <a:pt x="7021" y="11568"/>
                  <a:pt x="7044" y="11758"/>
                  <a:pt x="7069" y="11857"/>
                </a:cubicBezTo>
                <a:cubicBezTo>
                  <a:pt x="7089" y="11935"/>
                  <a:pt x="7143" y="12093"/>
                  <a:pt x="7045" y="12129"/>
                </a:cubicBezTo>
                <a:cubicBezTo>
                  <a:pt x="6971" y="12156"/>
                  <a:pt x="6833" y="12123"/>
                  <a:pt x="6772" y="12080"/>
                </a:cubicBezTo>
                <a:cubicBezTo>
                  <a:pt x="6687" y="12020"/>
                  <a:pt x="6697" y="11949"/>
                  <a:pt x="6697" y="11857"/>
                </a:cubicBezTo>
              </a:path>
              <a:path w="1291" h="1067">
                <a:moveTo>
                  <a:pt x="7218" y="11633"/>
                </a:moveTo>
                <a:cubicBezTo>
                  <a:pt x="7218" y="11572"/>
                  <a:pt x="7202" y="11506"/>
                  <a:pt x="7243" y="11460"/>
                </a:cubicBezTo>
                <a:cubicBezTo>
                  <a:pt x="7273" y="11426"/>
                  <a:pt x="7299" y="11435"/>
                  <a:pt x="7342" y="11435"/>
                </a:cubicBezTo>
                <a:cubicBezTo>
                  <a:pt x="7386" y="11435"/>
                  <a:pt x="7404" y="11473"/>
                  <a:pt x="7441" y="11485"/>
                </a:cubicBezTo>
                <a:cubicBezTo>
                  <a:pt x="7449" y="11485"/>
                  <a:pt x="7458" y="11485"/>
                  <a:pt x="7466" y="11485"/>
                </a:cubicBezTo>
                <a:cubicBezTo>
                  <a:pt x="7437" y="11447"/>
                  <a:pt x="7438" y="11414"/>
                  <a:pt x="7417" y="11460"/>
                </a:cubicBezTo>
                <a:cubicBezTo>
                  <a:pt x="7402" y="11492"/>
                  <a:pt x="7370" y="11570"/>
                  <a:pt x="7392" y="11609"/>
                </a:cubicBezTo>
                <a:cubicBezTo>
                  <a:pt x="7400" y="11617"/>
                  <a:pt x="7409" y="11625"/>
                  <a:pt x="7417" y="11633"/>
                </a:cubicBezTo>
                <a:cubicBezTo>
                  <a:pt x="7464" y="11621"/>
                  <a:pt x="7474" y="11578"/>
                  <a:pt x="7516" y="11559"/>
                </a:cubicBezTo>
                <a:cubicBezTo>
                  <a:pt x="7558" y="11540"/>
                  <a:pt x="7586" y="11574"/>
                  <a:pt x="7615" y="11584"/>
                </a:cubicBezTo>
                <a:cubicBezTo>
                  <a:pt x="7640" y="11584"/>
                  <a:pt x="7648" y="11584"/>
                  <a:pt x="7665" y="11584"/>
                </a:cubicBezTo>
              </a:path>
              <a:path w="1291" h="1067">
                <a:moveTo>
                  <a:pt x="7689" y="11559"/>
                </a:moveTo>
                <a:cubicBezTo>
                  <a:pt x="7715" y="11524"/>
                  <a:pt x="7714" y="11528"/>
                  <a:pt x="7714" y="11485"/>
                </a:cubicBezTo>
                <a:cubicBezTo>
                  <a:pt x="7714" y="11414"/>
                  <a:pt x="7710" y="11528"/>
                  <a:pt x="7714" y="11534"/>
                </a:cubicBezTo>
                <a:cubicBezTo>
                  <a:pt x="7722" y="11542"/>
                  <a:pt x="7731" y="11551"/>
                  <a:pt x="7739" y="11559"/>
                </a:cubicBezTo>
                <a:cubicBezTo>
                  <a:pt x="7844" y="11559"/>
                  <a:pt x="7851" y="11493"/>
                  <a:pt x="7863" y="11385"/>
                </a:cubicBezTo>
                <a:cubicBezTo>
                  <a:pt x="7877" y="11266"/>
                  <a:pt x="7861" y="11169"/>
                  <a:pt x="7813" y="11063"/>
                </a:cubicBezTo>
                <a:cubicBezTo>
                  <a:pt x="7813" y="11209"/>
                  <a:pt x="7829" y="11323"/>
                  <a:pt x="7888" y="11460"/>
                </a:cubicBezTo>
                <a:cubicBezTo>
                  <a:pt x="7938" y="11559"/>
                  <a:pt x="7955" y="11592"/>
                  <a:pt x="7987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70160" y="4098960"/>
            <a:ext cx="115920" cy="81000"/>
          </a:xfrm>
          <a:custGeom>
            <a:avLst/>
            <a:gdLst/>
            <a:ahLst/>
            <a:rect l="l" t="t" r="r" b="b"/>
            <a:pathLst>
              <a:path w="323" h="225">
                <a:moveTo>
                  <a:pt x="9079" y="11410"/>
                </a:moveTo>
                <a:cubicBezTo>
                  <a:pt x="9026" y="11410"/>
                  <a:pt x="9008" y="11390"/>
                  <a:pt x="8954" y="11385"/>
                </a:cubicBezTo>
                <a:cubicBezTo>
                  <a:pt x="8904" y="11381"/>
                  <a:pt x="8895" y="11397"/>
                  <a:pt x="8855" y="11410"/>
                </a:cubicBezTo>
                <a:cubicBezTo>
                  <a:pt x="8830" y="11410"/>
                  <a:pt x="8822" y="11410"/>
                  <a:pt x="8806" y="11410"/>
                </a:cubicBezTo>
              </a:path>
              <a:path w="323" h="225">
                <a:moveTo>
                  <a:pt x="9103" y="11559"/>
                </a:moveTo>
                <a:cubicBezTo>
                  <a:pt x="9128" y="11559"/>
                  <a:pt x="9136" y="11559"/>
                  <a:pt x="9128" y="11584"/>
                </a:cubicBezTo>
                <a:cubicBezTo>
                  <a:pt x="9063" y="11584"/>
                  <a:pt x="9017" y="11604"/>
                  <a:pt x="8954" y="11609"/>
                </a:cubicBezTo>
                <a:cubicBezTo>
                  <a:pt x="8921" y="11609"/>
                  <a:pt x="8905" y="11609"/>
                  <a:pt x="8880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24200" y="3848040"/>
            <a:ext cx="554040" cy="474840"/>
          </a:xfrm>
          <a:custGeom>
            <a:avLst/>
            <a:gdLst/>
            <a:ahLst/>
            <a:rect l="l" t="t" r="r" b="b"/>
            <a:pathLst>
              <a:path w="1538" h="1315">
                <a:moveTo>
                  <a:pt x="10492" y="11013"/>
                </a:moveTo>
                <a:cubicBezTo>
                  <a:pt x="10484" y="11021"/>
                  <a:pt x="10476" y="11030"/>
                  <a:pt x="10468" y="11038"/>
                </a:cubicBezTo>
                <a:cubicBezTo>
                  <a:pt x="10558" y="11038"/>
                  <a:pt x="10629" y="11026"/>
                  <a:pt x="10716" y="11013"/>
                </a:cubicBezTo>
                <a:cubicBezTo>
                  <a:pt x="10777" y="11004"/>
                  <a:pt x="10826" y="10988"/>
                  <a:pt x="10889" y="10988"/>
                </a:cubicBezTo>
                <a:cubicBezTo>
                  <a:pt x="10906" y="10988"/>
                  <a:pt x="10922" y="10988"/>
                  <a:pt x="10939" y="10988"/>
                </a:cubicBezTo>
              </a:path>
              <a:path w="1538" h="1315">
                <a:moveTo>
                  <a:pt x="11137" y="10740"/>
                </a:moveTo>
                <a:cubicBezTo>
                  <a:pt x="11137" y="10712"/>
                  <a:pt x="11140" y="10702"/>
                  <a:pt x="11162" y="10691"/>
                </a:cubicBezTo>
                <a:cubicBezTo>
                  <a:pt x="11162" y="10756"/>
                  <a:pt x="11173" y="10827"/>
                  <a:pt x="11187" y="10889"/>
                </a:cubicBezTo>
                <a:cubicBezTo>
                  <a:pt x="11202" y="10954"/>
                  <a:pt x="11231" y="11036"/>
                  <a:pt x="11261" y="11088"/>
                </a:cubicBezTo>
              </a:path>
              <a:path w="1538" h="1315">
                <a:moveTo>
                  <a:pt x="11881" y="11261"/>
                </a:moveTo>
                <a:cubicBezTo>
                  <a:pt x="11838" y="11245"/>
                  <a:pt x="11809" y="11237"/>
                  <a:pt x="11757" y="11237"/>
                </a:cubicBezTo>
                <a:cubicBezTo>
                  <a:pt x="11629" y="11237"/>
                  <a:pt x="11510" y="11251"/>
                  <a:pt x="11385" y="11261"/>
                </a:cubicBezTo>
                <a:cubicBezTo>
                  <a:pt x="11262" y="11271"/>
                  <a:pt x="11135" y="11282"/>
                  <a:pt x="11013" y="11286"/>
                </a:cubicBezTo>
                <a:cubicBezTo>
                  <a:pt x="10867" y="11290"/>
                  <a:pt x="10730" y="11289"/>
                  <a:pt x="10592" y="11311"/>
                </a:cubicBezTo>
                <a:cubicBezTo>
                  <a:pt x="10508" y="11324"/>
                  <a:pt x="10442" y="11311"/>
                  <a:pt x="10368" y="11336"/>
                </a:cubicBezTo>
                <a:cubicBezTo>
                  <a:pt x="10360" y="11336"/>
                  <a:pt x="10352" y="11336"/>
                  <a:pt x="10344" y="11336"/>
                </a:cubicBezTo>
              </a:path>
              <a:path w="1538" h="1315">
                <a:moveTo>
                  <a:pt x="10914" y="11509"/>
                </a:moveTo>
                <a:cubicBezTo>
                  <a:pt x="10914" y="11468"/>
                  <a:pt x="10914" y="11543"/>
                  <a:pt x="10914" y="11584"/>
                </a:cubicBezTo>
                <a:cubicBezTo>
                  <a:pt x="10914" y="11638"/>
                  <a:pt x="10919" y="11756"/>
                  <a:pt x="10939" y="11807"/>
                </a:cubicBezTo>
                <a:cubicBezTo>
                  <a:pt x="10962" y="11830"/>
                  <a:pt x="10970" y="11834"/>
                  <a:pt x="10964" y="11857"/>
                </a:cubicBezTo>
              </a:path>
              <a:path w="1538" h="1315">
                <a:moveTo>
                  <a:pt x="11435" y="11435"/>
                </a:moveTo>
                <a:cubicBezTo>
                  <a:pt x="11443" y="11435"/>
                  <a:pt x="11452" y="11435"/>
                  <a:pt x="11460" y="11435"/>
                </a:cubicBezTo>
                <a:cubicBezTo>
                  <a:pt x="11447" y="11488"/>
                  <a:pt x="11435" y="11520"/>
                  <a:pt x="11435" y="11584"/>
                </a:cubicBezTo>
                <a:cubicBezTo>
                  <a:pt x="11435" y="11642"/>
                  <a:pt x="11435" y="11699"/>
                  <a:pt x="11435" y="11757"/>
                </a:cubicBezTo>
                <a:cubicBezTo>
                  <a:pt x="11483" y="11757"/>
                  <a:pt x="11515" y="11762"/>
                  <a:pt x="11559" y="11733"/>
                </a:cubicBezTo>
                <a:cubicBezTo>
                  <a:pt x="11608" y="11701"/>
                  <a:pt x="11647" y="11708"/>
                  <a:pt x="11708" y="11708"/>
                </a:cubicBezTo>
                <a:cubicBezTo>
                  <a:pt x="11756" y="11708"/>
                  <a:pt x="11769" y="11704"/>
                  <a:pt x="11807" y="11733"/>
                </a:cubicBezTo>
              </a:path>
              <a:path w="1538" h="1315">
                <a:moveTo>
                  <a:pt x="11658" y="11633"/>
                </a:moveTo>
                <a:cubicBezTo>
                  <a:pt x="11642" y="11625"/>
                  <a:pt x="11625" y="11617"/>
                  <a:pt x="11609" y="11609"/>
                </a:cubicBezTo>
                <a:cubicBezTo>
                  <a:pt x="11609" y="11741"/>
                  <a:pt x="11609" y="11873"/>
                  <a:pt x="11609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71720" y="4653000"/>
            <a:ext cx="527040" cy="312840"/>
          </a:xfrm>
          <a:custGeom>
            <a:avLst/>
            <a:gdLst/>
            <a:ahLst/>
            <a:rect l="l" t="t" r="r" b="b"/>
            <a:pathLst>
              <a:path w="1464" h="869">
                <a:moveTo>
                  <a:pt x="3026" y="13022"/>
                </a:moveTo>
                <a:cubicBezTo>
                  <a:pt x="3020" y="12977"/>
                  <a:pt x="3030" y="12987"/>
                  <a:pt x="3001" y="12948"/>
                </a:cubicBezTo>
                <a:cubicBezTo>
                  <a:pt x="2964" y="13012"/>
                  <a:pt x="2983" y="13103"/>
                  <a:pt x="3026" y="13171"/>
                </a:cubicBezTo>
                <a:cubicBezTo>
                  <a:pt x="3101" y="13288"/>
                  <a:pt x="3189" y="13241"/>
                  <a:pt x="3249" y="13146"/>
                </a:cubicBezTo>
                <a:cubicBezTo>
                  <a:pt x="3300" y="13065"/>
                  <a:pt x="3317" y="12997"/>
                  <a:pt x="3373" y="12923"/>
                </a:cubicBezTo>
                <a:cubicBezTo>
                  <a:pt x="3548" y="12967"/>
                  <a:pt x="3587" y="13107"/>
                  <a:pt x="3671" y="13271"/>
                </a:cubicBezTo>
                <a:cubicBezTo>
                  <a:pt x="3737" y="13399"/>
                  <a:pt x="3840" y="13586"/>
                  <a:pt x="3721" y="13717"/>
                </a:cubicBezTo>
                <a:cubicBezTo>
                  <a:pt x="3627" y="13820"/>
                  <a:pt x="3471" y="13791"/>
                  <a:pt x="3349" y="13791"/>
                </a:cubicBezTo>
                <a:cubicBezTo>
                  <a:pt x="3276" y="13791"/>
                  <a:pt x="3252" y="13792"/>
                  <a:pt x="3225" y="13742"/>
                </a:cubicBezTo>
              </a:path>
              <a:path w="1464" h="869">
                <a:moveTo>
                  <a:pt x="4366" y="12923"/>
                </a:moveTo>
                <a:cubicBezTo>
                  <a:pt x="4374" y="12923"/>
                  <a:pt x="4382" y="12923"/>
                  <a:pt x="4390" y="12923"/>
                </a:cubicBezTo>
                <a:cubicBezTo>
                  <a:pt x="4372" y="12997"/>
                  <a:pt x="4352" y="12955"/>
                  <a:pt x="4291" y="12973"/>
                </a:cubicBezTo>
                <a:cubicBezTo>
                  <a:pt x="4232" y="12990"/>
                  <a:pt x="4178" y="13010"/>
                  <a:pt x="4118" y="13022"/>
                </a:cubicBezTo>
                <a:cubicBezTo>
                  <a:pt x="4118" y="13047"/>
                  <a:pt x="4118" y="13055"/>
                  <a:pt x="4093" y="13047"/>
                </a:cubicBezTo>
              </a:path>
              <a:path w="1464" h="869">
                <a:moveTo>
                  <a:pt x="4440" y="13097"/>
                </a:moveTo>
                <a:cubicBezTo>
                  <a:pt x="4440" y="13105"/>
                  <a:pt x="4440" y="13114"/>
                  <a:pt x="4440" y="13122"/>
                </a:cubicBezTo>
                <a:cubicBezTo>
                  <a:pt x="4386" y="13122"/>
                  <a:pt x="4344" y="13140"/>
                  <a:pt x="4291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52800" y="4545000"/>
            <a:ext cx="955440" cy="428760"/>
          </a:xfrm>
          <a:custGeom>
            <a:avLst/>
            <a:gdLst/>
            <a:ahLst/>
            <a:rect l="l" t="t" r="r" b="b"/>
            <a:pathLst>
              <a:path w="2655" h="1191">
                <a:moveTo>
                  <a:pt x="6325" y="13196"/>
                </a:moveTo>
                <a:cubicBezTo>
                  <a:pt x="6350" y="13196"/>
                  <a:pt x="6358" y="13196"/>
                  <a:pt x="6375" y="13196"/>
                </a:cubicBezTo>
                <a:cubicBezTo>
                  <a:pt x="6280" y="13196"/>
                  <a:pt x="6191" y="13210"/>
                  <a:pt x="6102" y="13221"/>
                </a:cubicBezTo>
                <a:cubicBezTo>
                  <a:pt x="6034" y="13221"/>
                  <a:pt x="6015" y="13218"/>
                  <a:pt x="5978" y="13246"/>
                </a:cubicBezTo>
              </a:path>
              <a:path w="2655" h="1191">
                <a:moveTo>
                  <a:pt x="6970" y="12650"/>
                </a:moveTo>
                <a:cubicBezTo>
                  <a:pt x="6970" y="12585"/>
                  <a:pt x="6970" y="12736"/>
                  <a:pt x="6970" y="12750"/>
                </a:cubicBezTo>
                <a:cubicBezTo>
                  <a:pt x="6970" y="12836"/>
                  <a:pt x="6993" y="12918"/>
                  <a:pt x="7020" y="12998"/>
                </a:cubicBezTo>
              </a:path>
              <a:path w="2655" h="1191">
                <a:moveTo>
                  <a:pt x="7541" y="13171"/>
                </a:moveTo>
                <a:cubicBezTo>
                  <a:pt x="7444" y="13171"/>
                  <a:pt x="7362" y="13172"/>
                  <a:pt x="7268" y="13196"/>
                </a:cubicBezTo>
                <a:cubicBezTo>
                  <a:pt x="7134" y="13230"/>
                  <a:pt x="7009" y="13267"/>
                  <a:pt x="6871" y="13271"/>
                </a:cubicBezTo>
                <a:cubicBezTo>
                  <a:pt x="6816" y="13273"/>
                  <a:pt x="6697" y="13270"/>
                  <a:pt x="6648" y="13295"/>
                </a:cubicBezTo>
                <a:cubicBezTo>
                  <a:pt x="6640" y="13303"/>
                  <a:pt x="6631" y="13312"/>
                  <a:pt x="6623" y="13320"/>
                </a:cubicBezTo>
              </a:path>
              <a:path w="2655" h="1191">
                <a:moveTo>
                  <a:pt x="6970" y="13419"/>
                </a:moveTo>
                <a:cubicBezTo>
                  <a:pt x="6970" y="13359"/>
                  <a:pt x="6970" y="13474"/>
                  <a:pt x="6970" y="13494"/>
                </a:cubicBezTo>
                <a:cubicBezTo>
                  <a:pt x="6970" y="13568"/>
                  <a:pt x="6970" y="13643"/>
                  <a:pt x="6970" y="13717"/>
                </a:cubicBezTo>
              </a:path>
              <a:path w="2655" h="1191">
                <a:moveTo>
                  <a:pt x="7169" y="13370"/>
                </a:moveTo>
                <a:cubicBezTo>
                  <a:pt x="7169" y="13362"/>
                  <a:pt x="7169" y="13353"/>
                  <a:pt x="7169" y="13345"/>
                </a:cubicBezTo>
                <a:cubicBezTo>
                  <a:pt x="7229" y="13360"/>
                  <a:pt x="7218" y="13384"/>
                  <a:pt x="7218" y="13444"/>
                </a:cubicBezTo>
                <a:cubicBezTo>
                  <a:pt x="7218" y="13507"/>
                  <a:pt x="7204" y="13569"/>
                  <a:pt x="7243" y="13618"/>
                </a:cubicBezTo>
                <a:cubicBezTo>
                  <a:pt x="7275" y="13658"/>
                  <a:pt x="7293" y="13667"/>
                  <a:pt x="7342" y="13667"/>
                </a:cubicBezTo>
                <a:cubicBezTo>
                  <a:pt x="7408" y="13667"/>
                  <a:pt x="7438" y="13660"/>
                  <a:pt x="7491" y="13643"/>
                </a:cubicBezTo>
                <a:cubicBezTo>
                  <a:pt x="7530" y="13631"/>
                  <a:pt x="7556" y="13640"/>
                  <a:pt x="7565" y="13667"/>
                </a:cubicBezTo>
              </a:path>
              <a:path w="2655" h="1191">
                <a:moveTo>
                  <a:pt x="7441" y="13618"/>
                </a:moveTo>
                <a:cubicBezTo>
                  <a:pt x="7383" y="13638"/>
                  <a:pt x="7433" y="13692"/>
                  <a:pt x="7441" y="13742"/>
                </a:cubicBezTo>
                <a:cubicBezTo>
                  <a:pt x="7441" y="13783"/>
                  <a:pt x="7441" y="13791"/>
                  <a:pt x="7441" y="13816"/>
                </a:cubicBezTo>
              </a:path>
              <a:path w="2655" h="1191">
                <a:moveTo>
                  <a:pt x="8012" y="13295"/>
                </a:moveTo>
                <a:cubicBezTo>
                  <a:pt x="7967" y="13266"/>
                  <a:pt x="7944" y="13252"/>
                  <a:pt x="7938" y="13196"/>
                </a:cubicBezTo>
                <a:cubicBezTo>
                  <a:pt x="7934" y="13156"/>
                  <a:pt x="7946" y="13115"/>
                  <a:pt x="7987" y="13097"/>
                </a:cubicBezTo>
                <a:cubicBezTo>
                  <a:pt x="8026" y="13080"/>
                  <a:pt x="8138" y="13112"/>
                  <a:pt x="8161" y="13146"/>
                </a:cubicBezTo>
                <a:cubicBezTo>
                  <a:pt x="8195" y="13196"/>
                  <a:pt x="8227" y="13308"/>
                  <a:pt x="8210" y="13370"/>
                </a:cubicBezTo>
                <a:cubicBezTo>
                  <a:pt x="8193" y="13433"/>
                  <a:pt x="8166" y="13444"/>
                  <a:pt x="8111" y="13444"/>
                </a:cubicBezTo>
                <a:cubicBezTo>
                  <a:pt x="8067" y="13444"/>
                  <a:pt x="8053" y="13447"/>
                  <a:pt x="8037" y="13419"/>
                </a:cubicBezTo>
              </a:path>
              <a:path w="2655" h="1191">
                <a:moveTo>
                  <a:pt x="8384" y="13097"/>
                </a:moveTo>
                <a:cubicBezTo>
                  <a:pt x="8392" y="13072"/>
                  <a:pt x="8401" y="13047"/>
                  <a:pt x="8409" y="13022"/>
                </a:cubicBezTo>
                <a:cubicBezTo>
                  <a:pt x="8334" y="13086"/>
                  <a:pt x="8314" y="13143"/>
                  <a:pt x="8310" y="13246"/>
                </a:cubicBezTo>
                <a:cubicBezTo>
                  <a:pt x="8305" y="13370"/>
                  <a:pt x="8375" y="13390"/>
                  <a:pt x="8483" y="13395"/>
                </a:cubicBezTo>
                <a:cubicBezTo>
                  <a:pt x="8546" y="13398"/>
                  <a:pt x="8574" y="13392"/>
                  <a:pt x="8632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02000" y="4724280"/>
            <a:ext cx="536760" cy="133560"/>
          </a:xfrm>
          <a:custGeom>
            <a:avLst/>
            <a:gdLst/>
            <a:ahLst/>
            <a:rect l="l" t="t" r="r" b="b"/>
            <a:pathLst>
              <a:path w="1489" h="373">
                <a:moveTo>
                  <a:pt x="9872" y="13370"/>
                </a:moveTo>
                <a:cubicBezTo>
                  <a:pt x="9913" y="13350"/>
                  <a:pt x="9919" y="13341"/>
                  <a:pt x="9947" y="13345"/>
                </a:cubicBezTo>
                <a:cubicBezTo>
                  <a:pt x="9887" y="13309"/>
                  <a:pt x="9823" y="13320"/>
                  <a:pt x="9748" y="13320"/>
                </a:cubicBezTo>
                <a:cubicBezTo>
                  <a:pt x="9665" y="13320"/>
                  <a:pt x="9584" y="13273"/>
                  <a:pt x="9500" y="13295"/>
                </a:cubicBezTo>
                <a:cubicBezTo>
                  <a:pt x="9484" y="13303"/>
                  <a:pt x="9467" y="13312"/>
                  <a:pt x="9451" y="13320"/>
                </a:cubicBezTo>
              </a:path>
              <a:path w="1489" h="373">
                <a:moveTo>
                  <a:pt x="9550" y="13171"/>
                </a:moveTo>
                <a:cubicBezTo>
                  <a:pt x="9558" y="13155"/>
                  <a:pt x="9567" y="13138"/>
                  <a:pt x="9575" y="13122"/>
                </a:cubicBezTo>
                <a:cubicBezTo>
                  <a:pt x="9583" y="13185"/>
                  <a:pt x="9585" y="13257"/>
                  <a:pt x="9599" y="13320"/>
                </a:cubicBezTo>
                <a:cubicBezTo>
                  <a:pt x="9613" y="13383"/>
                  <a:pt x="9627" y="13436"/>
                  <a:pt x="9649" y="13494"/>
                </a:cubicBezTo>
              </a:path>
              <a:path w="1489" h="373">
                <a:moveTo>
                  <a:pt x="10592" y="13221"/>
                </a:moveTo>
                <a:cubicBezTo>
                  <a:pt x="10572" y="13162"/>
                  <a:pt x="10517" y="13227"/>
                  <a:pt x="10468" y="13246"/>
                </a:cubicBezTo>
                <a:cubicBezTo>
                  <a:pt x="10404" y="13271"/>
                  <a:pt x="10291" y="13365"/>
                  <a:pt x="10393" y="13444"/>
                </a:cubicBezTo>
                <a:cubicBezTo>
                  <a:pt x="10466" y="13500"/>
                  <a:pt x="10630" y="13508"/>
                  <a:pt x="10716" y="13494"/>
                </a:cubicBezTo>
                <a:cubicBezTo>
                  <a:pt x="10791" y="13481"/>
                  <a:pt x="10864" y="13463"/>
                  <a:pt x="10939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16120" y="5089680"/>
            <a:ext cx="1519200" cy="1393560"/>
          </a:xfrm>
          <a:custGeom>
            <a:avLst/>
            <a:gdLst/>
            <a:ahLst/>
            <a:rect l="l" t="t" r="r" b="b"/>
            <a:pathLst>
              <a:path w="4218" h="3870">
                <a:moveTo>
                  <a:pt x="7268" y="17909"/>
                </a:moveTo>
                <a:cubicBezTo>
                  <a:pt x="7268" y="17942"/>
                  <a:pt x="7268" y="17975"/>
                  <a:pt x="7268" y="18008"/>
                </a:cubicBezTo>
                <a:cubicBezTo>
                  <a:pt x="7276" y="17976"/>
                  <a:pt x="7288" y="17967"/>
                  <a:pt x="7293" y="17934"/>
                </a:cubicBezTo>
                <a:cubicBezTo>
                  <a:pt x="7304" y="17865"/>
                  <a:pt x="7301" y="17802"/>
                  <a:pt x="7317" y="17735"/>
                </a:cubicBezTo>
                <a:cubicBezTo>
                  <a:pt x="7336" y="17653"/>
                  <a:pt x="7371" y="17572"/>
                  <a:pt x="7392" y="17487"/>
                </a:cubicBezTo>
                <a:cubicBezTo>
                  <a:pt x="7410" y="17412"/>
                  <a:pt x="7417" y="17337"/>
                  <a:pt x="7441" y="17264"/>
                </a:cubicBezTo>
                <a:cubicBezTo>
                  <a:pt x="7462" y="17200"/>
                  <a:pt x="7490" y="17137"/>
                  <a:pt x="7516" y="17066"/>
                </a:cubicBezTo>
                <a:cubicBezTo>
                  <a:pt x="7540" y="16999"/>
                  <a:pt x="7549" y="16951"/>
                  <a:pt x="7590" y="16892"/>
                </a:cubicBezTo>
                <a:cubicBezTo>
                  <a:pt x="7631" y="16833"/>
                  <a:pt x="7678" y="16802"/>
                  <a:pt x="7714" y="16743"/>
                </a:cubicBezTo>
                <a:cubicBezTo>
                  <a:pt x="7775" y="16643"/>
                  <a:pt x="7814" y="16575"/>
                  <a:pt x="7888" y="16495"/>
                </a:cubicBezTo>
                <a:cubicBezTo>
                  <a:pt x="7936" y="16443"/>
                  <a:pt x="7998" y="16373"/>
                  <a:pt x="8062" y="16346"/>
                </a:cubicBezTo>
                <a:cubicBezTo>
                  <a:pt x="8097" y="16331"/>
                  <a:pt x="8198" y="16321"/>
                  <a:pt x="8235" y="16321"/>
                </a:cubicBezTo>
                <a:cubicBezTo>
                  <a:pt x="8280" y="16321"/>
                  <a:pt x="8361" y="16336"/>
                  <a:pt x="8409" y="16346"/>
                </a:cubicBezTo>
                <a:cubicBezTo>
                  <a:pt x="8491" y="16363"/>
                  <a:pt x="8573" y="16400"/>
                  <a:pt x="8657" y="16421"/>
                </a:cubicBezTo>
                <a:cubicBezTo>
                  <a:pt x="8736" y="16440"/>
                  <a:pt x="8826" y="16448"/>
                  <a:pt x="8905" y="16470"/>
                </a:cubicBezTo>
                <a:cubicBezTo>
                  <a:pt x="9013" y="16500"/>
                  <a:pt x="9115" y="16535"/>
                  <a:pt x="9227" y="16545"/>
                </a:cubicBezTo>
                <a:cubicBezTo>
                  <a:pt x="9374" y="16558"/>
                  <a:pt x="9533" y="16551"/>
                  <a:pt x="9674" y="16520"/>
                </a:cubicBezTo>
                <a:cubicBezTo>
                  <a:pt x="9798" y="16492"/>
                  <a:pt x="9906" y="16448"/>
                  <a:pt x="10021" y="16396"/>
                </a:cubicBezTo>
                <a:cubicBezTo>
                  <a:pt x="10119" y="16352"/>
                  <a:pt x="10215" y="16299"/>
                  <a:pt x="10294" y="16222"/>
                </a:cubicBezTo>
                <a:cubicBezTo>
                  <a:pt x="10370" y="16148"/>
                  <a:pt x="10489" y="16016"/>
                  <a:pt x="10542" y="15925"/>
                </a:cubicBezTo>
                <a:cubicBezTo>
                  <a:pt x="10619" y="15792"/>
                  <a:pt x="10674" y="15625"/>
                  <a:pt x="10716" y="15478"/>
                </a:cubicBezTo>
                <a:cubicBezTo>
                  <a:pt x="10760" y="15324"/>
                  <a:pt x="10769" y="15164"/>
                  <a:pt x="10790" y="15007"/>
                </a:cubicBezTo>
                <a:cubicBezTo>
                  <a:pt x="10813" y="14833"/>
                  <a:pt x="10824" y="14661"/>
                  <a:pt x="10840" y="14486"/>
                </a:cubicBezTo>
                <a:cubicBezTo>
                  <a:pt x="10849" y="14384"/>
                  <a:pt x="10877" y="14285"/>
                  <a:pt x="10889" y="14188"/>
                </a:cubicBezTo>
                <a:cubicBezTo>
                  <a:pt x="10889" y="14163"/>
                  <a:pt x="10889" y="14155"/>
                  <a:pt x="10889" y="14139"/>
                </a:cubicBezTo>
              </a:path>
              <a:path w="4218" h="3870">
                <a:moveTo>
                  <a:pt x="10046" y="16520"/>
                </a:moveTo>
                <a:cubicBezTo>
                  <a:pt x="10046" y="16495"/>
                  <a:pt x="10046" y="16487"/>
                  <a:pt x="10046" y="16470"/>
                </a:cubicBezTo>
                <a:cubicBezTo>
                  <a:pt x="10098" y="16470"/>
                  <a:pt x="10096" y="16468"/>
                  <a:pt x="10096" y="16520"/>
                </a:cubicBezTo>
                <a:cubicBezTo>
                  <a:pt x="10096" y="16528"/>
                  <a:pt x="10096" y="16537"/>
                  <a:pt x="10096" y="16545"/>
                </a:cubicBezTo>
                <a:cubicBezTo>
                  <a:pt x="10062" y="16545"/>
                  <a:pt x="10015" y="16558"/>
                  <a:pt x="9996" y="16520"/>
                </a:cubicBezTo>
                <a:cubicBezTo>
                  <a:pt x="9975" y="16478"/>
                  <a:pt x="10021" y="16487"/>
                  <a:pt x="9971" y="16470"/>
                </a:cubicBezTo>
                <a:cubicBezTo>
                  <a:pt x="9984" y="16461"/>
                  <a:pt x="10050" y="16421"/>
                  <a:pt x="10071" y="16446"/>
                </a:cubicBezTo>
                <a:cubicBezTo>
                  <a:pt x="10094" y="16473"/>
                  <a:pt x="10068" y="16517"/>
                  <a:pt x="10046" y="16520"/>
                </a:cubicBezTo>
                <a:cubicBezTo>
                  <a:pt x="10038" y="16520"/>
                  <a:pt x="10029" y="16520"/>
                  <a:pt x="10021" y="16520"/>
                </a:cubicBezTo>
              </a:path>
              <a:path w="4218" h="3870">
                <a:moveTo>
                  <a:pt x="9227" y="15850"/>
                </a:moveTo>
                <a:cubicBezTo>
                  <a:pt x="9227" y="15825"/>
                  <a:pt x="9227" y="15817"/>
                  <a:pt x="9227" y="15801"/>
                </a:cubicBezTo>
                <a:cubicBezTo>
                  <a:pt x="9227" y="15889"/>
                  <a:pt x="9239" y="15967"/>
                  <a:pt x="9252" y="16049"/>
                </a:cubicBezTo>
                <a:cubicBezTo>
                  <a:pt x="9258" y="16088"/>
                  <a:pt x="9252" y="16133"/>
                  <a:pt x="9252" y="16173"/>
                </a:cubicBezTo>
              </a:path>
              <a:path w="4218" h="3870">
                <a:moveTo>
                  <a:pt x="9500" y="16123"/>
                </a:moveTo>
                <a:cubicBezTo>
                  <a:pt x="9508" y="16123"/>
                  <a:pt x="9517" y="16123"/>
                  <a:pt x="9525" y="16123"/>
                </a:cubicBezTo>
                <a:cubicBezTo>
                  <a:pt x="9525" y="16168"/>
                  <a:pt x="9510" y="16183"/>
                  <a:pt x="9500" y="16222"/>
                </a:cubicBezTo>
                <a:cubicBezTo>
                  <a:pt x="9460" y="16232"/>
                  <a:pt x="9461" y="16231"/>
                  <a:pt x="9451" y="16272"/>
                </a:cubicBezTo>
              </a:path>
              <a:path w="4218" h="3870">
                <a:moveTo>
                  <a:pt x="9823" y="15900"/>
                </a:moveTo>
                <a:cubicBezTo>
                  <a:pt x="9812" y="15943"/>
                  <a:pt x="9782" y="15976"/>
                  <a:pt x="9773" y="16024"/>
                </a:cubicBezTo>
                <a:cubicBezTo>
                  <a:pt x="9761" y="16093"/>
                  <a:pt x="9748" y="16150"/>
                  <a:pt x="9748" y="16222"/>
                </a:cubicBezTo>
                <a:cubicBezTo>
                  <a:pt x="9748" y="16297"/>
                  <a:pt x="9784" y="16316"/>
                  <a:pt x="9847" y="16321"/>
                </a:cubicBezTo>
                <a:cubicBezTo>
                  <a:pt x="9878" y="16324"/>
                  <a:pt x="9934" y="16277"/>
                  <a:pt x="9947" y="16247"/>
                </a:cubicBezTo>
                <a:cubicBezTo>
                  <a:pt x="9979" y="16176"/>
                  <a:pt x="9902" y="16188"/>
                  <a:pt x="9872" y="16173"/>
                </a:cubicBezTo>
                <a:cubicBezTo>
                  <a:pt x="9844" y="16159"/>
                  <a:pt x="9824" y="16142"/>
                  <a:pt x="9798" y="16123"/>
                </a:cubicBezTo>
              </a:path>
              <a:path w="4218" h="3870">
                <a:moveTo>
                  <a:pt x="9947" y="15850"/>
                </a:moveTo>
                <a:cubicBezTo>
                  <a:pt x="9956" y="15823"/>
                  <a:pt x="9964" y="15805"/>
                  <a:pt x="9996" y="15801"/>
                </a:cubicBezTo>
                <a:cubicBezTo>
                  <a:pt x="10067" y="15793"/>
                  <a:pt x="10103" y="15815"/>
                  <a:pt x="10145" y="15875"/>
                </a:cubicBezTo>
                <a:cubicBezTo>
                  <a:pt x="10199" y="15952"/>
                  <a:pt x="10195" y="16035"/>
                  <a:pt x="10195" y="16123"/>
                </a:cubicBezTo>
                <a:cubicBezTo>
                  <a:pt x="10195" y="16192"/>
                  <a:pt x="10166" y="16246"/>
                  <a:pt x="10120" y="16297"/>
                </a:cubicBezTo>
                <a:cubicBezTo>
                  <a:pt x="10096" y="16321"/>
                  <a:pt x="10087" y="16330"/>
                  <a:pt x="10071" y="16346"/>
                </a:cubicBezTo>
              </a:path>
              <a:path w="4218" h="3870">
                <a:moveTo>
                  <a:pt x="9079" y="15726"/>
                </a:moveTo>
                <a:cubicBezTo>
                  <a:pt x="9101" y="15704"/>
                  <a:pt x="9112" y="15695"/>
                  <a:pt x="9079" y="15701"/>
                </a:cubicBezTo>
                <a:cubicBezTo>
                  <a:pt x="9034" y="15724"/>
                  <a:pt x="8989" y="15788"/>
                  <a:pt x="8979" y="15850"/>
                </a:cubicBezTo>
                <a:cubicBezTo>
                  <a:pt x="8964" y="15943"/>
                  <a:pt x="8970" y="16064"/>
                  <a:pt x="9004" y="16148"/>
                </a:cubicBezTo>
                <a:cubicBezTo>
                  <a:pt x="9024" y="16197"/>
                  <a:pt x="9029" y="16231"/>
                  <a:pt x="9054" y="16272"/>
                </a:cubicBezTo>
              </a:path>
              <a:path w="4218" h="3870">
                <a:moveTo>
                  <a:pt x="11485" y="17661"/>
                </a:moveTo>
                <a:cubicBezTo>
                  <a:pt x="11447" y="17636"/>
                  <a:pt x="11421" y="17611"/>
                  <a:pt x="11385" y="17587"/>
                </a:cubicBezTo>
                <a:cubicBezTo>
                  <a:pt x="11339" y="17556"/>
                  <a:pt x="11279" y="17538"/>
                  <a:pt x="11237" y="17512"/>
                </a:cubicBezTo>
                <a:cubicBezTo>
                  <a:pt x="11202" y="17491"/>
                  <a:pt x="11167" y="17462"/>
                  <a:pt x="11137" y="17438"/>
                </a:cubicBezTo>
                <a:cubicBezTo>
                  <a:pt x="11096" y="17404"/>
                  <a:pt x="11061" y="17351"/>
                  <a:pt x="11013" y="17314"/>
                </a:cubicBezTo>
                <a:cubicBezTo>
                  <a:pt x="10969" y="17281"/>
                  <a:pt x="10900" y="17245"/>
                  <a:pt x="10864" y="17214"/>
                </a:cubicBezTo>
                <a:cubicBezTo>
                  <a:pt x="10834" y="17188"/>
                  <a:pt x="10788" y="17159"/>
                  <a:pt x="10765" y="17140"/>
                </a:cubicBezTo>
                <a:cubicBezTo>
                  <a:pt x="10722" y="17103"/>
                  <a:pt x="10682" y="17068"/>
                  <a:pt x="10641" y="17041"/>
                </a:cubicBezTo>
                <a:cubicBezTo>
                  <a:pt x="10619" y="17018"/>
                  <a:pt x="10597" y="16993"/>
                  <a:pt x="10567" y="16966"/>
                </a:cubicBezTo>
                <a:cubicBezTo>
                  <a:pt x="10533" y="16935"/>
                  <a:pt x="10499" y="16913"/>
                  <a:pt x="10468" y="16892"/>
                </a:cubicBezTo>
                <a:cubicBezTo>
                  <a:pt x="10455" y="16879"/>
                  <a:pt x="10410" y="16859"/>
                  <a:pt x="10393" y="16842"/>
                </a:cubicBezTo>
                <a:cubicBezTo>
                  <a:pt x="10370" y="16820"/>
                  <a:pt x="10362" y="16815"/>
                  <a:pt x="10368" y="16793"/>
                </a:cubicBezTo>
                <a:cubicBezTo>
                  <a:pt x="10360" y="16785"/>
                  <a:pt x="10327" y="16751"/>
                  <a:pt x="10319" y="16743"/>
                </a:cubicBezTo>
                <a:cubicBezTo>
                  <a:pt x="10293" y="16725"/>
                  <a:pt x="10263" y="16685"/>
                  <a:pt x="10244" y="16669"/>
                </a:cubicBezTo>
                <a:cubicBezTo>
                  <a:pt x="10210" y="16640"/>
                  <a:pt x="10181" y="16628"/>
                  <a:pt x="10145" y="16594"/>
                </a:cubicBezTo>
                <a:cubicBezTo>
                  <a:pt x="10120" y="16571"/>
                  <a:pt x="10060" y="16536"/>
                  <a:pt x="10046" y="16520"/>
                </a:cubicBezTo>
                <a:cubicBezTo>
                  <a:pt x="10023" y="16497"/>
                  <a:pt x="10015" y="16493"/>
                  <a:pt x="10021" y="16470"/>
                </a:cubicBezTo>
                <a:cubicBezTo>
                  <a:pt x="9984" y="16445"/>
                  <a:pt x="9936" y="16422"/>
                  <a:pt x="9897" y="16396"/>
                </a:cubicBezTo>
                <a:cubicBezTo>
                  <a:pt x="9859" y="16371"/>
                  <a:pt x="9834" y="16345"/>
                  <a:pt x="9798" y="16321"/>
                </a:cubicBezTo>
                <a:cubicBezTo>
                  <a:pt x="9760" y="16296"/>
                  <a:pt x="9734" y="16271"/>
                  <a:pt x="9699" y="16247"/>
                </a:cubicBezTo>
                <a:cubicBezTo>
                  <a:pt x="9638" y="16206"/>
                  <a:pt x="9624" y="16176"/>
                  <a:pt x="9575" y="16123"/>
                </a:cubicBezTo>
                <a:cubicBezTo>
                  <a:pt x="9549" y="16096"/>
                  <a:pt x="9491" y="16067"/>
                  <a:pt x="9475" y="16049"/>
                </a:cubicBezTo>
                <a:cubicBezTo>
                  <a:pt x="9438" y="16008"/>
                  <a:pt x="9412" y="15965"/>
                  <a:pt x="9376" y="15925"/>
                </a:cubicBezTo>
                <a:cubicBezTo>
                  <a:pt x="9321" y="15865"/>
                  <a:pt x="9250" y="15808"/>
                  <a:pt x="9203" y="15751"/>
                </a:cubicBezTo>
                <a:cubicBezTo>
                  <a:pt x="9162" y="15700"/>
                  <a:pt x="9132" y="15646"/>
                  <a:pt x="9079" y="15602"/>
                </a:cubicBezTo>
                <a:cubicBezTo>
                  <a:pt x="9054" y="15581"/>
                  <a:pt x="9010" y="15558"/>
                  <a:pt x="8979" y="15528"/>
                </a:cubicBezTo>
                <a:cubicBezTo>
                  <a:pt x="8949" y="15499"/>
                  <a:pt x="8903" y="15473"/>
                  <a:pt x="8880" y="15453"/>
                </a:cubicBezTo>
                <a:cubicBezTo>
                  <a:pt x="8821" y="15400"/>
                  <a:pt x="8773" y="15346"/>
                  <a:pt x="8731" y="15280"/>
                </a:cubicBezTo>
                <a:cubicBezTo>
                  <a:pt x="8708" y="15257"/>
                  <a:pt x="8700" y="15253"/>
                  <a:pt x="8706" y="15230"/>
                </a:cubicBezTo>
                <a:cubicBezTo>
                  <a:pt x="8670" y="15217"/>
                  <a:pt x="8642" y="15194"/>
                  <a:pt x="8607" y="15180"/>
                </a:cubicBezTo>
                <a:cubicBezTo>
                  <a:pt x="8599" y="15180"/>
                  <a:pt x="8590" y="15180"/>
                  <a:pt x="8582" y="15180"/>
                </a:cubicBezTo>
                <a:cubicBezTo>
                  <a:pt x="8558" y="15149"/>
                  <a:pt x="8539" y="15130"/>
                  <a:pt x="8508" y="15106"/>
                </a:cubicBezTo>
              </a:path>
              <a:path w="4218" h="3870">
                <a:moveTo>
                  <a:pt x="8186" y="17190"/>
                </a:moveTo>
                <a:cubicBezTo>
                  <a:pt x="8186" y="17182"/>
                  <a:pt x="8186" y="17173"/>
                  <a:pt x="8186" y="17165"/>
                </a:cubicBezTo>
                <a:cubicBezTo>
                  <a:pt x="8217" y="17146"/>
                  <a:pt x="8212" y="17147"/>
                  <a:pt x="8260" y="17140"/>
                </a:cubicBezTo>
                <a:cubicBezTo>
                  <a:pt x="8270" y="17117"/>
                  <a:pt x="8275" y="17089"/>
                  <a:pt x="8285" y="17066"/>
                </a:cubicBezTo>
                <a:cubicBezTo>
                  <a:pt x="8324" y="17043"/>
                  <a:pt x="8373" y="17023"/>
                  <a:pt x="8409" y="16991"/>
                </a:cubicBezTo>
                <a:cubicBezTo>
                  <a:pt x="8445" y="16958"/>
                  <a:pt x="8475" y="16947"/>
                  <a:pt x="8508" y="16917"/>
                </a:cubicBezTo>
                <a:cubicBezTo>
                  <a:pt x="8531" y="16894"/>
                  <a:pt x="8539" y="16890"/>
                  <a:pt x="8533" y="16867"/>
                </a:cubicBezTo>
                <a:cubicBezTo>
                  <a:pt x="8560" y="16854"/>
                  <a:pt x="8614" y="16850"/>
                  <a:pt x="8632" y="16818"/>
                </a:cubicBezTo>
                <a:cubicBezTo>
                  <a:pt x="8632" y="16810"/>
                  <a:pt x="8632" y="16801"/>
                  <a:pt x="8632" y="16793"/>
                </a:cubicBezTo>
                <a:cubicBezTo>
                  <a:pt x="8660" y="16777"/>
                  <a:pt x="8700" y="16732"/>
                  <a:pt x="8731" y="16718"/>
                </a:cubicBezTo>
                <a:cubicBezTo>
                  <a:pt x="8739" y="16718"/>
                  <a:pt x="8748" y="16718"/>
                  <a:pt x="8756" y="16718"/>
                </a:cubicBezTo>
                <a:cubicBezTo>
                  <a:pt x="8772" y="16703"/>
                  <a:pt x="8802" y="16673"/>
                  <a:pt x="8830" y="16644"/>
                </a:cubicBezTo>
                <a:cubicBezTo>
                  <a:pt x="8858" y="16615"/>
                  <a:pt x="8877" y="16610"/>
                  <a:pt x="8905" y="16594"/>
                </a:cubicBezTo>
                <a:cubicBezTo>
                  <a:pt x="8920" y="16579"/>
                  <a:pt x="8945" y="16542"/>
                  <a:pt x="8979" y="16520"/>
                </a:cubicBezTo>
                <a:cubicBezTo>
                  <a:pt x="9017" y="16495"/>
                  <a:pt x="9053" y="16474"/>
                  <a:pt x="9103" y="16470"/>
                </a:cubicBezTo>
                <a:cubicBezTo>
                  <a:pt x="9111" y="16470"/>
                  <a:pt x="9120" y="16470"/>
                  <a:pt x="9128" y="16470"/>
                </a:cubicBezTo>
                <a:cubicBezTo>
                  <a:pt x="9138" y="16462"/>
                  <a:pt x="9173" y="16427"/>
                  <a:pt x="9203" y="16421"/>
                </a:cubicBezTo>
                <a:cubicBezTo>
                  <a:pt x="9258" y="16410"/>
                  <a:pt x="9278" y="16422"/>
                  <a:pt x="9327" y="16396"/>
                </a:cubicBezTo>
                <a:cubicBezTo>
                  <a:pt x="9359" y="16379"/>
                  <a:pt x="9387" y="16374"/>
                  <a:pt x="9426" y="16371"/>
                </a:cubicBezTo>
                <a:cubicBezTo>
                  <a:pt x="9434" y="16371"/>
                  <a:pt x="9443" y="16371"/>
                  <a:pt x="9451" y="16371"/>
                </a:cubicBezTo>
              </a:path>
              <a:path w="4218" h="3870">
                <a:moveTo>
                  <a:pt x="9203" y="16470"/>
                </a:moveTo>
                <a:cubicBezTo>
                  <a:pt x="9239" y="16452"/>
                  <a:pt x="9297" y="16443"/>
                  <a:pt x="9327" y="16421"/>
                </a:cubicBezTo>
                <a:cubicBezTo>
                  <a:pt x="9373" y="16388"/>
                  <a:pt x="9380" y="16389"/>
                  <a:pt x="9426" y="16371"/>
                </a:cubicBezTo>
                <a:cubicBezTo>
                  <a:pt x="9463" y="16357"/>
                  <a:pt x="9488" y="16311"/>
                  <a:pt x="9525" y="16297"/>
                </a:cubicBezTo>
                <a:cubicBezTo>
                  <a:pt x="9558" y="16284"/>
                  <a:pt x="9592" y="16286"/>
                  <a:pt x="9624" y="16272"/>
                </a:cubicBezTo>
                <a:cubicBezTo>
                  <a:pt x="9664" y="16254"/>
                  <a:pt x="9685" y="16222"/>
                  <a:pt x="9723" y="16197"/>
                </a:cubicBezTo>
                <a:cubicBezTo>
                  <a:pt x="9753" y="16177"/>
                  <a:pt x="9821" y="16165"/>
                  <a:pt x="9847" y="16148"/>
                </a:cubicBezTo>
                <a:cubicBezTo>
                  <a:pt x="9890" y="16119"/>
                  <a:pt x="9924" y="16072"/>
                  <a:pt x="9971" y="16049"/>
                </a:cubicBezTo>
                <a:cubicBezTo>
                  <a:pt x="10018" y="16026"/>
                  <a:pt x="10070" y="16000"/>
                  <a:pt x="10120" y="15974"/>
                </a:cubicBezTo>
                <a:cubicBezTo>
                  <a:pt x="10161" y="15952"/>
                  <a:pt x="10202" y="15927"/>
                  <a:pt x="10244" y="15900"/>
                </a:cubicBezTo>
                <a:cubicBezTo>
                  <a:pt x="10294" y="15867"/>
                  <a:pt x="10339" y="15829"/>
                  <a:pt x="10393" y="15801"/>
                </a:cubicBezTo>
                <a:cubicBezTo>
                  <a:pt x="10464" y="15764"/>
                  <a:pt x="10511" y="15727"/>
                  <a:pt x="10567" y="15677"/>
                </a:cubicBezTo>
                <a:cubicBezTo>
                  <a:pt x="10626" y="15625"/>
                  <a:pt x="10682" y="15577"/>
                  <a:pt x="10740" y="15528"/>
                </a:cubicBezTo>
                <a:cubicBezTo>
                  <a:pt x="10798" y="15478"/>
                  <a:pt x="10835" y="15471"/>
                  <a:pt x="10889" y="15429"/>
                </a:cubicBezTo>
                <a:cubicBezTo>
                  <a:pt x="10936" y="15393"/>
                  <a:pt x="10963" y="15378"/>
                  <a:pt x="11013" y="15354"/>
                </a:cubicBezTo>
                <a:cubicBezTo>
                  <a:pt x="11044" y="15339"/>
                  <a:pt x="11058" y="15331"/>
                  <a:pt x="11088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6280" y="2963880"/>
            <a:ext cx="98640" cy="233280"/>
          </a:xfrm>
          <a:custGeom>
            <a:avLst/>
            <a:gdLst/>
            <a:ahLst/>
            <a:rect l="l" t="t" r="r" b="b"/>
            <a:pathLst>
              <a:path w="274" h="646">
                <a:moveTo>
                  <a:pt x="16173" y="8334"/>
                </a:moveTo>
                <a:cubicBezTo>
                  <a:pt x="16197" y="8278"/>
                  <a:pt x="16210" y="8271"/>
                  <a:pt x="16222" y="8235"/>
                </a:cubicBezTo>
                <a:cubicBezTo>
                  <a:pt x="16180" y="8246"/>
                  <a:pt x="16116" y="8317"/>
                  <a:pt x="16098" y="8359"/>
                </a:cubicBezTo>
                <a:cubicBezTo>
                  <a:pt x="16041" y="8491"/>
                  <a:pt x="16062" y="8660"/>
                  <a:pt x="16123" y="8781"/>
                </a:cubicBezTo>
                <a:cubicBezTo>
                  <a:pt x="16171" y="8875"/>
                  <a:pt x="16246" y="8922"/>
                  <a:pt x="16321" y="8830"/>
                </a:cubicBezTo>
                <a:cubicBezTo>
                  <a:pt x="16353" y="8791"/>
                  <a:pt x="16370" y="8688"/>
                  <a:pt x="16321" y="8657"/>
                </a:cubicBezTo>
                <a:cubicBezTo>
                  <a:pt x="16289" y="8636"/>
                  <a:pt x="16186" y="8657"/>
                  <a:pt x="16148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62760" y="3044880"/>
            <a:ext cx="98280" cy="6336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17090" y="8458"/>
                </a:moveTo>
                <a:cubicBezTo>
                  <a:pt x="17098" y="8466"/>
                  <a:pt x="17107" y="8475"/>
                  <a:pt x="17115" y="8483"/>
                </a:cubicBezTo>
                <a:cubicBezTo>
                  <a:pt x="17052" y="8499"/>
                  <a:pt x="17047" y="8508"/>
                  <a:pt x="16966" y="8508"/>
                </a:cubicBezTo>
                <a:cubicBezTo>
                  <a:pt x="16912" y="8508"/>
                  <a:pt x="16856" y="8517"/>
                  <a:pt x="16842" y="8558"/>
                </a:cubicBezTo>
              </a:path>
              <a:path w="274" h="175">
                <a:moveTo>
                  <a:pt x="16942" y="8582"/>
                </a:moveTo>
                <a:cubicBezTo>
                  <a:pt x="17017" y="8600"/>
                  <a:pt x="17051" y="8586"/>
                  <a:pt x="17066" y="8632"/>
                </a:cubicBezTo>
                <a:cubicBezTo>
                  <a:pt x="17025" y="8632"/>
                  <a:pt x="16983" y="8632"/>
                  <a:pt x="16942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99160" y="2884320"/>
            <a:ext cx="446040" cy="366840"/>
          </a:xfrm>
          <a:custGeom>
            <a:avLst/>
            <a:gdLst/>
            <a:ahLst/>
            <a:rect l="l" t="t" r="r" b="b"/>
            <a:pathLst>
              <a:path w="1241" h="1018">
                <a:moveTo>
                  <a:pt x="18653" y="8359"/>
                </a:moveTo>
                <a:cubicBezTo>
                  <a:pt x="18661" y="8359"/>
                  <a:pt x="18670" y="8359"/>
                  <a:pt x="18678" y="8359"/>
                </a:cubicBezTo>
                <a:cubicBezTo>
                  <a:pt x="18566" y="8359"/>
                  <a:pt x="18452" y="8351"/>
                  <a:pt x="18355" y="8384"/>
                </a:cubicBezTo>
                <a:cubicBezTo>
                  <a:pt x="18347" y="8384"/>
                  <a:pt x="18339" y="8384"/>
                  <a:pt x="18331" y="8384"/>
                </a:cubicBezTo>
              </a:path>
              <a:path w="1241" h="1018">
                <a:moveTo>
                  <a:pt x="19174" y="8037"/>
                </a:moveTo>
                <a:cubicBezTo>
                  <a:pt x="19199" y="8037"/>
                  <a:pt x="19207" y="8037"/>
                  <a:pt x="19199" y="8012"/>
                </a:cubicBezTo>
                <a:cubicBezTo>
                  <a:pt x="19199" y="8068"/>
                  <a:pt x="19181" y="8110"/>
                  <a:pt x="19174" y="8161"/>
                </a:cubicBezTo>
                <a:cubicBezTo>
                  <a:pt x="19165" y="8229"/>
                  <a:pt x="19166" y="8305"/>
                  <a:pt x="19199" y="8359"/>
                </a:cubicBezTo>
              </a:path>
              <a:path w="1241" h="1018">
                <a:moveTo>
                  <a:pt x="19571" y="8458"/>
                </a:moveTo>
                <a:cubicBezTo>
                  <a:pt x="19558" y="8498"/>
                  <a:pt x="19523" y="8483"/>
                  <a:pt x="19472" y="8483"/>
                </a:cubicBezTo>
                <a:cubicBezTo>
                  <a:pt x="19388" y="8483"/>
                  <a:pt x="19328" y="8467"/>
                  <a:pt x="19248" y="8458"/>
                </a:cubicBezTo>
                <a:cubicBezTo>
                  <a:pt x="19079" y="8438"/>
                  <a:pt x="18898" y="8458"/>
                  <a:pt x="18728" y="8458"/>
                </a:cubicBezTo>
              </a:path>
              <a:path w="1241" h="1018">
                <a:moveTo>
                  <a:pt x="18802" y="8657"/>
                </a:moveTo>
                <a:cubicBezTo>
                  <a:pt x="18802" y="8758"/>
                  <a:pt x="18777" y="8897"/>
                  <a:pt x="18827" y="8979"/>
                </a:cubicBezTo>
              </a:path>
              <a:path w="1241" h="1018">
                <a:moveTo>
                  <a:pt x="19075" y="8682"/>
                </a:moveTo>
                <a:cubicBezTo>
                  <a:pt x="19083" y="8674"/>
                  <a:pt x="19092" y="8665"/>
                  <a:pt x="19100" y="8657"/>
                </a:cubicBezTo>
                <a:cubicBezTo>
                  <a:pt x="19100" y="8733"/>
                  <a:pt x="19078" y="8846"/>
                  <a:pt x="19124" y="8905"/>
                </a:cubicBezTo>
                <a:cubicBezTo>
                  <a:pt x="19146" y="8933"/>
                  <a:pt x="19221" y="8949"/>
                  <a:pt x="19248" y="8954"/>
                </a:cubicBezTo>
                <a:cubicBezTo>
                  <a:pt x="19325" y="8969"/>
                  <a:pt x="19408" y="8951"/>
                  <a:pt x="19472" y="8930"/>
                </a:cubicBezTo>
                <a:cubicBezTo>
                  <a:pt x="19496" y="8930"/>
                  <a:pt x="19504" y="8930"/>
                  <a:pt x="19472" y="8930"/>
                </a:cubicBezTo>
              </a:path>
              <a:path w="1241" h="1018">
                <a:moveTo>
                  <a:pt x="19323" y="8830"/>
                </a:moveTo>
                <a:cubicBezTo>
                  <a:pt x="19315" y="8830"/>
                  <a:pt x="19306" y="8830"/>
                  <a:pt x="19298" y="8830"/>
                </a:cubicBezTo>
                <a:cubicBezTo>
                  <a:pt x="19298" y="8896"/>
                  <a:pt x="19298" y="8963"/>
                  <a:pt x="19298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42120" y="3036960"/>
            <a:ext cx="152280" cy="133200"/>
          </a:xfrm>
          <a:custGeom>
            <a:avLst/>
            <a:gdLst/>
            <a:ahLst/>
            <a:rect l="l" t="t" r="r" b="b"/>
            <a:pathLst>
              <a:path w="422" h="373">
                <a:moveTo>
                  <a:pt x="20538" y="8607"/>
                </a:moveTo>
                <a:cubicBezTo>
                  <a:pt x="20499" y="8597"/>
                  <a:pt x="20484" y="8582"/>
                  <a:pt x="20439" y="8582"/>
                </a:cubicBezTo>
                <a:cubicBezTo>
                  <a:pt x="20332" y="8582"/>
                  <a:pt x="20224" y="8582"/>
                  <a:pt x="20117" y="8582"/>
                </a:cubicBezTo>
              </a:path>
              <a:path w="422" h="373">
                <a:moveTo>
                  <a:pt x="20315" y="8434"/>
                </a:moveTo>
                <a:cubicBezTo>
                  <a:pt x="20354" y="8485"/>
                  <a:pt x="20340" y="8539"/>
                  <a:pt x="20340" y="8607"/>
                </a:cubicBezTo>
                <a:cubicBezTo>
                  <a:pt x="20340" y="8681"/>
                  <a:pt x="20356" y="8736"/>
                  <a:pt x="20365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9240" y="3062160"/>
            <a:ext cx="196920" cy="152640"/>
          </a:xfrm>
          <a:custGeom>
            <a:avLst/>
            <a:gdLst/>
            <a:ahLst/>
            <a:rect l="l" t="t" r="r" b="b"/>
            <a:pathLst>
              <a:path w="546" h="423">
                <a:moveTo>
                  <a:pt x="21282" y="8558"/>
                </a:moveTo>
                <a:cubicBezTo>
                  <a:pt x="21315" y="8558"/>
                  <a:pt x="21349" y="8558"/>
                  <a:pt x="21382" y="8558"/>
                </a:cubicBezTo>
                <a:cubicBezTo>
                  <a:pt x="21382" y="8520"/>
                  <a:pt x="21383" y="8490"/>
                  <a:pt x="21332" y="8508"/>
                </a:cubicBezTo>
                <a:cubicBezTo>
                  <a:pt x="21222" y="8547"/>
                  <a:pt x="21179" y="8610"/>
                  <a:pt x="21134" y="8706"/>
                </a:cubicBezTo>
                <a:cubicBezTo>
                  <a:pt x="21091" y="8798"/>
                  <a:pt x="21155" y="8836"/>
                  <a:pt x="21233" y="8880"/>
                </a:cubicBezTo>
                <a:cubicBezTo>
                  <a:pt x="21309" y="8923"/>
                  <a:pt x="21398" y="8957"/>
                  <a:pt x="21481" y="8905"/>
                </a:cubicBezTo>
                <a:cubicBezTo>
                  <a:pt x="21553" y="8860"/>
                  <a:pt x="21603" y="8822"/>
                  <a:pt x="21654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68960" y="3867120"/>
            <a:ext cx="312840" cy="20484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14858" y="10765"/>
                </a:moveTo>
                <a:cubicBezTo>
                  <a:pt x="14922" y="10765"/>
                  <a:pt x="14982" y="10778"/>
                  <a:pt x="15032" y="10740"/>
                </a:cubicBezTo>
                <a:cubicBezTo>
                  <a:pt x="14967" y="10740"/>
                  <a:pt x="14892" y="10728"/>
                  <a:pt x="14833" y="10765"/>
                </a:cubicBezTo>
                <a:cubicBezTo>
                  <a:pt x="14779" y="10799"/>
                  <a:pt x="14684" y="10855"/>
                  <a:pt x="14660" y="10914"/>
                </a:cubicBezTo>
                <a:cubicBezTo>
                  <a:pt x="14636" y="10973"/>
                  <a:pt x="14762" y="11003"/>
                  <a:pt x="14784" y="11013"/>
                </a:cubicBezTo>
                <a:cubicBezTo>
                  <a:pt x="14844" y="11040"/>
                  <a:pt x="14941" y="11055"/>
                  <a:pt x="14982" y="11112"/>
                </a:cubicBezTo>
                <a:cubicBezTo>
                  <a:pt x="15039" y="11192"/>
                  <a:pt x="15001" y="11224"/>
                  <a:pt x="14932" y="11261"/>
                </a:cubicBezTo>
                <a:cubicBezTo>
                  <a:pt x="14851" y="11304"/>
                  <a:pt x="14725" y="11300"/>
                  <a:pt x="14635" y="11311"/>
                </a:cubicBezTo>
              </a:path>
              <a:path w="869" h="572">
                <a:moveTo>
                  <a:pt x="15304" y="11162"/>
                </a:moveTo>
                <a:cubicBezTo>
                  <a:pt x="15248" y="11124"/>
                  <a:pt x="15255" y="11147"/>
                  <a:pt x="15255" y="11088"/>
                </a:cubicBezTo>
                <a:cubicBezTo>
                  <a:pt x="15312" y="11077"/>
                  <a:pt x="15374" y="11033"/>
                  <a:pt x="15429" y="11088"/>
                </a:cubicBezTo>
                <a:cubicBezTo>
                  <a:pt x="15475" y="11134"/>
                  <a:pt x="15496" y="11227"/>
                  <a:pt x="15503" y="11286"/>
                </a:cubicBezTo>
                <a:cubicBezTo>
                  <a:pt x="15451" y="11318"/>
                  <a:pt x="15387" y="11328"/>
                  <a:pt x="15329" y="11286"/>
                </a:cubicBezTo>
                <a:cubicBezTo>
                  <a:pt x="15284" y="11253"/>
                  <a:pt x="15245" y="11202"/>
                  <a:pt x="15205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27800" y="3313080"/>
            <a:ext cx="500040" cy="322200"/>
          </a:xfrm>
          <a:custGeom>
            <a:avLst/>
            <a:gdLst/>
            <a:ahLst/>
            <a:rect l="l" t="t" r="r" b="b"/>
            <a:pathLst>
              <a:path w="1390" h="894">
                <a:moveTo>
                  <a:pt x="15503" y="9327"/>
                </a:moveTo>
                <a:cubicBezTo>
                  <a:pt x="15544" y="9307"/>
                  <a:pt x="15560" y="9309"/>
                  <a:pt x="15553" y="9277"/>
                </a:cubicBezTo>
                <a:cubicBezTo>
                  <a:pt x="15470" y="9298"/>
                  <a:pt x="15476" y="9338"/>
                  <a:pt x="15429" y="9401"/>
                </a:cubicBezTo>
                <a:cubicBezTo>
                  <a:pt x="15351" y="9505"/>
                  <a:pt x="15354" y="9567"/>
                  <a:pt x="15354" y="9699"/>
                </a:cubicBezTo>
                <a:cubicBezTo>
                  <a:pt x="15354" y="9808"/>
                  <a:pt x="15388" y="9901"/>
                  <a:pt x="15478" y="9971"/>
                </a:cubicBezTo>
                <a:cubicBezTo>
                  <a:pt x="15535" y="10016"/>
                  <a:pt x="15631" y="10002"/>
                  <a:pt x="15677" y="9947"/>
                </a:cubicBezTo>
                <a:cubicBezTo>
                  <a:pt x="15729" y="9886"/>
                  <a:pt x="15697" y="9822"/>
                  <a:pt x="15652" y="9773"/>
                </a:cubicBezTo>
                <a:cubicBezTo>
                  <a:pt x="15610" y="9726"/>
                  <a:pt x="15552" y="9753"/>
                  <a:pt x="15503" y="9773"/>
                </a:cubicBezTo>
                <a:cubicBezTo>
                  <a:pt x="15486" y="9781"/>
                  <a:pt x="15470" y="9790"/>
                  <a:pt x="15453" y="9798"/>
                </a:cubicBezTo>
              </a:path>
              <a:path w="1390" h="894">
                <a:moveTo>
                  <a:pt x="16247" y="9227"/>
                </a:moveTo>
                <a:cubicBezTo>
                  <a:pt x="16247" y="9219"/>
                  <a:pt x="16247" y="9211"/>
                  <a:pt x="16247" y="9203"/>
                </a:cubicBezTo>
                <a:cubicBezTo>
                  <a:pt x="16302" y="9221"/>
                  <a:pt x="16260" y="9238"/>
                  <a:pt x="16247" y="9277"/>
                </a:cubicBezTo>
                <a:cubicBezTo>
                  <a:pt x="16231" y="9326"/>
                  <a:pt x="16245" y="9390"/>
                  <a:pt x="16272" y="9426"/>
                </a:cubicBezTo>
              </a:path>
              <a:path w="1390" h="894">
                <a:moveTo>
                  <a:pt x="16495" y="9550"/>
                </a:moveTo>
                <a:cubicBezTo>
                  <a:pt x="16440" y="9550"/>
                  <a:pt x="16424" y="9562"/>
                  <a:pt x="16371" y="9575"/>
                </a:cubicBezTo>
                <a:cubicBezTo>
                  <a:pt x="16326" y="9586"/>
                  <a:pt x="16260" y="9592"/>
                  <a:pt x="16222" y="9599"/>
                </a:cubicBezTo>
                <a:cubicBezTo>
                  <a:pt x="16167" y="9610"/>
                  <a:pt x="16133" y="9624"/>
                  <a:pt x="16073" y="9624"/>
                </a:cubicBezTo>
                <a:cubicBezTo>
                  <a:pt x="16073" y="9649"/>
                  <a:pt x="16073" y="9657"/>
                  <a:pt x="16049" y="9649"/>
                </a:cubicBezTo>
              </a:path>
              <a:path w="1390" h="894">
                <a:moveTo>
                  <a:pt x="16123" y="9773"/>
                </a:moveTo>
                <a:cubicBezTo>
                  <a:pt x="16131" y="9773"/>
                  <a:pt x="16140" y="9773"/>
                  <a:pt x="16148" y="9773"/>
                </a:cubicBezTo>
                <a:cubicBezTo>
                  <a:pt x="16158" y="9812"/>
                  <a:pt x="16173" y="9828"/>
                  <a:pt x="16173" y="9872"/>
                </a:cubicBezTo>
                <a:cubicBezTo>
                  <a:pt x="16173" y="9920"/>
                  <a:pt x="16188" y="9951"/>
                  <a:pt x="16197" y="9996"/>
                </a:cubicBezTo>
              </a:path>
              <a:path w="1390" h="894">
                <a:moveTo>
                  <a:pt x="16371" y="9798"/>
                </a:moveTo>
                <a:cubicBezTo>
                  <a:pt x="16379" y="9790"/>
                  <a:pt x="16388" y="9781"/>
                  <a:pt x="16396" y="9773"/>
                </a:cubicBezTo>
                <a:cubicBezTo>
                  <a:pt x="16396" y="9830"/>
                  <a:pt x="16406" y="9851"/>
                  <a:pt x="16421" y="9897"/>
                </a:cubicBezTo>
                <a:cubicBezTo>
                  <a:pt x="16441" y="9956"/>
                  <a:pt x="16455" y="9947"/>
                  <a:pt x="16520" y="9947"/>
                </a:cubicBezTo>
                <a:cubicBezTo>
                  <a:pt x="16597" y="9947"/>
                  <a:pt x="16654" y="9944"/>
                  <a:pt x="16718" y="9922"/>
                </a:cubicBezTo>
                <a:cubicBezTo>
                  <a:pt x="16726" y="9922"/>
                  <a:pt x="16735" y="9922"/>
                  <a:pt x="16743" y="9922"/>
                </a:cubicBezTo>
              </a:path>
              <a:path w="1390" h="894">
                <a:moveTo>
                  <a:pt x="16570" y="9823"/>
                </a:moveTo>
                <a:cubicBezTo>
                  <a:pt x="16524" y="9868"/>
                  <a:pt x="16505" y="9901"/>
                  <a:pt x="16520" y="9971"/>
                </a:cubicBezTo>
                <a:cubicBezTo>
                  <a:pt x="16542" y="10037"/>
                  <a:pt x="16550" y="10052"/>
                  <a:pt x="16545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76960" y="344664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7636" y="9575"/>
                </a:moveTo>
                <a:cubicBezTo>
                  <a:pt x="17644" y="9575"/>
                  <a:pt x="17653" y="9575"/>
                  <a:pt x="17661" y="9575"/>
                </a:cubicBezTo>
                <a:cubicBezTo>
                  <a:pt x="17648" y="9611"/>
                  <a:pt x="17631" y="9599"/>
                  <a:pt x="17587" y="9599"/>
                </a:cubicBezTo>
                <a:cubicBezTo>
                  <a:pt x="17542" y="9599"/>
                  <a:pt x="17509" y="9624"/>
                  <a:pt x="17462" y="9624"/>
                </a:cubicBezTo>
                <a:cubicBezTo>
                  <a:pt x="17438" y="9624"/>
                  <a:pt x="17430" y="9624"/>
                  <a:pt x="17438" y="9649"/>
                </a:cubicBezTo>
              </a:path>
              <a:path w="224" h="199">
                <a:moveTo>
                  <a:pt x="17611" y="9699"/>
                </a:moveTo>
                <a:cubicBezTo>
                  <a:pt x="17634" y="9721"/>
                  <a:pt x="17642" y="9726"/>
                  <a:pt x="17636" y="9748"/>
                </a:cubicBezTo>
                <a:cubicBezTo>
                  <a:pt x="17589" y="9748"/>
                  <a:pt x="17557" y="9768"/>
                  <a:pt x="17512" y="9773"/>
                </a:cubicBezTo>
                <a:cubicBezTo>
                  <a:pt x="17504" y="9773"/>
                  <a:pt x="17495" y="9773"/>
                  <a:pt x="17487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07080" y="3429000"/>
            <a:ext cx="127080" cy="115920"/>
          </a:xfrm>
          <a:custGeom>
            <a:avLst/>
            <a:gdLst/>
            <a:ahLst/>
            <a:rect l="l" t="t" r="r" b="b"/>
            <a:pathLst>
              <a:path w="349" h="323">
                <a:moveTo>
                  <a:pt x="18579" y="9550"/>
                </a:moveTo>
                <a:cubicBezTo>
                  <a:pt x="18572" y="9528"/>
                  <a:pt x="18540" y="9505"/>
                  <a:pt x="18504" y="9525"/>
                </a:cubicBezTo>
                <a:cubicBezTo>
                  <a:pt x="18464" y="9547"/>
                  <a:pt x="18404" y="9613"/>
                  <a:pt x="18380" y="9649"/>
                </a:cubicBezTo>
                <a:cubicBezTo>
                  <a:pt x="18346" y="9700"/>
                  <a:pt x="18340" y="9755"/>
                  <a:pt x="18380" y="9798"/>
                </a:cubicBezTo>
                <a:cubicBezTo>
                  <a:pt x="18443" y="9864"/>
                  <a:pt x="18493" y="9847"/>
                  <a:pt x="18579" y="9847"/>
                </a:cubicBezTo>
                <a:cubicBezTo>
                  <a:pt x="18627" y="9847"/>
                  <a:pt x="18658" y="9832"/>
                  <a:pt x="18703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65920" y="398304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16594" y="11137"/>
                </a:moveTo>
                <a:cubicBezTo>
                  <a:pt x="16594" y="11104"/>
                  <a:pt x="16594" y="11055"/>
                  <a:pt x="16594" y="11088"/>
                </a:cubicBezTo>
                <a:cubicBezTo>
                  <a:pt x="16568" y="11132"/>
                  <a:pt x="16546" y="11213"/>
                  <a:pt x="16594" y="11261"/>
                </a:cubicBezTo>
                <a:cubicBezTo>
                  <a:pt x="16654" y="11321"/>
                  <a:pt x="16757" y="11263"/>
                  <a:pt x="16818" y="11237"/>
                </a:cubicBezTo>
                <a:cubicBezTo>
                  <a:pt x="16947" y="11182"/>
                  <a:pt x="16984" y="11276"/>
                  <a:pt x="17016" y="11385"/>
                </a:cubicBezTo>
                <a:cubicBezTo>
                  <a:pt x="17037" y="11455"/>
                  <a:pt x="17082" y="11627"/>
                  <a:pt x="17016" y="11683"/>
                </a:cubicBezTo>
                <a:cubicBezTo>
                  <a:pt x="16952" y="11737"/>
                  <a:pt x="16836" y="11708"/>
                  <a:pt x="16768" y="11683"/>
                </a:cubicBezTo>
                <a:cubicBezTo>
                  <a:pt x="16724" y="11661"/>
                  <a:pt x="16713" y="11658"/>
                  <a:pt x="16694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96040" y="4027320"/>
            <a:ext cx="81000" cy="71640"/>
          </a:xfrm>
          <a:custGeom>
            <a:avLst/>
            <a:gdLst/>
            <a:ahLst/>
            <a:rect l="l" t="t" r="r" b="b"/>
            <a:pathLst>
              <a:path w="225" h="199">
                <a:moveTo>
                  <a:pt x="17661" y="11187"/>
                </a:moveTo>
                <a:cubicBezTo>
                  <a:pt x="17686" y="11187"/>
                  <a:pt x="17694" y="11187"/>
                  <a:pt x="17711" y="11187"/>
                </a:cubicBezTo>
                <a:cubicBezTo>
                  <a:pt x="17698" y="11225"/>
                  <a:pt x="17681" y="11212"/>
                  <a:pt x="17636" y="11212"/>
                </a:cubicBezTo>
                <a:cubicBezTo>
                  <a:pt x="17586" y="11212"/>
                  <a:pt x="17537" y="11212"/>
                  <a:pt x="17487" y="11212"/>
                </a:cubicBezTo>
              </a:path>
              <a:path w="225" h="199">
                <a:moveTo>
                  <a:pt x="17636" y="11311"/>
                </a:moveTo>
                <a:cubicBezTo>
                  <a:pt x="17675" y="11364"/>
                  <a:pt x="17657" y="11380"/>
                  <a:pt x="17587" y="11385"/>
                </a:cubicBezTo>
                <a:cubicBezTo>
                  <a:pt x="17570" y="11385"/>
                  <a:pt x="17554" y="11385"/>
                  <a:pt x="17537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3160" y="3902040"/>
            <a:ext cx="793800" cy="403200"/>
          </a:xfrm>
          <a:custGeom>
            <a:avLst/>
            <a:gdLst/>
            <a:ahLst/>
            <a:rect l="l" t="t" r="r" b="b"/>
            <a:pathLst>
              <a:path w="2209" h="1117">
                <a:moveTo>
                  <a:pt x="18728" y="11212"/>
                </a:moveTo>
                <a:cubicBezTo>
                  <a:pt x="18736" y="11220"/>
                  <a:pt x="18744" y="11229"/>
                  <a:pt x="18752" y="11237"/>
                </a:cubicBezTo>
                <a:cubicBezTo>
                  <a:pt x="18661" y="11237"/>
                  <a:pt x="18570" y="11237"/>
                  <a:pt x="18479" y="11237"/>
                </a:cubicBezTo>
              </a:path>
              <a:path w="2209" h="1117">
                <a:moveTo>
                  <a:pt x="19224" y="10864"/>
                </a:moveTo>
                <a:cubicBezTo>
                  <a:pt x="19224" y="10840"/>
                  <a:pt x="19224" y="10832"/>
                  <a:pt x="19248" y="10840"/>
                </a:cubicBezTo>
                <a:cubicBezTo>
                  <a:pt x="19248" y="10912"/>
                  <a:pt x="19235" y="10971"/>
                  <a:pt x="19224" y="11038"/>
                </a:cubicBezTo>
                <a:cubicBezTo>
                  <a:pt x="19217" y="11084"/>
                  <a:pt x="19224" y="11140"/>
                  <a:pt x="19224" y="11187"/>
                </a:cubicBezTo>
              </a:path>
              <a:path w="2209" h="1117">
                <a:moveTo>
                  <a:pt x="19596" y="11410"/>
                </a:moveTo>
                <a:cubicBezTo>
                  <a:pt x="19581" y="11366"/>
                  <a:pt x="19525" y="11385"/>
                  <a:pt x="19472" y="11385"/>
                </a:cubicBezTo>
                <a:cubicBezTo>
                  <a:pt x="19368" y="11385"/>
                  <a:pt x="19276" y="11371"/>
                  <a:pt x="19174" y="11361"/>
                </a:cubicBezTo>
                <a:cubicBezTo>
                  <a:pt x="19072" y="11351"/>
                  <a:pt x="18980" y="11336"/>
                  <a:pt x="18876" y="11336"/>
                </a:cubicBezTo>
                <a:cubicBezTo>
                  <a:pt x="18824" y="11336"/>
                  <a:pt x="18820" y="11350"/>
                  <a:pt x="18777" y="11361"/>
                </a:cubicBezTo>
              </a:path>
              <a:path w="2209" h="1117">
                <a:moveTo>
                  <a:pt x="18876" y="11485"/>
                </a:moveTo>
                <a:cubicBezTo>
                  <a:pt x="18876" y="11609"/>
                  <a:pt x="18876" y="11733"/>
                  <a:pt x="18876" y="11857"/>
                </a:cubicBezTo>
              </a:path>
              <a:path w="2209" h="1117">
                <a:moveTo>
                  <a:pt x="19100" y="11509"/>
                </a:moveTo>
                <a:cubicBezTo>
                  <a:pt x="19100" y="11561"/>
                  <a:pt x="19071" y="11787"/>
                  <a:pt x="19124" y="11807"/>
                </a:cubicBezTo>
                <a:cubicBezTo>
                  <a:pt x="19173" y="11826"/>
                  <a:pt x="19243" y="11832"/>
                  <a:pt x="19298" y="11832"/>
                </a:cubicBezTo>
                <a:cubicBezTo>
                  <a:pt x="19348" y="11832"/>
                  <a:pt x="19397" y="11832"/>
                  <a:pt x="19447" y="11832"/>
                </a:cubicBezTo>
              </a:path>
              <a:path w="2209" h="1117">
                <a:moveTo>
                  <a:pt x="19348" y="11757"/>
                </a:moveTo>
                <a:cubicBezTo>
                  <a:pt x="19260" y="11770"/>
                  <a:pt x="19296" y="11767"/>
                  <a:pt x="19273" y="11832"/>
                </a:cubicBezTo>
                <a:cubicBezTo>
                  <a:pt x="19250" y="11896"/>
                  <a:pt x="19248" y="11888"/>
                  <a:pt x="19248" y="11956"/>
                </a:cubicBezTo>
              </a:path>
              <a:path w="2209" h="1117">
                <a:moveTo>
                  <a:pt x="19993" y="11435"/>
                </a:moveTo>
                <a:cubicBezTo>
                  <a:pt x="19965" y="11397"/>
                  <a:pt x="19960" y="11361"/>
                  <a:pt x="20017" y="11336"/>
                </a:cubicBezTo>
                <a:cubicBezTo>
                  <a:pt x="20085" y="11306"/>
                  <a:pt x="20184" y="11334"/>
                  <a:pt x="20216" y="11385"/>
                </a:cubicBezTo>
                <a:cubicBezTo>
                  <a:pt x="20258" y="11451"/>
                  <a:pt x="20289" y="11517"/>
                  <a:pt x="20241" y="11584"/>
                </a:cubicBezTo>
                <a:cubicBezTo>
                  <a:pt x="20205" y="11634"/>
                  <a:pt x="20124" y="11648"/>
                  <a:pt x="20067" y="11633"/>
                </a:cubicBezTo>
                <a:cubicBezTo>
                  <a:pt x="20026" y="11614"/>
                  <a:pt x="20020" y="11606"/>
                  <a:pt x="19993" y="11609"/>
                </a:cubicBezTo>
              </a:path>
              <a:path w="2209" h="1117">
                <a:moveTo>
                  <a:pt x="20513" y="11311"/>
                </a:moveTo>
                <a:cubicBezTo>
                  <a:pt x="20513" y="11294"/>
                  <a:pt x="20513" y="11278"/>
                  <a:pt x="20513" y="11261"/>
                </a:cubicBezTo>
                <a:cubicBezTo>
                  <a:pt x="20466" y="11273"/>
                  <a:pt x="20393" y="11314"/>
                  <a:pt x="20365" y="11361"/>
                </a:cubicBezTo>
                <a:cubicBezTo>
                  <a:pt x="20332" y="11416"/>
                  <a:pt x="20326" y="11541"/>
                  <a:pt x="20389" y="11584"/>
                </a:cubicBezTo>
                <a:cubicBezTo>
                  <a:pt x="20465" y="11636"/>
                  <a:pt x="20557" y="11643"/>
                  <a:pt x="20638" y="11609"/>
                </a:cubicBezTo>
                <a:cubicBezTo>
                  <a:pt x="20654" y="11601"/>
                  <a:pt x="20671" y="11592"/>
                  <a:pt x="20687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97880" y="4062240"/>
            <a:ext cx="98280" cy="90720"/>
          </a:xfrm>
          <a:custGeom>
            <a:avLst/>
            <a:gdLst/>
            <a:ahLst/>
            <a:rect l="l" t="t" r="r" b="b"/>
            <a:pathLst>
              <a:path w="273" h="249">
                <a:moveTo>
                  <a:pt x="21630" y="11460"/>
                </a:moveTo>
                <a:cubicBezTo>
                  <a:pt x="21673" y="11445"/>
                  <a:pt x="21644" y="11423"/>
                  <a:pt x="21605" y="11410"/>
                </a:cubicBezTo>
                <a:cubicBezTo>
                  <a:pt x="21549" y="11391"/>
                  <a:pt x="21498" y="11427"/>
                  <a:pt x="21456" y="11435"/>
                </a:cubicBezTo>
                <a:cubicBezTo>
                  <a:pt x="21415" y="11435"/>
                  <a:pt x="21407" y="11435"/>
                  <a:pt x="21382" y="11435"/>
                </a:cubicBezTo>
              </a:path>
              <a:path w="273" h="249">
                <a:moveTo>
                  <a:pt x="21506" y="11286"/>
                </a:moveTo>
                <a:cubicBezTo>
                  <a:pt x="21543" y="11299"/>
                  <a:pt x="21540" y="11362"/>
                  <a:pt x="21530" y="11410"/>
                </a:cubicBezTo>
                <a:cubicBezTo>
                  <a:pt x="21509" y="11476"/>
                  <a:pt x="21501" y="11491"/>
                  <a:pt x="21506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966080" y="4017960"/>
            <a:ext cx="490680" cy="376200"/>
          </a:xfrm>
          <a:custGeom>
            <a:avLst/>
            <a:gdLst/>
            <a:ahLst/>
            <a:rect l="l" t="t" r="r" b="b"/>
            <a:pathLst>
              <a:path w="1365" h="1043">
                <a:moveTo>
                  <a:pt x="22349" y="11237"/>
                </a:moveTo>
                <a:cubicBezTo>
                  <a:pt x="22409" y="11177"/>
                  <a:pt x="22435" y="11130"/>
                  <a:pt x="22374" y="11212"/>
                </a:cubicBezTo>
                <a:cubicBezTo>
                  <a:pt x="22292" y="11322"/>
                  <a:pt x="22252" y="11408"/>
                  <a:pt x="22200" y="11534"/>
                </a:cubicBezTo>
                <a:cubicBezTo>
                  <a:pt x="22144" y="11670"/>
                  <a:pt x="22101" y="11760"/>
                  <a:pt x="22151" y="11906"/>
                </a:cubicBezTo>
                <a:cubicBezTo>
                  <a:pt x="22173" y="11970"/>
                  <a:pt x="22249" y="12046"/>
                  <a:pt x="22324" y="12005"/>
                </a:cubicBezTo>
                <a:cubicBezTo>
                  <a:pt x="22408" y="11959"/>
                  <a:pt x="22407" y="11906"/>
                  <a:pt x="22374" y="11832"/>
                </a:cubicBezTo>
                <a:cubicBezTo>
                  <a:pt x="22335" y="11745"/>
                  <a:pt x="22288" y="11719"/>
                  <a:pt x="22200" y="11708"/>
                </a:cubicBezTo>
              </a:path>
              <a:path w="1365" h="1043">
                <a:moveTo>
                  <a:pt x="23044" y="11212"/>
                </a:moveTo>
                <a:cubicBezTo>
                  <a:pt x="23044" y="11285"/>
                  <a:pt x="23030" y="11343"/>
                  <a:pt x="23019" y="11410"/>
                </a:cubicBezTo>
                <a:cubicBezTo>
                  <a:pt x="23019" y="11452"/>
                  <a:pt x="23019" y="11460"/>
                  <a:pt x="23019" y="11485"/>
                </a:cubicBezTo>
              </a:path>
              <a:path w="1365" h="1043">
                <a:moveTo>
                  <a:pt x="23366" y="11683"/>
                </a:moveTo>
                <a:cubicBezTo>
                  <a:pt x="23349" y="11716"/>
                  <a:pt x="23300" y="11668"/>
                  <a:pt x="23242" y="11658"/>
                </a:cubicBezTo>
                <a:cubicBezTo>
                  <a:pt x="23155" y="11643"/>
                  <a:pt x="23057" y="11637"/>
                  <a:pt x="22969" y="11633"/>
                </a:cubicBezTo>
                <a:cubicBezTo>
                  <a:pt x="22920" y="11631"/>
                  <a:pt x="22869" y="11633"/>
                  <a:pt x="22820" y="11633"/>
                </a:cubicBezTo>
              </a:path>
              <a:path w="1365" h="1043">
                <a:moveTo>
                  <a:pt x="22870" y="11782"/>
                </a:moveTo>
                <a:cubicBezTo>
                  <a:pt x="22846" y="11845"/>
                  <a:pt x="22863" y="11896"/>
                  <a:pt x="22845" y="11956"/>
                </a:cubicBezTo>
                <a:cubicBezTo>
                  <a:pt x="22821" y="12004"/>
                  <a:pt x="22812" y="12018"/>
                  <a:pt x="22820" y="12055"/>
                </a:cubicBezTo>
              </a:path>
              <a:path w="1365" h="1043">
                <a:moveTo>
                  <a:pt x="23093" y="11881"/>
                </a:moveTo>
                <a:cubicBezTo>
                  <a:pt x="23117" y="11853"/>
                  <a:pt x="23187" y="11779"/>
                  <a:pt x="23143" y="11857"/>
                </a:cubicBezTo>
                <a:cubicBezTo>
                  <a:pt x="23108" y="11918"/>
                  <a:pt x="23093" y="11931"/>
                  <a:pt x="23093" y="12005"/>
                </a:cubicBezTo>
                <a:cubicBezTo>
                  <a:pt x="23093" y="12030"/>
                  <a:pt x="23093" y="12038"/>
                  <a:pt x="23093" y="12055"/>
                </a:cubicBezTo>
                <a:cubicBezTo>
                  <a:pt x="23147" y="12063"/>
                  <a:pt x="23212" y="12064"/>
                  <a:pt x="23267" y="12080"/>
                </a:cubicBezTo>
                <a:cubicBezTo>
                  <a:pt x="23327" y="12097"/>
                  <a:pt x="23351" y="12105"/>
                  <a:pt x="23416" y="12105"/>
                </a:cubicBezTo>
                <a:cubicBezTo>
                  <a:pt x="23447" y="12105"/>
                  <a:pt x="23461" y="12122"/>
                  <a:pt x="23490" y="12129"/>
                </a:cubicBezTo>
              </a:path>
              <a:path w="1365" h="1043">
                <a:moveTo>
                  <a:pt x="23416" y="12055"/>
                </a:moveTo>
                <a:cubicBezTo>
                  <a:pt x="23377" y="12016"/>
                  <a:pt x="23375" y="11999"/>
                  <a:pt x="23341" y="12005"/>
                </a:cubicBezTo>
                <a:cubicBezTo>
                  <a:pt x="23317" y="12070"/>
                  <a:pt x="23303" y="12134"/>
                  <a:pt x="23292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76200" y="6804000"/>
            <a:ext cx="349560" cy="46080"/>
          </a:xfrm>
          <a:custGeom>
            <a:avLst/>
            <a:gdLst/>
            <a:ahLst/>
            <a:rect l="l" t="t" r="r" b="b"/>
            <a:pathLst>
              <a:path w="968" h="125">
                <a:moveTo>
                  <a:pt x="3547" y="18901"/>
                </a:moveTo>
                <a:cubicBezTo>
                  <a:pt x="3746" y="19004"/>
                  <a:pt x="3824" y="19025"/>
                  <a:pt x="4043" y="19025"/>
                </a:cubicBezTo>
                <a:cubicBezTo>
                  <a:pt x="4200" y="19025"/>
                  <a:pt x="4357" y="19025"/>
                  <a:pt x="4514" y="190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91040" y="2536920"/>
            <a:ext cx="54000" cy="2936880"/>
          </a:xfrm>
          <a:custGeom>
            <a:avLst/>
            <a:gdLst/>
            <a:ahLst/>
            <a:rect l="l" t="t" r="r" b="b"/>
            <a:pathLst>
              <a:path w="150" h="8161">
                <a:moveTo>
                  <a:pt x="13866" y="7045"/>
                </a:moveTo>
                <a:cubicBezTo>
                  <a:pt x="13875" y="7107"/>
                  <a:pt x="13887" y="7162"/>
                  <a:pt x="13891" y="7218"/>
                </a:cubicBezTo>
                <a:cubicBezTo>
                  <a:pt x="13915" y="7587"/>
                  <a:pt x="13910" y="7965"/>
                  <a:pt x="13915" y="8334"/>
                </a:cubicBezTo>
                <a:cubicBezTo>
                  <a:pt x="13917" y="8534"/>
                  <a:pt x="13932" y="8734"/>
                  <a:pt x="13940" y="8930"/>
                </a:cubicBezTo>
                <a:cubicBezTo>
                  <a:pt x="13952" y="9243"/>
                  <a:pt x="13953" y="9562"/>
                  <a:pt x="13965" y="9872"/>
                </a:cubicBezTo>
                <a:cubicBezTo>
                  <a:pt x="13971" y="10017"/>
                  <a:pt x="13946" y="10154"/>
                  <a:pt x="13940" y="10294"/>
                </a:cubicBezTo>
                <a:cubicBezTo>
                  <a:pt x="13931" y="10494"/>
                  <a:pt x="13924" y="10692"/>
                  <a:pt x="13915" y="10889"/>
                </a:cubicBezTo>
                <a:cubicBezTo>
                  <a:pt x="13893" y="11389"/>
                  <a:pt x="13936" y="11884"/>
                  <a:pt x="13965" y="12378"/>
                </a:cubicBezTo>
                <a:cubicBezTo>
                  <a:pt x="13977" y="12586"/>
                  <a:pt x="13990" y="12789"/>
                  <a:pt x="13990" y="12998"/>
                </a:cubicBezTo>
                <a:cubicBezTo>
                  <a:pt x="13990" y="13652"/>
                  <a:pt x="13990" y="14306"/>
                  <a:pt x="14015" y="14957"/>
                </a:cubicBezTo>
                <a:cubicBezTo>
                  <a:pt x="14015" y="15081"/>
                  <a:pt x="14015" y="15122"/>
                  <a:pt x="14015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986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92040" y="2643120"/>
            <a:ext cx="20628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1116" y="7417"/>
                </a:moveTo>
                <a:cubicBezTo>
                  <a:pt x="1116" y="7392"/>
                  <a:pt x="1116" y="7367"/>
                  <a:pt x="1116" y="7342"/>
                </a:cubicBezTo>
                <a:cubicBezTo>
                  <a:pt x="1064" y="7359"/>
                  <a:pt x="1094" y="7417"/>
                  <a:pt x="1116" y="7466"/>
                </a:cubicBezTo>
                <a:cubicBezTo>
                  <a:pt x="1162" y="7569"/>
                  <a:pt x="1215" y="7583"/>
                  <a:pt x="1315" y="7541"/>
                </a:cubicBezTo>
                <a:cubicBezTo>
                  <a:pt x="1370" y="7518"/>
                  <a:pt x="1442" y="7406"/>
                  <a:pt x="1513" y="7441"/>
                </a:cubicBezTo>
                <a:cubicBezTo>
                  <a:pt x="1615" y="7492"/>
                  <a:pt x="1649" y="7666"/>
                  <a:pt x="1662" y="7764"/>
                </a:cubicBezTo>
                <a:cubicBezTo>
                  <a:pt x="1677" y="7878"/>
                  <a:pt x="1579" y="7927"/>
                  <a:pt x="1488" y="7962"/>
                </a:cubicBezTo>
                <a:cubicBezTo>
                  <a:pt x="1403" y="7994"/>
                  <a:pt x="1370" y="7989"/>
                  <a:pt x="1290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4240" y="2633760"/>
            <a:ext cx="428760" cy="117360"/>
          </a:xfrm>
          <a:custGeom>
            <a:avLst/>
            <a:gdLst/>
            <a:ahLst/>
            <a:rect l="l" t="t" r="r" b="b"/>
            <a:pathLst>
              <a:path w="1192" h="324">
                <a:moveTo>
                  <a:pt x="2158" y="7441"/>
                </a:moveTo>
                <a:cubicBezTo>
                  <a:pt x="2183" y="7441"/>
                  <a:pt x="2191" y="7441"/>
                  <a:pt x="2208" y="7441"/>
                </a:cubicBezTo>
                <a:cubicBezTo>
                  <a:pt x="2197" y="7409"/>
                  <a:pt x="2153" y="7403"/>
                  <a:pt x="2108" y="7417"/>
                </a:cubicBezTo>
                <a:cubicBezTo>
                  <a:pt x="2058" y="7433"/>
                  <a:pt x="2037" y="7441"/>
                  <a:pt x="1984" y="7441"/>
                </a:cubicBezTo>
              </a:path>
              <a:path w="1192" h="324">
                <a:moveTo>
                  <a:pt x="2133" y="7541"/>
                </a:moveTo>
                <a:cubicBezTo>
                  <a:pt x="2188" y="7541"/>
                  <a:pt x="2195" y="7526"/>
                  <a:pt x="2208" y="7565"/>
                </a:cubicBezTo>
                <a:cubicBezTo>
                  <a:pt x="2196" y="7583"/>
                  <a:pt x="2127" y="7626"/>
                  <a:pt x="2084" y="7640"/>
                </a:cubicBezTo>
                <a:cubicBezTo>
                  <a:pt x="2059" y="7640"/>
                  <a:pt x="2051" y="7640"/>
                  <a:pt x="2034" y="7640"/>
                </a:cubicBezTo>
              </a:path>
              <a:path w="1192" h="324">
                <a:moveTo>
                  <a:pt x="2604" y="7441"/>
                </a:moveTo>
                <a:cubicBezTo>
                  <a:pt x="2563" y="7441"/>
                  <a:pt x="2555" y="7441"/>
                  <a:pt x="2530" y="7441"/>
                </a:cubicBezTo>
                <a:cubicBezTo>
                  <a:pt x="2555" y="7392"/>
                  <a:pt x="2594" y="7371"/>
                  <a:pt x="2654" y="7367"/>
                </a:cubicBezTo>
                <a:cubicBezTo>
                  <a:pt x="2730" y="7362"/>
                  <a:pt x="2802" y="7381"/>
                  <a:pt x="2853" y="7441"/>
                </a:cubicBezTo>
                <a:cubicBezTo>
                  <a:pt x="2908" y="7505"/>
                  <a:pt x="2884" y="7580"/>
                  <a:pt x="2828" y="7615"/>
                </a:cubicBezTo>
                <a:cubicBezTo>
                  <a:pt x="2772" y="7650"/>
                  <a:pt x="2718" y="7640"/>
                  <a:pt x="2654" y="7640"/>
                </a:cubicBezTo>
                <a:cubicBezTo>
                  <a:pt x="2629" y="7640"/>
                  <a:pt x="2621" y="7640"/>
                  <a:pt x="2604" y="7640"/>
                </a:cubicBezTo>
              </a:path>
              <a:path w="1192" h="324">
                <a:moveTo>
                  <a:pt x="2902" y="7392"/>
                </a:moveTo>
                <a:cubicBezTo>
                  <a:pt x="2940" y="7335"/>
                  <a:pt x="2978" y="7310"/>
                  <a:pt x="2927" y="7317"/>
                </a:cubicBezTo>
                <a:cubicBezTo>
                  <a:pt x="2906" y="7421"/>
                  <a:pt x="2896" y="7399"/>
                  <a:pt x="2952" y="7491"/>
                </a:cubicBezTo>
                <a:cubicBezTo>
                  <a:pt x="2992" y="7556"/>
                  <a:pt x="3043" y="7587"/>
                  <a:pt x="3125" y="7565"/>
                </a:cubicBezTo>
                <a:cubicBezTo>
                  <a:pt x="3142" y="7557"/>
                  <a:pt x="3158" y="7549"/>
                  <a:pt x="3175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12920" y="2571840"/>
            <a:ext cx="438120" cy="160200"/>
          </a:xfrm>
          <a:custGeom>
            <a:avLst/>
            <a:gdLst/>
            <a:ahLst/>
            <a:rect l="l" t="t" r="r" b="b"/>
            <a:pathLst>
              <a:path w="1217" h="447">
                <a:moveTo>
                  <a:pt x="3721" y="7243"/>
                </a:moveTo>
                <a:cubicBezTo>
                  <a:pt x="3721" y="7210"/>
                  <a:pt x="3721" y="7177"/>
                  <a:pt x="3721" y="7144"/>
                </a:cubicBezTo>
                <a:cubicBezTo>
                  <a:pt x="3686" y="7161"/>
                  <a:pt x="3653" y="7218"/>
                  <a:pt x="3646" y="7268"/>
                </a:cubicBezTo>
                <a:cubicBezTo>
                  <a:pt x="3632" y="7368"/>
                  <a:pt x="3639" y="7474"/>
                  <a:pt x="3721" y="7541"/>
                </a:cubicBezTo>
                <a:cubicBezTo>
                  <a:pt x="3783" y="7592"/>
                  <a:pt x="3830" y="7579"/>
                  <a:pt x="3894" y="7565"/>
                </a:cubicBezTo>
              </a:path>
              <a:path w="1217" h="447">
                <a:moveTo>
                  <a:pt x="4018" y="7367"/>
                </a:moveTo>
                <a:cubicBezTo>
                  <a:pt x="3975" y="7312"/>
                  <a:pt x="3932" y="7249"/>
                  <a:pt x="3845" y="7268"/>
                </a:cubicBezTo>
                <a:cubicBezTo>
                  <a:pt x="3807" y="7276"/>
                  <a:pt x="3774" y="7296"/>
                  <a:pt x="3746" y="7317"/>
                </a:cubicBezTo>
              </a:path>
              <a:path w="1217" h="447">
                <a:moveTo>
                  <a:pt x="4118" y="7317"/>
                </a:moveTo>
                <a:cubicBezTo>
                  <a:pt x="4126" y="7309"/>
                  <a:pt x="4134" y="7301"/>
                  <a:pt x="4142" y="7293"/>
                </a:cubicBezTo>
                <a:cubicBezTo>
                  <a:pt x="4092" y="7343"/>
                  <a:pt x="4051" y="7348"/>
                  <a:pt x="4043" y="7417"/>
                </a:cubicBezTo>
                <a:cubicBezTo>
                  <a:pt x="4032" y="7511"/>
                  <a:pt x="4085" y="7501"/>
                  <a:pt x="4142" y="7491"/>
                </a:cubicBezTo>
                <a:cubicBezTo>
                  <a:pt x="4203" y="7481"/>
                  <a:pt x="4206" y="7412"/>
                  <a:pt x="4266" y="7466"/>
                </a:cubicBezTo>
                <a:cubicBezTo>
                  <a:pt x="4296" y="7496"/>
                  <a:pt x="4310" y="7507"/>
                  <a:pt x="4341" y="7516"/>
                </a:cubicBezTo>
              </a:path>
              <a:path w="1217" h="447">
                <a:moveTo>
                  <a:pt x="4539" y="7342"/>
                </a:moveTo>
                <a:cubicBezTo>
                  <a:pt x="4583" y="7397"/>
                  <a:pt x="4589" y="7422"/>
                  <a:pt x="4589" y="7491"/>
                </a:cubicBezTo>
                <a:cubicBezTo>
                  <a:pt x="4589" y="7516"/>
                  <a:pt x="4589" y="7524"/>
                  <a:pt x="4614" y="7516"/>
                </a:cubicBezTo>
                <a:cubicBezTo>
                  <a:pt x="4643" y="7496"/>
                  <a:pt x="4653" y="7438"/>
                  <a:pt x="4688" y="7392"/>
                </a:cubicBezTo>
                <a:cubicBezTo>
                  <a:pt x="4703" y="7373"/>
                  <a:pt x="4785" y="7312"/>
                  <a:pt x="4812" y="7342"/>
                </a:cubicBezTo>
                <a:cubicBezTo>
                  <a:pt x="4837" y="7392"/>
                  <a:pt x="4845" y="7408"/>
                  <a:pt x="4862" y="74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74880" y="2589120"/>
            <a:ext cx="223920" cy="162000"/>
          </a:xfrm>
          <a:custGeom>
            <a:avLst/>
            <a:gdLst/>
            <a:ahLst/>
            <a:rect l="l" t="t" r="r" b="b"/>
            <a:pathLst>
              <a:path w="621" h="448">
                <a:moveTo>
                  <a:pt x="5234" y="7441"/>
                </a:moveTo>
                <a:cubicBezTo>
                  <a:pt x="5202" y="7400"/>
                  <a:pt x="5197" y="7384"/>
                  <a:pt x="5234" y="7342"/>
                </a:cubicBezTo>
                <a:cubicBezTo>
                  <a:pt x="5268" y="7303"/>
                  <a:pt x="5344" y="7302"/>
                  <a:pt x="5383" y="7342"/>
                </a:cubicBezTo>
                <a:cubicBezTo>
                  <a:pt x="5423" y="7382"/>
                  <a:pt x="5473" y="7535"/>
                  <a:pt x="5457" y="7590"/>
                </a:cubicBezTo>
                <a:cubicBezTo>
                  <a:pt x="5433" y="7673"/>
                  <a:pt x="5349" y="7622"/>
                  <a:pt x="5308" y="7615"/>
                </a:cubicBezTo>
                <a:cubicBezTo>
                  <a:pt x="5292" y="7615"/>
                  <a:pt x="5275" y="7615"/>
                  <a:pt x="5259" y="7615"/>
                </a:cubicBezTo>
              </a:path>
              <a:path w="621" h="448">
                <a:moveTo>
                  <a:pt x="5581" y="7268"/>
                </a:moveTo>
                <a:cubicBezTo>
                  <a:pt x="5581" y="7243"/>
                  <a:pt x="5581" y="7218"/>
                  <a:pt x="5581" y="7193"/>
                </a:cubicBezTo>
                <a:cubicBezTo>
                  <a:pt x="5519" y="7224"/>
                  <a:pt x="5531" y="7272"/>
                  <a:pt x="5531" y="7342"/>
                </a:cubicBezTo>
                <a:cubicBezTo>
                  <a:pt x="5531" y="7425"/>
                  <a:pt x="5556" y="7519"/>
                  <a:pt x="5655" y="7541"/>
                </a:cubicBezTo>
                <a:cubicBezTo>
                  <a:pt x="5721" y="7555"/>
                  <a:pt x="5771" y="7538"/>
                  <a:pt x="5829" y="75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1120" y="2759040"/>
            <a:ext cx="160560" cy="206280"/>
          </a:xfrm>
          <a:custGeom>
            <a:avLst/>
            <a:gdLst/>
            <a:ahLst/>
            <a:rect l="l" t="t" r="r" b="b"/>
            <a:pathLst>
              <a:path w="448" h="571">
                <a:moveTo>
                  <a:pt x="1166" y="7689"/>
                </a:moveTo>
                <a:cubicBezTo>
                  <a:pt x="1166" y="7681"/>
                  <a:pt x="1166" y="7673"/>
                  <a:pt x="1166" y="7665"/>
                </a:cubicBezTo>
                <a:cubicBezTo>
                  <a:pt x="1128" y="7677"/>
                  <a:pt x="1141" y="7694"/>
                  <a:pt x="1141" y="7739"/>
                </a:cubicBezTo>
                <a:cubicBezTo>
                  <a:pt x="1141" y="7776"/>
                  <a:pt x="1178" y="7864"/>
                  <a:pt x="1240" y="7813"/>
                </a:cubicBezTo>
                <a:cubicBezTo>
                  <a:pt x="1278" y="7781"/>
                  <a:pt x="1307" y="7686"/>
                  <a:pt x="1389" y="7739"/>
                </a:cubicBezTo>
                <a:cubicBezTo>
                  <a:pt x="1495" y="7808"/>
                  <a:pt x="1569" y="7966"/>
                  <a:pt x="1588" y="8086"/>
                </a:cubicBezTo>
                <a:cubicBezTo>
                  <a:pt x="1604" y="8183"/>
                  <a:pt x="1501" y="8222"/>
                  <a:pt x="1414" y="8235"/>
                </a:cubicBezTo>
                <a:cubicBezTo>
                  <a:pt x="1341" y="8246"/>
                  <a:pt x="1264" y="8216"/>
                  <a:pt x="1191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4880" y="2786040"/>
            <a:ext cx="36360" cy="71640"/>
          </a:xfrm>
          <a:custGeom>
            <a:avLst/>
            <a:gdLst/>
            <a:ahLst/>
            <a:rect l="l" t="t" r="r" b="b"/>
            <a:pathLst>
              <a:path w="100" h="200">
                <a:moveTo>
                  <a:pt x="2059" y="7764"/>
                </a:moveTo>
                <a:cubicBezTo>
                  <a:pt x="2059" y="7756"/>
                  <a:pt x="2059" y="7747"/>
                  <a:pt x="2059" y="7739"/>
                </a:cubicBezTo>
                <a:cubicBezTo>
                  <a:pt x="2019" y="7749"/>
                  <a:pt x="1993" y="7764"/>
                  <a:pt x="1960" y="7789"/>
                </a:cubicBezTo>
              </a:path>
              <a:path w="100" h="200">
                <a:moveTo>
                  <a:pt x="2034" y="7863"/>
                </a:moveTo>
                <a:cubicBezTo>
                  <a:pt x="2063" y="7902"/>
                  <a:pt x="2072" y="7933"/>
                  <a:pt x="2009" y="7938"/>
                </a:cubicBezTo>
                <a:cubicBezTo>
                  <a:pt x="1993" y="7938"/>
                  <a:pt x="1976" y="7938"/>
                  <a:pt x="1960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01800" y="2724120"/>
            <a:ext cx="285480" cy="142920"/>
          </a:xfrm>
          <a:custGeom>
            <a:avLst/>
            <a:gdLst/>
            <a:ahLst/>
            <a:rect l="l" t="t" r="r" b="b"/>
            <a:pathLst>
              <a:path w="795" h="398">
                <a:moveTo>
                  <a:pt x="2679" y="7689"/>
                </a:moveTo>
                <a:cubicBezTo>
                  <a:pt x="2646" y="7641"/>
                  <a:pt x="2644" y="7628"/>
                  <a:pt x="2604" y="7615"/>
                </a:cubicBezTo>
                <a:cubicBezTo>
                  <a:pt x="2578" y="7642"/>
                  <a:pt x="2502" y="7697"/>
                  <a:pt x="2505" y="7739"/>
                </a:cubicBezTo>
                <a:cubicBezTo>
                  <a:pt x="2508" y="7778"/>
                  <a:pt x="2627" y="7832"/>
                  <a:pt x="2654" y="7838"/>
                </a:cubicBezTo>
                <a:cubicBezTo>
                  <a:pt x="2678" y="7843"/>
                  <a:pt x="2778" y="7853"/>
                  <a:pt x="2753" y="7913"/>
                </a:cubicBezTo>
                <a:cubicBezTo>
                  <a:pt x="2726" y="7976"/>
                  <a:pt x="2658" y="7962"/>
                  <a:pt x="2604" y="7962"/>
                </a:cubicBezTo>
                <a:cubicBezTo>
                  <a:pt x="2596" y="7962"/>
                  <a:pt x="2588" y="7962"/>
                  <a:pt x="2580" y="7962"/>
                </a:cubicBezTo>
              </a:path>
              <a:path w="795" h="398">
                <a:moveTo>
                  <a:pt x="2902" y="7764"/>
                </a:moveTo>
                <a:cubicBezTo>
                  <a:pt x="2983" y="7776"/>
                  <a:pt x="2977" y="7782"/>
                  <a:pt x="2977" y="7863"/>
                </a:cubicBezTo>
                <a:cubicBezTo>
                  <a:pt x="2977" y="7908"/>
                  <a:pt x="2980" y="7921"/>
                  <a:pt x="2952" y="7938"/>
                </a:cubicBezTo>
              </a:path>
              <a:path w="795" h="398">
                <a:moveTo>
                  <a:pt x="2902" y="7689"/>
                </a:moveTo>
                <a:cubicBezTo>
                  <a:pt x="2902" y="7587"/>
                  <a:pt x="2908" y="7621"/>
                  <a:pt x="2927" y="7565"/>
                </a:cubicBezTo>
              </a:path>
              <a:path w="795" h="398">
                <a:moveTo>
                  <a:pt x="3076" y="7764"/>
                </a:moveTo>
                <a:cubicBezTo>
                  <a:pt x="3076" y="7834"/>
                  <a:pt x="3069" y="7860"/>
                  <a:pt x="3101" y="7913"/>
                </a:cubicBezTo>
                <a:cubicBezTo>
                  <a:pt x="3134" y="7853"/>
                  <a:pt x="3140" y="7791"/>
                  <a:pt x="3200" y="7764"/>
                </a:cubicBezTo>
                <a:cubicBezTo>
                  <a:pt x="3240" y="7746"/>
                  <a:pt x="3275" y="7814"/>
                  <a:pt x="3299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47840" y="2678040"/>
            <a:ext cx="314280" cy="179640"/>
          </a:xfrm>
          <a:custGeom>
            <a:avLst/>
            <a:gdLst/>
            <a:ahLst/>
            <a:rect l="l" t="t" r="r" b="b"/>
            <a:pathLst>
              <a:path w="869" h="498">
                <a:moveTo>
                  <a:pt x="3795" y="7615"/>
                </a:moveTo>
                <a:cubicBezTo>
                  <a:pt x="3770" y="7596"/>
                  <a:pt x="3723" y="7583"/>
                  <a:pt x="3746" y="7541"/>
                </a:cubicBezTo>
                <a:cubicBezTo>
                  <a:pt x="3783" y="7472"/>
                  <a:pt x="3815" y="7445"/>
                  <a:pt x="3894" y="7441"/>
                </a:cubicBezTo>
                <a:cubicBezTo>
                  <a:pt x="3940" y="7438"/>
                  <a:pt x="4025" y="7429"/>
                  <a:pt x="4043" y="7491"/>
                </a:cubicBezTo>
                <a:cubicBezTo>
                  <a:pt x="4062" y="7559"/>
                  <a:pt x="3998" y="7569"/>
                  <a:pt x="3969" y="7615"/>
                </a:cubicBezTo>
                <a:cubicBezTo>
                  <a:pt x="3947" y="7650"/>
                  <a:pt x="3928" y="7679"/>
                  <a:pt x="3919" y="7714"/>
                </a:cubicBezTo>
                <a:cubicBezTo>
                  <a:pt x="3973" y="7757"/>
                  <a:pt x="4016" y="7764"/>
                  <a:pt x="4068" y="7789"/>
                </a:cubicBezTo>
                <a:cubicBezTo>
                  <a:pt x="4097" y="7803"/>
                  <a:pt x="4137" y="7853"/>
                  <a:pt x="4118" y="7888"/>
                </a:cubicBezTo>
                <a:cubicBezTo>
                  <a:pt x="4087" y="7943"/>
                  <a:pt x="4021" y="7938"/>
                  <a:pt x="3969" y="7938"/>
                </a:cubicBezTo>
                <a:cubicBezTo>
                  <a:pt x="3961" y="7938"/>
                  <a:pt x="3952" y="7938"/>
                  <a:pt x="3944" y="7938"/>
                </a:cubicBezTo>
              </a:path>
              <a:path w="869" h="498">
                <a:moveTo>
                  <a:pt x="4242" y="7739"/>
                </a:moveTo>
                <a:cubicBezTo>
                  <a:pt x="4188" y="7739"/>
                  <a:pt x="4205" y="7727"/>
                  <a:pt x="4167" y="7714"/>
                </a:cubicBezTo>
                <a:cubicBezTo>
                  <a:pt x="4211" y="7688"/>
                  <a:pt x="4284" y="7673"/>
                  <a:pt x="4341" y="7689"/>
                </a:cubicBezTo>
                <a:cubicBezTo>
                  <a:pt x="4418" y="7711"/>
                  <a:pt x="4435" y="7768"/>
                  <a:pt x="4440" y="7838"/>
                </a:cubicBezTo>
                <a:cubicBezTo>
                  <a:pt x="4443" y="7879"/>
                  <a:pt x="4403" y="7910"/>
                  <a:pt x="4366" y="7913"/>
                </a:cubicBezTo>
                <a:cubicBezTo>
                  <a:pt x="4349" y="7913"/>
                  <a:pt x="4333" y="7913"/>
                  <a:pt x="4316" y="7913"/>
                </a:cubicBezTo>
              </a:path>
              <a:path w="869" h="498">
                <a:moveTo>
                  <a:pt x="4514" y="7640"/>
                </a:moveTo>
                <a:cubicBezTo>
                  <a:pt x="4514" y="7623"/>
                  <a:pt x="4514" y="7607"/>
                  <a:pt x="4514" y="7590"/>
                </a:cubicBezTo>
                <a:cubicBezTo>
                  <a:pt x="4465" y="7603"/>
                  <a:pt x="4444" y="7633"/>
                  <a:pt x="4440" y="7689"/>
                </a:cubicBezTo>
                <a:cubicBezTo>
                  <a:pt x="4435" y="7759"/>
                  <a:pt x="4430" y="7818"/>
                  <a:pt x="4514" y="7838"/>
                </a:cubicBezTo>
                <a:cubicBezTo>
                  <a:pt x="4564" y="7838"/>
                  <a:pt x="4581" y="7838"/>
                  <a:pt x="4614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3960" y="3000240"/>
            <a:ext cx="88920" cy="44640"/>
          </a:xfrm>
          <a:custGeom>
            <a:avLst/>
            <a:gdLst/>
            <a:ahLst/>
            <a:rect l="l" t="t" r="r" b="b"/>
            <a:pathLst>
              <a:path w="249" h="125">
                <a:moveTo>
                  <a:pt x="2257" y="8334"/>
                </a:moveTo>
                <a:cubicBezTo>
                  <a:pt x="2197" y="8334"/>
                  <a:pt x="2025" y="8310"/>
                  <a:pt x="2009" y="8359"/>
                </a:cubicBezTo>
              </a:path>
              <a:path w="249" h="125">
                <a:moveTo>
                  <a:pt x="2183" y="8384"/>
                </a:moveTo>
                <a:cubicBezTo>
                  <a:pt x="2191" y="8384"/>
                  <a:pt x="2200" y="8384"/>
                  <a:pt x="2208" y="8384"/>
                </a:cubicBezTo>
                <a:cubicBezTo>
                  <a:pt x="2195" y="8424"/>
                  <a:pt x="2160" y="8430"/>
                  <a:pt x="2108" y="8434"/>
                </a:cubicBezTo>
                <a:cubicBezTo>
                  <a:pt x="2073" y="8437"/>
                  <a:pt x="2043" y="8451"/>
                  <a:pt x="2009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4720" y="2982960"/>
            <a:ext cx="169560" cy="115920"/>
          </a:xfrm>
          <a:custGeom>
            <a:avLst/>
            <a:gdLst/>
            <a:ahLst/>
            <a:rect l="l" t="t" r="r" b="b"/>
            <a:pathLst>
              <a:path w="472" h="323">
                <a:moveTo>
                  <a:pt x="2902" y="8359"/>
                </a:moveTo>
                <a:cubicBezTo>
                  <a:pt x="2929" y="8324"/>
                  <a:pt x="2927" y="8329"/>
                  <a:pt x="2927" y="8285"/>
                </a:cubicBezTo>
                <a:cubicBezTo>
                  <a:pt x="2885" y="8299"/>
                  <a:pt x="2902" y="8333"/>
                  <a:pt x="2902" y="8384"/>
                </a:cubicBezTo>
                <a:cubicBezTo>
                  <a:pt x="2902" y="8477"/>
                  <a:pt x="2921" y="8535"/>
                  <a:pt x="3001" y="8582"/>
                </a:cubicBezTo>
                <a:cubicBezTo>
                  <a:pt x="3081" y="8629"/>
                  <a:pt x="3115" y="8575"/>
                  <a:pt x="3150" y="8508"/>
                </a:cubicBezTo>
                <a:cubicBezTo>
                  <a:pt x="3190" y="8433"/>
                  <a:pt x="3170" y="8400"/>
                  <a:pt x="3150" y="8334"/>
                </a:cubicBezTo>
                <a:cubicBezTo>
                  <a:pt x="3150" y="8326"/>
                  <a:pt x="3150" y="8318"/>
                  <a:pt x="3150" y="8310"/>
                </a:cubicBezTo>
                <a:cubicBezTo>
                  <a:pt x="3165" y="8370"/>
                  <a:pt x="3214" y="8405"/>
                  <a:pt x="3249" y="8458"/>
                </a:cubicBezTo>
                <a:cubicBezTo>
                  <a:pt x="3288" y="8517"/>
                  <a:pt x="3308" y="8525"/>
                  <a:pt x="3373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66920" y="2946240"/>
            <a:ext cx="125280" cy="142920"/>
          </a:xfrm>
          <a:custGeom>
            <a:avLst/>
            <a:gdLst/>
            <a:ahLst/>
            <a:rect l="l" t="t" r="r" b="b"/>
            <a:pathLst>
              <a:path w="348" h="397">
                <a:moveTo>
                  <a:pt x="3795" y="8384"/>
                </a:moveTo>
                <a:cubicBezTo>
                  <a:pt x="3811" y="8447"/>
                  <a:pt x="3858" y="8462"/>
                  <a:pt x="3894" y="8508"/>
                </a:cubicBezTo>
                <a:cubicBezTo>
                  <a:pt x="3939" y="8564"/>
                  <a:pt x="3970" y="8616"/>
                  <a:pt x="4043" y="8558"/>
                </a:cubicBezTo>
                <a:cubicBezTo>
                  <a:pt x="4072" y="8535"/>
                  <a:pt x="4110" y="8379"/>
                  <a:pt x="4118" y="8334"/>
                </a:cubicBezTo>
                <a:cubicBezTo>
                  <a:pt x="4127" y="8281"/>
                  <a:pt x="4132" y="8237"/>
                  <a:pt x="4142" y="8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240" y="3116160"/>
            <a:ext cx="115920" cy="108000"/>
          </a:xfrm>
          <a:custGeom>
            <a:avLst/>
            <a:gdLst/>
            <a:ahLst/>
            <a:rect l="l" t="t" r="r" b="b"/>
            <a:pathLst>
              <a:path w="323" h="298">
                <a:moveTo>
                  <a:pt x="2158" y="8657"/>
                </a:moveTo>
                <a:cubicBezTo>
                  <a:pt x="2158" y="8665"/>
                  <a:pt x="2158" y="8674"/>
                  <a:pt x="2158" y="8682"/>
                </a:cubicBezTo>
                <a:cubicBezTo>
                  <a:pt x="2106" y="8682"/>
                  <a:pt x="2084" y="8698"/>
                  <a:pt x="2034" y="8706"/>
                </a:cubicBezTo>
                <a:cubicBezTo>
                  <a:pt x="1984" y="8715"/>
                  <a:pt x="1961" y="8731"/>
                  <a:pt x="1910" y="8731"/>
                </a:cubicBezTo>
              </a:path>
              <a:path w="323" h="298">
                <a:moveTo>
                  <a:pt x="2183" y="8830"/>
                </a:moveTo>
                <a:cubicBezTo>
                  <a:pt x="2205" y="8852"/>
                  <a:pt x="2210" y="8861"/>
                  <a:pt x="2232" y="8855"/>
                </a:cubicBezTo>
                <a:cubicBezTo>
                  <a:pt x="2220" y="8891"/>
                  <a:pt x="2197" y="8888"/>
                  <a:pt x="2158" y="8905"/>
                </a:cubicBezTo>
                <a:cubicBezTo>
                  <a:pt x="2102" y="8929"/>
                  <a:pt x="2055" y="8921"/>
                  <a:pt x="2009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73080" y="3116160"/>
            <a:ext cx="295200" cy="142920"/>
          </a:xfrm>
          <a:custGeom>
            <a:avLst/>
            <a:gdLst/>
            <a:ahLst/>
            <a:rect l="l" t="t" r="r" b="b"/>
            <a:pathLst>
              <a:path w="819" h="398">
                <a:moveTo>
                  <a:pt x="2729" y="8657"/>
                </a:moveTo>
                <a:cubicBezTo>
                  <a:pt x="2741" y="8657"/>
                  <a:pt x="2856" y="8679"/>
                  <a:pt x="2853" y="8682"/>
                </a:cubicBezTo>
                <a:cubicBezTo>
                  <a:pt x="2825" y="8710"/>
                  <a:pt x="2764" y="8702"/>
                  <a:pt x="2729" y="8731"/>
                </a:cubicBezTo>
                <a:cubicBezTo>
                  <a:pt x="2683" y="8768"/>
                  <a:pt x="2697" y="8819"/>
                  <a:pt x="2729" y="8855"/>
                </a:cubicBezTo>
                <a:cubicBezTo>
                  <a:pt x="2770" y="8902"/>
                  <a:pt x="2850" y="8881"/>
                  <a:pt x="2902" y="8905"/>
                </a:cubicBezTo>
                <a:cubicBezTo>
                  <a:pt x="2935" y="8920"/>
                  <a:pt x="2944" y="8930"/>
                  <a:pt x="2952" y="8954"/>
                </a:cubicBezTo>
                <a:cubicBezTo>
                  <a:pt x="2947" y="8968"/>
                  <a:pt x="2905" y="9021"/>
                  <a:pt x="2877" y="9029"/>
                </a:cubicBezTo>
                <a:cubicBezTo>
                  <a:pt x="2839" y="9040"/>
                  <a:pt x="2814" y="9045"/>
                  <a:pt x="2778" y="9054"/>
                </a:cubicBezTo>
              </a:path>
              <a:path w="819" h="398">
                <a:moveTo>
                  <a:pt x="3051" y="8905"/>
                </a:moveTo>
                <a:cubicBezTo>
                  <a:pt x="3068" y="8905"/>
                  <a:pt x="3084" y="8905"/>
                  <a:pt x="3101" y="8905"/>
                </a:cubicBezTo>
                <a:cubicBezTo>
                  <a:pt x="3104" y="8914"/>
                  <a:pt x="3148" y="8960"/>
                  <a:pt x="3125" y="8979"/>
                </a:cubicBezTo>
                <a:cubicBezTo>
                  <a:pt x="3117" y="8979"/>
                  <a:pt x="3109" y="8979"/>
                  <a:pt x="3101" y="8979"/>
                </a:cubicBezTo>
              </a:path>
              <a:path w="819" h="398">
                <a:moveTo>
                  <a:pt x="3076" y="8731"/>
                </a:moveTo>
                <a:cubicBezTo>
                  <a:pt x="3053" y="8678"/>
                  <a:pt x="3031" y="8672"/>
                  <a:pt x="3076" y="8657"/>
                </a:cubicBezTo>
              </a:path>
              <a:path w="819" h="398">
                <a:moveTo>
                  <a:pt x="3225" y="8781"/>
                </a:moveTo>
                <a:cubicBezTo>
                  <a:pt x="3232" y="8877"/>
                  <a:pt x="3249" y="8905"/>
                  <a:pt x="3274" y="8979"/>
                </a:cubicBezTo>
                <a:cubicBezTo>
                  <a:pt x="3274" y="8987"/>
                  <a:pt x="3274" y="8996"/>
                  <a:pt x="3274" y="9004"/>
                </a:cubicBezTo>
                <a:cubicBezTo>
                  <a:pt x="3299" y="8963"/>
                  <a:pt x="3305" y="8890"/>
                  <a:pt x="3349" y="8855"/>
                </a:cubicBezTo>
                <a:cubicBezTo>
                  <a:pt x="3395" y="8818"/>
                  <a:pt x="3454" y="8875"/>
                  <a:pt x="3473" y="8905"/>
                </a:cubicBezTo>
                <a:cubicBezTo>
                  <a:pt x="3494" y="8948"/>
                  <a:pt x="3498" y="8960"/>
                  <a:pt x="3522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55840" y="3116160"/>
            <a:ext cx="152280" cy="108000"/>
          </a:xfrm>
          <a:custGeom>
            <a:avLst/>
            <a:gdLst/>
            <a:ahLst/>
            <a:rect l="l" t="t" r="r" b="b"/>
            <a:pathLst>
              <a:path w="423" h="298">
                <a:moveTo>
                  <a:pt x="4068" y="8682"/>
                </a:moveTo>
                <a:cubicBezTo>
                  <a:pt x="4068" y="8657"/>
                  <a:pt x="4068" y="8649"/>
                  <a:pt x="4043" y="8657"/>
                </a:cubicBezTo>
                <a:cubicBezTo>
                  <a:pt x="4043" y="8722"/>
                  <a:pt x="4065" y="8772"/>
                  <a:pt x="4093" y="8830"/>
                </a:cubicBezTo>
                <a:cubicBezTo>
                  <a:pt x="4110" y="8866"/>
                  <a:pt x="4183" y="8989"/>
                  <a:pt x="4242" y="8954"/>
                </a:cubicBezTo>
                <a:cubicBezTo>
                  <a:pt x="4340" y="8896"/>
                  <a:pt x="4285" y="8861"/>
                  <a:pt x="4316" y="8781"/>
                </a:cubicBezTo>
                <a:cubicBezTo>
                  <a:pt x="4339" y="8758"/>
                  <a:pt x="4347" y="8754"/>
                  <a:pt x="4341" y="8731"/>
                </a:cubicBezTo>
                <a:cubicBezTo>
                  <a:pt x="4372" y="8772"/>
                  <a:pt x="4410" y="8809"/>
                  <a:pt x="4440" y="8855"/>
                </a:cubicBezTo>
                <a:cubicBezTo>
                  <a:pt x="4448" y="8872"/>
                  <a:pt x="4457" y="8888"/>
                  <a:pt x="4465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6040" y="3875040"/>
            <a:ext cx="617760" cy="546120"/>
          </a:xfrm>
          <a:custGeom>
            <a:avLst/>
            <a:gdLst/>
            <a:ahLst/>
            <a:rect l="l" t="t" r="r" b="b"/>
            <a:pathLst>
              <a:path w="1713" h="1514">
                <a:moveTo>
                  <a:pt x="1761" y="11286"/>
                </a:moveTo>
                <a:cubicBezTo>
                  <a:pt x="1789" y="11249"/>
                  <a:pt x="1803" y="11250"/>
                  <a:pt x="1761" y="11237"/>
                </a:cubicBezTo>
                <a:cubicBezTo>
                  <a:pt x="1697" y="11253"/>
                  <a:pt x="1691" y="11297"/>
                  <a:pt x="1687" y="11361"/>
                </a:cubicBezTo>
                <a:cubicBezTo>
                  <a:pt x="1684" y="11419"/>
                  <a:pt x="1702" y="11442"/>
                  <a:pt x="1736" y="11485"/>
                </a:cubicBezTo>
                <a:cubicBezTo>
                  <a:pt x="1797" y="11409"/>
                  <a:pt x="1808" y="11334"/>
                  <a:pt x="1811" y="11237"/>
                </a:cubicBezTo>
                <a:cubicBezTo>
                  <a:pt x="1814" y="11154"/>
                  <a:pt x="1811" y="11071"/>
                  <a:pt x="1811" y="10988"/>
                </a:cubicBezTo>
                <a:cubicBezTo>
                  <a:pt x="1811" y="10939"/>
                  <a:pt x="1828" y="11111"/>
                  <a:pt x="1836" y="11137"/>
                </a:cubicBezTo>
                <a:cubicBezTo>
                  <a:pt x="1862" y="11225"/>
                  <a:pt x="1885" y="11332"/>
                  <a:pt x="1935" y="11410"/>
                </a:cubicBezTo>
                <a:cubicBezTo>
                  <a:pt x="1943" y="11418"/>
                  <a:pt x="1952" y="11427"/>
                  <a:pt x="1960" y="11435"/>
                </a:cubicBezTo>
              </a:path>
              <a:path w="1713" h="1514">
                <a:moveTo>
                  <a:pt x="2034" y="11286"/>
                </a:moveTo>
                <a:cubicBezTo>
                  <a:pt x="2041" y="11313"/>
                  <a:pt x="2055" y="11371"/>
                  <a:pt x="2084" y="11385"/>
                </a:cubicBezTo>
                <a:cubicBezTo>
                  <a:pt x="2121" y="11404"/>
                  <a:pt x="2144" y="11330"/>
                  <a:pt x="2158" y="11311"/>
                </a:cubicBezTo>
                <a:cubicBezTo>
                  <a:pt x="2166" y="11311"/>
                  <a:pt x="2175" y="11311"/>
                  <a:pt x="2183" y="11311"/>
                </a:cubicBezTo>
                <a:cubicBezTo>
                  <a:pt x="2204" y="11367"/>
                  <a:pt x="2208" y="11401"/>
                  <a:pt x="2208" y="11460"/>
                </a:cubicBezTo>
                <a:cubicBezTo>
                  <a:pt x="2150" y="11460"/>
                  <a:pt x="2092" y="11460"/>
                  <a:pt x="2034" y="11460"/>
                </a:cubicBezTo>
              </a:path>
              <a:path w="1713" h="1514">
                <a:moveTo>
                  <a:pt x="2282" y="11584"/>
                </a:moveTo>
                <a:cubicBezTo>
                  <a:pt x="2322" y="11604"/>
                  <a:pt x="2339" y="11602"/>
                  <a:pt x="2332" y="11633"/>
                </a:cubicBezTo>
                <a:cubicBezTo>
                  <a:pt x="2306" y="11672"/>
                  <a:pt x="2244" y="11658"/>
                  <a:pt x="2183" y="11658"/>
                </a:cubicBezTo>
                <a:cubicBezTo>
                  <a:pt x="2094" y="11658"/>
                  <a:pt x="2021" y="11673"/>
                  <a:pt x="1935" y="11683"/>
                </a:cubicBezTo>
              </a:path>
              <a:path w="1713" h="1514">
                <a:moveTo>
                  <a:pt x="1786" y="12105"/>
                </a:moveTo>
                <a:cubicBezTo>
                  <a:pt x="1786" y="12041"/>
                  <a:pt x="1762" y="12174"/>
                  <a:pt x="1761" y="12179"/>
                </a:cubicBezTo>
                <a:cubicBezTo>
                  <a:pt x="1752" y="12232"/>
                  <a:pt x="1759" y="12243"/>
                  <a:pt x="1786" y="12278"/>
                </a:cubicBezTo>
                <a:cubicBezTo>
                  <a:pt x="1851" y="12246"/>
                  <a:pt x="1858" y="12181"/>
                  <a:pt x="1860" y="12105"/>
                </a:cubicBezTo>
                <a:cubicBezTo>
                  <a:pt x="1863" y="12015"/>
                  <a:pt x="1852" y="11962"/>
                  <a:pt x="1836" y="11881"/>
                </a:cubicBezTo>
                <a:cubicBezTo>
                  <a:pt x="1845" y="11955"/>
                  <a:pt x="1869" y="12064"/>
                  <a:pt x="1910" y="12129"/>
                </a:cubicBezTo>
                <a:cubicBezTo>
                  <a:pt x="1952" y="12171"/>
                  <a:pt x="1960" y="12178"/>
                  <a:pt x="1984" y="12204"/>
                </a:cubicBezTo>
              </a:path>
              <a:path w="1713" h="1514">
                <a:moveTo>
                  <a:pt x="2009" y="12055"/>
                </a:moveTo>
                <a:cubicBezTo>
                  <a:pt x="2051" y="12024"/>
                  <a:pt x="2067" y="12018"/>
                  <a:pt x="2108" y="12055"/>
                </a:cubicBezTo>
                <a:cubicBezTo>
                  <a:pt x="2129" y="12074"/>
                  <a:pt x="2150" y="12124"/>
                  <a:pt x="2133" y="12154"/>
                </a:cubicBezTo>
                <a:cubicBezTo>
                  <a:pt x="2107" y="12200"/>
                  <a:pt x="2055" y="12204"/>
                  <a:pt x="2009" y="12204"/>
                </a:cubicBezTo>
                <a:cubicBezTo>
                  <a:pt x="1984" y="12204"/>
                  <a:pt x="1976" y="12204"/>
                  <a:pt x="1960" y="12204"/>
                </a:cubicBezTo>
              </a:path>
              <a:path w="1713" h="1514">
                <a:moveTo>
                  <a:pt x="2158" y="12080"/>
                </a:moveTo>
                <a:cubicBezTo>
                  <a:pt x="2178" y="12039"/>
                  <a:pt x="2176" y="12023"/>
                  <a:pt x="2208" y="12030"/>
                </a:cubicBezTo>
                <a:cubicBezTo>
                  <a:pt x="2208" y="12081"/>
                  <a:pt x="2211" y="12144"/>
                  <a:pt x="2257" y="12179"/>
                </a:cubicBezTo>
                <a:cubicBezTo>
                  <a:pt x="2282" y="12179"/>
                  <a:pt x="2290" y="12179"/>
                  <a:pt x="2307" y="12179"/>
                </a:cubicBezTo>
              </a:path>
              <a:path w="1713" h="1514">
                <a:moveTo>
                  <a:pt x="2927" y="11683"/>
                </a:moveTo>
                <a:cubicBezTo>
                  <a:pt x="2935" y="11683"/>
                  <a:pt x="2944" y="11683"/>
                  <a:pt x="2952" y="11683"/>
                </a:cubicBezTo>
                <a:cubicBezTo>
                  <a:pt x="2910" y="11691"/>
                  <a:pt x="2839" y="11716"/>
                  <a:pt x="2803" y="11733"/>
                </a:cubicBezTo>
                <a:cubicBezTo>
                  <a:pt x="2795" y="11741"/>
                  <a:pt x="2786" y="11749"/>
                  <a:pt x="2778" y="11757"/>
                </a:cubicBezTo>
              </a:path>
              <a:path w="1713" h="1514">
                <a:moveTo>
                  <a:pt x="2877" y="11807"/>
                </a:moveTo>
                <a:cubicBezTo>
                  <a:pt x="2919" y="11807"/>
                  <a:pt x="2927" y="11807"/>
                  <a:pt x="2952" y="11807"/>
                </a:cubicBezTo>
                <a:cubicBezTo>
                  <a:pt x="2938" y="11849"/>
                  <a:pt x="2904" y="11832"/>
                  <a:pt x="2853" y="11832"/>
                </a:cubicBezTo>
              </a:path>
              <a:path w="1713" h="1514">
                <a:moveTo>
                  <a:pt x="1339" y="11088"/>
                </a:moveTo>
                <a:cubicBezTo>
                  <a:pt x="1364" y="11063"/>
                  <a:pt x="1372" y="11055"/>
                  <a:pt x="1389" y="11038"/>
                </a:cubicBezTo>
                <a:cubicBezTo>
                  <a:pt x="1344" y="11038"/>
                  <a:pt x="1296" y="11023"/>
                  <a:pt x="1265" y="11063"/>
                </a:cubicBezTo>
                <a:cubicBezTo>
                  <a:pt x="1208" y="11137"/>
                  <a:pt x="1241" y="11204"/>
                  <a:pt x="1290" y="11261"/>
                </a:cubicBezTo>
                <a:cubicBezTo>
                  <a:pt x="1351" y="11332"/>
                  <a:pt x="1417" y="11250"/>
                  <a:pt x="1439" y="11187"/>
                </a:cubicBezTo>
                <a:cubicBezTo>
                  <a:pt x="1477" y="11078"/>
                  <a:pt x="1476" y="10948"/>
                  <a:pt x="1439" y="10840"/>
                </a:cubicBezTo>
                <a:cubicBezTo>
                  <a:pt x="1419" y="10799"/>
                  <a:pt x="1410" y="10793"/>
                  <a:pt x="1414" y="10765"/>
                </a:cubicBezTo>
                <a:cubicBezTo>
                  <a:pt x="1381" y="10787"/>
                  <a:pt x="1378" y="10881"/>
                  <a:pt x="1389" y="10939"/>
                </a:cubicBezTo>
                <a:cubicBezTo>
                  <a:pt x="1407" y="11029"/>
                  <a:pt x="1448" y="11129"/>
                  <a:pt x="1488" y="11212"/>
                </a:cubicBezTo>
                <a:cubicBezTo>
                  <a:pt x="1510" y="11255"/>
                  <a:pt x="1514" y="11267"/>
                  <a:pt x="1538" y="11286"/>
                </a:cubicBezTo>
              </a:path>
              <a:path w="1713" h="1514">
                <a:moveTo>
                  <a:pt x="1612" y="11187"/>
                </a:moveTo>
                <a:cubicBezTo>
                  <a:pt x="1663" y="11187"/>
                  <a:pt x="1698" y="11196"/>
                  <a:pt x="1736" y="11162"/>
                </a:cubicBezTo>
                <a:cubicBezTo>
                  <a:pt x="1802" y="11103"/>
                  <a:pt x="1820" y="11141"/>
                  <a:pt x="1860" y="11187"/>
                </a:cubicBezTo>
                <a:cubicBezTo>
                  <a:pt x="1885" y="11215"/>
                  <a:pt x="1966" y="11329"/>
                  <a:pt x="1885" y="11361"/>
                </a:cubicBezTo>
                <a:cubicBezTo>
                  <a:pt x="1830" y="11383"/>
                  <a:pt x="1722" y="11361"/>
                  <a:pt x="1662" y="11361"/>
                </a:cubicBezTo>
              </a:path>
              <a:path w="1713" h="1514">
                <a:moveTo>
                  <a:pt x="1885" y="11485"/>
                </a:moveTo>
                <a:cubicBezTo>
                  <a:pt x="1908" y="11507"/>
                  <a:pt x="1916" y="11512"/>
                  <a:pt x="1910" y="11534"/>
                </a:cubicBezTo>
                <a:cubicBezTo>
                  <a:pt x="1813" y="11534"/>
                  <a:pt x="1730" y="11546"/>
                  <a:pt x="1637" y="11559"/>
                </a:cubicBezTo>
                <a:cubicBezTo>
                  <a:pt x="1584" y="11566"/>
                  <a:pt x="1541" y="11577"/>
                  <a:pt x="1488" y="11584"/>
                </a:cubicBezTo>
              </a:path>
              <a:path w="1713" h="1514">
                <a:moveTo>
                  <a:pt x="1463" y="12005"/>
                </a:moveTo>
                <a:cubicBezTo>
                  <a:pt x="1522" y="11938"/>
                  <a:pt x="1503" y="11911"/>
                  <a:pt x="1488" y="11956"/>
                </a:cubicBezTo>
                <a:cubicBezTo>
                  <a:pt x="1437" y="12007"/>
                  <a:pt x="1420" y="12035"/>
                  <a:pt x="1463" y="12105"/>
                </a:cubicBezTo>
                <a:cubicBezTo>
                  <a:pt x="1493" y="12134"/>
                  <a:pt x="1508" y="12145"/>
                  <a:pt x="1538" y="12154"/>
                </a:cubicBezTo>
                <a:cubicBezTo>
                  <a:pt x="1591" y="12088"/>
                  <a:pt x="1604" y="12018"/>
                  <a:pt x="1588" y="11931"/>
                </a:cubicBezTo>
                <a:cubicBezTo>
                  <a:pt x="1578" y="11877"/>
                  <a:pt x="1553" y="11770"/>
                  <a:pt x="1513" y="11757"/>
                </a:cubicBezTo>
                <a:cubicBezTo>
                  <a:pt x="1513" y="11865"/>
                  <a:pt x="1537" y="11910"/>
                  <a:pt x="1588" y="12005"/>
                </a:cubicBezTo>
                <a:cubicBezTo>
                  <a:pt x="1612" y="12055"/>
                  <a:pt x="1620" y="12072"/>
                  <a:pt x="1637" y="12105"/>
                </a:cubicBezTo>
              </a:path>
              <a:path w="1713" h="1514">
                <a:moveTo>
                  <a:pt x="1736" y="12030"/>
                </a:moveTo>
                <a:cubicBezTo>
                  <a:pt x="1769" y="12005"/>
                  <a:pt x="1819" y="11994"/>
                  <a:pt x="1836" y="12055"/>
                </a:cubicBezTo>
                <a:cubicBezTo>
                  <a:pt x="1848" y="12098"/>
                  <a:pt x="1801" y="12161"/>
                  <a:pt x="1761" y="12179"/>
                </a:cubicBezTo>
                <a:cubicBezTo>
                  <a:pt x="1753" y="12179"/>
                  <a:pt x="1744" y="12179"/>
                  <a:pt x="1736" y="12179"/>
                </a:cubicBezTo>
              </a:path>
              <a:path w="1713" h="1514">
                <a:moveTo>
                  <a:pt x="1910" y="12030"/>
                </a:moveTo>
                <a:cubicBezTo>
                  <a:pt x="1918" y="12022"/>
                  <a:pt x="1927" y="12013"/>
                  <a:pt x="1935" y="12005"/>
                </a:cubicBezTo>
                <a:cubicBezTo>
                  <a:pt x="1926" y="12040"/>
                  <a:pt x="1888" y="12086"/>
                  <a:pt x="1910" y="12129"/>
                </a:cubicBezTo>
                <a:cubicBezTo>
                  <a:pt x="1954" y="12217"/>
                  <a:pt x="2014" y="12168"/>
                  <a:pt x="2059" y="12129"/>
                </a:cubicBezTo>
              </a:path>
              <a:path w="1713" h="1514">
                <a:moveTo>
                  <a:pt x="2530" y="11534"/>
                </a:moveTo>
                <a:cubicBezTo>
                  <a:pt x="2522" y="11567"/>
                  <a:pt x="2492" y="11601"/>
                  <a:pt x="2456" y="11609"/>
                </a:cubicBezTo>
                <a:cubicBezTo>
                  <a:pt x="2439" y="11609"/>
                  <a:pt x="2423" y="11609"/>
                  <a:pt x="2406" y="11609"/>
                </a:cubicBezTo>
              </a:path>
              <a:path w="1713" h="1514">
                <a:moveTo>
                  <a:pt x="2480" y="11683"/>
                </a:moveTo>
                <a:cubicBezTo>
                  <a:pt x="2507" y="11698"/>
                  <a:pt x="2607" y="11744"/>
                  <a:pt x="2530" y="11782"/>
                </a:cubicBezTo>
                <a:cubicBezTo>
                  <a:pt x="2522" y="11782"/>
                  <a:pt x="2513" y="11782"/>
                  <a:pt x="2505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85920" y="4017960"/>
            <a:ext cx="1330200" cy="546120"/>
          </a:xfrm>
          <a:custGeom>
            <a:avLst/>
            <a:gdLst/>
            <a:ahLst/>
            <a:rect l="l" t="t" r="r" b="b"/>
            <a:pathLst>
              <a:path w="3697" h="1514">
                <a:moveTo>
                  <a:pt x="3746" y="11633"/>
                </a:moveTo>
                <a:cubicBezTo>
                  <a:pt x="3797" y="11633"/>
                  <a:pt x="3795" y="11635"/>
                  <a:pt x="3795" y="11584"/>
                </a:cubicBezTo>
                <a:cubicBezTo>
                  <a:pt x="3762" y="11584"/>
                  <a:pt x="3691" y="11573"/>
                  <a:pt x="3671" y="11609"/>
                </a:cubicBezTo>
                <a:cubicBezTo>
                  <a:pt x="3646" y="11654"/>
                  <a:pt x="3675" y="11747"/>
                  <a:pt x="3696" y="11782"/>
                </a:cubicBezTo>
                <a:cubicBezTo>
                  <a:pt x="3790" y="11756"/>
                  <a:pt x="3793" y="11686"/>
                  <a:pt x="3820" y="11584"/>
                </a:cubicBezTo>
                <a:cubicBezTo>
                  <a:pt x="3845" y="11491"/>
                  <a:pt x="3874" y="11334"/>
                  <a:pt x="3845" y="11237"/>
                </a:cubicBezTo>
                <a:cubicBezTo>
                  <a:pt x="3837" y="11229"/>
                  <a:pt x="3828" y="11220"/>
                  <a:pt x="3820" y="11212"/>
                </a:cubicBezTo>
                <a:cubicBezTo>
                  <a:pt x="3820" y="11339"/>
                  <a:pt x="3809" y="11463"/>
                  <a:pt x="3845" y="11584"/>
                </a:cubicBezTo>
                <a:cubicBezTo>
                  <a:pt x="3867" y="11659"/>
                  <a:pt x="3889" y="11704"/>
                  <a:pt x="3944" y="11757"/>
                </a:cubicBezTo>
              </a:path>
              <a:path w="3697" h="1514">
                <a:moveTo>
                  <a:pt x="4043" y="11534"/>
                </a:moveTo>
                <a:cubicBezTo>
                  <a:pt x="4052" y="11597"/>
                  <a:pt x="4073" y="11632"/>
                  <a:pt x="4118" y="11683"/>
                </a:cubicBezTo>
                <a:cubicBezTo>
                  <a:pt x="4162" y="11732"/>
                  <a:pt x="4180" y="11695"/>
                  <a:pt x="4217" y="11658"/>
                </a:cubicBezTo>
                <a:cubicBezTo>
                  <a:pt x="4225" y="11650"/>
                  <a:pt x="4234" y="11641"/>
                  <a:pt x="4242" y="11633"/>
                </a:cubicBezTo>
                <a:cubicBezTo>
                  <a:pt x="4281" y="11647"/>
                  <a:pt x="4287" y="11682"/>
                  <a:pt x="4291" y="11733"/>
                </a:cubicBezTo>
                <a:cubicBezTo>
                  <a:pt x="4294" y="11774"/>
                  <a:pt x="4253" y="11804"/>
                  <a:pt x="4217" y="11807"/>
                </a:cubicBezTo>
                <a:cubicBezTo>
                  <a:pt x="4167" y="11807"/>
                  <a:pt x="4151" y="11807"/>
                  <a:pt x="4118" y="11807"/>
                </a:cubicBezTo>
              </a:path>
              <a:path w="3697" h="1514">
                <a:moveTo>
                  <a:pt x="4440" y="11906"/>
                </a:moveTo>
                <a:cubicBezTo>
                  <a:pt x="4509" y="11941"/>
                  <a:pt x="4337" y="11931"/>
                  <a:pt x="4316" y="11931"/>
                </a:cubicBezTo>
                <a:cubicBezTo>
                  <a:pt x="4213" y="11931"/>
                  <a:pt x="4116" y="11920"/>
                  <a:pt x="4018" y="11956"/>
                </a:cubicBezTo>
                <a:cubicBezTo>
                  <a:pt x="3957" y="11978"/>
                  <a:pt x="3902" y="12007"/>
                  <a:pt x="3845" y="12030"/>
                </a:cubicBezTo>
                <a:cubicBezTo>
                  <a:pt x="3837" y="12030"/>
                  <a:pt x="3828" y="12030"/>
                  <a:pt x="3820" y="12030"/>
                </a:cubicBezTo>
              </a:path>
              <a:path w="3697" h="1514">
                <a:moveTo>
                  <a:pt x="3944" y="12328"/>
                </a:moveTo>
                <a:cubicBezTo>
                  <a:pt x="3995" y="12252"/>
                  <a:pt x="3887" y="12349"/>
                  <a:pt x="3870" y="12378"/>
                </a:cubicBezTo>
                <a:cubicBezTo>
                  <a:pt x="3844" y="12423"/>
                  <a:pt x="3823" y="12492"/>
                  <a:pt x="3894" y="12502"/>
                </a:cubicBezTo>
                <a:cubicBezTo>
                  <a:pt x="3985" y="12515"/>
                  <a:pt x="4007" y="12400"/>
                  <a:pt x="4018" y="12328"/>
                </a:cubicBezTo>
                <a:cubicBezTo>
                  <a:pt x="4026" y="12276"/>
                  <a:pt x="4036" y="12144"/>
                  <a:pt x="3994" y="12129"/>
                </a:cubicBezTo>
                <a:cubicBezTo>
                  <a:pt x="3994" y="12211"/>
                  <a:pt x="3994" y="12273"/>
                  <a:pt x="4018" y="12353"/>
                </a:cubicBezTo>
                <a:cubicBezTo>
                  <a:pt x="4034" y="12406"/>
                  <a:pt x="4032" y="12500"/>
                  <a:pt x="4093" y="12526"/>
                </a:cubicBezTo>
                <a:cubicBezTo>
                  <a:pt x="4101" y="12526"/>
                  <a:pt x="4110" y="12526"/>
                  <a:pt x="4118" y="12526"/>
                </a:cubicBezTo>
              </a:path>
              <a:path w="3697" h="1514">
                <a:moveTo>
                  <a:pt x="4217" y="12328"/>
                </a:moveTo>
                <a:cubicBezTo>
                  <a:pt x="4235" y="12371"/>
                  <a:pt x="4247" y="12452"/>
                  <a:pt x="4291" y="12477"/>
                </a:cubicBezTo>
                <a:cubicBezTo>
                  <a:pt x="4337" y="12503"/>
                  <a:pt x="4340" y="12415"/>
                  <a:pt x="4366" y="12402"/>
                </a:cubicBezTo>
                <a:cubicBezTo>
                  <a:pt x="4397" y="12386"/>
                  <a:pt x="4447" y="12459"/>
                  <a:pt x="4465" y="12477"/>
                </a:cubicBezTo>
              </a:path>
              <a:path w="3697" h="1514">
                <a:moveTo>
                  <a:pt x="4911" y="12154"/>
                </a:moveTo>
                <a:cubicBezTo>
                  <a:pt x="4911" y="12138"/>
                  <a:pt x="4911" y="12121"/>
                  <a:pt x="4911" y="12105"/>
                </a:cubicBezTo>
              </a:path>
              <a:path w="3697" h="1514">
                <a:moveTo>
                  <a:pt x="5556" y="11832"/>
                </a:moveTo>
                <a:cubicBezTo>
                  <a:pt x="5564" y="11824"/>
                  <a:pt x="5573" y="11815"/>
                  <a:pt x="5581" y="11807"/>
                </a:cubicBezTo>
                <a:cubicBezTo>
                  <a:pt x="5540" y="11807"/>
                  <a:pt x="5502" y="11813"/>
                  <a:pt x="5482" y="11857"/>
                </a:cubicBezTo>
                <a:cubicBezTo>
                  <a:pt x="5463" y="11898"/>
                  <a:pt x="5489" y="11962"/>
                  <a:pt x="5531" y="11981"/>
                </a:cubicBezTo>
                <a:cubicBezTo>
                  <a:pt x="5575" y="12001"/>
                  <a:pt x="5619" y="11905"/>
                  <a:pt x="5631" y="11881"/>
                </a:cubicBezTo>
                <a:cubicBezTo>
                  <a:pt x="5683" y="11781"/>
                  <a:pt x="5680" y="11694"/>
                  <a:pt x="5680" y="11584"/>
                </a:cubicBezTo>
                <a:cubicBezTo>
                  <a:pt x="5680" y="11534"/>
                  <a:pt x="5680" y="11485"/>
                  <a:pt x="5680" y="11435"/>
                </a:cubicBezTo>
                <a:cubicBezTo>
                  <a:pt x="5680" y="11506"/>
                  <a:pt x="5697" y="11568"/>
                  <a:pt x="5705" y="11633"/>
                </a:cubicBezTo>
                <a:cubicBezTo>
                  <a:pt x="5715" y="11711"/>
                  <a:pt x="5741" y="11790"/>
                  <a:pt x="5755" y="11857"/>
                </a:cubicBezTo>
                <a:cubicBezTo>
                  <a:pt x="5768" y="11923"/>
                  <a:pt x="5790" y="11913"/>
                  <a:pt x="5804" y="11956"/>
                </a:cubicBezTo>
              </a:path>
              <a:path w="3697" h="1514">
                <a:moveTo>
                  <a:pt x="5928" y="11832"/>
                </a:moveTo>
                <a:cubicBezTo>
                  <a:pt x="5920" y="11824"/>
                  <a:pt x="5912" y="11815"/>
                  <a:pt x="5904" y="11807"/>
                </a:cubicBezTo>
                <a:cubicBezTo>
                  <a:pt x="5911" y="11861"/>
                  <a:pt x="5918" y="11913"/>
                  <a:pt x="5953" y="11956"/>
                </a:cubicBezTo>
                <a:cubicBezTo>
                  <a:pt x="5995" y="12008"/>
                  <a:pt x="6018" y="11966"/>
                  <a:pt x="6052" y="11931"/>
                </a:cubicBezTo>
                <a:cubicBezTo>
                  <a:pt x="6082" y="11901"/>
                  <a:pt x="6077" y="11897"/>
                  <a:pt x="6077" y="11857"/>
                </a:cubicBezTo>
                <a:cubicBezTo>
                  <a:pt x="6122" y="11868"/>
                  <a:pt x="6142" y="11897"/>
                  <a:pt x="6176" y="11931"/>
                </a:cubicBezTo>
                <a:cubicBezTo>
                  <a:pt x="6199" y="11954"/>
                  <a:pt x="6207" y="11958"/>
                  <a:pt x="6201" y="11981"/>
                </a:cubicBezTo>
              </a:path>
              <a:path w="3697" h="1514">
                <a:moveTo>
                  <a:pt x="6300" y="12129"/>
                </a:moveTo>
                <a:cubicBezTo>
                  <a:pt x="6264" y="12117"/>
                  <a:pt x="6279" y="12105"/>
                  <a:pt x="6226" y="12105"/>
                </a:cubicBezTo>
                <a:cubicBezTo>
                  <a:pt x="6109" y="12105"/>
                  <a:pt x="5989" y="12093"/>
                  <a:pt x="5879" y="12129"/>
                </a:cubicBezTo>
                <a:cubicBezTo>
                  <a:pt x="5797" y="12156"/>
                  <a:pt x="5713" y="12158"/>
                  <a:pt x="5631" y="12179"/>
                </a:cubicBezTo>
                <a:cubicBezTo>
                  <a:pt x="5567" y="12195"/>
                  <a:pt x="5543" y="12204"/>
                  <a:pt x="5482" y="12204"/>
                </a:cubicBezTo>
              </a:path>
              <a:path w="3697" h="1514">
                <a:moveTo>
                  <a:pt x="5755" y="12576"/>
                </a:moveTo>
                <a:cubicBezTo>
                  <a:pt x="5774" y="12535"/>
                  <a:pt x="5782" y="12529"/>
                  <a:pt x="5779" y="12502"/>
                </a:cubicBezTo>
                <a:cubicBezTo>
                  <a:pt x="5739" y="12512"/>
                  <a:pt x="5708" y="12530"/>
                  <a:pt x="5705" y="12576"/>
                </a:cubicBezTo>
                <a:cubicBezTo>
                  <a:pt x="5701" y="12633"/>
                  <a:pt x="5700" y="12635"/>
                  <a:pt x="5730" y="12675"/>
                </a:cubicBezTo>
                <a:cubicBezTo>
                  <a:pt x="5805" y="12664"/>
                  <a:pt x="5840" y="12639"/>
                  <a:pt x="5854" y="12551"/>
                </a:cubicBezTo>
                <a:cubicBezTo>
                  <a:pt x="5868" y="12462"/>
                  <a:pt x="5848" y="12384"/>
                  <a:pt x="5829" y="12303"/>
                </a:cubicBezTo>
                <a:cubicBezTo>
                  <a:pt x="5829" y="12278"/>
                  <a:pt x="5829" y="12270"/>
                  <a:pt x="5804" y="12278"/>
                </a:cubicBezTo>
                <a:cubicBezTo>
                  <a:pt x="5804" y="12368"/>
                  <a:pt x="5817" y="12439"/>
                  <a:pt x="5829" y="12526"/>
                </a:cubicBezTo>
                <a:cubicBezTo>
                  <a:pt x="5838" y="12588"/>
                  <a:pt x="5846" y="12593"/>
                  <a:pt x="5879" y="12650"/>
                </a:cubicBezTo>
              </a:path>
              <a:path w="3697" h="1514">
                <a:moveTo>
                  <a:pt x="5978" y="12551"/>
                </a:moveTo>
                <a:cubicBezTo>
                  <a:pt x="6009" y="12510"/>
                  <a:pt x="6014" y="12481"/>
                  <a:pt x="6077" y="12477"/>
                </a:cubicBezTo>
                <a:cubicBezTo>
                  <a:pt x="6112" y="12475"/>
                  <a:pt x="6181" y="12463"/>
                  <a:pt x="6201" y="12502"/>
                </a:cubicBezTo>
                <a:cubicBezTo>
                  <a:pt x="6222" y="12543"/>
                  <a:pt x="6176" y="12577"/>
                  <a:pt x="6152" y="12601"/>
                </a:cubicBezTo>
                <a:cubicBezTo>
                  <a:pt x="6122" y="12631"/>
                  <a:pt x="6117" y="12626"/>
                  <a:pt x="6077" y="12626"/>
                </a:cubicBezTo>
              </a:path>
              <a:path w="3697" h="1514">
                <a:moveTo>
                  <a:pt x="6226" y="12477"/>
                </a:moveTo>
                <a:cubicBezTo>
                  <a:pt x="6226" y="12460"/>
                  <a:pt x="6226" y="12444"/>
                  <a:pt x="6226" y="12427"/>
                </a:cubicBezTo>
                <a:cubicBezTo>
                  <a:pt x="6226" y="12461"/>
                  <a:pt x="6234" y="12556"/>
                  <a:pt x="6251" y="12576"/>
                </a:cubicBezTo>
                <a:cubicBezTo>
                  <a:pt x="6284" y="12616"/>
                  <a:pt x="6374" y="12645"/>
                  <a:pt x="6424" y="12626"/>
                </a:cubicBezTo>
                <a:cubicBezTo>
                  <a:pt x="6449" y="12601"/>
                  <a:pt x="6457" y="12593"/>
                  <a:pt x="6474" y="12576"/>
                </a:cubicBezTo>
              </a:path>
              <a:path w="3697" h="1514">
                <a:moveTo>
                  <a:pt x="3671" y="11609"/>
                </a:moveTo>
                <a:cubicBezTo>
                  <a:pt x="3648" y="11601"/>
                  <a:pt x="3632" y="11566"/>
                  <a:pt x="3621" y="11534"/>
                </a:cubicBezTo>
                <a:cubicBezTo>
                  <a:pt x="3607" y="11492"/>
                  <a:pt x="3641" y="11500"/>
                  <a:pt x="3597" y="11485"/>
                </a:cubicBezTo>
                <a:cubicBezTo>
                  <a:pt x="3563" y="11529"/>
                  <a:pt x="3557" y="11600"/>
                  <a:pt x="3572" y="11658"/>
                </a:cubicBezTo>
                <a:cubicBezTo>
                  <a:pt x="3586" y="11710"/>
                  <a:pt x="3658" y="11799"/>
                  <a:pt x="3721" y="11757"/>
                </a:cubicBezTo>
                <a:cubicBezTo>
                  <a:pt x="3797" y="11706"/>
                  <a:pt x="3814" y="11592"/>
                  <a:pt x="3820" y="11509"/>
                </a:cubicBezTo>
                <a:cubicBezTo>
                  <a:pt x="3820" y="11501"/>
                  <a:pt x="3820" y="11493"/>
                  <a:pt x="3820" y="11485"/>
                </a:cubicBezTo>
                <a:cubicBezTo>
                  <a:pt x="3852" y="11527"/>
                  <a:pt x="3868" y="11581"/>
                  <a:pt x="3894" y="11633"/>
                </a:cubicBezTo>
                <a:cubicBezTo>
                  <a:pt x="3902" y="11650"/>
                  <a:pt x="3911" y="11666"/>
                  <a:pt x="3919" y="11683"/>
                </a:cubicBezTo>
              </a:path>
              <a:path w="3697" h="1514">
                <a:moveTo>
                  <a:pt x="4217" y="11410"/>
                </a:moveTo>
                <a:cubicBezTo>
                  <a:pt x="4200" y="11360"/>
                  <a:pt x="4155" y="11428"/>
                  <a:pt x="4142" y="11460"/>
                </a:cubicBezTo>
                <a:cubicBezTo>
                  <a:pt x="4123" y="11506"/>
                  <a:pt x="4147" y="11550"/>
                  <a:pt x="4167" y="11584"/>
                </a:cubicBezTo>
                <a:cubicBezTo>
                  <a:pt x="4260" y="11572"/>
                  <a:pt x="4302" y="11540"/>
                  <a:pt x="4316" y="11435"/>
                </a:cubicBezTo>
                <a:cubicBezTo>
                  <a:pt x="4327" y="11348"/>
                  <a:pt x="4316" y="11251"/>
                  <a:pt x="4316" y="11162"/>
                </a:cubicBezTo>
                <a:cubicBezTo>
                  <a:pt x="4316" y="11253"/>
                  <a:pt x="4316" y="11320"/>
                  <a:pt x="4341" y="11410"/>
                </a:cubicBezTo>
                <a:cubicBezTo>
                  <a:pt x="4366" y="11501"/>
                  <a:pt x="4372" y="11573"/>
                  <a:pt x="4415" y="11658"/>
                </a:cubicBezTo>
              </a:path>
              <a:path w="3697" h="1514">
                <a:moveTo>
                  <a:pt x="4440" y="11485"/>
                </a:moveTo>
                <a:cubicBezTo>
                  <a:pt x="4477" y="11522"/>
                  <a:pt x="4512" y="11580"/>
                  <a:pt x="4564" y="11584"/>
                </a:cubicBezTo>
                <a:cubicBezTo>
                  <a:pt x="4665" y="11591"/>
                  <a:pt x="4638" y="11512"/>
                  <a:pt x="4638" y="11435"/>
                </a:cubicBezTo>
                <a:cubicBezTo>
                  <a:pt x="4638" y="11418"/>
                  <a:pt x="4638" y="11402"/>
                  <a:pt x="4638" y="11385"/>
                </a:cubicBezTo>
              </a:path>
              <a:path w="3697" h="1514">
                <a:moveTo>
                  <a:pt x="4688" y="11733"/>
                </a:moveTo>
                <a:cubicBezTo>
                  <a:pt x="4729" y="11733"/>
                  <a:pt x="4655" y="11733"/>
                  <a:pt x="4614" y="11733"/>
                </a:cubicBezTo>
                <a:cubicBezTo>
                  <a:pt x="4517" y="11733"/>
                  <a:pt x="4431" y="11768"/>
                  <a:pt x="4341" y="11782"/>
                </a:cubicBezTo>
                <a:cubicBezTo>
                  <a:pt x="4279" y="11792"/>
                  <a:pt x="4232" y="11807"/>
                  <a:pt x="4167" y="11807"/>
                </a:cubicBezTo>
              </a:path>
              <a:path w="3697" h="1514">
                <a:moveTo>
                  <a:pt x="4291" y="12005"/>
                </a:moveTo>
                <a:cubicBezTo>
                  <a:pt x="4267" y="11960"/>
                  <a:pt x="4246" y="12039"/>
                  <a:pt x="4242" y="12080"/>
                </a:cubicBezTo>
                <a:cubicBezTo>
                  <a:pt x="4242" y="12113"/>
                  <a:pt x="4242" y="12129"/>
                  <a:pt x="4242" y="12154"/>
                </a:cubicBezTo>
                <a:cubicBezTo>
                  <a:pt x="4320" y="12143"/>
                  <a:pt x="4372" y="12121"/>
                  <a:pt x="4390" y="12030"/>
                </a:cubicBezTo>
                <a:cubicBezTo>
                  <a:pt x="4407" y="11943"/>
                  <a:pt x="4384" y="11861"/>
                  <a:pt x="4366" y="11782"/>
                </a:cubicBezTo>
                <a:cubicBezTo>
                  <a:pt x="4366" y="11774"/>
                  <a:pt x="4366" y="11765"/>
                  <a:pt x="4366" y="11757"/>
                </a:cubicBezTo>
                <a:cubicBezTo>
                  <a:pt x="4330" y="11864"/>
                  <a:pt x="4354" y="11922"/>
                  <a:pt x="4390" y="12030"/>
                </a:cubicBezTo>
                <a:cubicBezTo>
                  <a:pt x="4411" y="12093"/>
                  <a:pt x="4436" y="12145"/>
                  <a:pt x="4465" y="12204"/>
                </a:cubicBezTo>
              </a:path>
              <a:path w="3697" h="1514">
                <a:moveTo>
                  <a:pt x="4539" y="12080"/>
                </a:moveTo>
                <a:cubicBezTo>
                  <a:pt x="4571" y="12037"/>
                  <a:pt x="4558" y="12030"/>
                  <a:pt x="4614" y="12030"/>
                </a:cubicBezTo>
                <a:cubicBezTo>
                  <a:pt x="4676" y="12030"/>
                  <a:pt x="4663" y="12083"/>
                  <a:pt x="4663" y="12129"/>
                </a:cubicBezTo>
                <a:cubicBezTo>
                  <a:pt x="4663" y="12171"/>
                  <a:pt x="4628" y="12200"/>
                  <a:pt x="4589" y="12204"/>
                </a:cubicBezTo>
                <a:cubicBezTo>
                  <a:pt x="4581" y="12204"/>
                  <a:pt x="4572" y="12204"/>
                  <a:pt x="4564" y="12204"/>
                </a:cubicBezTo>
              </a:path>
              <a:path w="3697" h="1514">
                <a:moveTo>
                  <a:pt x="4713" y="12005"/>
                </a:moveTo>
                <a:cubicBezTo>
                  <a:pt x="4721" y="11989"/>
                  <a:pt x="4730" y="11972"/>
                  <a:pt x="4738" y="11956"/>
                </a:cubicBezTo>
                <a:cubicBezTo>
                  <a:pt x="4726" y="12003"/>
                  <a:pt x="4696" y="12046"/>
                  <a:pt x="4713" y="12105"/>
                </a:cubicBezTo>
                <a:cubicBezTo>
                  <a:pt x="4735" y="12182"/>
                  <a:pt x="4770" y="12179"/>
                  <a:pt x="4837" y="12179"/>
                </a:cubicBezTo>
              </a:path>
              <a:path w="3697" h="1514">
                <a:moveTo>
                  <a:pt x="5383" y="11807"/>
                </a:moveTo>
                <a:cubicBezTo>
                  <a:pt x="5407" y="11807"/>
                  <a:pt x="5416" y="11807"/>
                  <a:pt x="5432" y="11807"/>
                </a:cubicBezTo>
                <a:cubicBezTo>
                  <a:pt x="5415" y="11858"/>
                  <a:pt x="5387" y="11816"/>
                  <a:pt x="5333" y="11832"/>
                </a:cubicBezTo>
                <a:cubicBezTo>
                  <a:pt x="5265" y="11852"/>
                  <a:pt x="5207" y="11876"/>
                  <a:pt x="5135" y="11881"/>
                </a:cubicBezTo>
                <a:cubicBezTo>
                  <a:pt x="5127" y="11881"/>
                  <a:pt x="5118" y="11881"/>
                  <a:pt x="5110" y="11881"/>
                </a:cubicBezTo>
              </a:path>
              <a:path w="3697" h="1514">
                <a:moveTo>
                  <a:pt x="5159" y="11708"/>
                </a:moveTo>
                <a:cubicBezTo>
                  <a:pt x="5243" y="11729"/>
                  <a:pt x="5192" y="11785"/>
                  <a:pt x="5209" y="11857"/>
                </a:cubicBezTo>
                <a:cubicBezTo>
                  <a:pt x="5233" y="11905"/>
                  <a:pt x="5242" y="11919"/>
                  <a:pt x="5234" y="11956"/>
                </a:cubicBezTo>
              </a:path>
              <a:path w="3697" h="1514">
                <a:moveTo>
                  <a:pt x="5556" y="11782"/>
                </a:moveTo>
                <a:cubicBezTo>
                  <a:pt x="5616" y="11797"/>
                  <a:pt x="5618" y="11832"/>
                  <a:pt x="5655" y="11881"/>
                </a:cubicBezTo>
                <a:cubicBezTo>
                  <a:pt x="5680" y="11915"/>
                  <a:pt x="5760" y="11971"/>
                  <a:pt x="5804" y="11956"/>
                </a:cubicBezTo>
                <a:cubicBezTo>
                  <a:pt x="5855" y="11939"/>
                  <a:pt x="5873" y="11796"/>
                  <a:pt x="5879" y="11757"/>
                </a:cubicBezTo>
                <a:cubicBezTo>
                  <a:pt x="5879" y="11741"/>
                  <a:pt x="5879" y="11724"/>
                  <a:pt x="5879" y="11708"/>
                </a:cubicBezTo>
              </a:path>
              <a:path w="3697" h="1514">
                <a:moveTo>
                  <a:pt x="6375" y="11733"/>
                </a:moveTo>
                <a:cubicBezTo>
                  <a:pt x="6409" y="11722"/>
                  <a:pt x="6398" y="11720"/>
                  <a:pt x="6424" y="11683"/>
                </a:cubicBezTo>
                <a:cubicBezTo>
                  <a:pt x="6370" y="11697"/>
                  <a:pt x="6352" y="11731"/>
                  <a:pt x="6325" y="11782"/>
                </a:cubicBezTo>
                <a:cubicBezTo>
                  <a:pt x="6283" y="11861"/>
                  <a:pt x="6291" y="11857"/>
                  <a:pt x="6350" y="11906"/>
                </a:cubicBezTo>
                <a:cubicBezTo>
                  <a:pt x="6409" y="11833"/>
                  <a:pt x="6460" y="11754"/>
                  <a:pt x="6474" y="11658"/>
                </a:cubicBezTo>
                <a:cubicBezTo>
                  <a:pt x="6487" y="11567"/>
                  <a:pt x="6499" y="11293"/>
                  <a:pt x="6499" y="11385"/>
                </a:cubicBezTo>
                <a:cubicBezTo>
                  <a:pt x="6499" y="11402"/>
                  <a:pt x="6499" y="11418"/>
                  <a:pt x="6499" y="11435"/>
                </a:cubicBezTo>
                <a:cubicBezTo>
                  <a:pt x="6499" y="11548"/>
                  <a:pt x="6494" y="11649"/>
                  <a:pt x="6524" y="11757"/>
                </a:cubicBezTo>
                <a:cubicBezTo>
                  <a:pt x="6542" y="11822"/>
                  <a:pt x="6562" y="11877"/>
                  <a:pt x="6598" y="11931"/>
                </a:cubicBezTo>
              </a:path>
              <a:path w="3697" h="1514">
                <a:moveTo>
                  <a:pt x="6672" y="11708"/>
                </a:moveTo>
                <a:cubicBezTo>
                  <a:pt x="6672" y="11649"/>
                  <a:pt x="6691" y="11793"/>
                  <a:pt x="6697" y="11807"/>
                </a:cubicBezTo>
                <a:cubicBezTo>
                  <a:pt x="6712" y="11845"/>
                  <a:pt x="6764" y="11929"/>
                  <a:pt x="6821" y="11906"/>
                </a:cubicBezTo>
                <a:cubicBezTo>
                  <a:pt x="6870" y="11886"/>
                  <a:pt x="6857" y="11827"/>
                  <a:pt x="6896" y="11807"/>
                </a:cubicBezTo>
                <a:cubicBezTo>
                  <a:pt x="6922" y="11794"/>
                  <a:pt x="6958" y="11885"/>
                  <a:pt x="6970" y="11906"/>
                </a:cubicBezTo>
              </a:path>
              <a:path w="3697" h="1514">
                <a:moveTo>
                  <a:pt x="7020" y="12005"/>
                </a:moveTo>
                <a:cubicBezTo>
                  <a:pt x="7003" y="12073"/>
                  <a:pt x="6961" y="12055"/>
                  <a:pt x="6896" y="12055"/>
                </a:cubicBezTo>
                <a:cubicBezTo>
                  <a:pt x="6751" y="12055"/>
                  <a:pt x="6611" y="12048"/>
                  <a:pt x="6474" y="12080"/>
                </a:cubicBezTo>
                <a:cubicBezTo>
                  <a:pt x="6449" y="12080"/>
                  <a:pt x="6441" y="12080"/>
                  <a:pt x="6424" y="12080"/>
                </a:cubicBezTo>
              </a:path>
              <a:path w="3697" h="1514">
                <a:moveTo>
                  <a:pt x="6573" y="12353"/>
                </a:moveTo>
                <a:cubicBezTo>
                  <a:pt x="6573" y="12291"/>
                  <a:pt x="6549" y="12411"/>
                  <a:pt x="6548" y="12427"/>
                </a:cubicBezTo>
                <a:cubicBezTo>
                  <a:pt x="6545" y="12464"/>
                  <a:pt x="6609" y="12526"/>
                  <a:pt x="6648" y="12502"/>
                </a:cubicBezTo>
                <a:cubicBezTo>
                  <a:pt x="6753" y="12438"/>
                  <a:pt x="6723" y="12325"/>
                  <a:pt x="6697" y="12229"/>
                </a:cubicBezTo>
                <a:cubicBezTo>
                  <a:pt x="6680" y="12166"/>
                  <a:pt x="6652" y="12113"/>
                  <a:pt x="6623" y="12055"/>
                </a:cubicBezTo>
                <a:cubicBezTo>
                  <a:pt x="6589" y="12100"/>
                  <a:pt x="6586" y="12169"/>
                  <a:pt x="6598" y="12229"/>
                </a:cubicBezTo>
                <a:cubicBezTo>
                  <a:pt x="6617" y="12325"/>
                  <a:pt x="6685" y="12407"/>
                  <a:pt x="6747" y="12477"/>
                </a:cubicBezTo>
              </a:path>
              <a:path w="3697" h="1514">
                <a:moveTo>
                  <a:pt x="6846" y="12328"/>
                </a:moveTo>
                <a:cubicBezTo>
                  <a:pt x="6873" y="12288"/>
                  <a:pt x="6915" y="12239"/>
                  <a:pt x="6970" y="12303"/>
                </a:cubicBezTo>
                <a:cubicBezTo>
                  <a:pt x="6994" y="12331"/>
                  <a:pt x="6961" y="12408"/>
                  <a:pt x="6945" y="12427"/>
                </a:cubicBezTo>
                <a:cubicBezTo>
                  <a:pt x="6921" y="12452"/>
                  <a:pt x="6913" y="12461"/>
                  <a:pt x="6896" y="12477"/>
                </a:cubicBezTo>
              </a:path>
              <a:path w="3697" h="1514">
                <a:moveTo>
                  <a:pt x="6995" y="12278"/>
                </a:moveTo>
                <a:cubicBezTo>
                  <a:pt x="7003" y="12262"/>
                  <a:pt x="7012" y="12245"/>
                  <a:pt x="7020" y="12229"/>
                </a:cubicBezTo>
                <a:cubicBezTo>
                  <a:pt x="7020" y="12288"/>
                  <a:pt x="6997" y="12389"/>
                  <a:pt x="7045" y="12427"/>
                </a:cubicBezTo>
                <a:cubicBezTo>
                  <a:pt x="7114" y="12481"/>
                  <a:pt x="7185" y="12477"/>
                  <a:pt x="7268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7160" y="4724280"/>
            <a:ext cx="2500560" cy="455760"/>
          </a:xfrm>
          <a:custGeom>
            <a:avLst/>
            <a:gdLst/>
            <a:ahLst/>
            <a:rect l="l" t="t" r="r" b="b"/>
            <a:pathLst>
              <a:path w="6947" h="1266">
                <a:moveTo>
                  <a:pt x="3076" y="13221"/>
                </a:moveTo>
                <a:cubicBezTo>
                  <a:pt x="3015" y="13221"/>
                  <a:pt x="3026" y="13249"/>
                  <a:pt x="2977" y="13271"/>
                </a:cubicBezTo>
                <a:cubicBezTo>
                  <a:pt x="2941" y="13287"/>
                  <a:pt x="2940" y="13267"/>
                  <a:pt x="2902" y="13295"/>
                </a:cubicBezTo>
              </a:path>
              <a:path w="6947" h="1266">
                <a:moveTo>
                  <a:pt x="3026" y="13395"/>
                </a:moveTo>
                <a:cubicBezTo>
                  <a:pt x="3063" y="13419"/>
                  <a:pt x="3113" y="13451"/>
                  <a:pt x="3051" y="13494"/>
                </a:cubicBezTo>
                <a:cubicBezTo>
                  <a:pt x="3000" y="13529"/>
                  <a:pt x="2984" y="13535"/>
                  <a:pt x="2927" y="13543"/>
                </a:cubicBezTo>
              </a:path>
              <a:path w="6947" h="1266">
                <a:moveTo>
                  <a:pt x="4118" y="13444"/>
                </a:moveTo>
                <a:cubicBezTo>
                  <a:pt x="4118" y="13419"/>
                  <a:pt x="4118" y="13411"/>
                  <a:pt x="4118" y="13395"/>
                </a:cubicBezTo>
                <a:cubicBezTo>
                  <a:pt x="4069" y="13407"/>
                  <a:pt x="4060" y="13442"/>
                  <a:pt x="4018" y="13469"/>
                </a:cubicBezTo>
                <a:cubicBezTo>
                  <a:pt x="3947" y="13515"/>
                  <a:pt x="3944" y="13536"/>
                  <a:pt x="3944" y="13618"/>
                </a:cubicBezTo>
                <a:cubicBezTo>
                  <a:pt x="3944" y="13718"/>
                  <a:pt x="3949" y="13682"/>
                  <a:pt x="4018" y="13717"/>
                </a:cubicBezTo>
                <a:cubicBezTo>
                  <a:pt x="4053" y="13735"/>
                  <a:pt x="4120" y="13762"/>
                  <a:pt x="4167" y="13742"/>
                </a:cubicBezTo>
                <a:cubicBezTo>
                  <a:pt x="4175" y="13734"/>
                  <a:pt x="4184" y="13725"/>
                  <a:pt x="4192" y="13717"/>
                </a:cubicBezTo>
              </a:path>
              <a:path w="6947" h="1266">
                <a:moveTo>
                  <a:pt x="4291" y="13593"/>
                </a:moveTo>
                <a:cubicBezTo>
                  <a:pt x="4291" y="13532"/>
                  <a:pt x="4300" y="13546"/>
                  <a:pt x="4341" y="13519"/>
                </a:cubicBezTo>
                <a:cubicBezTo>
                  <a:pt x="4385" y="13490"/>
                  <a:pt x="4405" y="13489"/>
                  <a:pt x="4440" y="13543"/>
                </a:cubicBezTo>
                <a:cubicBezTo>
                  <a:pt x="4479" y="13603"/>
                  <a:pt x="4509" y="13645"/>
                  <a:pt x="4514" y="13717"/>
                </a:cubicBezTo>
                <a:cubicBezTo>
                  <a:pt x="4519" y="13781"/>
                  <a:pt x="4531" y="13817"/>
                  <a:pt x="4465" y="13841"/>
                </a:cubicBezTo>
                <a:cubicBezTo>
                  <a:pt x="4410" y="13861"/>
                  <a:pt x="4357" y="13828"/>
                  <a:pt x="4316" y="13816"/>
                </a:cubicBezTo>
                <a:cubicBezTo>
                  <a:pt x="4294" y="13809"/>
                  <a:pt x="4271" y="13777"/>
                  <a:pt x="4291" y="13742"/>
                </a:cubicBezTo>
                <a:cubicBezTo>
                  <a:pt x="4314" y="13719"/>
                  <a:pt x="4322" y="13715"/>
                  <a:pt x="4316" y="13692"/>
                </a:cubicBezTo>
              </a:path>
              <a:path w="6947" h="1266">
                <a:moveTo>
                  <a:pt x="4862" y="13568"/>
                </a:moveTo>
                <a:cubicBezTo>
                  <a:pt x="4862" y="13560"/>
                  <a:pt x="4862" y="13551"/>
                  <a:pt x="4862" y="13543"/>
                </a:cubicBezTo>
                <a:cubicBezTo>
                  <a:pt x="4825" y="13552"/>
                  <a:pt x="4773" y="13569"/>
                  <a:pt x="4738" y="13593"/>
                </a:cubicBezTo>
                <a:cubicBezTo>
                  <a:pt x="4711" y="13611"/>
                  <a:pt x="4691" y="13678"/>
                  <a:pt x="4738" y="13692"/>
                </a:cubicBezTo>
                <a:cubicBezTo>
                  <a:pt x="4784" y="13706"/>
                  <a:pt x="4873" y="13701"/>
                  <a:pt x="4911" y="13742"/>
                </a:cubicBezTo>
                <a:cubicBezTo>
                  <a:pt x="4928" y="13761"/>
                  <a:pt x="4952" y="13837"/>
                  <a:pt x="4936" y="13866"/>
                </a:cubicBezTo>
                <a:cubicBezTo>
                  <a:pt x="4905" y="13922"/>
                  <a:pt x="4843" y="13960"/>
                  <a:pt x="4787" y="13965"/>
                </a:cubicBezTo>
                <a:cubicBezTo>
                  <a:pt x="4759" y="13965"/>
                  <a:pt x="4748" y="13963"/>
                  <a:pt x="4738" y="13940"/>
                </a:cubicBezTo>
              </a:path>
              <a:path w="6947" h="1266">
                <a:moveTo>
                  <a:pt x="5358" y="13717"/>
                </a:moveTo>
                <a:cubicBezTo>
                  <a:pt x="5358" y="13646"/>
                  <a:pt x="5331" y="13809"/>
                  <a:pt x="5333" y="13816"/>
                </a:cubicBezTo>
                <a:cubicBezTo>
                  <a:pt x="5347" y="13857"/>
                  <a:pt x="5415" y="13929"/>
                  <a:pt x="5457" y="13940"/>
                </a:cubicBezTo>
                <a:cubicBezTo>
                  <a:pt x="5512" y="13955"/>
                  <a:pt x="5568" y="13888"/>
                  <a:pt x="5581" y="13841"/>
                </a:cubicBezTo>
                <a:cubicBezTo>
                  <a:pt x="5590" y="13806"/>
                  <a:pt x="5581" y="13754"/>
                  <a:pt x="5581" y="13717"/>
                </a:cubicBezTo>
                <a:cubicBezTo>
                  <a:pt x="5615" y="13751"/>
                  <a:pt x="5648" y="13814"/>
                  <a:pt x="5680" y="13841"/>
                </a:cubicBezTo>
                <a:cubicBezTo>
                  <a:pt x="5725" y="13880"/>
                  <a:pt x="5800" y="13911"/>
                  <a:pt x="5854" y="13915"/>
                </a:cubicBezTo>
                <a:cubicBezTo>
                  <a:pt x="5862" y="13915"/>
                  <a:pt x="5871" y="13915"/>
                  <a:pt x="5879" y="13915"/>
                </a:cubicBezTo>
              </a:path>
              <a:path w="6947" h="1266">
                <a:moveTo>
                  <a:pt x="6648" y="13841"/>
                </a:moveTo>
                <a:cubicBezTo>
                  <a:pt x="6648" y="13816"/>
                  <a:pt x="6648" y="13808"/>
                  <a:pt x="6648" y="13791"/>
                </a:cubicBezTo>
                <a:cubicBezTo>
                  <a:pt x="6618" y="13801"/>
                  <a:pt x="6606" y="13833"/>
                  <a:pt x="6573" y="13866"/>
                </a:cubicBezTo>
                <a:cubicBezTo>
                  <a:pt x="6545" y="13894"/>
                  <a:pt x="6511" y="13930"/>
                  <a:pt x="6499" y="13965"/>
                </a:cubicBezTo>
                <a:cubicBezTo>
                  <a:pt x="6499" y="13990"/>
                  <a:pt x="6499" y="13998"/>
                  <a:pt x="6474" y="13990"/>
                </a:cubicBezTo>
              </a:path>
              <a:path w="6947" h="1266">
                <a:moveTo>
                  <a:pt x="6623" y="13965"/>
                </a:moveTo>
                <a:cubicBezTo>
                  <a:pt x="6653" y="13925"/>
                  <a:pt x="6660" y="13898"/>
                  <a:pt x="6598" y="13891"/>
                </a:cubicBezTo>
                <a:cubicBezTo>
                  <a:pt x="6545" y="13885"/>
                  <a:pt x="6489" y="13912"/>
                  <a:pt x="6474" y="13866"/>
                </a:cubicBezTo>
              </a:path>
              <a:path w="6947" h="1266">
                <a:moveTo>
                  <a:pt x="7020" y="13618"/>
                </a:moveTo>
                <a:cubicBezTo>
                  <a:pt x="7012" y="13618"/>
                  <a:pt x="7003" y="13618"/>
                  <a:pt x="6995" y="13618"/>
                </a:cubicBezTo>
                <a:cubicBezTo>
                  <a:pt x="7009" y="13562"/>
                  <a:pt x="7040" y="13568"/>
                  <a:pt x="7094" y="13543"/>
                </a:cubicBezTo>
                <a:cubicBezTo>
                  <a:pt x="7143" y="13520"/>
                  <a:pt x="7238" y="13498"/>
                  <a:pt x="7293" y="13519"/>
                </a:cubicBezTo>
                <a:cubicBezTo>
                  <a:pt x="7335" y="13535"/>
                  <a:pt x="7362" y="13604"/>
                  <a:pt x="7342" y="13643"/>
                </a:cubicBezTo>
                <a:cubicBezTo>
                  <a:pt x="7319" y="13687"/>
                  <a:pt x="7280" y="13731"/>
                  <a:pt x="7243" y="13767"/>
                </a:cubicBezTo>
                <a:cubicBezTo>
                  <a:pt x="7220" y="13789"/>
                  <a:pt x="7212" y="13794"/>
                  <a:pt x="7218" y="13816"/>
                </a:cubicBezTo>
                <a:cubicBezTo>
                  <a:pt x="7285" y="13826"/>
                  <a:pt x="7327" y="13859"/>
                  <a:pt x="7392" y="13891"/>
                </a:cubicBezTo>
                <a:cubicBezTo>
                  <a:pt x="7438" y="13914"/>
                  <a:pt x="7485" y="13937"/>
                  <a:pt x="7491" y="13990"/>
                </a:cubicBezTo>
                <a:cubicBezTo>
                  <a:pt x="7497" y="14043"/>
                  <a:pt x="7406" y="14057"/>
                  <a:pt x="7367" y="14064"/>
                </a:cubicBezTo>
                <a:cubicBezTo>
                  <a:pt x="7290" y="14077"/>
                  <a:pt x="7218" y="14097"/>
                  <a:pt x="7144" y="14114"/>
                </a:cubicBezTo>
                <a:cubicBezTo>
                  <a:pt x="7136" y="14114"/>
                  <a:pt x="7127" y="14114"/>
                  <a:pt x="7119" y="14114"/>
                </a:cubicBezTo>
              </a:path>
              <a:path w="6947" h="1266">
                <a:moveTo>
                  <a:pt x="2530" y="13494"/>
                </a:moveTo>
                <a:cubicBezTo>
                  <a:pt x="2530" y="13486"/>
                  <a:pt x="2530" y="13477"/>
                  <a:pt x="2530" y="13469"/>
                </a:cubicBezTo>
                <a:cubicBezTo>
                  <a:pt x="2471" y="13469"/>
                  <a:pt x="2427" y="13460"/>
                  <a:pt x="2381" y="13494"/>
                </a:cubicBezTo>
              </a:path>
              <a:path w="6947" h="1266">
                <a:moveTo>
                  <a:pt x="2580" y="13593"/>
                </a:moveTo>
                <a:cubicBezTo>
                  <a:pt x="2588" y="13601"/>
                  <a:pt x="2596" y="13610"/>
                  <a:pt x="2604" y="13618"/>
                </a:cubicBezTo>
                <a:cubicBezTo>
                  <a:pt x="2549" y="13649"/>
                  <a:pt x="2513" y="13667"/>
                  <a:pt x="2456" y="13692"/>
                </a:cubicBezTo>
              </a:path>
              <a:path w="6947" h="1266">
                <a:moveTo>
                  <a:pt x="4142" y="13221"/>
                </a:moveTo>
                <a:cubicBezTo>
                  <a:pt x="4093" y="13243"/>
                  <a:pt x="4091" y="13246"/>
                  <a:pt x="4043" y="13246"/>
                </a:cubicBezTo>
                <a:cubicBezTo>
                  <a:pt x="4043" y="13186"/>
                  <a:pt x="4021" y="13144"/>
                  <a:pt x="4093" y="13122"/>
                </a:cubicBezTo>
                <a:cubicBezTo>
                  <a:pt x="4167" y="13099"/>
                  <a:pt x="4268" y="13116"/>
                  <a:pt x="4316" y="13171"/>
                </a:cubicBezTo>
                <a:cubicBezTo>
                  <a:pt x="4350" y="13210"/>
                  <a:pt x="4355" y="13321"/>
                  <a:pt x="4341" y="13370"/>
                </a:cubicBezTo>
                <a:cubicBezTo>
                  <a:pt x="4323" y="13436"/>
                  <a:pt x="4253" y="13475"/>
                  <a:pt x="4192" y="13494"/>
                </a:cubicBezTo>
                <a:cubicBezTo>
                  <a:pt x="4184" y="13494"/>
                  <a:pt x="4175" y="13494"/>
                  <a:pt x="4167" y="13494"/>
                </a:cubicBezTo>
              </a:path>
              <a:path w="6947" h="1266">
                <a:moveTo>
                  <a:pt x="4440" y="13171"/>
                </a:moveTo>
                <a:cubicBezTo>
                  <a:pt x="4448" y="13155"/>
                  <a:pt x="4457" y="13138"/>
                  <a:pt x="4465" y="13122"/>
                </a:cubicBezTo>
                <a:cubicBezTo>
                  <a:pt x="4393" y="13139"/>
                  <a:pt x="4396" y="13179"/>
                  <a:pt x="4366" y="13246"/>
                </a:cubicBezTo>
                <a:cubicBezTo>
                  <a:pt x="4320" y="13348"/>
                  <a:pt x="4349" y="13403"/>
                  <a:pt x="4440" y="13469"/>
                </a:cubicBezTo>
                <a:cubicBezTo>
                  <a:pt x="4493" y="13508"/>
                  <a:pt x="4553" y="13494"/>
                  <a:pt x="4614" y="13494"/>
                </a:cubicBezTo>
              </a:path>
              <a:path w="6947" h="1266">
                <a:moveTo>
                  <a:pt x="5407" y="13568"/>
                </a:moveTo>
                <a:cubicBezTo>
                  <a:pt x="5366" y="13568"/>
                  <a:pt x="5374" y="13568"/>
                  <a:pt x="5333" y="13568"/>
                </a:cubicBezTo>
                <a:cubicBezTo>
                  <a:pt x="5236" y="13568"/>
                  <a:pt x="5131" y="13599"/>
                  <a:pt x="5035" y="13618"/>
                </a:cubicBezTo>
                <a:cubicBezTo>
                  <a:pt x="4877" y="13650"/>
                  <a:pt x="4700" y="13678"/>
                  <a:pt x="4539" y="13692"/>
                </a:cubicBezTo>
                <a:cubicBezTo>
                  <a:pt x="4352" y="13709"/>
                  <a:pt x="4175" y="13735"/>
                  <a:pt x="3994" y="13791"/>
                </a:cubicBezTo>
                <a:cubicBezTo>
                  <a:pt x="3895" y="13822"/>
                  <a:pt x="3792" y="13840"/>
                  <a:pt x="3696" y="13866"/>
                </a:cubicBezTo>
                <a:cubicBezTo>
                  <a:pt x="3639" y="13882"/>
                  <a:pt x="3596" y="13911"/>
                  <a:pt x="3547" y="13940"/>
                </a:cubicBezTo>
                <a:cubicBezTo>
                  <a:pt x="3519" y="13940"/>
                  <a:pt x="3508" y="13942"/>
                  <a:pt x="3497" y="13965"/>
                </a:cubicBezTo>
              </a:path>
              <a:path w="6947" h="1266">
                <a:moveTo>
                  <a:pt x="3746" y="14089"/>
                </a:moveTo>
                <a:cubicBezTo>
                  <a:pt x="3746" y="14064"/>
                  <a:pt x="3746" y="14056"/>
                  <a:pt x="3721" y="14064"/>
                </a:cubicBezTo>
                <a:cubicBezTo>
                  <a:pt x="3679" y="14078"/>
                  <a:pt x="3673" y="14134"/>
                  <a:pt x="3671" y="14188"/>
                </a:cubicBezTo>
                <a:cubicBezTo>
                  <a:pt x="3668" y="14262"/>
                  <a:pt x="3687" y="14362"/>
                  <a:pt x="3770" y="14387"/>
                </a:cubicBezTo>
                <a:cubicBezTo>
                  <a:pt x="3822" y="14387"/>
                  <a:pt x="3840" y="14386"/>
                  <a:pt x="3870" y="14362"/>
                </a:cubicBezTo>
              </a:path>
              <a:path w="6947" h="1266">
                <a:moveTo>
                  <a:pt x="3944" y="14163"/>
                </a:moveTo>
                <a:cubicBezTo>
                  <a:pt x="3931" y="14124"/>
                  <a:pt x="3932" y="14153"/>
                  <a:pt x="3919" y="14114"/>
                </a:cubicBezTo>
                <a:cubicBezTo>
                  <a:pt x="3965" y="14114"/>
                  <a:pt x="4033" y="14101"/>
                  <a:pt x="4068" y="14139"/>
                </a:cubicBezTo>
                <a:cubicBezTo>
                  <a:pt x="4100" y="14174"/>
                  <a:pt x="4110" y="14293"/>
                  <a:pt x="4093" y="14337"/>
                </a:cubicBezTo>
                <a:cubicBezTo>
                  <a:pt x="4071" y="14393"/>
                  <a:pt x="3998" y="14350"/>
                  <a:pt x="3969" y="14337"/>
                </a:cubicBezTo>
              </a:path>
              <a:path w="6947" h="1266">
                <a:moveTo>
                  <a:pt x="4167" y="14039"/>
                </a:moveTo>
                <a:cubicBezTo>
                  <a:pt x="4208" y="14020"/>
                  <a:pt x="4224" y="14001"/>
                  <a:pt x="4217" y="14039"/>
                </a:cubicBezTo>
                <a:cubicBezTo>
                  <a:pt x="4209" y="14071"/>
                  <a:pt x="4178" y="14101"/>
                  <a:pt x="4192" y="14139"/>
                </a:cubicBezTo>
                <a:cubicBezTo>
                  <a:pt x="4219" y="14213"/>
                  <a:pt x="4276" y="14230"/>
                  <a:pt x="4341" y="14263"/>
                </a:cubicBezTo>
                <a:cubicBezTo>
                  <a:pt x="4403" y="14295"/>
                  <a:pt x="4390" y="14301"/>
                  <a:pt x="4390" y="14362"/>
                </a:cubicBezTo>
                <a:cubicBezTo>
                  <a:pt x="4341" y="14362"/>
                  <a:pt x="4291" y="14362"/>
                  <a:pt x="4242" y="14362"/>
                </a:cubicBezTo>
              </a:path>
              <a:path w="6947" h="1266">
                <a:moveTo>
                  <a:pt x="4415" y="13965"/>
                </a:moveTo>
                <a:cubicBezTo>
                  <a:pt x="4390" y="13965"/>
                  <a:pt x="4382" y="13965"/>
                  <a:pt x="4390" y="13940"/>
                </a:cubicBezTo>
                <a:cubicBezTo>
                  <a:pt x="4396" y="13922"/>
                  <a:pt x="4434" y="13880"/>
                  <a:pt x="4465" y="13866"/>
                </a:cubicBezTo>
                <a:cubicBezTo>
                  <a:pt x="4473" y="13866"/>
                  <a:pt x="4482" y="13866"/>
                  <a:pt x="4490" y="13866"/>
                </a:cubicBezTo>
                <a:cubicBezTo>
                  <a:pt x="4506" y="13877"/>
                  <a:pt x="4534" y="13927"/>
                  <a:pt x="4514" y="13965"/>
                </a:cubicBezTo>
                <a:cubicBezTo>
                  <a:pt x="4498" y="13995"/>
                  <a:pt x="4440" y="14019"/>
                  <a:pt x="4465" y="14064"/>
                </a:cubicBezTo>
                <a:cubicBezTo>
                  <a:pt x="4486" y="14102"/>
                  <a:pt x="4528" y="14089"/>
                  <a:pt x="4564" y="14089"/>
                </a:cubicBezTo>
              </a:path>
              <a:path w="6947" h="1266">
                <a:moveTo>
                  <a:pt x="4738" y="14089"/>
                </a:moveTo>
                <a:cubicBezTo>
                  <a:pt x="4747" y="14061"/>
                  <a:pt x="4794" y="14046"/>
                  <a:pt x="4837" y="14064"/>
                </a:cubicBezTo>
                <a:cubicBezTo>
                  <a:pt x="4895" y="14088"/>
                  <a:pt x="4907" y="14162"/>
                  <a:pt x="4911" y="14213"/>
                </a:cubicBezTo>
                <a:cubicBezTo>
                  <a:pt x="4916" y="14284"/>
                  <a:pt x="4838" y="14308"/>
                  <a:pt x="4787" y="14312"/>
                </a:cubicBezTo>
                <a:cubicBezTo>
                  <a:pt x="4779" y="14312"/>
                  <a:pt x="4770" y="14312"/>
                  <a:pt x="4762" y="14312"/>
                </a:cubicBezTo>
              </a:path>
              <a:path w="6947" h="1266">
                <a:moveTo>
                  <a:pt x="4961" y="14039"/>
                </a:moveTo>
                <a:cubicBezTo>
                  <a:pt x="4998" y="13967"/>
                  <a:pt x="4917" y="14099"/>
                  <a:pt x="4911" y="14139"/>
                </a:cubicBezTo>
                <a:cubicBezTo>
                  <a:pt x="4898" y="14225"/>
                  <a:pt x="4958" y="14281"/>
                  <a:pt x="5035" y="14288"/>
                </a:cubicBezTo>
                <a:cubicBezTo>
                  <a:pt x="5103" y="14288"/>
                  <a:pt x="5122" y="14291"/>
                  <a:pt x="5159" y="14263"/>
                </a:cubicBezTo>
              </a:path>
              <a:path w="6947" h="1266">
                <a:moveTo>
                  <a:pt x="6697" y="13915"/>
                </a:moveTo>
                <a:cubicBezTo>
                  <a:pt x="6621" y="13915"/>
                  <a:pt x="6569" y="13907"/>
                  <a:pt x="6499" y="13891"/>
                </a:cubicBezTo>
                <a:cubicBezTo>
                  <a:pt x="6442" y="13878"/>
                  <a:pt x="6417" y="13901"/>
                  <a:pt x="6375" y="13915"/>
                </a:cubicBezTo>
                <a:cubicBezTo>
                  <a:pt x="6367" y="13915"/>
                  <a:pt x="6358" y="13915"/>
                  <a:pt x="6350" y="13915"/>
                </a:cubicBezTo>
              </a:path>
              <a:path w="6947" h="1266">
                <a:moveTo>
                  <a:pt x="6474" y="13742"/>
                </a:moveTo>
                <a:cubicBezTo>
                  <a:pt x="6474" y="13812"/>
                  <a:pt x="6495" y="13871"/>
                  <a:pt x="6499" y="13940"/>
                </a:cubicBezTo>
                <a:cubicBezTo>
                  <a:pt x="6499" y="13990"/>
                  <a:pt x="6499" y="14006"/>
                  <a:pt x="6499" y="14039"/>
                </a:cubicBezTo>
              </a:path>
              <a:path w="6947" h="1266">
                <a:moveTo>
                  <a:pt x="7293" y="13816"/>
                </a:moveTo>
                <a:cubicBezTo>
                  <a:pt x="7293" y="13800"/>
                  <a:pt x="7293" y="13783"/>
                  <a:pt x="7293" y="13767"/>
                </a:cubicBezTo>
                <a:cubicBezTo>
                  <a:pt x="7293" y="13700"/>
                  <a:pt x="7270" y="13857"/>
                  <a:pt x="7268" y="13866"/>
                </a:cubicBezTo>
                <a:cubicBezTo>
                  <a:pt x="7252" y="13953"/>
                  <a:pt x="7283" y="14035"/>
                  <a:pt x="7317" y="14114"/>
                </a:cubicBezTo>
                <a:cubicBezTo>
                  <a:pt x="7354" y="14201"/>
                  <a:pt x="7405" y="14227"/>
                  <a:pt x="7491" y="14238"/>
                </a:cubicBezTo>
              </a:path>
              <a:path w="6947" h="1266">
                <a:moveTo>
                  <a:pt x="7590" y="13990"/>
                </a:moveTo>
                <a:cubicBezTo>
                  <a:pt x="7529" y="13937"/>
                  <a:pt x="7538" y="13940"/>
                  <a:pt x="7466" y="13940"/>
                </a:cubicBezTo>
                <a:cubicBezTo>
                  <a:pt x="7421" y="13940"/>
                  <a:pt x="7376" y="13942"/>
                  <a:pt x="7342" y="13965"/>
                </a:cubicBezTo>
                <a:cubicBezTo>
                  <a:pt x="7334" y="13973"/>
                  <a:pt x="7325" y="13982"/>
                  <a:pt x="7317" y="13990"/>
                </a:cubicBezTo>
              </a:path>
              <a:path w="6947" h="1266">
                <a:moveTo>
                  <a:pt x="7714" y="13990"/>
                </a:moveTo>
                <a:cubicBezTo>
                  <a:pt x="7739" y="13990"/>
                  <a:pt x="7747" y="13990"/>
                  <a:pt x="7739" y="13965"/>
                </a:cubicBezTo>
                <a:cubicBezTo>
                  <a:pt x="7682" y="14011"/>
                  <a:pt x="7639" y="14038"/>
                  <a:pt x="7615" y="14114"/>
                </a:cubicBezTo>
                <a:cubicBezTo>
                  <a:pt x="7615" y="14149"/>
                  <a:pt x="7620" y="14166"/>
                  <a:pt x="7640" y="14188"/>
                </a:cubicBezTo>
                <a:cubicBezTo>
                  <a:pt x="7683" y="14177"/>
                  <a:pt x="7705" y="14148"/>
                  <a:pt x="7739" y="14114"/>
                </a:cubicBezTo>
                <a:cubicBezTo>
                  <a:pt x="7747" y="14106"/>
                  <a:pt x="7756" y="14097"/>
                  <a:pt x="7764" y="14089"/>
                </a:cubicBezTo>
                <a:cubicBezTo>
                  <a:pt x="7790" y="14115"/>
                  <a:pt x="7829" y="14173"/>
                  <a:pt x="7863" y="14188"/>
                </a:cubicBezTo>
                <a:cubicBezTo>
                  <a:pt x="7871" y="14188"/>
                  <a:pt x="7880" y="14188"/>
                  <a:pt x="7888" y="14188"/>
                </a:cubicBezTo>
              </a:path>
              <a:path w="6947" h="1266">
                <a:moveTo>
                  <a:pt x="8012" y="13990"/>
                </a:moveTo>
                <a:cubicBezTo>
                  <a:pt x="8020" y="13982"/>
                  <a:pt x="8029" y="13973"/>
                  <a:pt x="8037" y="13965"/>
                </a:cubicBezTo>
                <a:cubicBezTo>
                  <a:pt x="8050" y="14018"/>
                  <a:pt x="8062" y="14050"/>
                  <a:pt x="8062" y="14114"/>
                </a:cubicBezTo>
                <a:cubicBezTo>
                  <a:pt x="8062" y="14142"/>
                  <a:pt x="8064" y="14152"/>
                  <a:pt x="8086" y="14163"/>
                </a:cubicBezTo>
                <a:cubicBezTo>
                  <a:pt x="8127" y="14124"/>
                  <a:pt x="8149" y="14080"/>
                  <a:pt x="8186" y="14039"/>
                </a:cubicBezTo>
                <a:cubicBezTo>
                  <a:pt x="8227" y="13993"/>
                  <a:pt x="8288" y="14035"/>
                  <a:pt x="8310" y="14089"/>
                </a:cubicBezTo>
                <a:cubicBezTo>
                  <a:pt x="8310" y="14106"/>
                  <a:pt x="8310" y="14122"/>
                  <a:pt x="8310" y="14139"/>
                </a:cubicBezTo>
              </a:path>
              <a:path w="6947" h="1266">
                <a:moveTo>
                  <a:pt x="8706" y="14039"/>
                </a:moveTo>
                <a:cubicBezTo>
                  <a:pt x="8666" y="14019"/>
                  <a:pt x="8659" y="14011"/>
                  <a:pt x="8632" y="14015"/>
                </a:cubicBezTo>
                <a:cubicBezTo>
                  <a:pt x="8648" y="13982"/>
                  <a:pt x="8702" y="13922"/>
                  <a:pt x="8756" y="13940"/>
                </a:cubicBezTo>
                <a:cubicBezTo>
                  <a:pt x="8821" y="13962"/>
                  <a:pt x="8869" y="14049"/>
                  <a:pt x="8880" y="14114"/>
                </a:cubicBezTo>
                <a:cubicBezTo>
                  <a:pt x="8894" y="14195"/>
                  <a:pt x="8886" y="14254"/>
                  <a:pt x="8806" y="14263"/>
                </a:cubicBezTo>
                <a:cubicBezTo>
                  <a:pt x="8750" y="14270"/>
                  <a:pt x="8724" y="14264"/>
                  <a:pt x="8682" y="14238"/>
                </a:cubicBezTo>
              </a:path>
              <a:path w="6947" h="1266">
                <a:moveTo>
                  <a:pt x="9004" y="13965"/>
                </a:moveTo>
                <a:cubicBezTo>
                  <a:pt x="9024" y="13925"/>
                  <a:pt x="9033" y="13918"/>
                  <a:pt x="9029" y="13891"/>
                </a:cubicBezTo>
                <a:cubicBezTo>
                  <a:pt x="8975" y="13917"/>
                  <a:pt x="8957" y="13972"/>
                  <a:pt x="8954" y="14039"/>
                </a:cubicBezTo>
                <a:cubicBezTo>
                  <a:pt x="8949" y="14159"/>
                  <a:pt x="9033" y="14244"/>
                  <a:pt x="9153" y="14263"/>
                </a:cubicBezTo>
                <a:cubicBezTo>
                  <a:pt x="9245" y="14263"/>
                  <a:pt x="9272" y="14265"/>
                  <a:pt x="9327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16000" y="5295960"/>
            <a:ext cx="108000" cy="71280"/>
          </a:xfrm>
          <a:custGeom>
            <a:avLst/>
            <a:gdLst/>
            <a:ahLst/>
            <a:rect l="l" t="t" r="r" b="b"/>
            <a:pathLst>
              <a:path w="298" h="200">
                <a:moveTo>
                  <a:pt x="3274" y="14734"/>
                </a:moveTo>
                <a:cubicBezTo>
                  <a:pt x="3274" y="14726"/>
                  <a:pt x="3274" y="14717"/>
                  <a:pt x="3274" y="14709"/>
                </a:cubicBezTo>
                <a:cubicBezTo>
                  <a:pt x="3228" y="14709"/>
                  <a:pt x="3210" y="14703"/>
                  <a:pt x="3175" y="14734"/>
                </a:cubicBezTo>
                <a:cubicBezTo>
                  <a:pt x="3143" y="14763"/>
                  <a:pt x="3142" y="14759"/>
                  <a:pt x="3101" y="14759"/>
                </a:cubicBezTo>
              </a:path>
              <a:path w="298" h="200">
                <a:moveTo>
                  <a:pt x="3398" y="14858"/>
                </a:moveTo>
                <a:cubicBezTo>
                  <a:pt x="3342" y="14858"/>
                  <a:pt x="3320" y="14868"/>
                  <a:pt x="3274" y="14883"/>
                </a:cubicBezTo>
                <a:cubicBezTo>
                  <a:pt x="3246" y="14883"/>
                  <a:pt x="3235" y="14885"/>
                  <a:pt x="3225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11200" y="5232240"/>
            <a:ext cx="554040" cy="206640"/>
          </a:xfrm>
          <a:custGeom>
            <a:avLst/>
            <a:gdLst/>
            <a:ahLst/>
            <a:rect l="l" t="t" r="r" b="b"/>
            <a:pathLst>
              <a:path w="1539" h="571">
                <a:moveTo>
                  <a:pt x="3969" y="14660"/>
                </a:moveTo>
                <a:cubicBezTo>
                  <a:pt x="3946" y="14682"/>
                  <a:pt x="3941" y="14690"/>
                  <a:pt x="3919" y="14684"/>
                </a:cubicBezTo>
                <a:cubicBezTo>
                  <a:pt x="3927" y="14654"/>
                  <a:pt x="3940" y="14605"/>
                  <a:pt x="3969" y="14585"/>
                </a:cubicBezTo>
                <a:cubicBezTo>
                  <a:pt x="4016" y="14552"/>
                  <a:pt x="4088" y="14539"/>
                  <a:pt x="4142" y="14536"/>
                </a:cubicBezTo>
                <a:cubicBezTo>
                  <a:pt x="4208" y="14532"/>
                  <a:pt x="4273" y="14569"/>
                  <a:pt x="4291" y="14635"/>
                </a:cubicBezTo>
                <a:cubicBezTo>
                  <a:pt x="4314" y="14720"/>
                  <a:pt x="4271" y="14754"/>
                  <a:pt x="4217" y="14808"/>
                </a:cubicBezTo>
                <a:cubicBezTo>
                  <a:pt x="4178" y="14847"/>
                  <a:pt x="4124" y="14850"/>
                  <a:pt x="4118" y="14908"/>
                </a:cubicBezTo>
                <a:cubicBezTo>
                  <a:pt x="4118" y="14916"/>
                  <a:pt x="4118" y="14924"/>
                  <a:pt x="4118" y="14932"/>
                </a:cubicBezTo>
                <a:cubicBezTo>
                  <a:pt x="4191" y="14932"/>
                  <a:pt x="4249" y="14946"/>
                  <a:pt x="4316" y="14957"/>
                </a:cubicBezTo>
                <a:cubicBezTo>
                  <a:pt x="4372" y="14966"/>
                  <a:pt x="4408" y="14994"/>
                  <a:pt x="4415" y="15056"/>
                </a:cubicBezTo>
                <a:cubicBezTo>
                  <a:pt x="4423" y="15127"/>
                  <a:pt x="4335" y="15106"/>
                  <a:pt x="4291" y="15106"/>
                </a:cubicBezTo>
                <a:cubicBezTo>
                  <a:pt x="4241" y="15106"/>
                  <a:pt x="4192" y="15106"/>
                  <a:pt x="4142" y="15106"/>
                </a:cubicBezTo>
              </a:path>
              <a:path w="1539" h="571">
                <a:moveTo>
                  <a:pt x="4713" y="14784"/>
                </a:moveTo>
                <a:cubicBezTo>
                  <a:pt x="4738" y="14784"/>
                  <a:pt x="4746" y="14784"/>
                  <a:pt x="4738" y="14759"/>
                </a:cubicBezTo>
                <a:cubicBezTo>
                  <a:pt x="4725" y="14797"/>
                  <a:pt x="4683" y="14797"/>
                  <a:pt x="4663" y="14858"/>
                </a:cubicBezTo>
                <a:cubicBezTo>
                  <a:pt x="4649" y="14899"/>
                  <a:pt x="4654" y="14981"/>
                  <a:pt x="4688" y="15007"/>
                </a:cubicBezTo>
                <a:cubicBezTo>
                  <a:pt x="4738" y="15046"/>
                  <a:pt x="4803" y="15032"/>
                  <a:pt x="4862" y="15032"/>
                </a:cubicBezTo>
              </a:path>
              <a:path w="1539" h="571">
                <a:moveTo>
                  <a:pt x="4986" y="14908"/>
                </a:moveTo>
                <a:cubicBezTo>
                  <a:pt x="4977" y="14896"/>
                  <a:pt x="4935" y="14829"/>
                  <a:pt x="4961" y="14808"/>
                </a:cubicBezTo>
                <a:cubicBezTo>
                  <a:pt x="4974" y="14798"/>
                  <a:pt x="5036" y="14771"/>
                  <a:pt x="5060" y="14784"/>
                </a:cubicBezTo>
                <a:cubicBezTo>
                  <a:pt x="5104" y="14807"/>
                  <a:pt x="5132" y="14862"/>
                  <a:pt x="5135" y="14908"/>
                </a:cubicBezTo>
                <a:cubicBezTo>
                  <a:pt x="5135" y="14949"/>
                  <a:pt x="5135" y="14957"/>
                  <a:pt x="5135" y="14982"/>
                </a:cubicBezTo>
                <a:cubicBezTo>
                  <a:pt x="5085" y="14982"/>
                  <a:pt x="5036" y="14982"/>
                  <a:pt x="4986" y="14982"/>
                </a:cubicBezTo>
              </a:path>
              <a:path w="1539" h="571">
                <a:moveTo>
                  <a:pt x="5432" y="14759"/>
                </a:moveTo>
                <a:cubicBezTo>
                  <a:pt x="5432" y="14751"/>
                  <a:pt x="5432" y="14742"/>
                  <a:pt x="5432" y="14734"/>
                </a:cubicBezTo>
                <a:cubicBezTo>
                  <a:pt x="5401" y="14742"/>
                  <a:pt x="5349" y="14773"/>
                  <a:pt x="5333" y="14808"/>
                </a:cubicBezTo>
                <a:cubicBezTo>
                  <a:pt x="5317" y="14844"/>
                  <a:pt x="5352" y="14894"/>
                  <a:pt x="5383" y="14908"/>
                </a:cubicBezTo>
                <a:cubicBezTo>
                  <a:pt x="5404" y="14918"/>
                  <a:pt x="5477" y="14937"/>
                  <a:pt x="5457" y="14982"/>
                </a:cubicBezTo>
                <a:cubicBezTo>
                  <a:pt x="5446" y="15008"/>
                  <a:pt x="5381" y="15029"/>
                  <a:pt x="5358" y="15032"/>
                </a:cubicBezTo>
                <a:cubicBezTo>
                  <a:pt x="5350" y="15032"/>
                  <a:pt x="5341" y="15032"/>
                  <a:pt x="5333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16080" y="5249880"/>
            <a:ext cx="393840" cy="223920"/>
          </a:xfrm>
          <a:custGeom>
            <a:avLst/>
            <a:gdLst/>
            <a:ahLst/>
            <a:rect l="l" t="t" r="r" b="b"/>
            <a:pathLst>
              <a:path w="1092" h="621">
                <a:moveTo>
                  <a:pt x="5953" y="14684"/>
                </a:moveTo>
                <a:cubicBezTo>
                  <a:pt x="5913" y="14704"/>
                  <a:pt x="5907" y="14713"/>
                  <a:pt x="5879" y="14709"/>
                </a:cubicBezTo>
                <a:cubicBezTo>
                  <a:pt x="5879" y="14641"/>
                  <a:pt x="5894" y="14684"/>
                  <a:pt x="5928" y="14635"/>
                </a:cubicBezTo>
                <a:cubicBezTo>
                  <a:pt x="5958" y="14592"/>
                  <a:pt x="6013" y="14558"/>
                  <a:pt x="6077" y="14585"/>
                </a:cubicBezTo>
                <a:cubicBezTo>
                  <a:pt x="6113" y="14600"/>
                  <a:pt x="6112" y="14701"/>
                  <a:pt x="6102" y="14734"/>
                </a:cubicBezTo>
                <a:cubicBezTo>
                  <a:pt x="6082" y="14802"/>
                  <a:pt x="6026" y="14843"/>
                  <a:pt x="5978" y="14883"/>
                </a:cubicBezTo>
                <a:cubicBezTo>
                  <a:pt x="5970" y="14891"/>
                  <a:pt x="5961" y="14900"/>
                  <a:pt x="5953" y="14908"/>
                </a:cubicBezTo>
                <a:cubicBezTo>
                  <a:pt x="5963" y="14948"/>
                  <a:pt x="5982" y="14979"/>
                  <a:pt x="6028" y="14982"/>
                </a:cubicBezTo>
                <a:cubicBezTo>
                  <a:pt x="6099" y="14987"/>
                  <a:pt x="6127" y="15007"/>
                  <a:pt x="6176" y="15056"/>
                </a:cubicBezTo>
                <a:cubicBezTo>
                  <a:pt x="6216" y="15096"/>
                  <a:pt x="6215" y="15151"/>
                  <a:pt x="6152" y="15156"/>
                </a:cubicBezTo>
                <a:cubicBezTo>
                  <a:pt x="6088" y="15161"/>
                  <a:pt x="6049" y="15180"/>
                  <a:pt x="5978" y="15180"/>
                </a:cubicBezTo>
                <a:cubicBezTo>
                  <a:pt x="5970" y="15180"/>
                  <a:pt x="5961" y="15180"/>
                  <a:pt x="5953" y="15180"/>
                </a:cubicBezTo>
              </a:path>
              <a:path w="1092" h="621">
                <a:moveTo>
                  <a:pt x="6375" y="14982"/>
                </a:moveTo>
                <a:cubicBezTo>
                  <a:pt x="6419" y="14949"/>
                  <a:pt x="6441" y="14957"/>
                  <a:pt x="6499" y="14957"/>
                </a:cubicBezTo>
                <a:cubicBezTo>
                  <a:pt x="6552" y="14957"/>
                  <a:pt x="6568" y="15010"/>
                  <a:pt x="6573" y="15056"/>
                </a:cubicBezTo>
                <a:cubicBezTo>
                  <a:pt x="6577" y="15098"/>
                  <a:pt x="6535" y="15127"/>
                  <a:pt x="6499" y="15131"/>
                </a:cubicBezTo>
                <a:cubicBezTo>
                  <a:pt x="6467" y="15135"/>
                  <a:pt x="6455" y="15148"/>
                  <a:pt x="6424" y="15156"/>
                </a:cubicBezTo>
              </a:path>
              <a:path w="1092" h="621">
                <a:moveTo>
                  <a:pt x="6672" y="14883"/>
                </a:moveTo>
                <a:cubicBezTo>
                  <a:pt x="6711" y="14844"/>
                  <a:pt x="6728" y="14842"/>
                  <a:pt x="6722" y="14808"/>
                </a:cubicBezTo>
                <a:cubicBezTo>
                  <a:pt x="6652" y="14808"/>
                  <a:pt x="6654" y="14846"/>
                  <a:pt x="6623" y="14908"/>
                </a:cubicBezTo>
                <a:cubicBezTo>
                  <a:pt x="6588" y="14978"/>
                  <a:pt x="6592" y="15092"/>
                  <a:pt x="6648" y="15156"/>
                </a:cubicBezTo>
                <a:cubicBezTo>
                  <a:pt x="6692" y="15206"/>
                  <a:pt x="6812" y="15219"/>
                  <a:pt x="6871" y="15205"/>
                </a:cubicBezTo>
                <a:cubicBezTo>
                  <a:pt x="6925" y="15178"/>
                  <a:pt x="6945" y="15167"/>
                  <a:pt x="6970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41840" y="2751120"/>
            <a:ext cx="133200" cy="204840"/>
          </a:xfrm>
          <a:custGeom>
            <a:avLst/>
            <a:gdLst/>
            <a:ahLst/>
            <a:rect l="l" t="t" r="r" b="b"/>
            <a:pathLst>
              <a:path w="373" h="571">
                <a:moveTo>
                  <a:pt x="10393" y="7739"/>
                </a:moveTo>
                <a:cubicBezTo>
                  <a:pt x="10406" y="7701"/>
                  <a:pt x="10418" y="7718"/>
                  <a:pt x="10418" y="7665"/>
                </a:cubicBezTo>
                <a:cubicBezTo>
                  <a:pt x="10418" y="7657"/>
                  <a:pt x="10418" y="7648"/>
                  <a:pt x="10418" y="7640"/>
                </a:cubicBezTo>
                <a:cubicBezTo>
                  <a:pt x="10378" y="7653"/>
                  <a:pt x="10393" y="7688"/>
                  <a:pt x="10393" y="7739"/>
                </a:cubicBezTo>
                <a:cubicBezTo>
                  <a:pt x="10393" y="7813"/>
                  <a:pt x="10427" y="7883"/>
                  <a:pt x="10517" y="7863"/>
                </a:cubicBezTo>
                <a:cubicBezTo>
                  <a:pt x="10598" y="7845"/>
                  <a:pt x="10624" y="7783"/>
                  <a:pt x="10691" y="7764"/>
                </a:cubicBezTo>
                <a:cubicBezTo>
                  <a:pt x="10747" y="7848"/>
                  <a:pt x="10761" y="7936"/>
                  <a:pt x="10765" y="8037"/>
                </a:cubicBezTo>
                <a:cubicBezTo>
                  <a:pt x="10769" y="8157"/>
                  <a:pt x="10730" y="8199"/>
                  <a:pt x="10616" y="8210"/>
                </a:cubicBezTo>
                <a:cubicBezTo>
                  <a:pt x="10550" y="8216"/>
                  <a:pt x="10503" y="8206"/>
                  <a:pt x="10443" y="8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83040" y="2786040"/>
            <a:ext cx="71280" cy="6336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1212" y="7739"/>
                </a:moveTo>
                <a:cubicBezTo>
                  <a:pt x="11162" y="7739"/>
                  <a:pt x="11113" y="7739"/>
                  <a:pt x="11063" y="7739"/>
                </a:cubicBezTo>
              </a:path>
              <a:path w="199" h="175">
                <a:moveTo>
                  <a:pt x="11237" y="7838"/>
                </a:moveTo>
                <a:cubicBezTo>
                  <a:pt x="11245" y="7846"/>
                  <a:pt x="11253" y="7855"/>
                  <a:pt x="11261" y="7863"/>
                </a:cubicBezTo>
                <a:cubicBezTo>
                  <a:pt x="11229" y="7888"/>
                  <a:pt x="11179" y="7902"/>
                  <a:pt x="11137" y="7913"/>
                </a:cubicBezTo>
                <a:cubicBezTo>
                  <a:pt x="11129" y="7913"/>
                  <a:pt x="11120" y="7913"/>
                  <a:pt x="11112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52960" y="2759040"/>
            <a:ext cx="187200" cy="9864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11559" y="7714"/>
                </a:moveTo>
                <a:cubicBezTo>
                  <a:pt x="11499" y="7684"/>
                  <a:pt x="11607" y="7689"/>
                  <a:pt x="11633" y="7689"/>
                </a:cubicBezTo>
                <a:cubicBezTo>
                  <a:pt x="11682" y="7689"/>
                  <a:pt x="11763" y="7742"/>
                  <a:pt x="11782" y="7789"/>
                </a:cubicBezTo>
                <a:cubicBezTo>
                  <a:pt x="11790" y="7809"/>
                  <a:pt x="11782" y="7892"/>
                  <a:pt x="11782" y="7913"/>
                </a:cubicBezTo>
                <a:cubicBezTo>
                  <a:pt x="11732" y="7913"/>
                  <a:pt x="11683" y="7913"/>
                  <a:pt x="11633" y="7913"/>
                </a:cubicBezTo>
              </a:path>
              <a:path w="522" h="274">
                <a:moveTo>
                  <a:pt x="11956" y="7689"/>
                </a:moveTo>
                <a:cubicBezTo>
                  <a:pt x="11956" y="7681"/>
                  <a:pt x="11956" y="7673"/>
                  <a:pt x="11956" y="7665"/>
                </a:cubicBezTo>
                <a:cubicBezTo>
                  <a:pt x="11933" y="7672"/>
                  <a:pt x="11890" y="7730"/>
                  <a:pt x="11881" y="7764"/>
                </a:cubicBezTo>
                <a:cubicBezTo>
                  <a:pt x="11870" y="7806"/>
                  <a:pt x="11912" y="7922"/>
                  <a:pt x="11956" y="7938"/>
                </a:cubicBezTo>
                <a:cubicBezTo>
                  <a:pt x="12005" y="7938"/>
                  <a:pt x="12022" y="7938"/>
                  <a:pt x="12055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56080" y="2714760"/>
            <a:ext cx="357120" cy="142920"/>
          </a:xfrm>
          <a:custGeom>
            <a:avLst/>
            <a:gdLst/>
            <a:ahLst/>
            <a:rect l="l" t="t" r="r" b="b"/>
            <a:pathLst>
              <a:path w="993" h="398">
                <a:moveTo>
                  <a:pt x="12427" y="7541"/>
                </a:moveTo>
                <a:cubicBezTo>
                  <a:pt x="12413" y="7595"/>
                  <a:pt x="12382" y="7602"/>
                  <a:pt x="12378" y="7665"/>
                </a:cubicBezTo>
                <a:cubicBezTo>
                  <a:pt x="12375" y="7719"/>
                  <a:pt x="12360" y="7821"/>
                  <a:pt x="12402" y="7863"/>
                </a:cubicBezTo>
                <a:cubicBezTo>
                  <a:pt x="12447" y="7908"/>
                  <a:pt x="12518" y="7913"/>
                  <a:pt x="12576" y="7913"/>
                </a:cubicBezTo>
                <a:cubicBezTo>
                  <a:pt x="12593" y="7913"/>
                  <a:pt x="12609" y="7913"/>
                  <a:pt x="12626" y="7913"/>
                </a:cubicBezTo>
              </a:path>
              <a:path w="993" h="398">
                <a:moveTo>
                  <a:pt x="12700" y="7714"/>
                </a:moveTo>
                <a:cubicBezTo>
                  <a:pt x="12641" y="7670"/>
                  <a:pt x="12657" y="7702"/>
                  <a:pt x="12601" y="7714"/>
                </a:cubicBezTo>
                <a:cubicBezTo>
                  <a:pt x="12556" y="7724"/>
                  <a:pt x="12499" y="7714"/>
                  <a:pt x="12452" y="7714"/>
                </a:cubicBezTo>
              </a:path>
              <a:path w="993" h="398">
                <a:moveTo>
                  <a:pt x="12824" y="7739"/>
                </a:moveTo>
                <a:cubicBezTo>
                  <a:pt x="12849" y="7739"/>
                  <a:pt x="12857" y="7739"/>
                  <a:pt x="12849" y="7714"/>
                </a:cubicBezTo>
                <a:cubicBezTo>
                  <a:pt x="12830" y="7657"/>
                  <a:pt x="12798" y="7696"/>
                  <a:pt x="12774" y="7739"/>
                </a:cubicBezTo>
                <a:cubicBezTo>
                  <a:pt x="12750" y="7783"/>
                  <a:pt x="12727" y="7871"/>
                  <a:pt x="12774" y="7913"/>
                </a:cubicBezTo>
                <a:cubicBezTo>
                  <a:pt x="12799" y="7935"/>
                  <a:pt x="12858" y="7902"/>
                  <a:pt x="12874" y="7888"/>
                </a:cubicBezTo>
                <a:cubicBezTo>
                  <a:pt x="12913" y="7853"/>
                  <a:pt x="12934" y="7853"/>
                  <a:pt x="12973" y="7888"/>
                </a:cubicBezTo>
                <a:cubicBezTo>
                  <a:pt x="12998" y="7913"/>
                  <a:pt x="13006" y="7921"/>
                  <a:pt x="13022" y="7938"/>
                </a:cubicBezTo>
              </a:path>
              <a:path w="993" h="398">
                <a:moveTo>
                  <a:pt x="13122" y="7789"/>
                </a:moveTo>
                <a:cubicBezTo>
                  <a:pt x="13130" y="7781"/>
                  <a:pt x="13138" y="7772"/>
                  <a:pt x="13146" y="7764"/>
                </a:cubicBezTo>
                <a:cubicBezTo>
                  <a:pt x="13146" y="7823"/>
                  <a:pt x="13156" y="7842"/>
                  <a:pt x="13171" y="7888"/>
                </a:cubicBezTo>
                <a:cubicBezTo>
                  <a:pt x="13171" y="7896"/>
                  <a:pt x="13171" y="7905"/>
                  <a:pt x="13171" y="7913"/>
                </a:cubicBezTo>
                <a:cubicBezTo>
                  <a:pt x="13190" y="7888"/>
                  <a:pt x="13209" y="7824"/>
                  <a:pt x="13246" y="7813"/>
                </a:cubicBezTo>
                <a:cubicBezTo>
                  <a:pt x="13310" y="7794"/>
                  <a:pt x="13337" y="7874"/>
                  <a:pt x="13370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0040" y="3036960"/>
            <a:ext cx="14292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7913" y="8558"/>
                </a:moveTo>
                <a:cubicBezTo>
                  <a:pt x="7913" y="8520"/>
                  <a:pt x="7946" y="8500"/>
                  <a:pt x="7938" y="8483"/>
                </a:cubicBezTo>
                <a:cubicBezTo>
                  <a:pt x="7916" y="8461"/>
                  <a:pt x="7907" y="8456"/>
                  <a:pt x="7913" y="8434"/>
                </a:cubicBezTo>
                <a:cubicBezTo>
                  <a:pt x="7900" y="8484"/>
                  <a:pt x="7864" y="8544"/>
                  <a:pt x="7888" y="8607"/>
                </a:cubicBezTo>
                <a:cubicBezTo>
                  <a:pt x="7913" y="8671"/>
                  <a:pt x="7972" y="8827"/>
                  <a:pt x="8062" y="8806"/>
                </a:cubicBezTo>
                <a:cubicBezTo>
                  <a:pt x="8144" y="8787"/>
                  <a:pt x="8158" y="8668"/>
                  <a:pt x="8161" y="8607"/>
                </a:cubicBezTo>
                <a:cubicBezTo>
                  <a:pt x="8161" y="8563"/>
                  <a:pt x="8158" y="8549"/>
                  <a:pt x="8186" y="8533"/>
                </a:cubicBezTo>
                <a:cubicBezTo>
                  <a:pt x="8222" y="8607"/>
                  <a:pt x="8252" y="8681"/>
                  <a:pt x="8285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81240" y="3071880"/>
            <a:ext cx="88920" cy="6336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8781" y="8558"/>
                </a:moveTo>
                <a:cubicBezTo>
                  <a:pt x="8781" y="8550"/>
                  <a:pt x="8781" y="8541"/>
                  <a:pt x="8781" y="8533"/>
                </a:cubicBezTo>
                <a:cubicBezTo>
                  <a:pt x="8733" y="8543"/>
                  <a:pt x="8697" y="8569"/>
                  <a:pt x="8657" y="8582"/>
                </a:cubicBezTo>
                <a:cubicBezTo>
                  <a:pt x="8616" y="8595"/>
                  <a:pt x="8597" y="8583"/>
                  <a:pt x="8558" y="8607"/>
                </a:cubicBezTo>
              </a:path>
              <a:path w="249" h="174">
                <a:moveTo>
                  <a:pt x="8756" y="8657"/>
                </a:moveTo>
                <a:cubicBezTo>
                  <a:pt x="8798" y="8657"/>
                  <a:pt x="8814" y="8649"/>
                  <a:pt x="8806" y="8682"/>
                </a:cubicBezTo>
                <a:cubicBezTo>
                  <a:pt x="8772" y="8689"/>
                  <a:pt x="8740" y="8699"/>
                  <a:pt x="8706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86080" y="3027240"/>
            <a:ext cx="179280" cy="115920"/>
          </a:xfrm>
          <a:custGeom>
            <a:avLst/>
            <a:gdLst/>
            <a:ahLst/>
            <a:rect l="l" t="t" r="r" b="b"/>
            <a:pathLst>
              <a:path w="497" h="323">
                <a:moveTo>
                  <a:pt x="9153" y="8508"/>
                </a:moveTo>
                <a:cubicBezTo>
                  <a:pt x="9116" y="8490"/>
                  <a:pt x="9163" y="8460"/>
                  <a:pt x="9203" y="8458"/>
                </a:cubicBezTo>
                <a:cubicBezTo>
                  <a:pt x="9266" y="8455"/>
                  <a:pt x="9352" y="8486"/>
                  <a:pt x="9376" y="8558"/>
                </a:cubicBezTo>
                <a:cubicBezTo>
                  <a:pt x="9390" y="8600"/>
                  <a:pt x="9356" y="8663"/>
                  <a:pt x="9351" y="8706"/>
                </a:cubicBezTo>
                <a:cubicBezTo>
                  <a:pt x="9294" y="8714"/>
                  <a:pt x="9264" y="8731"/>
                  <a:pt x="9203" y="8731"/>
                </a:cubicBezTo>
              </a:path>
              <a:path w="497" h="323">
                <a:moveTo>
                  <a:pt x="9426" y="8483"/>
                </a:moveTo>
                <a:cubicBezTo>
                  <a:pt x="9442" y="8458"/>
                  <a:pt x="9459" y="8434"/>
                  <a:pt x="9475" y="8409"/>
                </a:cubicBezTo>
                <a:cubicBezTo>
                  <a:pt x="9430" y="8467"/>
                  <a:pt x="9386" y="8528"/>
                  <a:pt x="9401" y="8607"/>
                </a:cubicBezTo>
                <a:cubicBezTo>
                  <a:pt x="9418" y="8695"/>
                  <a:pt x="9485" y="8748"/>
                  <a:pt x="9575" y="8731"/>
                </a:cubicBezTo>
                <a:cubicBezTo>
                  <a:pt x="9591" y="8723"/>
                  <a:pt x="9608" y="8714"/>
                  <a:pt x="9624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84800" y="3054240"/>
            <a:ext cx="88920" cy="13356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12179" y="8582"/>
                </a:moveTo>
                <a:cubicBezTo>
                  <a:pt x="12179" y="8518"/>
                  <a:pt x="12201" y="8648"/>
                  <a:pt x="12204" y="8657"/>
                </a:cubicBezTo>
                <a:cubicBezTo>
                  <a:pt x="12234" y="8740"/>
                  <a:pt x="12287" y="8808"/>
                  <a:pt x="12353" y="8855"/>
                </a:cubicBezTo>
                <a:cubicBezTo>
                  <a:pt x="12410" y="8784"/>
                  <a:pt x="12424" y="8723"/>
                  <a:pt x="12427" y="8632"/>
                </a:cubicBezTo>
                <a:cubicBezTo>
                  <a:pt x="12429" y="8583"/>
                  <a:pt x="12427" y="8533"/>
                  <a:pt x="12427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33920" y="3027240"/>
            <a:ext cx="536400" cy="152640"/>
          </a:xfrm>
          <a:custGeom>
            <a:avLst/>
            <a:gdLst/>
            <a:ahLst/>
            <a:rect l="l" t="t" r="r" b="b"/>
            <a:pathLst>
              <a:path w="1489" h="422">
                <a:moveTo>
                  <a:pt x="13047" y="8533"/>
                </a:moveTo>
                <a:cubicBezTo>
                  <a:pt x="13016" y="8556"/>
                  <a:pt x="12987" y="8578"/>
                  <a:pt x="12948" y="8582"/>
                </a:cubicBezTo>
                <a:cubicBezTo>
                  <a:pt x="12916" y="8585"/>
                  <a:pt x="12904" y="8599"/>
                  <a:pt x="12874" y="8607"/>
                </a:cubicBezTo>
              </a:path>
              <a:path w="1489" h="422">
                <a:moveTo>
                  <a:pt x="13047" y="8657"/>
                </a:moveTo>
                <a:cubicBezTo>
                  <a:pt x="13047" y="8665"/>
                  <a:pt x="13047" y="8674"/>
                  <a:pt x="13047" y="8682"/>
                </a:cubicBezTo>
                <a:cubicBezTo>
                  <a:pt x="13117" y="8704"/>
                  <a:pt x="13042" y="8695"/>
                  <a:pt x="13022" y="8706"/>
                </a:cubicBezTo>
                <a:cubicBezTo>
                  <a:pt x="12977" y="8732"/>
                  <a:pt x="12975" y="8747"/>
                  <a:pt x="12948" y="8706"/>
                </a:cubicBezTo>
              </a:path>
              <a:path w="1489" h="422">
                <a:moveTo>
                  <a:pt x="13345" y="8409"/>
                </a:moveTo>
                <a:cubicBezTo>
                  <a:pt x="13335" y="8458"/>
                  <a:pt x="13302" y="8509"/>
                  <a:pt x="13295" y="8558"/>
                </a:cubicBezTo>
                <a:cubicBezTo>
                  <a:pt x="13282" y="8651"/>
                  <a:pt x="13294" y="8744"/>
                  <a:pt x="13370" y="8806"/>
                </a:cubicBezTo>
                <a:cubicBezTo>
                  <a:pt x="13425" y="8851"/>
                  <a:pt x="13463" y="8826"/>
                  <a:pt x="13519" y="8806"/>
                </a:cubicBezTo>
              </a:path>
              <a:path w="1489" h="422">
                <a:moveTo>
                  <a:pt x="13593" y="8657"/>
                </a:moveTo>
                <a:cubicBezTo>
                  <a:pt x="13549" y="8592"/>
                  <a:pt x="13549" y="8607"/>
                  <a:pt x="13469" y="8607"/>
                </a:cubicBezTo>
                <a:cubicBezTo>
                  <a:pt x="13429" y="8607"/>
                  <a:pt x="13415" y="8632"/>
                  <a:pt x="13370" y="8632"/>
                </a:cubicBezTo>
              </a:path>
              <a:path w="1489" h="422">
                <a:moveTo>
                  <a:pt x="13742" y="8533"/>
                </a:moveTo>
                <a:cubicBezTo>
                  <a:pt x="13689" y="8546"/>
                  <a:pt x="13653" y="8594"/>
                  <a:pt x="13667" y="8657"/>
                </a:cubicBezTo>
                <a:cubicBezTo>
                  <a:pt x="13682" y="8724"/>
                  <a:pt x="13720" y="8747"/>
                  <a:pt x="13767" y="8706"/>
                </a:cubicBezTo>
                <a:cubicBezTo>
                  <a:pt x="13793" y="8683"/>
                  <a:pt x="13817" y="8656"/>
                  <a:pt x="13841" y="8632"/>
                </a:cubicBezTo>
                <a:cubicBezTo>
                  <a:pt x="13878" y="8705"/>
                  <a:pt x="13907" y="8748"/>
                  <a:pt x="13965" y="8806"/>
                </a:cubicBezTo>
              </a:path>
              <a:path w="1489" h="422">
                <a:moveTo>
                  <a:pt x="14139" y="8607"/>
                </a:moveTo>
                <a:cubicBezTo>
                  <a:pt x="14139" y="8665"/>
                  <a:pt x="14139" y="8723"/>
                  <a:pt x="14139" y="8781"/>
                </a:cubicBezTo>
                <a:cubicBezTo>
                  <a:pt x="14179" y="8730"/>
                  <a:pt x="14195" y="8679"/>
                  <a:pt x="14263" y="8657"/>
                </a:cubicBezTo>
                <a:cubicBezTo>
                  <a:pt x="14309" y="8642"/>
                  <a:pt x="14333" y="8678"/>
                  <a:pt x="14362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0880" y="3044880"/>
            <a:ext cx="223920" cy="162000"/>
          </a:xfrm>
          <a:custGeom>
            <a:avLst/>
            <a:gdLst/>
            <a:ahLst/>
            <a:rect l="l" t="t" r="r" b="b"/>
            <a:pathLst>
              <a:path w="622" h="448">
                <a:moveTo>
                  <a:pt x="14808" y="8607"/>
                </a:moveTo>
                <a:cubicBezTo>
                  <a:pt x="14808" y="8632"/>
                  <a:pt x="14808" y="8640"/>
                  <a:pt x="14808" y="8657"/>
                </a:cubicBezTo>
                <a:cubicBezTo>
                  <a:pt x="14848" y="8657"/>
                  <a:pt x="14989" y="8636"/>
                  <a:pt x="15007" y="8682"/>
                </a:cubicBezTo>
                <a:cubicBezTo>
                  <a:pt x="15027" y="8733"/>
                  <a:pt x="15043" y="8785"/>
                  <a:pt x="15007" y="8830"/>
                </a:cubicBezTo>
                <a:cubicBezTo>
                  <a:pt x="14969" y="8877"/>
                  <a:pt x="14924" y="8855"/>
                  <a:pt x="14883" y="8830"/>
                </a:cubicBezTo>
              </a:path>
              <a:path w="622" h="448">
                <a:moveTo>
                  <a:pt x="15230" y="8508"/>
                </a:moveTo>
                <a:cubicBezTo>
                  <a:pt x="15222" y="8491"/>
                  <a:pt x="15213" y="8475"/>
                  <a:pt x="15205" y="8458"/>
                </a:cubicBezTo>
                <a:cubicBezTo>
                  <a:pt x="15124" y="8523"/>
                  <a:pt x="15110" y="8545"/>
                  <a:pt x="15106" y="8657"/>
                </a:cubicBezTo>
                <a:cubicBezTo>
                  <a:pt x="15103" y="8746"/>
                  <a:pt x="15127" y="8878"/>
                  <a:pt x="15230" y="8905"/>
                </a:cubicBezTo>
                <a:cubicBezTo>
                  <a:pt x="15298" y="8923"/>
                  <a:pt x="15368" y="8900"/>
                  <a:pt x="15429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13160" y="3321000"/>
            <a:ext cx="500040" cy="474840"/>
          </a:xfrm>
          <a:custGeom>
            <a:avLst/>
            <a:gdLst/>
            <a:ahLst/>
            <a:rect l="l" t="t" r="r" b="b"/>
            <a:pathLst>
              <a:path w="1390" h="1316">
                <a:moveTo>
                  <a:pt x="12129" y="9575"/>
                </a:moveTo>
                <a:cubicBezTo>
                  <a:pt x="12129" y="9558"/>
                  <a:pt x="12129" y="9542"/>
                  <a:pt x="12129" y="9525"/>
                </a:cubicBezTo>
                <a:cubicBezTo>
                  <a:pt x="12090" y="9557"/>
                  <a:pt x="12033" y="9579"/>
                  <a:pt x="12005" y="9624"/>
                </a:cubicBezTo>
                <a:cubicBezTo>
                  <a:pt x="11967" y="9684"/>
                  <a:pt x="11999" y="9767"/>
                  <a:pt x="12080" y="9748"/>
                </a:cubicBezTo>
                <a:cubicBezTo>
                  <a:pt x="12174" y="9726"/>
                  <a:pt x="12216" y="9609"/>
                  <a:pt x="12229" y="9525"/>
                </a:cubicBezTo>
                <a:cubicBezTo>
                  <a:pt x="12238" y="9468"/>
                  <a:pt x="12229" y="9226"/>
                  <a:pt x="12229" y="9252"/>
                </a:cubicBezTo>
                <a:cubicBezTo>
                  <a:pt x="12205" y="9323"/>
                  <a:pt x="12185" y="9422"/>
                  <a:pt x="12204" y="9500"/>
                </a:cubicBezTo>
                <a:cubicBezTo>
                  <a:pt x="12217" y="9553"/>
                  <a:pt x="12232" y="9605"/>
                  <a:pt x="12254" y="9649"/>
                </a:cubicBezTo>
              </a:path>
              <a:path w="1390" h="1316">
                <a:moveTo>
                  <a:pt x="12353" y="9575"/>
                </a:moveTo>
                <a:cubicBezTo>
                  <a:pt x="12399" y="9621"/>
                  <a:pt x="12429" y="9659"/>
                  <a:pt x="12477" y="9699"/>
                </a:cubicBezTo>
                <a:cubicBezTo>
                  <a:pt x="12554" y="9762"/>
                  <a:pt x="12556" y="9706"/>
                  <a:pt x="12576" y="9649"/>
                </a:cubicBezTo>
                <a:cubicBezTo>
                  <a:pt x="12584" y="9632"/>
                  <a:pt x="12593" y="9616"/>
                  <a:pt x="12601" y="9599"/>
                </a:cubicBezTo>
              </a:path>
              <a:path w="1390" h="1316">
                <a:moveTo>
                  <a:pt x="12626" y="9947"/>
                </a:moveTo>
                <a:cubicBezTo>
                  <a:pt x="12683" y="9947"/>
                  <a:pt x="12559" y="9947"/>
                  <a:pt x="12502" y="9947"/>
                </a:cubicBezTo>
                <a:cubicBezTo>
                  <a:pt x="12394" y="9947"/>
                  <a:pt x="12287" y="9947"/>
                  <a:pt x="12179" y="9947"/>
                </a:cubicBezTo>
              </a:path>
              <a:path w="1390" h="1316">
                <a:moveTo>
                  <a:pt x="12179" y="10269"/>
                </a:moveTo>
                <a:cubicBezTo>
                  <a:pt x="12187" y="10253"/>
                  <a:pt x="12196" y="10236"/>
                  <a:pt x="12204" y="10220"/>
                </a:cubicBezTo>
                <a:cubicBezTo>
                  <a:pt x="12174" y="10230"/>
                  <a:pt x="12139" y="10299"/>
                  <a:pt x="12129" y="10344"/>
                </a:cubicBezTo>
                <a:cubicBezTo>
                  <a:pt x="12116" y="10402"/>
                  <a:pt x="12158" y="10492"/>
                  <a:pt x="12229" y="10468"/>
                </a:cubicBezTo>
                <a:cubicBezTo>
                  <a:pt x="12312" y="10440"/>
                  <a:pt x="12301" y="10255"/>
                  <a:pt x="12303" y="10195"/>
                </a:cubicBezTo>
                <a:cubicBezTo>
                  <a:pt x="12305" y="10124"/>
                  <a:pt x="12307" y="10078"/>
                  <a:pt x="12278" y="10021"/>
                </a:cubicBezTo>
                <a:cubicBezTo>
                  <a:pt x="12243" y="10118"/>
                  <a:pt x="12267" y="10169"/>
                  <a:pt x="12278" y="10269"/>
                </a:cubicBezTo>
                <a:cubicBezTo>
                  <a:pt x="12278" y="10294"/>
                  <a:pt x="12278" y="10319"/>
                  <a:pt x="12278" y="10344"/>
                </a:cubicBezTo>
              </a:path>
              <a:path w="1390" h="1316">
                <a:moveTo>
                  <a:pt x="12427" y="10368"/>
                </a:moveTo>
                <a:cubicBezTo>
                  <a:pt x="12500" y="10338"/>
                  <a:pt x="12497" y="10339"/>
                  <a:pt x="12551" y="10393"/>
                </a:cubicBezTo>
                <a:cubicBezTo>
                  <a:pt x="12592" y="10434"/>
                  <a:pt x="12586" y="10478"/>
                  <a:pt x="12551" y="10517"/>
                </a:cubicBezTo>
                <a:cubicBezTo>
                  <a:pt x="12515" y="10558"/>
                  <a:pt x="12471" y="10546"/>
                  <a:pt x="12427" y="10517"/>
                </a:cubicBezTo>
                <a:cubicBezTo>
                  <a:pt x="12419" y="10509"/>
                  <a:pt x="12410" y="10500"/>
                  <a:pt x="12402" y="10492"/>
                </a:cubicBezTo>
              </a:path>
              <a:path w="1390" h="1316">
                <a:moveTo>
                  <a:pt x="12601" y="10344"/>
                </a:moveTo>
                <a:cubicBezTo>
                  <a:pt x="12609" y="10344"/>
                  <a:pt x="12618" y="10344"/>
                  <a:pt x="12626" y="10344"/>
                </a:cubicBezTo>
                <a:cubicBezTo>
                  <a:pt x="12626" y="10370"/>
                  <a:pt x="12638" y="10455"/>
                  <a:pt x="12650" y="10468"/>
                </a:cubicBezTo>
                <a:cubicBezTo>
                  <a:pt x="12684" y="10504"/>
                  <a:pt x="12756" y="10492"/>
                  <a:pt x="12799" y="10492"/>
                </a:cubicBezTo>
              </a:path>
              <a:path w="1390" h="1316">
                <a:moveTo>
                  <a:pt x="13345" y="9872"/>
                </a:moveTo>
                <a:cubicBezTo>
                  <a:pt x="13353" y="9880"/>
                  <a:pt x="13362" y="9889"/>
                  <a:pt x="13370" y="9897"/>
                </a:cubicBezTo>
                <a:cubicBezTo>
                  <a:pt x="13332" y="9907"/>
                  <a:pt x="13286" y="9909"/>
                  <a:pt x="13246" y="9922"/>
                </a:cubicBezTo>
                <a:cubicBezTo>
                  <a:pt x="13205" y="9942"/>
                  <a:pt x="13199" y="9951"/>
                  <a:pt x="13171" y="9947"/>
                </a:cubicBezTo>
              </a:path>
              <a:path w="1390" h="1316">
                <a:moveTo>
                  <a:pt x="13345" y="10021"/>
                </a:moveTo>
                <a:cubicBezTo>
                  <a:pt x="13345" y="10062"/>
                  <a:pt x="13340" y="10100"/>
                  <a:pt x="13295" y="10120"/>
                </a:cubicBezTo>
                <a:cubicBezTo>
                  <a:pt x="13287" y="10120"/>
                  <a:pt x="13279" y="10120"/>
                  <a:pt x="13271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53040" y="3375000"/>
            <a:ext cx="625320" cy="241200"/>
          </a:xfrm>
          <a:custGeom>
            <a:avLst/>
            <a:gdLst/>
            <a:ahLst/>
            <a:rect l="l" t="t" r="r" b="b"/>
            <a:pathLst>
              <a:path w="1738" h="671">
                <a:moveTo>
                  <a:pt x="15081" y="9401"/>
                </a:moveTo>
                <a:cubicBezTo>
                  <a:pt x="15081" y="9334"/>
                  <a:pt x="15081" y="9485"/>
                  <a:pt x="15081" y="9500"/>
                </a:cubicBezTo>
                <a:cubicBezTo>
                  <a:pt x="15081" y="9591"/>
                  <a:pt x="15081" y="9682"/>
                  <a:pt x="15081" y="9773"/>
                </a:cubicBezTo>
              </a:path>
              <a:path w="1738" h="671">
                <a:moveTo>
                  <a:pt x="16049" y="10046"/>
                </a:moveTo>
                <a:cubicBezTo>
                  <a:pt x="15994" y="10040"/>
                  <a:pt x="15950" y="10039"/>
                  <a:pt x="15900" y="10021"/>
                </a:cubicBezTo>
                <a:cubicBezTo>
                  <a:pt x="15799" y="9985"/>
                  <a:pt x="15736" y="9971"/>
                  <a:pt x="15627" y="9971"/>
                </a:cubicBezTo>
                <a:cubicBezTo>
                  <a:pt x="15490" y="9971"/>
                  <a:pt x="15364" y="9960"/>
                  <a:pt x="15230" y="9947"/>
                </a:cubicBezTo>
                <a:cubicBezTo>
                  <a:pt x="15129" y="9937"/>
                  <a:pt x="15036" y="9922"/>
                  <a:pt x="14932" y="9922"/>
                </a:cubicBezTo>
                <a:cubicBezTo>
                  <a:pt x="14817" y="9922"/>
                  <a:pt x="14720" y="9931"/>
                  <a:pt x="14610" y="9947"/>
                </a:cubicBezTo>
                <a:cubicBezTo>
                  <a:pt x="14550" y="9956"/>
                  <a:pt x="14486" y="9961"/>
                  <a:pt x="14436" y="9971"/>
                </a:cubicBezTo>
                <a:cubicBezTo>
                  <a:pt x="14385" y="9981"/>
                  <a:pt x="14354" y="9997"/>
                  <a:pt x="14312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33960" y="3652920"/>
            <a:ext cx="608040" cy="177840"/>
          </a:xfrm>
          <a:custGeom>
            <a:avLst/>
            <a:gdLst/>
            <a:ahLst/>
            <a:rect l="l" t="t" r="r" b="b"/>
            <a:pathLst>
              <a:path w="1687" h="497">
                <a:moveTo>
                  <a:pt x="14362" y="10244"/>
                </a:moveTo>
                <a:cubicBezTo>
                  <a:pt x="14362" y="10236"/>
                  <a:pt x="14362" y="10228"/>
                  <a:pt x="14362" y="10220"/>
                </a:cubicBezTo>
                <a:cubicBezTo>
                  <a:pt x="14316" y="10231"/>
                  <a:pt x="14310" y="10254"/>
                  <a:pt x="14288" y="10294"/>
                </a:cubicBezTo>
                <a:cubicBezTo>
                  <a:pt x="14267" y="10331"/>
                  <a:pt x="14244" y="10423"/>
                  <a:pt x="14263" y="10468"/>
                </a:cubicBezTo>
                <a:cubicBezTo>
                  <a:pt x="14281" y="10512"/>
                  <a:pt x="14323" y="10517"/>
                  <a:pt x="14362" y="10517"/>
                </a:cubicBezTo>
              </a:path>
              <a:path w="1687" h="497">
                <a:moveTo>
                  <a:pt x="14486" y="10418"/>
                </a:moveTo>
                <a:cubicBezTo>
                  <a:pt x="14538" y="10379"/>
                  <a:pt x="14541" y="10398"/>
                  <a:pt x="14585" y="10443"/>
                </a:cubicBezTo>
                <a:cubicBezTo>
                  <a:pt x="14605" y="10463"/>
                  <a:pt x="14627" y="10511"/>
                  <a:pt x="14610" y="10542"/>
                </a:cubicBezTo>
                <a:cubicBezTo>
                  <a:pt x="14586" y="10586"/>
                  <a:pt x="14538" y="10560"/>
                  <a:pt x="14511" y="10542"/>
                </a:cubicBezTo>
                <a:cubicBezTo>
                  <a:pt x="14503" y="10534"/>
                  <a:pt x="14494" y="10525"/>
                  <a:pt x="14486" y="10517"/>
                </a:cubicBezTo>
              </a:path>
              <a:path w="1687" h="497">
                <a:moveTo>
                  <a:pt x="14858" y="10319"/>
                </a:moveTo>
                <a:cubicBezTo>
                  <a:pt x="14910" y="10280"/>
                  <a:pt x="14904" y="10278"/>
                  <a:pt x="14858" y="10319"/>
                </a:cubicBezTo>
                <a:cubicBezTo>
                  <a:pt x="14825" y="10348"/>
                  <a:pt x="14789" y="10375"/>
                  <a:pt x="14784" y="10418"/>
                </a:cubicBezTo>
                <a:cubicBezTo>
                  <a:pt x="14778" y="10473"/>
                  <a:pt x="14866" y="10504"/>
                  <a:pt x="14908" y="10517"/>
                </a:cubicBezTo>
                <a:cubicBezTo>
                  <a:pt x="14925" y="10522"/>
                  <a:pt x="14994" y="10558"/>
                  <a:pt x="14957" y="10592"/>
                </a:cubicBezTo>
                <a:cubicBezTo>
                  <a:pt x="14911" y="10634"/>
                  <a:pt x="14867" y="10641"/>
                  <a:pt x="14808" y="10641"/>
                </a:cubicBezTo>
              </a:path>
              <a:path w="1687" h="497">
                <a:moveTo>
                  <a:pt x="15106" y="10145"/>
                </a:moveTo>
                <a:cubicBezTo>
                  <a:pt x="15164" y="10145"/>
                  <a:pt x="15222" y="10145"/>
                  <a:pt x="15280" y="10145"/>
                </a:cubicBezTo>
                <a:cubicBezTo>
                  <a:pt x="15280" y="10205"/>
                  <a:pt x="15271" y="10194"/>
                  <a:pt x="15230" y="10220"/>
                </a:cubicBezTo>
                <a:cubicBezTo>
                  <a:pt x="15214" y="10230"/>
                  <a:pt x="15148" y="10294"/>
                  <a:pt x="15180" y="10319"/>
                </a:cubicBezTo>
                <a:cubicBezTo>
                  <a:pt x="15189" y="10326"/>
                  <a:pt x="15243" y="10319"/>
                  <a:pt x="15255" y="10319"/>
                </a:cubicBezTo>
              </a:path>
              <a:path w="1687" h="497">
                <a:moveTo>
                  <a:pt x="15503" y="10492"/>
                </a:moveTo>
                <a:cubicBezTo>
                  <a:pt x="15516" y="10456"/>
                  <a:pt x="15533" y="10468"/>
                  <a:pt x="15577" y="10468"/>
                </a:cubicBezTo>
                <a:cubicBezTo>
                  <a:pt x="15630" y="10468"/>
                  <a:pt x="15627" y="10500"/>
                  <a:pt x="15627" y="10542"/>
                </a:cubicBezTo>
                <a:cubicBezTo>
                  <a:pt x="15627" y="10607"/>
                  <a:pt x="15620" y="10611"/>
                  <a:pt x="15553" y="10616"/>
                </a:cubicBezTo>
                <a:cubicBezTo>
                  <a:pt x="15518" y="10616"/>
                  <a:pt x="15500" y="10612"/>
                  <a:pt x="15478" y="10592"/>
                </a:cubicBezTo>
              </a:path>
              <a:path w="1687" h="497">
                <a:moveTo>
                  <a:pt x="15801" y="10344"/>
                </a:moveTo>
                <a:cubicBezTo>
                  <a:pt x="15760" y="10384"/>
                  <a:pt x="15714" y="10433"/>
                  <a:pt x="15701" y="10492"/>
                </a:cubicBezTo>
                <a:cubicBezTo>
                  <a:pt x="15682" y="10578"/>
                  <a:pt x="15752" y="10626"/>
                  <a:pt x="15825" y="10641"/>
                </a:cubicBezTo>
                <a:cubicBezTo>
                  <a:pt x="15883" y="10641"/>
                  <a:pt x="15908" y="10641"/>
                  <a:pt x="15949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13040" y="544680"/>
            <a:ext cx="276120" cy="474480"/>
          </a:xfrm>
          <a:custGeom>
            <a:avLst/>
            <a:gdLst/>
            <a:ahLst/>
            <a:rect l="l" t="t" r="r" b="b"/>
            <a:pathLst>
              <a:path w="770" h="1316">
                <a:moveTo>
                  <a:pt x="7888" y="1885"/>
                </a:moveTo>
                <a:cubicBezTo>
                  <a:pt x="7906" y="1824"/>
                  <a:pt x="7913" y="1814"/>
                  <a:pt x="7913" y="1761"/>
                </a:cubicBezTo>
                <a:cubicBezTo>
                  <a:pt x="7849" y="1777"/>
                  <a:pt x="7820" y="1819"/>
                  <a:pt x="7813" y="1885"/>
                </a:cubicBezTo>
                <a:cubicBezTo>
                  <a:pt x="7807" y="1941"/>
                  <a:pt x="7812" y="1966"/>
                  <a:pt x="7838" y="2009"/>
                </a:cubicBezTo>
                <a:cubicBezTo>
                  <a:pt x="7937" y="1995"/>
                  <a:pt x="7951" y="1914"/>
                  <a:pt x="7962" y="1811"/>
                </a:cubicBezTo>
                <a:cubicBezTo>
                  <a:pt x="7973" y="1715"/>
                  <a:pt x="7962" y="1610"/>
                  <a:pt x="7962" y="1513"/>
                </a:cubicBezTo>
                <a:cubicBezTo>
                  <a:pt x="7911" y="1549"/>
                  <a:pt x="7967" y="1669"/>
                  <a:pt x="7987" y="1736"/>
                </a:cubicBezTo>
                <a:cubicBezTo>
                  <a:pt x="8011" y="1817"/>
                  <a:pt x="8028" y="1918"/>
                  <a:pt x="8062" y="1984"/>
                </a:cubicBezTo>
              </a:path>
              <a:path w="770" h="1316">
                <a:moveTo>
                  <a:pt x="8136" y="1836"/>
                </a:moveTo>
                <a:cubicBezTo>
                  <a:pt x="8176" y="1885"/>
                  <a:pt x="8185" y="1976"/>
                  <a:pt x="8235" y="2009"/>
                </a:cubicBezTo>
                <a:cubicBezTo>
                  <a:pt x="8275" y="2035"/>
                  <a:pt x="8335" y="1955"/>
                  <a:pt x="8359" y="1935"/>
                </a:cubicBezTo>
                <a:cubicBezTo>
                  <a:pt x="8382" y="1912"/>
                  <a:pt x="8386" y="1904"/>
                  <a:pt x="8409" y="1910"/>
                </a:cubicBezTo>
                <a:cubicBezTo>
                  <a:pt x="8409" y="1975"/>
                  <a:pt x="8438" y="2064"/>
                  <a:pt x="8359" y="2084"/>
                </a:cubicBezTo>
                <a:cubicBezTo>
                  <a:pt x="8300" y="2099"/>
                  <a:pt x="8240" y="2074"/>
                  <a:pt x="8186" y="2059"/>
                </a:cubicBezTo>
              </a:path>
              <a:path w="770" h="1316">
                <a:moveTo>
                  <a:pt x="8533" y="2183"/>
                </a:moveTo>
                <a:cubicBezTo>
                  <a:pt x="8671" y="2183"/>
                  <a:pt x="8374" y="2183"/>
                  <a:pt x="8359" y="2183"/>
                </a:cubicBezTo>
                <a:cubicBezTo>
                  <a:pt x="8244" y="2183"/>
                  <a:pt x="8144" y="2185"/>
                  <a:pt x="8037" y="2208"/>
                </a:cubicBezTo>
                <a:cubicBezTo>
                  <a:pt x="8029" y="2208"/>
                  <a:pt x="8020" y="2208"/>
                  <a:pt x="8012" y="2208"/>
                </a:cubicBezTo>
              </a:path>
              <a:path w="770" h="1316">
                <a:moveTo>
                  <a:pt x="7938" y="2530"/>
                </a:moveTo>
                <a:cubicBezTo>
                  <a:pt x="7878" y="2590"/>
                  <a:pt x="7866" y="2615"/>
                  <a:pt x="7863" y="2704"/>
                </a:cubicBezTo>
                <a:cubicBezTo>
                  <a:pt x="7863" y="2770"/>
                  <a:pt x="7863" y="2787"/>
                  <a:pt x="7863" y="2828"/>
                </a:cubicBezTo>
                <a:cubicBezTo>
                  <a:pt x="7965" y="2813"/>
                  <a:pt x="7959" y="2755"/>
                  <a:pt x="7962" y="2654"/>
                </a:cubicBezTo>
                <a:cubicBezTo>
                  <a:pt x="7962" y="2555"/>
                  <a:pt x="7962" y="2522"/>
                  <a:pt x="7962" y="2456"/>
                </a:cubicBezTo>
                <a:cubicBezTo>
                  <a:pt x="7962" y="2323"/>
                  <a:pt x="7985" y="2542"/>
                  <a:pt x="7987" y="2555"/>
                </a:cubicBezTo>
                <a:cubicBezTo>
                  <a:pt x="7987" y="2631"/>
                  <a:pt x="7988" y="2657"/>
                  <a:pt x="8012" y="2704"/>
                </a:cubicBezTo>
              </a:path>
              <a:path w="770" h="1316">
                <a:moveTo>
                  <a:pt x="8086" y="2604"/>
                </a:moveTo>
                <a:cubicBezTo>
                  <a:pt x="8149" y="2551"/>
                  <a:pt x="8178" y="2531"/>
                  <a:pt x="8210" y="2629"/>
                </a:cubicBezTo>
                <a:cubicBezTo>
                  <a:pt x="8225" y="2676"/>
                  <a:pt x="8214" y="2743"/>
                  <a:pt x="8186" y="2778"/>
                </a:cubicBezTo>
                <a:cubicBezTo>
                  <a:pt x="8163" y="2801"/>
                  <a:pt x="8159" y="2809"/>
                  <a:pt x="8136" y="2803"/>
                </a:cubicBezTo>
              </a:path>
              <a:path w="770" h="1316">
                <a:moveTo>
                  <a:pt x="8210" y="2604"/>
                </a:moveTo>
                <a:cubicBezTo>
                  <a:pt x="8270" y="2565"/>
                  <a:pt x="8282" y="2561"/>
                  <a:pt x="8310" y="2530"/>
                </a:cubicBezTo>
                <a:cubicBezTo>
                  <a:pt x="8310" y="2598"/>
                  <a:pt x="8297" y="2669"/>
                  <a:pt x="8334" y="2729"/>
                </a:cubicBezTo>
                <a:cubicBezTo>
                  <a:pt x="8364" y="2758"/>
                  <a:pt x="8379" y="2769"/>
                  <a:pt x="8409" y="2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86080" y="785880"/>
            <a:ext cx="63720" cy="63360"/>
          </a:xfrm>
          <a:custGeom>
            <a:avLst/>
            <a:gdLst/>
            <a:ahLst/>
            <a:rect l="l" t="t" r="r" b="b"/>
            <a:pathLst>
              <a:path w="175" h="174">
                <a:moveTo>
                  <a:pt x="9252" y="2183"/>
                </a:moveTo>
                <a:cubicBezTo>
                  <a:pt x="9260" y="2183"/>
                  <a:pt x="9269" y="2183"/>
                  <a:pt x="9277" y="2183"/>
                </a:cubicBezTo>
                <a:cubicBezTo>
                  <a:pt x="9227" y="2183"/>
                  <a:pt x="9178" y="2183"/>
                  <a:pt x="9128" y="2183"/>
                </a:cubicBezTo>
              </a:path>
              <a:path w="175" h="174">
                <a:moveTo>
                  <a:pt x="9203" y="2257"/>
                </a:moveTo>
                <a:cubicBezTo>
                  <a:pt x="9257" y="2281"/>
                  <a:pt x="9288" y="2277"/>
                  <a:pt x="9302" y="2332"/>
                </a:cubicBezTo>
                <a:cubicBezTo>
                  <a:pt x="9274" y="2332"/>
                  <a:pt x="9263" y="2334"/>
                  <a:pt x="9252" y="23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60840" y="608040"/>
            <a:ext cx="920520" cy="231840"/>
          </a:xfrm>
          <a:custGeom>
            <a:avLst/>
            <a:gdLst/>
            <a:ahLst/>
            <a:rect l="l" t="t" r="r" b="b"/>
            <a:pathLst>
              <a:path w="2556" h="646">
                <a:moveTo>
                  <a:pt x="10195" y="1935"/>
                </a:moveTo>
                <a:cubicBezTo>
                  <a:pt x="10182" y="1895"/>
                  <a:pt x="10183" y="1925"/>
                  <a:pt x="10170" y="1885"/>
                </a:cubicBezTo>
                <a:cubicBezTo>
                  <a:pt x="10223" y="1855"/>
                  <a:pt x="10283" y="1800"/>
                  <a:pt x="10344" y="1786"/>
                </a:cubicBezTo>
                <a:cubicBezTo>
                  <a:pt x="10426" y="1768"/>
                  <a:pt x="10460" y="1811"/>
                  <a:pt x="10468" y="1885"/>
                </a:cubicBezTo>
                <a:cubicBezTo>
                  <a:pt x="10474" y="1943"/>
                  <a:pt x="10431" y="1992"/>
                  <a:pt x="10393" y="2034"/>
                </a:cubicBezTo>
                <a:cubicBezTo>
                  <a:pt x="10359" y="2072"/>
                  <a:pt x="10365" y="2108"/>
                  <a:pt x="10418" y="2133"/>
                </a:cubicBezTo>
                <a:cubicBezTo>
                  <a:pt x="10488" y="2166"/>
                  <a:pt x="10557" y="2179"/>
                  <a:pt x="10616" y="2232"/>
                </a:cubicBezTo>
                <a:cubicBezTo>
                  <a:pt x="10639" y="2255"/>
                  <a:pt x="10647" y="2259"/>
                  <a:pt x="10641" y="2282"/>
                </a:cubicBezTo>
                <a:cubicBezTo>
                  <a:pt x="10580" y="2331"/>
                  <a:pt x="10546" y="2332"/>
                  <a:pt x="10468" y="2332"/>
                </a:cubicBezTo>
                <a:cubicBezTo>
                  <a:pt x="10451" y="2332"/>
                  <a:pt x="10435" y="2332"/>
                  <a:pt x="10418" y="2332"/>
                </a:cubicBezTo>
              </a:path>
              <a:path w="2556" h="646">
                <a:moveTo>
                  <a:pt x="10864" y="2034"/>
                </a:moveTo>
                <a:cubicBezTo>
                  <a:pt x="10881" y="2026"/>
                  <a:pt x="10897" y="2017"/>
                  <a:pt x="10914" y="2009"/>
                </a:cubicBezTo>
                <a:cubicBezTo>
                  <a:pt x="10860" y="2023"/>
                  <a:pt x="10842" y="2056"/>
                  <a:pt x="10815" y="2108"/>
                </a:cubicBezTo>
                <a:cubicBezTo>
                  <a:pt x="10788" y="2158"/>
                  <a:pt x="10797" y="2248"/>
                  <a:pt x="10864" y="2257"/>
                </a:cubicBezTo>
                <a:cubicBezTo>
                  <a:pt x="10881" y="2257"/>
                  <a:pt x="10897" y="2257"/>
                  <a:pt x="10914" y="2257"/>
                </a:cubicBezTo>
              </a:path>
              <a:path w="2556" h="646">
                <a:moveTo>
                  <a:pt x="11063" y="2133"/>
                </a:moveTo>
                <a:cubicBezTo>
                  <a:pt x="11123" y="2133"/>
                  <a:pt x="11179" y="2113"/>
                  <a:pt x="11187" y="2183"/>
                </a:cubicBezTo>
                <a:cubicBezTo>
                  <a:pt x="11197" y="2269"/>
                  <a:pt x="11168" y="2278"/>
                  <a:pt x="11088" y="2282"/>
                </a:cubicBezTo>
                <a:cubicBezTo>
                  <a:pt x="11038" y="2282"/>
                  <a:pt x="11021" y="2282"/>
                  <a:pt x="10988" y="2282"/>
                </a:cubicBezTo>
              </a:path>
              <a:path w="2556" h="646">
                <a:moveTo>
                  <a:pt x="11286" y="2059"/>
                </a:moveTo>
                <a:cubicBezTo>
                  <a:pt x="11359" y="2004"/>
                  <a:pt x="11359" y="1979"/>
                  <a:pt x="11410" y="1984"/>
                </a:cubicBezTo>
                <a:cubicBezTo>
                  <a:pt x="11369" y="2017"/>
                  <a:pt x="11288" y="2040"/>
                  <a:pt x="11311" y="2108"/>
                </a:cubicBezTo>
                <a:cubicBezTo>
                  <a:pt x="11330" y="2163"/>
                  <a:pt x="11442" y="2164"/>
                  <a:pt x="11485" y="2183"/>
                </a:cubicBezTo>
                <a:cubicBezTo>
                  <a:pt x="11522" y="2200"/>
                  <a:pt x="11601" y="2248"/>
                  <a:pt x="11559" y="2307"/>
                </a:cubicBezTo>
                <a:cubicBezTo>
                  <a:pt x="11546" y="2326"/>
                  <a:pt x="11459" y="2329"/>
                  <a:pt x="11435" y="2332"/>
                </a:cubicBezTo>
              </a:path>
              <a:path w="2556" h="646">
                <a:moveTo>
                  <a:pt x="11757" y="1836"/>
                </a:moveTo>
                <a:cubicBezTo>
                  <a:pt x="11719" y="1797"/>
                  <a:pt x="11702" y="1795"/>
                  <a:pt x="11708" y="1761"/>
                </a:cubicBezTo>
                <a:cubicBezTo>
                  <a:pt x="11767" y="1714"/>
                  <a:pt x="11831" y="1701"/>
                  <a:pt x="11906" y="1687"/>
                </a:cubicBezTo>
                <a:cubicBezTo>
                  <a:pt x="11981" y="1673"/>
                  <a:pt x="12003" y="1754"/>
                  <a:pt x="11981" y="1811"/>
                </a:cubicBezTo>
                <a:cubicBezTo>
                  <a:pt x="11957" y="1874"/>
                  <a:pt x="11800" y="1929"/>
                  <a:pt x="11807" y="2009"/>
                </a:cubicBezTo>
                <a:cubicBezTo>
                  <a:pt x="11812" y="2070"/>
                  <a:pt x="11924" y="2074"/>
                  <a:pt x="11956" y="2084"/>
                </a:cubicBezTo>
                <a:cubicBezTo>
                  <a:pt x="12007" y="2101"/>
                  <a:pt x="12074" y="2127"/>
                  <a:pt x="12080" y="2183"/>
                </a:cubicBezTo>
                <a:cubicBezTo>
                  <a:pt x="12085" y="2228"/>
                  <a:pt x="12018" y="2269"/>
                  <a:pt x="11981" y="2282"/>
                </a:cubicBezTo>
                <a:cubicBezTo>
                  <a:pt x="11973" y="2282"/>
                  <a:pt x="11964" y="2282"/>
                  <a:pt x="11956" y="2282"/>
                </a:cubicBezTo>
              </a:path>
              <a:path w="2556" h="646">
                <a:moveTo>
                  <a:pt x="12129" y="2084"/>
                </a:moveTo>
                <a:cubicBezTo>
                  <a:pt x="12168" y="2068"/>
                  <a:pt x="12256" y="2010"/>
                  <a:pt x="12303" y="2034"/>
                </a:cubicBezTo>
                <a:cubicBezTo>
                  <a:pt x="12336" y="2050"/>
                  <a:pt x="12342" y="2129"/>
                  <a:pt x="12328" y="2158"/>
                </a:cubicBezTo>
                <a:cubicBezTo>
                  <a:pt x="12301" y="2213"/>
                  <a:pt x="12256" y="2208"/>
                  <a:pt x="12204" y="2208"/>
                </a:cubicBezTo>
                <a:cubicBezTo>
                  <a:pt x="12196" y="2208"/>
                  <a:pt x="12187" y="2208"/>
                  <a:pt x="12179" y="2208"/>
                </a:cubicBezTo>
              </a:path>
              <a:path w="2556" h="646">
                <a:moveTo>
                  <a:pt x="12427" y="2034"/>
                </a:moveTo>
                <a:cubicBezTo>
                  <a:pt x="12427" y="2017"/>
                  <a:pt x="12427" y="2001"/>
                  <a:pt x="12427" y="1984"/>
                </a:cubicBezTo>
                <a:cubicBezTo>
                  <a:pt x="12427" y="2052"/>
                  <a:pt x="12411" y="2124"/>
                  <a:pt x="12452" y="2183"/>
                </a:cubicBezTo>
                <a:cubicBezTo>
                  <a:pt x="12524" y="2287"/>
                  <a:pt x="12613" y="2282"/>
                  <a:pt x="12725" y="22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44840" y="3098880"/>
            <a:ext cx="152280" cy="115920"/>
          </a:xfrm>
          <a:custGeom>
            <a:avLst/>
            <a:gdLst/>
            <a:ahLst/>
            <a:rect l="l" t="t" r="r" b="b"/>
            <a:pathLst>
              <a:path w="423" h="324">
                <a:moveTo>
                  <a:pt x="7094" y="8657"/>
                </a:moveTo>
                <a:cubicBezTo>
                  <a:pt x="7059" y="8645"/>
                  <a:pt x="7069" y="8593"/>
                  <a:pt x="7069" y="8632"/>
                </a:cubicBezTo>
                <a:cubicBezTo>
                  <a:pt x="7069" y="8711"/>
                  <a:pt x="7047" y="8812"/>
                  <a:pt x="7094" y="8880"/>
                </a:cubicBezTo>
                <a:cubicBezTo>
                  <a:pt x="7139" y="8925"/>
                  <a:pt x="7148" y="8942"/>
                  <a:pt x="7193" y="8930"/>
                </a:cubicBezTo>
                <a:cubicBezTo>
                  <a:pt x="7248" y="8843"/>
                  <a:pt x="7288" y="8813"/>
                  <a:pt x="7293" y="8706"/>
                </a:cubicBezTo>
                <a:cubicBezTo>
                  <a:pt x="7293" y="8665"/>
                  <a:pt x="7293" y="8657"/>
                  <a:pt x="7293" y="8632"/>
                </a:cubicBezTo>
                <a:cubicBezTo>
                  <a:pt x="7332" y="8646"/>
                  <a:pt x="7322" y="8699"/>
                  <a:pt x="7367" y="8731"/>
                </a:cubicBezTo>
                <a:cubicBezTo>
                  <a:pt x="7406" y="8759"/>
                  <a:pt x="7449" y="8782"/>
                  <a:pt x="7491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20960" y="3098880"/>
            <a:ext cx="81000" cy="9360"/>
          </a:xfrm>
          <a:custGeom>
            <a:avLst/>
            <a:gdLst/>
            <a:ahLst/>
            <a:rect l="l" t="t" r="r" b="b"/>
            <a:pathLst>
              <a:path w="225" h="26">
                <a:moveTo>
                  <a:pt x="8062" y="8607"/>
                </a:moveTo>
                <a:cubicBezTo>
                  <a:pt x="8062" y="8615"/>
                  <a:pt x="8062" y="8624"/>
                  <a:pt x="8062" y="8632"/>
                </a:cubicBezTo>
                <a:cubicBezTo>
                  <a:pt x="7987" y="8632"/>
                  <a:pt x="7913" y="8632"/>
                  <a:pt x="7838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67040" y="3125880"/>
            <a:ext cx="2700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7962" y="8682"/>
                </a:moveTo>
                <a:cubicBezTo>
                  <a:pt x="8007" y="8682"/>
                  <a:pt x="8020" y="8678"/>
                  <a:pt x="8037" y="8706"/>
                </a:cubicBezTo>
                <a:cubicBezTo>
                  <a:pt x="8026" y="8738"/>
                  <a:pt x="8003" y="8746"/>
                  <a:pt x="7962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36960" y="2973240"/>
            <a:ext cx="106200" cy="214560"/>
          </a:xfrm>
          <a:custGeom>
            <a:avLst/>
            <a:gdLst/>
            <a:ahLst/>
            <a:rect l="l" t="t" r="r" b="b"/>
            <a:pathLst>
              <a:path w="298" h="596">
                <a:moveTo>
                  <a:pt x="8458" y="8334"/>
                </a:moveTo>
                <a:cubicBezTo>
                  <a:pt x="8434" y="8285"/>
                  <a:pt x="8470" y="8276"/>
                  <a:pt x="8533" y="8260"/>
                </a:cubicBezTo>
                <a:cubicBezTo>
                  <a:pt x="8561" y="8253"/>
                  <a:pt x="8645" y="8246"/>
                  <a:pt x="8657" y="8285"/>
                </a:cubicBezTo>
                <a:cubicBezTo>
                  <a:pt x="8673" y="8336"/>
                  <a:pt x="8653" y="8396"/>
                  <a:pt x="8632" y="8434"/>
                </a:cubicBezTo>
                <a:cubicBezTo>
                  <a:pt x="8614" y="8468"/>
                  <a:pt x="8543" y="8525"/>
                  <a:pt x="8533" y="8558"/>
                </a:cubicBezTo>
                <a:cubicBezTo>
                  <a:pt x="8503" y="8662"/>
                  <a:pt x="8619" y="8625"/>
                  <a:pt x="8657" y="8657"/>
                </a:cubicBezTo>
                <a:cubicBezTo>
                  <a:pt x="8696" y="8689"/>
                  <a:pt x="8727" y="8761"/>
                  <a:pt x="8731" y="8806"/>
                </a:cubicBezTo>
                <a:cubicBezTo>
                  <a:pt x="8731" y="8814"/>
                  <a:pt x="8731" y="8822"/>
                  <a:pt x="8731" y="8830"/>
                </a:cubicBezTo>
                <a:cubicBezTo>
                  <a:pt x="8683" y="8830"/>
                  <a:pt x="8654" y="8871"/>
                  <a:pt x="8607" y="8855"/>
                </a:cubicBezTo>
                <a:cubicBezTo>
                  <a:pt x="8585" y="8833"/>
                  <a:pt x="8580" y="8824"/>
                  <a:pt x="8558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78080" y="3098880"/>
            <a:ext cx="100080" cy="6336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8880" y="8657"/>
                </a:moveTo>
                <a:cubicBezTo>
                  <a:pt x="8857" y="8634"/>
                  <a:pt x="8853" y="8626"/>
                  <a:pt x="8830" y="8632"/>
                </a:cubicBezTo>
                <a:cubicBezTo>
                  <a:pt x="8885" y="8621"/>
                  <a:pt x="8920" y="8607"/>
                  <a:pt x="8979" y="8607"/>
                </a:cubicBezTo>
                <a:cubicBezTo>
                  <a:pt x="9043" y="8607"/>
                  <a:pt x="9082" y="8641"/>
                  <a:pt x="9103" y="8706"/>
                </a:cubicBezTo>
                <a:cubicBezTo>
                  <a:pt x="9123" y="8767"/>
                  <a:pt x="9073" y="8781"/>
                  <a:pt x="9029" y="8781"/>
                </a:cubicBezTo>
                <a:cubicBezTo>
                  <a:pt x="8996" y="8781"/>
                  <a:pt x="8963" y="8781"/>
                  <a:pt x="8930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76720" y="306216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9178" y="8533"/>
                </a:moveTo>
                <a:cubicBezTo>
                  <a:pt x="9123" y="8505"/>
                  <a:pt x="9107" y="8542"/>
                  <a:pt x="9103" y="8607"/>
                </a:cubicBezTo>
                <a:cubicBezTo>
                  <a:pt x="9098" y="8696"/>
                  <a:pt x="9100" y="8735"/>
                  <a:pt x="9178" y="8781"/>
                </a:cubicBezTo>
                <a:cubicBezTo>
                  <a:pt x="9264" y="8832"/>
                  <a:pt x="9321" y="8796"/>
                  <a:pt x="9401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27200" y="3295800"/>
            <a:ext cx="88920" cy="187200"/>
          </a:xfrm>
          <a:custGeom>
            <a:avLst/>
            <a:gdLst/>
            <a:ahLst/>
            <a:rect l="l" t="t" r="r" b="b"/>
            <a:pathLst>
              <a:path w="249" h="522">
                <a:moveTo>
                  <a:pt x="7094" y="9500"/>
                </a:moveTo>
                <a:cubicBezTo>
                  <a:pt x="7134" y="9480"/>
                  <a:pt x="7151" y="9482"/>
                  <a:pt x="7144" y="9451"/>
                </a:cubicBezTo>
                <a:cubicBezTo>
                  <a:pt x="7104" y="9451"/>
                  <a:pt x="7037" y="9453"/>
                  <a:pt x="7020" y="9500"/>
                </a:cubicBezTo>
                <a:cubicBezTo>
                  <a:pt x="6997" y="9564"/>
                  <a:pt x="7029" y="9607"/>
                  <a:pt x="7069" y="9649"/>
                </a:cubicBezTo>
                <a:cubicBezTo>
                  <a:pt x="7164" y="9595"/>
                  <a:pt x="7170" y="9554"/>
                  <a:pt x="7193" y="9451"/>
                </a:cubicBezTo>
                <a:cubicBezTo>
                  <a:pt x="7217" y="9340"/>
                  <a:pt x="7220" y="9276"/>
                  <a:pt x="7193" y="9178"/>
                </a:cubicBezTo>
                <a:cubicBezTo>
                  <a:pt x="7193" y="9170"/>
                  <a:pt x="7193" y="9161"/>
                  <a:pt x="7193" y="9153"/>
                </a:cubicBezTo>
                <a:cubicBezTo>
                  <a:pt x="7179" y="9224"/>
                  <a:pt x="7169" y="9274"/>
                  <a:pt x="7169" y="9351"/>
                </a:cubicBezTo>
                <a:cubicBezTo>
                  <a:pt x="7169" y="9434"/>
                  <a:pt x="7186" y="9524"/>
                  <a:pt x="7218" y="9599"/>
                </a:cubicBezTo>
                <a:cubicBezTo>
                  <a:pt x="7249" y="9673"/>
                  <a:pt x="7252" y="9625"/>
                  <a:pt x="7268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52840" y="3438360"/>
            <a:ext cx="79200" cy="54000"/>
          </a:xfrm>
          <a:custGeom>
            <a:avLst/>
            <a:gdLst/>
            <a:ahLst/>
            <a:rect l="l" t="t" r="r" b="b"/>
            <a:pathLst>
              <a:path w="224" h="150">
                <a:moveTo>
                  <a:pt x="7367" y="9550"/>
                </a:moveTo>
                <a:cubicBezTo>
                  <a:pt x="7367" y="9616"/>
                  <a:pt x="7371" y="9628"/>
                  <a:pt x="7417" y="9674"/>
                </a:cubicBezTo>
                <a:cubicBezTo>
                  <a:pt x="7434" y="9668"/>
                  <a:pt x="7477" y="9629"/>
                  <a:pt x="7491" y="9599"/>
                </a:cubicBezTo>
                <a:cubicBezTo>
                  <a:pt x="7491" y="9575"/>
                  <a:pt x="7491" y="9567"/>
                  <a:pt x="7516" y="9575"/>
                </a:cubicBezTo>
                <a:cubicBezTo>
                  <a:pt x="7528" y="9620"/>
                  <a:pt x="7559" y="9660"/>
                  <a:pt x="7590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17840" y="3537000"/>
            <a:ext cx="233280" cy="349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7640" y="9823"/>
                </a:moveTo>
                <a:cubicBezTo>
                  <a:pt x="7623" y="9872"/>
                  <a:pt x="7593" y="9831"/>
                  <a:pt x="7541" y="9847"/>
                </a:cubicBezTo>
                <a:cubicBezTo>
                  <a:pt x="7457" y="9872"/>
                  <a:pt x="7384" y="9872"/>
                  <a:pt x="7293" y="9872"/>
                </a:cubicBezTo>
                <a:cubicBezTo>
                  <a:pt x="7211" y="9872"/>
                  <a:pt x="7167" y="9884"/>
                  <a:pt x="7094" y="9897"/>
                </a:cubicBezTo>
                <a:cubicBezTo>
                  <a:pt x="7048" y="9905"/>
                  <a:pt x="7035" y="9912"/>
                  <a:pt x="6995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71840" y="3562200"/>
            <a:ext cx="71280" cy="169920"/>
          </a:xfrm>
          <a:custGeom>
            <a:avLst/>
            <a:gdLst/>
            <a:ahLst/>
            <a:rect l="l" t="t" r="r" b="b"/>
            <a:pathLst>
              <a:path w="199" h="472">
                <a:moveTo>
                  <a:pt x="7218" y="10145"/>
                </a:moveTo>
                <a:cubicBezTo>
                  <a:pt x="7161" y="10159"/>
                  <a:pt x="7148" y="10184"/>
                  <a:pt x="7144" y="10244"/>
                </a:cubicBezTo>
                <a:cubicBezTo>
                  <a:pt x="7140" y="10306"/>
                  <a:pt x="7145" y="10312"/>
                  <a:pt x="7169" y="10368"/>
                </a:cubicBezTo>
                <a:cubicBezTo>
                  <a:pt x="7247" y="10349"/>
                  <a:pt x="7249" y="10268"/>
                  <a:pt x="7268" y="10195"/>
                </a:cubicBezTo>
                <a:cubicBezTo>
                  <a:pt x="7297" y="10085"/>
                  <a:pt x="7303" y="10002"/>
                  <a:pt x="7268" y="9897"/>
                </a:cubicBezTo>
                <a:cubicBezTo>
                  <a:pt x="7209" y="9937"/>
                  <a:pt x="7260" y="10024"/>
                  <a:pt x="7268" y="10096"/>
                </a:cubicBezTo>
                <a:cubicBezTo>
                  <a:pt x="7279" y="10193"/>
                  <a:pt x="7299" y="10256"/>
                  <a:pt x="7342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678040" y="3652920"/>
            <a:ext cx="46080" cy="71280"/>
          </a:xfrm>
          <a:custGeom>
            <a:avLst/>
            <a:gdLst/>
            <a:ahLst/>
            <a:rect l="l" t="t" r="r" b="b"/>
            <a:pathLst>
              <a:path w="125" h="200">
                <a:moveTo>
                  <a:pt x="7441" y="10170"/>
                </a:moveTo>
                <a:cubicBezTo>
                  <a:pt x="7482" y="10139"/>
                  <a:pt x="7500" y="10132"/>
                  <a:pt x="7541" y="10170"/>
                </a:cubicBezTo>
                <a:cubicBezTo>
                  <a:pt x="7568" y="10195"/>
                  <a:pt x="7582" y="10258"/>
                  <a:pt x="7565" y="10294"/>
                </a:cubicBezTo>
                <a:cubicBezTo>
                  <a:pt x="7552" y="10320"/>
                  <a:pt x="7491" y="10341"/>
                  <a:pt x="7466" y="10344"/>
                </a:cubicBezTo>
                <a:cubicBezTo>
                  <a:pt x="7458" y="10344"/>
                  <a:pt x="7449" y="10344"/>
                  <a:pt x="7441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32040" y="3670200"/>
            <a:ext cx="46080" cy="61920"/>
          </a:xfrm>
          <a:custGeom>
            <a:avLst/>
            <a:gdLst/>
            <a:ahLst/>
            <a:rect l="l" t="t" r="r" b="b"/>
            <a:pathLst>
              <a:path w="125" h="174">
                <a:moveTo>
                  <a:pt x="7590" y="10195"/>
                </a:moveTo>
                <a:cubicBezTo>
                  <a:pt x="7590" y="10259"/>
                  <a:pt x="7600" y="10292"/>
                  <a:pt x="7640" y="10344"/>
                </a:cubicBezTo>
                <a:cubicBezTo>
                  <a:pt x="7668" y="10371"/>
                  <a:pt x="7682" y="10379"/>
                  <a:pt x="7714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73240" y="3510000"/>
            <a:ext cx="44640" cy="79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8384" y="9773"/>
                </a:moveTo>
                <a:cubicBezTo>
                  <a:pt x="8384" y="9765"/>
                  <a:pt x="8384" y="9756"/>
                  <a:pt x="8384" y="9748"/>
                </a:cubicBezTo>
                <a:cubicBezTo>
                  <a:pt x="8341" y="9748"/>
                  <a:pt x="8346" y="9738"/>
                  <a:pt x="8334" y="9773"/>
                </a:cubicBezTo>
                <a:cubicBezTo>
                  <a:pt x="8309" y="9773"/>
                  <a:pt x="8285" y="9773"/>
                  <a:pt x="8260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90880" y="3554280"/>
            <a:ext cx="27000" cy="9720"/>
          </a:xfrm>
          <a:custGeom>
            <a:avLst/>
            <a:gdLst/>
            <a:ahLst/>
            <a:rect l="l" t="t" r="r" b="b"/>
            <a:pathLst>
              <a:path w="75" h="26">
                <a:moveTo>
                  <a:pt x="8384" y="9872"/>
                </a:moveTo>
                <a:cubicBezTo>
                  <a:pt x="8349" y="9898"/>
                  <a:pt x="8353" y="9897"/>
                  <a:pt x="8310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97160" y="3429000"/>
            <a:ext cx="12564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8905" y="9624"/>
                </a:moveTo>
                <a:cubicBezTo>
                  <a:pt x="8905" y="9582"/>
                  <a:pt x="8911" y="9565"/>
                  <a:pt x="8954" y="9550"/>
                </a:cubicBezTo>
                <a:cubicBezTo>
                  <a:pt x="9006" y="9533"/>
                  <a:pt x="9047" y="9525"/>
                  <a:pt x="9103" y="9525"/>
                </a:cubicBezTo>
                <a:cubicBezTo>
                  <a:pt x="9167" y="9525"/>
                  <a:pt x="9206" y="9559"/>
                  <a:pt x="9227" y="9624"/>
                </a:cubicBezTo>
                <a:cubicBezTo>
                  <a:pt x="9244" y="9677"/>
                  <a:pt x="9204" y="9703"/>
                  <a:pt x="9178" y="9723"/>
                </a:cubicBezTo>
                <a:cubicBezTo>
                  <a:pt x="9136" y="9756"/>
                  <a:pt x="9093" y="9768"/>
                  <a:pt x="9054" y="9798"/>
                </a:cubicBezTo>
                <a:cubicBezTo>
                  <a:pt x="9098" y="9809"/>
                  <a:pt x="9137" y="9825"/>
                  <a:pt x="9178" y="9847"/>
                </a:cubicBezTo>
                <a:cubicBezTo>
                  <a:pt x="9211" y="9865"/>
                  <a:pt x="9254" y="9898"/>
                  <a:pt x="9227" y="9947"/>
                </a:cubicBezTo>
                <a:cubicBezTo>
                  <a:pt x="9193" y="10009"/>
                  <a:pt x="9111" y="9996"/>
                  <a:pt x="9054" y="9996"/>
                </a:cubicBezTo>
                <a:cubicBezTo>
                  <a:pt x="8996" y="9996"/>
                  <a:pt x="8938" y="9996"/>
                  <a:pt x="8880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37000" y="2705040"/>
            <a:ext cx="133200" cy="3849840"/>
          </a:xfrm>
          <a:custGeom>
            <a:avLst/>
            <a:gdLst/>
            <a:ahLst/>
            <a:rect l="l" t="t" r="r" b="b"/>
            <a:pathLst>
              <a:path w="373" h="10692">
                <a:moveTo>
                  <a:pt x="9947" y="7516"/>
                </a:moveTo>
                <a:cubicBezTo>
                  <a:pt x="9937" y="7618"/>
                  <a:pt x="9931" y="7730"/>
                  <a:pt x="9922" y="7838"/>
                </a:cubicBezTo>
                <a:cubicBezTo>
                  <a:pt x="9912" y="7956"/>
                  <a:pt x="9909" y="8069"/>
                  <a:pt x="9897" y="8186"/>
                </a:cubicBezTo>
                <a:cubicBezTo>
                  <a:pt x="9887" y="8285"/>
                  <a:pt x="9883" y="8384"/>
                  <a:pt x="9872" y="8483"/>
                </a:cubicBezTo>
                <a:cubicBezTo>
                  <a:pt x="9854" y="8641"/>
                  <a:pt x="9847" y="8792"/>
                  <a:pt x="9847" y="8954"/>
                </a:cubicBezTo>
                <a:cubicBezTo>
                  <a:pt x="9847" y="9154"/>
                  <a:pt x="9831" y="9353"/>
                  <a:pt x="9823" y="9550"/>
                </a:cubicBezTo>
                <a:cubicBezTo>
                  <a:pt x="9784" y="10457"/>
                  <a:pt x="9720" y="11513"/>
                  <a:pt x="9872" y="12402"/>
                </a:cubicBezTo>
                <a:cubicBezTo>
                  <a:pt x="9890" y="12510"/>
                  <a:pt x="9915" y="12640"/>
                  <a:pt x="9922" y="12750"/>
                </a:cubicBezTo>
                <a:cubicBezTo>
                  <a:pt x="9945" y="13116"/>
                  <a:pt x="9937" y="13481"/>
                  <a:pt x="9971" y="13841"/>
                </a:cubicBezTo>
                <a:cubicBezTo>
                  <a:pt x="9986" y="14004"/>
                  <a:pt x="9990" y="14174"/>
                  <a:pt x="9996" y="14337"/>
                </a:cubicBezTo>
                <a:cubicBezTo>
                  <a:pt x="10009" y="14667"/>
                  <a:pt x="10016" y="15000"/>
                  <a:pt x="10021" y="15329"/>
                </a:cubicBezTo>
                <a:cubicBezTo>
                  <a:pt x="10024" y="15579"/>
                  <a:pt x="10026" y="15825"/>
                  <a:pt x="10046" y="16073"/>
                </a:cubicBezTo>
                <a:cubicBezTo>
                  <a:pt x="10060" y="16245"/>
                  <a:pt x="10087" y="16422"/>
                  <a:pt x="10096" y="16594"/>
                </a:cubicBezTo>
                <a:cubicBezTo>
                  <a:pt x="10103" y="16736"/>
                  <a:pt x="10105" y="16875"/>
                  <a:pt x="10120" y="17016"/>
                </a:cubicBezTo>
                <a:cubicBezTo>
                  <a:pt x="10134" y="17149"/>
                  <a:pt x="10143" y="17278"/>
                  <a:pt x="10145" y="17413"/>
                </a:cubicBezTo>
                <a:cubicBezTo>
                  <a:pt x="10147" y="17549"/>
                  <a:pt x="10164" y="17676"/>
                  <a:pt x="10170" y="17810"/>
                </a:cubicBezTo>
                <a:cubicBezTo>
                  <a:pt x="10176" y="17941"/>
                  <a:pt x="10185" y="18091"/>
                  <a:pt x="10195" y="18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59040" y="3232080"/>
            <a:ext cx="115920" cy="1890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7813" y="9327"/>
                </a:moveTo>
                <a:cubicBezTo>
                  <a:pt x="7813" y="9310"/>
                  <a:pt x="7813" y="9294"/>
                  <a:pt x="7813" y="9277"/>
                </a:cubicBezTo>
                <a:cubicBezTo>
                  <a:pt x="7765" y="9277"/>
                  <a:pt x="7720" y="9283"/>
                  <a:pt x="7689" y="9327"/>
                </a:cubicBezTo>
                <a:cubicBezTo>
                  <a:pt x="7648" y="9385"/>
                  <a:pt x="7646" y="9451"/>
                  <a:pt x="7714" y="9475"/>
                </a:cubicBezTo>
                <a:cubicBezTo>
                  <a:pt x="7814" y="9511"/>
                  <a:pt x="7824" y="9324"/>
                  <a:pt x="7838" y="9277"/>
                </a:cubicBezTo>
                <a:cubicBezTo>
                  <a:pt x="7866" y="9184"/>
                  <a:pt x="7863" y="9101"/>
                  <a:pt x="7863" y="9004"/>
                </a:cubicBezTo>
                <a:cubicBezTo>
                  <a:pt x="7863" y="8979"/>
                  <a:pt x="7863" y="8971"/>
                  <a:pt x="7863" y="9004"/>
                </a:cubicBezTo>
                <a:cubicBezTo>
                  <a:pt x="7872" y="9113"/>
                  <a:pt x="7883" y="9222"/>
                  <a:pt x="7913" y="9327"/>
                </a:cubicBezTo>
                <a:cubicBezTo>
                  <a:pt x="7931" y="9389"/>
                  <a:pt x="7958" y="9443"/>
                  <a:pt x="7987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01960" y="3348000"/>
            <a:ext cx="108000" cy="63360"/>
          </a:xfrm>
          <a:custGeom>
            <a:avLst/>
            <a:gdLst/>
            <a:ahLst/>
            <a:rect l="l" t="t" r="r" b="b"/>
            <a:pathLst>
              <a:path w="298" h="174">
                <a:moveTo>
                  <a:pt x="8062" y="9351"/>
                </a:moveTo>
                <a:cubicBezTo>
                  <a:pt x="8062" y="9335"/>
                  <a:pt x="8062" y="9318"/>
                  <a:pt x="8062" y="9302"/>
                </a:cubicBezTo>
                <a:cubicBezTo>
                  <a:pt x="8062" y="9339"/>
                  <a:pt x="8066" y="9399"/>
                  <a:pt x="8086" y="9426"/>
                </a:cubicBezTo>
                <a:cubicBezTo>
                  <a:pt x="8100" y="9445"/>
                  <a:pt x="8189" y="9522"/>
                  <a:pt x="8210" y="9451"/>
                </a:cubicBezTo>
                <a:cubicBezTo>
                  <a:pt x="8231" y="9383"/>
                  <a:pt x="8216" y="9361"/>
                  <a:pt x="8285" y="9401"/>
                </a:cubicBezTo>
                <a:cubicBezTo>
                  <a:pt x="8334" y="9426"/>
                  <a:pt x="8350" y="9434"/>
                  <a:pt x="8359" y="94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20960" y="3463920"/>
            <a:ext cx="179280" cy="19080"/>
          </a:xfrm>
          <a:custGeom>
            <a:avLst/>
            <a:gdLst/>
            <a:ahLst/>
            <a:rect l="l" t="t" r="r" b="b"/>
            <a:pathLst>
              <a:path w="497" h="51">
                <a:moveTo>
                  <a:pt x="8334" y="9624"/>
                </a:moveTo>
                <a:cubicBezTo>
                  <a:pt x="8271" y="9624"/>
                  <a:pt x="8227" y="9646"/>
                  <a:pt x="8161" y="9649"/>
                </a:cubicBezTo>
                <a:cubicBezTo>
                  <a:pt x="8066" y="9653"/>
                  <a:pt x="7981" y="9667"/>
                  <a:pt x="7888" y="9674"/>
                </a:cubicBezTo>
                <a:cubicBezTo>
                  <a:pt x="7863" y="9674"/>
                  <a:pt x="7855" y="9674"/>
                  <a:pt x="7838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30680" y="35179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38" y="9922"/>
                </a:moveTo>
                <a:cubicBezTo>
                  <a:pt x="7910" y="9959"/>
                  <a:pt x="7874" y="10023"/>
                  <a:pt x="7863" y="10071"/>
                </a:cubicBezTo>
                <a:cubicBezTo>
                  <a:pt x="7849" y="10134"/>
                  <a:pt x="7897" y="10137"/>
                  <a:pt x="7938" y="10170"/>
                </a:cubicBezTo>
                <a:cubicBezTo>
                  <a:pt x="8012" y="10117"/>
                  <a:pt x="8052" y="10049"/>
                  <a:pt x="8037" y="9947"/>
                </a:cubicBezTo>
                <a:cubicBezTo>
                  <a:pt x="8013" y="9874"/>
                  <a:pt x="8004" y="9850"/>
                  <a:pt x="8012" y="9798"/>
                </a:cubicBezTo>
                <a:cubicBezTo>
                  <a:pt x="7941" y="9751"/>
                  <a:pt x="8026" y="9884"/>
                  <a:pt x="8037" y="9922"/>
                </a:cubicBezTo>
                <a:cubicBezTo>
                  <a:pt x="8063" y="10010"/>
                  <a:pt x="8092" y="10066"/>
                  <a:pt x="8136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55960" y="3598920"/>
            <a:ext cx="44280" cy="61920"/>
          </a:xfrm>
          <a:custGeom>
            <a:avLst/>
            <a:gdLst/>
            <a:ahLst/>
            <a:rect l="l" t="t" r="r" b="b"/>
            <a:pathLst>
              <a:path w="125" h="175">
                <a:moveTo>
                  <a:pt x="8210" y="10021"/>
                </a:moveTo>
                <a:cubicBezTo>
                  <a:pt x="8222" y="10012"/>
                  <a:pt x="8289" y="9970"/>
                  <a:pt x="8310" y="9996"/>
                </a:cubicBezTo>
                <a:cubicBezTo>
                  <a:pt x="8334" y="10026"/>
                  <a:pt x="8334" y="10078"/>
                  <a:pt x="8334" y="10120"/>
                </a:cubicBezTo>
                <a:cubicBezTo>
                  <a:pt x="8334" y="10173"/>
                  <a:pt x="8302" y="10170"/>
                  <a:pt x="8260" y="10170"/>
                </a:cubicBezTo>
                <a:cubicBezTo>
                  <a:pt x="8252" y="10170"/>
                  <a:pt x="8243" y="10170"/>
                  <a:pt x="8235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09960" y="35989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8359" y="10021"/>
                </a:moveTo>
                <a:cubicBezTo>
                  <a:pt x="8400" y="10001"/>
                  <a:pt x="8406" y="9992"/>
                  <a:pt x="8434" y="9996"/>
                </a:cubicBezTo>
                <a:cubicBezTo>
                  <a:pt x="8434" y="10048"/>
                  <a:pt x="8424" y="10081"/>
                  <a:pt x="8458" y="10120"/>
                </a:cubicBezTo>
                <a:cubicBezTo>
                  <a:pt x="8481" y="10143"/>
                  <a:pt x="8485" y="10151"/>
                  <a:pt x="8508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52880" y="3446640"/>
            <a:ext cx="61920" cy="36360"/>
          </a:xfrm>
          <a:custGeom>
            <a:avLst/>
            <a:gdLst/>
            <a:ahLst/>
            <a:rect l="l" t="t" r="r" b="b"/>
            <a:pathLst>
              <a:path w="175" h="100">
                <a:moveTo>
                  <a:pt x="8930" y="9599"/>
                </a:moveTo>
                <a:cubicBezTo>
                  <a:pt x="8930" y="9591"/>
                  <a:pt x="8930" y="9583"/>
                  <a:pt x="8930" y="9575"/>
                </a:cubicBezTo>
                <a:cubicBezTo>
                  <a:pt x="8897" y="9599"/>
                  <a:pt x="8844" y="9634"/>
                  <a:pt x="8806" y="9649"/>
                </a:cubicBezTo>
                <a:cubicBezTo>
                  <a:pt x="8778" y="9649"/>
                  <a:pt x="8767" y="9651"/>
                  <a:pt x="8756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70160" y="3500280"/>
            <a:ext cx="54000" cy="17640"/>
          </a:xfrm>
          <a:custGeom>
            <a:avLst/>
            <a:gdLst/>
            <a:ahLst/>
            <a:rect l="l" t="t" r="r" b="b"/>
            <a:pathLst>
              <a:path w="149" h="51">
                <a:moveTo>
                  <a:pt x="8905" y="9723"/>
                </a:moveTo>
                <a:cubicBezTo>
                  <a:pt x="8946" y="9723"/>
                  <a:pt x="8962" y="9715"/>
                  <a:pt x="8954" y="9748"/>
                </a:cubicBezTo>
                <a:cubicBezTo>
                  <a:pt x="8901" y="9748"/>
                  <a:pt x="8884" y="9768"/>
                  <a:pt x="8830" y="9773"/>
                </a:cubicBezTo>
                <a:cubicBezTo>
                  <a:pt x="8822" y="9773"/>
                  <a:pt x="8814" y="9773"/>
                  <a:pt x="8806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67080" y="3402000"/>
            <a:ext cx="7920" cy="125280"/>
          </a:xfrm>
          <a:custGeom>
            <a:avLst/>
            <a:gdLst/>
            <a:ahLst/>
            <a:rect l="l" t="t" r="r" b="b"/>
            <a:pathLst>
              <a:path w="26" h="348">
                <a:moveTo>
                  <a:pt x="9351" y="9500"/>
                </a:moveTo>
                <a:cubicBezTo>
                  <a:pt x="9351" y="9484"/>
                  <a:pt x="9351" y="9467"/>
                  <a:pt x="9351" y="9451"/>
                </a:cubicBezTo>
                <a:cubicBezTo>
                  <a:pt x="9351" y="9547"/>
                  <a:pt x="9366" y="9631"/>
                  <a:pt x="9376" y="9723"/>
                </a:cubicBezTo>
                <a:cubicBezTo>
                  <a:pt x="9376" y="9748"/>
                  <a:pt x="9376" y="9773"/>
                  <a:pt x="9376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0:32:39Z</dcterms:created>
  <dc:creator>N Holden</dc:creator>
  <dc:description/>
  <dc:language>en-US</dc:language>
  <cp:lastModifiedBy>N Holden</cp:lastModifiedBy>
  <dcterms:modified xsi:type="dcterms:W3CDTF">2009-02-18T17:09:39Z</dcterms:modified>
  <cp:revision>3</cp:revision>
  <dc:subject/>
  <dc:title>Slide 1</dc:title>
</cp:coreProperties>
</file>